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59.wmf" ContentType="image/x-wmf"/>
  <Override PartName="/ppt/media/image58.wmf" ContentType="image/x-wmf"/>
  <Override PartName="/ppt/media/image55.wmf" ContentType="image/x-wmf"/>
  <Override PartName="/ppt/media/image43.jpeg" ContentType="image/jpeg"/>
  <Override PartName="/ppt/media/image5.png" ContentType="image/png"/>
  <Override PartName="/ppt/media/image2.gif" ContentType="image/gif"/>
  <Override PartName="/ppt/media/image14.gif" ContentType="image/gif"/>
  <Override PartName="/ppt/media/image50.png" ContentType="image/png"/>
  <Override PartName="/ppt/media/image57.wmf" ContentType="image/x-wmf"/>
  <Override PartName="/ppt/media/image32.jpeg" ContentType="image/jpeg"/>
  <Override PartName="/ppt/media/image24.gif" ContentType="image/gif"/>
  <Override PartName="/ppt/media/image27.png" ContentType="image/png"/>
  <Override PartName="/ppt/media/image7.png" ContentType="image/png"/>
  <Override PartName="/ppt/media/image16.gif" ContentType="image/gif"/>
  <Override PartName="/ppt/media/image28.gif" ContentType="image/gif"/>
  <Override PartName="/ppt/media/image26.jpeg" ContentType="image/jpeg"/>
  <Override PartName="/ppt/media/image23.gif" ContentType="image/gif"/>
  <Override PartName="/ppt/media/image56.wmf" ContentType="image/x-wmf"/>
  <Override PartName="/ppt/media/image8.gif" ContentType="image/gif"/>
  <Override PartName="/ppt/media/image38.gif" ContentType="image/gif"/>
  <Override PartName="/ppt/media/image33.gif" ContentType="image/gif"/>
  <Override PartName="/ppt/media/image18.gif" ContentType="image/gif"/>
  <Override PartName="/ppt/media/image20.gif" ContentType="image/gif"/>
  <Override PartName="/ppt/media/image22.png" ContentType="image/png"/>
  <Override PartName="/ppt/media/image17.gif" ContentType="image/gif"/>
  <Override PartName="/ppt/media/image41.jpeg" ContentType="image/jpeg"/>
  <Override PartName="/ppt/media/image19.gif" ContentType="image/gif"/>
  <Override PartName="/ppt/media/image21.gif" ContentType="image/gif"/>
  <Override PartName="/ppt/media/image42.jpeg" ContentType="image/jpeg"/>
  <Override PartName="/ppt/media/image15.gif" ContentType="image/gif"/>
  <Override PartName="/ppt/media/image3.gif" ContentType="image/gif"/>
  <Override PartName="/ppt/media/image6.png" ContentType="image/png"/>
  <Override PartName="/ppt/media/image29.png" ContentType="image/png"/>
  <Override PartName="/ppt/media/image4.png" ContentType="image/png"/>
  <Override PartName="/ppt/media/image13.gif" ContentType="image/gif"/>
  <Override PartName="/ppt/media/image9.gif" ContentType="image/gif"/>
  <Override PartName="/ppt/media/image1.png" ContentType="image/png"/>
  <Override PartName="/ppt/media/image10.gif" ContentType="image/gif"/>
  <Override PartName="/ppt/media/image11.gif" ContentType="image/gif"/>
  <Override PartName="/ppt/media/image12.gif" ContentType="image/gif"/>
  <Override PartName="/ppt/media/image49.gif" ContentType="image/gif"/>
  <Override PartName="/ppt/media/image30.jpeg" ContentType="image/jpeg"/>
  <Override PartName="/ppt/media/image34.png" ContentType="image/png"/>
  <Override PartName="/ppt/media/image31.gif" ContentType="image/gif"/>
  <Override PartName="/ppt/media/image35.jpeg" ContentType="image/jpeg"/>
  <Override PartName="/ppt/media/image54.gif" ContentType="image/gif"/>
  <Override PartName="/ppt/media/image62.wmf" ContentType="image/x-wmf"/>
  <Override PartName="/ppt/media/image25.jpeg" ContentType="image/jpeg"/>
  <Override PartName="/ppt/media/image37.gif" ContentType="image/gif"/>
  <Override PartName="/ppt/media/image36.gif" ContentType="image/gif"/>
  <Override PartName="/ppt/media/image61.wmf" ContentType="image/x-wmf"/>
  <Override PartName="/ppt/media/image39.png" ContentType="image/png"/>
  <Override PartName="/ppt/media/image46.gif" ContentType="image/gif"/>
  <Override PartName="/ppt/media/image51.gif" ContentType="image/gif"/>
  <Override PartName="/ppt/media/image60.wmf" ContentType="image/x-wmf"/>
  <Override PartName="/ppt/media/image44.jpeg" ContentType="image/jpeg"/>
  <Override PartName="/ppt/media/image47.jpeg" ContentType="image/jpeg"/>
  <Override PartName="/ppt/media/image45.gif" ContentType="image/gif"/>
  <Override PartName="/ppt/media/image48.png" ContentType="image/png"/>
  <Override PartName="/ppt/media/image52.wmf" ContentType="image/x-wmf"/>
  <Override PartName="/ppt/media/image40.jpeg" ContentType="image/jpeg"/>
  <Override PartName="/ppt/media/image53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4.xml.rels" ContentType="application/vnd.openxmlformats-package.relationships+xml"/>
  <Override PartName="/ppt/slides/_rels/slide69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99C75-366B-4865-B788-CF66686ED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4E73D-B547-4942-91B7-A3622E503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99731-7753-4815-BB59-46560B055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8F62F-857D-4FB8-BE3B-7AB776A32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118C9-24B5-4555-B09D-29A0A267E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6C42A-4F9E-47CD-A057-CBA06BF84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4BFB1-FB4F-40B9-9670-3E1B192E6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8E727-5ED8-4BA4-8902-0591EB54C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A835D-BA80-44DA-8A17-C9C187F83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79F6A-77A1-4B6D-A13C-F44BB09B0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C3D90-C205-405C-8EA8-312072A40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5106E-B61E-4B0A-A899-A18A90FC0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93FC7-898F-4E95-ABC7-AAE3A96C3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D142D-3D34-4D38-A7FB-520DF7214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7BF74-E76A-40EF-934E-84CB32587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3F9A8-4935-4F6A-A7F8-04A43A06F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1D574-4005-4883-84A3-7CA3F8507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EF1CD-D849-410B-9FE4-624DD1C22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D617F-00EE-4307-999D-8BA6037DD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EEA12-B5E5-452A-AD1C-1B142B3FA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C2CC4-2172-4B98-8F43-73F7F8290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8DCFF-21D5-4DC4-9CBA-66C2BBA1A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B5123-DD06-49A6-BE19-87111DD08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C837E-094A-4918-B1F9-756B0D94D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4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2C3AF-14A9-4F32-AAF0-B2451CC2E35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gradFill rotWithShape="0">
            <a:gsLst>
              <a:gs pos="0">
                <a:srgbClr val="00478e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ubPieSlice"/>
          <p:cNvSpPr/>
          <p:nvPr/>
        </p:nvSpPr>
        <p:spPr>
          <a:xfrm>
            <a:off x="6972480" y="5553000"/>
            <a:ext cx="4343400" cy="2610000"/>
          </a:xfrm>
          <a:prstGeom prst="pie">
            <a:avLst/>
          </a:prstGeom>
          <a:solidFill>
            <a:srgbClr val="ffff61">
              <a:alpha val="6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8" descr="055"/>
          <p:cNvPicPr/>
          <p:nvPr/>
        </p:nvPicPr>
        <p:blipFill>
          <a:blip r:embed="rId2"/>
          <a:stretch/>
        </p:blipFill>
        <p:spPr>
          <a:xfrm>
            <a:off x="8077320" y="5257800"/>
            <a:ext cx="610920" cy="12952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8" name="AutoShape 10"/>
          <p:cNvSpPr/>
          <p:nvPr/>
        </p:nvSpPr>
        <p:spPr>
          <a:xfrm>
            <a:off x="1219320" y="3808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AutoShape 11"/>
          <p:cNvSpPr/>
          <p:nvPr/>
        </p:nvSpPr>
        <p:spPr>
          <a:xfrm>
            <a:off x="304920" y="22860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AutoShape 12"/>
          <p:cNvSpPr/>
          <p:nvPr/>
        </p:nvSpPr>
        <p:spPr>
          <a:xfrm>
            <a:off x="1066680" y="1522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AutoShape 13"/>
          <p:cNvSpPr/>
          <p:nvPr/>
        </p:nvSpPr>
        <p:spPr>
          <a:xfrm>
            <a:off x="838080" y="45720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40"/>
          <p:cNvSpPr/>
          <p:nvPr/>
        </p:nvSpPr>
        <p:spPr>
          <a:xfrm>
            <a:off x="0" y="2133720"/>
            <a:ext cx="9144000" cy="2286000"/>
          </a:xfrm>
          <a:prstGeom prst="rect">
            <a:avLst/>
          </a:prstGeom>
          <a:gradFill rotWithShape="0">
            <a:gsLst>
              <a:gs pos="0">
                <a:srgbClr val="00478e"/>
              </a:gs>
              <a:gs pos="100000">
                <a:srgbClr val="2d96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11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gradFill rotWithShape="0">
            <a:gsLst>
              <a:gs pos="0">
                <a:srgbClr val="2d96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313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gradFill rotWithShape="0">
            <a:gsLst>
              <a:gs pos="0">
                <a:srgbClr val="002346"/>
              </a:gs>
              <a:gs pos="100000">
                <a:srgbClr val="00478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315"/>
          <p:cNvSpPr/>
          <p:nvPr/>
        </p:nvSpPr>
        <p:spPr>
          <a:xfrm>
            <a:off x="7924680" y="22096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316"/>
          <p:cNvSpPr/>
          <p:nvPr/>
        </p:nvSpPr>
        <p:spPr>
          <a:xfrm>
            <a:off x="5410080" y="8380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317"/>
          <p:cNvSpPr/>
          <p:nvPr/>
        </p:nvSpPr>
        <p:spPr>
          <a:xfrm>
            <a:off x="8458200" y="121932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318"/>
          <p:cNvSpPr/>
          <p:nvPr/>
        </p:nvSpPr>
        <p:spPr>
          <a:xfrm>
            <a:off x="7543800" y="10666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319"/>
          <p:cNvSpPr/>
          <p:nvPr/>
        </p:nvSpPr>
        <p:spPr>
          <a:xfrm>
            <a:off x="6095880" y="99072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320"/>
          <p:cNvSpPr/>
          <p:nvPr/>
        </p:nvSpPr>
        <p:spPr>
          <a:xfrm>
            <a:off x="8839080" y="12952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321"/>
          <p:cNvSpPr/>
          <p:nvPr/>
        </p:nvSpPr>
        <p:spPr>
          <a:xfrm>
            <a:off x="8763120" y="91440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322"/>
          <p:cNvSpPr/>
          <p:nvPr/>
        </p:nvSpPr>
        <p:spPr>
          <a:xfrm>
            <a:off x="8305920" y="99072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323"/>
          <p:cNvSpPr/>
          <p:nvPr/>
        </p:nvSpPr>
        <p:spPr>
          <a:xfrm>
            <a:off x="7086600" y="10666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343"/>
          <p:cNvSpPr/>
          <p:nvPr/>
        </p:nvSpPr>
        <p:spPr>
          <a:xfrm>
            <a:off x="3200400" y="251460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344"/>
          <p:cNvSpPr/>
          <p:nvPr/>
        </p:nvSpPr>
        <p:spPr>
          <a:xfrm>
            <a:off x="1600200" y="30492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345"/>
          <p:cNvSpPr/>
          <p:nvPr/>
        </p:nvSpPr>
        <p:spPr>
          <a:xfrm>
            <a:off x="6934320" y="22860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346"/>
          <p:cNvSpPr/>
          <p:nvPr/>
        </p:nvSpPr>
        <p:spPr>
          <a:xfrm>
            <a:off x="3048120" y="99072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347"/>
          <p:cNvSpPr/>
          <p:nvPr/>
        </p:nvSpPr>
        <p:spPr>
          <a:xfrm>
            <a:off x="228600" y="17524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348"/>
          <p:cNvSpPr/>
          <p:nvPr/>
        </p:nvSpPr>
        <p:spPr>
          <a:xfrm>
            <a:off x="4343400" y="121932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349"/>
          <p:cNvSpPr/>
          <p:nvPr/>
        </p:nvSpPr>
        <p:spPr>
          <a:xfrm>
            <a:off x="4572000" y="53352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350"/>
          <p:cNvSpPr/>
          <p:nvPr/>
        </p:nvSpPr>
        <p:spPr>
          <a:xfrm>
            <a:off x="3809880" y="91440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351"/>
          <p:cNvSpPr/>
          <p:nvPr/>
        </p:nvSpPr>
        <p:spPr>
          <a:xfrm>
            <a:off x="1752480" y="24382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354" descr="29r1"/>
          <p:cNvPicPr/>
          <p:nvPr/>
        </p:nvPicPr>
        <p:blipFill>
          <a:blip r:embed="rId2"/>
          <a:stretch/>
        </p:blipFill>
        <p:spPr>
          <a:xfrm>
            <a:off x="609480" y="685800"/>
            <a:ext cx="838440" cy="3492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55" descr="fire14"/>
          <p:cNvPicPr/>
          <p:nvPr/>
        </p:nvPicPr>
        <p:blipFill>
          <a:blip r:embed="rId3"/>
          <a:stretch/>
        </p:blipFill>
        <p:spPr>
          <a:xfrm>
            <a:off x="7924680" y="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56" descr="fire14"/>
          <p:cNvPicPr/>
          <p:nvPr/>
        </p:nvPicPr>
        <p:blipFill>
          <a:blip r:embed="rId4"/>
          <a:stretch/>
        </p:blipFill>
        <p:spPr>
          <a:xfrm>
            <a:off x="1905120" y="114300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57" descr="fire14"/>
          <p:cNvPicPr/>
          <p:nvPr/>
        </p:nvPicPr>
        <p:blipFill>
          <a:blip r:embed="rId5"/>
          <a:stretch/>
        </p:blipFill>
        <p:spPr>
          <a:xfrm>
            <a:off x="5257800" y="2209680"/>
            <a:ext cx="380880" cy="381240"/>
          </a:xfrm>
          <a:prstGeom prst="rect">
            <a:avLst/>
          </a:prstGeom>
          <a:ln w="0">
            <a:noFill/>
          </a:ln>
        </p:spPr>
      </p:pic>
      <p:sp>
        <p:nvSpPr>
          <p:cNvPr id="73" name="PubPieSlice"/>
          <p:cNvSpPr/>
          <p:nvPr/>
        </p:nvSpPr>
        <p:spPr>
          <a:xfrm>
            <a:off x="6629400" y="5391000"/>
            <a:ext cx="5029200" cy="2934000"/>
          </a:xfrm>
          <a:prstGeom prst="pie">
            <a:avLst/>
          </a:prstGeom>
          <a:solidFill>
            <a:srgbClr val="ffff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324" descr="055"/>
          <p:cNvPicPr/>
          <p:nvPr/>
        </p:nvPicPr>
        <p:blipFill>
          <a:blip r:embed="rId6"/>
          <a:stretch/>
        </p:blipFill>
        <p:spPr>
          <a:xfrm>
            <a:off x="7543800" y="5105520"/>
            <a:ext cx="611280" cy="12952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EEE1B-2BDA-45A0-AD7E-4FE7EF4A3E7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6.jpeg"/><Relationship Id="rId3" Type="http://schemas.openxmlformats.org/officeDocument/2006/relationships/image" Target="../media/image26.jpeg"/><Relationship Id="rId4" Type="http://schemas.openxmlformats.org/officeDocument/2006/relationships/image" Target="../media/image26.jpeg"/><Relationship Id="rId5" Type="http://schemas.openxmlformats.org/officeDocument/2006/relationships/image" Target="../media/image27.png"/><Relationship Id="rId6" Type="http://schemas.openxmlformats.org/officeDocument/2006/relationships/image" Target="../media/image27.png"/><Relationship Id="rId7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image" Target="../media/image29.pn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1.gif"/><Relationship Id="rId2" Type="http://schemas.openxmlformats.org/officeDocument/2006/relationships/image" Target="../media/image31.gif"/><Relationship Id="rId3" Type="http://schemas.openxmlformats.org/officeDocument/2006/relationships/image" Target="../media/image31.gif"/><Relationship Id="rId4" Type="http://schemas.openxmlformats.org/officeDocument/2006/relationships/image" Target="../media/image31.gif"/><Relationship Id="rId5" Type="http://schemas.openxmlformats.org/officeDocument/2006/relationships/image" Target="../media/image31.gif"/><Relationship Id="rId6" Type="http://schemas.openxmlformats.org/officeDocument/2006/relationships/image" Target="../media/image31.gif"/><Relationship Id="rId7" Type="http://schemas.openxmlformats.org/officeDocument/2006/relationships/image" Target="../media/image31.gif"/><Relationship Id="rId8" Type="http://schemas.openxmlformats.org/officeDocument/2006/relationships/image" Target="../media/image31.gif"/><Relationship Id="rId9" Type="http://schemas.openxmlformats.org/officeDocument/2006/relationships/image" Target="../media/image31.gif"/><Relationship Id="rId10" Type="http://schemas.openxmlformats.org/officeDocument/2006/relationships/image" Target="../media/image31.gif"/><Relationship Id="rId11" Type="http://schemas.openxmlformats.org/officeDocument/2006/relationships/image" Target="../media/image31.gif"/><Relationship Id="rId12" Type="http://schemas.openxmlformats.org/officeDocument/2006/relationships/image" Target="../media/image31.gif"/><Relationship Id="rId1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gif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6.gif"/><Relationship Id="rId2" Type="http://schemas.openxmlformats.org/officeDocument/2006/relationships/image" Target="../media/image36.gif"/><Relationship Id="rId3" Type="http://schemas.openxmlformats.org/officeDocument/2006/relationships/image" Target="../media/image37.gif"/><Relationship Id="rId4" Type="http://schemas.openxmlformats.org/officeDocument/2006/relationships/image" Target="../media/image37.gif"/><Relationship Id="rId5" Type="http://schemas.openxmlformats.org/officeDocument/2006/relationships/image" Target="../media/image37.gif"/><Relationship Id="rId6" Type="http://schemas.openxmlformats.org/officeDocument/2006/relationships/image" Target="../media/image37.gif"/><Relationship Id="rId7" Type="http://schemas.openxmlformats.org/officeDocument/2006/relationships/image" Target="../media/image38.gif"/><Relationship Id="rId8" Type="http://schemas.openxmlformats.org/officeDocument/2006/relationships/image" Target="../media/image34.png"/><Relationship Id="rId9" Type="http://schemas.openxmlformats.org/officeDocument/2006/relationships/image" Target="../media/image39.pn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image" Target="../media/image41.jpeg"/><Relationship Id="rId6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5.gif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6.gif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49.gif"/><Relationship Id="rId2" Type="http://schemas.openxmlformats.org/officeDocument/2006/relationships/image" Target="../media/image50.png"/><Relationship Id="rId3" Type="http://schemas.openxmlformats.org/officeDocument/2006/relationships/image" Target="../media/image50.png"/><Relationship Id="rId4" Type="http://schemas.openxmlformats.org/officeDocument/2006/relationships/image" Target="../media/image51.gif"/><Relationship Id="rId5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52.wmf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53.gif"/><Relationship Id="rId2" Type="http://schemas.openxmlformats.org/officeDocument/2006/relationships/image" Target="../media/image54.gif"/><Relationship Id="rId3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55.wmf"/><Relationship Id="rId2" Type="http://schemas.openxmlformats.org/officeDocument/2006/relationships/image" Target="../media/image56.wmf"/><Relationship Id="rId3" Type="http://schemas.openxmlformats.org/officeDocument/2006/relationships/image" Target="../media/image57.wmf"/><Relationship Id="rId4" Type="http://schemas.openxmlformats.org/officeDocument/2006/relationships/image" Target="../media/image58.wmf"/><Relationship Id="rId5" Type="http://schemas.openxmlformats.org/officeDocument/2006/relationships/image" Target="../media/image59.wmf"/><Relationship Id="rId6" Type="http://schemas.openxmlformats.org/officeDocument/2006/relationships/image" Target="../media/image60.wmf"/><Relationship Id="rId7" Type="http://schemas.openxmlformats.org/officeDocument/2006/relationships/image" Target="../media/image61.wmf"/><Relationship Id="rId8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62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8.gif"/><Relationship Id="rId3" Type="http://schemas.openxmlformats.org/officeDocument/2006/relationships/image" Target="../media/image8.gif"/><Relationship Id="rId4" Type="http://schemas.openxmlformats.org/officeDocument/2006/relationships/image" Target="../media/image8.gif"/><Relationship Id="rId5" Type="http://schemas.openxmlformats.org/officeDocument/2006/relationships/image" Target="../media/image8.gif"/><Relationship Id="rId6" Type="http://schemas.openxmlformats.org/officeDocument/2006/relationships/image" Target="../media/image8.gif"/><Relationship Id="rId7" Type="http://schemas.openxmlformats.org/officeDocument/2006/relationships/image" Target="../media/image9.gif"/><Relationship Id="rId8" Type="http://schemas.openxmlformats.org/officeDocument/2006/relationships/image" Target="../media/image9.gif"/><Relationship Id="rId9" Type="http://schemas.openxmlformats.org/officeDocument/2006/relationships/image" Target="../media/image9.gif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Блок-схема: перфолента 21"/>
          <p:cNvSpPr/>
          <p:nvPr/>
        </p:nvSpPr>
        <p:spPr>
          <a:xfrm>
            <a:off x="1371600" y="1981080"/>
            <a:ext cx="6629400" cy="2100240"/>
          </a:xfrm>
          <a:prstGeom prst="flowChartPunchedTap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3399"/>
                </a:solidFill>
                <a:latin typeface="Monotype Corsiva"/>
              </a:rPr>
              <a:t>Углеводороды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61"/>
                </a:solidFill>
                <a:latin typeface="Georgia"/>
              </a:rPr>
              <a:t>Разгоняем обла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Выноска-облако 6"/>
          <p:cNvSpPr/>
          <p:nvPr/>
        </p:nvSpPr>
        <p:spPr>
          <a:xfrm>
            <a:off x="1676520" y="1523880"/>
            <a:ext cx="3657600" cy="221004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a3a3e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С</a:t>
            </a:r>
            <a:r>
              <a:rPr b="1" lang="ru-RU" sz="3200" spc="-1" strike="noStrike" baseline="-25000">
                <a:solidFill>
                  <a:srgbClr val="000066"/>
                </a:solidFill>
                <a:latin typeface="Arial"/>
              </a:rPr>
              <a:t>6</a:t>
            </a: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Н</a:t>
            </a:r>
            <a:r>
              <a:rPr b="1" lang="ru-RU" sz="3200" spc="-1" strike="noStrike" baseline="-25000">
                <a:solidFill>
                  <a:srgbClr val="000066"/>
                </a:solidFill>
                <a:latin typeface="Arial"/>
              </a:rPr>
              <a:t>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Выноска-облако 7"/>
          <p:cNvSpPr/>
          <p:nvPr/>
        </p:nvSpPr>
        <p:spPr>
          <a:xfrm>
            <a:off x="2819520" y="1905120"/>
            <a:ext cx="3581280" cy="259056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СН</a:t>
            </a:r>
            <a:r>
              <a:rPr b="1" lang="ru-RU" sz="24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=СН</a:t>
            </a:r>
            <a:r>
              <a:rPr b="1" lang="ru-RU" sz="24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Выноска-облако 8"/>
          <p:cNvSpPr/>
          <p:nvPr/>
        </p:nvSpPr>
        <p:spPr>
          <a:xfrm>
            <a:off x="3886200" y="1600200"/>
            <a:ext cx="3429000" cy="289548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00ffcc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Arial"/>
              </a:rPr>
              <a:t>С</a:t>
            </a:r>
            <a:r>
              <a:rPr b="1" lang="ru-RU" sz="3600" spc="-1" strike="noStrike" baseline="-25000">
                <a:solidFill>
                  <a:srgbClr val="000066"/>
                </a:solidFill>
                <a:latin typeface="Arial"/>
              </a:rPr>
              <a:t>5</a:t>
            </a:r>
            <a:r>
              <a:rPr b="1" lang="ru-RU" sz="3600" spc="-1" strike="noStrike">
                <a:solidFill>
                  <a:srgbClr val="000066"/>
                </a:solidFill>
                <a:latin typeface="Arial"/>
              </a:rPr>
              <a:t>Н</a:t>
            </a:r>
            <a:r>
              <a:rPr b="1" lang="ru-RU" sz="3600" spc="-1" strike="noStrike" baseline="-25000">
                <a:solidFill>
                  <a:srgbClr val="000066"/>
                </a:solidFill>
                <a:latin typeface="Arial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Выноска-облако 9"/>
          <p:cNvSpPr/>
          <p:nvPr/>
        </p:nvSpPr>
        <p:spPr>
          <a:xfrm>
            <a:off x="5410080" y="2057400"/>
            <a:ext cx="2590920" cy="205740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ccffcc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Arial"/>
              </a:rPr>
              <a:t>С</a:t>
            </a:r>
            <a:r>
              <a:rPr b="1" lang="ru-RU" sz="3600" spc="-1" strike="noStrike" baseline="-25000">
                <a:solidFill>
                  <a:srgbClr val="000066"/>
                </a:solidFill>
                <a:latin typeface="Arial"/>
              </a:rPr>
              <a:t>7</a:t>
            </a:r>
            <a:r>
              <a:rPr b="1" lang="ru-RU" sz="3600" spc="-1" strike="noStrike">
                <a:solidFill>
                  <a:srgbClr val="000066"/>
                </a:solidFill>
                <a:latin typeface="Arial"/>
              </a:rPr>
              <a:t>Н</a:t>
            </a:r>
            <a:r>
              <a:rPr b="1" lang="ru-RU" sz="3600" spc="-1" strike="noStrike" baseline="-25000">
                <a:solidFill>
                  <a:srgbClr val="000066"/>
                </a:solidFill>
                <a:latin typeface="Arial"/>
              </a:rPr>
              <a:t>1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Выноска-облако 10"/>
          <p:cNvSpPr/>
          <p:nvPr/>
        </p:nvSpPr>
        <p:spPr>
          <a:xfrm>
            <a:off x="4343400" y="1981080"/>
            <a:ext cx="2971800" cy="221004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Arial"/>
              </a:rPr>
              <a:t>С</a:t>
            </a:r>
            <a:r>
              <a:rPr b="1" lang="ru-RU" sz="3600" spc="-1" strike="noStrike" baseline="-25000">
                <a:solidFill>
                  <a:srgbClr val="000066"/>
                </a:solidFill>
                <a:latin typeface="Arial"/>
              </a:rPr>
              <a:t>10</a:t>
            </a:r>
            <a:r>
              <a:rPr b="1" lang="ru-RU" sz="3600" spc="-1" strike="noStrike">
                <a:solidFill>
                  <a:srgbClr val="000066"/>
                </a:solidFill>
                <a:latin typeface="Arial"/>
              </a:rPr>
              <a:t>Н</a:t>
            </a:r>
            <a:r>
              <a:rPr b="1" lang="ru-RU" sz="3600" spc="-1" strike="noStrike" baseline="-25000">
                <a:solidFill>
                  <a:srgbClr val="000066"/>
                </a:solidFill>
                <a:latin typeface="Arial"/>
              </a:rPr>
              <a:t>2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Выноска-облако 11"/>
          <p:cNvSpPr/>
          <p:nvPr/>
        </p:nvSpPr>
        <p:spPr>
          <a:xfrm>
            <a:off x="3200400" y="2514600"/>
            <a:ext cx="3733920" cy="228600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- С</a:t>
            </a:r>
            <a:r>
              <a:rPr b="1" lang="ru-RU" sz="3200" spc="-1" strike="noStrike" baseline="-25000">
                <a:solidFill>
                  <a:srgbClr val="000066"/>
                </a:solidFill>
                <a:latin typeface="Arial"/>
              </a:rPr>
              <a:t>3</a:t>
            </a: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Н</a:t>
            </a:r>
            <a:r>
              <a:rPr b="1" lang="ru-RU" sz="3200" spc="-1" strike="noStrike" baseline="-25000">
                <a:solidFill>
                  <a:srgbClr val="000066"/>
                </a:solidFill>
                <a:latin typeface="Arial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Выноска-облако 12"/>
          <p:cNvSpPr/>
          <p:nvPr/>
        </p:nvSpPr>
        <p:spPr>
          <a:xfrm>
            <a:off x="2057400" y="1752480"/>
            <a:ext cx="3352680" cy="243864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66ff66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Arial"/>
              </a:rPr>
              <a:t>С</a:t>
            </a:r>
            <a:r>
              <a:rPr b="1" lang="ru-RU" sz="3600" spc="-1" strike="noStrike" baseline="-25000">
                <a:solidFill>
                  <a:srgbClr val="000066"/>
                </a:solidFill>
                <a:latin typeface="Arial"/>
              </a:rPr>
              <a:t>8</a:t>
            </a:r>
            <a:r>
              <a:rPr b="1" lang="ru-RU" sz="3600" spc="-1" strike="noStrike">
                <a:solidFill>
                  <a:srgbClr val="000066"/>
                </a:solidFill>
                <a:latin typeface="Arial"/>
              </a:rPr>
              <a:t>Н</a:t>
            </a:r>
            <a:r>
              <a:rPr b="1" lang="ru-RU" sz="3600" spc="-1" strike="noStrike" baseline="-25000">
                <a:solidFill>
                  <a:srgbClr val="000066"/>
                </a:solidFill>
                <a:latin typeface="Arial"/>
              </a:rPr>
              <a:t>1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Выноска-облако 13"/>
          <p:cNvSpPr/>
          <p:nvPr/>
        </p:nvSpPr>
        <p:spPr>
          <a:xfrm>
            <a:off x="3352680" y="2133720"/>
            <a:ext cx="2743200" cy="259056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a4de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- С</a:t>
            </a:r>
            <a:r>
              <a:rPr b="1" lang="ru-RU" sz="32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Н</a:t>
            </a:r>
            <a:r>
              <a:rPr b="1" lang="ru-RU" sz="3200" spc="-1" strike="noStrike" baseline="-25000">
                <a:solidFill>
                  <a:srgbClr val="000066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Выноска-облако 14"/>
          <p:cNvSpPr/>
          <p:nvPr/>
        </p:nvSpPr>
        <p:spPr>
          <a:xfrm>
            <a:off x="2133720" y="2133720"/>
            <a:ext cx="2971800" cy="236196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cce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СН</a:t>
            </a:r>
            <a:r>
              <a:rPr b="1" lang="ru-RU" sz="3200" spc="-1" strike="noStrike" baseline="-25000">
                <a:solidFill>
                  <a:srgbClr val="000066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Выноска-облако 15"/>
          <p:cNvSpPr/>
          <p:nvPr/>
        </p:nvSpPr>
        <p:spPr>
          <a:xfrm>
            <a:off x="3124080" y="2590920"/>
            <a:ext cx="3657600" cy="228600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ff66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Arial"/>
              </a:rPr>
              <a:t>С</a:t>
            </a:r>
            <a:r>
              <a:rPr b="1" lang="ru-RU" sz="36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r>
              <a:rPr b="1" lang="ru-RU" sz="3600" spc="-1" strike="noStrike">
                <a:solidFill>
                  <a:srgbClr val="000066"/>
                </a:solidFill>
                <a:latin typeface="Arial"/>
              </a:rPr>
              <a:t>Н</a:t>
            </a:r>
            <a:r>
              <a:rPr b="1" lang="ru-RU" sz="3600" spc="-1" strike="noStrike" baseline="-25000">
                <a:solidFill>
                  <a:srgbClr val="000066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Выноска-облако 16"/>
          <p:cNvSpPr/>
          <p:nvPr/>
        </p:nvSpPr>
        <p:spPr>
          <a:xfrm>
            <a:off x="2286000" y="2438280"/>
            <a:ext cx="2666880" cy="175284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ffff9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66"/>
                </a:solidFill>
                <a:latin typeface="Arial"/>
              </a:rPr>
              <a:t>С</a:t>
            </a:r>
            <a:r>
              <a:rPr b="1" lang="ru-RU" sz="4400" spc="-1" strike="noStrike" baseline="-25000">
                <a:solidFill>
                  <a:srgbClr val="000066"/>
                </a:solidFill>
                <a:latin typeface="Arial"/>
              </a:rPr>
              <a:t>3</a:t>
            </a:r>
            <a:r>
              <a:rPr b="1" lang="ru-RU" sz="4400" spc="-1" strike="noStrike">
                <a:solidFill>
                  <a:srgbClr val="000066"/>
                </a:solidFill>
                <a:latin typeface="Arial"/>
              </a:rPr>
              <a:t>Н</a:t>
            </a:r>
            <a:r>
              <a:rPr b="1" lang="ru-RU" sz="4400" spc="-1" strike="noStrike" baseline="-25000">
                <a:solidFill>
                  <a:srgbClr val="000066"/>
                </a:solidFill>
                <a:latin typeface="Arial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Выноска-облако 17"/>
          <p:cNvSpPr/>
          <p:nvPr/>
        </p:nvSpPr>
        <p:spPr>
          <a:xfrm>
            <a:off x="2895480" y="2590920"/>
            <a:ext cx="3962520" cy="259056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7575d1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C</a:t>
            </a:r>
            <a:r>
              <a:rPr b="1" lang="en-US" sz="4000" spc="-1" strike="noStrike" baseline="-25000">
                <a:solidFill>
                  <a:srgbClr val="000066"/>
                </a:solidFill>
                <a:latin typeface="Arial"/>
              </a:rPr>
              <a:t>5</a:t>
            </a: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H</a:t>
            </a:r>
            <a:r>
              <a:rPr b="1" lang="en-US" sz="4000" spc="-1" strike="noStrike" baseline="-25000">
                <a:solidFill>
                  <a:srgbClr val="000066"/>
                </a:solidFill>
                <a:latin typeface="Arial"/>
              </a:rPr>
              <a:t>1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Выноска-облако 18"/>
          <p:cNvSpPr/>
          <p:nvPr/>
        </p:nvSpPr>
        <p:spPr>
          <a:xfrm>
            <a:off x="4267080" y="2514600"/>
            <a:ext cx="3429000" cy="251460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ffcc66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Arial"/>
              </a:rPr>
              <a:t>С</a:t>
            </a:r>
            <a:r>
              <a:rPr b="1" lang="ru-RU" sz="36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r>
              <a:rPr b="1" lang="ru-RU" sz="3600" spc="-1" strike="noStrike">
                <a:solidFill>
                  <a:srgbClr val="000066"/>
                </a:solidFill>
                <a:latin typeface="Arial"/>
              </a:rPr>
              <a:t>Н</a:t>
            </a:r>
            <a:r>
              <a:rPr b="1" lang="ru-RU" sz="36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Выноска-облако 19"/>
          <p:cNvSpPr/>
          <p:nvPr/>
        </p:nvSpPr>
        <p:spPr>
          <a:xfrm>
            <a:off x="2666880" y="2209680"/>
            <a:ext cx="3581640" cy="281952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ffffcc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Arial"/>
              </a:rPr>
              <a:t>- СН</a:t>
            </a:r>
            <a:r>
              <a:rPr b="1" lang="ru-RU" sz="3600" spc="-1" strike="noStrike" baseline="-25000">
                <a:solidFill>
                  <a:srgbClr val="000066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Выноска-облако 20"/>
          <p:cNvSpPr/>
          <p:nvPr/>
        </p:nvSpPr>
        <p:spPr>
          <a:xfrm>
            <a:off x="3429000" y="2514600"/>
            <a:ext cx="3048120" cy="274320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cecee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С</a:t>
            </a:r>
            <a:r>
              <a:rPr b="1" lang="ru-RU" sz="3200" spc="-1" strike="noStrike" baseline="-25000">
                <a:solidFill>
                  <a:srgbClr val="000066"/>
                </a:solidFill>
                <a:latin typeface="Arial"/>
              </a:rPr>
              <a:t>6</a:t>
            </a: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Н</a:t>
            </a:r>
            <a:r>
              <a:rPr b="1" lang="ru-RU" sz="3200" spc="-1" strike="noStrike" baseline="-25000">
                <a:solidFill>
                  <a:srgbClr val="000066"/>
                </a:solidFill>
                <a:latin typeface="Arial"/>
              </a:rPr>
              <a:t>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22"/>
          <p:cNvSpPr/>
          <p:nvPr/>
        </p:nvSpPr>
        <p:spPr>
          <a:xfrm>
            <a:off x="5257800" y="533412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18" descr=""/>
          <p:cNvPicPr/>
          <p:nvPr/>
        </p:nvPicPr>
        <p:blipFill>
          <a:blip r:embed="rId1"/>
          <a:stretch/>
        </p:blipFill>
        <p:spPr>
          <a:xfrm>
            <a:off x="0" y="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5" dur="6259" fill="hold"/>
                                        <p:tgtEl>
                                          <p:spTgt spid="1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Arial"/>
              </a:rPr>
              <a:t>1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5"/>
          <p:cNvSpPr/>
          <p:nvPr/>
        </p:nvSpPr>
        <p:spPr>
          <a:xfrm>
            <a:off x="533520" y="1447920"/>
            <a:ext cx="79246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66"/>
                </a:solidFill>
                <a:latin typeface="Arial"/>
              </a:rPr>
              <a:t>Вещества с различным строением, но одинаковой формулой?</a:t>
            </a:r>
            <a:r>
              <a:rPr b="1" i="1" lang="ru-RU" sz="4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6"/>
          <p:cNvSpPr/>
          <p:nvPr/>
        </p:nvSpPr>
        <p:spPr>
          <a:xfrm>
            <a:off x="1143000" y="3200400"/>
            <a:ext cx="685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15" descr="C:\Documents and Settings\ALL\Мои документы\Мои рисунки\opit.gif"/>
          <p:cNvPicPr/>
          <p:nvPr/>
        </p:nvPicPr>
        <p:blipFill>
          <a:blip r:embed="rId1"/>
          <a:stretch/>
        </p:blipFill>
        <p:spPr>
          <a:xfrm>
            <a:off x="2971800" y="4800600"/>
            <a:ext cx="1984320" cy="113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Arial"/>
              </a:rPr>
              <a:t>2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5"/>
          <p:cNvSpPr/>
          <p:nvPr/>
        </p:nvSpPr>
        <p:spPr>
          <a:xfrm>
            <a:off x="533520" y="1447920"/>
            <a:ext cx="7924680" cy="38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66"/>
                </a:solidFill>
                <a:latin typeface="Arial"/>
              </a:rPr>
              <a:t>Что такое гомологическая разность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6"/>
          <p:cNvSpPr/>
          <p:nvPr/>
        </p:nvSpPr>
        <p:spPr>
          <a:xfrm>
            <a:off x="1143000" y="3200400"/>
            <a:ext cx="685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15" descr="C:\Documents and Settings\ALL\Мои документы\Мои рисунки\анимашки к  игре\lud3312.gif"/>
          <p:cNvPicPr/>
          <p:nvPr/>
        </p:nvPicPr>
        <p:blipFill>
          <a:blip r:embed="rId1"/>
          <a:stretch/>
        </p:blipFill>
        <p:spPr>
          <a:xfrm>
            <a:off x="3962520" y="480060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Arial"/>
              </a:rPr>
              <a:t>3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5"/>
          <p:cNvSpPr/>
          <p:nvPr/>
        </p:nvSpPr>
        <p:spPr>
          <a:xfrm>
            <a:off x="533520" y="1447920"/>
            <a:ext cx="79246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66"/>
                </a:solidFill>
                <a:latin typeface="Arial"/>
              </a:rPr>
              <a:t>Как называются углеводороды ряда этилена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6"/>
          <p:cNvSpPr/>
          <p:nvPr/>
        </p:nvSpPr>
        <p:spPr>
          <a:xfrm>
            <a:off x="1143000" y="3200400"/>
            <a:ext cx="685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6" descr="C:\Documents and Settings\ALL\Мои документы\Мои рисунки\НАУКА\lud3725.gif"/>
          <p:cNvPicPr/>
          <p:nvPr/>
        </p:nvPicPr>
        <p:blipFill>
          <a:blip r:embed="rId1"/>
          <a:stretch/>
        </p:blipFill>
        <p:spPr>
          <a:xfrm>
            <a:off x="3809880" y="4800600"/>
            <a:ext cx="993960" cy="127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Arial"/>
              </a:rPr>
              <a:t>4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5"/>
          <p:cNvSpPr/>
          <p:nvPr/>
        </p:nvSpPr>
        <p:spPr>
          <a:xfrm>
            <a:off x="533520" y="1447920"/>
            <a:ext cx="79246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66"/>
                </a:solidFill>
                <a:latin typeface="Arial"/>
              </a:rPr>
              <a:t>Какой алкан составляет основную часть природного газа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6"/>
          <p:cNvSpPr/>
          <p:nvPr/>
        </p:nvSpPr>
        <p:spPr>
          <a:xfrm>
            <a:off x="1143000" y="3200400"/>
            <a:ext cx="685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16" descr="C:\Documents and Settings\ALL\Application Data\Microsoft\Media Catalog\Downloaded Clips\cl71\j0283827.gif"/>
          <p:cNvPicPr/>
          <p:nvPr/>
        </p:nvPicPr>
        <p:blipFill>
          <a:blip r:embed="rId1"/>
          <a:stretch/>
        </p:blipFill>
        <p:spPr>
          <a:xfrm>
            <a:off x="4343400" y="5410080"/>
            <a:ext cx="8539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Arial"/>
              </a:rPr>
              <a:t>5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5"/>
          <p:cNvSpPr/>
          <p:nvPr/>
        </p:nvSpPr>
        <p:spPr>
          <a:xfrm>
            <a:off x="533520" y="1447920"/>
            <a:ext cx="79246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66"/>
                </a:solidFill>
                <a:latin typeface="Arial"/>
              </a:rPr>
              <a:t>Как называется реакция взаимодействия с галогенами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6"/>
          <p:cNvSpPr/>
          <p:nvPr/>
        </p:nvSpPr>
        <p:spPr>
          <a:xfrm>
            <a:off x="1143000" y="3200400"/>
            <a:ext cx="685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11" descr="C:\Documents and Settings\ALL\Мои документы\Мои рисунки\НАУКА\lud373.gif"/>
          <p:cNvPicPr/>
          <p:nvPr/>
        </p:nvPicPr>
        <p:blipFill>
          <a:blip r:embed="rId1"/>
          <a:stretch/>
        </p:blipFill>
        <p:spPr>
          <a:xfrm>
            <a:off x="3733920" y="5181480"/>
            <a:ext cx="841320" cy="121932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1" descr="C:\Documents and Settings\ALL\Мои документы\Мои рисунки\НАУКА\lud373.gif"/>
          <p:cNvPicPr/>
          <p:nvPr/>
        </p:nvPicPr>
        <p:blipFill>
          <a:blip r:embed="rId2"/>
          <a:stretch/>
        </p:blipFill>
        <p:spPr>
          <a:xfrm>
            <a:off x="3657600" y="5105520"/>
            <a:ext cx="84132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Arial"/>
              </a:rPr>
              <a:t>6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5"/>
          <p:cNvSpPr/>
          <p:nvPr/>
        </p:nvSpPr>
        <p:spPr>
          <a:xfrm>
            <a:off x="533520" y="1447920"/>
            <a:ext cx="79246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66"/>
                </a:solidFill>
                <a:latin typeface="Arial"/>
              </a:rPr>
              <a:t>Охарактеризуйте тип связей  в молекуле ацетилена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6"/>
          <p:cNvSpPr/>
          <p:nvPr/>
        </p:nvSpPr>
        <p:spPr>
          <a:xfrm>
            <a:off x="1143000" y="3200400"/>
            <a:ext cx="685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4" descr="C:\Documents and Settings\ALL\Application Data\Microsoft\Media Catalog\Downloaded Clips\cl52\j0205403.gif"/>
          <p:cNvPicPr/>
          <p:nvPr/>
        </p:nvPicPr>
        <p:blipFill>
          <a:blip r:embed="rId1"/>
          <a:stretch/>
        </p:blipFill>
        <p:spPr>
          <a:xfrm>
            <a:off x="3657600" y="5181480"/>
            <a:ext cx="762120" cy="65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Arial"/>
              </a:rPr>
              <a:t>7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5"/>
          <p:cNvSpPr/>
          <p:nvPr/>
        </p:nvSpPr>
        <p:spPr>
          <a:xfrm>
            <a:off x="533520" y="1447920"/>
            <a:ext cx="7924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66"/>
                </a:solidFill>
                <a:latin typeface="Arial"/>
              </a:rPr>
              <a:t>К какому классу относится пропен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6"/>
          <p:cNvSpPr/>
          <p:nvPr/>
        </p:nvSpPr>
        <p:spPr>
          <a:xfrm>
            <a:off x="1143000" y="3200400"/>
            <a:ext cx="685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5" descr="C:\Documents and Settings\ALL\Application Data\Microsoft\Media Catalog\Downloaded Clips\cl81\j0323800.gif"/>
          <p:cNvPicPr/>
          <p:nvPr/>
        </p:nvPicPr>
        <p:blipFill>
          <a:blip r:embed="rId1"/>
          <a:stretch/>
        </p:blipFill>
        <p:spPr>
          <a:xfrm>
            <a:off x="3809880" y="5257800"/>
            <a:ext cx="106704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Arial"/>
              </a:rPr>
              <a:t>8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5"/>
          <p:cNvSpPr/>
          <p:nvPr/>
        </p:nvSpPr>
        <p:spPr>
          <a:xfrm>
            <a:off x="762120" y="2590920"/>
            <a:ext cx="7924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66"/>
                </a:solidFill>
                <a:latin typeface="Arial"/>
              </a:rPr>
              <a:t>Что такое метил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6"/>
          <p:cNvSpPr/>
          <p:nvPr/>
        </p:nvSpPr>
        <p:spPr>
          <a:xfrm>
            <a:off x="1143000" y="3200400"/>
            <a:ext cx="685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4" descr="C:\Documents and Settings\ALL\Мои документы\Мои рисунки\НАУКА\lud3724.gif"/>
          <p:cNvPicPr/>
          <p:nvPr/>
        </p:nvPicPr>
        <p:blipFill>
          <a:blip r:embed="rId1"/>
          <a:stretch/>
        </p:blipFill>
        <p:spPr>
          <a:xfrm>
            <a:off x="3962520" y="5181480"/>
            <a:ext cx="715680" cy="8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Arial"/>
              </a:rPr>
              <a:t>9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5"/>
          <p:cNvSpPr/>
          <p:nvPr/>
        </p:nvSpPr>
        <p:spPr>
          <a:xfrm>
            <a:off x="685800" y="2133720"/>
            <a:ext cx="79246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66"/>
                </a:solidFill>
                <a:latin typeface="Arial"/>
              </a:rPr>
              <a:t>Какие вещества выделяются при горении алканов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6"/>
          <p:cNvSpPr/>
          <p:nvPr/>
        </p:nvSpPr>
        <p:spPr>
          <a:xfrm>
            <a:off x="1143000" y="3200400"/>
            <a:ext cx="685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3" descr="C:\Documents and Settings\ALL\Application Data\Microsoft\Media Catalog\Downloaded Clips\cl71\j0282989.gif"/>
          <p:cNvPicPr/>
          <p:nvPr/>
        </p:nvPicPr>
        <p:blipFill>
          <a:blip r:embed="rId1"/>
          <a:stretch/>
        </p:blipFill>
        <p:spPr>
          <a:xfrm>
            <a:off x="304920" y="5638680"/>
            <a:ext cx="1066680" cy="10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Arial"/>
              </a:rPr>
              <a:t>10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5"/>
          <p:cNvSpPr/>
          <p:nvPr/>
        </p:nvSpPr>
        <p:spPr>
          <a:xfrm>
            <a:off x="685800" y="2133720"/>
            <a:ext cx="79246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66"/>
                </a:solidFill>
                <a:latin typeface="Arial"/>
              </a:rPr>
              <a:t>Как называется реакция присоединения воды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6"/>
          <p:cNvSpPr/>
          <p:nvPr/>
        </p:nvSpPr>
        <p:spPr>
          <a:xfrm>
            <a:off x="533520" y="3048120"/>
            <a:ext cx="685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9" descr="C:\Documents and Settings\ALL\Application Data\Microsoft\Media Catalog\Downloaded Clips\cl0\AG00181_.gif"/>
          <p:cNvPicPr/>
          <p:nvPr/>
        </p:nvPicPr>
        <p:blipFill>
          <a:blip r:embed="rId1"/>
          <a:stretch/>
        </p:blipFill>
        <p:spPr>
          <a:xfrm>
            <a:off x="152280" y="6058080"/>
            <a:ext cx="1143000" cy="79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666880" y="1066680"/>
            <a:ext cx="6477120" cy="464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61"/>
                </a:solidFill>
                <a:latin typeface="Georgia"/>
              </a:rPr>
              <a:t>Учебная игра</a:t>
            </a:r>
            <a:br>
              <a:rPr sz="5400"/>
            </a:br>
            <a:r>
              <a:rPr b="1" lang="ru-RU" sz="5400" spc="-1" strike="noStrike">
                <a:solidFill>
                  <a:srgbClr val="ffff61"/>
                </a:solidFill>
                <a:latin typeface="Georgia"/>
              </a:rPr>
              <a:t>«Галактика</a:t>
            </a:r>
            <a:br>
              <a:rPr sz="5400"/>
            </a:br>
            <a:r>
              <a:rPr b="1" lang="ru-RU" sz="5400" spc="-1" strike="noStrike">
                <a:solidFill>
                  <a:srgbClr val="ffff61"/>
                </a:solidFill>
                <a:latin typeface="Georgia"/>
              </a:rPr>
              <a:t> углеводородов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3505320" y="2209680"/>
            <a:ext cx="54864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8" descr=""/>
          <p:cNvPicPr/>
          <p:nvPr/>
        </p:nvPicPr>
        <p:blipFill>
          <a:blip r:embed="rId1"/>
          <a:stretch/>
        </p:blipFill>
        <p:spPr>
          <a:xfrm>
            <a:off x="0" y="1676520"/>
            <a:ext cx="2843280" cy="33051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8" descr="C:\Documents and Settings\ALL\Мои документы\Мои рисунки\анимация,рис\anim4_3_11.gif"/>
          <p:cNvPicPr/>
          <p:nvPr/>
        </p:nvPicPr>
        <p:blipFill>
          <a:blip r:embed="rId2"/>
          <a:stretch/>
        </p:blipFill>
        <p:spPr>
          <a:xfrm>
            <a:off x="-6480" y="4992840"/>
            <a:ext cx="23353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Arial"/>
              </a:rPr>
              <a:t>11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5"/>
          <p:cNvSpPr/>
          <p:nvPr/>
        </p:nvSpPr>
        <p:spPr>
          <a:xfrm>
            <a:off x="685800" y="2133720"/>
            <a:ext cx="79246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66"/>
                </a:solidFill>
                <a:latin typeface="Arial"/>
              </a:rPr>
              <a:t>Вещества с подобным строением, но с разными формулами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6"/>
          <p:cNvSpPr/>
          <p:nvPr/>
        </p:nvSpPr>
        <p:spPr>
          <a:xfrm>
            <a:off x="1143000" y="3200400"/>
            <a:ext cx="685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10" descr="C:\Documents and Settings\ALL\Application Data\Microsoft\Media Catalog\Downloaded Clips\cl7e\j0315816.gif"/>
          <p:cNvPicPr/>
          <p:nvPr/>
        </p:nvPicPr>
        <p:blipFill>
          <a:blip r:embed="rId1"/>
          <a:stretch/>
        </p:blipFill>
        <p:spPr>
          <a:xfrm>
            <a:off x="3886200" y="5181480"/>
            <a:ext cx="922320" cy="92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Arial"/>
              </a:rPr>
              <a:t>12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5"/>
          <p:cNvSpPr/>
          <p:nvPr/>
        </p:nvSpPr>
        <p:spPr>
          <a:xfrm>
            <a:off x="685800" y="2133720"/>
            <a:ext cx="79246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66"/>
                </a:solidFill>
                <a:latin typeface="Arial"/>
              </a:rPr>
              <a:t>В чем особенность реакций присоединения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6"/>
          <p:cNvSpPr/>
          <p:nvPr/>
        </p:nvSpPr>
        <p:spPr>
          <a:xfrm>
            <a:off x="1143000" y="3200400"/>
            <a:ext cx="685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5" descr="C:\Documents and Settings\ALL\Мои документы\Мои рисунки\анимашки к  игре\lud3730.gif"/>
          <p:cNvPicPr/>
          <p:nvPr/>
        </p:nvPicPr>
        <p:blipFill>
          <a:blip r:embed="rId1"/>
          <a:stretch/>
        </p:blipFill>
        <p:spPr>
          <a:xfrm>
            <a:off x="3657600" y="4724280"/>
            <a:ext cx="1905120" cy="17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Arial"/>
              </a:rPr>
              <a:t>13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5"/>
          <p:cNvSpPr/>
          <p:nvPr/>
        </p:nvSpPr>
        <p:spPr>
          <a:xfrm>
            <a:off x="685800" y="2133720"/>
            <a:ext cx="7924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66"/>
                </a:solidFill>
                <a:latin typeface="Arial"/>
              </a:rPr>
              <a:t>Историческое  </a:t>
            </a:r>
            <a:br>
              <a:rPr sz="5400"/>
            </a:br>
            <a:r>
              <a:rPr b="1" lang="ru-RU" sz="5400" spc="-1" strike="noStrike">
                <a:solidFill>
                  <a:srgbClr val="000066"/>
                </a:solidFill>
                <a:latin typeface="Arial"/>
              </a:rPr>
              <a:t>название алканов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6"/>
          <p:cNvSpPr/>
          <p:nvPr/>
        </p:nvSpPr>
        <p:spPr>
          <a:xfrm>
            <a:off x="1143000" y="3200400"/>
            <a:ext cx="685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9" descr="C:\Documents and Settings\ALL\Мои документы\Мои рисунки\животные\сова-2.gif"/>
          <p:cNvPicPr/>
          <p:nvPr/>
        </p:nvPicPr>
        <p:blipFill>
          <a:blip r:embed="rId1"/>
          <a:stretch/>
        </p:blipFill>
        <p:spPr>
          <a:xfrm>
            <a:off x="3505320" y="4724280"/>
            <a:ext cx="145548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Arial"/>
              </a:rPr>
              <a:t>14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5"/>
          <p:cNvSpPr/>
          <p:nvPr/>
        </p:nvSpPr>
        <p:spPr>
          <a:xfrm>
            <a:off x="685800" y="2133720"/>
            <a:ext cx="79246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66"/>
                </a:solidFill>
                <a:latin typeface="Arial"/>
              </a:rPr>
              <a:t>Число атомов Карбона в молекуле гексана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6"/>
          <p:cNvSpPr/>
          <p:nvPr/>
        </p:nvSpPr>
        <p:spPr>
          <a:xfrm>
            <a:off x="1143000" y="3200400"/>
            <a:ext cx="685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5" descr="C:\Documents and Settings\ALL\Мои документы\Мои рисунки\НАУКА\lud3726.gif"/>
          <p:cNvPicPr/>
          <p:nvPr/>
        </p:nvPicPr>
        <p:blipFill>
          <a:blip r:embed="rId1"/>
          <a:stretch/>
        </p:blipFill>
        <p:spPr>
          <a:xfrm>
            <a:off x="685800" y="3505320"/>
            <a:ext cx="1454040" cy="284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Arial"/>
              </a:rPr>
              <a:t>15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5"/>
          <p:cNvSpPr/>
          <p:nvPr/>
        </p:nvSpPr>
        <p:spPr>
          <a:xfrm>
            <a:off x="685800" y="2133720"/>
            <a:ext cx="79246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66"/>
                </a:solidFill>
                <a:latin typeface="Arial"/>
              </a:rPr>
              <a:t>Реакции, характерные для ненасыщенных углеводородов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6"/>
          <p:cNvSpPr/>
          <p:nvPr/>
        </p:nvSpPr>
        <p:spPr>
          <a:xfrm>
            <a:off x="1143000" y="3200400"/>
            <a:ext cx="685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16" descr="C:\Documents and Settings\ALL\Мои документы\Мои рисунки\НАУКА\lud3727.gif"/>
          <p:cNvPicPr/>
          <p:nvPr/>
        </p:nvPicPr>
        <p:blipFill>
          <a:blip r:embed="rId1"/>
          <a:stretch/>
        </p:blipFill>
        <p:spPr>
          <a:xfrm>
            <a:off x="380880" y="4572000"/>
            <a:ext cx="990720" cy="143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Arial"/>
              </a:rPr>
              <a:t>16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5"/>
          <p:cNvSpPr/>
          <p:nvPr/>
        </p:nvSpPr>
        <p:spPr>
          <a:xfrm>
            <a:off x="685800" y="1676520"/>
            <a:ext cx="79246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66"/>
                </a:solidFill>
                <a:latin typeface="Arial"/>
              </a:rPr>
              <a:t>Охарактеризуйте тип связей в молекуле этана?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      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6"/>
          <p:cNvSpPr/>
          <p:nvPr/>
        </p:nvSpPr>
        <p:spPr>
          <a:xfrm>
            <a:off x="1143000" y="3200400"/>
            <a:ext cx="685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5" descr="C:\Documents and Settings\ALL\Мои документы\Мои рисунки\chemik01.gif"/>
          <p:cNvPicPr/>
          <p:nvPr/>
        </p:nvPicPr>
        <p:blipFill>
          <a:blip r:embed="rId1"/>
          <a:stretch/>
        </p:blipFill>
        <p:spPr>
          <a:xfrm>
            <a:off x="3505320" y="4419720"/>
            <a:ext cx="163980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Arial"/>
              </a:rPr>
              <a:t>17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5"/>
          <p:cNvSpPr/>
          <p:nvPr/>
        </p:nvSpPr>
        <p:spPr>
          <a:xfrm>
            <a:off x="685800" y="2133720"/>
            <a:ext cx="7924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66"/>
                </a:solidFill>
                <a:latin typeface="Arial"/>
              </a:rPr>
              <a:t>Что такое этил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6"/>
          <p:cNvSpPr/>
          <p:nvPr/>
        </p:nvSpPr>
        <p:spPr>
          <a:xfrm>
            <a:off x="1143000" y="3200400"/>
            <a:ext cx="685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15" descr="C:\Documents and Settings\ALL\Мои документы\Мои рисунки\opit.gif"/>
          <p:cNvPicPr/>
          <p:nvPr/>
        </p:nvPicPr>
        <p:blipFill>
          <a:blip r:embed="rId1"/>
          <a:stretch/>
        </p:blipFill>
        <p:spPr>
          <a:xfrm>
            <a:off x="2971800" y="4800600"/>
            <a:ext cx="1984320" cy="113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Arial"/>
              </a:rPr>
              <a:t>18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5"/>
          <p:cNvSpPr/>
          <p:nvPr/>
        </p:nvSpPr>
        <p:spPr>
          <a:xfrm>
            <a:off x="685800" y="2133720"/>
            <a:ext cx="79246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66"/>
                </a:solidFill>
                <a:latin typeface="Arial"/>
              </a:rPr>
              <a:t>Как называется реакция взаимодействия с водородом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6"/>
          <p:cNvSpPr/>
          <p:nvPr/>
        </p:nvSpPr>
        <p:spPr>
          <a:xfrm>
            <a:off x="533520" y="3048120"/>
            <a:ext cx="685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15" descr="C:\Documents and Settings\ALL\Мои документы\Мои рисунки\анимашки к  игре\lud3312.gif"/>
          <p:cNvPicPr/>
          <p:nvPr/>
        </p:nvPicPr>
        <p:blipFill>
          <a:blip r:embed="rId1"/>
          <a:stretch/>
        </p:blipFill>
        <p:spPr>
          <a:xfrm>
            <a:off x="380880" y="541008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Arial"/>
              </a:rPr>
              <a:t>19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5"/>
          <p:cNvSpPr/>
          <p:nvPr/>
        </p:nvSpPr>
        <p:spPr>
          <a:xfrm>
            <a:off x="685800" y="2133720"/>
            <a:ext cx="79246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66"/>
                </a:solidFill>
                <a:latin typeface="Arial"/>
              </a:rPr>
              <a:t>Валентность Карбона в органических соединениях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6"/>
          <p:cNvSpPr/>
          <p:nvPr/>
        </p:nvSpPr>
        <p:spPr>
          <a:xfrm>
            <a:off x="533520" y="3048120"/>
            <a:ext cx="685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16" descr="C:\Documents and Settings\ALL\Application Data\Microsoft\Media Catalog\Downloaded Clips\cl71\j0283827.gif"/>
          <p:cNvPicPr/>
          <p:nvPr/>
        </p:nvPicPr>
        <p:blipFill>
          <a:blip r:embed="rId1"/>
          <a:stretch/>
        </p:blipFill>
        <p:spPr>
          <a:xfrm>
            <a:off x="4343400" y="5410080"/>
            <a:ext cx="8539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Arial"/>
              </a:rPr>
              <a:t>20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5"/>
          <p:cNvSpPr/>
          <p:nvPr/>
        </p:nvSpPr>
        <p:spPr>
          <a:xfrm>
            <a:off x="685800" y="1600200"/>
            <a:ext cx="7924680" cy="349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66"/>
                </a:solidFill>
                <a:latin typeface="Arial"/>
              </a:rPr>
              <a:t>Углеводороды с общей формулой С</a:t>
            </a:r>
            <a:r>
              <a:rPr b="1" lang="ru-RU" sz="5400" spc="-1" strike="noStrike" baseline="-25000">
                <a:solidFill>
                  <a:srgbClr val="000066"/>
                </a:solidFill>
                <a:latin typeface="Arial"/>
              </a:rPr>
              <a:t>n</a:t>
            </a:r>
            <a:r>
              <a:rPr b="1" lang="ru-RU" sz="5400" spc="-1" strike="noStrike">
                <a:solidFill>
                  <a:srgbClr val="000066"/>
                </a:solidFill>
                <a:latin typeface="Arial"/>
              </a:rPr>
              <a:t>Н</a:t>
            </a:r>
            <a:r>
              <a:rPr b="1" lang="ru-RU" sz="5400" spc="-1" strike="noStrike" baseline="-25000">
                <a:solidFill>
                  <a:srgbClr val="000066"/>
                </a:solidFill>
                <a:latin typeface="Arial"/>
              </a:rPr>
              <a:t>2n-2</a:t>
            </a:r>
            <a:r>
              <a:rPr b="1" lang="ru-RU" sz="5400" spc="-1" strike="noStrike">
                <a:solidFill>
                  <a:srgbClr val="000066"/>
                </a:solidFill>
                <a:latin typeface="Arial"/>
              </a:rPr>
              <a:t> c одной тройной связью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6"/>
          <p:cNvSpPr/>
          <p:nvPr/>
        </p:nvSpPr>
        <p:spPr>
          <a:xfrm>
            <a:off x="533520" y="3048120"/>
            <a:ext cx="685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16" descr="C:\Documents and Settings\ALL\Application Data\Microsoft\Media Catalog\Downloaded Clips\cl71\j0283827.gif"/>
          <p:cNvPicPr/>
          <p:nvPr/>
        </p:nvPicPr>
        <p:blipFill>
          <a:blip r:embed="rId1"/>
          <a:stretch/>
        </p:blipFill>
        <p:spPr>
          <a:xfrm>
            <a:off x="4343400" y="5410080"/>
            <a:ext cx="8539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ам предстоит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Поиграть в игру «Химическое лото», разобраться при этом в теме «Гомологические ряды углеводородов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Пройти испытание «Блиц турниром», показав высокий уровень теоретической подготов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8" descr="C:\Documents and Settings\ALL\Мои документы\Мои рисунки\анимация,рис\anim4_3_11.gif"/>
          <p:cNvPicPr/>
          <p:nvPr/>
        </p:nvPicPr>
        <p:blipFill>
          <a:blip r:embed="rId1"/>
          <a:stretch/>
        </p:blipFill>
        <p:spPr>
          <a:xfrm>
            <a:off x="6815160" y="-6480"/>
            <a:ext cx="23353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Arial"/>
              </a:rPr>
              <a:t>21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5"/>
          <p:cNvSpPr/>
          <p:nvPr/>
        </p:nvSpPr>
        <p:spPr>
          <a:xfrm>
            <a:off x="685800" y="2133720"/>
            <a:ext cx="7924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66"/>
                </a:solidFill>
                <a:latin typeface="Arial"/>
              </a:rPr>
              <a:t>К какому классу относится октан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6"/>
          <p:cNvSpPr/>
          <p:nvPr/>
        </p:nvSpPr>
        <p:spPr>
          <a:xfrm>
            <a:off x="1143000" y="3200400"/>
            <a:ext cx="685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4" descr="C:\Documents and Settings\ALL\Application Data\Microsoft\Media Catalog\Downloaded Clips\cl52\j0205403.gif"/>
          <p:cNvPicPr/>
          <p:nvPr/>
        </p:nvPicPr>
        <p:blipFill>
          <a:blip r:embed="rId1"/>
          <a:stretch/>
        </p:blipFill>
        <p:spPr>
          <a:xfrm>
            <a:off x="3657600" y="5181480"/>
            <a:ext cx="762120" cy="65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Arial"/>
              </a:rPr>
              <a:t>22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5"/>
          <p:cNvSpPr/>
          <p:nvPr/>
        </p:nvSpPr>
        <p:spPr>
          <a:xfrm>
            <a:off x="685800" y="2133720"/>
            <a:ext cx="7924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66"/>
                </a:solidFill>
                <a:latin typeface="Arial"/>
              </a:rPr>
              <a:t>Реакция отщепления воды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6"/>
          <p:cNvSpPr/>
          <p:nvPr/>
        </p:nvSpPr>
        <p:spPr>
          <a:xfrm>
            <a:off x="533520" y="3048120"/>
            <a:ext cx="685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5" descr="C:\Documents and Settings\ALL\Application Data\Microsoft\Media Catalog\Downloaded Clips\cl81\j0323800.gif"/>
          <p:cNvPicPr/>
          <p:nvPr/>
        </p:nvPicPr>
        <p:blipFill>
          <a:blip r:embed="rId1"/>
          <a:stretch/>
        </p:blipFill>
        <p:spPr>
          <a:xfrm>
            <a:off x="3809880" y="5257800"/>
            <a:ext cx="106704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Arial"/>
              </a:rPr>
              <a:t>23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5"/>
          <p:cNvSpPr/>
          <p:nvPr/>
        </p:nvSpPr>
        <p:spPr>
          <a:xfrm>
            <a:off x="685800" y="2133720"/>
            <a:ext cx="7924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66"/>
                </a:solidFill>
                <a:latin typeface="Arial"/>
              </a:rPr>
              <a:t>Реакция отщепления водорода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6"/>
          <p:cNvSpPr/>
          <p:nvPr/>
        </p:nvSpPr>
        <p:spPr>
          <a:xfrm>
            <a:off x="533520" y="3048120"/>
            <a:ext cx="685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4" descr="C:\Documents and Settings\ALL\Мои документы\Мои рисунки\НАУКА\lud3724.gif"/>
          <p:cNvPicPr/>
          <p:nvPr/>
        </p:nvPicPr>
        <p:blipFill>
          <a:blip r:embed="rId1"/>
          <a:stretch/>
        </p:blipFill>
        <p:spPr>
          <a:xfrm>
            <a:off x="3962520" y="5181480"/>
            <a:ext cx="715680" cy="8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Arial"/>
              </a:rPr>
              <a:t>24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5"/>
          <p:cNvSpPr/>
          <p:nvPr/>
        </p:nvSpPr>
        <p:spPr>
          <a:xfrm>
            <a:off x="685800" y="1600200"/>
            <a:ext cx="79246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66"/>
                </a:solidFill>
                <a:latin typeface="Arial"/>
              </a:rPr>
              <a:t>Органические соединения, состоящие из двух элементов – Карбона и Гидроген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6"/>
          <p:cNvSpPr/>
          <p:nvPr/>
        </p:nvSpPr>
        <p:spPr>
          <a:xfrm>
            <a:off x="533520" y="3048120"/>
            <a:ext cx="685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3" descr="C:\Documents and Settings\ALL\Application Data\Microsoft\Media Catalog\Downloaded Clips\cl71\j0282989.gif"/>
          <p:cNvPicPr/>
          <p:nvPr/>
        </p:nvPicPr>
        <p:blipFill>
          <a:blip r:embed="rId1"/>
          <a:stretch/>
        </p:blipFill>
        <p:spPr>
          <a:xfrm>
            <a:off x="304920" y="5638680"/>
            <a:ext cx="1066680" cy="10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Arial"/>
              </a:rPr>
              <a:t>25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5"/>
          <p:cNvSpPr/>
          <p:nvPr/>
        </p:nvSpPr>
        <p:spPr>
          <a:xfrm>
            <a:off x="685800" y="1600200"/>
            <a:ext cx="7924680" cy="26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66"/>
                </a:solidFill>
                <a:latin typeface="Arial"/>
              </a:rPr>
              <a:t>Углеводороды с общей формулой С</a:t>
            </a:r>
            <a:r>
              <a:rPr b="1" lang="ru-RU" sz="5400" spc="-1" strike="noStrike" baseline="-25000">
                <a:solidFill>
                  <a:srgbClr val="000066"/>
                </a:solidFill>
                <a:latin typeface="Arial"/>
              </a:rPr>
              <a:t>n</a:t>
            </a:r>
            <a:r>
              <a:rPr b="1" lang="ru-RU" sz="5400" spc="-1" strike="noStrike">
                <a:solidFill>
                  <a:srgbClr val="000066"/>
                </a:solidFill>
                <a:latin typeface="Arial"/>
              </a:rPr>
              <a:t>Н</a:t>
            </a:r>
            <a:r>
              <a:rPr b="1" lang="ru-RU" sz="5400" spc="-1" strike="noStrike" baseline="-25000">
                <a:solidFill>
                  <a:srgbClr val="000066"/>
                </a:solidFill>
                <a:latin typeface="Arial"/>
              </a:rPr>
              <a:t>2n+2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6"/>
          <p:cNvSpPr/>
          <p:nvPr/>
        </p:nvSpPr>
        <p:spPr>
          <a:xfrm>
            <a:off x="533520" y="3048120"/>
            <a:ext cx="685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Picture 10" descr="C:\Documents and Settings\ALL\Application Data\Microsoft\Media Catalog\Downloaded Clips\cl7e\j0315816.gif"/>
          <p:cNvPicPr/>
          <p:nvPr/>
        </p:nvPicPr>
        <p:blipFill>
          <a:blip r:embed="rId1"/>
          <a:stretch/>
        </p:blipFill>
        <p:spPr>
          <a:xfrm>
            <a:off x="3886200" y="5181480"/>
            <a:ext cx="922320" cy="92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Arial"/>
              </a:rPr>
              <a:t>26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5"/>
          <p:cNvSpPr/>
          <p:nvPr/>
        </p:nvSpPr>
        <p:spPr>
          <a:xfrm>
            <a:off x="685800" y="1600200"/>
            <a:ext cx="7924680" cy="43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66"/>
                </a:solidFill>
                <a:latin typeface="Arial"/>
              </a:rPr>
              <a:t>Углеводороды с общей формулой С</a:t>
            </a:r>
            <a:r>
              <a:rPr b="1" lang="ru-RU" sz="5400" spc="-1" strike="noStrike" baseline="-25000">
                <a:solidFill>
                  <a:srgbClr val="000066"/>
                </a:solidFill>
                <a:latin typeface="Arial"/>
              </a:rPr>
              <a:t>n</a:t>
            </a:r>
            <a:r>
              <a:rPr b="1" lang="ru-RU" sz="5400" spc="-1" strike="noStrike">
                <a:solidFill>
                  <a:srgbClr val="000066"/>
                </a:solidFill>
                <a:latin typeface="Arial"/>
              </a:rPr>
              <a:t>Н</a:t>
            </a:r>
            <a:r>
              <a:rPr b="1" lang="ru-RU" sz="5400" spc="-1" strike="noStrike" baseline="-25000">
                <a:solidFill>
                  <a:srgbClr val="000066"/>
                </a:solidFill>
                <a:latin typeface="Arial"/>
              </a:rPr>
              <a:t>2n</a:t>
            </a:r>
            <a:r>
              <a:rPr b="1" lang="ru-RU" sz="5400" spc="-1" strike="noStrike">
                <a:solidFill>
                  <a:srgbClr val="000066"/>
                </a:solidFill>
                <a:latin typeface="Arial"/>
              </a:rPr>
              <a:t>, в молекулах которых имеется одна двойная связь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6"/>
          <p:cNvSpPr/>
          <p:nvPr/>
        </p:nvSpPr>
        <p:spPr>
          <a:xfrm>
            <a:off x="533520" y="3048120"/>
            <a:ext cx="685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5" descr="C:\Documents and Settings\ALL\Мои документы\Мои рисунки\анимашки к  игре\lud3730.gif"/>
          <p:cNvPicPr/>
          <p:nvPr/>
        </p:nvPicPr>
        <p:blipFill>
          <a:blip r:embed="rId1"/>
          <a:stretch/>
        </p:blipFill>
        <p:spPr>
          <a:xfrm>
            <a:off x="0" y="5076720"/>
            <a:ext cx="1905120" cy="17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Arial"/>
              </a:rPr>
              <a:t>27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5"/>
          <p:cNvSpPr/>
          <p:nvPr/>
        </p:nvSpPr>
        <p:spPr>
          <a:xfrm>
            <a:off x="609480" y="2133720"/>
            <a:ext cx="79250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66"/>
                </a:solidFill>
                <a:latin typeface="Arial"/>
              </a:rPr>
              <a:t>Реакция присоединения водорода  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6"/>
          <p:cNvSpPr/>
          <p:nvPr/>
        </p:nvSpPr>
        <p:spPr>
          <a:xfrm>
            <a:off x="533520" y="3048120"/>
            <a:ext cx="685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Picture 9" descr="C:\Documents and Settings\ALL\Мои документы\Мои рисунки\животные\сова-2.gif"/>
          <p:cNvPicPr/>
          <p:nvPr/>
        </p:nvPicPr>
        <p:blipFill>
          <a:blip r:embed="rId1"/>
          <a:stretch/>
        </p:blipFill>
        <p:spPr>
          <a:xfrm>
            <a:off x="3505320" y="5105520"/>
            <a:ext cx="145548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Arial"/>
              </a:rPr>
              <a:t>28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5"/>
          <p:cNvSpPr/>
          <p:nvPr/>
        </p:nvSpPr>
        <p:spPr>
          <a:xfrm>
            <a:off x="685800" y="1600200"/>
            <a:ext cx="79246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66"/>
                </a:solidFill>
                <a:latin typeface="Arial"/>
              </a:rPr>
              <a:t>Реакция взаимодействия этана с хлором относится к реакциям?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6"/>
          <p:cNvSpPr/>
          <p:nvPr/>
        </p:nvSpPr>
        <p:spPr>
          <a:xfrm>
            <a:off x="533520" y="3048120"/>
            <a:ext cx="685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Picture 5" descr="C:\Documents and Settings\ALL\Мои документы\Мои рисунки\НАУКА\lud3726.gif"/>
          <p:cNvPicPr/>
          <p:nvPr/>
        </p:nvPicPr>
        <p:blipFill>
          <a:blip r:embed="rId1"/>
          <a:stretch/>
        </p:blipFill>
        <p:spPr>
          <a:xfrm>
            <a:off x="685800" y="3505320"/>
            <a:ext cx="1454040" cy="284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Arial"/>
              </a:rPr>
              <a:t>29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5"/>
          <p:cNvSpPr/>
          <p:nvPr/>
        </p:nvSpPr>
        <p:spPr>
          <a:xfrm>
            <a:off x="685800" y="1600200"/>
            <a:ext cx="79246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66"/>
                </a:solidFill>
                <a:latin typeface="Arial"/>
              </a:rPr>
              <a:t>Реакция взаимодействия этена с хлором относится к реакциям? 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6"/>
          <p:cNvSpPr/>
          <p:nvPr/>
        </p:nvSpPr>
        <p:spPr>
          <a:xfrm>
            <a:off x="533520" y="3048120"/>
            <a:ext cx="685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16" descr="C:\Documents and Settings\ALL\Мои документы\Мои рисунки\НАУКА\lud3727.gif"/>
          <p:cNvPicPr/>
          <p:nvPr/>
        </p:nvPicPr>
        <p:blipFill>
          <a:blip r:embed="rId1"/>
          <a:stretch/>
        </p:blipFill>
        <p:spPr>
          <a:xfrm>
            <a:off x="380880" y="4572000"/>
            <a:ext cx="990720" cy="143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Arial"/>
              </a:rPr>
              <a:t>30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5"/>
          <p:cNvSpPr/>
          <p:nvPr/>
        </p:nvSpPr>
        <p:spPr>
          <a:xfrm>
            <a:off x="685800" y="1600200"/>
            <a:ext cx="7924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66"/>
                </a:solidFill>
                <a:latin typeface="Arial"/>
              </a:rPr>
              <a:t>Наука, изучающая соединения Карбона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6"/>
          <p:cNvSpPr/>
          <p:nvPr/>
        </p:nvSpPr>
        <p:spPr>
          <a:xfrm>
            <a:off x="533520" y="3048120"/>
            <a:ext cx="685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Picture 9" descr="C:\Documents and Settings\ALL\Application Data\Microsoft\Media Catalog\Downloaded Clips\cl0\AG00181_.gif"/>
          <p:cNvPicPr/>
          <p:nvPr/>
        </p:nvPicPr>
        <p:blipFill>
          <a:blip r:embed="rId1"/>
          <a:stretch/>
        </p:blipFill>
        <p:spPr>
          <a:xfrm>
            <a:off x="152280" y="6058080"/>
            <a:ext cx="1143000" cy="79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ам предстоит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Дать имя углеводородам, обнаруженным при исследовании галактики, продемонстрировав знания изомерии и номенклатуры изученных соедине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Расшифровать послание, полученное из Космоса, восстановив части утерянной информации и показав знание химических свойств углеводород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8" descr="C:\Documents and Settings\ALL\Мои документы\Мои рисунки\анимация,рис\anim4_3_11.gif"/>
          <p:cNvPicPr/>
          <p:nvPr/>
        </p:nvPicPr>
        <p:blipFill>
          <a:blip r:embed="rId1"/>
          <a:stretch/>
        </p:blipFill>
        <p:spPr>
          <a:xfrm>
            <a:off x="6815160" y="-6480"/>
            <a:ext cx="23353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6" descr="backgrounds_100019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448632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6" descr="backgrounds_100019"/>
          <p:cNvPicPr/>
          <p:nvPr/>
        </p:nvPicPr>
        <p:blipFill>
          <a:blip r:embed="rId2"/>
          <a:stretch/>
        </p:blipFill>
        <p:spPr>
          <a:xfrm>
            <a:off x="0" y="0"/>
            <a:ext cx="4572000" cy="448632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6" descr="backgrounds_100019"/>
          <p:cNvPicPr/>
          <p:nvPr/>
        </p:nvPicPr>
        <p:blipFill>
          <a:blip r:embed="rId3"/>
          <a:stretch/>
        </p:blipFill>
        <p:spPr>
          <a:xfrm>
            <a:off x="0" y="4419720"/>
            <a:ext cx="4572000" cy="448632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6" descr="backgrounds_100019"/>
          <p:cNvPicPr/>
          <p:nvPr/>
        </p:nvPicPr>
        <p:blipFill>
          <a:blip r:embed="rId4"/>
          <a:stretch/>
        </p:blipFill>
        <p:spPr>
          <a:xfrm>
            <a:off x="4572000" y="4343400"/>
            <a:ext cx="4572000" cy="4486320"/>
          </a:xfrm>
          <a:prstGeom prst="rect">
            <a:avLst/>
          </a:prstGeom>
          <a:ln w="0">
            <a:noFill/>
          </a:ln>
        </p:spPr>
      </p:pic>
      <p:sp>
        <p:nvSpPr>
          <p:cNvPr id="291" name="WordArt 11"/>
          <p:cNvSpPr txBox="1"/>
          <p:nvPr/>
        </p:nvSpPr>
        <p:spPr>
          <a:xfrm>
            <a:off x="990720" y="914400"/>
            <a:ext cx="655308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28440">
                  <a:solidFill>
                    <a:srgbClr val="009999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Назови меня!</a:t>
            </a:r>
            <a:endParaRPr b="1" lang="en-US" sz="4400" spc="1" strike="noStrike">
              <a:ln w="28440">
                <a:solidFill>
                  <a:srgbClr val="009999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Групповая рабо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457200" y="2895480"/>
            <a:ext cx="8229600" cy="32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62673"/>
                </a:solidFill>
                <a:latin typeface="Arial"/>
              </a:rPr>
              <a:t>Назовите предложенные соедин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Picture 4" descr="backgrounds_00039"/>
          <p:cNvPicPr/>
          <p:nvPr/>
        </p:nvPicPr>
        <p:blipFill>
          <a:blip r:embed="rId1"/>
          <a:stretch/>
        </p:blipFill>
        <p:spPr>
          <a:xfrm>
            <a:off x="0" y="0"/>
            <a:ext cx="9144000" cy="7881840"/>
          </a:xfrm>
          <a:prstGeom prst="rect">
            <a:avLst/>
          </a:prstGeom>
          <a:ln w="0">
            <a:noFill/>
          </a:ln>
        </p:spPr>
      </p:pic>
      <p:pic>
        <p:nvPicPr>
          <p:cNvPr id="297" name="WordArt 5" descr=""/>
          <p:cNvPicPr/>
          <p:nvPr/>
        </p:nvPicPr>
        <p:blipFill>
          <a:blip r:embed="rId2"/>
          <a:stretch/>
        </p:blipFill>
        <p:spPr>
          <a:xfrm>
            <a:off x="463680" y="835200"/>
            <a:ext cx="8199360" cy="290808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6" descr="пословица"/>
          <p:cNvPicPr/>
          <p:nvPr/>
        </p:nvPicPr>
        <p:blipFill>
          <a:blip r:embed="rId3"/>
          <a:stretch/>
        </p:blipFill>
        <p:spPr>
          <a:xfrm>
            <a:off x="2971800" y="4038480"/>
            <a:ext cx="3505320" cy="180972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Групповая рабо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457200" y="2895480"/>
            <a:ext cx="8229600" cy="32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62673"/>
                </a:solidFill>
                <a:latin typeface="Arial"/>
              </a:rPr>
              <a:t>Заполнить пропуски в предложенных схемах уравнений реакц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1"/>
          <p:cNvSpPr/>
          <p:nvPr/>
        </p:nvSpPr>
        <p:spPr>
          <a:xfrm>
            <a:off x="152280" y="713160"/>
            <a:ext cx="8991720" cy="182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Cambr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СН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Cambria"/>
                <a:ea typeface="Times New Roman"/>
              </a:rPr>
              <a:t>4  </a:t>
            </a:r>
            <a:r>
              <a:rPr b="1" lang="ru-RU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= &gt; С + 2Н</a:t>
            </a:r>
            <a:r>
              <a:rPr b="1" lang="ru-RU" sz="24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 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Cambr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СН</a:t>
            </a:r>
            <a:r>
              <a:rPr b="1" lang="ru-RU" sz="24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3</a:t>
            </a:r>
            <a:r>
              <a:rPr b="1" lang="ru-RU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 – СН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Cambria"/>
                <a:ea typeface="Times New Roman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 – СН = СН</a:t>
            </a:r>
            <a:r>
              <a:rPr b="1" lang="ru-RU" sz="24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 =&gt; СН</a:t>
            </a:r>
            <a:r>
              <a:rPr b="1" lang="ru-RU" sz="24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 = СН – СН = СН</a:t>
            </a:r>
            <a:r>
              <a:rPr b="1" lang="ru-RU" sz="24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 + Н</a:t>
            </a:r>
            <a:r>
              <a:rPr b="1" lang="ru-RU" sz="24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Cambr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Н</a:t>
            </a:r>
            <a:r>
              <a:rPr b="1" lang="ru-RU" sz="24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3</a:t>
            </a:r>
            <a:r>
              <a:rPr b="1" lang="ru-RU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С = СН-ОН =&gt; Н</a:t>
            </a:r>
            <a:r>
              <a:rPr b="1" lang="ru-RU" sz="24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С = СН</a:t>
            </a:r>
            <a:r>
              <a:rPr b="1" lang="ru-RU" sz="24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 + Н</a:t>
            </a:r>
            <a:r>
              <a:rPr b="1" lang="ru-RU" sz="24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Cambr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СН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Cambria"/>
                <a:ea typeface="Times New Roman"/>
              </a:rPr>
              <a:t>4</a:t>
            </a:r>
            <a:r>
              <a:rPr b="1" lang="ru-RU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 +</a:t>
            </a:r>
            <a:r>
              <a:rPr b="1" lang="en-US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Br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Cambria"/>
                <a:ea typeface="Times New Roman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 =&gt; СН</a:t>
            </a:r>
            <a:r>
              <a:rPr b="1" lang="ru-RU" sz="24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3</a:t>
            </a:r>
            <a:r>
              <a:rPr b="1" lang="ru-RU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Вr  + </a:t>
            </a:r>
            <a:r>
              <a:rPr b="1" lang="en-US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HB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1 группа - провер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Прямоугольник 5"/>
          <p:cNvSpPr/>
          <p:nvPr/>
        </p:nvSpPr>
        <p:spPr>
          <a:xfrm>
            <a:off x="2057400" y="2362320"/>
            <a:ext cx="563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2 группа - провер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2"/>
          <p:cNvSpPr/>
          <p:nvPr/>
        </p:nvSpPr>
        <p:spPr>
          <a:xfrm>
            <a:off x="228600" y="2770560"/>
            <a:ext cx="8915400" cy="182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1) С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Cambria"/>
                <a:ea typeface="Times New Roman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Н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Cambria"/>
                <a:ea typeface="Times New Roman"/>
              </a:rPr>
              <a:t>4</a:t>
            </a:r>
            <a:r>
              <a:rPr b="1" lang="ru-RU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 + 3О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Cambria"/>
                <a:ea typeface="Times New Roman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= &gt;2СО</a:t>
            </a:r>
            <a:r>
              <a:rPr b="1" lang="ru-RU" sz="24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 + 2Н</a:t>
            </a:r>
            <a:r>
              <a:rPr b="1" lang="ru-RU" sz="24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2) СН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Cambria"/>
                <a:ea typeface="Times New Roman"/>
              </a:rPr>
              <a:t>4 </a:t>
            </a:r>
            <a:r>
              <a:rPr b="1" lang="ru-RU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+ Сl 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Cambria"/>
                <a:ea typeface="Times New Roman"/>
              </a:rPr>
              <a:t>2 </a:t>
            </a:r>
            <a:r>
              <a:rPr b="1" lang="ru-RU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=&gt; СН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3</a:t>
            </a:r>
            <a:r>
              <a:rPr b="1" lang="ru-RU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Сl </a:t>
            </a:r>
            <a:r>
              <a:rPr b="1" lang="en-US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+ </a:t>
            </a:r>
            <a:r>
              <a:rPr b="1" lang="ru-RU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НС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3) СН</a:t>
            </a:r>
            <a:r>
              <a:rPr b="1" lang="ru-RU" sz="24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3 </a:t>
            </a:r>
            <a:r>
              <a:rPr b="1" lang="ru-RU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- СН</a:t>
            </a:r>
            <a:r>
              <a:rPr b="1" lang="ru-RU" sz="24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3</a:t>
            </a:r>
            <a:r>
              <a:rPr b="1" lang="ru-RU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=&gt; СН</a:t>
            </a:r>
            <a:r>
              <a:rPr b="1" lang="ru-RU" sz="24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=СН</a:t>
            </a:r>
            <a:r>
              <a:rPr b="1" lang="ru-RU" sz="24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 + Н</a:t>
            </a:r>
            <a:r>
              <a:rPr b="1" lang="ru-RU" sz="24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4) СН</a:t>
            </a:r>
            <a:r>
              <a:rPr b="1" lang="ru-RU" sz="24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=СН</a:t>
            </a:r>
            <a:r>
              <a:rPr b="1" lang="ru-RU" sz="24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2 </a:t>
            </a:r>
            <a:r>
              <a:rPr b="1" lang="en-US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 + </a:t>
            </a:r>
            <a:r>
              <a:rPr b="1" lang="ru-RU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НСl =&gt; СН</a:t>
            </a:r>
            <a:r>
              <a:rPr b="1" lang="ru-RU" sz="24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3</a:t>
            </a:r>
            <a:r>
              <a:rPr b="1" lang="ru-RU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–</a:t>
            </a:r>
            <a:r>
              <a:rPr b="1" lang="ru-RU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 СН</a:t>
            </a:r>
            <a:r>
              <a:rPr b="1" lang="ru-RU" sz="24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С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оугольник 7"/>
          <p:cNvSpPr/>
          <p:nvPr/>
        </p:nvSpPr>
        <p:spPr>
          <a:xfrm>
            <a:off x="2909520" y="4419720"/>
            <a:ext cx="413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3 группа - провер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3"/>
          <p:cNvSpPr/>
          <p:nvPr/>
        </p:nvSpPr>
        <p:spPr>
          <a:xfrm>
            <a:off x="228600" y="4688280"/>
            <a:ext cx="6076800" cy="22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1) СН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Cambria"/>
                <a:ea typeface="Times New Roman"/>
              </a:rPr>
              <a:t>4 </a:t>
            </a:r>
            <a:r>
              <a:rPr b="1" lang="ru-RU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+ О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Cambria"/>
                <a:ea typeface="Times New Roman"/>
              </a:rPr>
              <a:t>2 </a:t>
            </a:r>
            <a:r>
              <a:rPr b="1" lang="ru-RU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= &gt; СО</a:t>
            </a:r>
            <a:r>
              <a:rPr b="1" lang="ru-RU" sz="24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 + 2Н</a:t>
            </a:r>
            <a:r>
              <a:rPr b="1" lang="ru-RU" sz="24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О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2) СН</a:t>
            </a:r>
            <a:r>
              <a:rPr b="1" lang="ru-RU" sz="24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=СН</a:t>
            </a:r>
            <a:r>
              <a:rPr b="1" lang="ru-RU" sz="24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 + В</a:t>
            </a:r>
            <a:r>
              <a:rPr b="1" lang="en-US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r</a:t>
            </a:r>
            <a:r>
              <a:rPr b="1" lang="ru-RU" sz="24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2 </a:t>
            </a:r>
            <a:r>
              <a:rPr b="1" lang="ru-RU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=&gt; СН</a:t>
            </a:r>
            <a:r>
              <a:rPr b="1" lang="ru-RU" sz="24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Вr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–</a:t>
            </a:r>
            <a:r>
              <a:rPr b="1" lang="ru-RU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 СН</a:t>
            </a:r>
            <a:r>
              <a:rPr b="1" lang="ru-RU" sz="24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В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3) СН</a:t>
            </a:r>
            <a:r>
              <a:rPr b="1" lang="ru-RU" sz="24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=СН</a:t>
            </a:r>
            <a:r>
              <a:rPr b="1" lang="en-US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- CH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3</a:t>
            </a:r>
            <a:r>
              <a:rPr b="1" lang="ru-RU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 + Н</a:t>
            </a:r>
            <a:r>
              <a:rPr b="1" lang="ru-RU" sz="24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2 </a:t>
            </a:r>
            <a:r>
              <a:rPr b="1" lang="ru-RU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=&gt; СН</a:t>
            </a:r>
            <a:r>
              <a:rPr b="1" lang="ru-RU" sz="24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3</a:t>
            </a:r>
            <a:r>
              <a:rPr b="1" lang="ru-RU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–</a:t>
            </a:r>
            <a:r>
              <a:rPr b="1" lang="ru-RU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 СН</a:t>
            </a:r>
            <a:r>
              <a:rPr b="1" lang="ru-RU" sz="24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–</a:t>
            </a:r>
            <a:r>
              <a:rPr b="1" lang="ru-RU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 СН</a:t>
            </a:r>
            <a:r>
              <a:rPr b="1" lang="ru-RU" sz="24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3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4) СН</a:t>
            </a:r>
            <a:r>
              <a:rPr b="1" lang="ru-RU" sz="24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=СН</a:t>
            </a:r>
            <a:r>
              <a:rPr b="1" lang="en-US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- CH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3</a:t>
            </a:r>
            <a:r>
              <a:rPr b="1" lang="ru-RU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 + Н</a:t>
            </a:r>
            <a:r>
              <a:rPr b="1" lang="en-US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Cl</a:t>
            </a:r>
            <a:r>
              <a:rPr b="1" lang="ru-RU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 =&gt; СН</a:t>
            </a:r>
            <a:r>
              <a:rPr b="1" lang="ru-RU" sz="24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3</a:t>
            </a:r>
            <a:r>
              <a:rPr b="1" lang="ru-RU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–</a:t>
            </a:r>
            <a:r>
              <a:rPr b="1" lang="ru-RU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 СНСl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–</a:t>
            </a:r>
            <a:r>
              <a:rPr b="1" lang="ru-RU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 СН</a:t>
            </a:r>
            <a:r>
              <a:rPr b="1" lang="ru-RU" sz="24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Picture 4" descr="фон4"/>
          <p:cNvPicPr/>
          <p:nvPr/>
        </p:nvPicPr>
        <p:blipFill>
          <a:blip r:embed="rId1"/>
          <a:stretch/>
        </p:blipFill>
        <p:spPr>
          <a:xfrm>
            <a:off x="-228600" y="0"/>
            <a:ext cx="2362320" cy="236232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7" descr="фон4"/>
          <p:cNvPicPr/>
          <p:nvPr/>
        </p:nvPicPr>
        <p:blipFill>
          <a:blip r:embed="rId2"/>
          <a:stretch/>
        </p:blipFill>
        <p:spPr>
          <a:xfrm>
            <a:off x="4419720" y="0"/>
            <a:ext cx="2361960" cy="236232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8" descr="фон4"/>
          <p:cNvPicPr/>
          <p:nvPr/>
        </p:nvPicPr>
        <p:blipFill>
          <a:blip r:embed="rId3"/>
          <a:stretch/>
        </p:blipFill>
        <p:spPr>
          <a:xfrm>
            <a:off x="6781680" y="0"/>
            <a:ext cx="2362320" cy="236232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9" descr="фон4"/>
          <p:cNvPicPr/>
          <p:nvPr/>
        </p:nvPicPr>
        <p:blipFill>
          <a:blip r:embed="rId4"/>
          <a:stretch/>
        </p:blipFill>
        <p:spPr>
          <a:xfrm>
            <a:off x="2133720" y="0"/>
            <a:ext cx="2361960" cy="236232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10" descr="фон4"/>
          <p:cNvPicPr/>
          <p:nvPr/>
        </p:nvPicPr>
        <p:blipFill>
          <a:blip r:embed="rId5"/>
          <a:stretch/>
        </p:blipFill>
        <p:spPr>
          <a:xfrm>
            <a:off x="6781680" y="2362320"/>
            <a:ext cx="2362320" cy="236196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11" descr="фон4"/>
          <p:cNvPicPr/>
          <p:nvPr/>
        </p:nvPicPr>
        <p:blipFill>
          <a:blip r:embed="rId6"/>
          <a:stretch/>
        </p:blipFill>
        <p:spPr>
          <a:xfrm>
            <a:off x="4419720" y="2362320"/>
            <a:ext cx="2361960" cy="236196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12" descr="фон4"/>
          <p:cNvPicPr/>
          <p:nvPr/>
        </p:nvPicPr>
        <p:blipFill>
          <a:blip r:embed="rId7"/>
          <a:stretch/>
        </p:blipFill>
        <p:spPr>
          <a:xfrm>
            <a:off x="2057400" y="2362320"/>
            <a:ext cx="2362320" cy="236196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13" descr="фон4"/>
          <p:cNvPicPr/>
          <p:nvPr/>
        </p:nvPicPr>
        <p:blipFill>
          <a:blip r:embed="rId8"/>
          <a:stretch/>
        </p:blipFill>
        <p:spPr>
          <a:xfrm>
            <a:off x="-228600" y="2362320"/>
            <a:ext cx="2362320" cy="236196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14" descr="фон4"/>
          <p:cNvPicPr/>
          <p:nvPr/>
        </p:nvPicPr>
        <p:blipFill>
          <a:blip r:embed="rId9"/>
          <a:stretch/>
        </p:blipFill>
        <p:spPr>
          <a:xfrm>
            <a:off x="6781680" y="4724280"/>
            <a:ext cx="2362320" cy="236232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15" descr="фон4"/>
          <p:cNvPicPr/>
          <p:nvPr/>
        </p:nvPicPr>
        <p:blipFill>
          <a:blip r:embed="rId10"/>
          <a:stretch/>
        </p:blipFill>
        <p:spPr>
          <a:xfrm>
            <a:off x="4419720" y="4724280"/>
            <a:ext cx="2361960" cy="236232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16" descr="фон4"/>
          <p:cNvPicPr/>
          <p:nvPr/>
        </p:nvPicPr>
        <p:blipFill>
          <a:blip r:embed="rId11"/>
          <a:stretch/>
        </p:blipFill>
        <p:spPr>
          <a:xfrm>
            <a:off x="2057400" y="4724280"/>
            <a:ext cx="2362320" cy="236232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17" descr="фон4"/>
          <p:cNvPicPr/>
          <p:nvPr/>
        </p:nvPicPr>
        <p:blipFill>
          <a:blip r:embed="rId12"/>
          <a:stretch/>
        </p:blipFill>
        <p:spPr>
          <a:xfrm>
            <a:off x="-228600" y="4724280"/>
            <a:ext cx="2362320" cy="2362320"/>
          </a:xfrm>
          <a:prstGeom prst="rect">
            <a:avLst/>
          </a:prstGeom>
          <a:ln w="0">
            <a:noFill/>
          </a:ln>
        </p:spPr>
      </p:pic>
      <p:sp>
        <p:nvSpPr>
          <p:cNvPr id="319" name="WordArt 18"/>
          <p:cNvSpPr txBox="1"/>
          <p:nvPr/>
        </p:nvSpPr>
        <p:spPr>
          <a:xfrm>
            <a:off x="838080" y="2133720"/>
            <a:ext cx="7620120" cy="1904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28440">
                  <a:solidFill>
                    <a:srgbClr val="00ff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Звездная лаборатория</a:t>
            </a:r>
            <a:endParaRPr b="1" i="1" lang="en-US" sz="2000" spc="1" strike="noStrike">
              <a:ln w="28440">
                <a:solidFill>
                  <a:srgbClr val="00ff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Text Box 7"/>
          <p:cNvSpPr/>
          <p:nvPr/>
        </p:nvSpPr>
        <p:spPr>
          <a:xfrm>
            <a:off x="4214880" y="1357200"/>
            <a:ext cx="4929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cc"/>
                </a:solidFill>
                <a:latin typeface="Monotype Corsiva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Прямоугольник 3"/>
          <p:cNvSpPr/>
          <p:nvPr/>
        </p:nvSpPr>
        <p:spPr>
          <a:xfrm>
            <a:off x="285840" y="142920"/>
            <a:ext cx="8429400" cy="1000080"/>
          </a:xfrm>
          <a:prstGeom prst="rect">
            <a:avLst/>
          </a:prstGeom>
          <a:gradFill rotWithShape="0">
            <a:gsLst>
              <a:gs pos="0">
                <a:srgbClr val="85aaad"/>
              </a:gs>
              <a:gs pos="100000">
                <a:srgbClr val="afe0e4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«Мастерская молекулярного моделирования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Picture 2" descr="метан2"/>
          <p:cNvPicPr/>
          <p:nvPr/>
        </p:nvPicPr>
        <p:blipFill>
          <a:blip r:embed="rId1"/>
          <a:stretch/>
        </p:blipFill>
        <p:spPr>
          <a:xfrm>
            <a:off x="2590920" y="1447920"/>
            <a:ext cx="3989160" cy="492912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2" descr="Модель молекулы метана (16605 байт)"/>
          <p:cNvPicPr/>
          <p:nvPr/>
        </p:nvPicPr>
        <p:blipFill>
          <a:blip r:embed="rId2"/>
          <a:stretch/>
        </p:blipFill>
        <p:spPr>
          <a:xfrm>
            <a:off x="0" y="4587840"/>
            <a:ext cx="2362320" cy="18892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Picture 2" descr="Электронные формулы"/>
          <p:cNvPicPr/>
          <p:nvPr/>
        </p:nvPicPr>
        <p:blipFill>
          <a:blip r:embed="rId1"/>
          <a:stretch/>
        </p:blipFill>
        <p:spPr>
          <a:xfrm>
            <a:off x="214200" y="2819520"/>
            <a:ext cx="8929800" cy="187308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обрать модели молеку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Monotype Corsiva"/>
              </a:rPr>
              <a:t>Правило поднятой рук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Picture 5" descr="MPj04393840000[1]"/>
          <p:cNvPicPr/>
          <p:nvPr/>
        </p:nvPicPr>
        <p:blipFill>
          <a:blip r:embed="rId1"/>
          <a:stretch/>
        </p:blipFill>
        <p:spPr>
          <a:xfrm>
            <a:off x="2143080" y="1500120"/>
            <a:ext cx="4407120" cy="41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6" descr="c8190232bb67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0" y="-19080"/>
            <a:ext cx="4572000" cy="687708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7" descr="c8190232bb67"/>
          <p:cNvPicPr/>
          <p:nvPr/>
        </p:nvPicPr>
        <p:blipFill>
          <a:blip r:embed="rId2"/>
          <a:stretch/>
        </p:blipFill>
        <p:spPr>
          <a:xfrm>
            <a:off x="4500720" y="0"/>
            <a:ext cx="4643280" cy="687708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10" descr="lines7"/>
          <p:cNvPicPr/>
          <p:nvPr/>
        </p:nvPicPr>
        <p:blipFill>
          <a:blip r:embed="rId3"/>
          <a:stretch/>
        </p:blipFill>
        <p:spPr>
          <a:xfrm>
            <a:off x="2050920" y="333360"/>
            <a:ext cx="4896000" cy="28728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11" descr="lines7"/>
          <p:cNvPicPr/>
          <p:nvPr/>
        </p:nvPicPr>
        <p:blipFill>
          <a:blip r:embed="rId4"/>
          <a:stretch/>
        </p:blipFill>
        <p:spPr>
          <a:xfrm>
            <a:off x="2124000" y="6093000"/>
            <a:ext cx="4896000" cy="21564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12" descr="lines7"/>
          <p:cNvPicPr/>
          <p:nvPr/>
        </p:nvPicPr>
        <p:blipFill>
          <a:blip r:embed="rId5"/>
          <a:stretch/>
        </p:blipFill>
        <p:spPr>
          <a:xfrm rot="16200000">
            <a:off x="-756360" y="3283200"/>
            <a:ext cx="5832360" cy="21744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13" descr="lines7"/>
          <p:cNvPicPr/>
          <p:nvPr/>
        </p:nvPicPr>
        <p:blipFill>
          <a:blip r:embed="rId6"/>
          <a:stretch/>
        </p:blipFill>
        <p:spPr>
          <a:xfrm rot="5400000">
            <a:off x="4068360" y="3213000"/>
            <a:ext cx="5832720" cy="21600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3" descr="http://347ximij.ucoz.ru/gif/0_a55_ec241af6_L.gif"/>
          <p:cNvPicPr/>
          <p:nvPr/>
        </p:nvPicPr>
        <p:blipFill>
          <a:blip r:embed="rId7"/>
          <a:stretch/>
        </p:blipFill>
        <p:spPr>
          <a:xfrm>
            <a:off x="3124080" y="838080"/>
            <a:ext cx="2619360" cy="359892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2" descr="Электронные формулы"/>
          <p:cNvPicPr/>
          <p:nvPr/>
        </p:nvPicPr>
        <p:blipFill>
          <a:blip r:embed="rId8"/>
          <a:stretch/>
        </p:blipFill>
        <p:spPr>
          <a:xfrm>
            <a:off x="214200" y="4984920"/>
            <a:ext cx="8929800" cy="1873080"/>
          </a:xfrm>
          <a:prstGeom prst="rect">
            <a:avLst/>
          </a:prstGeom>
          <a:ln w="0">
            <a:noFill/>
          </a:ln>
        </p:spPr>
      </p:pic>
      <p:pic>
        <p:nvPicPr>
          <p:cNvPr id="336" name="Anitra's Dance (E.Grieg).mp3" descr=""/>
          <p:cNvPicPr/>
          <p:nvPr/>
        </p:nvPicPr>
        <p:blipFill>
          <a:blip r:embed="rId9"/>
          <a:stretch/>
        </p:blipFill>
        <p:spPr>
          <a:xfrm>
            <a:off x="8534520" y="3049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4" dur="198817" fill="hold"/>
                                        <p:tgtEl>
                                          <p:spTgt spid="3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ам предстоит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Посетить звездную лабораторию или мастерскую молекулярного моделирования и составить модели молекул алкан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Помечтать, глядя в звездное небо и открыть новые созвездия углеводород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8" descr="C:\Documents and Settings\ALL\Мои документы\Мои рисунки\анимация,рис\anim4_3_11.gif"/>
          <p:cNvPicPr/>
          <p:nvPr/>
        </p:nvPicPr>
        <p:blipFill>
          <a:blip r:embed="rId1"/>
          <a:stretch/>
        </p:blipFill>
        <p:spPr>
          <a:xfrm>
            <a:off x="6815160" y="-6480"/>
            <a:ext cx="23353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Picture 2" descr="Электронные формулы"/>
          <p:cNvPicPr/>
          <p:nvPr/>
        </p:nvPicPr>
        <p:blipFill>
          <a:blip r:embed="rId1"/>
          <a:stretch/>
        </p:blipFill>
        <p:spPr>
          <a:xfrm>
            <a:off x="214200" y="428760"/>
            <a:ext cx="8929800" cy="187308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2" descr="Молекула этана  (6651 байт)"/>
          <p:cNvPicPr/>
          <p:nvPr/>
        </p:nvPicPr>
        <p:blipFill>
          <a:blip r:embed="rId2"/>
          <a:stretch/>
        </p:blipFill>
        <p:spPr>
          <a:xfrm>
            <a:off x="2928960" y="3000240"/>
            <a:ext cx="2600280" cy="185760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4" descr="Модели молекулы метана (8503 байт)"/>
          <p:cNvPicPr/>
          <p:nvPr/>
        </p:nvPicPr>
        <p:blipFill>
          <a:blip r:embed="rId3"/>
          <a:srcRect l="0" t="0" r="408" b="420"/>
          <a:stretch/>
        </p:blipFill>
        <p:spPr>
          <a:xfrm>
            <a:off x="500040" y="2928960"/>
            <a:ext cx="1987560" cy="192888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2" descr="Пентан  (13393 байт)"/>
          <p:cNvPicPr/>
          <p:nvPr/>
        </p:nvPicPr>
        <p:blipFill>
          <a:blip r:embed="rId4"/>
          <a:srcRect l="0" t="0" r="98" b="135"/>
          <a:stretch/>
        </p:blipFill>
        <p:spPr>
          <a:xfrm>
            <a:off x="5857920" y="3000240"/>
            <a:ext cx="2571840" cy="185760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4" descr="Модели молекулы метана (8503 байт)"/>
          <p:cNvPicPr/>
          <p:nvPr/>
        </p:nvPicPr>
        <p:blipFill>
          <a:blip r:embed="rId5"/>
          <a:srcRect l="63690" t="59908" r="408" b="2864"/>
          <a:stretch/>
        </p:blipFill>
        <p:spPr>
          <a:xfrm>
            <a:off x="8358120" y="3714840"/>
            <a:ext cx="49680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Picture 2" descr="http://foxtrot.ucoz.ru/1241618485_10.jpeg"/>
          <p:cNvPicPr/>
          <p:nvPr/>
        </p:nvPicPr>
        <p:blipFill>
          <a:blip r:embed="rId1"/>
          <a:stretch/>
        </p:blipFill>
        <p:spPr>
          <a:xfrm>
            <a:off x="0" y="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343" name="TextBox 2"/>
          <p:cNvSpPr/>
          <p:nvPr/>
        </p:nvSpPr>
        <p:spPr>
          <a:xfrm>
            <a:off x="0" y="285840"/>
            <a:ext cx="45720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Monotype Corsiva"/>
              </a:rPr>
              <a:t>Открылась бездна звезд полна</a:t>
            </a:r>
            <a:br>
              <a:rPr sz="4800"/>
            </a:br>
            <a:r>
              <a:rPr b="1" lang="ru-RU" sz="4800" spc="-1" strike="noStrike">
                <a:solidFill>
                  <a:srgbClr val="ffffff"/>
                </a:solidFill>
                <a:latin typeface="Monotype Corsiva"/>
              </a:rPr>
              <a:t>Звездам числа нет, бездне дна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М.В. Ломонос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5000" fill="hold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5000" fill="hold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5000" fill="hold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5000" fill="hold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Picture 2" descr="http://znaite.com.ua/data/178_item_pict_map.jpg"/>
          <p:cNvPicPr/>
          <p:nvPr/>
        </p:nvPicPr>
        <p:blipFill>
          <a:blip r:embed="rId1"/>
          <a:stretch/>
        </p:blipFill>
        <p:spPr>
          <a:xfrm>
            <a:off x="0" y="0"/>
            <a:ext cx="915516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Picture 2" descr="http://my-zodiac.com/libra_animation.gif"/>
          <p:cNvPicPr/>
          <p:nvPr/>
        </p:nvPicPr>
        <p:blipFill>
          <a:blip r:embed="rId1"/>
          <a:stretch/>
        </p:blipFill>
        <p:spPr>
          <a:xfrm>
            <a:off x="1000080" y="428760"/>
            <a:ext cx="6215040" cy="62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Picture 2" descr="http://i058.radikal.ru/0911/cb/d226fc5a5ace.gif"/>
          <p:cNvPicPr/>
          <p:nvPr/>
        </p:nvPicPr>
        <p:blipFill>
          <a:blip r:embed="rId1"/>
          <a:stretch/>
        </p:blipFill>
        <p:spPr>
          <a:xfrm>
            <a:off x="357120" y="214200"/>
            <a:ext cx="8317080" cy="6389640"/>
          </a:xfrm>
          <a:prstGeom prst="rect">
            <a:avLst/>
          </a:prstGeom>
          <a:ln w="0">
            <a:noFill/>
          </a:ln>
        </p:spPr>
      </p:pic>
      <p:sp>
        <p:nvSpPr>
          <p:cNvPr id="347" name="Прямая соединительная линия 3"/>
          <p:cNvSpPr/>
          <p:nvPr/>
        </p:nvSpPr>
        <p:spPr>
          <a:xfrm flipV="1">
            <a:off x="213480" y="3143160"/>
            <a:ext cx="1800" cy="1857600"/>
          </a:xfrm>
          <a:prstGeom prst="line">
            <a:avLst/>
          </a:prstGeom>
          <a:ln w="63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Прямая соединительная линия 6"/>
          <p:cNvSpPr/>
          <p:nvPr/>
        </p:nvSpPr>
        <p:spPr>
          <a:xfrm flipV="1">
            <a:off x="3643200" y="2786040"/>
            <a:ext cx="642960" cy="71424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Прямая соединительная линия 8"/>
          <p:cNvSpPr/>
          <p:nvPr/>
        </p:nvSpPr>
        <p:spPr>
          <a:xfrm flipH="1" flipV="1">
            <a:off x="4359240" y="2857320"/>
            <a:ext cx="712800" cy="85716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Прямая соединительная линия 10"/>
          <p:cNvSpPr/>
          <p:nvPr/>
        </p:nvSpPr>
        <p:spPr>
          <a:xfrm flipV="1">
            <a:off x="4714920" y="3785760"/>
            <a:ext cx="358560" cy="114300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7-конечная звезда 13"/>
          <p:cNvSpPr/>
          <p:nvPr/>
        </p:nvSpPr>
        <p:spPr>
          <a:xfrm>
            <a:off x="4071960" y="2428920"/>
            <a:ext cx="485640" cy="485640"/>
          </a:xfrm>
          <a:prstGeom prst="pie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7-конечная звезда 14"/>
          <p:cNvSpPr/>
          <p:nvPr/>
        </p:nvSpPr>
        <p:spPr>
          <a:xfrm>
            <a:off x="3357720" y="3286080"/>
            <a:ext cx="485640" cy="414360"/>
          </a:xfrm>
          <a:prstGeom prst="pie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7-конечная звезда 15"/>
          <p:cNvSpPr/>
          <p:nvPr/>
        </p:nvSpPr>
        <p:spPr>
          <a:xfrm>
            <a:off x="4929120" y="3357720"/>
            <a:ext cx="500040" cy="485640"/>
          </a:xfrm>
          <a:prstGeom prst="pie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7-конечная звезда 16"/>
          <p:cNvSpPr/>
          <p:nvPr/>
        </p:nvSpPr>
        <p:spPr>
          <a:xfrm>
            <a:off x="3429000" y="5286240"/>
            <a:ext cx="414360" cy="428760"/>
          </a:xfrm>
          <a:prstGeom prst="pie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7-конечная звезда 17"/>
          <p:cNvSpPr/>
          <p:nvPr/>
        </p:nvSpPr>
        <p:spPr>
          <a:xfrm>
            <a:off x="4429080" y="4857840"/>
            <a:ext cx="500040" cy="500040"/>
          </a:xfrm>
          <a:prstGeom prst="pie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Прямая соединительная линия 18"/>
          <p:cNvSpPr/>
          <p:nvPr/>
        </p:nvSpPr>
        <p:spPr>
          <a:xfrm flipV="1">
            <a:off x="3642480" y="3643200"/>
            <a:ext cx="1800" cy="164304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2000"/>
                            </p:stCondLst>
                            <p:childTnLst>
                              <p:par>
                                <p:cTn id="1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2500"/>
                            </p:stCondLst>
                            <p:childTnLst>
                              <p:par>
                                <p:cTn id="1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Picture 2" descr="http://i011.radikal.ru/0805/6a/66a1c00a4c88.jpg"/>
          <p:cNvPicPr/>
          <p:nvPr/>
        </p:nvPicPr>
        <p:blipFill>
          <a:blip r:embed="rId1"/>
          <a:stretch/>
        </p:blipFill>
        <p:spPr>
          <a:xfrm>
            <a:off x="785880" y="428760"/>
            <a:ext cx="7858080" cy="6254640"/>
          </a:xfrm>
          <a:prstGeom prst="rect">
            <a:avLst/>
          </a:prstGeom>
          <a:ln w="0">
            <a:noFill/>
          </a:ln>
        </p:spPr>
      </p:pic>
      <p:sp>
        <p:nvSpPr>
          <p:cNvPr id="358" name="7-конечная звезда 3"/>
          <p:cNvSpPr/>
          <p:nvPr/>
        </p:nvSpPr>
        <p:spPr>
          <a:xfrm>
            <a:off x="1428840" y="4357800"/>
            <a:ext cx="428400" cy="414360"/>
          </a:xfrm>
          <a:prstGeom prst="pie">
            <a:avLst/>
          </a:prstGeom>
          <a:solidFill>
            <a:srgbClr val="ffff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7-конечная звезда 4"/>
          <p:cNvSpPr/>
          <p:nvPr/>
        </p:nvSpPr>
        <p:spPr>
          <a:xfrm>
            <a:off x="2357280" y="3357720"/>
            <a:ext cx="428760" cy="414360"/>
          </a:xfrm>
          <a:prstGeom prst="pie">
            <a:avLst/>
          </a:prstGeom>
          <a:solidFill>
            <a:srgbClr val="ffff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7-конечная звезда 5"/>
          <p:cNvSpPr/>
          <p:nvPr/>
        </p:nvSpPr>
        <p:spPr>
          <a:xfrm>
            <a:off x="3214800" y="3143160"/>
            <a:ext cx="428400" cy="414360"/>
          </a:xfrm>
          <a:prstGeom prst="pie">
            <a:avLst/>
          </a:prstGeom>
          <a:solidFill>
            <a:srgbClr val="ffff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7-конечная звезда 6"/>
          <p:cNvSpPr/>
          <p:nvPr/>
        </p:nvSpPr>
        <p:spPr>
          <a:xfrm>
            <a:off x="4143240" y="2928960"/>
            <a:ext cx="428760" cy="414360"/>
          </a:xfrm>
          <a:prstGeom prst="pie">
            <a:avLst/>
          </a:prstGeom>
          <a:solidFill>
            <a:srgbClr val="ffff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7-конечная звезда 7"/>
          <p:cNvSpPr/>
          <p:nvPr/>
        </p:nvSpPr>
        <p:spPr>
          <a:xfrm>
            <a:off x="4929120" y="3429000"/>
            <a:ext cx="428760" cy="414360"/>
          </a:xfrm>
          <a:prstGeom prst="pie">
            <a:avLst/>
          </a:prstGeom>
          <a:solidFill>
            <a:srgbClr val="ffff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7-конечная звезда 8"/>
          <p:cNvSpPr/>
          <p:nvPr/>
        </p:nvSpPr>
        <p:spPr>
          <a:xfrm>
            <a:off x="6143760" y="2571840"/>
            <a:ext cx="428400" cy="414360"/>
          </a:xfrm>
          <a:prstGeom prst="pie">
            <a:avLst/>
          </a:prstGeom>
          <a:solidFill>
            <a:srgbClr val="ffff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7-конечная звезда 9"/>
          <p:cNvSpPr/>
          <p:nvPr/>
        </p:nvSpPr>
        <p:spPr>
          <a:xfrm>
            <a:off x="5643720" y="1643040"/>
            <a:ext cx="428400" cy="414360"/>
          </a:xfrm>
          <a:prstGeom prst="pie">
            <a:avLst/>
          </a:prstGeom>
          <a:solidFill>
            <a:srgbClr val="ffff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Прямая соединительная линия 11"/>
          <p:cNvSpPr/>
          <p:nvPr/>
        </p:nvSpPr>
        <p:spPr>
          <a:xfrm flipV="1">
            <a:off x="1814400" y="3772080"/>
            <a:ext cx="662040" cy="6681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Прямая соединительная линия 13"/>
          <p:cNvSpPr/>
          <p:nvPr/>
        </p:nvSpPr>
        <p:spPr>
          <a:xfrm flipV="1">
            <a:off x="2786040" y="3409560"/>
            <a:ext cx="428760" cy="1206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Прямая соединительная линия 17"/>
          <p:cNvSpPr/>
          <p:nvPr/>
        </p:nvSpPr>
        <p:spPr>
          <a:xfrm flipV="1">
            <a:off x="3643200" y="3195720"/>
            <a:ext cx="500040" cy="1159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Прямая соединительная линия 19"/>
          <p:cNvSpPr/>
          <p:nvPr/>
        </p:nvSpPr>
        <p:spPr>
          <a:xfrm>
            <a:off x="4572000" y="3195720"/>
            <a:ext cx="399960" cy="3157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Прямая соединительная линия 22"/>
          <p:cNvSpPr/>
          <p:nvPr/>
        </p:nvSpPr>
        <p:spPr>
          <a:xfrm flipV="1">
            <a:off x="5357880" y="2985840"/>
            <a:ext cx="904680" cy="7095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Прямая соединительная линия 25"/>
          <p:cNvSpPr/>
          <p:nvPr/>
        </p:nvSpPr>
        <p:spPr>
          <a:xfrm flipH="1" flipV="1">
            <a:off x="5952600" y="2057400"/>
            <a:ext cx="233640" cy="5968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500"/>
                            </p:stCondLst>
                            <p:childTnLst>
                              <p:par>
                                <p:cTn id="1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Picture 2" descr="http://grigam.narod.ru/planet/kassiop.gif"/>
          <p:cNvPicPr/>
          <p:nvPr/>
        </p:nvPicPr>
        <p:blipFill>
          <a:blip r:embed="rId1"/>
          <a:stretch/>
        </p:blipFill>
        <p:spPr>
          <a:xfrm>
            <a:off x="1357200" y="1000080"/>
            <a:ext cx="6072480" cy="5518080"/>
          </a:xfrm>
          <a:prstGeom prst="rect">
            <a:avLst/>
          </a:prstGeom>
          <a:ln w="0">
            <a:noFill/>
          </a:ln>
        </p:spPr>
      </p:pic>
      <p:sp>
        <p:nvSpPr>
          <p:cNvPr id="372" name="Прямая соединительная линия 3"/>
          <p:cNvSpPr/>
          <p:nvPr/>
        </p:nvSpPr>
        <p:spPr>
          <a:xfrm flipV="1">
            <a:off x="2857680" y="4572000"/>
            <a:ext cx="1000080" cy="7128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Прямая соединительная линия 4"/>
          <p:cNvSpPr/>
          <p:nvPr/>
        </p:nvSpPr>
        <p:spPr>
          <a:xfrm flipV="1">
            <a:off x="4000680" y="3857760"/>
            <a:ext cx="71280" cy="64296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Прямая соединительная линия 6"/>
          <p:cNvSpPr/>
          <p:nvPr/>
        </p:nvSpPr>
        <p:spPr>
          <a:xfrm flipV="1">
            <a:off x="4357800" y="3571920"/>
            <a:ext cx="857160" cy="7128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Прямая соединительная линия 9"/>
          <p:cNvSpPr/>
          <p:nvPr/>
        </p:nvSpPr>
        <p:spPr>
          <a:xfrm flipH="1" flipV="1">
            <a:off x="4929120" y="2428920"/>
            <a:ext cx="357120" cy="100008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Прямая соединительная линия 11"/>
          <p:cNvSpPr/>
          <p:nvPr/>
        </p:nvSpPr>
        <p:spPr>
          <a:xfrm flipV="1">
            <a:off x="5000760" y="2000160"/>
            <a:ext cx="571320" cy="28584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Picture 10" descr="backgrounds_00043"/>
          <p:cNvPicPr/>
          <p:nvPr/>
        </p:nvPicPr>
        <p:blipFill>
          <a:blip r:embed="rId1"/>
          <a:stretch/>
        </p:blipFill>
        <p:spPr>
          <a:xfrm>
            <a:off x="-609480" y="0"/>
            <a:ext cx="9753480" cy="8799480"/>
          </a:xfrm>
          <a:prstGeom prst="rect">
            <a:avLst/>
          </a:prstGeom>
          <a:ln w="0">
            <a:noFill/>
          </a:ln>
        </p:spPr>
      </p:pic>
      <p:sp>
        <p:nvSpPr>
          <p:cNvPr id="378" name="WordArt 9"/>
          <p:cNvSpPr txBox="1"/>
          <p:nvPr/>
        </p:nvSpPr>
        <p:spPr>
          <a:xfrm>
            <a:off x="1447920" y="1981080"/>
            <a:ext cx="6933960" cy="20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28440">
                  <a:solidFill>
                    <a:srgbClr val="d60093"/>
                  </a:solidFill>
                  <a:miter/>
                </a:ln>
                <a:blipFill rotWithShape="0">
                  <a:blip r:embed="rId2">
                    <a:alphaModFix amt="50000"/>
                  </a:blip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9999ff"/>
                  </a:outerShdw>
                </a:effectLst>
                <a:latin typeface="Comic Sans MS"/>
              </a:rPr>
              <a:t>Найди созвездие!</a:t>
            </a:r>
            <a:endParaRPr b="1" i="1" lang="en-US" sz="1800" spc="1" strike="noStrike">
              <a:ln w="28440">
                <a:solidFill>
                  <a:srgbClr val="d60093"/>
                </a:solidFill>
                <a:miter/>
              </a:ln>
              <a:blipFill rotWithShape="0">
                <a:blip r:embed="rId3">
                  <a:alphaModFix amt="50000"/>
                </a:blip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379" name="Picture 10" descr="CAWW6W9G"/>
          <p:cNvPicPr/>
          <p:nvPr/>
        </p:nvPicPr>
        <p:blipFill>
          <a:blip r:embed="rId4"/>
          <a:stretch/>
        </p:blipFill>
        <p:spPr>
          <a:xfrm>
            <a:off x="3352680" y="3276720"/>
            <a:ext cx="3124440" cy="28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1"/>
          <p:cNvSpPr/>
          <p:nvPr/>
        </p:nvSpPr>
        <p:spPr>
          <a:xfrm>
            <a:off x="228600" y="410760"/>
            <a:ext cx="8381880" cy="479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СН</a:t>
            </a:r>
            <a:r>
              <a:rPr b="1" lang="ru-RU" sz="40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3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     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СН</a:t>
            </a:r>
            <a:r>
              <a:rPr b="1" lang="ru-RU" sz="40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3</a:t>
            </a:r>
            <a:r>
              <a:rPr b="1" lang="ru-RU" sz="40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  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  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СН</a:t>
            </a:r>
            <a:r>
              <a:rPr b="1" lang="ru-RU" sz="40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2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    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СН</a:t>
            </a:r>
            <a:r>
              <a:rPr b="1" lang="ru-RU" sz="40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                        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СН</a:t>
            </a:r>
            <a:r>
              <a:rPr b="1" lang="ru-RU" sz="40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2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     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  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СН</a:t>
            </a:r>
            <a:r>
              <a:rPr b="1" lang="ru-RU" sz="40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2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    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СН</a:t>
            </a:r>
            <a:r>
              <a:rPr b="1" lang="ru-RU" sz="40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3</a:t>
            </a:r>
            <a:r>
              <a:rPr b="1" lang="ru-RU" sz="40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   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С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СН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      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СН</a:t>
            </a:r>
            <a:r>
              <a:rPr b="1" lang="ru-RU" sz="40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3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    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 С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       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СН</a:t>
            </a:r>
            <a:r>
              <a:rPr b="1" lang="ru-RU" sz="40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3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СН</a:t>
            </a:r>
            <a:r>
              <a:rPr b="1" lang="ru-RU" sz="40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3</a:t>
            </a:r>
            <a:r>
              <a:rPr b="1" lang="ru-RU" sz="40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  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   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СН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      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СН</a:t>
            </a:r>
            <a:r>
              <a:rPr b="1" lang="ru-RU" sz="40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3</a:t>
            </a:r>
            <a:r>
              <a:rPr b="1" lang="ru-RU" sz="40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  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СН</a:t>
            </a:r>
            <a:r>
              <a:rPr b="1" lang="ru-RU" sz="40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2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1"/>
          <p:cNvSpPr/>
          <p:nvPr/>
        </p:nvSpPr>
        <p:spPr>
          <a:xfrm>
            <a:off x="228600" y="392400"/>
            <a:ext cx="8381880" cy="52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СН</a:t>
            </a:r>
            <a:r>
              <a:rPr b="1" lang="ru-RU" sz="4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        СН</a:t>
            </a:r>
            <a:r>
              <a:rPr b="1" lang="ru-RU" sz="4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  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    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СН</a:t>
            </a:r>
            <a:r>
              <a:rPr b="1" lang="ru-RU" sz="4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       СН</a:t>
            </a:r>
            <a:r>
              <a:rPr b="1" lang="ru-RU" sz="4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                            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 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СН</a:t>
            </a:r>
            <a:r>
              <a:rPr b="1" lang="ru-RU" sz="4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       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СН</a:t>
            </a:r>
            <a:r>
              <a:rPr b="1" lang="ru-RU" sz="4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       СН</a:t>
            </a:r>
            <a:r>
              <a:rPr b="1" lang="ru-RU" sz="4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 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      С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 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СН         СН</a:t>
            </a:r>
            <a:r>
              <a:rPr b="1" lang="ru-RU" sz="4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          С          СН</a:t>
            </a:r>
            <a:r>
              <a:rPr b="1" lang="ru-RU" sz="4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 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СН</a:t>
            </a:r>
            <a:r>
              <a:rPr b="1" lang="ru-RU" sz="4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  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      СН         СН</a:t>
            </a:r>
            <a:r>
              <a:rPr b="1" lang="ru-RU" sz="4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 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     СН</a:t>
            </a:r>
            <a:r>
              <a:rPr b="1" lang="ru-RU" sz="4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Прямая соединительная линия 10"/>
          <p:cNvSpPr/>
          <p:nvPr/>
        </p:nvSpPr>
        <p:spPr>
          <a:xfrm flipH="1">
            <a:off x="1065240" y="1295280"/>
            <a:ext cx="1440" cy="83988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Прямая соединительная линия 13"/>
          <p:cNvSpPr/>
          <p:nvPr/>
        </p:nvSpPr>
        <p:spPr>
          <a:xfrm flipH="1">
            <a:off x="1064880" y="2211480"/>
            <a:ext cx="3240" cy="144756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Прямая соединительная линия 15"/>
          <p:cNvSpPr/>
          <p:nvPr/>
        </p:nvSpPr>
        <p:spPr>
          <a:xfrm>
            <a:off x="1143000" y="3733920"/>
            <a:ext cx="1752480" cy="144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Прямая соединительная линия 17"/>
          <p:cNvSpPr/>
          <p:nvPr/>
        </p:nvSpPr>
        <p:spPr>
          <a:xfrm flipH="1">
            <a:off x="1141560" y="3735360"/>
            <a:ext cx="2880" cy="129528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Box 18"/>
          <p:cNvSpPr/>
          <p:nvPr/>
        </p:nvSpPr>
        <p:spPr>
          <a:xfrm>
            <a:off x="852120" y="5943600"/>
            <a:ext cx="336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Arial"/>
              </a:rPr>
              <a:t>2 метил бута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Химическое лот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1523880" y="1397160"/>
          <a:ext cx="6096240" cy="5029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Алканы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Алкены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Алкины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1"/>
          <p:cNvSpPr/>
          <p:nvPr/>
        </p:nvSpPr>
        <p:spPr>
          <a:xfrm>
            <a:off x="228600" y="410760"/>
            <a:ext cx="8381880" cy="479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СН</a:t>
            </a:r>
            <a:r>
              <a:rPr b="1" lang="ru-RU" sz="40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3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     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СН</a:t>
            </a:r>
            <a:r>
              <a:rPr b="1" lang="ru-RU" sz="40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3</a:t>
            </a:r>
            <a:r>
              <a:rPr b="1" lang="ru-RU" sz="40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  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  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СН</a:t>
            </a:r>
            <a:r>
              <a:rPr b="1" lang="ru-RU" sz="40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2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    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СН</a:t>
            </a:r>
            <a:r>
              <a:rPr b="1" lang="ru-RU" sz="40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                        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СН</a:t>
            </a:r>
            <a:r>
              <a:rPr b="1" lang="ru-RU" sz="40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2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     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  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СН</a:t>
            </a:r>
            <a:r>
              <a:rPr b="1" lang="ru-RU" sz="40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2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    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СН</a:t>
            </a:r>
            <a:r>
              <a:rPr b="1" lang="ru-RU" sz="40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3</a:t>
            </a:r>
            <a:r>
              <a:rPr b="1" lang="ru-RU" sz="40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   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С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СН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      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СН</a:t>
            </a:r>
            <a:r>
              <a:rPr b="1" lang="ru-RU" sz="40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3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    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 С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       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СН</a:t>
            </a:r>
            <a:r>
              <a:rPr b="1" lang="ru-RU" sz="40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3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СН</a:t>
            </a:r>
            <a:r>
              <a:rPr b="1" lang="ru-RU" sz="40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3</a:t>
            </a:r>
            <a:r>
              <a:rPr b="1" lang="ru-RU" sz="40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  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   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СН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      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СН</a:t>
            </a:r>
            <a:r>
              <a:rPr b="1" lang="ru-RU" sz="40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3</a:t>
            </a:r>
            <a:r>
              <a:rPr b="1" lang="ru-RU" sz="40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  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СН</a:t>
            </a:r>
            <a:r>
              <a:rPr b="1" lang="ru-RU" sz="40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2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Прямая соединительная линия 3"/>
          <p:cNvSpPr/>
          <p:nvPr/>
        </p:nvSpPr>
        <p:spPr>
          <a:xfrm flipH="1">
            <a:off x="1827360" y="1220760"/>
            <a:ext cx="2880" cy="106668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Прямая соединительная линия 5"/>
          <p:cNvSpPr/>
          <p:nvPr/>
        </p:nvSpPr>
        <p:spPr>
          <a:xfrm>
            <a:off x="1828800" y="2286000"/>
            <a:ext cx="2133720" cy="144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Прямая соединительная линия 7"/>
          <p:cNvSpPr/>
          <p:nvPr/>
        </p:nvSpPr>
        <p:spPr>
          <a:xfrm>
            <a:off x="3886200" y="2286000"/>
            <a:ext cx="1371600" cy="144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Box 9"/>
          <p:cNvSpPr/>
          <p:nvPr/>
        </p:nvSpPr>
        <p:spPr>
          <a:xfrm>
            <a:off x="1683000" y="6019920"/>
            <a:ext cx="132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бута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1"/>
          <p:cNvSpPr/>
          <p:nvPr/>
        </p:nvSpPr>
        <p:spPr>
          <a:xfrm>
            <a:off x="228600" y="410760"/>
            <a:ext cx="8381880" cy="479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СН</a:t>
            </a:r>
            <a:r>
              <a:rPr b="1" lang="ru-RU" sz="40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3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     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СН</a:t>
            </a:r>
            <a:r>
              <a:rPr b="1" lang="ru-RU" sz="40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3</a:t>
            </a:r>
            <a:r>
              <a:rPr b="1" lang="ru-RU" sz="40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  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  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СН</a:t>
            </a:r>
            <a:r>
              <a:rPr b="1" lang="ru-RU" sz="40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2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    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СН</a:t>
            </a:r>
            <a:r>
              <a:rPr b="1" lang="ru-RU" sz="40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                        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СН</a:t>
            </a:r>
            <a:r>
              <a:rPr b="1" lang="ru-RU" sz="40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2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     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  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СН</a:t>
            </a:r>
            <a:r>
              <a:rPr b="1" lang="ru-RU" sz="40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2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    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СН</a:t>
            </a:r>
            <a:r>
              <a:rPr b="1" lang="ru-RU" sz="40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3</a:t>
            </a:r>
            <a:r>
              <a:rPr b="1" lang="ru-RU" sz="40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   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С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СН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      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СН</a:t>
            </a:r>
            <a:r>
              <a:rPr b="1" lang="ru-RU" sz="40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3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    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 С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       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СН</a:t>
            </a:r>
            <a:r>
              <a:rPr b="1" lang="ru-RU" sz="40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3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СН</a:t>
            </a:r>
            <a:r>
              <a:rPr b="1" lang="ru-RU" sz="40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3</a:t>
            </a:r>
            <a:r>
              <a:rPr b="1" lang="ru-RU" sz="40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  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   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СН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      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СН</a:t>
            </a:r>
            <a:r>
              <a:rPr b="1" lang="ru-RU" sz="40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3</a:t>
            </a:r>
            <a:r>
              <a:rPr b="1" lang="ru-RU" sz="40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  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СН</a:t>
            </a:r>
            <a:r>
              <a:rPr b="1" lang="ru-RU" sz="40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2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Прямая соединительная линия 3"/>
          <p:cNvSpPr/>
          <p:nvPr/>
        </p:nvSpPr>
        <p:spPr>
          <a:xfrm>
            <a:off x="3733920" y="990720"/>
            <a:ext cx="1676160" cy="144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Прямая соединительная линия 5"/>
          <p:cNvSpPr/>
          <p:nvPr/>
        </p:nvSpPr>
        <p:spPr>
          <a:xfrm>
            <a:off x="5410080" y="990720"/>
            <a:ext cx="1371600" cy="144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Прямая соединительная линия 7"/>
          <p:cNvSpPr/>
          <p:nvPr/>
        </p:nvSpPr>
        <p:spPr>
          <a:xfrm>
            <a:off x="6781680" y="1066680"/>
            <a:ext cx="76320" cy="114300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Прямая соединительная линия 9"/>
          <p:cNvSpPr/>
          <p:nvPr/>
        </p:nvSpPr>
        <p:spPr>
          <a:xfrm flipH="1" flipV="1">
            <a:off x="5562720" y="2209320"/>
            <a:ext cx="1295280" cy="180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Прямая соединительная линия 11"/>
          <p:cNvSpPr/>
          <p:nvPr/>
        </p:nvSpPr>
        <p:spPr>
          <a:xfrm flipH="1">
            <a:off x="6856560" y="2287440"/>
            <a:ext cx="2880" cy="99072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Box 12"/>
          <p:cNvSpPr/>
          <p:nvPr/>
        </p:nvSpPr>
        <p:spPr>
          <a:xfrm>
            <a:off x="1460160" y="6019920"/>
            <a:ext cx="327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2-метил пента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1"/>
          <p:cNvSpPr/>
          <p:nvPr/>
        </p:nvSpPr>
        <p:spPr>
          <a:xfrm>
            <a:off x="228600" y="410760"/>
            <a:ext cx="8381880" cy="479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СН</a:t>
            </a:r>
            <a:r>
              <a:rPr b="1" lang="ru-RU" sz="40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3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     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СН</a:t>
            </a:r>
            <a:r>
              <a:rPr b="1" lang="ru-RU" sz="40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3</a:t>
            </a:r>
            <a:r>
              <a:rPr b="1" lang="ru-RU" sz="40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  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  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СН</a:t>
            </a:r>
            <a:r>
              <a:rPr b="1" lang="ru-RU" sz="40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2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    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СН</a:t>
            </a:r>
            <a:r>
              <a:rPr b="1" lang="ru-RU" sz="40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                        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СН</a:t>
            </a:r>
            <a:r>
              <a:rPr b="1" lang="ru-RU" sz="40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2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     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  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СН</a:t>
            </a:r>
            <a:r>
              <a:rPr b="1" lang="ru-RU" sz="40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2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    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СН</a:t>
            </a:r>
            <a:r>
              <a:rPr b="1" lang="ru-RU" sz="40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3</a:t>
            </a:r>
            <a:r>
              <a:rPr b="1" lang="ru-RU" sz="40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   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С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СН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      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СН</a:t>
            </a:r>
            <a:r>
              <a:rPr b="1" lang="ru-RU" sz="40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3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    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 С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       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СН</a:t>
            </a:r>
            <a:r>
              <a:rPr b="1" lang="ru-RU" sz="40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3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СН</a:t>
            </a:r>
            <a:r>
              <a:rPr b="1" lang="ru-RU" sz="40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3</a:t>
            </a:r>
            <a:r>
              <a:rPr b="1" lang="ru-RU" sz="40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  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   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СН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      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СН</a:t>
            </a:r>
            <a:r>
              <a:rPr b="1" lang="ru-RU" sz="40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3</a:t>
            </a:r>
            <a:r>
              <a:rPr b="1" lang="ru-RU" sz="40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  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СН</a:t>
            </a:r>
            <a:r>
              <a:rPr b="1" lang="ru-RU" sz="40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2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Прямая соединительная линия 3"/>
          <p:cNvSpPr/>
          <p:nvPr/>
        </p:nvSpPr>
        <p:spPr>
          <a:xfrm>
            <a:off x="5333400" y="2286000"/>
            <a:ext cx="75960" cy="121932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Прямая соединительная линия 5"/>
          <p:cNvSpPr/>
          <p:nvPr/>
        </p:nvSpPr>
        <p:spPr>
          <a:xfrm>
            <a:off x="5334120" y="3429000"/>
            <a:ext cx="1523880" cy="144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Прямая соединительная линия 7"/>
          <p:cNvSpPr/>
          <p:nvPr/>
        </p:nvSpPr>
        <p:spPr>
          <a:xfrm>
            <a:off x="3886200" y="3429000"/>
            <a:ext cx="1447920" cy="144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Прямая соединительная линия 9"/>
          <p:cNvSpPr/>
          <p:nvPr/>
        </p:nvSpPr>
        <p:spPr>
          <a:xfrm flipH="1">
            <a:off x="5408280" y="3430440"/>
            <a:ext cx="3240" cy="114300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Box 13"/>
          <p:cNvSpPr/>
          <p:nvPr/>
        </p:nvSpPr>
        <p:spPr>
          <a:xfrm>
            <a:off x="1238760" y="5715000"/>
            <a:ext cx="378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2,2-диметил пропан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1"/>
          <p:cNvSpPr/>
          <p:nvPr/>
        </p:nvSpPr>
        <p:spPr>
          <a:xfrm>
            <a:off x="228600" y="410760"/>
            <a:ext cx="8381880" cy="479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СН</a:t>
            </a:r>
            <a:r>
              <a:rPr b="1" lang="ru-RU" sz="40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3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     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СН</a:t>
            </a:r>
            <a:r>
              <a:rPr b="1" lang="ru-RU" sz="40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3</a:t>
            </a:r>
            <a:r>
              <a:rPr b="1" lang="ru-RU" sz="40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  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  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СН</a:t>
            </a:r>
            <a:r>
              <a:rPr b="1" lang="ru-RU" sz="40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2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    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СН</a:t>
            </a:r>
            <a:r>
              <a:rPr b="1" lang="ru-RU" sz="40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                        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СН</a:t>
            </a:r>
            <a:r>
              <a:rPr b="1" lang="ru-RU" sz="40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2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     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  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СН</a:t>
            </a:r>
            <a:r>
              <a:rPr b="1" lang="ru-RU" sz="40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2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    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СН</a:t>
            </a:r>
            <a:r>
              <a:rPr b="1" lang="ru-RU" sz="40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3</a:t>
            </a:r>
            <a:r>
              <a:rPr b="1" lang="ru-RU" sz="40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   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С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СН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      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СН</a:t>
            </a:r>
            <a:r>
              <a:rPr b="1" lang="ru-RU" sz="40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3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    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 С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       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СН</a:t>
            </a:r>
            <a:r>
              <a:rPr b="1" lang="ru-RU" sz="40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3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СН</a:t>
            </a:r>
            <a:r>
              <a:rPr b="1" lang="ru-RU" sz="40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3</a:t>
            </a:r>
            <a:r>
              <a:rPr b="1" lang="ru-RU" sz="40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  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   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СН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      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СН</a:t>
            </a:r>
            <a:r>
              <a:rPr b="1" lang="ru-RU" sz="40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3</a:t>
            </a:r>
            <a:r>
              <a:rPr b="1" lang="ru-RU" sz="40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  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СН</a:t>
            </a:r>
            <a:r>
              <a:rPr b="1" lang="ru-RU" sz="40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2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Прямая соединительная линия 3"/>
          <p:cNvSpPr/>
          <p:nvPr/>
        </p:nvSpPr>
        <p:spPr>
          <a:xfrm>
            <a:off x="2133720" y="4648320"/>
            <a:ext cx="1447560" cy="144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Прямая соединительная линия 5"/>
          <p:cNvSpPr/>
          <p:nvPr/>
        </p:nvSpPr>
        <p:spPr>
          <a:xfrm flipV="1">
            <a:off x="3656160" y="3659040"/>
            <a:ext cx="2880" cy="99072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Прямая соединительная линия 7"/>
          <p:cNvSpPr/>
          <p:nvPr/>
        </p:nvSpPr>
        <p:spPr>
          <a:xfrm>
            <a:off x="3657600" y="4648320"/>
            <a:ext cx="1600200" cy="7596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Box 10"/>
          <p:cNvSpPr/>
          <p:nvPr/>
        </p:nvSpPr>
        <p:spPr>
          <a:xfrm>
            <a:off x="850320" y="5867280"/>
            <a:ext cx="334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2-метил пропа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1"/>
          <p:cNvSpPr/>
          <p:nvPr/>
        </p:nvSpPr>
        <p:spPr>
          <a:xfrm>
            <a:off x="228600" y="410760"/>
            <a:ext cx="8381880" cy="479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СН</a:t>
            </a:r>
            <a:r>
              <a:rPr b="1" lang="ru-RU" sz="40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3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     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СН</a:t>
            </a:r>
            <a:r>
              <a:rPr b="1" lang="ru-RU" sz="40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3</a:t>
            </a:r>
            <a:r>
              <a:rPr b="1" lang="ru-RU" sz="40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  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  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СН</a:t>
            </a:r>
            <a:r>
              <a:rPr b="1" lang="ru-RU" sz="40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2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    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СН</a:t>
            </a:r>
            <a:r>
              <a:rPr b="1" lang="ru-RU" sz="40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                        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СН</a:t>
            </a:r>
            <a:r>
              <a:rPr b="1" lang="ru-RU" sz="40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2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     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  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СН</a:t>
            </a:r>
            <a:r>
              <a:rPr b="1" lang="ru-RU" sz="40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2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    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СН</a:t>
            </a:r>
            <a:r>
              <a:rPr b="1" lang="ru-RU" sz="40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3</a:t>
            </a:r>
            <a:r>
              <a:rPr b="1" lang="ru-RU" sz="40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   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С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СН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      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СН</a:t>
            </a:r>
            <a:r>
              <a:rPr b="1" lang="ru-RU" sz="40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3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    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 С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       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СН</a:t>
            </a:r>
            <a:r>
              <a:rPr b="1" lang="ru-RU" sz="40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3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СН</a:t>
            </a:r>
            <a:r>
              <a:rPr b="1" lang="ru-RU" sz="40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3</a:t>
            </a:r>
            <a:r>
              <a:rPr b="1" lang="ru-RU" sz="40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  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   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СН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      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СН</a:t>
            </a:r>
            <a:r>
              <a:rPr b="1" lang="ru-RU" sz="40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3</a:t>
            </a:r>
            <a:r>
              <a:rPr b="1" lang="ru-RU" sz="40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  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СН</a:t>
            </a:r>
            <a:r>
              <a:rPr b="1" lang="ru-RU" sz="40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2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Прямая соединительная линия 9"/>
          <p:cNvSpPr/>
          <p:nvPr/>
        </p:nvSpPr>
        <p:spPr>
          <a:xfrm flipV="1">
            <a:off x="5334120" y="4724280"/>
            <a:ext cx="1600200" cy="7632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Прямая соединительная линия 11"/>
          <p:cNvSpPr/>
          <p:nvPr/>
        </p:nvSpPr>
        <p:spPr>
          <a:xfrm flipH="1">
            <a:off x="6856560" y="3583080"/>
            <a:ext cx="2880" cy="121896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Box 14"/>
          <p:cNvSpPr/>
          <p:nvPr/>
        </p:nvSpPr>
        <p:spPr>
          <a:xfrm>
            <a:off x="1686960" y="6019920"/>
            <a:ext cx="1820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Arial"/>
              </a:rPr>
              <a:t>пропа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503280" y="499680"/>
            <a:ext cx="818352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900" spc="-1" strike="noStrike">
                <a:solidFill>
                  <a:srgbClr val="c00000"/>
                </a:solidFill>
                <a:latin typeface="Arial"/>
              </a:rPr>
              <a:t>Рефлексия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5" name="Object 2" descr=""/>
          <p:cNvPicPr/>
          <p:nvPr/>
        </p:nvPicPr>
        <p:blipFill>
          <a:blip r:embed="rId1"/>
          <a:stretch/>
        </p:blipFill>
        <p:spPr>
          <a:xfrm>
            <a:off x="3500280" y="1214280"/>
            <a:ext cx="2468880" cy="5440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 txBox="1"/>
          <p:nvPr/>
        </p:nvSpPr>
        <p:spPr>
          <a:xfrm>
            <a:off x="499680" y="1143000"/>
            <a:ext cx="828684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Терпение и труд  всё перетру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Arial"/>
              </a:rPr>
              <a:t>Тяжело в учении – легко в бо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Плох тот солдат, который не мечтает стать генерал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Arial"/>
              </a:rPr>
              <a:t>Человек должен верить, что непонятное можно понять: иначе он не стал бы размышлять о н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Arial"/>
              </a:rPr>
              <a:t>Единственный путь, ведущий к знанию, - это деятельнос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Arial"/>
              </a:rPr>
              <a:t>Подведение итог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8" name="Picture 4" descr="C:\Documents and Settings\ALL\Application Data\Microsoft\Media Catalog\Downloaded Clips\cl71\j0283833.gif"/>
          <p:cNvPicPr/>
          <p:nvPr/>
        </p:nvPicPr>
        <p:blipFill>
          <a:blip r:embed="rId1"/>
          <a:stretch/>
        </p:blipFill>
        <p:spPr>
          <a:xfrm>
            <a:off x="304920" y="243828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9" descr="C:\Documents and Settings\ALL\Application Data\Microsoft\Media Catalog\Downloaded Clips\cl71\j0283839.gif"/>
          <p:cNvPicPr/>
          <p:nvPr/>
        </p:nvPicPr>
        <p:blipFill>
          <a:blip r:embed="rId2"/>
          <a:stretch/>
        </p:blipFill>
        <p:spPr>
          <a:xfrm>
            <a:off x="3581280" y="2209680"/>
            <a:ext cx="2743200" cy="228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Picture 2" descr="MCj04244740000[1]"/>
          <p:cNvPicPr/>
          <p:nvPr/>
        </p:nvPicPr>
        <p:blipFill>
          <a:blip r:embed="rId1"/>
          <a:stretch/>
        </p:blipFill>
        <p:spPr>
          <a:xfrm>
            <a:off x="357120" y="428760"/>
            <a:ext cx="1752840" cy="185076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3" descr="MCj04244700000[1]"/>
          <p:cNvPicPr/>
          <p:nvPr/>
        </p:nvPicPr>
        <p:blipFill>
          <a:blip r:embed="rId2"/>
          <a:stretch/>
        </p:blipFill>
        <p:spPr>
          <a:xfrm>
            <a:off x="3857760" y="1357200"/>
            <a:ext cx="1952640" cy="182880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6" descr="MCj04244800000[1]"/>
          <p:cNvPicPr/>
          <p:nvPr/>
        </p:nvPicPr>
        <p:blipFill>
          <a:blip r:embed="rId3"/>
          <a:stretch/>
        </p:blipFill>
        <p:spPr>
          <a:xfrm>
            <a:off x="2428920" y="4143240"/>
            <a:ext cx="1790640" cy="188928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7" descr="MCj04244920000[1]"/>
          <p:cNvPicPr/>
          <p:nvPr/>
        </p:nvPicPr>
        <p:blipFill>
          <a:blip r:embed="rId4"/>
          <a:stretch/>
        </p:blipFill>
        <p:spPr>
          <a:xfrm>
            <a:off x="5786280" y="2643120"/>
            <a:ext cx="3097440" cy="186372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8" descr="MCj04244460000[1]"/>
          <p:cNvPicPr/>
          <p:nvPr/>
        </p:nvPicPr>
        <p:blipFill>
          <a:blip r:embed="rId5"/>
          <a:stretch/>
        </p:blipFill>
        <p:spPr>
          <a:xfrm>
            <a:off x="642960" y="2571840"/>
            <a:ext cx="3276720" cy="159048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9" descr="MCj04244620000[1]"/>
          <p:cNvPicPr/>
          <p:nvPr/>
        </p:nvPicPr>
        <p:blipFill>
          <a:blip r:embed="rId6"/>
          <a:stretch/>
        </p:blipFill>
        <p:spPr>
          <a:xfrm>
            <a:off x="4714920" y="4143240"/>
            <a:ext cx="1870200" cy="1851120"/>
          </a:xfrm>
          <a:prstGeom prst="rect">
            <a:avLst/>
          </a:prstGeom>
          <a:ln w="0">
            <a:noFill/>
          </a:ln>
        </p:spPr>
      </p:pic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03280" y="499680"/>
            <a:ext cx="818352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c00000"/>
                </a:solidFill>
                <a:latin typeface="Monotype Corsiva"/>
              </a:rPr>
              <a:t>Мое настроение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Picture 4" descr="MCj04244660000[1]"/>
          <p:cNvPicPr/>
          <p:nvPr/>
        </p:nvPicPr>
        <p:blipFill>
          <a:blip r:embed="rId7"/>
          <a:stretch/>
        </p:blipFill>
        <p:spPr>
          <a:xfrm>
            <a:off x="6838920" y="357120"/>
            <a:ext cx="2305080" cy="198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Object 3" descr=""/>
          <p:cNvPicPr/>
          <p:nvPr/>
        </p:nvPicPr>
        <p:blipFill>
          <a:blip r:embed="rId1"/>
          <a:stretch/>
        </p:blipFill>
        <p:spPr>
          <a:xfrm>
            <a:off x="2500200" y="714240"/>
            <a:ext cx="4275360" cy="5229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Химическое лот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9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Arial"/>
              </a:rPr>
              <a:t>С</a:t>
            </a:r>
            <a:r>
              <a:rPr b="1" lang="en-US" sz="3600" spc="-1" strike="noStrike" baseline="-25000">
                <a:solidFill>
                  <a:srgbClr val="000066"/>
                </a:solidFill>
                <a:latin typeface="Arial"/>
              </a:rPr>
              <a:t>n</a:t>
            </a: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H</a:t>
            </a:r>
            <a:r>
              <a:rPr b="1" lang="en-US" sz="3600" spc="-1" strike="noStrike" baseline="-25000">
                <a:solidFill>
                  <a:srgbClr val="000066"/>
                </a:solidFill>
                <a:latin typeface="Arial"/>
              </a:rPr>
              <a:t>2n</a:t>
            </a: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1" lang="en-US" sz="3600" spc="-1" strike="noStrike">
                <a:solidFill>
                  <a:srgbClr val="c00000"/>
                </a:solidFill>
                <a:latin typeface="Arial"/>
              </a:rPr>
              <a:t>C</a:t>
            </a:r>
            <a:r>
              <a:rPr b="1" lang="en-US" sz="3600" spc="-1" strike="noStrike" baseline="-25000">
                <a:solidFill>
                  <a:srgbClr val="c00000"/>
                </a:solidFill>
                <a:latin typeface="Arial"/>
              </a:rPr>
              <a:t>n</a:t>
            </a:r>
            <a:r>
              <a:rPr b="1" lang="en-US" sz="3600" spc="-1" strike="noStrike">
                <a:solidFill>
                  <a:srgbClr val="c00000"/>
                </a:solidFill>
                <a:latin typeface="Arial"/>
              </a:rPr>
              <a:t>H</a:t>
            </a:r>
            <a:r>
              <a:rPr b="1" lang="en-US" sz="3600" spc="-1" strike="noStrike" baseline="-25000">
                <a:solidFill>
                  <a:srgbClr val="c00000"/>
                </a:solidFill>
                <a:latin typeface="Arial"/>
              </a:rPr>
              <a:t>2n-2</a:t>
            </a: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1" lang="en-US" sz="3600" spc="-1" strike="noStrike">
                <a:solidFill>
                  <a:srgbClr val="996633"/>
                </a:solidFill>
                <a:latin typeface="Arial"/>
              </a:rPr>
              <a:t>C</a:t>
            </a:r>
            <a:r>
              <a:rPr b="1" lang="en-US" sz="3600" spc="-1" strike="noStrike" baseline="-25000">
                <a:solidFill>
                  <a:srgbClr val="996633"/>
                </a:solidFill>
                <a:latin typeface="Arial"/>
              </a:rPr>
              <a:t>n</a:t>
            </a:r>
            <a:r>
              <a:rPr b="1" lang="en-US" sz="3600" spc="-1" strike="noStrike">
                <a:solidFill>
                  <a:srgbClr val="996633"/>
                </a:solidFill>
                <a:latin typeface="Arial"/>
              </a:rPr>
              <a:t>H</a:t>
            </a:r>
            <a:r>
              <a:rPr b="1" lang="en-US" sz="3600" spc="-1" strike="noStrike" baseline="-25000">
                <a:solidFill>
                  <a:srgbClr val="996633"/>
                </a:solidFill>
                <a:latin typeface="Arial"/>
              </a:rPr>
              <a:t>2n+2</a:t>
            </a:r>
            <a:r>
              <a:rPr b="1" lang="en-US" sz="3600" spc="-1" strike="noStrike">
                <a:solidFill>
                  <a:srgbClr val="996633"/>
                </a:solidFill>
                <a:latin typeface="Arial"/>
              </a:rPr>
              <a:t>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901"/>
              </a:spcBef>
              <a:buClr>
                <a:srgbClr val="ff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ff"/>
                </a:solidFill>
                <a:latin typeface="Arial"/>
              </a:rPr>
              <a:t>CH</a:t>
            </a:r>
            <a:r>
              <a:rPr b="1" lang="en-US" sz="3600" spc="-1" strike="noStrike" baseline="-25000">
                <a:solidFill>
                  <a:srgbClr val="ff66ff"/>
                </a:solidFill>
                <a:latin typeface="Arial"/>
              </a:rPr>
              <a:t>4</a:t>
            </a:r>
            <a:r>
              <a:rPr b="1" lang="en-US" sz="3600" spc="-1" strike="noStrike">
                <a:solidFill>
                  <a:srgbClr val="ff66ff"/>
                </a:solidFill>
                <a:latin typeface="Arial"/>
              </a:rPr>
              <a:t>,</a:t>
            </a: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b050"/>
                </a:solidFill>
                <a:latin typeface="Arial"/>
              </a:rPr>
              <a:t>C</a:t>
            </a:r>
            <a:r>
              <a:rPr b="1" lang="en-US" sz="3600" spc="-1" strike="noStrike" baseline="-25000">
                <a:solidFill>
                  <a:srgbClr val="00b050"/>
                </a:solidFill>
                <a:latin typeface="Arial"/>
              </a:rPr>
              <a:t>2</a:t>
            </a:r>
            <a:r>
              <a:rPr b="1" lang="en-US" sz="3600" spc="-1" strike="noStrike">
                <a:solidFill>
                  <a:srgbClr val="00b050"/>
                </a:solidFill>
                <a:latin typeface="Arial"/>
              </a:rPr>
              <a:t>H</a:t>
            </a:r>
            <a:r>
              <a:rPr b="1" lang="en-US" sz="3600" spc="-1" strike="noStrike" baseline="-25000">
                <a:solidFill>
                  <a:srgbClr val="00b050"/>
                </a:solidFill>
                <a:latin typeface="Arial"/>
              </a:rPr>
              <a:t>2</a:t>
            </a:r>
            <a:r>
              <a:rPr b="1" lang="en-US" sz="3600" spc="-1" strike="noStrike">
                <a:solidFill>
                  <a:srgbClr val="00b050"/>
                </a:solidFill>
                <a:latin typeface="Arial"/>
              </a:rPr>
              <a:t>, </a:t>
            </a:r>
            <a:r>
              <a:rPr b="1" lang="en-US" sz="3600" spc="-1" strike="noStrike">
                <a:solidFill>
                  <a:srgbClr val="6b6bcf"/>
                </a:solidFill>
                <a:latin typeface="Arial"/>
              </a:rPr>
              <a:t>C</a:t>
            </a:r>
            <a:r>
              <a:rPr b="1" lang="en-US" sz="3600" spc="-1" strike="noStrike" baseline="-25000">
                <a:solidFill>
                  <a:srgbClr val="6b6bcf"/>
                </a:solidFill>
                <a:latin typeface="Arial"/>
              </a:rPr>
              <a:t>2</a:t>
            </a:r>
            <a:r>
              <a:rPr b="1" lang="en-US" sz="3600" spc="-1" strike="noStrike">
                <a:solidFill>
                  <a:srgbClr val="6b6bcf"/>
                </a:solidFill>
                <a:latin typeface="Arial"/>
              </a:rPr>
              <a:t>H</a:t>
            </a:r>
            <a:r>
              <a:rPr b="1" lang="en-US" sz="3600" spc="-1" strike="noStrike" baseline="-25000">
                <a:solidFill>
                  <a:srgbClr val="6b6bcf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9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Arial"/>
              </a:rPr>
              <a:t>C</a:t>
            </a:r>
            <a:r>
              <a:rPr b="1" lang="en-US" sz="3600" spc="-1" strike="noStrike" baseline="-25000">
                <a:solidFill>
                  <a:srgbClr val="c00000"/>
                </a:solidFill>
                <a:latin typeface="Arial"/>
              </a:rPr>
              <a:t>5</a:t>
            </a:r>
            <a:r>
              <a:rPr b="1" lang="en-US" sz="3600" spc="-1" strike="noStrike">
                <a:solidFill>
                  <a:srgbClr val="c00000"/>
                </a:solidFill>
                <a:latin typeface="Arial"/>
              </a:rPr>
              <a:t>H</a:t>
            </a:r>
            <a:r>
              <a:rPr b="1" lang="en-US" sz="3600" spc="-1" strike="noStrike" baseline="-25000">
                <a:solidFill>
                  <a:srgbClr val="c00000"/>
                </a:solidFill>
                <a:latin typeface="Arial"/>
              </a:rPr>
              <a:t>10</a:t>
            </a: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, C</a:t>
            </a:r>
            <a:r>
              <a:rPr b="1" lang="en-US" sz="3600" spc="-1" strike="noStrike" baseline="-25000">
                <a:solidFill>
                  <a:srgbClr val="000066"/>
                </a:solidFill>
                <a:latin typeface="Arial"/>
              </a:rPr>
              <a:t>6</a:t>
            </a: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H</a:t>
            </a:r>
            <a:r>
              <a:rPr b="1" lang="en-US" sz="3600" spc="-1" strike="noStrike" baseline="-25000">
                <a:solidFill>
                  <a:srgbClr val="000066"/>
                </a:solidFill>
                <a:latin typeface="Arial"/>
              </a:rPr>
              <a:t>14</a:t>
            </a: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1" lang="en-US" sz="3600" spc="-1" strike="noStrike">
                <a:solidFill>
                  <a:srgbClr val="0070c0"/>
                </a:solidFill>
                <a:latin typeface="Arial"/>
              </a:rPr>
              <a:t>C</a:t>
            </a:r>
            <a:r>
              <a:rPr b="1" lang="en-US" sz="3600" spc="-1" strike="noStrike" baseline="-25000">
                <a:solidFill>
                  <a:srgbClr val="0070c0"/>
                </a:solidFill>
                <a:latin typeface="Arial"/>
              </a:rPr>
              <a:t>7</a:t>
            </a:r>
            <a:r>
              <a:rPr b="1" lang="en-US" sz="3600" spc="-1" strike="noStrike">
                <a:solidFill>
                  <a:srgbClr val="0070c0"/>
                </a:solidFill>
                <a:latin typeface="Arial"/>
              </a:rPr>
              <a:t>H</a:t>
            </a:r>
            <a:r>
              <a:rPr b="1" lang="en-US" sz="3600" spc="-1" strike="noStrike" baseline="-25000">
                <a:solidFill>
                  <a:srgbClr val="0070c0"/>
                </a:solidFill>
                <a:latin typeface="Arial"/>
              </a:rPr>
              <a:t>1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9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C</a:t>
            </a:r>
            <a:r>
              <a:rPr b="1" lang="en-US" sz="3600" spc="-1" strike="noStrike" baseline="-25000">
                <a:solidFill>
                  <a:srgbClr val="000066"/>
                </a:solidFill>
                <a:latin typeface="Arial"/>
              </a:rPr>
              <a:t>3</a:t>
            </a: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H</a:t>
            </a:r>
            <a:r>
              <a:rPr b="1" lang="en-US" sz="3600" spc="-1" strike="noStrike" baseline="-25000">
                <a:solidFill>
                  <a:srgbClr val="000066"/>
                </a:solidFill>
                <a:latin typeface="Arial"/>
              </a:rPr>
              <a:t>8</a:t>
            </a: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, 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1" lang="en-US" sz="3600" spc="-1" strike="noStrike" baseline="-25000">
                <a:solidFill>
                  <a:srgbClr val="ff0000"/>
                </a:solidFill>
                <a:latin typeface="Arial"/>
              </a:rPr>
              <a:t>3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1" lang="en-US" sz="3600" spc="-1" strike="noStrike" baseline="-25000">
                <a:solidFill>
                  <a:srgbClr val="ff0000"/>
                </a:solidFill>
                <a:latin typeface="Arial"/>
              </a:rPr>
              <a:t>4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C</a:t>
            </a:r>
            <a:r>
              <a:rPr b="1" lang="en-US" sz="3600" spc="-1" strike="noStrike" baseline="-25000">
                <a:solidFill>
                  <a:srgbClr val="006600"/>
                </a:solidFill>
                <a:latin typeface="Arial"/>
              </a:rPr>
              <a:t>3</a:t>
            </a: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H</a:t>
            </a:r>
            <a:r>
              <a:rPr b="1" lang="en-US" sz="3600" spc="-1" strike="noStrike" baseline="-25000">
                <a:solidFill>
                  <a:srgbClr val="006600"/>
                </a:solidFill>
                <a:latin typeface="Arial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9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1" lang="en-US" sz="3600" spc="-1" strike="noStrike" baseline="-25000">
                <a:solidFill>
                  <a:srgbClr val="0000ff"/>
                </a:solidFill>
                <a:latin typeface="Arial"/>
              </a:rPr>
              <a:t>10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H</a:t>
            </a:r>
            <a:r>
              <a:rPr b="1" lang="en-US" sz="3600" spc="-1" strike="noStrike" baseline="-25000">
                <a:solidFill>
                  <a:srgbClr val="0000ff"/>
                </a:solidFill>
                <a:latin typeface="Arial"/>
              </a:rPr>
              <a:t>22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d60093"/>
                </a:solidFill>
                <a:latin typeface="Arial"/>
              </a:rPr>
              <a:t>C</a:t>
            </a:r>
            <a:r>
              <a:rPr b="1" lang="en-US" sz="3600" spc="-1" strike="noStrike" baseline="-25000">
                <a:solidFill>
                  <a:srgbClr val="d60093"/>
                </a:solidFill>
                <a:latin typeface="Arial"/>
              </a:rPr>
              <a:t>4</a:t>
            </a:r>
            <a:r>
              <a:rPr b="1" lang="en-US" sz="3600" spc="-1" strike="noStrike">
                <a:solidFill>
                  <a:srgbClr val="d60093"/>
                </a:solidFill>
                <a:latin typeface="Arial"/>
              </a:rPr>
              <a:t>H</a:t>
            </a:r>
            <a:r>
              <a:rPr b="1" lang="en-US" sz="3600" spc="-1" strike="noStrike" baseline="-25000">
                <a:solidFill>
                  <a:srgbClr val="d60093"/>
                </a:solidFill>
                <a:latin typeface="Arial"/>
              </a:rPr>
              <a:t>8</a:t>
            </a: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1" lang="en-US" sz="3600" spc="-1" strike="noStrike">
                <a:solidFill>
                  <a:srgbClr val="a50021"/>
                </a:solidFill>
                <a:latin typeface="Arial"/>
              </a:rPr>
              <a:t>C</a:t>
            </a:r>
            <a:r>
              <a:rPr b="1" lang="en-US" sz="3600" spc="-1" strike="noStrike" baseline="-25000">
                <a:solidFill>
                  <a:srgbClr val="a50021"/>
                </a:solidFill>
                <a:latin typeface="Arial"/>
              </a:rPr>
              <a:t>10</a:t>
            </a:r>
            <a:r>
              <a:rPr b="1" lang="en-US" sz="3600" spc="-1" strike="noStrike">
                <a:solidFill>
                  <a:srgbClr val="a50021"/>
                </a:solidFill>
                <a:latin typeface="Arial"/>
              </a:rPr>
              <a:t>H</a:t>
            </a:r>
            <a:r>
              <a:rPr b="1" lang="en-US" sz="3600" spc="-1" strike="noStrike" baseline="-25000">
                <a:solidFill>
                  <a:srgbClr val="a50021"/>
                </a:solidFill>
                <a:latin typeface="Arial"/>
              </a:rPr>
              <a:t>1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9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C</a:t>
            </a:r>
            <a:r>
              <a:rPr b="1" lang="en-US" sz="3600" spc="-1" strike="noStrike" baseline="-25000">
                <a:solidFill>
                  <a:srgbClr val="006600"/>
                </a:solidFill>
                <a:latin typeface="Arial"/>
              </a:rPr>
              <a:t>10</a:t>
            </a: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H</a:t>
            </a:r>
            <a:r>
              <a:rPr b="1" lang="en-US" sz="3600" spc="-1" strike="noStrike" baseline="-25000">
                <a:solidFill>
                  <a:srgbClr val="006600"/>
                </a:solidFill>
                <a:latin typeface="Arial"/>
              </a:rPr>
              <a:t>20</a:t>
            </a: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1" lang="en-US" sz="3600" spc="-1" strike="noStrike" baseline="-25000">
                <a:solidFill>
                  <a:srgbClr val="ff0000"/>
                </a:solidFill>
                <a:latin typeface="Arial"/>
              </a:rPr>
              <a:t>5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1" lang="en-US" sz="3600" spc="-1" strike="noStrike" baseline="-25000">
                <a:solidFill>
                  <a:srgbClr val="ff0000"/>
                </a:solidFill>
                <a:latin typeface="Arial"/>
              </a:rPr>
              <a:t>8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 C</a:t>
            </a:r>
            <a:r>
              <a:rPr b="1" lang="en-US" sz="3600" spc="-1" strike="noStrike" baseline="-25000">
                <a:solidFill>
                  <a:srgbClr val="000066"/>
                </a:solidFill>
                <a:latin typeface="Arial"/>
              </a:rPr>
              <a:t>7</a:t>
            </a: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H</a:t>
            </a:r>
            <a:r>
              <a:rPr b="1" lang="en-US" sz="3600" spc="-1" strike="noStrike" baseline="-25000">
                <a:solidFill>
                  <a:srgbClr val="000066"/>
                </a:solidFill>
                <a:latin typeface="Arial"/>
              </a:rPr>
              <a:t>1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9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0c0"/>
                </a:solidFill>
                <a:latin typeface="Arial"/>
              </a:rPr>
              <a:t>C</a:t>
            </a:r>
            <a:r>
              <a:rPr b="1" lang="en-US" sz="3600" spc="-1" strike="noStrike" baseline="-25000">
                <a:solidFill>
                  <a:srgbClr val="0070c0"/>
                </a:solidFill>
                <a:latin typeface="Arial"/>
              </a:rPr>
              <a:t>4</a:t>
            </a:r>
            <a:r>
              <a:rPr b="1" lang="en-US" sz="3600" spc="-1" strike="noStrike">
                <a:solidFill>
                  <a:srgbClr val="0070c0"/>
                </a:solidFill>
                <a:latin typeface="Arial"/>
              </a:rPr>
              <a:t>H</a:t>
            </a:r>
            <a:r>
              <a:rPr b="1" lang="en-US" sz="3600" spc="-1" strike="noStrike" baseline="-25000">
                <a:solidFill>
                  <a:srgbClr val="0070c0"/>
                </a:solidFill>
                <a:latin typeface="Arial"/>
              </a:rPr>
              <a:t>10</a:t>
            </a: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1" lang="en-US" sz="3600" spc="-1" strike="noStrike">
                <a:solidFill>
                  <a:srgbClr val="a50021"/>
                </a:solidFill>
                <a:latin typeface="Arial"/>
              </a:rPr>
              <a:t>C</a:t>
            </a:r>
            <a:r>
              <a:rPr b="1" lang="en-US" sz="3600" spc="-1" strike="noStrike" baseline="-25000">
                <a:solidFill>
                  <a:srgbClr val="a50021"/>
                </a:solidFill>
                <a:latin typeface="Arial"/>
              </a:rPr>
              <a:t>8</a:t>
            </a:r>
            <a:r>
              <a:rPr b="1" lang="en-US" sz="3600" spc="-1" strike="noStrike">
                <a:solidFill>
                  <a:srgbClr val="a50021"/>
                </a:solidFill>
                <a:latin typeface="Arial"/>
              </a:rPr>
              <a:t>H</a:t>
            </a:r>
            <a:r>
              <a:rPr b="1" lang="en-US" sz="3600" spc="-1" strike="noStrike" baseline="-25000">
                <a:solidFill>
                  <a:srgbClr val="a50021"/>
                </a:solidFill>
                <a:latin typeface="Arial"/>
              </a:rPr>
              <a:t>16</a:t>
            </a:r>
            <a:r>
              <a:rPr b="1" lang="en-US" sz="3600" spc="-1" strike="noStrike">
                <a:solidFill>
                  <a:srgbClr val="a50021"/>
                </a:solidFill>
                <a:latin typeface="Arial"/>
              </a:rPr>
              <a:t>,</a:t>
            </a: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7030a0"/>
                </a:solidFill>
                <a:latin typeface="Arial"/>
              </a:rPr>
              <a:t>C</a:t>
            </a:r>
            <a:r>
              <a:rPr b="1" lang="en-US" sz="3600" spc="-1" strike="noStrike" baseline="-25000">
                <a:solidFill>
                  <a:srgbClr val="7030a0"/>
                </a:solidFill>
                <a:latin typeface="Arial"/>
              </a:rPr>
              <a:t>4</a:t>
            </a:r>
            <a:r>
              <a:rPr b="1" lang="en-US" sz="3600" spc="-1" strike="noStrike">
                <a:solidFill>
                  <a:srgbClr val="7030a0"/>
                </a:solidFill>
                <a:latin typeface="Arial"/>
              </a:rPr>
              <a:t>H</a:t>
            </a:r>
            <a:r>
              <a:rPr b="1" lang="en-US" sz="3600" spc="-1" strike="noStrike" baseline="-25000">
                <a:solidFill>
                  <a:srgbClr val="7030a0"/>
                </a:solidFill>
                <a:latin typeface="Arial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00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500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00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500"/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Химическое лот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1523880" y="1397160"/>
          <a:ext cx="6096240" cy="5029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266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Алканы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C</a:t>
                      </a:r>
                      <a:r>
                        <a:rPr b="1" lang="en-US" sz="3600" spc="-1" strike="noStrike" baseline="-25000">
                          <a:solidFill>
                            <a:srgbClr val="000066"/>
                          </a:solidFill>
                          <a:latin typeface="Arial"/>
                        </a:rPr>
                        <a:t>n</a:t>
                      </a:r>
                      <a:r>
                        <a:rPr b="1" lang="en-US" sz="3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H</a:t>
                      </a:r>
                      <a:r>
                        <a:rPr b="1" lang="en-US" sz="3600" spc="-1" strike="noStrike" baseline="-25000">
                          <a:solidFill>
                            <a:srgbClr val="000066"/>
                          </a:solidFill>
                          <a:latin typeface="Arial"/>
                        </a:rPr>
                        <a:t>2n+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Алкены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С</a:t>
                      </a:r>
                      <a:r>
                        <a:rPr b="1" lang="en-US" sz="3600" spc="-1" strike="noStrike" baseline="-25000">
                          <a:solidFill>
                            <a:srgbClr val="000066"/>
                          </a:solidFill>
                          <a:latin typeface="Arial"/>
                        </a:rPr>
                        <a:t>n</a:t>
                      </a:r>
                      <a:r>
                        <a:rPr b="1" lang="en-US" sz="3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H</a:t>
                      </a:r>
                      <a:r>
                        <a:rPr b="1" lang="en-US" sz="3600" spc="-1" strike="noStrike" baseline="-25000">
                          <a:solidFill>
                            <a:srgbClr val="000066"/>
                          </a:solidFill>
                          <a:latin typeface="Arial"/>
                        </a:rPr>
                        <a:t>2n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Алкины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C</a:t>
                      </a:r>
                      <a:r>
                        <a:rPr b="1" lang="en-US" sz="3600" spc="-1" strike="noStrike" baseline="-25000">
                          <a:solidFill>
                            <a:srgbClr val="000066"/>
                          </a:solidFill>
                          <a:latin typeface="Arial"/>
                        </a:rPr>
                        <a:t>n</a:t>
                      </a:r>
                      <a:r>
                        <a:rPr b="1" lang="en-US" sz="3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H</a:t>
                      </a:r>
                      <a:r>
                        <a:rPr b="1" lang="en-US" sz="3600" spc="-1" strike="noStrike" baseline="-25000">
                          <a:solidFill>
                            <a:srgbClr val="000066"/>
                          </a:solidFill>
                          <a:latin typeface="Arial"/>
                        </a:rPr>
                        <a:t>2n-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718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</a:t>
                      </a:r>
                      <a:r>
                        <a:rPr b="1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1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1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1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1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718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1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1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1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1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1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1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718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1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1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1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1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1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1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718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1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1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1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1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1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1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718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1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1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1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1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1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1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718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1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1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1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1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1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1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4" descr="фон"/>
          <p:cNvPicPr/>
          <p:nvPr/>
        </p:nvPicPr>
        <p:blipFill>
          <a:blip r:embed="rId1"/>
          <a:stretch/>
        </p:blipFill>
        <p:spPr>
          <a:xfrm>
            <a:off x="0" y="0"/>
            <a:ext cx="3429000" cy="34290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6" descr="фон"/>
          <p:cNvPicPr/>
          <p:nvPr/>
        </p:nvPicPr>
        <p:blipFill>
          <a:blip r:embed="rId2"/>
          <a:stretch/>
        </p:blipFill>
        <p:spPr>
          <a:xfrm>
            <a:off x="3352680" y="0"/>
            <a:ext cx="3381480" cy="338148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9" descr="фон"/>
          <p:cNvPicPr/>
          <p:nvPr/>
        </p:nvPicPr>
        <p:blipFill>
          <a:blip r:embed="rId3"/>
          <a:stretch/>
        </p:blipFill>
        <p:spPr>
          <a:xfrm>
            <a:off x="3276720" y="3276720"/>
            <a:ext cx="3581280" cy="35812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0" descr="фон"/>
          <p:cNvPicPr/>
          <p:nvPr/>
        </p:nvPicPr>
        <p:blipFill>
          <a:blip r:embed="rId4"/>
          <a:stretch/>
        </p:blipFill>
        <p:spPr>
          <a:xfrm>
            <a:off x="0" y="3352680"/>
            <a:ext cx="3505320" cy="35053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1" descr="фон"/>
          <p:cNvPicPr/>
          <p:nvPr/>
        </p:nvPicPr>
        <p:blipFill>
          <a:blip r:embed="rId5"/>
          <a:stretch/>
        </p:blipFill>
        <p:spPr>
          <a:xfrm>
            <a:off x="6705720" y="0"/>
            <a:ext cx="3381120" cy="33814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2" descr="фон"/>
          <p:cNvPicPr/>
          <p:nvPr/>
        </p:nvPicPr>
        <p:blipFill>
          <a:blip r:embed="rId6"/>
          <a:stretch/>
        </p:blipFill>
        <p:spPr>
          <a:xfrm>
            <a:off x="6858000" y="3352680"/>
            <a:ext cx="3505320" cy="3505320"/>
          </a:xfrm>
          <a:prstGeom prst="rect">
            <a:avLst/>
          </a:prstGeom>
          <a:ln w="0">
            <a:noFill/>
          </a:ln>
        </p:spPr>
      </p:pic>
      <p:sp>
        <p:nvSpPr>
          <p:cNvPr id="161" name="WordArt 13"/>
          <p:cNvSpPr txBox="1"/>
          <p:nvPr/>
        </p:nvSpPr>
        <p:spPr>
          <a:xfrm>
            <a:off x="838080" y="1066680"/>
            <a:ext cx="8686800" cy="2667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ff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Comic Sans MS"/>
              </a:rPr>
              <a:t>Р А З М И Н К А  - </a:t>
            </a:r>
            <a:endParaRPr b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ffff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ff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Comic Sans MS"/>
              </a:rPr>
              <a:t>блицтурнир</a:t>
            </a:r>
            <a:endParaRPr b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ffff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162" name="Picture 14" descr="003"/>
          <p:cNvPicPr/>
          <p:nvPr/>
        </p:nvPicPr>
        <p:blipFill>
          <a:blip r:embed="rId7"/>
          <a:stretch/>
        </p:blipFill>
        <p:spPr>
          <a:xfrm>
            <a:off x="3276720" y="3809880"/>
            <a:ext cx="2514600" cy="25146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5" descr="003"/>
          <p:cNvPicPr/>
          <p:nvPr/>
        </p:nvPicPr>
        <p:blipFill>
          <a:blip r:embed="rId8"/>
          <a:stretch/>
        </p:blipFill>
        <p:spPr>
          <a:xfrm>
            <a:off x="304920" y="3276720"/>
            <a:ext cx="2514600" cy="25146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6" descr="003"/>
          <p:cNvPicPr/>
          <p:nvPr/>
        </p:nvPicPr>
        <p:blipFill>
          <a:blip r:embed="rId9"/>
          <a:stretch/>
        </p:blipFill>
        <p:spPr>
          <a:xfrm>
            <a:off x="6629400" y="3429000"/>
            <a:ext cx="2514600" cy="25146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7" descr=""/>
          <p:cNvPicPr/>
          <p:nvPr/>
        </p:nvPicPr>
        <p:blipFill>
          <a:blip r:embed="rId10"/>
          <a:stretch/>
        </p:blipFill>
        <p:spPr>
          <a:xfrm>
            <a:off x="380880" y="380880"/>
            <a:ext cx="381240" cy="3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8" dur="1860" fill="hold"/>
                                        <p:tgtEl>
                                          <p:spTgt spid="1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Стрелкова Н.</dc:creator>
  <dc:description/>
  <dc:language>en-US</dc:language>
  <cp:lastModifiedBy>t_hav</cp:lastModifiedBy>
  <dcterms:modified xsi:type="dcterms:W3CDTF">2012-12-05T14:02:29Z</dcterms:modified>
  <cp:revision>114</cp:revision>
  <dc:subject>естествознание</dc:subject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0c26000000000001024140</vt:lpwstr>
  </property>
  <property fmtid="{D5CDD505-2E9C-101B-9397-08002B2CF9AE}" pid="3" name="Version">
    <vt:r8>1</vt:r8>
  </property>
</Properties>
</file>