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49.png" ContentType="image/png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7.png" ContentType="image/png"/>
  <Override PartName="/ppt/media/image33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29.jpeg" ContentType="image/jpeg"/>
  <Override PartName="/ppt/media/image52.jpeg" ContentType="image/jpeg"/>
  <Override PartName="/ppt/media/image43.png" ContentType="image/png"/>
  <Override PartName="/ppt/media/image53.jpeg" ContentType="image/jpeg"/>
  <Override PartName="/ppt/media/image45.png" ContentType="image/png"/>
  <Override PartName="/ppt/media/image6.jpeg" ContentType="image/jpeg"/>
  <Override PartName="/ppt/media/image46.png" ContentType="image/png"/>
  <Override PartName="/ppt/media/image50.jpeg" ContentType="image/jpeg"/>
  <Override PartName="/ppt/media/image37.jpeg" ContentType="image/jpeg"/>
  <Override PartName="/ppt/media/image54.jpeg" ContentType="image/jpeg"/>
  <Override PartName="/ppt/media/image55.jpeg" ContentType="image/jpeg"/>
  <Override PartName="/ppt/media/image57.png" ContentType="image/png"/>
  <Override PartName="/ppt/media/image36.jpeg" ContentType="image/jpeg"/>
  <Override PartName="/ppt/media/image11.jpeg" ContentType="image/jpeg"/>
  <Override PartName="/ppt/media/image48.png" ContentType="image/png"/>
  <Override PartName="/ppt/media/image9.jpeg" ContentType="image/jpeg"/>
  <Override PartName="/ppt/media/image58.jpeg" ContentType="image/jpeg"/>
  <Override PartName="/ppt/media/image59.jpeg" ContentType="image/jpeg"/>
  <Override PartName="/ppt/media/image47.png" ContentType="image/png"/>
  <Override PartName="/ppt/media/image35.jpeg" ContentType="image/jpeg"/>
  <Override PartName="/ppt/media/image10.jpeg" ContentType="image/jpeg"/>
  <Override PartName="/ppt/media/image3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28.jpeg" ContentType="image/jpeg"/>
  <Override PartName="/ppt/media/image51.jpeg" ContentType="image/jpeg"/>
  <Override PartName="/ppt/media/image8.jpeg" ContentType="image/jpeg"/>
  <Override PartName="/ppt/media/image3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6BF2-E312-467C-8FB5-1CB34E24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DF3B-1A9E-4A81-B5DC-984BB4F72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8C84-4994-4D00-A70E-48C236F29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D523-DB54-4E65-8CF1-C0552F6C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5147-C11D-4E5B-8CF2-D6BD2072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2932-C857-47C3-B94C-7A51A893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1DC8-C40F-4AB3-A83A-97DDEB25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5E0B-8311-45E8-90C2-CB04D0F7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1D0-6F3D-4CC9-AFA9-DBFE9A06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1188-11E4-4AAC-B914-89F293A7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818E-0F0F-4F90-BB74-BAFBDA4D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1DEE-DF6F-4330-B7F2-C11FB0AB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ED6A-255B-4E1F-BB11-01D50E4FDA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9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0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3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5.jpeg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8.jpeg"/><Relationship Id="rId6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9"/>
          <p:cNvSpPr/>
          <p:nvPr/>
        </p:nvSpPr>
        <p:spPr>
          <a:xfrm>
            <a:off x="1714680" y="2786040"/>
            <a:ext cx="5857560" cy="17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Молодогвардейская общеобразовательная школа </a:t>
            </a:r>
            <a:r>
              <a:rPr b="1" lang="en-US" sz="2000" spc="-1" strike="noStrike">
                <a:solidFill>
                  <a:srgbClr val="000000"/>
                </a:solidFill>
                <a:latin typeface="PF DinDisplay Pro"/>
              </a:rPr>
              <a:t>I-III </a:t>
            </a: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ступеней №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Проект учащихся 11 классов «</a:t>
            </a:r>
            <a:r>
              <a:rPr b="1" lang="en-US" sz="2000" spc="-1" strike="noStrike">
                <a:solidFill>
                  <a:srgbClr val="000000"/>
                </a:solidFill>
                <a:latin typeface="PF DinDisplay Pro"/>
              </a:rPr>
              <a:t>Fast-food</a:t>
            </a: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F DinDisplay Pro"/>
              </a:rPr>
              <a:t>За или проти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9"/>
          <p:cNvSpPr/>
          <p:nvPr/>
        </p:nvSpPr>
        <p:spPr>
          <a:xfrm>
            <a:off x="1714680" y="250020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Добавляется для предотвращения прогорк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АНТИОКСИД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7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Токоферол (витамин Е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sm17_vidy001"/>
          <p:cNvPicPr/>
          <p:nvPr/>
        </p:nvPicPr>
        <p:blipFill>
          <a:blip r:embed="rId5"/>
          <a:srcRect l="0" t="0" r="0" b="147"/>
          <a:stretch/>
        </p:blipFill>
        <p:spPr>
          <a:xfrm>
            <a:off x="1763640" y="3298680"/>
            <a:ext cx="2433600" cy="1785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46899776_krup"/>
          <p:cNvPicPr/>
          <p:nvPr/>
        </p:nvPicPr>
        <p:blipFill>
          <a:blip r:embed="rId6"/>
          <a:srcRect l="0" t="0" r="0" b="118"/>
          <a:stretch/>
        </p:blipFill>
        <p:spPr>
          <a:xfrm>
            <a:off x="4284720" y="3370320"/>
            <a:ext cx="3214800" cy="171432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12"/>
          <p:cNvSpPr/>
          <p:nvPr/>
        </p:nvSpPr>
        <p:spPr>
          <a:xfrm>
            <a:off x="1643040" y="285768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F DinDisplay Pro"/>
              </a:rPr>
              <a:t>СОДЕРЖИТСЯ В РАСТИТЕЛЬНОМ МАСЛЕ, В ИЗМЕЛЬЧЕННЫХ ЗЛА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2" descr=""/>
          <p:cNvPicPr/>
          <p:nvPr/>
        </p:nvPicPr>
        <p:blipFill>
          <a:blip r:embed="rId7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9"/>
          <p:cNvSpPr/>
          <p:nvPr/>
        </p:nvSpPr>
        <p:spPr>
          <a:xfrm>
            <a:off x="1714680" y="250020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Предотвращает образование плес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КОНСЕРВ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7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Пропионат кальц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3"/>
          <p:cNvSpPr/>
          <p:nvPr/>
        </p:nvSpPr>
        <p:spPr>
          <a:xfrm>
            <a:off x="1714680" y="288612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Употребление кальция полезно и безопас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94cfc164ff0e"/>
          <p:cNvPicPr/>
          <p:nvPr/>
        </p:nvPicPr>
        <p:blipFill>
          <a:blip r:embed="rId5"/>
          <a:srcRect l="0" t="0" r="0" b="-106"/>
          <a:stretch/>
        </p:blipFill>
        <p:spPr>
          <a:xfrm>
            <a:off x="2000160" y="3786120"/>
            <a:ext cx="4929120" cy="128592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12"/>
          <p:cNvSpPr/>
          <p:nvPr/>
        </p:nvSpPr>
        <p:spPr>
          <a:xfrm>
            <a:off x="1500120" y="3429000"/>
            <a:ext cx="600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F DinDisplay Pro"/>
              </a:rPr>
              <a:t>СОДЕРЖИТСЯ В ХЛЕБЕ И ВЫПЕЧ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2" descr=""/>
          <p:cNvPicPr/>
          <p:nvPr/>
        </p:nvPicPr>
        <p:blipFill>
          <a:blip r:embed="rId6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38" name="Прямоугольник 9"/>
          <p:cNvSpPr/>
          <p:nvPr/>
        </p:nvSpPr>
        <p:spPr>
          <a:xfrm>
            <a:off x="1714680" y="250020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Полисорбат 60, 65, 80 действует аналогично моно- и диглицерид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ЭМУЛЬГ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Полисорбат 60, 65, 8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3"/>
          <p:cNvSpPr/>
          <p:nvPr/>
        </p:nvSpPr>
        <p:spPr>
          <a:xfrm>
            <a:off x="1714680" y="3141720"/>
            <a:ext cx="59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Они не дают черстветь хлебобулочным изделиям, сворачиваться укропному маслу в марина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0"/>
          <p:cNvSpPr/>
          <p:nvPr/>
        </p:nvSpPr>
        <p:spPr>
          <a:xfrm>
            <a:off x="1714680" y="407664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Способствует растворению сливок для коф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1"/>
          <p:cNvSpPr/>
          <p:nvPr/>
        </p:nvSpPr>
        <p:spPr>
          <a:xfrm>
            <a:off x="1714680" y="443700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Предотвращают расслоение масла в сбитых кре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Рисунок 2" descr=""/>
          <p:cNvPicPr/>
          <p:nvPr/>
        </p:nvPicPr>
        <p:blipFill>
          <a:blip r:embed="rId5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ЭМУЛЬГ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4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Полисорбат 60, 65, 8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bakery"/>
          <p:cNvPicPr/>
          <p:nvPr/>
        </p:nvPicPr>
        <p:blipFill>
          <a:blip r:embed="rId4"/>
          <a:stretch/>
        </p:blipFill>
        <p:spPr>
          <a:xfrm>
            <a:off x="1835280" y="2565360"/>
            <a:ext cx="3289320" cy="1917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0002-big"/>
          <p:cNvPicPr/>
          <p:nvPr/>
        </p:nvPicPr>
        <p:blipFill>
          <a:blip r:embed="rId5"/>
          <a:srcRect l="0" t="0" r="0" b="-79"/>
          <a:stretch/>
        </p:blipFill>
        <p:spPr>
          <a:xfrm>
            <a:off x="5429160" y="2857680"/>
            <a:ext cx="2073240" cy="21430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11"/>
          <p:cNvSpPr/>
          <p:nvPr/>
        </p:nvSpPr>
        <p:spPr>
          <a:xfrm>
            <a:off x="4500720" y="2457360"/>
            <a:ext cx="32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МОЛОЧНЫХ ДЕСЕР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2" descr=""/>
          <p:cNvPicPr/>
          <p:nvPr/>
        </p:nvPicPr>
        <p:blipFill>
          <a:blip r:embed="rId6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18"/>
          <p:cNvSpPr/>
          <p:nvPr/>
        </p:nvSpPr>
        <p:spPr>
          <a:xfrm>
            <a:off x="1655640" y="465300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ХЛЕБОБУЛОЧНЫХ ИЗДЕЛ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9"/>
          <p:cNvSpPr/>
          <p:nvPr/>
        </p:nvSpPr>
        <p:spPr>
          <a:xfrm>
            <a:off x="1714680" y="2500200"/>
            <a:ext cx="59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Образуется в результате химических реакций целлюлозы с производными уксусной кис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ЗАГУСТИТЕЛЬ И СТАБИЛИЗ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7"/>
          <p:cNvSpPr/>
          <p:nvPr/>
        </p:nvSpPr>
        <p:spPr>
          <a:xfrm>
            <a:off x="1476360" y="1800360"/>
            <a:ext cx="6357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4f1e3"/>
                </a:solidFill>
                <a:latin typeface="PF DinDisplay Pro"/>
              </a:rPr>
              <a:t>Натрий карбокси-метил целлюло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3"/>
          <p:cNvSpPr/>
          <p:nvPr/>
        </p:nvSpPr>
        <p:spPr>
          <a:xfrm>
            <a:off x="1714680" y="335772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Предотвращает кристаллизацию сахара в продук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2" descr=""/>
          <p:cNvPicPr/>
          <p:nvPr/>
        </p:nvPicPr>
        <p:blipFill>
          <a:blip r:embed="rId5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9"/>
          <p:cNvSpPr/>
          <p:nvPr/>
        </p:nvSpPr>
        <p:spPr>
          <a:xfrm>
            <a:off x="1214280" y="4734000"/>
            <a:ext cx="68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PF DinDisplay Pro"/>
              </a:rPr>
              <a:t>Содержится: в пиве, диетических продуктах, мороже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ЗАГУСТИТЕЛЬ И СТАБИЛИЗ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14"/>
          <p:cNvSpPr/>
          <p:nvPr/>
        </p:nvSpPr>
        <p:spPr>
          <a:xfrm>
            <a:off x="1403280" y="1800360"/>
            <a:ext cx="6357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4f1e3"/>
                </a:solidFill>
                <a:latin typeface="PF DinDisplay Pro"/>
              </a:rPr>
              <a:t>Натрий карбокси-метил целлюло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pivogl"/>
          <p:cNvPicPr/>
          <p:nvPr/>
        </p:nvPicPr>
        <p:blipFill>
          <a:blip r:embed="rId4"/>
          <a:stretch/>
        </p:blipFill>
        <p:spPr>
          <a:xfrm>
            <a:off x="1785960" y="2571840"/>
            <a:ext cx="2174760" cy="2232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boljnoj"/>
          <p:cNvPicPr/>
          <p:nvPr/>
        </p:nvPicPr>
        <p:blipFill>
          <a:blip r:embed="rId5"/>
          <a:stretch/>
        </p:blipFill>
        <p:spPr>
          <a:xfrm>
            <a:off x="3595680" y="2571840"/>
            <a:ext cx="2119320" cy="2209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img1213020165"/>
          <p:cNvPicPr/>
          <p:nvPr/>
        </p:nvPicPr>
        <p:blipFill>
          <a:blip r:embed="rId6"/>
          <a:stretch/>
        </p:blipFill>
        <p:spPr>
          <a:xfrm>
            <a:off x="5429160" y="2571840"/>
            <a:ext cx="2063880" cy="2212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2" descr=""/>
          <p:cNvPicPr/>
          <p:nvPr/>
        </p:nvPicPr>
        <p:blipFill>
          <a:blip r:embed="rId7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15"/>
          <p:cNvSpPr/>
          <p:nvPr/>
        </p:nvSpPr>
        <p:spPr>
          <a:xfrm>
            <a:off x="1714680" y="2247840"/>
            <a:ext cx="592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PF DinDisplay Pro"/>
              </a:rPr>
              <a:t>АР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ru-RU" sz="1000" spc="-1" strike="noStrike">
                <a:solidFill>
                  <a:srgbClr val="ffffff"/>
                </a:solidFill>
                <a:latin typeface="PF DinDisplay Pro"/>
              </a:rPr>
              <a:t>МАТИЗАТОР, ПОДКИСЛЯЮЩИЕ ДОБАВКИ, СТАБИЛИЗАТОРЫ ЦВЕТА И ЭМУЛЬГАТО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1500120" y="182412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1e3"/>
                </a:solidFill>
                <a:latin typeface="PF DinDisplay Pro"/>
              </a:rPr>
              <a:t>Фосфаты, ортофосфат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4"/>
          <p:cNvSpPr/>
          <p:nvPr/>
        </p:nvSpPr>
        <p:spPr>
          <a:xfrm>
            <a:off x="1714680" y="256536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F DinDisplay Pro"/>
              </a:rPr>
              <a:t>Кислый пирофосфат натрия предотвращает изменение цвета картофеля и сахарного сиро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2"/>
          <p:cNvSpPr/>
          <p:nvPr/>
        </p:nvSpPr>
        <p:spPr>
          <a:xfrm>
            <a:off x="1714680" y="3390840"/>
            <a:ext cx="59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F DinDisplay Pro"/>
              </a:rPr>
              <a:t>При чрезмерном употреблении фосфатов может происходить дисбаланс в питании, ухудшается усвоение Кальция, что способствует развитию остеопоро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16" descr=""/>
          <p:cNvPicPr/>
          <p:nvPr/>
        </p:nvPicPr>
        <p:blipFill>
          <a:blip r:embed="rId5"/>
          <a:stretch/>
        </p:blipFill>
        <p:spPr>
          <a:xfrm>
            <a:off x="885960" y="1870200"/>
            <a:ext cx="796680" cy="7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11"/>
          <p:cNvSpPr/>
          <p:nvPr/>
        </p:nvSpPr>
        <p:spPr>
          <a:xfrm>
            <a:off x="1500120" y="182412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1e3"/>
                </a:solidFill>
                <a:latin typeface="PF DinDisplay Pro"/>
              </a:rPr>
              <a:t>Фосфаты, ортофосфатн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cheese"/>
          <p:cNvPicPr/>
          <p:nvPr/>
        </p:nvPicPr>
        <p:blipFill>
          <a:blip r:embed="rId4"/>
          <a:stretch/>
        </p:blipFill>
        <p:spPr>
          <a:xfrm>
            <a:off x="1857240" y="2500200"/>
            <a:ext cx="2500560" cy="2552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gazirovka"/>
          <p:cNvPicPr/>
          <p:nvPr/>
        </p:nvPicPr>
        <p:blipFill>
          <a:blip r:embed="rId5"/>
          <a:stretch/>
        </p:blipFill>
        <p:spPr>
          <a:xfrm>
            <a:off x="4716360" y="2565360"/>
            <a:ext cx="2500560" cy="225108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15"/>
          <p:cNvSpPr/>
          <p:nvPr/>
        </p:nvSpPr>
        <p:spPr>
          <a:xfrm>
            <a:off x="1500120" y="2224080"/>
            <a:ext cx="624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PF DinDisplay Pro"/>
              </a:rPr>
              <a:t>Ароматизатор, подкисляющие добавки, стабилизаторы цвета и эмульгато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16" descr=""/>
          <p:cNvPicPr/>
          <p:nvPr/>
        </p:nvPicPr>
        <p:blipFill>
          <a:blip r:embed="rId6"/>
          <a:stretch/>
        </p:blipFill>
        <p:spPr>
          <a:xfrm>
            <a:off x="885960" y="1870200"/>
            <a:ext cx="796680" cy="70164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18"/>
          <p:cNvSpPr/>
          <p:nvPr/>
        </p:nvSpPr>
        <p:spPr>
          <a:xfrm>
            <a:off x="3516480" y="4764240"/>
            <a:ext cx="429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PF DinDisplay Pro"/>
              </a:rPr>
              <a:t>В СЫРАХ И ГАЗИРОВАННЫХ НАПИТКА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9"/>
          <p:cNvSpPr/>
          <p:nvPr/>
        </p:nvSpPr>
        <p:spPr>
          <a:xfrm>
            <a:off x="1714680" y="2500200"/>
            <a:ext cx="59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Злоупотребление солью увеличивает риск развития артериальной гипертензии, которая является причиной возникновения сердечных приступов и инсуль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ПРИПРАВА И КОНСЕРВ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7"/>
          <p:cNvSpPr/>
          <p:nvPr/>
        </p:nvSpPr>
        <p:spPr>
          <a:xfrm>
            <a:off x="1500120" y="178596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Соль (натрий хлори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1"/>
          <p:cNvSpPr/>
          <p:nvPr/>
        </p:nvSpPr>
        <p:spPr>
          <a:xfrm>
            <a:off x="1643040" y="400068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F DinDisplay Pro"/>
              </a:rPr>
              <a:t>СОДЕРЖИТСЯ В БОЛЬШИНСТВЕ ПРОДУ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6" descr=""/>
          <p:cNvPicPr/>
          <p:nvPr/>
        </p:nvPicPr>
        <p:blipFill>
          <a:blip r:embed="rId5"/>
          <a:stretch/>
        </p:blipFill>
        <p:spPr>
          <a:xfrm>
            <a:off x="885960" y="1870200"/>
            <a:ext cx="796680" cy="7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12" name="Прямоугольник 9"/>
          <p:cNvSpPr/>
          <p:nvPr/>
        </p:nvSpPr>
        <p:spPr>
          <a:xfrm>
            <a:off x="1714680" y="2556000"/>
            <a:ext cx="59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Сгущает тесто для его использования в хлебопекарном оборудовании, что позволяет изготавливать большие объемы хле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ДОБАВКА К ТЕС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7"/>
          <p:cNvSpPr/>
          <p:nvPr/>
        </p:nvSpPr>
        <p:spPr>
          <a:xfrm>
            <a:off x="1500120" y="185724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1e3"/>
                </a:solidFill>
                <a:latin typeface="PF DinDisplay Pro"/>
              </a:rPr>
              <a:t>СТЕАРИЛЛАКТАТ КАЛЬ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2"/>
          <p:cNvSpPr/>
          <p:nvPr/>
        </p:nvSpPr>
        <p:spPr>
          <a:xfrm>
            <a:off x="1643040" y="4000680"/>
            <a:ext cx="59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СОДЕРЖИТСЯ В КРЕМЕ, ТЕСТЕ ДЛЯ ВЫПЕЧКИ ХЛЕБА, НАЧИНКЕ ДЛЯ ПИРОЖ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Рисунок 16" descr=""/>
          <p:cNvPicPr/>
          <p:nvPr/>
        </p:nvPicPr>
        <p:blipFill>
          <a:blip r:embed="rId5"/>
          <a:stretch/>
        </p:blipFill>
        <p:spPr>
          <a:xfrm>
            <a:off x="885960" y="1870200"/>
            <a:ext cx="796680" cy="7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9"/>
          <p:cNvSpPr/>
          <p:nvPr/>
        </p:nvSpPr>
        <p:spPr>
          <a:xfrm>
            <a:off x="1714680" y="2214720"/>
            <a:ext cx="5857560" cy="24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PF DinDisplay Pro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F DinDisplay Pro"/>
              </a:rPr>
              <a:t>1. Установить положительные и отрицательные аспекты употребления быстрой 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F DinDisplay Pro"/>
              </a:rPr>
              <a:t>2. Информировать ученический и педагогический коллектив школы о влиянии фаст-фуда на здоровье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9"/>
          <p:cNvSpPr/>
          <p:nvPr/>
        </p:nvSpPr>
        <p:spPr>
          <a:xfrm>
            <a:off x="1714680" y="2556000"/>
            <a:ext cx="5929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Декстроза является натуральной сахарозой, которая содержится во фруктах и мёде. Добавление её в еду в качестве заменителя сахара снижает калорийность но может быть вредна для зуб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ЗАМЕНИТЕЛЬ САХАРА ИЛИ КРАС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7"/>
          <p:cNvSpPr/>
          <p:nvPr/>
        </p:nvSpPr>
        <p:spPr>
          <a:xfrm>
            <a:off x="1500120" y="1857240"/>
            <a:ext cx="63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4f1e3"/>
                </a:solidFill>
                <a:latin typeface="PF DinDisplay Pro"/>
              </a:rPr>
              <a:t>Декстроза (глюкоза, кукурузная сахароз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2"/>
          <p:cNvSpPr/>
          <p:nvPr/>
        </p:nvSpPr>
        <p:spPr>
          <a:xfrm>
            <a:off x="1643040" y="436572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СОДЕРЖИТСЯ В ХЛЕБЕ, КАРАМЕЛИ, БИСКВИТАХ, ГАЗИРОВАННЫХ НАПИТ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16" descr=""/>
          <p:cNvPicPr/>
          <p:nvPr/>
        </p:nvPicPr>
        <p:blipFill>
          <a:blip r:embed="rId5"/>
          <a:stretch/>
        </p:blipFill>
        <p:spPr>
          <a:xfrm>
            <a:off x="885960" y="1870200"/>
            <a:ext cx="796680" cy="7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9"/>
          <p:cNvSpPr/>
          <p:nvPr/>
        </p:nvSpPr>
        <p:spPr>
          <a:xfrm>
            <a:off x="1714680" y="250020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Сохраняет жир и ма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АНТИОКСИДАНТ И КОНСЕРВ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7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Пропилгалла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13"/>
          <p:cNvSpPr/>
          <p:nvPr/>
        </p:nvSpPr>
        <p:spPr>
          <a:xfrm>
            <a:off x="1714680" y="300024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Может быть причиной онкологических заболеваний у животных и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12" descr=""/>
          <p:cNvPicPr/>
          <p:nvPr/>
        </p:nvPicPr>
        <p:blipFill>
          <a:blip r:embed="rId5"/>
          <a:stretch/>
        </p:blipFill>
        <p:spPr>
          <a:xfrm>
            <a:off x="885960" y="1870200"/>
            <a:ext cx="796680" cy="7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АНТИОКСИДАНТ И КОНСЕРВА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14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Пропилгалла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18"/>
          <p:cNvSpPr/>
          <p:nvPr/>
        </p:nvSpPr>
        <p:spPr>
          <a:xfrm>
            <a:off x="1643040" y="4572000"/>
            <a:ext cx="6215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PF DinDisplay Pro"/>
              </a:rPr>
              <a:t>Содержится в жевательной резинке, куриных супах, мясных продуктах, картофельных палочках, растительном масл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7019"/>
          <p:cNvPicPr/>
          <p:nvPr/>
        </p:nvPicPr>
        <p:blipFill>
          <a:blip r:embed="rId4"/>
          <a:stretch/>
        </p:blipFill>
        <p:spPr>
          <a:xfrm>
            <a:off x="1785960" y="2571840"/>
            <a:ext cx="2125800" cy="20714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1225468192"/>
          <p:cNvPicPr/>
          <p:nvPr/>
        </p:nvPicPr>
        <p:blipFill>
          <a:blip r:embed="rId5"/>
          <a:stretch/>
        </p:blipFill>
        <p:spPr>
          <a:xfrm>
            <a:off x="3924360" y="2565360"/>
            <a:ext cx="2178000" cy="20718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roslinna_olija_na_sv"/>
          <p:cNvPicPr/>
          <p:nvPr/>
        </p:nvPicPr>
        <p:blipFill>
          <a:blip r:embed="rId6"/>
          <a:srcRect l="0" t="0" r="-143" b="0"/>
          <a:stretch/>
        </p:blipFill>
        <p:spPr>
          <a:xfrm>
            <a:off x="6072120" y="2571840"/>
            <a:ext cx="1428840" cy="207144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9" descr=""/>
          <p:cNvPicPr/>
          <p:nvPr/>
        </p:nvPicPr>
        <p:blipFill>
          <a:blip r:embed="rId7"/>
          <a:stretch/>
        </p:blipFill>
        <p:spPr>
          <a:xfrm>
            <a:off x="885960" y="1870200"/>
            <a:ext cx="796680" cy="7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9"/>
          <p:cNvSpPr/>
          <p:nvPr/>
        </p:nvSpPr>
        <p:spPr>
          <a:xfrm>
            <a:off x="1714680" y="250020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Используется для усиления вку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ИСПОЛЬЗУЕТСЯ ДЛЯ УСИЛЕНИЯ ВКУ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7"/>
          <p:cNvSpPr/>
          <p:nvPr/>
        </p:nvSpPr>
        <p:spPr>
          <a:xfrm>
            <a:off x="1454040" y="1849320"/>
            <a:ext cx="635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4f1e3"/>
                </a:solidFill>
                <a:latin typeface="PF DinDisplay Pro"/>
              </a:rPr>
              <a:t>Глутамат натрия однозамещенный (</a:t>
            </a:r>
            <a:r>
              <a:rPr b="1" lang="en-US" sz="2200" spc="-1" strike="noStrike">
                <a:solidFill>
                  <a:srgbClr val="f4f1e3"/>
                </a:solidFill>
                <a:latin typeface="PF DinDisplay Pro"/>
              </a:rPr>
              <a:t>MS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2"/>
          <p:cNvSpPr/>
          <p:nvPr/>
        </p:nvSpPr>
        <p:spPr>
          <a:xfrm>
            <a:off x="1714680" y="300024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Некоторые люди очень чувствительны при использовании его в больших доз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3"/>
          <p:cNvSpPr/>
          <p:nvPr/>
        </p:nvSpPr>
        <p:spPr>
          <a:xfrm>
            <a:off x="1714680" y="3789360"/>
            <a:ext cx="59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Реакцией может быть головная боль, тошнота, слабость, изжога, боль в области шеи и предплечье, нарушение сердечного ритма и усложнение дих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Рисунок 14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9"/>
          <p:cNvSpPr/>
          <p:nvPr/>
        </p:nvSpPr>
        <p:spPr>
          <a:xfrm>
            <a:off x="1643040" y="4672080"/>
            <a:ext cx="350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СОУСАХ ДЛЯ САЛ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ИСПОЛЬЗУЕТСЯ ДЛЯ УСИЛЕНИЯ ВКУ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sousi"/>
          <p:cNvPicPr/>
          <p:nvPr/>
        </p:nvPicPr>
        <p:blipFill>
          <a:blip r:embed="rId4"/>
          <a:stretch/>
        </p:blipFill>
        <p:spPr>
          <a:xfrm>
            <a:off x="1643040" y="2428920"/>
            <a:ext cx="3176640" cy="2357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"/>
          <p:cNvPicPr/>
          <p:nvPr/>
        </p:nvPicPr>
        <p:blipFill>
          <a:blip r:embed="rId5"/>
          <a:stretch/>
        </p:blipFill>
        <p:spPr>
          <a:xfrm>
            <a:off x="4643280" y="2643120"/>
            <a:ext cx="2786400" cy="185760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18"/>
          <p:cNvSpPr/>
          <p:nvPr/>
        </p:nvSpPr>
        <p:spPr>
          <a:xfrm>
            <a:off x="4929120" y="467208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</a:t>
            </a:r>
            <a:r>
              <a:rPr b="1" lang="uk-UA" sz="2000" spc="-1" strike="noStrike">
                <a:solidFill>
                  <a:srgbClr val="000000"/>
                </a:solidFill>
                <a:latin typeface="PF DinDisplay Pro"/>
              </a:rPr>
              <a:t>ЧИП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7"/>
          <p:cNvSpPr/>
          <p:nvPr/>
        </p:nvSpPr>
        <p:spPr>
          <a:xfrm>
            <a:off x="1500120" y="1844640"/>
            <a:ext cx="6357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4f1e3"/>
                </a:solidFill>
                <a:latin typeface="PF DinDisplay Pro"/>
              </a:rPr>
              <a:t>Глутамат натрия однозамещенный (</a:t>
            </a:r>
            <a:r>
              <a:rPr b="1" lang="en-US" sz="2300" spc="-1" strike="noStrike">
                <a:solidFill>
                  <a:srgbClr val="f4f1e3"/>
                </a:solidFill>
                <a:latin typeface="PF DinDisplay Pro"/>
              </a:rPr>
              <a:t>MSG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Рисунок 16" descr=""/>
          <p:cNvPicPr/>
          <p:nvPr/>
        </p:nvPicPr>
        <p:blipFill>
          <a:blip r:embed="rId6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9"/>
          <p:cNvSpPr/>
          <p:nvPr/>
        </p:nvSpPr>
        <p:spPr>
          <a:xfrm>
            <a:off x="1714680" y="246708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F DinDisplay Pro"/>
              </a:rPr>
              <a:t>Разрушает Д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10"/>
          <p:cNvSpPr/>
          <p:nvPr/>
        </p:nvSpPr>
        <p:spPr>
          <a:xfrm>
            <a:off x="1692360" y="292428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F DinDisplay Pro"/>
              </a:rPr>
              <a:t>Вызывает болезнь Альцгейм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1"/>
          <p:cNvSpPr/>
          <p:nvPr/>
        </p:nvSpPr>
        <p:spPr>
          <a:xfrm>
            <a:off x="1714680" y="3333600"/>
            <a:ext cx="5929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PF DinDisplay Pro"/>
              </a:rPr>
              <a:t>В “фри”</a:t>
            </a:r>
            <a:r>
              <a:rPr b="0" lang="en-US" sz="2600" spc="-1" strike="noStrike">
                <a:solidFill>
                  <a:srgbClr val="000000"/>
                </a:solidFill>
                <a:latin typeface="PF DinDisplay Pro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PF DinDisplay Pro"/>
              </a:rPr>
              <a:t>его в 100 раз больше нор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12"/>
          <p:cNvSpPr/>
          <p:nvPr/>
        </p:nvSpPr>
        <p:spPr>
          <a:xfrm>
            <a:off x="1714680" y="376236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F DinDisplay Pro"/>
              </a:rPr>
              <a:t>Поражает нервную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13"/>
          <p:cNvSpPr/>
          <p:nvPr/>
        </p:nvSpPr>
        <p:spPr>
          <a:xfrm>
            <a:off x="1716120" y="4280040"/>
            <a:ext cx="6095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PF DinDisplay Pro"/>
              </a:rPr>
              <a:t>Способствует разным генетическим мутациям и образованию опухолей в брюшной поло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КАНЦЕРОГ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7"/>
          <p:cNvSpPr/>
          <p:nvPr/>
        </p:nvSpPr>
        <p:spPr>
          <a:xfrm>
            <a:off x="1643040" y="180036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АКРИЛАМ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Рисунок 1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87" name="Прямоугольник 9"/>
          <p:cNvSpPr/>
          <p:nvPr/>
        </p:nvSpPr>
        <p:spPr>
          <a:xfrm>
            <a:off x="1714680" y="439272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СОДЕРЖИТСЯ В ЖАРЕНЫХ И ПЕЧЕНЫХ ПРОДУК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КАНЦЕРОГ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7"/>
          <p:cNvSpPr/>
          <p:nvPr/>
        </p:nvSpPr>
        <p:spPr>
          <a:xfrm>
            <a:off x="1643040" y="180036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АКРИЛАМ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5" descr="p_img_57762025"/>
          <p:cNvPicPr/>
          <p:nvPr/>
        </p:nvPicPr>
        <p:blipFill>
          <a:blip r:embed="rId4"/>
          <a:stretch/>
        </p:blipFill>
        <p:spPr>
          <a:xfrm>
            <a:off x="1857240" y="2571840"/>
            <a:ext cx="5572440" cy="185724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10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97" name="Прямоугольник 9"/>
          <p:cNvSpPr/>
          <p:nvPr/>
        </p:nvSpPr>
        <p:spPr>
          <a:xfrm>
            <a:off x="1714680" y="256860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F DinDisplay Pro"/>
              </a:rPr>
              <a:t>Используется для увеличения объема хлеба и улучшения структуры мяки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ДОБАВКА ДЛЯ УЛУЧШЕНИЯ КАЧЕСТВА МУ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7"/>
          <p:cNvSpPr/>
          <p:nvPr/>
        </p:nvSpPr>
        <p:spPr>
          <a:xfrm>
            <a:off x="1643040" y="180036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КАЛИЙ БРОМ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2"/>
          <p:cNvSpPr/>
          <p:nvPr/>
        </p:nvSpPr>
        <p:spPr>
          <a:xfrm>
            <a:off x="1714680" y="314316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F DinDisplay Pro"/>
              </a:rPr>
              <a:t>Большая часть броматов быстро распадается на опасные формы бром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3"/>
          <p:cNvSpPr/>
          <p:nvPr/>
        </p:nvSpPr>
        <p:spPr>
          <a:xfrm>
            <a:off x="1714680" y="371484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F DinDisplay Pro"/>
              </a:rPr>
              <a:t>Броматы могут спровоцировать онкологические заболевания, их мизерное количество содержащееся в хлебе может быть причиной заболе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F DinDisplay Pro"/>
              </a:rPr>
              <a:t>Их использование запрещено в Великобритании и Южной Афр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Рисунок 14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07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ДОБАВКА ДЛЯ УЛУЧШЕНИЯ КАЧЕСТВА МУ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7"/>
          <p:cNvSpPr/>
          <p:nvPr/>
        </p:nvSpPr>
        <p:spPr>
          <a:xfrm>
            <a:off x="1643040" y="180036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КАЛИЙ БРОМ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myka"/>
          <p:cNvPicPr/>
          <p:nvPr/>
        </p:nvPicPr>
        <p:blipFill>
          <a:blip r:embed="rId4"/>
          <a:srcRect l="0" t="0" r="0" b="106"/>
          <a:stretch/>
        </p:blipFill>
        <p:spPr>
          <a:xfrm>
            <a:off x="1816200" y="2571840"/>
            <a:ext cx="5613480" cy="214308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14"/>
          <p:cNvSpPr/>
          <p:nvPr/>
        </p:nvSpPr>
        <p:spPr>
          <a:xfrm>
            <a:off x="1785960" y="4714920"/>
            <a:ext cx="56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СОДЕРЖИТСЯ В БЕЛОЙ МУ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Рисунок 9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9"/>
          <p:cNvSpPr/>
          <p:nvPr/>
        </p:nvSpPr>
        <p:spPr>
          <a:xfrm>
            <a:off x="1714680" y="2577960"/>
            <a:ext cx="59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Нитрат натрия является стабилизатором красного цвета консервированного мяса и пищевой добав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КРАСИТЕЛИ, ПРИПРАВЫ, КОНСЕРВА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7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Нитрат натр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3"/>
          <p:cNvSpPr/>
          <p:nvPr/>
        </p:nvSpPr>
        <p:spPr>
          <a:xfrm>
            <a:off x="1714680" y="3841920"/>
            <a:ext cx="59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Используется для сухой консервации мяса, потому что он разлагается медленнее на нитр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Рисунок 10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9"/>
          <p:cNvSpPr/>
          <p:nvPr/>
        </p:nvSpPr>
        <p:spPr>
          <a:xfrm>
            <a:off x="1714680" y="2786040"/>
            <a:ext cx="585756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F DinDisplay Pro"/>
              </a:rPr>
              <a:t>Пробл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F DinDisplay Pro"/>
              </a:rPr>
              <a:t>Почему такие вкусные, и на первый взгляд, безопасные продукты попадают в список опасной еды под названием «фаст-фуд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9"/>
          <p:cNvSpPr/>
          <p:nvPr/>
        </p:nvSpPr>
        <p:spPr>
          <a:xfrm>
            <a:off x="1714680" y="2562120"/>
            <a:ext cx="5929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Нитрит натрия замедляет рост бактерий, которые вызывают ботулизм. Добавление нитритов в продукты может увеличивать влияние нитрозаминов, которые становятся причиной онкологических заболеваний и в большом количестве находятся в жареном мя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КРАСИТЕЛИ, ПРИПРАВЫ, КОНСЕРВА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7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Нитрит натр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Рисунок 10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35" name="Прямоугольник 9"/>
          <p:cNvSpPr/>
          <p:nvPr/>
        </p:nvSpPr>
        <p:spPr>
          <a:xfrm>
            <a:off x="4857840" y="471492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БЕК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КРАСИТЕЛИ, ПРИПРАВЫ, КОНСЕРВАН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14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Нитрит натрия, нитрат натрию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29763"/>
          <p:cNvPicPr/>
          <p:nvPr/>
        </p:nvPicPr>
        <p:blipFill>
          <a:blip r:embed="rId4"/>
          <a:stretch/>
        </p:blipFill>
        <p:spPr>
          <a:xfrm>
            <a:off x="4000680" y="2643120"/>
            <a:ext cx="3487680" cy="20001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1242116289"/>
          <p:cNvPicPr/>
          <p:nvPr/>
        </p:nvPicPr>
        <p:blipFill>
          <a:blip r:embed="rId5"/>
          <a:stretch/>
        </p:blipFill>
        <p:spPr>
          <a:xfrm>
            <a:off x="1785960" y="25718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18"/>
          <p:cNvSpPr/>
          <p:nvPr/>
        </p:nvSpPr>
        <p:spPr>
          <a:xfrm>
            <a:off x="1643040" y="4714920"/>
            <a:ext cx="30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КОПЧЕНОЙ РЫ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Рисунок 12" descr=""/>
          <p:cNvPicPr/>
          <p:nvPr/>
        </p:nvPicPr>
        <p:blipFill>
          <a:blip r:embed="rId6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9"/>
          <p:cNvSpPr/>
          <p:nvPr/>
        </p:nvSpPr>
        <p:spPr>
          <a:xfrm>
            <a:off x="1714680" y="250020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Синтетический жир, который используется для изготовления чип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ЗАМЕНИТЕЛЬ ЖИ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7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Олестра (Олеан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13"/>
          <p:cNvSpPr/>
          <p:nvPr/>
        </p:nvSpPr>
        <p:spPr>
          <a:xfrm>
            <a:off x="1714680" y="315900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Может вызвать диарею, боль в желудке спазматического характера, метеор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10"/>
          <p:cNvSpPr/>
          <p:nvPr/>
        </p:nvSpPr>
        <p:spPr>
          <a:xfrm>
            <a:off x="1714680" y="3789360"/>
            <a:ext cx="59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Снижает усвоение организмом полезных жирорастворимых </a:t>
            </a:r>
            <a:r>
              <a:rPr b="0" lang="el-GR" sz="2000" spc="-1" strike="noStrike">
                <a:solidFill>
                  <a:srgbClr val="000000"/>
                </a:solidFill>
                <a:latin typeface="PF DinDisplay Pro"/>
              </a:rPr>
              <a:t>α-, β-</a:t>
            </a: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каротина, ликопина и лютеина, которые находятся во фруктах и овощ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Рисунок 11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ЗАМЕНИТЕЛЬ ЖИ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14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Олестра (Олеан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8"/>
          <p:cNvSpPr/>
          <p:nvPr/>
        </p:nvSpPr>
        <p:spPr>
          <a:xfrm>
            <a:off x="3500280" y="4672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F DinDisplay Pro"/>
              </a:rPr>
              <a:t>В КРЕКЕ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16"/>
          <p:cNvPicPr/>
          <p:nvPr/>
        </p:nvPicPr>
        <p:blipFill>
          <a:blip r:embed="rId4"/>
          <a:srcRect l="0" t="0" r="0" b="-170"/>
          <a:stretch/>
        </p:blipFill>
        <p:spPr>
          <a:xfrm>
            <a:off x="1785960" y="2500200"/>
            <a:ext cx="5643720" cy="221472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9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9"/>
          <p:cNvSpPr/>
          <p:nvPr/>
        </p:nvSpPr>
        <p:spPr>
          <a:xfrm>
            <a:off x="1714680" y="250020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СОХРАНЯЮТ ЦВЕТ УКАЗАННЫХ ПРОДУ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ТБЕЛИВАЮЩИЕ И КОНСЕРВИРУЮЩ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7"/>
          <p:cNvSpPr/>
          <p:nvPr/>
        </p:nvSpPr>
        <p:spPr>
          <a:xfrm>
            <a:off x="1500120" y="185724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1e3"/>
                </a:solidFill>
                <a:latin typeface="PF DinDisplay Pro"/>
              </a:rPr>
              <a:t>СУЛЬФ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13"/>
          <p:cNvSpPr/>
          <p:nvPr/>
        </p:nvSpPr>
        <p:spPr>
          <a:xfrm>
            <a:off x="1714680" y="292896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ПРЕДОТВРАЩАЮТ РОСТ БАКТЕРИЙ В ВИН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10"/>
          <p:cNvSpPr/>
          <p:nvPr/>
        </p:nvSpPr>
        <p:spPr>
          <a:xfrm>
            <a:off x="1714680" y="335772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РАЗРУШАЮТ ВИТАМИН В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11"/>
          <p:cNvSpPr/>
          <p:nvPr/>
        </p:nvSpPr>
        <p:spPr>
          <a:xfrm>
            <a:off x="1714680" y="378612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МОГУТ СЛУЖИТЬ ПРИЧИНОЙ ПРИСТУПА АСТ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Рисунок 12" descr=""/>
          <p:cNvPicPr/>
          <p:nvPr/>
        </p:nvPicPr>
        <p:blipFill>
          <a:blip r:embed="rId5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78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ТБЕЛИВАЮЩИЕ И КОНСЕРВИРУЮЩ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18"/>
          <p:cNvSpPr/>
          <p:nvPr/>
        </p:nvSpPr>
        <p:spPr>
          <a:xfrm>
            <a:off x="1785960" y="464328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PF DinDisplay Pro"/>
              </a:rPr>
              <a:t>В СУХОФРУКТАХ И ВИ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9"/>
          <p:cNvSpPr/>
          <p:nvPr/>
        </p:nvSpPr>
        <p:spPr>
          <a:xfrm>
            <a:off x="1500120" y="185724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1e3"/>
                </a:solidFill>
                <a:latin typeface="PF DinDisplay Pro"/>
              </a:rPr>
              <a:t>СУЛЬФИ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syforuktu"/>
          <p:cNvPicPr/>
          <p:nvPr/>
        </p:nvPicPr>
        <p:blipFill>
          <a:blip r:embed="rId4"/>
          <a:srcRect l="0" t="0" r="0" b="159"/>
          <a:stretch/>
        </p:blipFill>
        <p:spPr>
          <a:xfrm>
            <a:off x="2000160" y="2571840"/>
            <a:ext cx="3138480" cy="2122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foto147"/>
          <p:cNvPicPr/>
          <p:nvPr/>
        </p:nvPicPr>
        <p:blipFill>
          <a:blip r:embed="rId5"/>
          <a:stretch/>
        </p:blipFill>
        <p:spPr>
          <a:xfrm>
            <a:off x="5572080" y="2571840"/>
            <a:ext cx="1785960" cy="2112840"/>
          </a:xfrm>
          <a:prstGeom prst="rect">
            <a:avLst/>
          </a:prstGeom>
          <a:ln w="0">
            <a:noFill/>
          </a:ln>
        </p:spPr>
      </p:pic>
      <p:pic>
        <p:nvPicPr>
          <p:cNvPr id="383" name="Рисунок 12" descr=""/>
          <p:cNvPicPr/>
          <p:nvPr/>
        </p:nvPicPr>
        <p:blipFill>
          <a:blip r:embed="rId6"/>
          <a:stretch/>
        </p:blipFill>
        <p:spPr>
          <a:xfrm>
            <a:off x="1000080" y="188136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0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89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ИМИКО-ТЕОРЕТИЧЕСКОЙ ЛАБОРАТ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9"/>
          <p:cNvSpPr/>
          <p:nvPr/>
        </p:nvSpPr>
        <p:spPr>
          <a:xfrm>
            <a:off x="1692360" y="2924280"/>
            <a:ext cx="60008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Исследования химического состава фаст-фуда показали: 7 веществ – положительно влияют на организм человека, 13 опасны и длительное их употребление в неограниченном количестве могут привести к болезням и летальному исход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7"/>
          <p:cNvSpPr/>
          <p:nvPr/>
        </p:nvSpPr>
        <p:spPr>
          <a:xfrm>
            <a:off x="324000" y="2781360"/>
            <a:ext cx="8424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4f1e3"/>
                </a:solidFill>
                <a:latin typeface="Arial"/>
              </a:rPr>
              <a:t>Отчет химико-практической лаборатор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399" name="Прямоугольник 11"/>
          <p:cNvSpPr/>
          <p:nvPr/>
        </p:nvSpPr>
        <p:spPr>
          <a:xfrm>
            <a:off x="1454040" y="1849320"/>
            <a:ext cx="635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4f1e3"/>
                </a:solidFill>
                <a:latin typeface="PF DinDisplay Pro"/>
              </a:rPr>
              <a:t>ХИМИКО-ПРАКТИЧЕСКАЯ ЛАБОРАТОР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ПРЕДЕЛЕНИЕ КОНСЕРВАНТОВ В КАРТОФЕЛЕ «ФР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9"/>
          <p:cNvSpPr/>
          <p:nvPr/>
        </p:nvSpPr>
        <p:spPr>
          <a:xfrm>
            <a:off x="1714680" y="2529000"/>
            <a:ext cx="59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ДЛЯ ОПЫТА ПОНАДОБ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7" descr=""/>
          <p:cNvPicPr/>
          <p:nvPr/>
        </p:nvPicPr>
        <p:blipFill>
          <a:blip r:embed="rId5"/>
          <a:stretch/>
        </p:blipFill>
        <p:spPr>
          <a:xfrm>
            <a:off x="2000160" y="3000240"/>
            <a:ext cx="2357640" cy="17686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"/>
          <p:cNvPicPr/>
          <p:nvPr/>
        </p:nvPicPr>
        <p:blipFill>
          <a:blip r:embed="rId6"/>
          <a:stretch/>
        </p:blipFill>
        <p:spPr>
          <a:xfrm>
            <a:off x="5143680" y="3286080"/>
            <a:ext cx="2357280" cy="176688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9"/>
          <p:cNvSpPr/>
          <p:nvPr/>
        </p:nvSpPr>
        <p:spPr>
          <a:xfrm>
            <a:off x="1655640" y="4734000"/>
            <a:ext cx="442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PF DinDisplay Pro"/>
              </a:rPr>
              <a:t>КАРТОШКА ФРИ (КУПЛЕННАЯ В КАФ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9"/>
          <p:cNvSpPr/>
          <p:nvPr/>
        </p:nvSpPr>
        <p:spPr>
          <a:xfrm>
            <a:off x="4000680" y="285444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F DinDisplay Pro"/>
              </a:rPr>
              <a:t>КАРТОШКА СВАРЕННАЯ В ДОМАШНИХ УСЛОВ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11" name="Прямоугольник 11"/>
          <p:cNvSpPr/>
          <p:nvPr/>
        </p:nvSpPr>
        <p:spPr>
          <a:xfrm>
            <a:off x="1454040" y="1849320"/>
            <a:ext cx="635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4f1e3"/>
                </a:solidFill>
                <a:latin typeface="PF DinDisplay Pro"/>
              </a:rPr>
              <a:t>ХИМИКО-ПРАКТИЧЕСКАЯ ЛАБОРАТОР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15"/>
          <p:cNvSpPr/>
          <p:nvPr/>
        </p:nvSpPr>
        <p:spPr>
          <a:xfrm>
            <a:off x="1692360" y="220500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ПРЕДЕЛЕНИЕ КОНСЕРВАНТОВ В КАРТОФЕЛЕ «ФР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9"/>
          <p:cNvSpPr/>
          <p:nvPr/>
        </p:nvSpPr>
        <p:spPr>
          <a:xfrm>
            <a:off x="1714680" y="2540160"/>
            <a:ext cx="5929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ОПЫТ ПРОДЛИТСЯ 3 НЕД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В ТЕЧЕНИИ 3-Х НЕДЕЛЬ, МЫ БУДЕМ ФОТОГРАФИРОВАТЬ 3 РАЗА НАШ ОПЫ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1 ЭТАП </a:t>
            </a: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– КАРТОШКА ПОСЛЕ ПОКУП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2-ЭТАП </a:t>
            </a: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– ПРОШЛО 2 НЕ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3 ЭТАП</a:t>
            </a:r>
            <a:r>
              <a:rPr b="1" lang="en-US" sz="2000" spc="-1" strike="noStrike">
                <a:solidFill>
                  <a:srgbClr val="000000"/>
                </a:solidFill>
                <a:latin typeface="PF DinDisplay Pr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(ЗАКЛЮЧИТЕЛЬНЫ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324000" y="2781360"/>
            <a:ext cx="8424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4f1e3"/>
                </a:solidFill>
                <a:latin typeface="Arial"/>
              </a:rPr>
              <a:t>Отчет химико-теоретической лаборатор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19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ОПЫТ (1 НЕД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ПРЕДЕЛЕНИЕ КОНСЕРВАНТОВ В КАРТОФЕЛЕ «ФР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9"/>
          <p:cNvSpPr/>
          <p:nvPr/>
        </p:nvSpPr>
        <p:spPr>
          <a:xfrm>
            <a:off x="1714680" y="2421000"/>
            <a:ext cx="2571480" cy="30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F DinDisplay Pro"/>
              </a:rPr>
              <a:t>1. </a:t>
            </a:r>
            <a:r>
              <a:rPr b="0" lang="ru-RU" sz="1900" spc="-1" strike="noStrike">
                <a:solidFill>
                  <a:srgbClr val="000000"/>
                </a:solidFill>
                <a:latin typeface="PF DinDisplay Pro"/>
              </a:rPr>
              <a:t>Поместим в обе банки картошку(Фри), и домашнюю картош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F DinDisplay Pro"/>
              </a:rPr>
              <a:t>2. </a:t>
            </a:r>
            <a:r>
              <a:rPr b="0" lang="ru-RU" sz="1900" spc="-1" strike="noStrike">
                <a:solidFill>
                  <a:srgbClr val="000000"/>
                </a:solidFill>
                <a:latin typeface="PF DinDisplay Pro"/>
              </a:rPr>
              <a:t>Закроем плотно крышкой и поставим на открытое место, чтобы наблюда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5" descr="SAM_3383"/>
          <p:cNvPicPr/>
          <p:nvPr/>
        </p:nvPicPr>
        <p:blipFill>
          <a:blip r:embed="rId5"/>
          <a:srcRect l="0" t="0" r="41" b="0"/>
          <a:stretch/>
        </p:blipFill>
        <p:spPr>
          <a:xfrm>
            <a:off x="4222800" y="2571840"/>
            <a:ext cx="327816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28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ОПЫТ (1 НЕД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ПРЕДЕЛЕНИЕ КОНСЕРВАНТОВ В КАРТОФЕЛЕ «ФР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9"/>
          <p:cNvSpPr/>
          <p:nvPr/>
        </p:nvSpPr>
        <p:spPr>
          <a:xfrm>
            <a:off x="5500800" y="2500200"/>
            <a:ext cx="207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1 день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ртош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фри) будет без изменений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и домашняя</a:t>
            </a: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5" descr="SAM_3382"/>
          <p:cNvPicPr/>
          <p:nvPr/>
        </p:nvPicPr>
        <p:blipFill>
          <a:blip r:embed="rId5"/>
          <a:srcRect l="0" t="0" r="18" b="-54"/>
          <a:stretch/>
        </p:blipFill>
        <p:spPr>
          <a:xfrm>
            <a:off x="1714680" y="2575080"/>
            <a:ext cx="3714480" cy="249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37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ОПЫТ (</a:t>
            </a:r>
            <a:r>
              <a:rPr b="1" lang="en-US" sz="2800" spc="-1" strike="noStrike">
                <a:solidFill>
                  <a:srgbClr val="f4f1e3"/>
                </a:solidFill>
                <a:latin typeface="PF DinDisplay Pro"/>
              </a:rPr>
              <a:t>2</a:t>
            </a: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 НЕД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ПРЕДЕЛЕНИЕ КОНСЕРВАНТОВ В КАРТОФЕЛЕ «ФР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9"/>
          <p:cNvSpPr/>
          <p:nvPr/>
        </p:nvSpPr>
        <p:spPr>
          <a:xfrm>
            <a:off x="5500800" y="2428920"/>
            <a:ext cx="207144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PF DinDisplay Pro"/>
              </a:rPr>
              <a:t>1. </a:t>
            </a:r>
            <a:r>
              <a:rPr b="0" lang="ru-RU" sz="1900" spc="-1" strike="noStrike">
                <a:solidFill>
                  <a:srgbClr val="000000"/>
                </a:solidFill>
                <a:latin typeface="PF DinDisplay Pro"/>
              </a:rPr>
              <a:t>После первой недели, мы можем рассмотреть образование плесени в банке №2, а в банке №1 никаких измене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9" descr="SAM_3492"/>
          <p:cNvPicPr/>
          <p:nvPr/>
        </p:nvPicPr>
        <p:blipFill>
          <a:blip r:embed="rId5"/>
          <a:stretch/>
        </p:blipFill>
        <p:spPr>
          <a:xfrm>
            <a:off x="1714680" y="2571840"/>
            <a:ext cx="3786120" cy="24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46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ОПЫТ (</a:t>
            </a:r>
            <a:r>
              <a:rPr b="1" lang="en-US" sz="2800" spc="-1" strike="noStrike">
                <a:solidFill>
                  <a:srgbClr val="f4f1e3"/>
                </a:solidFill>
                <a:latin typeface="PF DinDisplay Pro"/>
              </a:rPr>
              <a:t>3</a:t>
            </a: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 НЕД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ПРЕДЕЛЕНИЕ КОНСЕРВАНТОВ В КАРТОФЕЛЕ «ФР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9"/>
          <p:cNvSpPr/>
          <p:nvPr/>
        </p:nvSpPr>
        <p:spPr>
          <a:xfrm>
            <a:off x="5000760" y="2428920"/>
            <a:ext cx="2786040" cy="27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F DinDisplay Pro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PF DinDisplay Pro"/>
              </a:rPr>
              <a:t>Через три недели мы наблюдаем очень большую разн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F DinDisplay Pro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PF DinDisplay Pro"/>
              </a:rPr>
              <a:t>В банке с картошкой фри – ничего не измени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F DinDisplay Pro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PF DinDisplay Pro"/>
              </a:rPr>
              <a:t>В банке с домашней вареной картошкой – очень много плес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5" descr="SAM_3497"/>
          <p:cNvPicPr/>
          <p:nvPr/>
        </p:nvPicPr>
        <p:blipFill>
          <a:blip r:embed="rId5"/>
          <a:stretch/>
        </p:blipFill>
        <p:spPr>
          <a:xfrm>
            <a:off x="1714680" y="2571840"/>
            <a:ext cx="3286080" cy="25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55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ПРЕДЕЛЕНИЕ КОНСЕРВАНТОВ В КАРТОФЕЛЕ «ФР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9"/>
          <p:cNvSpPr/>
          <p:nvPr/>
        </p:nvSpPr>
        <p:spPr>
          <a:xfrm>
            <a:off x="1714680" y="2428920"/>
            <a:ext cx="60004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Картофель Фри остался без запаха, стал твердым, если потрясти банку, то картофель Фри издаст звон. На поверхности появилось масло, но в целом она осталась картошкой фри, которой была раньш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А на вареном картофеле мы видим плесень, неприятный запах. Значит, картофель фри может храниться 3 недели, а вареный картофель не пригоден к употреблени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62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ОПРЕДЕЛЕНИЕ КОНСЕРВАНТОВ В КАРТОФЕЛЕ «ФР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9"/>
          <p:cNvSpPr/>
          <p:nvPr/>
        </p:nvSpPr>
        <p:spPr>
          <a:xfrm>
            <a:off x="1857240" y="2637000"/>
            <a:ext cx="585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артофель домашнего приготовления без консервантов, а картофель Фри содержит их в большем количестве, потому что за такой период с нее выделилась только вла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7"/>
          <p:cNvSpPr/>
          <p:nvPr/>
        </p:nvSpPr>
        <p:spPr>
          <a:xfrm>
            <a:off x="324000" y="2637000"/>
            <a:ext cx="84247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4f1e3"/>
                </a:solidFill>
                <a:latin typeface="Arial"/>
              </a:rPr>
              <a:t>Отчет социологических исследований учащихся 9-11 классов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0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71" name="Прямоугольник 11"/>
          <p:cNvSpPr/>
          <p:nvPr/>
        </p:nvSpPr>
        <p:spPr>
          <a:xfrm>
            <a:off x="1500120" y="1916280"/>
            <a:ext cx="635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4f1e3"/>
                </a:solidFill>
                <a:latin typeface="PF DinDisplay Pro"/>
              </a:rPr>
              <a:t>КАК ЧАСТО ВЫ УПОТРЕБЛЯЕТЕ ЧИПСЫ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2" descr="I:\Новая папка\1.1.png"/>
          <p:cNvPicPr/>
          <p:nvPr/>
        </p:nvPicPr>
        <p:blipFill>
          <a:blip r:embed="rId4"/>
          <a:stretch/>
        </p:blipFill>
        <p:spPr>
          <a:xfrm>
            <a:off x="0" y="1020600"/>
            <a:ext cx="9144000" cy="485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2" descr="I:\Новая папка\1.1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78" name="Прямоугольник 11"/>
          <p:cNvSpPr/>
          <p:nvPr/>
        </p:nvSpPr>
        <p:spPr>
          <a:xfrm>
            <a:off x="1500120" y="1863720"/>
            <a:ext cx="6357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4f1e3"/>
                </a:solidFill>
                <a:latin typeface="PF DinDisplay Pro"/>
              </a:rPr>
              <a:t>КАК ЧАСТО ВЫ УПОТРЕБЛЯЕТЕ ХОТ-ДОГИ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" descr="I:\Новая папка\1.1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84" name="Прямоугольник 11"/>
          <p:cNvSpPr/>
          <p:nvPr/>
        </p:nvSpPr>
        <p:spPr>
          <a:xfrm>
            <a:off x="1500120" y="190980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4f1e3"/>
                </a:solidFill>
                <a:latin typeface="PF DinDisplay Pro"/>
              </a:rPr>
              <a:t>КАК ЧАСТО ВЫ УПОТРЕБЛЯЕТЕ КАРТОШКУ «ФРИ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9"/>
          <p:cNvSpPr/>
          <p:nvPr/>
        </p:nvSpPr>
        <p:spPr>
          <a:xfrm>
            <a:off x="1714680" y="250020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F DinDisplay Pro"/>
              </a:rPr>
              <a:t>Сохраняет красный цвет мясных проду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0"/>
          <p:cNvSpPr/>
          <p:nvPr/>
        </p:nvSpPr>
        <p:spPr>
          <a:xfrm>
            <a:off x="1692360" y="332748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F DinDisplay Pro"/>
              </a:rPr>
              <a:t>Предотвращает образование канцерогенных нитрозами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1"/>
          <p:cNvSpPr/>
          <p:nvPr/>
        </p:nvSpPr>
        <p:spPr>
          <a:xfrm>
            <a:off x="1714680" y="4119480"/>
            <a:ext cx="59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PF DinDisplay Pro"/>
              </a:rPr>
              <a:t>Используется для насыщения продуктов витами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5"/>
          <p:cNvSpPr/>
          <p:nvPr/>
        </p:nvSpPr>
        <p:spPr>
          <a:xfrm>
            <a:off x="1714680" y="2195640"/>
            <a:ext cx="59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Антиоксидант, стабилизатор цвета или пищевая доба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7"/>
          <p:cNvSpPr/>
          <p:nvPr/>
        </p:nvSpPr>
        <p:spPr>
          <a:xfrm>
            <a:off x="1643040" y="1800360"/>
            <a:ext cx="6000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4f1e3"/>
                </a:solidFill>
                <a:latin typeface="PF DinDisplay Pro"/>
              </a:rPr>
              <a:t>Аскорбиновая кислота (витамин С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2" descr=""/>
          <p:cNvPicPr/>
          <p:nvPr/>
        </p:nvPicPr>
        <p:blipFill>
          <a:blip r:embed="rId5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" descr="I:\Новая папка\1.1.png"/>
          <p:cNvPicPr/>
          <p:nvPr/>
        </p:nvPicPr>
        <p:blipFill>
          <a:blip r:embed="rId4"/>
          <a:stretch/>
        </p:blipFill>
        <p:spPr>
          <a:xfrm>
            <a:off x="0" y="83664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490" name="Прямоугольник 11"/>
          <p:cNvSpPr/>
          <p:nvPr/>
        </p:nvSpPr>
        <p:spPr>
          <a:xfrm>
            <a:off x="1500120" y="1844640"/>
            <a:ext cx="63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f1e3"/>
                </a:solidFill>
                <a:latin typeface="PF DinDisplay Pro"/>
              </a:rPr>
              <a:t>КАК ЧАСТО ВЫ УПОТРЕБЛЯЕТЕ ФОРНЕТТ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I:\Новая папка\1.1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96" name="Прямоугольник 11"/>
          <p:cNvSpPr/>
          <p:nvPr/>
        </p:nvSpPr>
        <p:spPr>
          <a:xfrm>
            <a:off x="1500120" y="185724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1e3"/>
                </a:solidFill>
                <a:latin typeface="PF DinDisplay Pro"/>
              </a:rPr>
              <a:t>ВРЕДЕН ЛИ ФАСТ-ФУ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" descr="I:\Новая папка\1.1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2" name="Прямоугольник 11"/>
          <p:cNvSpPr/>
          <p:nvPr/>
        </p:nvSpPr>
        <p:spPr>
          <a:xfrm>
            <a:off x="1571760" y="191628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4f1e3"/>
                </a:solidFill>
                <a:latin typeface="PF DinDisplay Pro"/>
              </a:rPr>
              <a:t>На какие системы органов влияют продукты фаст-фуд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I:\Новая папка\1.1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8" name="Прямоугольник 11"/>
          <p:cNvSpPr/>
          <p:nvPr/>
        </p:nvSpPr>
        <p:spPr>
          <a:xfrm>
            <a:off x="1596960" y="1916280"/>
            <a:ext cx="6143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4f1e3"/>
                </a:solidFill>
                <a:latin typeface="PF DinDisplay Pro"/>
              </a:rPr>
              <a:t>Где Вы чаще всего покупаете продукты фаст-фуда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2" descr="I:\Новая папка\1.1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14" name="Прямоугольник 11"/>
          <p:cNvSpPr/>
          <p:nvPr/>
        </p:nvSpPr>
        <p:spPr>
          <a:xfrm>
            <a:off x="1571760" y="1871640"/>
            <a:ext cx="6143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4f1e3"/>
                </a:solidFill>
                <a:latin typeface="PF DinDisplay Pro"/>
              </a:rPr>
              <a:t>Нужно ли открытие Макдональдса в нашем городе</a:t>
            </a:r>
            <a:r>
              <a:rPr b="1" lang="ru-RU" sz="2000" spc="-1" strike="noStrike">
                <a:solidFill>
                  <a:srgbClr val="f4f1e3"/>
                </a:solidFill>
                <a:latin typeface="PF DinDisplay Pro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20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PF DinDisplay Pro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оугольник 15"/>
          <p:cNvSpPr/>
          <p:nvPr/>
        </p:nvSpPr>
        <p:spPr>
          <a:xfrm>
            <a:off x="1692360" y="220500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ЗУЛЬТАТЫ СОЦИАЛОГИЧЕСКОГО ОПРО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9"/>
          <p:cNvSpPr/>
          <p:nvPr/>
        </p:nvSpPr>
        <p:spPr>
          <a:xfrm>
            <a:off x="1692360" y="2682720"/>
            <a:ext cx="600084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78%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учащихся знают о вредном влиянии фаст-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фуда на организм человек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22%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- не знают или не владеют информацией об это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употребляют продукты фаст-фуд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0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Прямоугольник 4"/>
          <p:cNvSpPr/>
          <p:nvPr/>
        </p:nvSpPr>
        <p:spPr>
          <a:xfrm>
            <a:off x="-34920" y="1052640"/>
            <a:ext cx="9144000" cy="51433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7"/>
          <p:cNvSpPr/>
          <p:nvPr/>
        </p:nvSpPr>
        <p:spPr>
          <a:xfrm>
            <a:off x="250920" y="1916280"/>
            <a:ext cx="8424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4f1e3"/>
                </a:solidFill>
                <a:latin typeface="Arial"/>
              </a:rPr>
              <a:t>Отчет координационного центр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6"/>
          <p:cNvGrpSpPr/>
          <p:nvPr/>
        </p:nvGrpSpPr>
        <p:grpSpPr>
          <a:xfrm>
            <a:off x="826920" y="2805120"/>
            <a:ext cx="2955960" cy="2735280"/>
            <a:chOff x="826920" y="2805120"/>
            <a:chExt cx="2955960" cy="2735280"/>
          </a:xfrm>
        </p:grpSpPr>
        <p:sp>
          <p:nvSpPr>
            <p:cNvPr id="526" name="Oval 4"/>
            <p:cNvSpPr/>
            <p:nvPr/>
          </p:nvSpPr>
          <p:spPr>
            <a:xfrm>
              <a:off x="826920" y="2805120"/>
              <a:ext cx="2955960" cy="2735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7" name="Picture 5" descr="6eba0b69fcfb0e138917770070b8ff13_full"/>
            <p:cNvPicPr/>
            <p:nvPr/>
          </p:nvPicPr>
          <p:blipFill>
            <a:blip r:embed="rId1"/>
            <a:stretch/>
          </p:blipFill>
          <p:spPr>
            <a:xfrm>
              <a:off x="1258920" y="3381480"/>
              <a:ext cx="2089080" cy="172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8" name="Прямоугольник 9"/>
          <p:cNvSpPr/>
          <p:nvPr/>
        </p:nvSpPr>
        <p:spPr>
          <a:xfrm>
            <a:off x="3851280" y="3084480"/>
            <a:ext cx="43927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500" spc="-1" strike="noStrike">
                <a:solidFill>
                  <a:srgbClr val="000000"/>
                </a:solidFill>
                <a:latin typeface="Arial"/>
              </a:rPr>
              <a:t>ЗА ИЛИ ПРОТИВ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3664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533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ПОЛОЖИ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Прямоугольник 15"/>
          <p:cNvSpPr/>
          <p:nvPr/>
        </p:nvSpPr>
        <p:spPr>
          <a:xfrm>
            <a:off x="1698480" y="2184480"/>
            <a:ext cx="59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9"/>
          <p:cNvSpPr/>
          <p:nvPr/>
        </p:nvSpPr>
        <p:spPr>
          <a:xfrm>
            <a:off x="1692360" y="2565360"/>
            <a:ext cx="6000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1. Это очень быстрая и недорогая ед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оугольник 9"/>
          <p:cNvSpPr/>
          <p:nvPr/>
        </p:nvSpPr>
        <p:spPr>
          <a:xfrm>
            <a:off x="1692360" y="2997360"/>
            <a:ext cx="60008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. В заведениях интересные предложения для дете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12" descr="96b913_thumb"/>
          <p:cNvPicPr/>
          <p:nvPr/>
        </p:nvPicPr>
        <p:blipFill>
          <a:blip r:embed="rId4"/>
          <a:stretch/>
        </p:blipFill>
        <p:spPr>
          <a:xfrm>
            <a:off x="3276720" y="3357720"/>
            <a:ext cx="302400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0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42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ПОЛОЖИ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9"/>
          <p:cNvSpPr/>
          <p:nvPr/>
        </p:nvSpPr>
        <p:spPr>
          <a:xfrm>
            <a:off x="1763640" y="2830680"/>
            <a:ext cx="6000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3. Картошка «фри» - источник витамина 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9"/>
          <p:cNvSpPr/>
          <p:nvPr/>
        </p:nvSpPr>
        <p:spPr>
          <a:xfrm>
            <a:off x="1763640" y="3406680"/>
            <a:ext cx="60008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4. В 100 г. сыра любой пиццы – 1000 мг Кальц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9"/>
          <p:cNvSpPr/>
          <p:nvPr/>
        </p:nvSpPr>
        <p:spPr>
          <a:xfrm>
            <a:off x="1763640" y="3983040"/>
            <a:ext cx="60008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 Употребление фаст-фуда приносит нам удовольствие, улучшает настро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0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51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ПОЛОЖИ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8" descr="112"/>
          <p:cNvPicPr/>
          <p:nvPr/>
        </p:nvPicPr>
        <p:blipFill>
          <a:blip r:embed="rId4"/>
          <a:stretch/>
        </p:blipFill>
        <p:spPr>
          <a:xfrm>
            <a:off x="3276720" y="2565360"/>
            <a:ext cx="284472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9"/>
          <p:cNvSpPr/>
          <p:nvPr/>
        </p:nvSpPr>
        <p:spPr>
          <a:xfrm>
            <a:off x="1714680" y="467208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КРУП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5"/>
          <p:cNvSpPr/>
          <p:nvPr/>
        </p:nvSpPr>
        <p:spPr>
          <a:xfrm>
            <a:off x="1714680" y="2195640"/>
            <a:ext cx="59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Антиоксидант, стабилизатор цвета или пищевая доба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7"/>
          <p:cNvSpPr/>
          <p:nvPr/>
        </p:nvSpPr>
        <p:spPr>
          <a:xfrm>
            <a:off x="1643040" y="1800360"/>
            <a:ext cx="6000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4f1e3"/>
                </a:solidFill>
                <a:latin typeface="PF DinDisplay Pro"/>
              </a:rPr>
              <a:t>Аскорбиновая кислота (витамин С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0"/>
          <p:cNvSpPr/>
          <p:nvPr/>
        </p:nvSpPr>
        <p:spPr>
          <a:xfrm>
            <a:off x="4140360" y="467208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МЯСНЫХ КОНСЕРВ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krupa"/>
          <p:cNvPicPr/>
          <p:nvPr/>
        </p:nvPicPr>
        <p:blipFill>
          <a:blip r:embed="rId4"/>
          <a:stretch/>
        </p:blipFill>
        <p:spPr>
          <a:xfrm>
            <a:off x="2214720" y="2517840"/>
            <a:ext cx="2214360" cy="2125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meet14"/>
          <p:cNvPicPr/>
          <p:nvPr/>
        </p:nvPicPr>
        <p:blipFill>
          <a:blip r:embed="rId5"/>
          <a:stretch/>
        </p:blipFill>
        <p:spPr>
          <a:xfrm>
            <a:off x="4519440" y="2714760"/>
            <a:ext cx="2943360" cy="19285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"/>
          <p:cNvPicPr/>
          <p:nvPr/>
        </p:nvPicPr>
        <p:blipFill>
          <a:blip r:embed="rId6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59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ОТРИЦА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9"/>
          <p:cNvSpPr/>
          <p:nvPr/>
        </p:nvSpPr>
        <p:spPr>
          <a:xfrm>
            <a:off x="1692360" y="2563920"/>
            <a:ext cx="2808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. При употреблении уличного фаст-фуда можно легко подхватить вирус гепатита 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Рисунок 3" descr="country_7_012990781730.jpg"/>
          <p:cNvPicPr/>
          <p:nvPr/>
        </p:nvPicPr>
        <p:blipFill>
          <a:blip r:embed="rId5"/>
          <a:stretch/>
        </p:blipFill>
        <p:spPr>
          <a:xfrm>
            <a:off x="4427640" y="2563920"/>
            <a:ext cx="1890720" cy="252072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4" descr="ictericia.jpg"/>
          <p:cNvPicPr/>
          <p:nvPr/>
        </p:nvPicPr>
        <p:blipFill>
          <a:blip r:embed="rId6"/>
          <a:stretch/>
        </p:blipFill>
        <p:spPr>
          <a:xfrm>
            <a:off x="6300720" y="2565360"/>
            <a:ext cx="154620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69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ОТРИЦА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Прямоугольник 9"/>
          <p:cNvSpPr/>
          <p:nvPr/>
        </p:nvSpPr>
        <p:spPr>
          <a:xfrm>
            <a:off x="1763640" y="2658960"/>
            <a:ext cx="26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Большое количество канцерогенов, которые содержатся в этих продук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Содержимое 3" descr="embl-hzd.jpg"/>
          <p:cNvPicPr/>
          <p:nvPr/>
        </p:nvPicPr>
        <p:blipFill>
          <a:blip r:embed="rId5"/>
          <a:stretch/>
        </p:blipFill>
        <p:spPr>
          <a:xfrm>
            <a:off x="4356000" y="2637000"/>
            <a:ext cx="3097440" cy="23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0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78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ОТРИЦА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Прямоугольник 9"/>
          <p:cNvSpPr/>
          <p:nvPr/>
        </p:nvSpPr>
        <p:spPr>
          <a:xfrm>
            <a:off x="3564000" y="2997360"/>
            <a:ext cx="39592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 Фанаты быстрой еды практически обречены на разные онкологические заболевания, как минимум на нервные расстройст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Рисунок 4" descr="3695-2.jpg"/>
          <p:cNvPicPr/>
          <p:nvPr/>
        </p:nvPicPr>
        <p:blipFill>
          <a:blip r:embed="rId5"/>
          <a:stretch/>
        </p:blipFill>
        <p:spPr>
          <a:xfrm>
            <a:off x="1763640" y="2565360"/>
            <a:ext cx="174456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87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ОТРИЦА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9"/>
          <p:cNvSpPr/>
          <p:nvPr/>
        </p:nvSpPr>
        <p:spPr>
          <a:xfrm>
            <a:off x="1763640" y="256536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табилизаторы, консерванты. эмульгаторы могут вызывать аллергически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оугольник 9"/>
          <p:cNvSpPr/>
          <p:nvPr/>
        </p:nvSpPr>
        <p:spPr>
          <a:xfrm>
            <a:off x="1763640" y="386064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Использование при изготовлении фаст-фудов запрещен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121, Е123, Е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96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ОТРИЦА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9"/>
          <p:cNvSpPr/>
          <p:nvPr/>
        </p:nvSpPr>
        <p:spPr>
          <a:xfrm>
            <a:off x="1763640" y="2965320"/>
            <a:ext cx="309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ричина возникновения сердечно-сосудистых заболеваний (инсультов, инфаркт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Содержимое 5" descr="serdtce1_original.jpg"/>
          <p:cNvPicPr/>
          <p:nvPr/>
        </p:nvPicPr>
        <p:blipFill>
          <a:blip r:embed="rId5"/>
          <a:stretch/>
        </p:blipFill>
        <p:spPr>
          <a:xfrm>
            <a:off x="4932360" y="2637000"/>
            <a:ext cx="2376360" cy="21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0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05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ОТРИЦА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9"/>
          <p:cNvSpPr/>
          <p:nvPr/>
        </p:nvSpPr>
        <p:spPr>
          <a:xfrm>
            <a:off x="4068720" y="2852640"/>
            <a:ext cx="30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Причина возникновения  заболеваний желудочно-кишечного 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Рисунок 6" descr="090609103526-large.jpg"/>
          <p:cNvPicPr/>
          <p:nvPr/>
        </p:nvPicPr>
        <p:blipFill>
          <a:blip r:embed="rId5"/>
          <a:stretch/>
        </p:blipFill>
        <p:spPr>
          <a:xfrm>
            <a:off x="1763640" y="2565360"/>
            <a:ext cx="189072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14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ОТРИЦА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оугольник 9"/>
          <p:cNvSpPr/>
          <p:nvPr/>
        </p:nvSpPr>
        <p:spPr>
          <a:xfrm>
            <a:off x="1763640" y="2565360"/>
            <a:ext cx="56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Причина возникновения заболеваний нервной сист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оугольник 9"/>
          <p:cNvSpPr/>
          <p:nvPr/>
        </p:nvSpPr>
        <p:spPr>
          <a:xfrm>
            <a:off x="1692360" y="3375000"/>
            <a:ext cx="56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Причина заболеваний эндокринн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9"/>
          <p:cNvSpPr/>
          <p:nvPr/>
        </p:nvSpPr>
        <p:spPr>
          <a:xfrm>
            <a:off x="1692360" y="41497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Способствует ожир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9"/>
          <p:cNvSpPr/>
          <p:nvPr/>
        </p:nvSpPr>
        <p:spPr>
          <a:xfrm>
            <a:off x="1692360" y="461628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Снижает иммунит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0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25" name="Прямоугольник 11"/>
          <p:cNvSpPr/>
          <p:nvPr/>
        </p:nvSpPr>
        <p:spPr>
          <a:xfrm>
            <a:off x="1500120" y="1785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4f1e3"/>
                </a:solidFill>
                <a:latin typeface="Arial"/>
              </a:rPr>
              <a:t>ОТРИЦАТЕЛЬНОЕ ВЛИ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оугольник 15"/>
          <p:cNvSpPr/>
          <p:nvPr/>
        </p:nvSpPr>
        <p:spPr>
          <a:xfrm>
            <a:off x="1714680" y="222552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ЧЕТ КООРДИНАЦИОННОГО ЦЕН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9"/>
          <p:cNvSpPr/>
          <p:nvPr/>
        </p:nvSpPr>
        <p:spPr>
          <a:xfrm>
            <a:off x="1692360" y="2478240"/>
            <a:ext cx="30240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2. Постоянное употребление фаст-фуда ведёт в «консервированию» организма веществами. Которые способны бальзамировать тело человека и не разлагаются на протяжении определенного времен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Содержимое 4" descr="1334708941_4960d055-big.jpg"/>
          <p:cNvPicPr/>
          <p:nvPr/>
        </p:nvPicPr>
        <p:blipFill>
          <a:blip r:embed="rId5"/>
          <a:stretch/>
        </p:blipFill>
        <p:spPr>
          <a:xfrm>
            <a:off x="4427640" y="3068640"/>
            <a:ext cx="3095640" cy="15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C:\Users\Никита\Desktop\Химия\punkts.png"/>
          <p:cNvPicPr/>
          <p:nvPr/>
        </p:nvPicPr>
        <p:blipFill>
          <a:blip r:embed="rId4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9"/>
          <p:cNvSpPr/>
          <p:nvPr/>
        </p:nvSpPr>
        <p:spPr>
          <a:xfrm>
            <a:off x="1714680" y="250020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Делают хлеб более мягким, маргарин тверже, карамели менее липки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Эмульга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7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Моно– и диглицерид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13"/>
          <p:cNvSpPr/>
          <p:nvPr/>
        </p:nvSpPr>
        <p:spPr>
          <a:xfrm>
            <a:off x="1714680" y="3357720"/>
            <a:ext cx="59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F DinDisplay Pro"/>
              </a:rPr>
              <a:t>Предотвращают  расслоение арахисового ма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2" descr=""/>
          <p:cNvPicPr/>
          <p:nvPr/>
        </p:nvPicPr>
        <p:blipFill>
          <a:blip r:embed="rId5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9"/>
          <p:cNvSpPr/>
          <p:nvPr/>
        </p:nvSpPr>
        <p:spPr>
          <a:xfrm>
            <a:off x="1643040" y="467208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СЛАДОС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5"/>
          <p:cNvSpPr/>
          <p:nvPr/>
        </p:nvSpPr>
        <p:spPr>
          <a:xfrm>
            <a:off x="1714680" y="21956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ЭМУЛЬГАТ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4"/>
          <p:cNvSpPr/>
          <p:nvPr/>
        </p:nvSpPr>
        <p:spPr>
          <a:xfrm>
            <a:off x="1500120" y="1800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Моно– и диглицерид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8"/>
          <p:cNvSpPr/>
          <p:nvPr/>
        </p:nvSpPr>
        <p:spPr>
          <a:xfrm>
            <a:off x="4929120" y="467208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F DinDisplay Pro"/>
              </a:rPr>
              <a:t>В МАРГАР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6_1218"/>
          <p:cNvPicPr/>
          <p:nvPr/>
        </p:nvPicPr>
        <p:blipFill>
          <a:blip r:embed="rId4"/>
          <a:stretch/>
        </p:blipFill>
        <p:spPr>
          <a:xfrm>
            <a:off x="2000160" y="2565360"/>
            <a:ext cx="2500560" cy="2149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margarin"/>
          <p:cNvPicPr/>
          <p:nvPr/>
        </p:nvPicPr>
        <p:blipFill>
          <a:blip r:embed="rId5"/>
          <a:stretch/>
        </p:blipFill>
        <p:spPr>
          <a:xfrm>
            <a:off x="4572000" y="2714760"/>
            <a:ext cx="2909880" cy="18572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" descr=""/>
          <p:cNvPicPr/>
          <p:nvPr/>
        </p:nvPicPr>
        <p:blipFill>
          <a:blip r:embed="rId6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4"/>
          <p:cNvSpPr/>
          <p:nvPr/>
        </p:nvSpPr>
        <p:spPr>
          <a:xfrm>
            <a:off x="0" y="857160"/>
            <a:ext cx="9144000" cy="51436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Никита\Desktop\osnova000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Никита\Desktop\Химия\osnova0001.pn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Никита\Desktop\Химия\osnova0002.png"/>
          <p:cNvPicPr/>
          <p:nvPr/>
        </p:nvPicPr>
        <p:blipFill>
          <a:blip r:embed="rId3"/>
          <a:stretch/>
        </p:blipFill>
        <p:spPr>
          <a:xfrm>
            <a:off x="0" y="59040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5"/>
          <p:cNvSpPr/>
          <p:nvPr/>
        </p:nvSpPr>
        <p:spPr>
          <a:xfrm>
            <a:off x="1714680" y="1940040"/>
            <a:ext cx="59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PF DinDisplay Pro"/>
              </a:rPr>
              <a:t>Витамин В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1500120" y="1557360"/>
            <a:ext cx="6357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4f1e3"/>
                </a:solidFill>
                <a:latin typeface="PF DinDisplay Pro"/>
              </a:rPr>
              <a:t>Мононитрат тиами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bxp64683_S"/>
          <p:cNvPicPr/>
          <p:nvPr/>
        </p:nvPicPr>
        <p:blipFill>
          <a:blip r:embed="rId4"/>
          <a:stretch/>
        </p:blipFill>
        <p:spPr>
          <a:xfrm>
            <a:off x="5076720" y="2565360"/>
            <a:ext cx="2370240" cy="2000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zerno"/>
          <p:cNvPicPr/>
          <p:nvPr/>
        </p:nvPicPr>
        <p:blipFill>
          <a:blip r:embed="rId5"/>
          <a:stretch/>
        </p:blipFill>
        <p:spPr>
          <a:xfrm>
            <a:off x="1835280" y="2708280"/>
            <a:ext cx="2701800" cy="162072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2"/>
          <p:cNvSpPr/>
          <p:nvPr/>
        </p:nvSpPr>
        <p:spPr>
          <a:xfrm>
            <a:off x="1500120" y="450864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PF DinDisplay Pro"/>
              </a:rPr>
              <a:t>Содержится в витаминизированных злаковых продуктах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PF DinDisplay Pro"/>
              </a:rPr>
              <a:t>в му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2" descr=""/>
          <p:cNvPicPr/>
          <p:nvPr/>
        </p:nvPicPr>
        <p:blipFill>
          <a:blip r:embed="rId6"/>
          <a:stretch/>
        </p:blipFill>
        <p:spPr>
          <a:xfrm>
            <a:off x="954000" y="1871640"/>
            <a:ext cx="723960" cy="6588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9"/>
          <p:cNvSpPr/>
          <p:nvPr/>
        </p:nvSpPr>
        <p:spPr>
          <a:xfrm>
            <a:off x="1714680" y="2349360"/>
            <a:ext cx="5929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PF DinDisplay Pro"/>
              </a:rPr>
              <a:t>Абсолютно безопасны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2:55:16Z</dcterms:created>
  <dc:creator>Никита</dc:creator>
  <dc:description/>
  <dc:language>en-US</dc:language>
  <cp:lastModifiedBy>Admin</cp:lastModifiedBy>
  <dcterms:modified xsi:type="dcterms:W3CDTF">2012-12-01T08:28:13Z</dcterms:modified>
  <cp:revision>7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27000000000001024140</vt:lpwstr>
  </property>
</Properties>
</file>