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29.jpeg" ContentType="image/jpeg"/>
  <Override PartName="/ppt/media/image52.jpeg" ContentType="image/jpeg"/>
  <Override PartName="/ppt/media/image43.png" ContentType="image/png"/>
  <Override PartName="/ppt/media/image53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50.jpeg" ContentType="image/jpeg"/>
  <Override PartName="/ppt/media/image37.jpeg" ContentType="image/jpeg"/>
  <Override PartName="/ppt/media/image54.jpeg" ContentType="image/jpeg"/>
  <Override PartName="/ppt/media/image55.jpeg" ContentType="image/jpeg"/>
  <Override PartName="/ppt/media/image57.png" ContentType="image/pn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58.jpeg" ContentType="image/jpeg"/>
  <Override PartName="/ppt/media/image59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3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38E-913A-43DD-B0D7-C06596C3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D72-16ED-492F-BA6E-EF29779D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C9D-1995-4481-8DE1-359FC698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A03-11CF-4ACF-9919-B34F8337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23E-714D-4839-B9BF-47565F4C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C96-2905-4F16-957F-A67FBB95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18A-6075-474F-A455-2DBFC9BB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C56-87AE-4E00-873E-B05008A0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3BE-01FD-44AA-8E2C-209EF619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26E-77E7-4E6B-8F50-EEA1FBD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C36-BEAB-419D-947D-5186A00C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C62-EA92-4323-9A16-5F2BCE31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38C-EB0E-4F30-B2E1-5D7D76461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9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0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1714680" y="2786040"/>
            <a:ext cx="58575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Молодогвардейская общеобразовательная школа 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I-III </a:t>
            </a: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тупеней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Проект учащихся 11 классов «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Fast-food</a:t>
            </a: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За или проти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обавляется для предотвращения прогорк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Токоферол (витамин 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m17_vidy001"/>
          <p:cNvPicPr/>
          <p:nvPr/>
        </p:nvPicPr>
        <p:blipFill>
          <a:blip r:embed="rId5"/>
          <a:srcRect l="0" t="0" r="0" b="147"/>
          <a:stretch/>
        </p:blipFill>
        <p:spPr>
          <a:xfrm>
            <a:off x="1763640" y="3298680"/>
            <a:ext cx="2433600" cy="178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46899776_krup"/>
          <p:cNvPicPr/>
          <p:nvPr/>
        </p:nvPicPr>
        <p:blipFill>
          <a:blip r:embed="rId6"/>
          <a:srcRect l="0" t="0" r="0" b="118"/>
          <a:stretch/>
        </p:blipFill>
        <p:spPr>
          <a:xfrm>
            <a:off x="4284720" y="3370320"/>
            <a:ext cx="3214800" cy="1714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2"/>
          <p:cNvSpPr/>
          <p:nvPr/>
        </p:nvSpPr>
        <p:spPr>
          <a:xfrm>
            <a:off x="1643040" y="285768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 В РАСТИТЕЛЬНОМ МАСЛЕ, В ИЗМЕЛЬЧЕННЫХ ЗЛА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7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ет образование плес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онат каль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1714680" y="288612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Употребление кальция полезно и без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94cfc164ff0e"/>
          <p:cNvPicPr/>
          <p:nvPr/>
        </p:nvPicPr>
        <p:blipFill>
          <a:blip r:embed="rId5"/>
          <a:srcRect l="0" t="0" r="0" b="-106"/>
          <a:stretch/>
        </p:blipFill>
        <p:spPr>
          <a:xfrm>
            <a:off x="2000160" y="3786120"/>
            <a:ext cx="4929120" cy="12859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2"/>
          <p:cNvSpPr/>
          <p:nvPr/>
        </p:nvSpPr>
        <p:spPr>
          <a:xfrm>
            <a:off x="1500120" y="3429000"/>
            <a:ext cx="600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 В ХЛЕБЕ И ВЫПЕЧ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олисорбат 60, 65, 80 действует аналогично моно- и диглицери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олисорбат 60, 65, 8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1714680" y="314172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ни не дают черстветь хлебобулочным изделиям, сворачиваться укропному маслу в марина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1714680" y="407664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пособствует растворению сливок для коф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1714680" y="44370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расслоение масла в сбитых кре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олисорбат 60, 65, 8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akery"/>
          <p:cNvPicPr/>
          <p:nvPr/>
        </p:nvPicPr>
        <p:blipFill>
          <a:blip r:embed="rId4"/>
          <a:stretch/>
        </p:blipFill>
        <p:spPr>
          <a:xfrm>
            <a:off x="1835280" y="2565360"/>
            <a:ext cx="3289320" cy="191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0002-big"/>
          <p:cNvPicPr/>
          <p:nvPr/>
        </p:nvPicPr>
        <p:blipFill>
          <a:blip r:embed="rId5"/>
          <a:srcRect l="0" t="0" r="0" b="-79"/>
          <a:stretch/>
        </p:blipFill>
        <p:spPr>
          <a:xfrm>
            <a:off x="5429160" y="285768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1"/>
          <p:cNvSpPr/>
          <p:nvPr/>
        </p:nvSpPr>
        <p:spPr>
          <a:xfrm>
            <a:off x="4500720" y="245736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ОЛОЧНЫХ ДЕСЕР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8"/>
          <p:cNvSpPr/>
          <p:nvPr/>
        </p:nvSpPr>
        <p:spPr>
          <a:xfrm>
            <a:off x="1655640" y="4653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ХЛЕБОБУЛОЧНЫХ ИЗДЕЛ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1714680" y="250020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бразуется в результате химических реакций целлюлозы с производными уксус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ГУСТИТЕЛЬ И СТАБИЛИЗ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1476360" y="1800360"/>
            <a:ext cx="63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Натрий карбокси-метил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3"/>
          <p:cNvSpPr/>
          <p:nvPr/>
        </p:nvSpPr>
        <p:spPr>
          <a:xfrm>
            <a:off x="1714680" y="3357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ет кристаллизацию сахара в проду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9"/>
          <p:cNvSpPr/>
          <p:nvPr/>
        </p:nvSpPr>
        <p:spPr>
          <a:xfrm>
            <a:off x="1214280" y="4734000"/>
            <a:ext cx="68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: в пиве, диетических продуктах, мороже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ГУСТИТЕЛЬ И СТАБИЛИЗ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4"/>
          <p:cNvSpPr/>
          <p:nvPr/>
        </p:nvSpPr>
        <p:spPr>
          <a:xfrm>
            <a:off x="1403280" y="1800360"/>
            <a:ext cx="63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Натрий карбокси-метил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ivogl"/>
          <p:cNvPicPr/>
          <p:nvPr/>
        </p:nvPicPr>
        <p:blipFill>
          <a:blip r:embed="rId4"/>
          <a:stretch/>
        </p:blipFill>
        <p:spPr>
          <a:xfrm>
            <a:off x="1785960" y="2571840"/>
            <a:ext cx="217476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oljnoj"/>
          <p:cNvPicPr/>
          <p:nvPr/>
        </p:nvPicPr>
        <p:blipFill>
          <a:blip r:embed="rId5"/>
          <a:stretch/>
        </p:blipFill>
        <p:spPr>
          <a:xfrm>
            <a:off x="3595680" y="2571840"/>
            <a:ext cx="2119320" cy="220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mg1213020165"/>
          <p:cNvPicPr/>
          <p:nvPr/>
        </p:nvPicPr>
        <p:blipFill>
          <a:blip r:embed="rId6"/>
          <a:stretch/>
        </p:blipFill>
        <p:spPr>
          <a:xfrm>
            <a:off x="5429160" y="2571840"/>
            <a:ext cx="2063880" cy="2212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"/>
          <p:cNvPicPr/>
          <p:nvPr/>
        </p:nvPicPr>
        <p:blipFill>
          <a:blip r:embed="rId7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5"/>
          <p:cNvSpPr/>
          <p:nvPr/>
        </p:nvSpPr>
        <p:spPr>
          <a:xfrm>
            <a:off x="1714680" y="2247840"/>
            <a:ext cx="592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PF DinDisplay Pro"/>
              </a:rPr>
              <a:t>АР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000" spc="-1" strike="noStrike">
                <a:solidFill>
                  <a:srgbClr val="ffffff"/>
                </a:solidFill>
                <a:latin typeface="PF DinDisplay Pro"/>
              </a:rPr>
              <a:t>МАТИЗАТОР, ПОДКИСЛЯЮЩИЕ ДОБАВКИ, СТАБИЛИЗАТОРЫ ЦВЕТА И ЭМУЛЬГ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500120" y="1824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Фосфаты, ортофосфат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1714680" y="25653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Кислый пирофосфат натрия предотвращает изменение цвета картофеля и сахарного сир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2"/>
          <p:cNvSpPr/>
          <p:nvPr/>
        </p:nvSpPr>
        <p:spPr>
          <a:xfrm>
            <a:off x="1714680" y="339084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При чрезмерном употреблении фосфатов может происходить дисбаланс в питании, ухудшается усвоение Кальция, что способствует развитию остеопоро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1"/>
          <p:cNvSpPr/>
          <p:nvPr/>
        </p:nvSpPr>
        <p:spPr>
          <a:xfrm>
            <a:off x="1500120" y="1824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Фосфаты, ортофосфат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heese"/>
          <p:cNvPicPr/>
          <p:nvPr/>
        </p:nvPicPr>
        <p:blipFill>
          <a:blip r:embed="rId4"/>
          <a:stretch/>
        </p:blipFill>
        <p:spPr>
          <a:xfrm>
            <a:off x="1857240" y="2500200"/>
            <a:ext cx="250056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gazirovka"/>
          <p:cNvPicPr/>
          <p:nvPr/>
        </p:nvPicPr>
        <p:blipFill>
          <a:blip r:embed="rId5"/>
          <a:stretch/>
        </p:blipFill>
        <p:spPr>
          <a:xfrm>
            <a:off x="4716360" y="2565360"/>
            <a:ext cx="2500560" cy="2251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5"/>
          <p:cNvSpPr/>
          <p:nvPr/>
        </p:nvSpPr>
        <p:spPr>
          <a:xfrm>
            <a:off x="1500120" y="2224080"/>
            <a:ext cx="624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PF DinDisplay Pro"/>
              </a:rPr>
              <a:t>Ароматизатор, подкисляющие добавки, стабилизаторы цвета и эмульгато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6" descr=""/>
          <p:cNvPicPr/>
          <p:nvPr/>
        </p:nvPicPr>
        <p:blipFill>
          <a:blip r:embed="rId6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8"/>
          <p:cNvSpPr/>
          <p:nvPr/>
        </p:nvSpPr>
        <p:spPr>
          <a:xfrm>
            <a:off x="3516480" y="4764240"/>
            <a:ext cx="429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PF DinDisplay Pro"/>
              </a:rPr>
              <a:t>В СЫРАХ И ГАЗИРОВАННЫХ НАПИТКА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9"/>
          <p:cNvSpPr/>
          <p:nvPr/>
        </p:nvSpPr>
        <p:spPr>
          <a:xfrm>
            <a:off x="1714680" y="250020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Злоупотребление солью увеличивает риск развития артериальной гипертензии, которая является причиной возникновения сердечных приступов и инсуль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ПРИПРАВА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500120" y="17859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Соль (натрий хлор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1643040" y="40006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СОДЕРЖИТСЯ В БОЛЬШИНСТВЕ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9"/>
          <p:cNvSpPr/>
          <p:nvPr/>
        </p:nvSpPr>
        <p:spPr>
          <a:xfrm>
            <a:off x="1714680" y="255600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гущает тесто для его использования в хлебопекарном оборудовании, что позволяет изготавливать большие объемы хле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К ТЕС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ТЕАРИЛЛАКТАТ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1643040" y="40006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КРЕМЕ, ТЕСТЕ ДЛЯ ВЫПЕЧКИ ХЛЕБА, НАЧИНКЕ ДЛЯ ПИРОЖ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>
            <a:off x="1714680" y="2214720"/>
            <a:ext cx="5857560" cy="24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F DinDisplay Pro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1. Установить положительные и отрицательные аспекты употребления быстрой 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2. Информировать ученический и педагогический коллектив школы о влиянии фаст-фуда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9"/>
          <p:cNvSpPr/>
          <p:nvPr/>
        </p:nvSpPr>
        <p:spPr>
          <a:xfrm>
            <a:off x="1714680" y="255600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екстроза является натуральной сахарозой, которая содержится во фруктах и мёде. Добавление её в еду в качестве заменителя сахара снижает калорийность но может быть вредна для зу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САХАРА ИЛИ КРАС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1500120" y="18572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Декстроза (глюкоза, кукурузная сахароз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643040" y="4365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ХЛЕБЕ, КАРАМЕЛИ, БИСКВИТАХ, ГАЗИРОВАННЫХ НАПИ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охраняет жир и ма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лгалл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1714680" y="300024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жет быть причиной онкологических заболеваний у животных 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2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лгалл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8"/>
          <p:cNvSpPr/>
          <p:nvPr/>
        </p:nvSpPr>
        <p:spPr>
          <a:xfrm>
            <a:off x="1643040" y="4572000"/>
            <a:ext cx="6215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PF DinDisplay Pro"/>
              </a:rPr>
              <a:t>Содержится в жевательной резинке, куриных супах, мясных продуктах, картофельных палочках, растительном масл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7019"/>
          <p:cNvPicPr/>
          <p:nvPr/>
        </p:nvPicPr>
        <p:blipFill>
          <a:blip r:embed="rId4"/>
          <a:stretch/>
        </p:blipFill>
        <p:spPr>
          <a:xfrm>
            <a:off x="1785960" y="2571840"/>
            <a:ext cx="2125800" cy="2071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1225468192"/>
          <p:cNvPicPr/>
          <p:nvPr/>
        </p:nvPicPr>
        <p:blipFill>
          <a:blip r:embed="rId5"/>
          <a:stretch/>
        </p:blipFill>
        <p:spPr>
          <a:xfrm>
            <a:off x="3924360" y="2565360"/>
            <a:ext cx="2178000" cy="207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roslinna_olija_na_sv"/>
          <p:cNvPicPr/>
          <p:nvPr/>
        </p:nvPicPr>
        <p:blipFill>
          <a:blip r:embed="rId6"/>
          <a:srcRect l="0" t="0" r="-143" b="0"/>
          <a:stretch/>
        </p:blipFill>
        <p:spPr>
          <a:xfrm>
            <a:off x="6072120" y="257184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9" descr=""/>
          <p:cNvPicPr/>
          <p:nvPr/>
        </p:nvPicPr>
        <p:blipFill>
          <a:blip r:embed="rId7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Используется для усиления в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ИСПОЛЬЗУЕТСЯ ДЛЯ УСИЛЕНИЯ ВК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Глутамат натрия однозамещенный (</a:t>
            </a:r>
            <a:r>
              <a:rPr b="1" lang="en-US" sz="2200" spc="-1" strike="noStrike">
                <a:solidFill>
                  <a:srgbClr val="f4f1e3"/>
                </a:solidFill>
                <a:latin typeface="PF DinDisplay Pro"/>
              </a:rPr>
              <a:t>MS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1714680" y="300024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екоторые люди очень чувствительны при использовании его в больших до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3"/>
          <p:cNvSpPr/>
          <p:nvPr/>
        </p:nvSpPr>
        <p:spPr>
          <a:xfrm>
            <a:off x="1714680" y="378936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Реакцией может быть головная боль, тошнота, слабость, изжога, боль в области шеи и предплечье, нарушение сердечного ритма и усложнение ди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4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9"/>
          <p:cNvSpPr/>
          <p:nvPr/>
        </p:nvSpPr>
        <p:spPr>
          <a:xfrm>
            <a:off x="1643040" y="4672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СОУСАХ ДЛЯ САЛ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ИСПОЛЬЗУЕТСЯ ДЛЯ УСИЛЕНИЯ ВК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sousi"/>
          <p:cNvPicPr/>
          <p:nvPr/>
        </p:nvPicPr>
        <p:blipFill>
          <a:blip r:embed="rId4"/>
          <a:stretch/>
        </p:blipFill>
        <p:spPr>
          <a:xfrm>
            <a:off x="1643040" y="2428920"/>
            <a:ext cx="3176640" cy="23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5"/>
          <a:stretch/>
        </p:blipFill>
        <p:spPr>
          <a:xfrm>
            <a:off x="4643280" y="2643120"/>
            <a:ext cx="2786400" cy="18576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8"/>
          <p:cNvSpPr/>
          <p:nvPr/>
        </p:nvSpPr>
        <p:spPr>
          <a:xfrm>
            <a:off x="4929120" y="46720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</a:t>
            </a:r>
            <a:r>
              <a:rPr b="1" lang="uk-UA" sz="2000" spc="-1" strike="noStrike">
                <a:solidFill>
                  <a:srgbClr val="000000"/>
                </a:solidFill>
                <a:latin typeface="PF DinDisplay Pro"/>
              </a:rPr>
              <a:t>ЧИП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1500120" y="1844640"/>
            <a:ext cx="6357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4f1e3"/>
                </a:solidFill>
                <a:latin typeface="PF DinDisplay Pro"/>
              </a:rPr>
              <a:t>Глутамат натрия однозамещенный (</a:t>
            </a:r>
            <a:r>
              <a:rPr b="1" lang="en-US" sz="2300" spc="-1" strike="noStrike">
                <a:solidFill>
                  <a:srgbClr val="f4f1e3"/>
                </a:solidFill>
                <a:latin typeface="PF DinDisplay Pro"/>
              </a:rPr>
              <a:t>MS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16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9"/>
          <p:cNvSpPr/>
          <p:nvPr/>
        </p:nvSpPr>
        <p:spPr>
          <a:xfrm>
            <a:off x="1714680" y="24670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Разрушает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0"/>
          <p:cNvSpPr/>
          <p:nvPr/>
        </p:nvSpPr>
        <p:spPr>
          <a:xfrm>
            <a:off x="1692360" y="29242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Вызывает болезнь Альцгей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1714680" y="3333600"/>
            <a:ext cx="59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PF DinDisplay Pro"/>
              </a:rPr>
              <a:t>В “фри”</a:t>
            </a:r>
            <a:r>
              <a:rPr b="0" lang="en-US" sz="2600" spc="-1" strike="noStrike">
                <a:solidFill>
                  <a:srgbClr val="000000"/>
                </a:solidFill>
                <a:latin typeface="PF DinDisplay Pro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PF DinDisplay Pro"/>
              </a:rPr>
              <a:t>его в 100 раз больше нор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2"/>
          <p:cNvSpPr/>
          <p:nvPr/>
        </p:nvSpPr>
        <p:spPr>
          <a:xfrm>
            <a:off x="1714680" y="37623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Поражает нерв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1716120" y="4280040"/>
            <a:ext cx="6095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PF DinDisplay Pro"/>
              </a:rPr>
              <a:t>Способствует разным генетическим мутациям и образованию опухолей в брюшной пол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АНЦЕР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АКРИЛ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9"/>
          <p:cNvSpPr/>
          <p:nvPr/>
        </p:nvSpPr>
        <p:spPr>
          <a:xfrm>
            <a:off x="1714680" y="4392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ЖАРЕНЫХ И ПЕЧЕНЫХ ПРОДУ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АНЦЕР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АКРИЛ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p_img_57762025"/>
          <p:cNvPicPr/>
          <p:nvPr/>
        </p:nvPicPr>
        <p:blipFill>
          <a:blip r:embed="rId4"/>
          <a:stretch/>
        </p:blipFill>
        <p:spPr>
          <a:xfrm>
            <a:off x="1857240" y="2571840"/>
            <a:ext cx="5572440" cy="185724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9"/>
          <p:cNvSpPr/>
          <p:nvPr/>
        </p:nvSpPr>
        <p:spPr>
          <a:xfrm>
            <a:off x="1714680" y="256860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Используется для увеличения объема хлеба и улучшения структуры мяк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ДЛЯ УЛУЧШЕНИЯ КАЧЕСТВА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КАЛИЙ БР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1714680" y="3143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Большая часть броматов быстро распадается на опасные формы бром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3"/>
          <p:cNvSpPr/>
          <p:nvPr/>
        </p:nvSpPr>
        <p:spPr>
          <a:xfrm>
            <a:off x="1714680" y="371484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Броматы могут спровоцировать онкологические заболевания, их мизерное количество содержащееся в хлебе может быть причиной заболе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Их использование запрещено в Великобритании и Южной Афр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4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ДЛЯ УЛУЧШЕНИЯ КАЧЕСТВА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КАЛИЙ БР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myka"/>
          <p:cNvPicPr/>
          <p:nvPr/>
        </p:nvPicPr>
        <p:blipFill>
          <a:blip r:embed="rId4"/>
          <a:srcRect l="0" t="0" r="0" b="106"/>
          <a:stretch/>
        </p:blipFill>
        <p:spPr>
          <a:xfrm>
            <a:off x="1816200" y="2571840"/>
            <a:ext cx="5613480" cy="214308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4"/>
          <p:cNvSpPr/>
          <p:nvPr/>
        </p:nvSpPr>
        <p:spPr>
          <a:xfrm>
            <a:off x="1785960" y="471492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БЕЛОЙ М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9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9"/>
          <p:cNvSpPr/>
          <p:nvPr/>
        </p:nvSpPr>
        <p:spPr>
          <a:xfrm>
            <a:off x="1714680" y="257796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итрат натрия является стабилизатором красного цвета консервированного мяса и пищевой добав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ат нат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1714680" y="384192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Используется для сухой консервации мяса, потому что он разлагается медленнее на нитр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1714680" y="2786040"/>
            <a:ext cx="58575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Почему такие вкусные, и на первый взгляд, безопасные продукты попадают в список опасной еды под названием «фаст-фуд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9"/>
          <p:cNvSpPr/>
          <p:nvPr/>
        </p:nvSpPr>
        <p:spPr>
          <a:xfrm>
            <a:off x="1714680" y="256212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итрит натрия замедляет рост бактерий, которые вызывают ботулизм. Добавление нитритов в продукты может увеличивать влияние нитрозаминов, которые становятся причиной онкологических заболеваний и в большом количестве находятся в жареном мя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ит нат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9"/>
          <p:cNvSpPr/>
          <p:nvPr/>
        </p:nvSpPr>
        <p:spPr>
          <a:xfrm>
            <a:off x="4857840" y="47149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БЕ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ит натрия, нитрат натри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29763"/>
          <p:cNvPicPr/>
          <p:nvPr/>
        </p:nvPicPr>
        <p:blipFill>
          <a:blip r:embed="rId4"/>
          <a:stretch/>
        </p:blipFill>
        <p:spPr>
          <a:xfrm>
            <a:off x="4000680" y="2643120"/>
            <a:ext cx="3487680" cy="2000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1242116289"/>
          <p:cNvPicPr/>
          <p:nvPr/>
        </p:nvPicPr>
        <p:blipFill>
          <a:blip r:embed="rId5"/>
          <a:stretch/>
        </p:blipFill>
        <p:spPr>
          <a:xfrm>
            <a:off x="1785960" y="2571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8"/>
          <p:cNvSpPr/>
          <p:nvPr/>
        </p:nvSpPr>
        <p:spPr>
          <a:xfrm>
            <a:off x="1643040" y="471492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КОПЧЕНОЙ РЫ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12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интетический жир, который используется для изготовления чип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Олестра (Олеа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3"/>
          <p:cNvSpPr/>
          <p:nvPr/>
        </p:nvSpPr>
        <p:spPr>
          <a:xfrm>
            <a:off x="1714680" y="31590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жет вызвать диарею, боль в желудке спазматического характера, метеор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0"/>
          <p:cNvSpPr/>
          <p:nvPr/>
        </p:nvSpPr>
        <p:spPr>
          <a:xfrm>
            <a:off x="1714680" y="378936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нижает усвоение организмом полезных жирорастворимых </a:t>
            </a:r>
            <a:r>
              <a:rPr b="0" lang="el-GR" sz="2000" spc="-1" strike="noStrike">
                <a:solidFill>
                  <a:srgbClr val="000000"/>
                </a:solidFill>
                <a:latin typeface="PF DinDisplay Pro"/>
              </a:rPr>
              <a:t>α-, β-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каротина, ликопина и лютеина, которые находятся во фруктах и ово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11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Олестра (Олеа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8"/>
          <p:cNvSpPr/>
          <p:nvPr/>
        </p:nvSpPr>
        <p:spPr>
          <a:xfrm>
            <a:off x="3500280" y="4672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В КРЕК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16"/>
          <p:cNvPicPr/>
          <p:nvPr/>
        </p:nvPicPr>
        <p:blipFill>
          <a:blip r:embed="rId4"/>
          <a:srcRect l="0" t="0" r="0" b="-170"/>
          <a:stretch/>
        </p:blipFill>
        <p:spPr>
          <a:xfrm>
            <a:off x="1785960" y="2500200"/>
            <a:ext cx="5643720" cy="2214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9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ОХРАНЯЮТ ЦВЕТ УКАЗАННЫ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ТБЕЛИВАЮЩИЕ И КОНСЕРВИРУЮЩ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УЛЬ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3"/>
          <p:cNvSpPr/>
          <p:nvPr/>
        </p:nvSpPr>
        <p:spPr>
          <a:xfrm>
            <a:off x="1714680" y="292896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РОСТ БАКТЕРИЙ В ВИ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0"/>
          <p:cNvSpPr/>
          <p:nvPr/>
        </p:nvSpPr>
        <p:spPr>
          <a:xfrm>
            <a:off x="1714680" y="335772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РАЗРУШАЮТ ВИТАМИН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1"/>
          <p:cNvSpPr/>
          <p:nvPr/>
        </p:nvSpPr>
        <p:spPr>
          <a:xfrm>
            <a:off x="1714680" y="37861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ГУТ СЛУЖИТЬ ПРИЧИНОЙ ПРИСТУПА АСТ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2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ТБЕЛИВАЮЩИЕ И КОНСЕРВИРУЮЩ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8"/>
          <p:cNvSpPr/>
          <p:nvPr/>
        </p:nvSpPr>
        <p:spPr>
          <a:xfrm>
            <a:off x="1785960" y="46432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В СУХОФРУКТАХ И ВИ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9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УЛЬ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syforuktu"/>
          <p:cNvPicPr/>
          <p:nvPr/>
        </p:nvPicPr>
        <p:blipFill>
          <a:blip r:embed="rId4"/>
          <a:srcRect l="0" t="0" r="0" b="159"/>
          <a:stretch/>
        </p:blipFill>
        <p:spPr>
          <a:xfrm>
            <a:off x="2000160" y="2571840"/>
            <a:ext cx="3138480" cy="212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foto147"/>
          <p:cNvPicPr/>
          <p:nvPr/>
        </p:nvPicPr>
        <p:blipFill>
          <a:blip r:embed="rId5"/>
          <a:stretch/>
        </p:blipFill>
        <p:spPr>
          <a:xfrm>
            <a:off x="5572080" y="2571840"/>
            <a:ext cx="1785960" cy="21128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2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ИМИКО-ТЕОРЕТИЧЕСКОЙ ЛАБОРА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9"/>
          <p:cNvSpPr/>
          <p:nvPr/>
        </p:nvSpPr>
        <p:spPr>
          <a:xfrm>
            <a:off x="1692360" y="2924280"/>
            <a:ext cx="60008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следования химического состава фаст-фуда показали: 7 веществ – положительно влияют на организм человека, 13 опасны и длительное их употребление в неограниченном количестве могут привести к болезням и летальному исход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7"/>
          <p:cNvSpPr/>
          <p:nvPr/>
        </p:nvSpPr>
        <p:spPr>
          <a:xfrm>
            <a:off x="324000" y="278136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химико-практической лаборатор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1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ХИМИКО-ПРАКТИЧЕСКАЯ ЛАБОРА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1714680" y="25290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ДЛЯ ОПЫТА ПОНАДОБ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5"/>
          <a:stretch/>
        </p:blipFill>
        <p:spPr>
          <a:xfrm>
            <a:off x="2000160" y="300024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6"/>
          <a:stretch/>
        </p:blipFill>
        <p:spPr>
          <a:xfrm>
            <a:off x="5143680" y="3286080"/>
            <a:ext cx="2357280" cy="17668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9"/>
          <p:cNvSpPr/>
          <p:nvPr/>
        </p:nvSpPr>
        <p:spPr>
          <a:xfrm>
            <a:off x="1655640" y="4734000"/>
            <a:ext cx="442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PF DinDisplay Pro"/>
              </a:rPr>
              <a:t>КАРТОШКА ФРИ (КУПЛЕННАЯ В КАФ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9"/>
          <p:cNvSpPr/>
          <p:nvPr/>
        </p:nvSpPr>
        <p:spPr>
          <a:xfrm>
            <a:off x="4000680" y="28544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КАРТОШКА СВАРЕННАЯ В ДОМАШНИ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11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ХИМИКО-ПРАКТИЧЕСКАЯ ЛАБОРА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5"/>
          <p:cNvSpPr/>
          <p:nvPr/>
        </p:nvSpPr>
        <p:spPr>
          <a:xfrm>
            <a:off x="1692360" y="220500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1714680" y="254016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ПЫТ ПРОДЛИТСЯ 3 НЕ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В ТЕЧЕНИИ 3-Х НЕДЕЛЬ, МЫ БУДЕМ ФОТОГРАФИРОВАТЬ 3 РАЗА НАШ 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1 ЭТАП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– КАРТОШКА ПОСЛЕ ПОК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2-ЭТАП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– ПРОШЛО 2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3 ЭТАП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(ЗАКЛЮЧИТЕ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324000" y="278136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химико-теоретической лаборатор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1714680" y="2421000"/>
            <a:ext cx="25714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Поместим в обе банки картошку(Фри), и домашнюю картош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2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Закроем плотно крышкой и поставим на открытое место, чтобы наблюда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SAM_3383"/>
          <p:cNvPicPr/>
          <p:nvPr/>
        </p:nvPicPr>
        <p:blipFill>
          <a:blip r:embed="rId5"/>
          <a:srcRect l="0" t="0" r="41" b="0"/>
          <a:stretch/>
        </p:blipFill>
        <p:spPr>
          <a:xfrm>
            <a:off x="4222800" y="2571840"/>
            <a:ext cx="32781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9"/>
          <p:cNvSpPr/>
          <p:nvPr/>
        </p:nvSpPr>
        <p:spPr>
          <a:xfrm>
            <a:off x="5500800" y="2500200"/>
            <a:ext cx="207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 день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ш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фри) будет без изменений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домашняя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SAM_3382"/>
          <p:cNvPicPr/>
          <p:nvPr/>
        </p:nvPicPr>
        <p:blipFill>
          <a:blip r:embed="rId5"/>
          <a:srcRect l="0" t="0" r="18" b="-54"/>
          <a:stretch/>
        </p:blipFill>
        <p:spPr>
          <a:xfrm>
            <a:off x="1714680" y="2575080"/>
            <a:ext cx="3714480" cy="24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</a:t>
            </a:r>
            <a:r>
              <a:rPr b="1" lang="en-US" sz="2800" spc="-1" strike="noStrike">
                <a:solidFill>
                  <a:srgbClr val="f4f1e3"/>
                </a:solidFill>
                <a:latin typeface="PF DinDisplay Pro"/>
              </a:rPr>
              <a:t>2</a:t>
            </a: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9"/>
          <p:cNvSpPr/>
          <p:nvPr/>
        </p:nvSpPr>
        <p:spPr>
          <a:xfrm>
            <a:off x="5500800" y="2428920"/>
            <a:ext cx="2071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После первой недели, мы можем рассмотреть образование плесени в банке №2, а в банке №1 никаких измен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9" descr="SAM_3492"/>
          <p:cNvPicPr/>
          <p:nvPr/>
        </p:nvPicPr>
        <p:blipFill>
          <a:blip r:embed="rId5"/>
          <a:stretch/>
        </p:blipFill>
        <p:spPr>
          <a:xfrm>
            <a:off x="1714680" y="2571840"/>
            <a:ext cx="37861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</a:t>
            </a:r>
            <a:r>
              <a:rPr b="1" lang="en-US" sz="2800" spc="-1" strike="noStrike">
                <a:solidFill>
                  <a:srgbClr val="f4f1e3"/>
                </a:solidFill>
                <a:latin typeface="PF DinDisplay Pro"/>
              </a:rPr>
              <a:t>3</a:t>
            </a: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5000760" y="2428920"/>
            <a:ext cx="278604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Через три недели мы наблюдаем очень больш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В банке с картошкой фри – ничего не измен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В банке с домашней вареной картошкой – очень много плес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SAM_3497"/>
          <p:cNvPicPr/>
          <p:nvPr/>
        </p:nvPicPr>
        <p:blipFill>
          <a:blip r:embed="rId5"/>
          <a:stretch/>
        </p:blipFill>
        <p:spPr>
          <a:xfrm>
            <a:off x="1714680" y="2571840"/>
            <a:ext cx="328608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1714680" y="2428920"/>
            <a:ext cx="60004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ртофель Фри остался без запаха, стал твердым, если потрясти банку, то картофель Фри издаст звон. На поверхности появилось масло, но в целом она осталась картошкой фри, которой была раньш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 на вареном картофеле мы видим плесень, неприятный запах. Значит, картофель фри может храниться 3 недели, а вареный картофель не пригоден к употреблени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1857240" y="263700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ртофель домашнего приготовления без консервантов, а картофель Фри содержит их в большем количестве, потому что за такой период с нее выделилась только вл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7"/>
          <p:cNvSpPr/>
          <p:nvPr/>
        </p:nvSpPr>
        <p:spPr>
          <a:xfrm>
            <a:off x="324000" y="2637000"/>
            <a:ext cx="8424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социологических исследований учащихся 9-11 класс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1"/>
          <p:cNvSpPr/>
          <p:nvPr/>
        </p:nvSpPr>
        <p:spPr>
          <a:xfrm>
            <a:off x="1500120" y="191628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ЧИПС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1020600"/>
            <a:ext cx="9144000" cy="48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11"/>
          <p:cNvSpPr/>
          <p:nvPr/>
        </p:nvSpPr>
        <p:spPr>
          <a:xfrm>
            <a:off x="1500120" y="1863720"/>
            <a:ext cx="635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ХОТ-ДОГ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1"/>
          <p:cNvSpPr/>
          <p:nvPr/>
        </p:nvSpPr>
        <p:spPr>
          <a:xfrm>
            <a:off x="1500120" y="19098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КАРТОШКУ «ФР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1714680" y="250020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Сохраняет красный цвет мясн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1692360" y="33274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Предотвращает образование канцерогенных нитроз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1714680" y="41194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Используется для насыщения продуктов витам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1714680" y="2195640"/>
            <a:ext cx="59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, стабилизатор цвета или пищевая доб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1643040" y="1800360"/>
            <a:ext cx="600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Аскорбиновая кислота (витамин 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11"/>
          <p:cNvSpPr/>
          <p:nvPr/>
        </p:nvSpPr>
        <p:spPr>
          <a:xfrm>
            <a:off x="1500120" y="184464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ФОРНЕТ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11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ВРЕДЕН ЛИ ФАСТ-Ф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11"/>
          <p:cNvSpPr/>
          <p:nvPr/>
        </p:nvSpPr>
        <p:spPr>
          <a:xfrm>
            <a:off x="1571760" y="191628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f1e3"/>
                </a:solidFill>
                <a:latin typeface="PF DinDisplay Pro"/>
              </a:rPr>
              <a:t>На какие системы органов влияют продукты фаст-фуд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1"/>
          <p:cNvSpPr/>
          <p:nvPr/>
        </p:nvSpPr>
        <p:spPr>
          <a:xfrm>
            <a:off x="1596960" y="1916280"/>
            <a:ext cx="6143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4f1e3"/>
                </a:solidFill>
                <a:latin typeface="PF DinDisplay Pro"/>
              </a:rPr>
              <a:t>Где Вы чаще всего покупаете продукты фаст-фуда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11"/>
          <p:cNvSpPr/>
          <p:nvPr/>
        </p:nvSpPr>
        <p:spPr>
          <a:xfrm>
            <a:off x="1571760" y="1871640"/>
            <a:ext cx="614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1e3"/>
                </a:solidFill>
                <a:latin typeface="PF DinDisplay Pro"/>
              </a:rPr>
              <a:t>Нужно ли открытие Макдональдса в нашем городе</a:t>
            </a:r>
            <a:r>
              <a:rPr b="1" lang="ru-RU" sz="2000" spc="-1" strike="noStrike">
                <a:solidFill>
                  <a:srgbClr val="f4f1e3"/>
                </a:solidFill>
                <a:latin typeface="PF DinDisplay Pro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15"/>
          <p:cNvSpPr/>
          <p:nvPr/>
        </p:nvSpPr>
        <p:spPr>
          <a:xfrm>
            <a:off x="1692360" y="220500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ЗУЛЬТАТЫ СОЦИАЛОГИЧЕСКОГО ОПРО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1692360" y="2682720"/>
            <a:ext cx="60008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8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учащихся знают о вредном влиянии фаст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уда на организм челове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не знают или не владеют информацией об эт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употребляют продукты фаст-фу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4"/>
          <p:cNvSpPr/>
          <p:nvPr/>
        </p:nvSpPr>
        <p:spPr>
          <a:xfrm>
            <a:off x="-34920" y="1052640"/>
            <a:ext cx="9144000" cy="5143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7"/>
          <p:cNvSpPr/>
          <p:nvPr/>
        </p:nvSpPr>
        <p:spPr>
          <a:xfrm>
            <a:off x="250920" y="1916280"/>
            <a:ext cx="842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координационного цент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826920" y="2805120"/>
            <a:ext cx="2955960" cy="2735280"/>
            <a:chOff x="826920" y="2805120"/>
            <a:chExt cx="2955960" cy="2735280"/>
          </a:xfrm>
        </p:grpSpPr>
        <p:sp>
          <p:nvSpPr>
            <p:cNvPr id="526" name="Oval 4"/>
            <p:cNvSpPr/>
            <p:nvPr/>
          </p:nvSpPr>
          <p:spPr>
            <a:xfrm>
              <a:off x="826920" y="2805120"/>
              <a:ext cx="2955960" cy="2735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Picture 5" descr="6eba0b69fcfb0e138917770070b8ff13_full"/>
            <p:cNvPicPr/>
            <p:nvPr/>
          </p:nvPicPr>
          <p:blipFill>
            <a:blip r:embed="rId1"/>
            <a:stretch/>
          </p:blipFill>
          <p:spPr>
            <a:xfrm>
              <a:off x="1258920" y="3381480"/>
              <a:ext cx="20890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Прямоугольник 9"/>
          <p:cNvSpPr/>
          <p:nvPr/>
        </p:nvSpPr>
        <p:spPr>
          <a:xfrm>
            <a:off x="3851280" y="3084480"/>
            <a:ext cx="4392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00"/>
                </a:solidFill>
                <a:latin typeface="Arial"/>
              </a:rPr>
              <a:t>ЗА ИЛИ ПРОТИВ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5"/>
          <p:cNvSpPr/>
          <p:nvPr/>
        </p:nvSpPr>
        <p:spPr>
          <a:xfrm>
            <a:off x="1698480" y="2184480"/>
            <a:ext cx="59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9"/>
          <p:cNvSpPr/>
          <p:nvPr/>
        </p:nvSpPr>
        <p:spPr>
          <a:xfrm>
            <a:off x="1692360" y="256536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 Это очень быстрая и недорогая е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1692360" y="2997360"/>
            <a:ext cx="600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 В заведениях интересные предложения для де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2" descr="96b913_thumb"/>
          <p:cNvPicPr/>
          <p:nvPr/>
        </p:nvPicPr>
        <p:blipFill>
          <a:blip r:embed="rId4"/>
          <a:stretch/>
        </p:blipFill>
        <p:spPr>
          <a:xfrm>
            <a:off x="3276720" y="3357720"/>
            <a:ext cx="302400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9"/>
          <p:cNvSpPr/>
          <p:nvPr/>
        </p:nvSpPr>
        <p:spPr>
          <a:xfrm>
            <a:off x="1763640" y="283068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 Картошка «фри» - источник витамина 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9"/>
          <p:cNvSpPr/>
          <p:nvPr/>
        </p:nvSpPr>
        <p:spPr>
          <a:xfrm>
            <a:off x="1763640" y="340668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В 100 г. сыра любой пиццы – 1000 мг Каль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9"/>
          <p:cNvSpPr/>
          <p:nvPr/>
        </p:nvSpPr>
        <p:spPr>
          <a:xfrm>
            <a:off x="1763640" y="3983040"/>
            <a:ext cx="600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 Употребление фаст-фуда приносит нам удовольствие, улучшает настро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" descr="112"/>
          <p:cNvPicPr/>
          <p:nvPr/>
        </p:nvPicPr>
        <p:blipFill>
          <a:blip r:embed="rId4"/>
          <a:stretch/>
        </p:blipFill>
        <p:spPr>
          <a:xfrm>
            <a:off x="3276720" y="2565360"/>
            <a:ext cx="2844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1714680" y="46720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КРУ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1714680" y="2195640"/>
            <a:ext cx="59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, стабилизатор цвета или пищевая доб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1643040" y="1800360"/>
            <a:ext cx="600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Аскорбиновая кислота (витамин 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4140360" y="46720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ЯСНЫХ КОНСЕР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rupa"/>
          <p:cNvPicPr/>
          <p:nvPr/>
        </p:nvPicPr>
        <p:blipFill>
          <a:blip r:embed="rId4"/>
          <a:stretch/>
        </p:blipFill>
        <p:spPr>
          <a:xfrm>
            <a:off x="2214720" y="2517840"/>
            <a:ext cx="2214360" cy="21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meet14"/>
          <p:cNvPicPr/>
          <p:nvPr/>
        </p:nvPicPr>
        <p:blipFill>
          <a:blip r:embed="rId5"/>
          <a:stretch/>
        </p:blipFill>
        <p:spPr>
          <a:xfrm>
            <a:off x="4519440" y="2714760"/>
            <a:ext cx="2943360" cy="1928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9"/>
          <p:cNvSpPr/>
          <p:nvPr/>
        </p:nvSpPr>
        <p:spPr>
          <a:xfrm>
            <a:off x="1692360" y="2563920"/>
            <a:ext cx="2808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. При употреблении уличного фаст-фуда можно легко подхватить вирус гепатита 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3" descr="country_7_012990781730.jpg"/>
          <p:cNvPicPr/>
          <p:nvPr/>
        </p:nvPicPr>
        <p:blipFill>
          <a:blip r:embed="rId5"/>
          <a:stretch/>
        </p:blipFill>
        <p:spPr>
          <a:xfrm>
            <a:off x="4427640" y="2563920"/>
            <a:ext cx="1890720" cy="25207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4" descr="ictericia.jpg"/>
          <p:cNvPicPr/>
          <p:nvPr/>
        </p:nvPicPr>
        <p:blipFill>
          <a:blip r:embed="rId6"/>
          <a:stretch/>
        </p:blipFill>
        <p:spPr>
          <a:xfrm>
            <a:off x="6300720" y="2565360"/>
            <a:ext cx="15462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1763640" y="265896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ольшое количество канцерогенов, которые содержатся в этих проду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Содержимое 3" descr="embl-hzd.jpg"/>
          <p:cNvPicPr/>
          <p:nvPr/>
        </p:nvPicPr>
        <p:blipFill>
          <a:blip r:embed="rId5"/>
          <a:stretch/>
        </p:blipFill>
        <p:spPr>
          <a:xfrm>
            <a:off x="4356000" y="2637000"/>
            <a:ext cx="3097440" cy="23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9"/>
          <p:cNvSpPr/>
          <p:nvPr/>
        </p:nvSpPr>
        <p:spPr>
          <a:xfrm>
            <a:off x="3564000" y="2997360"/>
            <a:ext cx="39592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Фанаты быстрой еды практически обречены на разные онкологические заболевания, как минимум на нервные расстрой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Рисунок 4" descr="3695-2.jpg"/>
          <p:cNvPicPr/>
          <p:nvPr/>
        </p:nvPicPr>
        <p:blipFill>
          <a:blip r:embed="rId5"/>
          <a:stretch/>
        </p:blipFill>
        <p:spPr>
          <a:xfrm>
            <a:off x="1763640" y="2565360"/>
            <a:ext cx="17445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9"/>
          <p:cNvSpPr/>
          <p:nvPr/>
        </p:nvSpPr>
        <p:spPr>
          <a:xfrm>
            <a:off x="1763640" y="2565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табилизаторы, консерванты. эмульгаторы могут вызывать аллергически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9"/>
          <p:cNvSpPr/>
          <p:nvPr/>
        </p:nvSpPr>
        <p:spPr>
          <a:xfrm>
            <a:off x="1763640" y="3860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Использование при изготовлении фаст-фудов запрещен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121, Е123, Е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9"/>
          <p:cNvSpPr/>
          <p:nvPr/>
        </p:nvSpPr>
        <p:spPr>
          <a:xfrm>
            <a:off x="1763640" y="296532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ичина возникновения сердечно-сосудистых заболеваний (инсультов, инфарк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Содержимое 5" descr="serdtce1_original.jpg"/>
          <p:cNvPicPr/>
          <p:nvPr/>
        </p:nvPicPr>
        <p:blipFill>
          <a:blip r:embed="rId5"/>
          <a:stretch/>
        </p:blipFill>
        <p:spPr>
          <a:xfrm>
            <a:off x="4932360" y="2637000"/>
            <a:ext cx="237636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9"/>
          <p:cNvSpPr/>
          <p:nvPr/>
        </p:nvSpPr>
        <p:spPr>
          <a:xfrm>
            <a:off x="4068720" y="285264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ичина возникновения  заболеваний желудочно-кишеч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Рисунок 6" descr="090609103526-large.jpg"/>
          <p:cNvPicPr/>
          <p:nvPr/>
        </p:nvPicPr>
        <p:blipFill>
          <a:blip r:embed="rId5"/>
          <a:stretch/>
        </p:blipFill>
        <p:spPr>
          <a:xfrm>
            <a:off x="1763640" y="2565360"/>
            <a:ext cx="18907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9"/>
          <p:cNvSpPr/>
          <p:nvPr/>
        </p:nvSpPr>
        <p:spPr>
          <a:xfrm>
            <a:off x="1763640" y="2565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ричина возникновения заболевани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9"/>
          <p:cNvSpPr/>
          <p:nvPr/>
        </p:nvSpPr>
        <p:spPr>
          <a:xfrm>
            <a:off x="1692360" y="337500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Причина заболеваний эндокрин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1692360" y="4149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пособствует ожир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9"/>
          <p:cNvSpPr/>
          <p:nvPr/>
        </p:nvSpPr>
        <p:spPr>
          <a:xfrm>
            <a:off x="1692360" y="46162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Снижает имму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2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9"/>
          <p:cNvSpPr/>
          <p:nvPr/>
        </p:nvSpPr>
        <p:spPr>
          <a:xfrm>
            <a:off x="1692360" y="2478240"/>
            <a:ext cx="30240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2. Постоянное употребление фаст-фуда ведёт в «консервированию» организма веществами. Которые способны бальзамировать тело человека и не разлагаются на протяжении определенного време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Содержимое 4" descr="1334708941_4960d055-big.jpg"/>
          <p:cNvPicPr/>
          <p:nvPr/>
        </p:nvPicPr>
        <p:blipFill>
          <a:blip r:embed="rId5"/>
          <a:stretch/>
        </p:blipFill>
        <p:spPr>
          <a:xfrm>
            <a:off x="4427640" y="3068640"/>
            <a:ext cx="309564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елают хлеб более мягким, маргарин тверже, карамели менее лип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– и диглицери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1714680" y="3357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 расслоение арахисового м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9"/>
          <p:cNvSpPr/>
          <p:nvPr/>
        </p:nvSpPr>
        <p:spPr>
          <a:xfrm>
            <a:off x="1643040" y="46720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СЛАД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– и диглицери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4929120" y="46720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АРГАР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_1218"/>
          <p:cNvPicPr/>
          <p:nvPr/>
        </p:nvPicPr>
        <p:blipFill>
          <a:blip r:embed="rId4"/>
          <a:stretch/>
        </p:blipFill>
        <p:spPr>
          <a:xfrm>
            <a:off x="2000160" y="2565360"/>
            <a:ext cx="250056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argarin"/>
          <p:cNvPicPr/>
          <p:nvPr/>
        </p:nvPicPr>
        <p:blipFill>
          <a:blip r:embed="rId5"/>
          <a:stretch/>
        </p:blipFill>
        <p:spPr>
          <a:xfrm>
            <a:off x="4572000" y="2714760"/>
            <a:ext cx="2909880" cy="1857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59040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5"/>
          <p:cNvSpPr/>
          <p:nvPr/>
        </p:nvSpPr>
        <p:spPr>
          <a:xfrm>
            <a:off x="1714680" y="19400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Витамин В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500120" y="1557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нитрат тиам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xp64683_S"/>
          <p:cNvPicPr/>
          <p:nvPr/>
        </p:nvPicPr>
        <p:blipFill>
          <a:blip r:embed="rId4"/>
          <a:stretch/>
        </p:blipFill>
        <p:spPr>
          <a:xfrm>
            <a:off x="5076720" y="2565360"/>
            <a:ext cx="237024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zerno"/>
          <p:cNvPicPr/>
          <p:nvPr/>
        </p:nvPicPr>
        <p:blipFill>
          <a:blip r:embed="rId5"/>
          <a:stretch/>
        </p:blipFill>
        <p:spPr>
          <a:xfrm>
            <a:off x="1835280" y="2708280"/>
            <a:ext cx="2701800" cy="16207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1500120" y="45086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Содержится в витаминизированных злаковых продуктах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в м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9"/>
          <p:cNvSpPr/>
          <p:nvPr/>
        </p:nvSpPr>
        <p:spPr>
          <a:xfrm>
            <a:off x="1714680" y="2349360"/>
            <a:ext cx="5929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F DinDisplay Pro"/>
              </a:rPr>
              <a:t>Абсолютно безопасны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2:55:16Z</dcterms:created>
  <dc:creator>Никита</dc:creator>
  <dc:description/>
  <dc:language>en-US</dc:language>
  <cp:lastModifiedBy>Admin</cp:lastModifiedBy>
  <dcterms:modified xsi:type="dcterms:W3CDTF">2012-12-01T08:28:13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7000000000001024140</vt:lpwstr>
  </property>
</Properties>
</file>