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9.jpeg" ContentType="image/jpeg"/>
  <Override PartName="/ppt/media/image7.jpeg" ContentType="image/jpeg"/>
  <Override PartName="/ppt/media/image28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11.png" ContentType="image/pn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2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12.png" ContentType="image/pn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19642-C0CE-4F6F-B3C0-641BA7C8756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A727E-789B-42D7-B7A3-1BD7FBF41F2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104F4-A368-49E5-AE96-B25B92987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0196C-DB6B-4D8D-85B1-11F1F68A1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9EFE6-8019-4ED7-B8AC-86FF48B8E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16519-C4E2-4663-9C81-31DE3C201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53744-0C06-48FD-AB5F-89CC9F217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A0862-20B6-46EC-BAF3-E67C31D35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ACD5B-37FE-4DA7-914E-A50EA15FE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9C858-7CB7-42F1-9BDD-16EA5DD30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DA7A9-2E97-4226-AC1A-BC0A87C63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9CCCD-73AA-4BC6-AC6A-CA2BD1E26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FFE37-B279-482E-8D15-D754D66EF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0A4CE-C7ED-4851-9334-BEDF95EA0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18FAF-F35B-4C68-819D-4C3F56608C8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9640" y="227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Без чего нет жизни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Урок-проект на тему « Оксиген. Феррум. Кислород. Железо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539640" y="398520"/>
            <a:ext cx="1629000" cy="18860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" descr=""/>
          <p:cNvPicPr/>
          <p:nvPr/>
        </p:nvPicPr>
        <p:blipFill>
          <a:blip r:embed="rId2"/>
          <a:stretch/>
        </p:blipFill>
        <p:spPr>
          <a:xfrm>
            <a:off x="6940440" y="4869000"/>
            <a:ext cx="2065320" cy="15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обирание кислорода в лаборатории. Качественная реакция на кислород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Собирают кислород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 . Вытеснением воды, т.к. кислород не растворяется в вод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2. Вытеснением воздуха, т.к. кислород тяжелее воздуха ( М ( О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)=32г/ моль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 ( возд. )=29г/ моль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Качественная реакция на кислород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ислород можно определить по вспыхиванию тлеющей лучинки, т.к. кислород  поддерживает горение.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2" descr=""/>
          <p:cNvPicPr/>
          <p:nvPr/>
        </p:nvPicPr>
        <p:blipFill>
          <a:blip r:embed="rId1"/>
          <a:stretch/>
        </p:blipFill>
        <p:spPr>
          <a:xfrm>
            <a:off x="5064120" y="3789360"/>
            <a:ext cx="3987720" cy="29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Физиологическое действие кислорода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. Принимает участие в процессе дыхан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. В клетках обеспечивает реакции окислен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1"/>
          <a:stretch/>
        </p:blipFill>
        <p:spPr>
          <a:xfrm>
            <a:off x="0" y="3314880"/>
            <a:ext cx="4594320" cy="30952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" descr=""/>
          <p:cNvPicPr/>
          <p:nvPr/>
        </p:nvPicPr>
        <p:blipFill>
          <a:blip r:embed="rId2"/>
          <a:stretch/>
        </p:blipFill>
        <p:spPr>
          <a:xfrm>
            <a:off x="5219640" y="3349800"/>
            <a:ext cx="3672000" cy="314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5920" y="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Физиологическое действие Феррума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395280" y="1158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. В живых организмах содержится в белке крове  – гемоглобине, который обеспечивает газообмен.  При  недостатке железа в организме развивается малокровие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организм поступает вместе с едой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одержание железа в 100 г продуктов питания: морская капуста - 16 мг, печень говяжья - 8,4 мг, фасоль - 6.4 мг, петрушка - 6 мг, овсянка - 4,5 мг, изюм - 2,7 мг, яблоки - 2,2 мг, макароны - 1,5 мг, телятина - 1,1 мг, свёкла - 1 мг, курица - 0,7 мг, рыба - 0,5 мг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2. Входит в состав ферментов – биокатализаторо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2" descr=""/>
          <p:cNvPicPr/>
          <p:nvPr/>
        </p:nvPicPr>
        <p:blipFill>
          <a:blip r:embed="rId1"/>
          <a:stretch/>
        </p:blipFill>
        <p:spPr>
          <a:xfrm>
            <a:off x="-55440" y="4446720"/>
            <a:ext cx="3208320" cy="24112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" descr=""/>
          <p:cNvPicPr/>
          <p:nvPr/>
        </p:nvPicPr>
        <p:blipFill>
          <a:blip r:embed="rId2"/>
          <a:stretch/>
        </p:blipFill>
        <p:spPr>
          <a:xfrm>
            <a:off x="5975280" y="4500720"/>
            <a:ext cx="316872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Химические свойства кислорода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68360" y="836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 ) взаимодействие с металлам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Mg + O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=2Mg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 )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заимодействие с неметаллам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 + O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= SO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 + O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= CO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4P + 5O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= 2P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3 )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заимодействие со сложными веществам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2Н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 + 3O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= 2H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 + 2SO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0" y="3914640"/>
            <a:ext cx="5205240" cy="29527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" descr=""/>
          <p:cNvPicPr/>
          <p:nvPr/>
        </p:nvPicPr>
        <p:blipFill>
          <a:blip r:embed="rId2"/>
          <a:stretch/>
        </p:blipFill>
        <p:spPr>
          <a:xfrm>
            <a:off x="5580000" y="3914640"/>
            <a:ext cx="2835360" cy="21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ксиды. Типы химических реакций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еакции горения и окислен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6836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Оксиды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– это сложные вещества, которые содержат два химических элемента, один из которых Оксиген ( пишут на втором месте 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Реакция соединения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– это реакция, в результате которой из двух или больше веществ образуется одно новое вещество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( А + В = АВ 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Реакция разложения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это реакция, в результате которой из одного сложного вещества образуется несколько простых веществ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. ( АВ = А + В 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Горение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– это реакция с выделением тепла и света, при этом происходит окисление веществ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Окисление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– это реакция с выделением теплоты, при этом происходит окисление веществ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Катализаторы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это вещества, которые изменяют скорость химических реакций, но не входят в состав её продуктов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5364000" y="4983120"/>
            <a:ext cx="182268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Химические свойства железа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заимодействие с кислородо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Fe + O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= 2Fe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4Fe + 3O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=2F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Fe + 2O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= F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заимодействие с неметаллам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e + S = F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Fe + 3Cl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= 2FeCl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2627280" y="4307040"/>
            <a:ext cx="3341880" cy="19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"/>
          <p:cNvPicPr/>
          <p:nvPr/>
        </p:nvPicPr>
        <p:blipFill>
          <a:blip r:embed="rId1"/>
          <a:stretch/>
        </p:blipFill>
        <p:spPr>
          <a:xfrm>
            <a:off x="755640" y="476280"/>
            <a:ext cx="7415280" cy="552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6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рименение кислорода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8360" y="836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металлургии ускоряет процесс выплавки стали и улучшает её качество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оизводство многих химических соединени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варка и резка металлов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Баллоны , заполненные кислородом, используют военные лётчики, космонавты, пожарники, водолазы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ислородные подушки используют при некоторых заболеваниях для облегчения дыхани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жиженный кислород нужен  для сгорания горючего в космических ракетах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 участием кислорода воздуха сгорает топливо на  теплоэлектростанциях, горючее в двигателях автомобилей, обжигают металлические руды на заводах цветной металлургии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.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2" descr=""/>
          <p:cNvPicPr/>
          <p:nvPr/>
        </p:nvPicPr>
        <p:blipFill>
          <a:blip r:embed="rId1"/>
          <a:stretch/>
        </p:blipFill>
        <p:spPr>
          <a:xfrm>
            <a:off x="0" y="4689360"/>
            <a:ext cx="2610000" cy="20876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2" descr=""/>
          <p:cNvPicPr/>
          <p:nvPr/>
        </p:nvPicPr>
        <p:blipFill>
          <a:blip r:embed="rId2"/>
          <a:stretch/>
        </p:blipFill>
        <p:spPr>
          <a:xfrm>
            <a:off x="2610000" y="4545000"/>
            <a:ext cx="2232000" cy="22320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2" descr=""/>
          <p:cNvPicPr/>
          <p:nvPr/>
        </p:nvPicPr>
        <p:blipFill>
          <a:blip r:embed="rId3"/>
          <a:stretch/>
        </p:blipFill>
        <p:spPr>
          <a:xfrm>
            <a:off x="4643280" y="4807080"/>
            <a:ext cx="2376720" cy="15811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2" descr=""/>
          <p:cNvPicPr/>
          <p:nvPr/>
        </p:nvPicPr>
        <p:blipFill>
          <a:blip r:embed="rId4"/>
          <a:stretch/>
        </p:blipFill>
        <p:spPr>
          <a:xfrm>
            <a:off x="7164360" y="4243320"/>
            <a:ext cx="1800360" cy="25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именение железа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95280" y="836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Феррум используют  в химической промышленности как катализатор, в медицине – как способ против малокрови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спользуют его как материал для изготовления сердечников электромагнитов, якорей электромашин, пластин аккумуляторов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Большое значение для народного хозяйства имеют соединения Феррума – чугун и сталь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А ещё железо – « целитель».  В наши дни Марциальные воды в Карелии – известный грязевый курорт, воды и грязи которого содержат железо.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7130880" y="3573360"/>
            <a:ext cx="2013120" cy="30243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2" descr=""/>
          <p:cNvPicPr/>
          <p:nvPr/>
        </p:nvPicPr>
        <p:blipFill>
          <a:blip r:embed="rId2"/>
          <a:stretch/>
        </p:blipFill>
        <p:spPr>
          <a:xfrm>
            <a:off x="4524480" y="4703760"/>
            <a:ext cx="2628720" cy="17431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2" descr=""/>
          <p:cNvPicPr/>
          <p:nvPr/>
        </p:nvPicPr>
        <p:blipFill>
          <a:blip r:embed="rId3"/>
          <a:stretch/>
        </p:blipFill>
        <p:spPr>
          <a:xfrm>
            <a:off x="98280" y="4827600"/>
            <a:ext cx="2082960" cy="16192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" descr=""/>
          <p:cNvPicPr/>
          <p:nvPr/>
        </p:nvPicPr>
        <p:blipFill>
          <a:blip r:embed="rId4"/>
          <a:stretch/>
        </p:blipFill>
        <p:spPr>
          <a:xfrm>
            <a:off x="2284560" y="4703760"/>
            <a:ext cx="2103120" cy="173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Железо ковало победу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68360" y="90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олоссальную массу железа на земном шаре использовано в ходе войн. Только в годы Первой мировой войны было израсходовано не менее чем 200млн. стали, во вторую мировую – 800млн. тонн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коло 90% всех металлов, которые использовались в годы Великой Отечественной войны, приходится на железо. Железо – главная составляющая чугуна и стали. Сплавы железа в виде бронированных плит и литья толщиной 10-100 мм использовались для изготовления корпусов и башен танков, бронеавтомобилей, самоходных артиллеристских установок, бронепоездов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Picture 2" descr=""/>
          <p:cNvPicPr/>
          <p:nvPr/>
        </p:nvPicPr>
        <p:blipFill>
          <a:blip r:embed="rId1"/>
          <a:stretch/>
        </p:blipFill>
        <p:spPr>
          <a:xfrm>
            <a:off x="2014560" y="3789360"/>
            <a:ext cx="5311800" cy="29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Характеристика железа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53964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Железо – серебристо-белый с сероватым оттенком металл ( в порошкообразном состоянии блеск теряется, цвет становится серовато-чёрным 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Железо имеет плотность 7,87 г/см кубический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емпература плавления железа – 1539 градусов Цельсия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и накаливании металл легко прокатывается, куётся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бразует много сплавов с другими металлами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Железо и его сплавы легко притягиваются магнитом и легко намагничиваются в магнитном поле, являются хорошими проводниками тока и тепла.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4572000" y="4941720"/>
            <a:ext cx="2828880" cy="16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По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дведение итогов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68360" y="90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Открытие кислорода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– важнейшее событие в истории человеческой мысли, так как оно опровергло флогистонную теорию, которая на целое столетие задержало развитие химической наук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начение кислорода велико, без него нет жизни ( процессов дыхания и окисления ); невозможны реакции горения, резки и сварки металл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600 минералов, содержащих Оксиген, используются в промышленности для получения разных веществ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Железо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– фундамент цивилизации и основа экономического могущества государств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Без железа нет жизни. Феррум входит в состав гемоглобина крови, который обеспечивает газообмен и в состав ферментов – биокатализаторов.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alibri"/>
              </a:rPr>
              <a:t>Характеристика Оксигена и кислорода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68360" y="1628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800" spc="-1" strike="noStrike">
                <a:solidFill>
                  <a:srgbClr val="000000"/>
                </a:solidFill>
                <a:latin typeface="Calibri"/>
              </a:rPr>
              <a:t>Оксиге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Химический символ-О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Химический элемент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Ач(О)=16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Валентность в соединениях -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 rot="16200000">
            <a:off x="4671360" y="1313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 vert="eaVer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Кислород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Химическая формула – О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2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остое вещество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ч(О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)=32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Газ без цвета, запаха, мало растворим в вод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"/>
          <p:cNvPicPr/>
          <p:nvPr/>
        </p:nvPicPr>
        <p:blipFill>
          <a:blip r:embed="rId1"/>
          <a:stretch/>
        </p:blipFill>
        <p:spPr>
          <a:xfrm>
            <a:off x="3086280" y="2657520"/>
            <a:ext cx="2971800" cy="15429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3" descr=""/>
          <p:cNvPicPr/>
          <p:nvPr/>
        </p:nvPicPr>
        <p:blipFill>
          <a:blip r:embed="rId2"/>
          <a:stretch/>
        </p:blipFill>
        <p:spPr>
          <a:xfrm>
            <a:off x="0" y="376200"/>
            <a:ext cx="8783640" cy="456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Игра «Да или нет»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9528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олекулярная формула кислорода - О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(да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тносительная молекулярная масса - 8 (нет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и нормальных условиях кислород - твёрдое вещество.(нет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ислород поддерживает дыхание и горение.(да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Фотосинтез - это химический процесс, связанный с зелёными растениями. (да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ыхание - биохимический процесс, противоположный фотосинтезу.(да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ислород - это вещество, без которого человек может прожить лишь несколько минут.(да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Оксиген - металлический элемент. ( нет 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Железо - сложное вещество. ( нет 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Феррум - металлический элемент.  ( да 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Феррум входит в состав гемоглобина крови.( да 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Железо при нормальных условиях - жидкий металл.( нет 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Железо способно намагничиваться.( да 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таль - это сплав железа. ( да 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Игра «Угадай вещество»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ставить в пропущенные места формулы и расставить коэффициент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g + ?=Mg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? + 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О </a:t>
            </a:r>
            <a:r>
              <a:rPr b="0" lang="uk-UA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+ ?=N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? + 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О</a:t>
            </a:r>
            <a:r>
              <a:rPr b="0" lang="uk-UA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=Ва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Са + О</a:t>
            </a:r>
            <a:r>
              <a:rPr b="0" lang="uk-UA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=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Тестовые задания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6836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Укажите относительную атомную массу Оксигена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Calibri"/>
              </a:rPr>
              <a:t>А </a:t>
            </a:r>
            <a:r>
              <a:rPr b="0" lang="uk-UA" sz="1600" spc="-1" strike="noStrike">
                <a:solidFill>
                  <a:srgbClr val="000000"/>
                </a:solidFill>
                <a:latin typeface="Calibri"/>
              </a:rPr>
              <a:t>16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Calibri"/>
              </a:rPr>
              <a:t>Б </a:t>
            </a:r>
            <a:r>
              <a:rPr b="0" lang="uk-UA" sz="1600" spc="-1" strike="noStrike">
                <a:solidFill>
                  <a:srgbClr val="000000"/>
                </a:solidFill>
                <a:latin typeface="Calibri"/>
              </a:rPr>
              <a:t>3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Calibri"/>
              </a:rPr>
              <a:t>В </a:t>
            </a:r>
            <a:r>
              <a:rPr b="0" lang="uk-UA" sz="1600" spc="-1" strike="noStrike">
                <a:solidFill>
                  <a:srgbClr val="000000"/>
                </a:solidFill>
                <a:latin typeface="Calibri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0" lang="uk-UA" sz="1600" spc="-1" strike="noStrike">
                <a:solidFill>
                  <a:srgbClr val="000000"/>
                </a:solidFill>
                <a:latin typeface="Calibri"/>
              </a:rPr>
              <a:t>Обозначьте химический символ Феррума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Calibri"/>
              </a:rPr>
              <a:t>А </a:t>
            </a:r>
            <a:r>
              <a:rPr b="0" lang="uk-UA" sz="1600" spc="-1" strike="noStrike">
                <a:solidFill>
                  <a:srgbClr val="000000"/>
                </a:solidFill>
                <a:latin typeface="Calibri"/>
              </a:rPr>
              <a:t>О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Calibri"/>
              </a:rPr>
              <a:t>Б</a:t>
            </a:r>
            <a:r>
              <a:rPr b="0" lang="uk-UA" sz="1600" spc="-1" strike="noStrike">
                <a:solidFill>
                  <a:srgbClr val="000000"/>
                </a:solidFill>
                <a:latin typeface="Calibri"/>
              </a:rPr>
              <a:t> К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Calibri"/>
              </a:rPr>
              <a:t>В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Укажите валентность Оксигена в соединениях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uk-UA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Calibri"/>
              </a:rPr>
              <a:t>Б</a:t>
            </a:r>
            <a:r>
              <a:rPr b="0" lang="uk-UA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I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B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II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.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Укажите массовую долю Феррума в составе Fe</a:t>
            </a:r>
            <a:r>
              <a:rPr b="0" lang="ru-RU" sz="16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ru-RU" sz="16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uk-UA" sz="1600" spc="-1" strike="noStrike">
                <a:solidFill>
                  <a:srgbClr val="000000"/>
                </a:solidFill>
                <a:latin typeface="Calibri"/>
              </a:rPr>
              <a:t> 88.89 %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Calibri"/>
              </a:rPr>
              <a:t>Б</a:t>
            </a:r>
            <a:r>
              <a:rPr b="1" lang="uk-UA" sz="16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1600" spc="-1" strike="noStrike">
                <a:solidFill>
                  <a:srgbClr val="000000"/>
                </a:solidFill>
                <a:latin typeface="Calibri"/>
              </a:rPr>
              <a:t>70 %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uk-UA" sz="1600" spc="-1" strike="noStrike">
                <a:solidFill>
                  <a:srgbClr val="000000"/>
                </a:solidFill>
                <a:latin typeface="Calibri"/>
              </a:rPr>
              <a:t> 75,45 %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9640" y="23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Характеристика кислорода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24000" y="981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ислород – это газ без цвета, вкуса и запаха, мало растворим в вод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Химическая формула кислорода –О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тносительная молекулярная масса кислорода: М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(О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)=32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тносительная плотность кислорода по воздуху составляет 1,1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асса 1 литра кислорода при  нормальных условиях  - 1,426г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вёрдый кислород имеет вид снега голубого цвета, плотность которого равна 1.4 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и атмосферном давлении и температуре -182,98 градусов Цельсия кислород сжижается, образуя бледно-синюю жидкость с плотностью 1,13, которая притягивается магнитом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6012000" y="4149720"/>
            <a:ext cx="2149200" cy="25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История открытия кислорода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6836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Леонардо да Винчи первым высказал мысль о том, что воздух имеет две составляющие, т.к. во время горения или дыхания затрачивается лишь частично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700" spc="-1" strike="noStrike">
                <a:solidFill>
                  <a:srgbClr val="000000"/>
                </a:solidFill>
                <a:latin typeface="Calibri"/>
              </a:rPr>
              <a:t>Уч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ёные, которые приблизили открытие кислорода: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Ян Батист ван Гельмонт (конец 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XVI 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ст.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начало 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XVII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 ст.) ввёл термин «газ» (от греческого «хаос»)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Д. Майов  (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 XVII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 ст.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 )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 пришёл к выводу, что в воздухе есть активная составляющая, поддерживающая горение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М.В. Ломоносов приблизительно  за 25 лет до Лавуазье высказал мысль о сути процессов горения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открыли кислород швед Карл Шееле ( 1742-1786 ) и англичанин Джозеф Пристли ( 1733-1786 ) во время проведения опытов при разложении веществ, в частности магний нитрата и меркурий (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II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) оксида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Антуан Лавуазье ( 1743-1794 ) в 1775 году доказал, что кислород – это составляющая воздуха и исследовал его свойства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5219640" y="5094360"/>
            <a:ext cx="2363760" cy="17636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" descr=""/>
          <p:cNvPicPr/>
          <p:nvPr/>
        </p:nvPicPr>
        <p:blipFill>
          <a:blip r:embed="rId2"/>
          <a:stretch/>
        </p:blipFill>
        <p:spPr>
          <a:xfrm>
            <a:off x="1908000" y="5094360"/>
            <a:ext cx="2354400" cy="1763640"/>
          </a:xfrm>
          <a:prstGeom prst="rect">
            <a:avLst/>
          </a:prstGeom>
          <a:ln w="0">
            <a:noFill/>
          </a:ln>
        </p:spPr>
      </p:pic>
      <p:sp>
        <p:nvSpPr>
          <p:cNvPr id="62" name="Объект 2"/>
          <p:cNvSpPr/>
          <p:nvPr/>
        </p:nvSpPr>
        <p:spPr>
          <a:xfrm>
            <a:off x="45720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Леонардо да Винчи первым высказал мысль о том, что воздух имеет две составляющие, т.к. во время горения или дыхания затрачивается лишь частично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700" spc="-1" strike="noStrike">
                <a:solidFill>
                  <a:srgbClr val="000000"/>
                </a:solidFill>
                <a:latin typeface="Calibri"/>
              </a:rPr>
              <a:t>Уч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ёные, которые приблизили открытие кислорода: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Ян Батист ван Гельмонт (конец 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XVI 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ст.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начало 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XVII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 ст.) ввёл термин «газ» (от греческого «хаос»)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Д. Майов  (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 XVII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 ст.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 )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 пришёл к выводу, что в воздухе есть активная составляющая, поддерживающая горение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М.В. Ломоносов приблизительно  за 25 лет до Лавуазье высказал мысль о сути процессов горения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открыли кислород швед Карл Шееле ( 1742-1786 ) и англичанин Джозеф Пристли ( 1733-1786 ) во время проведения опытов при разложении веществ, в частности магний нитрата и меркурий (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II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) оксида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Антуан Лавуазье ( 1743-1794 ) в 1775 году доказал, что кислород – это составляющая воздуха и исследовал его свойства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Интересно о железе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39640" y="836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Химически чистое железо мало кто видел. Такое железо куётся и в  монолитных кусках при обычных условиях не окисляется. Яркой иллюстрацией этого является «диво» металлургии древних – известная Кутуисская колонна  около города Дели в Индии. Высота колонны – 7м, а масса – больше 6 т. Точные анализы показали, что она состоит из химически чистого железа. Исследователи не  видели на колонне никаких признаков влияния атмосферы, хотя надпись на ней говорит о том, что она была поставлена в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X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ст. до н.э. А т. к. в ней не выявлено никеля, то она была изготовлена не из метеоритного желез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5651640" y="4221000"/>
            <a:ext cx="198108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Распространение Оксигена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324000" y="836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Оксиген  является самым распространенным элементом на Земле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Оксиген очень распространён в космосе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Кислород содержится  в воздухе и в воде: при О градусов Цельсия в 100  объёмах воды растворяется около  5 объёмов О</a:t>
            </a:r>
            <a:r>
              <a:rPr b="0" lang="uk-UA" sz="16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, а при 20 градусов Цельсия – лишь 3 объём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Оксиген входит в состав воды, песка, горных пород 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В клетках организмов Оксиген составляет 65-75 %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2" descr=""/>
          <p:cNvPicPr/>
          <p:nvPr/>
        </p:nvPicPr>
        <p:blipFill>
          <a:blip r:embed="rId1"/>
          <a:stretch/>
        </p:blipFill>
        <p:spPr>
          <a:xfrm>
            <a:off x="4869000" y="4265640"/>
            <a:ext cx="346068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28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Распространённость Феррума в природе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39528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 распространённости в Земной коре Феррум разделяет с Кальцием 6-7 места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оединения Феррума с Оксигеном – красный, магнитный и бурый железняки – это железные руды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роме соединений Феррума в природе иногда встречается метеоритное железо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ебольшое количество Феррума содержится в природной воде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оны  трёхзарядного Феррума входят в состав гемоглобина  крови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179280" y="3941640"/>
            <a:ext cx="3892680" cy="29163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" descr=""/>
          <p:cNvPicPr/>
          <p:nvPr/>
        </p:nvPicPr>
        <p:blipFill>
          <a:blip r:embed="rId2"/>
          <a:stretch/>
        </p:blipFill>
        <p:spPr>
          <a:xfrm>
            <a:off x="4932360" y="4211640"/>
            <a:ext cx="400356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alibri"/>
              </a:rPr>
              <a:t>Распространение химических элементов в земной коре, в % по массе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Объект 3" descr=""/>
          <p:cNvPicPr/>
          <p:nvPr/>
        </p:nvPicPr>
        <p:blipFill>
          <a:blip r:embed="rId1"/>
          <a:stretch/>
        </p:blipFill>
        <p:spPr>
          <a:xfrm>
            <a:off x="417600" y="1506600"/>
            <a:ext cx="8331120" cy="4627440"/>
          </a:xfrm>
          <a:prstGeom prst="rect">
            <a:avLst/>
          </a:prstGeom>
          <a:ln w="0">
            <a:noFill/>
          </a:ln>
        </p:spPr>
      </p:pic>
      <p:pic>
        <p:nvPicPr>
          <p:cNvPr id="75" name="Диаграмма 2" descr=""/>
          <p:cNvPicPr/>
          <p:nvPr/>
        </p:nvPicPr>
        <p:blipFill>
          <a:blip r:embed="rId2"/>
          <a:stretch/>
        </p:blipFill>
        <p:spPr>
          <a:xfrm>
            <a:off x="1496880" y="1722600"/>
            <a:ext cx="6197760" cy="41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Методы получения кислорода и желез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68360" y="836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Получение кислорода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 в лаборатории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и разложении некоторых веществ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)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алий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ерманганат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KMnO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-&gt;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K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nO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+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nO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+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;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)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бертолетовой  соли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KClO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-&gt;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KCl + 3O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3) гидроген пероксида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&gt;2H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 + O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В промышленности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) перегонкой сжиженного воздуха 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2) из пероксидов щелочных элементов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осстановление железа из руд осуществляют с помощью сильных восстановителей – 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кокса, карбон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I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) оксида, водорода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2" descr=""/>
          <p:cNvPicPr/>
          <p:nvPr/>
        </p:nvPicPr>
        <p:blipFill>
          <a:blip r:embed="rId1"/>
          <a:stretch/>
        </p:blipFill>
        <p:spPr>
          <a:xfrm>
            <a:off x="6300720" y="4581360"/>
            <a:ext cx="2409840" cy="18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1T17:09:13Z</dcterms:created>
  <dc:creator>Борис</dc:creator>
  <dc:description/>
  <dc:language>en-US</dc:language>
  <cp:lastModifiedBy>Admin</cp:lastModifiedBy>
  <dcterms:modified xsi:type="dcterms:W3CDTF">2012-11-26T08:51:12Z</dcterms:modified>
  <cp:revision>112</cp:revision>
  <dc:subject/>
  <dc:title>Без чего нет жизни?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dc08000000000001024140</vt:lpwstr>
  </property>
</Properties>
</file>