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70C-DA49-4DBF-BF60-BEAEF2943E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528-F5AD-49E3-8FEB-930B68295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97-B47F-4EA3-959E-3E067277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3EA-2E5E-4561-B19E-9829E299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52A-2B7B-4D56-8DB5-766C5A68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F64-5EA8-4887-A72B-10CA6D42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4BA-FE02-4677-A60F-3197A60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FDF-F5F3-484C-948F-15C67D1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6FF-580B-44D7-9D1F-E5E7EFFA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BDD-504B-403E-B210-224A78E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E6E-6918-49E5-A0FE-7467D93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D0F-8C7D-4EBC-8F46-76AB3ED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194-6484-48C6-9BAE-538A1B6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18F-1A5C-4B6E-9DF6-A60014E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1FF-0424-4A9A-860A-0BBF787D4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 чего нет жиз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-проект на тему « Оксиген. Феррум. Кислород. Желез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9640" y="398520"/>
            <a:ext cx="16290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940440" y="4869000"/>
            <a:ext cx="2065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ирание кислорода в лаборатории. Качественная реакция на кислоро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ирают кислор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. Вытеснением воды, т.к. кислород не растворяется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ытеснением воздуха, т.к. кислород тяжелее воздуха ( М (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=32г/ мол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 ( возд. )=29г/ м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чественная реакция на кисл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можно определить по вспыхиванию тлеющей лучинки, т.к. кислород  поддерживает горен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64120" y="3789360"/>
            <a:ext cx="3987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инимает участие в процессе дых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клетках обеспечивает реакци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3314880"/>
            <a:ext cx="4594320" cy="30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3349800"/>
            <a:ext cx="3672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Ферру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5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живых организмах содержится в белке крове  – гемоглобине, который обеспечивает газообмен.  При  недостатке железа в организме развивается малокро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м поступает вместе с 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железа в 100 г продуктов питания: морская капуста - 16 мг, печень говяжья - 8,4 мг, фасоль - 6.4 мг, петрушка - 6 мг, овсянка - 4,5 мг, изюм - 2,7 мг, яблоки - 2,2 мг, макароны - 1,5 мг, телятина - 1,1 мг, свёкла - 1 мг, курица - 0,7 мг, рыба - 0,5 м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ходит в состав ферментов – биокатализ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55440" y="4446720"/>
            <a:ext cx="3208320" cy="241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975280" y="450072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) взаимодействие с 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Mg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2M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C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P + 5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2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о сложными веще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+ 2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914640"/>
            <a:ext cx="520524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3914640"/>
            <a:ext cx="2835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сиды. Типы химических реак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и горения 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сид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сложные вещества, которые содержат два химических элемента, один из которых Оксиген ( пишут на втором месте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соеди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реакция, в результате которой из двух или больше веществ образуется одно новое веще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 А + В = А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реакция, в результате которой из одного сложного вещества образуется несколько прост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( АВ = А + 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а и света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оты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ализато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вещества, которые изменяют скорость химических реакций, но не входят в состав её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64000" y="4983120"/>
            <a:ext cx="1822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кислоро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2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Fe + 3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2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Fe + 2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 + S = F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3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Fe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27280" y="4307040"/>
            <a:ext cx="3341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5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менение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еталлургии ускоряет процесс выплавки стали и улучшает её каче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ногих химических соедин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рка и резка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ны , заполненные кислородом, используют военные лётчики, космонавты, пожарники, водола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ные подушки используют при некоторых заболеваниях для облегчения дых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жиженный кислород нужен  для сгорания горючего в космических рак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астием кислорода воздуха сгорает топливо на  теплоэлектростанциях, горючее в двигателях автомобилей, обжигают металлические руды на заводах цветной металлур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4689360"/>
            <a:ext cx="2610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0000" y="45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4643280" y="4807080"/>
            <a:ext cx="23767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64360" y="424332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ррум используют  в химической промышленности как катализатор, в медицине – как способ против малокр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ют его как материал для изготовления сердечников электромагнитов, якорей электромашин, пластин аккумуля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е значение для народного хозяйства имеют соединения Феррума – чугун и ста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железо – « целитель».  В наши дни Марциальные воды в Карелии – известный грязевый курорт, воды и грязи которого содержат железо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30880" y="3573360"/>
            <a:ext cx="201312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24480" y="470376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98280" y="4827600"/>
            <a:ext cx="20829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284560" y="4703760"/>
            <a:ext cx="21031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о ковало побе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оссальную массу железа на земном шаре использовано в ходе войн. Только в годы Первой мировой войны было израсходовано не менее чем 200млн. стали, во вторую мировую – 800млн. тон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90% всех металлов, которые использовались в годы Великой Отечественной войны, приходится на железо. Железо – главная составляющая чугуна и стали. Сплавы железа в виде бронированных плит и литья толщиной 10-100 мм использовались для изготовления корпусов и башен танков, бронеавтомобилей, самоходных артиллеристских установок, бронепоез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14560" y="3789360"/>
            <a:ext cx="5311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– серебристо-белый с сероватым оттенком металл ( в порошкообразном состоянии блеск теряется, цвет становится серовато-чёрным 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меет плотность 7,87 г/см кубическ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пература плавления железа – 1539 градусов Цель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каливании металл легко прокатывается, куё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много сплавов с другими металл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 его сплавы легко притягиваются магнитом и легко намагничиваются в магнитном поле, являются хорошими проводниками тока и тепл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дение итог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крытие кислор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ажнейшее событие в истории человеческой мысли, так как оно опровергло флогистонную теорию, которая на целое столетие задержало развитие химической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кислорода велико, без него нет жизни ( процессов дыхания и окисления ); невозможны реакции горения, резки и сварки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00 минералов, содержащих Оксиген, используются в промышленности для получения разны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фундамент цивилизации и основа экономического могущества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железа нет жизни. Феррум входит в состав гемоглобина крови, который обеспечивает газообмен и в состав ферментов – биокатализатор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Характеристика Оксигена и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Оксиг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символ-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элемен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ч(О)=1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алентность в соединениях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 rot="16200000">
            <a:off x="4671360" y="1313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мическая формула – 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е вещес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ч(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 без цвета, запаха, мало растворим в в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86280" y="265752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376200"/>
            <a:ext cx="8783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Игра «Да или не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екулярная формула кислорода - 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- 8 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ормальных условиях кислород - твёрдое вещество.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поддерживает дыхание и горение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синтез - это химический процесс, связанный с зелёными растениями. 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хание - биохимический процесс, противоположный фотосинтезу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- это вещество, без которого человек может прожить лишь несколько минут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ксиген - металлический элемент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- сложное вещество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еррум - металлический элемент. 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ум входит в состав гемоглобина крови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о при нормальных условиях - жидкий металл.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способно намагничиваться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ль - это сплав железа.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вещество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вить в пропущенные места формулы и расставить коэффици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+ ?=M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?=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В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а + 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относительную атомную массу Оксиге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означьте химический символ Ферру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валентность Оксигена в соединени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массовую долю Феррума в составе Fe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88.89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uk-UA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70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75,45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слород – это газ без цвета, вкуса и запаха, мало растворим в в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ая формула кислорода –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кислорода: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плотность кислорода по воздуху составляет 1,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а 1 литра кислорода при  нормальных условиях  - 1,426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ёрдый кислород имеет вид снега голубого цвета, плотность которого равна 1.4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атмосферном давлении и температуре -182,98 градусов Цельсия кислород сжижается, образуя бледно-синюю жидкость с плотностью 1,13, которая притягивается магни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92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открытия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19640" y="5094360"/>
            <a:ext cx="236376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908000" y="5094360"/>
            <a:ext cx="2354400" cy="17636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о о желез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 чистое железо мало кто видел. Такое железо куётся и в  монолитных кусках при обычных условиях не окисляется. Яркой иллюстрацией этого является «диво» металлургии древних – известная Кутуисская колонна  около города Дели в Индии. Высота колонны – 7м, а масса – больше 6 т. Точные анализы показали, что она состоит из химически чистого железа. Исследователи не  видели на колонне никаких признаков влияния атмосферы, хотя надпись на ней говорит о том, что она была поставлена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. до н.э. А т. к. в ней не выявлено никеля, то она была изготовлена не из метеоритного желе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аспространение Оксиге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 является самым распространенным элементом на Зем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очень распространён в космо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ислород содержится  в воздухе и в воде: при О градусов Цельсия в 100  объёмах воды растворяется около  5 объёмов 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при 20 градусов Цельсия – лишь 3 объё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входит в состав воды, песка, горных пород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клетках организмов Оксиген составляет 65-75 %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869000" y="4265640"/>
            <a:ext cx="34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остранённость Феррума в природ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распространённости в Земной коре Феррум разделяет с Кальцием 6-7 ме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единения Феррума с Оксигеном – красный, магнитный и бурый железняки – это железные ру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соединений Феррума в природе иногда встречается метеоритное желе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льшое количество Феррума содержится в природной 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ы  трёхзарядного Феррума входят в состав гемоглобина  кр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79280" y="3941640"/>
            <a:ext cx="3892680" cy="29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932360" y="421164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аспространение химических элементов в земной коре, в % по мас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5" name="Диаграмма 2" descr=""/>
          <p:cNvPicPr/>
          <p:nvPr/>
        </p:nvPicPr>
        <p:blipFill>
          <a:blip r:embed="rId2"/>
          <a:stretch/>
        </p:blipFill>
        <p:spPr>
          <a:xfrm>
            <a:off x="1496880" y="17226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ы получения кислорода и же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чение кислород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 лаборатор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ложении некоторых вещест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манга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толетовой  со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KCl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гидроген перокси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&gt;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ерегонкой сжиженного воздух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из пероксидов щелочных эле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становление железа из руд осуществляют с помощью сильных восстановителей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кса, карбон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 оксида, водор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09:13Z</dcterms:created>
  <dc:creator>Борис</dc:creator>
  <dc:description/>
  <dc:language>en-US</dc:language>
  <cp:lastModifiedBy>Admin</cp:lastModifiedBy>
  <dcterms:modified xsi:type="dcterms:W3CDTF">2012-11-26T08:51:12Z</dcterms:modified>
  <cp:revision>112</cp:revision>
  <dc:subject/>
  <dc:title>Без чего нет жизни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8000000000001024140</vt:lpwstr>
  </property>
</Properties>
</file>