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F471-06D1-4741-ABCF-F0F74D47D3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1299-A48F-444D-8CCA-B9C441C9C2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155-DFEB-416B-AFF5-5DA0E697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AFB-0A86-42FC-AB93-51757158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16B-C1AA-4489-9B21-2DBA5D4F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511-AAF8-4EF0-9DAA-BB4C21A1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8C9-0614-44E1-83A3-A6AD9949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3AE-1DA2-488A-A50F-F656E9B0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7F2-BF2A-4AC9-A704-1AA0D757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669-7A41-4304-988F-B6EB61E2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730B-E6C2-44A7-89F3-386CC529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2FF-AA4D-4512-BB6F-9676B1EE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8F4-E014-4CA5-A7DC-B66AA91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638-A80B-41AD-BD6B-5B70881F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76CA-ED66-4764-AE3B-5B3DD0F60C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 чего нет жиз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-проект на тему « Оксиген. Феррум. Кислород. Желез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539640" y="398520"/>
            <a:ext cx="1629000" cy="18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940440" y="4869000"/>
            <a:ext cx="20653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ирание кислорода в лаборатории. Качественная реакция на кислород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бирают кислород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. Вытеснением воды, т.к. кислород не растворяется в вод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Вытеснением воздуха, т.к. кислород тяжелее воздуха ( М (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=32г/ мол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 ( возд. )=29г/ моль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ачественная реакция на кислород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можно определить по вспыхиванию тлеющей лучинки, т.к. кислород  поддерживает горение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064120" y="3789360"/>
            <a:ext cx="39877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ологическое действие кислор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инимает участие в процессе дых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 клетках обеспечивает реакции окис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3314880"/>
            <a:ext cx="4594320" cy="30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219640" y="3349800"/>
            <a:ext cx="36720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92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зиологическое действие Феррум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15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В живых организмах содержится в белке крове  – гемоглобине, который обеспечивает газообмен.  При  недостатке железа в организме развивается малокров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рганизм поступает вместе с ед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железа в 100 г продуктов питания: морская капуста - 16 мг, печень говяжья - 8,4 мг, фасоль - 6.4 мг, петрушка - 6 мг, овсянка - 4,5 мг, изюм - 2,7 мг, яблоки - 2,2 мг, макароны - 1,5 мг, телятина - 1,1 мг, свёкла - 1 мг, курица - 0,7 мг, рыба - 0,5 м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ходит в состав ферментов – биокатализ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55440" y="4446720"/>
            <a:ext cx="3208320" cy="241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5975280" y="450072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) взаимодействие с металл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Mg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2M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е с неметалл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S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 + O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C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P + 5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2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заимодействие со сложными веществ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 + 3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2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 + 2S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3914640"/>
            <a:ext cx="520524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5580000" y="3914640"/>
            <a:ext cx="28353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сиды. Типы химических реакц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ции горения и окис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сид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сложные вещества, которые содержат два химических элемента, один из которых Оксиген ( пишут на втором месте 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кция соедин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реакция, в результате которой из двух или больше веществ образуется одно новое веществ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 А + В = АВ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акция разлож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то реакция, в результате которой из одного сложного вещества образуется несколько простых вещест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( АВ = А + В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р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реакция с выделением тепла и света, при этом происходит окисление веще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кисл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реакция с выделением теплоты, при этом происходит окисление веще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тализатор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то вещества, которые изменяют скорость химических реакций, но не входят в состав её продук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64000" y="4983120"/>
            <a:ext cx="18226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имические свойства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действие с кислород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Fe + 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2F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Fe + 3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2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Fe + 2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заимодействие с неметалл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 + S = F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Fe + 3C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2FeC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627280" y="4307040"/>
            <a:ext cx="33418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4152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именение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еталлургии ускоряет процесс выплавки стали и улучшает её качест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изводство многих химических соедин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арка и резка мет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лоны , заполненные кислородом, используют военные лётчики, космонавты, пожарники, водолаз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ные подушки используют при некоторых заболеваниях для облегчения дых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жиженный кислород нужен  для сгорания горючего в космических ракет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участием кислорода воздуха сгорает топливо на  теплоэлектростанциях, горючее в двигателях автомобилей, обжигают металлические руды на заводах цветной металлург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4689360"/>
            <a:ext cx="2610000" cy="208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2610000" y="4545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3"/>
          <a:stretch/>
        </p:blipFill>
        <p:spPr>
          <a:xfrm>
            <a:off x="4643280" y="4807080"/>
            <a:ext cx="2376720" cy="1581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4"/>
          <a:stretch/>
        </p:blipFill>
        <p:spPr>
          <a:xfrm>
            <a:off x="7164360" y="4243320"/>
            <a:ext cx="180036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нение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ррум используют  в химической промышленности как катализатор, в медицине – как способ против малокров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ют его как материал для изготовления сердечников электромагнитов, якорей электромашин, пластин аккумулятор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ое значение для народного хозяйства имеют соединения Феррума – чугун и ста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ё железо – « целитель».  В наши дни Марциальные воды в Карелии – известный грязевый курорт, воды и грязи которого содержат железо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130880" y="3573360"/>
            <a:ext cx="2013120" cy="302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524480" y="4703760"/>
            <a:ext cx="2628720" cy="1743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98280" y="4827600"/>
            <a:ext cx="20829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4"/>
          <a:stretch/>
        </p:blipFill>
        <p:spPr>
          <a:xfrm>
            <a:off x="2284560" y="4703760"/>
            <a:ext cx="21031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лезо ковало побед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оссальную массу железа на земном шаре использовано в ходе войн. Только в годы Первой мировой войны было израсходовано не менее чем 200млн. стали, во вторую мировую – 800млн. тон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оло 90% всех металлов, которые использовались в годы Великой Отечественной войны, приходится на железо. Железо – главная составляющая чугуна и стали. Сплавы железа в виде бронированных плит и литья толщиной 10-100 мм использовались для изготовления корпусов и башен танков, бронеавтомобилей, самоходных артиллеристских установок, бронепоезд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014560" y="3789360"/>
            <a:ext cx="53118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а жел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– серебристо-белый с сероватым оттенком металл ( в порошкообразном состоянии блеск теряется, цвет становится серовато-чёрным 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имеет плотность 7,87 г/см кубическ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пература плавления железа – 1539 градусов Цельс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накаливании металл легко прокатывается, куёт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ует много сплавов с другими металл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елезо и его сплавы легко притягиваются магнитом и легко намагничиваются в магнитном поле, являются хорошими проводниками тока и тепла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572000" y="4941720"/>
            <a:ext cx="28288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ведение итог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ткрытие кислород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важнейшее событие в истории человеческой мысли, так как оно опровергло флогистонную теорию, которая на целое столетие задержало развитие химической нау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кислорода велико, без него нет жизни ( процессов дыхания и окисления ); невозможны реакции горения, резки и сварки метал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600 минералов, содержащих Оксиген, используются в промышленности для получения разных вещ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Желез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фундамент цивилизации и основа экономического могущества государ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з железа нет жизни. Феррум входит в состав гемоглобина крови, который обеспечивает газообмен и в состав ферментов – биокатализаторов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Характеристика Оксигена и кислоро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Оксиг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Химический символ-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Химический элемен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ч(О)=16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алентность в соединениях 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 rot="16200000">
            <a:off x="4671360" y="1313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имическая формула – 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стое веществ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ч(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3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з без цвета, запаха, мало растворим в в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086280" y="2657520"/>
            <a:ext cx="2971800" cy="1542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0" y="376200"/>
            <a:ext cx="878364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Игра «Да или нет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лекулярная формула кислорода - 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носительная молекулярная масса - 8 (н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ормальных условиях кислород - твёрдое вещество.(нет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поддерживает дыхание и горение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синтез - это химический процесс, связанный с зелёными растениями. 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ыхание - биохимический процесс, противоположный фотосинтезу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ислород - это вещество, без которого человек может прожить лишь несколько минут.(д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ксиген - металлический элемент. 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Железо - сложное вещество. 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Феррум - металлический элемент.  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ррум входит в состав гемоглобина крови.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лезо при нормальных условиях - жидкий металл.( нет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Железо способно намагничиваться.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ль - это сплав железа. ( д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Угадай вещество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тавить в пропущенные места формулы и расставить коэффициен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g + ?=M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+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 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?=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 +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Ва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а + О</a:t>
            </a:r>
            <a:r>
              <a:rPr b="0" lang="uk-UA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=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стовые зад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относительную атомную массу Оксиген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бозначьте химический символ Феррум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валентность Оксигена в соединения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кажите массовую долю Феррума в составе Fe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88.89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uk-UA" sz="16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70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 75,45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а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ислород – это газ без цвета, вкуса и запаха, мало растворим в во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ая формула кислорода –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ая молекулярная масса кислорода: 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=32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носительная плотность кислорода по воздуху составляет 1,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сса 1 литра кислорода при  нормальных условиях  - 1,426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ёрдый кислород имеет вид снега голубого цвета, плотность которого равна 1.4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атмосферном давлении и температуре -182,98 градусов Цельсия кислород сжижается, образуя бледно-синюю жидкость с плотностью 1,13, которая притягивается магнит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214920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рия открытия кислород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Леонардо да Винчи первым высказал мысль о том, что воздух имеет две составляющие, т.к. во время горения или дыхания затрачивается лишь частичн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ёные, которые приблизили открытие кислород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Ян Батист ван Гельмонт (конец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чал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) ввёл термин «газ» (от греческого «хаос»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. Майов 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пришёл к выводу, что в воздухе есть активная составляющая, поддерживающая гор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.В. Ломоносов приблизительно  за 25 лет до Лавуазье высказал мысль о сути процессов гор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крыли кислород швед Карл Шееле ( 1742-1786 ) и англичанин Джозеф Пристли ( 1733-1786 ) во время проведения опытов при разложении веществ, в частности магний нитрата и меркурий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 окси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туан Лавуазье ( 1743-1794 ) в 1775 году доказал, что кислород – это составляющая воздуха и исследовал его свой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219640" y="5094360"/>
            <a:ext cx="2363760" cy="176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908000" y="5094360"/>
            <a:ext cx="2354400" cy="1763640"/>
          </a:xfrm>
          <a:prstGeom prst="rect">
            <a:avLst/>
          </a:prstGeom>
          <a:ln w="0">
            <a:noFill/>
          </a:ln>
        </p:spPr>
      </p:pic>
      <p:sp>
        <p:nvSpPr>
          <p:cNvPr id="62" name="Объект 2"/>
          <p:cNvSpPr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Леонардо да Винчи первым высказал мысль о том, что воздух имеет две составляющие, т.к. во время горения или дыхания затрачивается лишь частично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libri"/>
              </a:rPr>
              <a:t>Уч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ёные, которые приблизили открытие кислорода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Ян Батист ван Гельмонт (конец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чал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) ввёл термин «газ» (от греческого «хаос»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Д. Майов 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XV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ст.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пришёл к выводу, что в воздухе есть активная составляющая, поддерживающая горени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.В. Ломоносов приблизительно  за 25 лет до Лавуазье высказал мысль о сути процессов горен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ткрыли кислород швед Карл Шееле ( 1742-1786 ) и англичанин Джозеф Пристли ( 1733-1786 ) во время проведения опытов при разложении веществ, в частности магний нитрата и меркурий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) оксида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нтуан Лавуазье ( 1743-1794 ) в 1775 году доказал, что кислород – это составляющая воздуха и исследовал его свой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есно о желез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имически чистое железо мало кто видел. Такое железо куётся и в  монолитных кусках при обычных условиях не окисляется. Яркой иллюстрацией этого является «диво» металлургии древних – известная Кутуисская колонна  около города Дели в Индии. Высота колонны – 7м, а масса – больше 6 т. Точные анализы показали, что она состоит из химически чистого железа. Исследователи не  видели на колонне никаких признаков влияния атмосферы, хотя надпись на ней говорит о том, что она была поставлена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т. до н.э. А т. к. в ней не выявлено никеля, то она была изготовлена не из метеоритного желез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651640" y="4221000"/>
            <a:ext cx="1981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аспространение Оксиге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 является самым распространенным элементом на Зем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очень распространён в космо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ислород содержится  в воздухе и в воде: при О градусов Цельсия в 100  объёмах воды растворяется около  5 объёмов О</a:t>
            </a:r>
            <a:r>
              <a:rPr b="0" lang="uk-UA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, а при 20 градусов Цельсия – лишь 3 объё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ксиген входит в состав воды, песка, горных пород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 клетках организмов Оксиген составляет 65-75 %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869000" y="4265640"/>
            <a:ext cx="3460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остранённость Феррума в природ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распространённости в Земной коре Феррум разделяет с Кальцием 6-7 мес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единения Феррума с Оксигеном – красный, магнитный и бурый железняки – это железные руд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оме соединений Феррума в природе иногда встречается метеоритное желез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большое количество Феррума содержится в природной вод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оны  трёхзарядного Феррума входят в состав гемоглобина  кров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79280" y="3941640"/>
            <a:ext cx="3892680" cy="291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932360" y="4211640"/>
            <a:ext cx="4003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Распространение химических элементов в земной коре, в % по масс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417600" y="1506600"/>
            <a:ext cx="8331120" cy="4627440"/>
          </a:xfrm>
          <a:prstGeom prst="rect">
            <a:avLst/>
          </a:prstGeom>
          <a:ln w="0">
            <a:noFill/>
          </a:ln>
        </p:spPr>
      </p:pic>
      <p:pic>
        <p:nvPicPr>
          <p:cNvPr id="75" name="Диаграмма 2" descr=""/>
          <p:cNvPicPr/>
          <p:nvPr/>
        </p:nvPicPr>
        <p:blipFill>
          <a:blip r:embed="rId2"/>
          <a:stretch/>
        </p:blipFill>
        <p:spPr>
          <a:xfrm>
            <a:off x="1496880" y="1722600"/>
            <a:ext cx="61977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етоды получения кислорода и желе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учение кислород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 лаборатор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разложении некоторых вещест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л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манган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Mn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ртолетовой  со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Cl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-&gt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KCl + 3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гидроген перокси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&gt;2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 + 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 промышлен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перегонкой сжиженного воздуха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из пероксидов щелочных элемен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становление железа из руд осуществляют с помощью сильных восстановителей –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кса, карбон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) оксида, водоро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7:09:13Z</dcterms:created>
  <dc:creator>Борис</dc:creator>
  <dc:description/>
  <dc:language>en-US</dc:language>
  <cp:lastModifiedBy>Admin</cp:lastModifiedBy>
  <dcterms:modified xsi:type="dcterms:W3CDTF">2012-11-26T08:51:12Z</dcterms:modified>
  <cp:revision>112</cp:revision>
  <dc:subject/>
  <dc:title>Без чего нет жизни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8000000000001024140</vt:lpwstr>
  </property>
</Properties>
</file>