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732D-C943-4E0F-B620-BF53A19B68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AAB6-356E-4167-A979-77C7D3475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8C2-0D00-47FB-930B-BBCFCA5E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D0D-9AC5-4755-B68D-283ED869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38B-55FF-4207-BB2B-8BDA00A7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3EA-CC3C-46DE-856F-44A9A33E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7FD-A7ED-434C-8C87-50788DE4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B66-2013-4BD8-B982-2303DBA7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A3A-2950-4356-9328-ABF6B1EC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7CC-9225-49BE-ADFF-AF1CC30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D1B-75C4-467A-870C-C39DF27E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B83-C2FD-4039-8284-D67332F0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530-88B1-4452-8692-67EE5E53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0FE-1FB7-4115-BDCA-6C0EBA51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8A3A-00D1-43C5-9531-F5E7C899E7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 чего нет жиз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-проект на тему « Оксиген. Феррум. Кислород. Желез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39640" y="398520"/>
            <a:ext cx="1629000" cy="18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940440" y="4869000"/>
            <a:ext cx="20653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ирание кислорода в лаборатории. Качественная реакция на кислород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бирают кислоро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. Вытеснением воды, т.к. кислород не растворяется в в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ытеснением воздуха, т.к. кислород тяжелее воздуха ( М (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=32г/ мол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 ( возд. )=29г/ мол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чественная реакция на кислоро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можно определить по вспыхиванию тлеющей лучинки, т.к. кислород  поддерживает горение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064120" y="3789360"/>
            <a:ext cx="39877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ологическое действие кислор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инимает участие в процессе дых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 клетках обеспечивает реакции окис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3314880"/>
            <a:ext cx="4594320" cy="30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219640" y="3349800"/>
            <a:ext cx="36720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92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ологическое действие Феррум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5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В живых организмах содержится в белке крове  – гемоглобине, который обеспечивает газообмен.  При  недостатке железа в организме развивается малокров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рганизм поступает вместе с ед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железа в 100 г продуктов питания: морская капуста - 16 мг, печень говяжья - 8,4 мг, фасоль - 6.4 мг, петрушка - 6 мг, овсянка - 4,5 мг, изюм - 2,7 мг, яблоки - 2,2 мг, макароны - 1,5 мг, телятина - 1,1 мг, свёкла - 1 мг, курица - 0,7 мг, рыба - 0,5 м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ходит в состав ферментов – биокатализ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55440" y="4446720"/>
            <a:ext cx="3208320" cy="241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975280" y="450072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) взаимодействие с металл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Mg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2M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е с неметалл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S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C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P + 5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2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е со сложными веществ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+ 3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2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+ 2S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3914640"/>
            <a:ext cx="520524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5580000" y="3914640"/>
            <a:ext cx="28353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сиды. Типы химических реакц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ции горения и окис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сид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сложные вещества, которые содержат два химических элемента, один из которых Оксиген ( пишут на втором месте 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кция соедин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реакция, в результате которой из двух или больше веществ образуется одно новое веществ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 А + В = АВ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кция разлож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то реакция, в результате которой из одного сложного вещества образуется несколько простых вещест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( АВ = А + В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р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реакция с выделением тепла и света, при этом происходит окисление веще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ис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реакция с выделением теплоты, при этом происходит окисление веще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тализато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то вещества, которые изменяют скорость химических реакций, но не входят в состав её продук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64000" y="4983120"/>
            <a:ext cx="18226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действие с кислород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Fe + 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2F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Fe + 3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2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Fe + 2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действие с неметалл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 + S = F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Fe + 3C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FeC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627280" y="4307040"/>
            <a:ext cx="33418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4152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менение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еталлургии ускоряет процесс выплавки стали и улучшает её каче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многих химических соедин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арка и резка мет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оны , заполненные кислородом, используют военные лётчики, космонавты, пожарники, водолаз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ные подушки используют при некоторых заболеваниях для облегчения дых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жиженный кислород нужен  для сгорания горючего в космических раке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участием кислорода воздуха сгорает топливо на  теплоэлектростанциях, горючее в двигателях автомобилей, обжигают металлические руды на заводах цветной металлур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4689360"/>
            <a:ext cx="2610000" cy="208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610000" y="4545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4643280" y="4807080"/>
            <a:ext cx="2376720" cy="1581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4"/>
          <a:stretch/>
        </p:blipFill>
        <p:spPr>
          <a:xfrm>
            <a:off x="7164360" y="424332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ррум используют  в химической промышленности как катализатор, в медицине – как способ против малокро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ют его как материал для изготовления сердечников электромагнитов, якорей электромашин, пластин аккумулято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ое значение для народного хозяйства имеют соединения Феррума – чугун и ста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ё железо – « целитель».  В наши дни Марциальные воды в Карелии – известный грязевый курорт, воды и грязи которого содержат железо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130880" y="3573360"/>
            <a:ext cx="2013120" cy="302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524480" y="470376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98280" y="4827600"/>
            <a:ext cx="20829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4"/>
          <a:stretch/>
        </p:blipFill>
        <p:spPr>
          <a:xfrm>
            <a:off x="2284560" y="4703760"/>
            <a:ext cx="21031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лезо ковало побед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оссальную массу железа на земном шаре использовано в ходе войн. Только в годы Первой мировой войны было израсходовано не менее чем 200млн. стали, во вторую мировую – 800млн. тон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ло 90% всех металлов, которые использовались в годы Великой Отечественной войны, приходится на железо. Железо – главная составляющая чугуна и стали. Сплавы железа в виде бронированных плит и литья толщиной 10-100 мм использовались для изготовления корпусов и башен танков, бронеавтомобилей, самоходных артиллеристских установок, бронепоезд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14560" y="3789360"/>
            <a:ext cx="53118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а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– серебристо-белый с сероватым оттенком металл ( в порошкообразном состоянии блеск теряется, цвет становится серовато-чёрным 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имеет плотность 7,87 г/см кубическ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пература плавления железа – 1539 градусов Цельс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накаливании металл легко прокатывается, куёт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ует много сплавов с другими металл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и его сплавы легко притягиваются магнитом и легко намагничиваются в магнитном поле, являются хорошими проводниками тока и тепла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572000" y="4941720"/>
            <a:ext cx="2828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едение итог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ткрытие кислоро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ажнейшее событие в истории человеческой мысли, так как оно опровергло флогистонную теорию, которая на целое столетие задержало развитие химической на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кислорода велико, без него нет жизни ( процессов дыхания и окисления ); невозможны реакции горения, резки и сварки метал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600 минералов, содержащих Оксиген, используются в промышленности для получения разных вещ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Желез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фундамент цивилизации и основа экономического могущества государ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з железа нет жизни. Феррум входит в состав гемоглобина крови, который обеспечивает газообмен и в состав ферментов – биокатализатор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Характеристика Оксигена и кислор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Оксиг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Химический символ-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Химический элемен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ч(О)=16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алентность в соединениях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 rot="16200000">
            <a:off x="4671360" y="1313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имическая формула – 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ое веществ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ч(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3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з без цвета, запаха, мало растворим в в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086280" y="2657520"/>
            <a:ext cx="2971800" cy="1542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0" y="376200"/>
            <a:ext cx="8783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Игра «Да или нет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екулярная формула кислорода - 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ая молекулярная масса - 8 (н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ормальных условиях кислород - твёрдое вещество.(н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поддерживает дыхание и горение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синтез - это химический процесс, связанный с зелёными растениями. 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ыхание - биохимический процесс, противоположный фотосинтезу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- это вещество, без которого человек может прожить лишь несколько минут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ксиген - металлический элемент. 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Железо - сложное вещество. 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еррум - металлический элемент.  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ррум входит в состав гемоглобина крови.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лезо при нормальных условиях - жидкий металл.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Железо способно намагничиваться.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ль - это сплав железа. 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Угадай вещество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авить в пропущенные места формулы и расставить коэффици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+ ?=M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+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?=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+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Ва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а + О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овые зад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относительную атомную массу Оксиген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бозначьте химический символ Феррум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валентность Оксигена в соединения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массовую долю Феррума в составе Fe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88.89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uk-UA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70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75,45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а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слород – это газ без цвета, вкуса и запаха, мало растворим в в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ая формула кислорода –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ая молекулярная масса кислорода: 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=3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ая плотность кислорода по воздуху составляет 1,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а 1 литра кислорода при  нормальных условиях  - 1,426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ёрдый кислород имеет вид снега голубого цвета, плотность которого равна 1.4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атмосферном давлении и температуре -182,98 градусов Цельсия кислород сжижается, образуя бледно-синюю жидкость с плотностью 1,13, которая притягивается магнит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1492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открытия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Леонардо да Винчи первым высказал мысль о том, что воздух имеет две составляющие, т.к. во время горения или дыхания затрачивается лишь частичн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ёные, которые приблизили открытие кислород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Ян Батист ван Гельмонт (конец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чал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) ввёл термин «газ» (от греческого «хаос»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. Майов 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пришёл к выводу, что в воздухе есть активная составляющая, поддерживающая гор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.В. Ломоносов приблизительно  за 25 лет до Лавуазье высказал мысль о сути процессов гор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крыли кислород швед Карл Шееле ( 1742-1786 ) и англичанин Джозеф Пристли ( 1733-1786 ) во время проведения опытов при разложении веществ, в частности магний нитрата и меркурий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 окси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туан Лавуазье ( 1743-1794 ) в 1775 году доказал, что кислород – это составляющая воздуха и исследовал его свой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219640" y="5094360"/>
            <a:ext cx="2363760" cy="17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908000" y="5094360"/>
            <a:ext cx="2354400" cy="1763640"/>
          </a:xfrm>
          <a:prstGeom prst="rect">
            <a:avLst/>
          </a:prstGeom>
          <a:ln w="0">
            <a:noFill/>
          </a:ln>
        </p:spPr>
      </p:pic>
      <p:sp>
        <p:nvSpPr>
          <p:cNvPr id="62" name="Объект 2"/>
          <p:cNvSpPr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Леонардо да Винчи первым высказал мысль о том, что воздух имеет две составляющие, т.к. во время горения или дыхания затрачивается лишь частичн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ёные, которые приблизили открытие кислород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Ян Батист ван Гельмонт (конец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чал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) ввёл термин «газ» (от греческого «хаос»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. Майов 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пришёл к выводу, что в воздухе есть активная составляющая, поддерживающая гор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.В. Ломоносов приблизительно  за 25 лет до Лавуазье высказал мысль о сути процессов гор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крыли кислород швед Карл Шееле ( 1742-1786 ) и англичанин Джозеф Пристли ( 1733-1786 ) во время проведения опытов при разложении веществ, в частности магний нитрата и меркурий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 окси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туан Лавуазье ( 1743-1794 ) в 1775 году доказал, что кислород – это составляющая воздуха и исследовал его свой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есно о желез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и чистое железо мало кто видел. Такое железо куётся и в  монолитных кусках при обычных условиях не окисляется. Яркой иллюстрацией этого является «диво» металлургии древних – известная Кутуисская колонна  около города Дели в Индии. Высота колонны – 7м, а масса – больше 6 т. Точные анализы показали, что она состоит из химически чистого железа. Исследователи не  видели на колонне никаких признаков влияния атмосферы, хотя надпись на ней говорит о том, что она была поставлена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т. до н.э. А т. к. в ней не выявлено никеля, то она была изготовлена не из метеоритного желе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651640" y="4221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аспространение Оксиге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 является самым распространенным элементом на Зем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очень распространён в космо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ислород содержится  в воздухе и в воде: при О градусов Цельсия в 100  объёмах воды растворяется около  5 объёмов О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а при 20 градусов Цельсия – лишь 3 объё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входит в состав воды, песка, горных пород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клетках организмов Оксиген составляет 65-75 %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869000" y="4265640"/>
            <a:ext cx="3460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остранённость Феррума в природ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распространённости в Земной коре Феррум разделяет с Кальцием 6-7 мес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единения Феррума с Оксигеном – красный, магнитный и бурый железняки – это железные ру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оме соединений Феррума в природе иногда встречается метеоритное желез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большое количество Феррума содержится в природной в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оны  трёхзарядного Феррума входят в состав гемоглобина  кров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79280" y="3941640"/>
            <a:ext cx="3892680" cy="291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932360" y="4211640"/>
            <a:ext cx="4003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аспространение химических элементов в земной коре, в % по масс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417600" y="1506600"/>
            <a:ext cx="8331120" cy="4627440"/>
          </a:xfrm>
          <a:prstGeom prst="rect">
            <a:avLst/>
          </a:prstGeom>
          <a:ln w="0">
            <a:noFill/>
          </a:ln>
        </p:spPr>
      </p:pic>
      <p:pic>
        <p:nvPicPr>
          <p:cNvPr id="75" name="Диаграмма 2" descr=""/>
          <p:cNvPicPr/>
          <p:nvPr/>
        </p:nvPicPr>
        <p:blipFill>
          <a:blip r:embed="rId2"/>
          <a:stretch/>
        </p:blipFill>
        <p:spPr>
          <a:xfrm>
            <a:off x="1496880" y="1722600"/>
            <a:ext cx="61977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етоды получения кислорода и же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учение кислород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 лаборатор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разложении некоторых вещест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манган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ртолетовой  со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Cl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KCl + 3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гидроген перокси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&gt;2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+ 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промышлен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перегонкой сжиженного воздуха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из пероксидов щелочных элемен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становление железа из руд осуществляют с помощью сильных восстановителей 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кса, карбон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) оксида, водор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7:09:13Z</dcterms:created>
  <dc:creator>Борис</dc:creator>
  <dc:description/>
  <dc:language>en-US</dc:language>
  <cp:lastModifiedBy>Admin</cp:lastModifiedBy>
  <dcterms:modified xsi:type="dcterms:W3CDTF">2012-11-26T08:51:12Z</dcterms:modified>
  <cp:revision>112</cp:revision>
  <dc:subject/>
  <dc:title>Без чего нет жизни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8000000000001024140</vt:lpwstr>
  </property>
</Properties>
</file>