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EF3-0B9B-4481-94EC-246B12CC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C13-F51F-4E88-A19F-EC755C0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805-4229-480F-B372-84D492EC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6F5-8C05-4933-932F-77AA7575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83E7-6869-4803-8506-A7AF5CA3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805D-6041-4F1B-B09C-C57C9DE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FF3-3FE8-45CE-91AE-62AFE9B3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45A-DC36-4A58-9C08-F2B7798F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7E7-6F4A-4B99-BB8B-26CEBEB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7B3A-F3F8-418B-B0E9-99EC275A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BA18-4B9B-48CC-9151-79483A5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E49-0078-4FFA-B134-3DA9E294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534B-29B4-46E8-AF87-7A936BA1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79E8-623C-4BEF-8199-7998F1C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ED9E-E455-40D5-8BFF-37D4D9C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A24-0654-4E9E-A0E2-EAEB816B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7317-8185-4AB7-BCC1-575AA626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C8D9-9610-4BFA-B81E-FF7EE2E3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034A-4A56-4C2C-ADC4-551D104D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3E87-B63B-4920-BC93-3FAACDD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0579-ECB5-4CF0-8432-6D6FAF9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860F-9E51-4E52-A9E5-69CB134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8BF-0709-4CF5-A757-CD9EC6D2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04F7-F4B0-4D7A-8DE7-D3608F6E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C970-9257-4ECB-8393-91CE596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2AAA-C61C-403A-85C8-816161B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A058-24C9-4B9E-802B-E8A6A566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C65E-8DA9-4EFC-8AA9-24A6D930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BE41-CA32-4A6B-89B3-DA873A9D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822C-94E0-468C-ACD1-5BCC927B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87FF-4E4F-494E-9745-86907ED8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5B1B-7970-4B4F-A7B3-E63D3652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0F0E-5EDD-4C5E-9790-C1210479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C45-9C66-4052-90F1-AE78B952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81DF-99D5-4838-8552-F0DEF350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783C-D6C5-4A92-BAAB-79527EF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E5B7-CD53-4B0F-89DD-B86C8E76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802C-B7F7-44C3-B5E1-D06B648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5CB62-25DD-4554-A4D7-A355839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B27A-2021-4EEC-B242-F2C570CD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F4FA-3517-489E-9B3B-ECDA46C2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67F1-C033-496F-90DC-80F8DF9C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26E6-F975-4237-9721-F425944E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6C813-373E-4122-9EBB-72251197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8A5-BC25-45CE-B98E-5BA1C6A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D3DDC-5E52-4166-BE40-03610C7F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8A97D-8438-42DF-92DC-500C13D0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80972-779C-42F9-9EC9-34ACAEA7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308ED-9B63-4D3D-B43E-9020ED4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2112C-CD7B-4486-9618-8A168914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EA5D6-EB39-47CB-A068-402AF7B0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25F20-9C90-4B82-B2AB-6D49E7D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660E8-774F-4E0C-89EE-5565A28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94C3D-34FA-4129-93B2-34EBAC1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AB93C-F72E-461D-BAD5-38FCD336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B1A-E3C4-439D-A71A-88D351D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7D666-5D64-4DC8-8D9F-6739413B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BDBF-83B5-4530-8A80-90CA5BE6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FEC68-B9E5-4F5D-978F-52CC011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3067-D33B-48E1-BCDE-C992A012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285E-597E-4A8F-AA35-ADF69732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AA6B7-E361-469B-B44E-D1772EE7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50DC-97F3-430B-8EBA-3F9FAB8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DB82-68E0-416F-8306-9B113EB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56DB-A9E5-461B-B75F-F5D8726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6F2C-7E0E-4D2E-98C5-29771BFC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1FD-A5AF-4842-ADAD-8AA53C0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1C32-DB45-4BFA-B6CB-7979C28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B713-BF07-42D1-A6E5-E5F4C1D7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9ABE5-D46E-4221-B629-9EF7A1C0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B82-A960-440C-8816-23DABD5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B5D-DE6C-4931-9540-0A71049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EF56-1079-4C29-9278-1A263B5815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BD01-1F2B-4254-8F99-99290996B78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A6D-210F-489A-ABC4-ED1356FDFE7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942-B564-4F78-B02A-1A7D5E758F6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26A-05F8-4F78-AA6A-410E4C3AE12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031-9C23-493B-99CC-8A638CB9C86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2"/>
          <a:stretch/>
        </p:blipFill>
        <p:spPr>
          <a:xfrm>
            <a:off x="682560" y="493560"/>
            <a:ext cx="7785000" cy="179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</a:rPr>
              <a:t>Химия неметаллов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пишите уравнение реакций разложения нитрата меди, составьте окислительно- восстановительный баланс и укажите число отданных электр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становите генетическую связь получения бария сульфата из предложенных веще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ульфу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окс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натрий суль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атрий сульф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        Б          В         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00080" y="4714920"/>
          <a:ext cx="4357800" cy="1482840"/>
        </p:xfrm>
        <a:graphic>
          <a:graphicData uri="http://schemas.openxmlformats.org/drawingml/2006/table">
            <a:tbl>
              <a:tblPr/>
              <a:tblGrid>
                <a:gridCol w="1015920"/>
                <a:gridCol w="1090800"/>
                <a:gridCol w="1089000"/>
                <a:gridCol w="1162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ите генетическую связь получение из аммиака вещества, которые используют для аналитического определения хлорид-и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Б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O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 Расшифруйте цепочку превращений и напишите уравнение реакций для ее осущест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4"/>
          <p:cNvCxnSpPr/>
          <p:nvPr/>
        </p:nvCxnSpPr>
        <p:spPr>
          <a:xfrm>
            <a:off x="128556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TextBox 5"/>
          <p:cNvSpPr/>
          <p:nvPr/>
        </p:nvSpPr>
        <p:spPr>
          <a:xfrm>
            <a:off x="1214280" y="2000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Прямая со стрелкой 7"/>
          <p:cNvCxnSpPr/>
          <p:nvPr/>
        </p:nvCxnSpPr>
        <p:spPr>
          <a:xfrm>
            <a:off x="2071440" y="2428920"/>
            <a:ext cx="572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Прямая со стрелкой 9"/>
          <p:cNvCxnSpPr/>
          <p:nvPr/>
        </p:nvCxnSpPr>
        <p:spPr>
          <a:xfrm>
            <a:off x="2928600" y="242892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Прямая со стрелкой 11"/>
          <p:cNvCxnSpPr/>
          <p:nvPr/>
        </p:nvCxnSpPr>
        <p:spPr>
          <a:xfrm>
            <a:off x="4643280" y="2428920"/>
            <a:ext cx="50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13"/>
          <p:cNvCxnSpPr/>
          <p:nvPr/>
        </p:nvCxnSpPr>
        <p:spPr>
          <a:xfrm>
            <a:off x="5500440" y="2428920"/>
            <a:ext cx="786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4"/>
          <p:cNvSpPr/>
          <p:nvPr/>
        </p:nvSpPr>
        <p:spPr>
          <a:xfrm>
            <a:off x="200016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5"/>
          <p:cNvSpPr/>
          <p:nvPr/>
        </p:nvSpPr>
        <p:spPr>
          <a:xfrm>
            <a:off x="2928960" y="2000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4572000" y="20001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5357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2"/>
          <p:cNvSpPr/>
          <p:nvPr/>
        </p:nvSpPr>
        <p:spPr>
          <a:xfrm>
            <a:off x="428760" y="3071880"/>
            <a:ext cx="7358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571680" y="328608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8" name="Прямая со стрелкой 20"/>
          <p:cNvCxnSpPr/>
          <p:nvPr/>
        </p:nvCxnSpPr>
        <p:spPr>
          <a:xfrm>
            <a:off x="114264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Прямая со стрелкой 21"/>
          <p:cNvCxnSpPr/>
          <p:nvPr/>
        </p:nvCxnSpPr>
        <p:spPr>
          <a:xfrm>
            <a:off x="199980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>
            <a:off x="307188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Прямая со стрелкой 23"/>
          <p:cNvCxnSpPr/>
          <p:nvPr/>
        </p:nvCxnSpPr>
        <p:spPr>
          <a:xfrm>
            <a:off x="4357800" y="357192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24"/>
          <p:cNvCxnSpPr/>
          <p:nvPr/>
        </p:nvCxnSpPr>
        <p:spPr>
          <a:xfrm>
            <a:off x="6071760" y="3571920"/>
            <a:ext cx="42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1143000" y="3214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1857240" y="3071880"/>
            <a:ext cx="8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k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7"/>
          <p:cNvSpPr/>
          <p:nvPr/>
        </p:nvSpPr>
        <p:spPr>
          <a:xfrm>
            <a:off x="285768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407196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857920" y="307188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 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072120" y="3143160"/>
            <a:ext cx="35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н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+2HCl = Zn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428760" y="1428840"/>
            <a:ext cx="4643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0                     +4  -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+3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5"/>
          <p:cNvCxnSpPr/>
          <p:nvPr/>
        </p:nvCxnSpPr>
        <p:spPr>
          <a:xfrm>
            <a:off x="2285640" y="199980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6"/>
          <p:cNvSpPr/>
          <p:nvPr/>
        </p:nvSpPr>
        <p:spPr>
          <a:xfrm>
            <a:off x="428760" y="2500200"/>
            <a:ext cx="5429160" cy="192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2                      +4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6e       S           4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                               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4e      2O     6   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Прямая со стрелкой 7"/>
          <p:cNvCxnSpPr/>
          <p:nvPr/>
        </p:nvCxnSpPr>
        <p:spPr>
          <a:xfrm>
            <a:off x="1356840" y="299988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9"/>
          <p:cNvCxnSpPr/>
          <p:nvPr/>
        </p:nvCxnSpPr>
        <p:spPr>
          <a:xfrm>
            <a:off x="1571400" y="3785760"/>
            <a:ext cx="50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Прямая соединительная линия 11"/>
          <p:cNvSpPr/>
          <p:nvPr/>
        </p:nvSpPr>
        <p:spPr>
          <a:xfrm>
            <a:off x="1357200" y="36432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ая соединительная линия 13"/>
          <p:cNvSpPr/>
          <p:nvPr/>
        </p:nvSpPr>
        <p:spPr>
          <a:xfrm>
            <a:off x="285768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ая соединительная линия 15"/>
          <p:cNvSpPr/>
          <p:nvPr/>
        </p:nvSpPr>
        <p:spPr>
          <a:xfrm>
            <a:off x="3429000" y="2857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17"/>
          <p:cNvSpPr/>
          <p:nvPr/>
        </p:nvSpPr>
        <p:spPr>
          <a:xfrm>
            <a:off x="500040" y="4143240"/>
            <a:ext cx="3286080" cy="7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CaO = 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Прямоугольник 18"/>
          <p:cNvSpPr/>
          <p:nvPr/>
        </p:nvSpPr>
        <p:spPr>
          <a:xfrm>
            <a:off x="357120" y="485784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CaO+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1" name="Прямая со стрелкой 20"/>
          <p:cNvCxnSpPr/>
          <p:nvPr/>
        </p:nvCxnSpPr>
        <p:spPr>
          <a:xfrm>
            <a:off x="1571760" y="5357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2" name="Прямоугольник 21"/>
          <p:cNvSpPr/>
          <p:nvPr/>
        </p:nvSpPr>
        <p:spPr>
          <a:xfrm>
            <a:off x="357120" y="5715000"/>
            <a:ext cx="46436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S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2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5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NO+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NaOH = 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2Na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Прямая со стрелкой 4"/>
          <p:cNvCxnSpPr/>
          <p:nvPr/>
        </p:nvCxnSpPr>
        <p:spPr>
          <a:xfrm>
            <a:off x="1571760" y="121392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Прямая со стрелкой 6"/>
          <p:cNvCxnSpPr/>
          <p:nvPr/>
        </p:nvCxnSpPr>
        <p:spPr>
          <a:xfrm flipH="1" flipV="1">
            <a:off x="1571400" y="12855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Прямая со стрелкой 8"/>
          <p:cNvCxnSpPr/>
          <p:nvPr/>
        </p:nvCxnSpPr>
        <p:spPr>
          <a:xfrm>
            <a:off x="1928880" y="35719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 массу соли, которая образуется при смешивании нитратной кислоты массой 400гр с массовой долей кислоты 6,3% и раствора гидроксида калия массой 400гр с массовой долей растворенного вещества 2,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чественное определение хлорид, карбонат, сульфат-ионн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х пробирках даны вещества карбонат натрия, сульфат натрия, хлорид натрия. Определите каждое из этих веществ. Запишите молекулярное, полное ионное и сокращенное урав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епили материал по изученной теме, подготовились к тематической аттест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евиз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ение- это установление закономерностей, обнаруженных в результате наблюдений, сопоставления и противопоставления наблюдаемых факт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икакой усвоение, воспроизведение, применение знаний без запоминания невозмож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571480"/>
            <a:ext cx="82296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бщить изученный материал по теме: «Химия неметалл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ся к тематической аттеста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орудов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42892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льтимедийная дос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Т учащихся (научная организация труда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активы: хлорид натрия, карбонат натрия, сульфат натрия, нитрат серебра, соляная кислота, хлорид бар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бир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истика элемента неметал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         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…) от 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до 8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иск: Н (1е); Не(2е); В (3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еМе+(8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)e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    (вос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ок-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еМе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Н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(ок-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ос-ль; иск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ый треугольник 3"/>
          <p:cNvSpPr/>
          <p:nvPr/>
        </p:nvSpPr>
        <p:spPr>
          <a:xfrm flipH="1" flipV="1">
            <a:off x="1356480" y="2000160"/>
            <a:ext cx="871560" cy="8575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Овал 4"/>
          <p:cNvSpPr/>
          <p:nvPr/>
        </p:nvSpPr>
        <p:spPr>
          <a:xfrm>
            <a:off x="4000680" y="2143080"/>
            <a:ext cx="57132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4143240" y="2214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 flipH="1">
            <a:off x="621468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7286760" y="17859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14"/>
          <p:cNvSpPr/>
          <p:nvPr/>
        </p:nvSpPr>
        <p:spPr>
          <a:xfrm flipH="1">
            <a:off x="5214600" y="35712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ая соединительная линия 16"/>
          <p:cNvSpPr/>
          <p:nvPr/>
        </p:nvSpPr>
        <p:spPr>
          <a:xfrm flipH="1" flipV="1">
            <a:off x="5214600" y="371448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>
            <a:off x="3143160" y="428580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21"/>
          <p:cNvCxnSpPr/>
          <p:nvPr/>
        </p:nvCxnSpPr>
        <p:spPr>
          <a:xfrm>
            <a:off x="2499840" y="542880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Прямая соединительная линия 23"/>
          <p:cNvSpPr/>
          <p:nvPr/>
        </p:nvSpPr>
        <p:spPr>
          <a:xfrm>
            <a:off x="2928960" y="4143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ая соединительная линия 25"/>
          <p:cNvSpPr/>
          <p:nvPr/>
        </p:nvSpPr>
        <p:spPr>
          <a:xfrm>
            <a:off x="2286000" y="52862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Прямая со стрелкой 27"/>
          <p:cNvCxnSpPr/>
          <p:nvPr/>
        </p:nvCxnSpPr>
        <p:spPr>
          <a:xfrm flipH="1">
            <a:off x="1355400" y="44308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29"/>
          <p:cNvCxnSpPr/>
          <p:nvPr/>
        </p:nvCxnSpPr>
        <p:spPr>
          <a:xfrm flipH="1">
            <a:off x="1355400" y="56451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9" name="TextBox 30"/>
          <p:cNvSpPr/>
          <p:nvPr/>
        </p:nvSpPr>
        <p:spPr>
          <a:xfrm>
            <a:off x="4500720" y="39290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8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2"/>
          <p:cNvSpPr/>
          <p:nvPr/>
        </p:nvSpPr>
        <p:spPr>
          <a:xfrm flipV="1" rot="10800000">
            <a:off x="3928680" y="50004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Изменение свойств атомов Н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периоде                                        В групп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кисл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сстановитель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ри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 на внешнем слое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(Не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2643120" y="414324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3" name="Прямая со стрелкой 6"/>
          <p:cNvCxnSpPr/>
          <p:nvPr/>
        </p:nvCxnSpPr>
        <p:spPr>
          <a:xfrm flipV="1">
            <a:off x="1784520" y="178560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4" name="Прямая со стрелкой 8"/>
          <p:cNvCxnSpPr/>
          <p:nvPr/>
        </p:nvCxnSpPr>
        <p:spPr>
          <a:xfrm flipH="1">
            <a:off x="1784160" y="23572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Соединительная линия уступом 10"/>
          <p:cNvCxnSpPr/>
          <p:nvPr/>
        </p:nvCxnSpPr>
        <p:spPr>
          <a:xfrm rot="5400000">
            <a:off x="6036480" y="1892520"/>
            <a:ext cx="357840" cy="2160"/>
          </a:xfrm>
          <a:prstGeom prst="bentConnector3">
            <a:avLst>
              <a:gd name="adj1" fmla="val 4994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Прямая со стрелкой 12"/>
          <p:cNvCxnSpPr/>
          <p:nvPr/>
        </p:nvCxnSpPr>
        <p:spPr>
          <a:xfrm flipV="1">
            <a:off x="6215040" y="2285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Прямая со стрелкой 14"/>
          <p:cNvCxnSpPr/>
          <p:nvPr/>
        </p:nvCxnSpPr>
        <p:spPr>
          <a:xfrm flipV="1">
            <a:off x="1785960" y="349956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8" name="Прямая со стрелкой 16"/>
          <p:cNvCxnSpPr/>
          <p:nvPr/>
        </p:nvCxnSpPr>
        <p:spPr>
          <a:xfrm flipV="1">
            <a:off x="6215040" y="3428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9" name="Прямая со стрелкой 18"/>
          <p:cNvCxnSpPr/>
          <p:nvPr/>
        </p:nvCxnSpPr>
        <p:spPr>
          <a:xfrm flipV="1">
            <a:off x="1784520" y="4072680"/>
            <a:ext cx="21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Прямая со стрелкой 20"/>
          <p:cNvCxnSpPr/>
          <p:nvPr/>
        </p:nvCxnSpPr>
        <p:spPr>
          <a:xfrm flipH="1">
            <a:off x="1784160" y="471636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1" name="Прямая со стрелкой 22"/>
          <p:cNvCxnSpPr/>
          <p:nvPr/>
        </p:nvCxnSpPr>
        <p:spPr>
          <a:xfrm flipV="1">
            <a:off x="6215040" y="457164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связь в неме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скл. инертн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:Н ковал.         Молек. Кристал.   В-ва летуч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л.        Решетки (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лох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                                          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. кристал  тв.кристал в-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т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]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i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ст.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4" name="Прямая со стрелкой 4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5" name="Прямая соединительная линия 6"/>
          <p:cNvSpPr/>
          <p:nvPr/>
        </p:nvSpPr>
        <p:spPr>
          <a:xfrm flipH="1">
            <a:off x="5786280" y="2999520"/>
            <a:ext cx="214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ая соединительная линия 8"/>
          <p:cNvSpPr/>
          <p:nvPr/>
        </p:nvSpPr>
        <p:spPr>
          <a:xfrm flipH="1" flipV="1">
            <a:off x="5786280" y="3071880"/>
            <a:ext cx="214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7" name="Прямая со стрелкой 10"/>
          <p:cNvCxnSpPr/>
          <p:nvPr/>
        </p:nvCxnSpPr>
        <p:spPr>
          <a:xfrm>
            <a:off x="5500440" y="428580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Прямая соединительная линия 12"/>
          <p:cNvSpPr/>
          <p:nvPr/>
        </p:nvSpPr>
        <p:spPr>
          <a:xfrm>
            <a:off x="6429240" y="471492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14"/>
          <p:cNvSpPr/>
          <p:nvPr/>
        </p:nvSpPr>
        <p:spPr>
          <a:xfrm flipV="1">
            <a:off x="6429240" y="485748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ая соединительная линия 18"/>
          <p:cNvSpPr/>
          <p:nvPr/>
        </p:nvSpPr>
        <p:spPr>
          <a:xfrm>
            <a:off x="2357280" y="30718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20"/>
          <p:cNvSpPr/>
          <p:nvPr/>
        </p:nvSpPr>
        <p:spPr>
          <a:xfrm>
            <a:off x="2571840" y="25002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2" name="Прямая со стрелкой 22"/>
          <p:cNvCxnSpPr/>
          <p:nvPr/>
        </p:nvCxnSpPr>
        <p:spPr>
          <a:xfrm>
            <a:off x="2571840" y="2499840"/>
            <a:ext cx="429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Прямая со стрелкой 24"/>
          <p:cNvCxnSpPr/>
          <p:nvPr/>
        </p:nvCxnSpPr>
        <p:spPr>
          <a:xfrm>
            <a:off x="2571840" y="4214880"/>
            <a:ext cx="429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8760" y="274680"/>
            <a:ext cx="79293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кажите соответствие между формулой и назван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 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3. 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    С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4. Сероводо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Таблица 3" descr=""/>
          <p:cNvPicPr/>
          <p:nvPr/>
        </p:nvPicPr>
        <p:blipFill>
          <a:blip r:embed="rId1"/>
          <a:stretch/>
        </p:blipFill>
        <p:spPr>
          <a:xfrm>
            <a:off x="500040" y="4286160"/>
            <a:ext cx="2286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смотрите рисунок. Составьте уравнение реакций, электронный баланс и укажите число отданных электронов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2143080"/>
            <a:ext cx="64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одержимое 2"/>
          <p:cNvSpPr/>
          <p:nvPr/>
        </p:nvSpPr>
        <p:spPr>
          <a:xfrm>
            <a:off x="1285920" y="2143080"/>
            <a:ext cx="62863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1500120" y="2214720"/>
            <a:ext cx="1071720" cy="2500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8"/>
          <p:cNvSpPr/>
          <p:nvPr/>
        </p:nvSpPr>
        <p:spPr>
          <a:xfrm>
            <a:off x="1500120" y="4286160"/>
            <a:ext cx="1071720" cy="714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Прямая соединительная линия 10"/>
          <p:cNvSpPr/>
          <p:nvPr/>
        </p:nvSpPr>
        <p:spPr>
          <a:xfrm>
            <a:off x="1499400" y="4643280"/>
            <a:ext cx="1071720" cy="0"/>
          </a:xfrm>
          <a:prstGeom prst="line">
            <a:avLst/>
          </a:prstGeom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Прямая соединительная линия 13"/>
          <p:cNvSpPr/>
          <p:nvPr/>
        </p:nvSpPr>
        <p:spPr>
          <a:xfrm>
            <a:off x="17146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185724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Овал 15"/>
          <p:cNvSpPr/>
          <p:nvPr/>
        </p:nvSpPr>
        <p:spPr>
          <a:xfrm>
            <a:off x="1714680" y="5786280"/>
            <a:ext cx="142560" cy="4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V="1">
            <a:off x="1714680" y="3357360"/>
            <a:ext cx="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ая соединительная линия 18"/>
          <p:cNvSpPr/>
          <p:nvPr/>
        </p:nvSpPr>
        <p:spPr>
          <a:xfrm flipV="1">
            <a:off x="1857240" y="3286080"/>
            <a:ext cx="0" cy="1000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1714680" y="3286080"/>
            <a:ext cx="14256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ая соединительная линия 22"/>
          <p:cNvSpPr/>
          <p:nvPr/>
        </p:nvSpPr>
        <p:spPr>
          <a:xfrm>
            <a:off x="2143080" y="5000760"/>
            <a:ext cx="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ая соединительная линия 24"/>
          <p:cNvSpPr/>
          <p:nvPr/>
        </p:nvSpPr>
        <p:spPr>
          <a:xfrm>
            <a:off x="2286000" y="5000760"/>
            <a:ext cx="0" cy="6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6"/>
          <p:cNvSpPr/>
          <p:nvPr/>
        </p:nvSpPr>
        <p:spPr>
          <a:xfrm>
            <a:off x="2143080" y="5786280"/>
            <a:ext cx="1500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28"/>
          <p:cNvSpPr/>
          <p:nvPr/>
        </p:nvSpPr>
        <p:spPr>
          <a:xfrm>
            <a:off x="2286000" y="5643720"/>
            <a:ext cx="1357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Овал 30"/>
          <p:cNvSpPr/>
          <p:nvPr/>
        </p:nvSpPr>
        <p:spPr>
          <a:xfrm flipV="1">
            <a:off x="3643200" y="5643720"/>
            <a:ext cx="71640" cy="142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рямая соединительная линия 34"/>
          <p:cNvSpPr/>
          <p:nvPr/>
        </p:nvSpPr>
        <p:spPr>
          <a:xfrm flipV="1">
            <a:off x="214308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рямая соединительная линия 35"/>
          <p:cNvSpPr/>
          <p:nvPr/>
        </p:nvSpPr>
        <p:spPr>
          <a:xfrm flipV="1">
            <a:off x="2286000" y="4000320"/>
            <a:ext cx="0" cy="285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Овал 36"/>
          <p:cNvSpPr/>
          <p:nvPr/>
        </p:nvSpPr>
        <p:spPr>
          <a:xfrm>
            <a:off x="2143080" y="3929040"/>
            <a:ext cx="142920" cy="71640"/>
          </a:xfrm>
          <a:prstGeom prst="ellipse">
            <a:avLst/>
          </a:prstGeom>
          <a:solidFill>
            <a:srgbClr val="95b3d7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1357200" y="60008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4429080" y="535788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Прямая со стрелкой 43"/>
          <p:cNvCxnSpPr/>
          <p:nvPr/>
        </p:nvCxnSpPr>
        <p:spPr>
          <a:xfrm flipH="1" flipV="1">
            <a:off x="3785400" y="571464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0" name="Прямая со стрелкой 45"/>
          <p:cNvCxnSpPr>
            <a:endCxn id="355" idx="4"/>
          </p:cNvCxnSpPr>
          <p:nvPr/>
        </p:nvCxnSpPr>
        <p:spPr>
          <a:xfrm flipV="1">
            <a:off x="1784520" y="5831640"/>
            <a:ext cx="216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04:38Z</dcterms:created>
  <dc:creator>Наташка</dc:creator>
  <dc:description/>
  <dc:language>en-US</dc:language>
  <cp:lastModifiedBy>Admin</cp:lastModifiedBy>
  <dcterms:modified xsi:type="dcterms:W3CDTF">2012-11-09T09:47:12Z</dcterms:modified>
  <cp:revision>35</cp:revision>
  <dc:subject/>
  <dc:title>Урок-обобщ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c000000000001024140</vt:lpwstr>
  </property>
</Properties>
</file>