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417-9B0F-4C69-80A3-51037BF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FD5-2A72-435A-A7F4-B354DD61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191-AAE9-4478-81D2-4FDCBB6C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6D8-5E18-47A4-AEF4-EC478054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56C3-282E-4E3D-B846-0F9EF104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A3E2-B891-4157-8896-60762320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F213-14C6-48CC-BF3D-F52015B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6B77-A7E8-4B49-9602-05E3BB0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879C-474E-419A-87DC-5933C333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B884-B520-453F-B836-11370F41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AE3F-0A4F-4195-B497-212212F9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A2E-F029-4F7A-8480-8C2638FD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ACE9-FDE6-4057-9EF9-84A2F03E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F056-93CE-4EB4-8FE2-6FC1F8A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553F-6902-487F-AA57-B7B8BC5B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FE9-17D7-457A-A7F4-AAB43AFB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74B0-E8B7-4682-9C56-CD519EDD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5E71-073C-4E12-A83E-BD5D2569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D260-7060-4748-9F0D-1C74BE56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C159-A918-40B7-9876-6EEE7CCC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BE9B-9784-4D46-B38E-B97B0384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0E8C-E6E5-4228-A175-64D5241D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3DF-F2C2-4ED7-AD7B-DB89D84A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7BF0-565E-4E06-AAFA-5F0F4FDA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5C4D-D8B6-4373-85C7-48E5082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C452-D0C0-4449-8DC5-A04BCE2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C049-BC83-4306-A33C-9E7F572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9C3E-4B4E-4836-BF90-C4F6AD4D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4D05-E330-4377-835B-224FCEC2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C5E4-B78A-420E-9450-745821E1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6E2F-DB0C-4545-8F32-91442A58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A4F8-8EB2-4C13-AD87-B257D917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9747-68EF-4C0E-83BB-EF81860E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878-C39A-4F14-B98A-E2FE688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4BE5-C27F-42DF-BD9D-25CE162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A66B-E018-4A69-99AF-B2E564F0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5E2E-7957-4693-B2C4-6414E8E1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7162-AE2E-46C5-B0D5-4906EC2F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64AB-64ED-4E27-92F9-BB98CD2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54BD-66C9-464D-9861-B16E97C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E772-6D5E-465B-B09F-C5E0E7B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AD28-0C27-46C3-8529-D591ADB7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2321-A8C4-4E9F-8CFB-D4B69FF5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7356B-A209-4D75-84CC-AEB5C1D2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031-5846-4356-99B9-D067A23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4FE10-18D1-4FCA-A142-26978D0B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B2E75-CE33-4BD1-A3B4-1A28E1D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00236-D0F7-44B2-BE88-DB52A8B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ECD3D-D1FE-4088-A353-B277FC0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419A9-0126-4DF8-96D8-7F0C63CA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26BF8-B281-43BC-A665-D4CCC4A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C6DB0-A8F0-4FE8-88F9-8B30477E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6D6A1-C759-4F52-9D38-EEB7C1B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726F9-9024-4731-8005-D8F7F1B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747D3-F8A6-4A3B-A781-4D215A69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3E0-37FC-4F5C-88B0-74B7549C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ED10D-8CEC-4DF1-B542-C7884E76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3EC4E-22E3-4E3F-8724-B1948EB1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C2BB-B108-4454-9441-44E6EEF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CF2C-5E71-448C-8B47-A938CEE5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733B-9C6C-496A-ADFD-A922204C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8EA1-213C-44EE-91A8-F7F6AB72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DC34-AA7D-4822-9E64-2F6043E3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26EF-B116-4A14-A38F-312618A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21BFE-99C8-4D20-A978-D555FED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E3148-6D36-4053-9AB9-1FBA3655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785-A21A-485C-9211-426F87A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E6FA-EF2C-4B13-AA1C-6761EF3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AE2C2-FF0D-44B0-A5FB-75FEFC31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C27A-64E3-4220-BD5E-CF7E324A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117-9C81-4A6B-9D39-E5C3835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A98-D747-4C3F-86A1-FBC4FB88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F7D-C040-4E87-8B04-32A8D6993D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C340-0D65-4702-A70B-E5FE93006ED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1F74-7B70-4D9A-A6CA-E1F13D45D4A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2492-CB5B-495D-8680-5FB2FC5680E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253-A09E-4731-8EAF-E1EB22B9A04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DC9E-1249-4DFA-8B88-1460FB4B8A9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2"/>
          <a:stretch/>
        </p:blipFill>
        <p:spPr>
          <a:xfrm>
            <a:off x="682560" y="493560"/>
            <a:ext cx="7785000" cy="179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</a:rPr>
              <a:t>Химия неметалло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пишите уравнение реакций разложения нитрата меди, составьте окислительно- восстановительный баланс и укажите число отданных электр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становите генетическую связь получения бария сульфата из предложенных вещ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ульфу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окс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трий суль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трий сульф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      Б          В        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00080" y="4714920"/>
          <a:ext cx="435780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90800"/>
                <a:gridCol w="1089000"/>
                <a:gridCol w="1162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ите генетическую связь получение из аммиака вещества, которые используют для аналитического определения хлорид-и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O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 Расшифруйте цепочку превращений и напишите уравнение реакций для ее осущест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4"/>
          <p:cNvCxnSpPr/>
          <p:nvPr/>
        </p:nvCxnSpPr>
        <p:spPr>
          <a:xfrm>
            <a:off x="128556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TextBox 5"/>
          <p:cNvSpPr/>
          <p:nvPr/>
        </p:nvSpPr>
        <p:spPr>
          <a:xfrm>
            <a:off x="1214280" y="2000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Прямая со стрелкой 7"/>
          <p:cNvCxnSpPr/>
          <p:nvPr/>
        </p:nvCxnSpPr>
        <p:spPr>
          <a:xfrm>
            <a:off x="2071440" y="242892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292860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4643280" y="2428920"/>
            <a:ext cx="5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5500440" y="24289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4"/>
          <p:cNvSpPr/>
          <p:nvPr/>
        </p:nvSpPr>
        <p:spPr>
          <a:xfrm>
            <a:off x="200016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928960" y="2000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457200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5357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28760" y="3071880"/>
            <a:ext cx="7358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571680" y="32860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Прямая со стрелкой 20"/>
          <p:cNvCxnSpPr/>
          <p:nvPr/>
        </p:nvCxnSpPr>
        <p:spPr>
          <a:xfrm>
            <a:off x="114264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1"/>
          <p:cNvCxnSpPr/>
          <p:nvPr/>
        </p:nvCxnSpPr>
        <p:spPr>
          <a:xfrm>
            <a:off x="199980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>
            <a:off x="307188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Прямая со стрелкой 23"/>
          <p:cNvCxnSpPr/>
          <p:nvPr/>
        </p:nvCxnSpPr>
        <p:spPr>
          <a:xfrm>
            <a:off x="435780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24"/>
          <p:cNvCxnSpPr/>
          <p:nvPr/>
        </p:nvCxnSpPr>
        <p:spPr>
          <a:xfrm>
            <a:off x="607176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1143000" y="3214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1857240" y="307188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k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285768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407196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85792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072120" y="3143160"/>
            <a:ext cx="35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+2HCl = Zn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428760" y="1428840"/>
            <a:ext cx="4643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0                     +4 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+3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5"/>
          <p:cNvCxnSpPr/>
          <p:nvPr/>
        </p:nvCxnSpPr>
        <p:spPr>
          <a:xfrm>
            <a:off x="2285640" y="19998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6"/>
          <p:cNvSpPr/>
          <p:nvPr/>
        </p:nvSpPr>
        <p:spPr>
          <a:xfrm>
            <a:off x="428760" y="2500200"/>
            <a:ext cx="542916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             +4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6e       S           4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                   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4e      2O     6   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7"/>
          <p:cNvCxnSpPr/>
          <p:nvPr/>
        </p:nvCxnSpPr>
        <p:spPr>
          <a:xfrm>
            <a:off x="1356840" y="29998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9"/>
          <p:cNvCxnSpPr/>
          <p:nvPr/>
        </p:nvCxnSpPr>
        <p:spPr>
          <a:xfrm>
            <a:off x="1571400" y="37857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11"/>
          <p:cNvSpPr/>
          <p:nvPr/>
        </p:nvSpPr>
        <p:spPr>
          <a:xfrm>
            <a:off x="1357200" y="3643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ая соединительная линия 13"/>
          <p:cNvSpPr/>
          <p:nvPr/>
        </p:nvSpPr>
        <p:spPr>
          <a:xfrm>
            <a:off x="285768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ая соединительная линия 15"/>
          <p:cNvSpPr/>
          <p:nvPr/>
        </p:nvSpPr>
        <p:spPr>
          <a:xfrm>
            <a:off x="342900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500040" y="4143240"/>
            <a:ext cx="328608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O =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7120" y="485784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CaO+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1" name="Прямая со стрелкой 20"/>
          <p:cNvCxnSpPr/>
          <p:nvPr/>
        </p:nvCxnSpPr>
        <p:spPr>
          <a:xfrm>
            <a:off x="157176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Прямоугольник 21"/>
          <p:cNvSpPr/>
          <p:nvPr/>
        </p:nvSpPr>
        <p:spPr>
          <a:xfrm>
            <a:off x="357120" y="571500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2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NO+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NaOH =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Прямая со стрелкой 4"/>
          <p:cNvCxnSpPr/>
          <p:nvPr/>
        </p:nvCxnSpPr>
        <p:spPr>
          <a:xfrm>
            <a:off x="1571760" y="121392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6"/>
          <p:cNvCxnSpPr/>
          <p:nvPr/>
        </p:nvCxnSpPr>
        <p:spPr>
          <a:xfrm flipH="1" flipV="1">
            <a:off x="1571400" y="12855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Прямая со стрелкой 8"/>
          <p:cNvCxnSpPr/>
          <p:nvPr/>
        </p:nvCxnSpPr>
        <p:spPr>
          <a:xfrm>
            <a:off x="1928880" y="35719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 массу соли, которая образуется при смешивании нитратной кислоты массой 400гр с массовой долей кислоты 6,3% и раствора гидроксида калия массой 400гр с массовой долей растворенного вещества 2,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енное определение хлорид, карбонат, сульфат-ионн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х пробирках даны вещества карбонат натрия, сульфат натрия, хлорид натрия. Определите каждое из этих веществ. Запишите молекулярное, полное ионное и сокращенное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ли материал по изученной теме, подготовились к тематической аттес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евиз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ение- это установление закономерностей, обнаруженных в результате наблюдений, сопоставления и противопоставления наблюдаемых факт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ой усвоение, воспроизведение, применение знаний без запоминания невозмож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571480"/>
            <a:ext cx="8229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ить изученный материал по теме: «Химия неметалл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ся к тематической аттест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орудов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льтимедийная дос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Т учащихся (научная организация труд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тивы: хлорид натрия, карбонат натрия, сульфат натрия, нитрат серебра, соляная кислота, хлорид бар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и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а элемента неметал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         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…)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о 8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иск: Н (1е); Не(2е); В (3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еМе+(8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)e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    (вос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-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Н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(ок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с-ль; иск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ый треугольник 3"/>
          <p:cNvSpPr/>
          <p:nvPr/>
        </p:nvSpPr>
        <p:spPr>
          <a:xfrm flipH="1" flipV="1">
            <a:off x="1356480" y="2000160"/>
            <a:ext cx="871560" cy="8575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4000680" y="2143080"/>
            <a:ext cx="57132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143240" y="2214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 flipH="1">
            <a:off x="621468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28676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5214600" y="35712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 flipV="1">
            <a:off x="5214600" y="371448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21"/>
          <p:cNvCxnSpPr/>
          <p:nvPr/>
        </p:nvCxnSpPr>
        <p:spPr>
          <a:xfrm>
            <a:off x="2499840" y="542880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23"/>
          <p:cNvSpPr/>
          <p:nvPr/>
        </p:nvSpPr>
        <p:spPr>
          <a:xfrm>
            <a:off x="2928960" y="414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ая соединительная линия 25"/>
          <p:cNvSpPr/>
          <p:nvPr/>
        </p:nvSpPr>
        <p:spPr>
          <a:xfrm>
            <a:off x="2286000" y="5286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Прямая со стрелкой 27"/>
          <p:cNvCxnSpPr/>
          <p:nvPr/>
        </p:nvCxnSpPr>
        <p:spPr>
          <a:xfrm flipH="1">
            <a:off x="1355400" y="44308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29"/>
          <p:cNvCxnSpPr/>
          <p:nvPr/>
        </p:nvCxnSpPr>
        <p:spPr>
          <a:xfrm flipH="1">
            <a:off x="1355400" y="5645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TextBox 30"/>
          <p:cNvSpPr/>
          <p:nvPr/>
        </p:nvSpPr>
        <p:spPr>
          <a:xfrm>
            <a:off x="4500720" y="39290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8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2"/>
          <p:cNvSpPr/>
          <p:nvPr/>
        </p:nvSpPr>
        <p:spPr>
          <a:xfrm flipV="1" rot="10800000">
            <a:off x="3928680" y="50004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Изменение свойств атомов Н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периоде                                       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исл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сстано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 на внешнем слое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643120" y="4143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6"/>
          <p:cNvCxnSpPr/>
          <p:nvPr/>
        </p:nvCxnSpPr>
        <p:spPr>
          <a:xfrm flipV="1">
            <a:off x="1784520" y="17856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Прямая со стрелкой 8"/>
          <p:cNvCxnSpPr/>
          <p:nvPr/>
        </p:nvCxnSpPr>
        <p:spPr>
          <a:xfrm flipH="1">
            <a:off x="1784160" y="235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Соединительная линия уступом 10"/>
          <p:cNvCxnSpPr/>
          <p:nvPr/>
        </p:nvCxnSpPr>
        <p:spPr>
          <a:xfrm rot="5400000">
            <a:off x="6036480" y="18925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2"/>
          <p:cNvCxnSpPr/>
          <p:nvPr/>
        </p:nvCxnSpPr>
        <p:spPr>
          <a:xfrm flipV="1">
            <a:off x="6215040" y="2285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4"/>
          <p:cNvCxnSpPr/>
          <p:nvPr/>
        </p:nvCxnSpPr>
        <p:spPr>
          <a:xfrm flipV="1">
            <a:off x="1785960" y="349956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6"/>
          <p:cNvCxnSpPr/>
          <p:nvPr/>
        </p:nvCxnSpPr>
        <p:spPr>
          <a:xfrm flipV="1">
            <a:off x="6215040" y="3428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8"/>
          <p:cNvCxnSpPr/>
          <p:nvPr/>
        </p:nvCxnSpPr>
        <p:spPr>
          <a:xfrm flipV="1">
            <a:off x="1784520" y="40726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1784160" y="4716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2"/>
          <p:cNvCxnSpPr/>
          <p:nvPr/>
        </p:nvCxnSpPr>
        <p:spPr>
          <a:xfrm flipV="1">
            <a:off x="6215040" y="4571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связь в неме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кл. инертн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:Н ковал.         Молек. Кристал.   В-ва летуч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л.        Решетки (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                                          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. кристал  тв.кристал в-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т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i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т.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Прямая со стрелкой 4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Прямая соединительная линия 6"/>
          <p:cNvSpPr/>
          <p:nvPr/>
        </p:nvSpPr>
        <p:spPr>
          <a:xfrm flipH="1">
            <a:off x="5786280" y="29995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ая соединительная линия 8"/>
          <p:cNvSpPr/>
          <p:nvPr/>
        </p:nvSpPr>
        <p:spPr>
          <a:xfrm flipH="1" flipV="1">
            <a:off x="5786280" y="3071880"/>
            <a:ext cx="21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7" name="Прямая со стрелкой 10"/>
          <p:cNvCxnSpPr/>
          <p:nvPr/>
        </p:nvCxnSpPr>
        <p:spPr>
          <a:xfrm>
            <a:off x="5500440" y="428580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Прямая соединительная линия 12"/>
          <p:cNvSpPr/>
          <p:nvPr/>
        </p:nvSpPr>
        <p:spPr>
          <a:xfrm>
            <a:off x="6429240" y="471492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14"/>
          <p:cNvSpPr/>
          <p:nvPr/>
        </p:nvSpPr>
        <p:spPr>
          <a:xfrm flipV="1">
            <a:off x="6429240" y="485748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8"/>
          <p:cNvSpPr/>
          <p:nvPr/>
        </p:nvSpPr>
        <p:spPr>
          <a:xfrm>
            <a:off x="2357280" y="30718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0"/>
          <p:cNvSpPr/>
          <p:nvPr/>
        </p:nvSpPr>
        <p:spPr>
          <a:xfrm>
            <a:off x="2571840" y="25002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Прямая со стрелкой 22"/>
          <p:cNvCxnSpPr/>
          <p:nvPr/>
        </p:nvCxnSpPr>
        <p:spPr>
          <a:xfrm>
            <a:off x="2571840" y="2499840"/>
            <a:ext cx="429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24"/>
          <p:cNvCxnSpPr/>
          <p:nvPr/>
        </p:nvCxnSpPr>
        <p:spPr>
          <a:xfrm>
            <a:off x="2571840" y="4214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79293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кажите соответствие между формулой и назва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3. 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    С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4. 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Таблица 3" descr=""/>
          <p:cNvPicPr/>
          <p:nvPr/>
        </p:nvPicPr>
        <p:blipFill>
          <a:blip r:embed="rId1"/>
          <a:stretch/>
        </p:blipFill>
        <p:spPr>
          <a:xfrm>
            <a:off x="500040" y="4286160"/>
            <a:ext cx="2286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смотрите рисунок. Составьте уравнение реакций, электронный баланс и укажите число отданных электронов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2143080"/>
            <a:ext cx="64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1285920" y="2143080"/>
            <a:ext cx="62863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00120" y="2214720"/>
            <a:ext cx="1071720" cy="2500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8"/>
          <p:cNvSpPr/>
          <p:nvPr/>
        </p:nvSpPr>
        <p:spPr>
          <a:xfrm>
            <a:off x="1500120" y="428616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1499400" y="4643280"/>
            <a:ext cx="107172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13"/>
          <p:cNvSpPr/>
          <p:nvPr/>
        </p:nvSpPr>
        <p:spPr>
          <a:xfrm>
            <a:off x="17146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185724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15"/>
          <p:cNvSpPr/>
          <p:nvPr/>
        </p:nvSpPr>
        <p:spPr>
          <a:xfrm>
            <a:off x="1714680" y="5786280"/>
            <a:ext cx="14256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V="1">
            <a:off x="1714680" y="3357360"/>
            <a:ext cx="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 flipV="1">
            <a:off x="1857240" y="328608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1714680" y="3286080"/>
            <a:ext cx="14256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ая соединительная линия 22"/>
          <p:cNvSpPr/>
          <p:nvPr/>
        </p:nvSpPr>
        <p:spPr>
          <a:xfrm>
            <a:off x="21430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ая соединительная линия 24"/>
          <p:cNvSpPr/>
          <p:nvPr/>
        </p:nvSpPr>
        <p:spPr>
          <a:xfrm>
            <a:off x="2286000" y="50007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>
            <a:off x="2143080" y="5786280"/>
            <a:ext cx="1500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28"/>
          <p:cNvSpPr/>
          <p:nvPr/>
        </p:nvSpPr>
        <p:spPr>
          <a:xfrm>
            <a:off x="2286000" y="5643720"/>
            <a:ext cx="1357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30"/>
          <p:cNvSpPr/>
          <p:nvPr/>
        </p:nvSpPr>
        <p:spPr>
          <a:xfrm flipV="1">
            <a:off x="3643200" y="5643720"/>
            <a:ext cx="7164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 flipV="1">
            <a:off x="214308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ая соединительная линия 35"/>
          <p:cNvSpPr/>
          <p:nvPr/>
        </p:nvSpPr>
        <p:spPr>
          <a:xfrm flipV="1">
            <a:off x="228600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6"/>
          <p:cNvSpPr/>
          <p:nvPr/>
        </p:nvSpPr>
        <p:spPr>
          <a:xfrm>
            <a:off x="2143080" y="3929040"/>
            <a:ext cx="14292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1357200" y="6000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4429080" y="53578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43"/>
          <p:cNvCxnSpPr/>
          <p:nvPr/>
        </p:nvCxnSpPr>
        <p:spPr>
          <a:xfrm flipH="1" flipV="1">
            <a:off x="37854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45"/>
          <p:cNvCxnSpPr>
            <a:endCxn id="355" idx="4"/>
          </p:cNvCxnSpPr>
          <p:nvPr/>
        </p:nvCxnSpPr>
        <p:spPr>
          <a:xfrm flipV="1">
            <a:off x="1784520" y="5831640"/>
            <a:ext cx="21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04:38Z</dcterms:created>
  <dc:creator>Наташка</dc:creator>
  <dc:description/>
  <dc:language>en-US</dc:language>
  <cp:lastModifiedBy>Admin</cp:lastModifiedBy>
  <dcterms:modified xsi:type="dcterms:W3CDTF">2012-11-09T09:47:12Z</dcterms:modified>
  <cp:revision>35</cp:revision>
  <dc:subject/>
  <dc:title>Урок-обоб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c000000000001024140</vt:lpwstr>
  </property>
</Properties>
</file>