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7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6C8C-E1EC-4ECA-81A5-7E5F7565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5D9E-71F5-4BED-88AC-E107B89A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5A24-90E8-4C46-8220-72D56C30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ADC3-04D5-4A5B-A1A6-F8520267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AF64-7F7E-4DE1-B47D-6AC18607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8C73-C48C-4E83-887B-790DE7D3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87B6-DCA7-4CE6-BEA5-6ECD6AF8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C9B2-0645-4009-957F-86D98341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351E-E5C8-4B5C-B692-8A7C4C36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158D-6B6D-452C-9957-49837031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1097-A72A-4152-B3FF-0549877A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DD9F-6045-408C-8F8B-DDFEB317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22ED-8F25-4C48-995F-AA050438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83A6-E585-4A44-8E16-18094E57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0A31-193C-494D-AEEC-320E33F7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2C6D-ADE6-48B6-A765-1CAB6354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7A8E-5113-4497-B6B4-38F8526C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97C3-B086-4F93-9591-EA6ED061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B6FA-2EA7-4289-8989-9C51B7B7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202D-6BBE-409B-9FFA-7B2B03AF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8B90-8E2D-4766-B519-89D54639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2FFB-5693-4E0A-A235-4E739DC4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9514-F552-4233-8CEF-A498F9E1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0C43-6E18-487E-BC6B-CEEDE2FD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BA3D-3DA9-4E50-8E23-6288AD40F44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4536-CC85-4B0B-995A-2107234AE1A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139040" y="857520"/>
            <a:ext cx="7323120" cy="21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Comic Sans MS"/>
              </a:rPr>
              <a:t>Тема:</a:t>
            </a:r>
            <a:r>
              <a:rPr b="1" lang="ru-RU" sz="3600" spc="-1" strike="noStrike">
                <a:solidFill>
                  <a:srgbClr val="cc66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cc6600"/>
                </a:solidFill>
                <a:latin typeface="Comic Sans MS"/>
              </a:rPr>
              <a:t>Органические соединения в быту. Понятие о бытовых   химикатах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796000" y="2997360"/>
            <a:ext cx="2232000" cy="1755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051108-1158-52"/>
          <p:cNvPicPr/>
          <p:nvPr/>
        </p:nvPicPr>
        <p:blipFill>
          <a:blip r:embed="rId2"/>
          <a:stretch/>
        </p:blipFill>
        <p:spPr>
          <a:xfrm>
            <a:off x="3662280" y="5280120"/>
            <a:ext cx="213372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Comic Sans MS"/>
              </a:rPr>
              <a:t>Классификация препаратов бытовой химии</a:t>
            </a:r>
            <a:br>
              <a:rPr sz="18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i="1" lang="ru-RU" sz="3600" spc="-1" strike="noStrike" u="sng">
                <a:solidFill>
                  <a:srgbClr val="cc6600"/>
                </a:solidFill>
                <a:uFillTx/>
                <a:latin typeface="Comic Sans MS"/>
              </a:rPr>
              <a:t>по использованию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Comic Sans MS"/>
              </a:rPr>
              <a:t>Однораз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Comic Sans MS"/>
              </a:rPr>
              <a:t>Многораз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5796000" y="2901960"/>
            <a:ext cx="2077920" cy="2077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381024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24760" y="970920"/>
            <a:ext cx="7798680" cy="87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6600"/>
                </a:solidFill>
                <a:latin typeface="Comic Sans MS"/>
              </a:rPr>
              <a:t>Классификация препаратов бытовой химии</a:t>
            </a:r>
            <a:br>
              <a:rPr sz="1600"/>
            </a:br>
            <a:r>
              <a:rPr b="1" i="1" lang="ru-RU" sz="2800" spc="-1" strike="noStrike" u="sng">
                <a:solidFill>
                  <a:srgbClr val="cc6600"/>
                </a:solidFill>
                <a:uFillTx/>
                <a:latin typeface="Comic Sans MS"/>
              </a:rPr>
              <a:t>По степени потенциальной опасност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808000"/>
                </a:solidFill>
                <a:latin typeface="Comic Sans MS"/>
              </a:rPr>
              <a:t>Безопасные </a:t>
            </a:r>
            <a:r>
              <a:rPr b="1" lang="ru-RU" sz="2400" spc="-1" strike="noStrike">
                <a:solidFill>
                  <a:srgbClr val="808000"/>
                </a:solidFill>
                <a:latin typeface="Comic Sans MS"/>
              </a:rPr>
              <a:t>(</a:t>
            </a:r>
            <a:r>
              <a:rPr b="1" lang="ru-RU" sz="1400" spc="-1" strike="noStrike">
                <a:solidFill>
                  <a:srgbClr val="808000"/>
                </a:solidFill>
                <a:latin typeface="Comic Sans MS"/>
              </a:rPr>
              <a:t>К безопасным относятся моющие, подсинивающие и подкрахмаливающие средства, многие отбеливающие и чистящие средства, большинство минеральных удобре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808000"/>
                </a:solidFill>
                <a:latin typeface="Comic Sans MS"/>
              </a:rPr>
              <a:t>Огнеопасные(</a:t>
            </a:r>
            <a:r>
              <a:rPr b="1" lang="ru-RU" sz="1400" spc="-1" strike="noStrike">
                <a:solidFill>
                  <a:srgbClr val="808000"/>
                </a:solidFill>
                <a:latin typeface="Comic Sans MS"/>
              </a:rPr>
              <a:t>аэрозольные упаковки, растворители, средства для обработки растений и борьбы с бытовыми насекомыми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808000"/>
                </a:solidFill>
                <a:latin typeface="Comic Sans MS"/>
              </a:rPr>
              <a:t>Ядовитые(</a:t>
            </a:r>
            <a:r>
              <a:rPr b="1" lang="ru-RU" sz="1400" spc="-1" strike="noStrike">
                <a:solidFill>
                  <a:srgbClr val="808000"/>
                </a:solidFill>
                <a:latin typeface="Comic Sans MS"/>
              </a:rPr>
              <a:t>Средства для борьбы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8000"/>
                </a:solidFill>
                <a:latin typeface="Comic Sans MS"/>
              </a:rPr>
              <a:t>        </a:t>
            </a:r>
            <a:r>
              <a:rPr b="1" lang="ru-RU" sz="1400" spc="-1" strike="noStrike">
                <a:solidFill>
                  <a:srgbClr val="808000"/>
                </a:solidFill>
                <a:latin typeface="Comic Sans MS"/>
              </a:rPr>
              <a:t>бытовыми насекомыми и грызунам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8000"/>
                </a:solidFill>
                <a:latin typeface="Comic Sans MS"/>
              </a:rPr>
              <a:t>         </a:t>
            </a:r>
            <a:r>
              <a:rPr b="1" lang="ru-RU" sz="1400" spc="-1" strike="noStrike">
                <a:solidFill>
                  <a:srgbClr val="808000"/>
                </a:solidFill>
                <a:latin typeface="Comic Sans MS"/>
              </a:rPr>
              <a:t>химические средства защиты растен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8000"/>
                </a:solidFill>
                <a:latin typeface="Comic Sans MS"/>
              </a:rPr>
              <a:t>         </a:t>
            </a:r>
            <a:r>
              <a:rPr b="1" lang="ru-RU" sz="1400" spc="-1" strike="noStrike">
                <a:solidFill>
                  <a:srgbClr val="808000"/>
                </a:solidFill>
                <a:latin typeface="Comic Sans MS"/>
              </a:rPr>
              <a:t>некоторые пятновывод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8000"/>
                </a:solidFill>
                <a:latin typeface="Comic Sans MS"/>
              </a:rPr>
              <a:t>         </a:t>
            </a:r>
            <a:r>
              <a:rPr b="1" lang="ru-RU" sz="1400" spc="-1" strike="noStrike">
                <a:solidFill>
                  <a:srgbClr val="808000"/>
                </a:solidFill>
                <a:latin typeface="Comic Sans MS"/>
              </a:rPr>
              <a:t>и клеящие средства, отдельные вид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8000"/>
                </a:solidFill>
                <a:latin typeface="Comic Sans MS"/>
              </a:rPr>
              <a:t>         </a:t>
            </a:r>
            <a:r>
              <a:rPr b="1" lang="ru-RU" sz="1400" spc="-1" strike="noStrike">
                <a:solidFill>
                  <a:srgbClr val="808000"/>
                </a:solidFill>
                <a:latin typeface="Comic Sans MS"/>
              </a:rPr>
              <a:t>автокосметики ядовиты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5435640" y="4005360"/>
            <a:ext cx="3260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0" y="-309600"/>
            <a:ext cx="9144000" cy="71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47800" y="635400"/>
            <a:ext cx="7752600" cy="118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8000"/>
                </a:solidFill>
                <a:latin typeface="Comic Sans MS"/>
              </a:rPr>
              <a:t>Лабораторный опыт №8</a:t>
            </a:r>
            <a:br>
              <a:rPr sz="2400"/>
            </a:br>
            <a:r>
              <a:rPr b="1" i="1" lang="ru-RU" sz="2400" spc="-1" strike="noStrike">
                <a:solidFill>
                  <a:srgbClr val="808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808000"/>
                </a:solidFill>
                <a:latin typeface="Comic Sans MS"/>
              </a:rPr>
              <a:t>Ознакомление с содержанием инструкций к товарам бытовой хими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26654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8000"/>
                </a:solidFill>
                <a:latin typeface="Arial"/>
              </a:rPr>
              <a:t>Цель рабо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8000"/>
                </a:solidFill>
                <a:latin typeface="Arial"/>
              </a:rPr>
              <a:t>Оформляем в виде таблиц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500200" y="2781360"/>
          <a:ext cx="5888160" cy="1663560"/>
        </p:xfrm>
        <a:graphic>
          <a:graphicData uri="http://schemas.openxmlformats.org/drawingml/2006/table">
            <a:tbl>
              <a:tblPr/>
              <a:tblGrid>
                <a:gridCol w="1482840"/>
                <a:gridCol w="1185840"/>
                <a:gridCol w="1467000"/>
                <a:gridCol w="175248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товара быт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хим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Сост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Назначение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спосо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приме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М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безопас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во время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Rectangle 68"/>
          <p:cNvSpPr/>
          <p:nvPr/>
        </p:nvSpPr>
        <p:spPr>
          <a:xfrm>
            <a:off x="759240" y="5157000"/>
            <a:ext cx="202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00"/>
                </a:solidFill>
                <a:latin typeface="Arial"/>
              </a:rPr>
              <a:t>Сделать выв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"/>
          <p:cNvSpPr/>
          <p:nvPr/>
        </p:nvSpPr>
        <p:spPr>
          <a:xfrm>
            <a:off x="776880" y="5732640"/>
            <a:ext cx="352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8000"/>
                </a:solidFill>
                <a:latin typeface="Arial"/>
              </a:rPr>
              <a:t>Составить  памятку-инструкц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indefinit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1332000" y="981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формация на этикетках моющих 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rcRect l="0" t="0" r="249" b="-27"/>
          <a:stretch/>
        </p:blipFill>
        <p:spPr>
          <a:xfrm>
            <a:off x="507960" y="2276640"/>
            <a:ext cx="1654200" cy="404964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2"/>
          <p:cNvSpPr/>
          <p:nvPr/>
        </p:nvSpPr>
        <p:spPr>
          <a:xfrm>
            <a:off x="2162160" y="2492280"/>
            <a:ext cx="24098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Средство для мытья посуды АО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 глицер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Новая соблазнительная форму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тлично пен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Эффективно удаляет любые загрязнения даже в холодной в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идает посуде кристально чистый блес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осле ополаскивания не оставляет на посуде раз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мягчает и увлажняет кожу Ваших ру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4"/>
          <p:cNvSpPr/>
          <p:nvPr/>
        </p:nvSpPr>
        <p:spPr>
          <a:xfrm>
            <a:off x="4572000" y="2276640"/>
            <a:ext cx="4464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пособ применения: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ля мытья посуды непосредственно под струей воды нанесите 1-2 капли средства на влажную губку, протрите посуду и ополосните ее под струей воды или растворите 1 чайную ложку средства в 5 л. воды, вымойте посуду, ополосните водой. В регионах с повышенной жесткостью воды дозировку средства рекомендуется увеличи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остав: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ода, поверхностно- активные вещества, загуститель, комплексообразователь, регулятор рН, отдушка, глицерин, консервант, краситель и другие добав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словия безопасного хранения и использ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ранить в сухом помещении, предохраняя от прямых солнечных лучей, вдали от отопительных приборов; в недоступном для детей месте. При попадании средства на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лизистые оболочки и в глаза необходимо промыть их проточной водой. По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стечении срока годности средство может применяться для мытья полов, кафеля, зеркал, моющих обое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истема менеджмента качества предприятия сертифицирована 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еждународным стандартам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9000: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АО «Нефис Косметикс»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оссия, 420021, г. Казань, ул. Тукая, 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793800" y="79416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дание: Внимательно изучите инструкции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3209760" cy="4676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5003640" y="1684440"/>
            <a:ext cx="293220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дание: Внимательно изучите инструкции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1258920" y="2359080"/>
            <a:ext cx="2665440" cy="3021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4859280" y="2228760"/>
            <a:ext cx="277992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5"/>
          <p:cNvGrpSpPr/>
          <p:nvPr/>
        </p:nvGrpSpPr>
        <p:grpSpPr>
          <a:xfrm>
            <a:off x="6019920" y="990720"/>
            <a:ext cx="2356560" cy="5583960"/>
            <a:chOff x="6019920" y="990720"/>
            <a:chExt cx="2356560" cy="5583960"/>
          </a:xfrm>
        </p:grpSpPr>
        <p:sp>
          <p:nvSpPr>
            <p:cNvPr id="157" name="Freeform 6"/>
            <p:cNvSpPr/>
            <p:nvPr/>
          </p:nvSpPr>
          <p:spPr>
            <a:xfrm>
              <a:off x="6621480" y="1209600"/>
              <a:ext cx="1381320" cy="127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"/>
            <p:cNvSpPr/>
            <p:nvPr/>
          </p:nvSpPr>
          <p:spPr>
            <a:xfrm>
              <a:off x="6544440" y="2553120"/>
              <a:ext cx="961200" cy="18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8"/>
            <p:cNvSpPr/>
            <p:nvPr/>
          </p:nvSpPr>
          <p:spPr>
            <a:xfrm>
              <a:off x="7310520" y="2617200"/>
              <a:ext cx="1065960" cy="16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621480" y="4030560"/>
              <a:ext cx="1153440" cy="254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6049440" y="4103280"/>
              <a:ext cx="958320" cy="211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019920" y="990720"/>
              <a:ext cx="1572840" cy="188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9"/>
          <p:cNvGrpSpPr/>
          <p:nvPr/>
        </p:nvGrpSpPr>
        <p:grpSpPr>
          <a:xfrm>
            <a:off x="1893960" y="3074760"/>
            <a:ext cx="2999880" cy="3327480"/>
            <a:chOff x="1893960" y="3074760"/>
            <a:chExt cx="2999880" cy="3327480"/>
          </a:xfrm>
        </p:grpSpPr>
        <p:grpSp>
          <p:nvGrpSpPr>
            <p:cNvPr id="164" name="Group 12"/>
            <p:cNvGrpSpPr/>
            <p:nvPr/>
          </p:nvGrpSpPr>
          <p:grpSpPr>
            <a:xfrm>
              <a:off x="2460960" y="3621600"/>
              <a:ext cx="1992960" cy="2780640"/>
              <a:chOff x="2460960" y="3621600"/>
              <a:chExt cx="1992960" cy="2780640"/>
            </a:xfrm>
          </p:grpSpPr>
          <p:sp>
            <p:nvSpPr>
              <p:cNvPr id="165" name="Freeform 13"/>
              <p:cNvSpPr/>
              <p:nvPr/>
            </p:nvSpPr>
            <p:spPr>
              <a:xfrm rot="19798200">
                <a:off x="2771280" y="3857040"/>
                <a:ext cx="1372320" cy="160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14"/>
              <p:cNvSpPr/>
              <p:nvPr/>
            </p:nvSpPr>
            <p:spPr>
              <a:xfrm rot="19798200">
                <a:off x="3150360" y="5923800"/>
                <a:ext cx="402480" cy="404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17"/>
            <p:cNvSpPr/>
            <p:nvPr/>
          </p:nvSpPr>
          <p:spPr>
            <a:xfrm>
              <a:off x="1893960" y="4654440"/>
              <a:ext cx="439560" cy="9036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8"/>
            <p:cNvSpPr/>
            <p:nvPr/>
          </p:nvSpPr>
          <p:spPr>
            <a:xfrm rot="20759400">
              <a:off x="2131560" y="5356080"/>
              <a:ext cx="409680" cy="19512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9"/>
            <p:cNvSpPr/>
            <p:nvPr/>
          </p:nvSpPr>
          <p:spPr>
            <a:xfrm rot="1254600">
              <a:off x="4451040" y="4596840"/>
              <a:ext cx="425520" cy="17460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0"/>
            <p:cNvSpPr/>
            <p:nvPr/>
          </p:nvSpPr>
          <p:spPr>
            <a:xfrm>
              <a:off x="4273560" y="5419440"/>
              <a:ext cx="407880" cy="19548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2"/>
            <p:cNvSpPr/>
            <p:nvPr/>
          </p:nvSpPr>
          <p:spPr>
            <a:xfrm rot="4362600">
              <a:off x="2891160" y="3268440"/>
              <a:ext cx="468360" cy="842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3"/>
            <p:cNvSpPr/>
            <p:nvPr/>
          </p:nvSpPr>
          <p:spPr>
            <a:xfrm rot="3580200">
              <a:off x="2123280" y="3646440"/>
              <a:ext cx="436680" cy="18252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4"/>
            <p:cNvSpPr/>
            <p:nvPr/>
          </p:nvSpPr>
          <p:spPr>
            <a:xfrm rot="18807600">
              <a:off x="3713040" y="3274920"/>
              <a:ext cx="452160" cy="163440"/>
            </a:xfrm>
            <a:prstGeom prst="pi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5"/>
            <p:cNvSpPr/>
            <p:nvPr/>
          </p:nvSpPr>
          <p:spPr>
            <a:xfrm rot="17938200">
              <a:off x="4265640" y="3583080"/>
              <a:ext cx="436320" cy="182520"/>
            </a:xfrm>
            <a:prstGeom prst="pi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WordArt 26"/>
          <p:cNvSpPr txBox="1"/>
          <p:nvPr/>
        </p:nvSpPr>
        <p:spPr>
          <a:xfrm>
            <a:off x="1403280" y="439560"/>
            <a:ext cx="7242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455d00"/>
                </a:solidFill>
                <a:latin typeface="Comic Sans MS"/>
              </a:rPr>
              <a:t>Вопросы для закрепления</a:t>
            </a:r>
            <a:endParaRPr b="1" lang="en-US" sz="1800" spc="1" strike="noStrike">
              <a:ln w="0">
                <a:noFill/>
              </a:ln>
              <a:solidFill>
                <a:srgbClr val="455d00"/>
              </a:solidFill>
              <a:latin typeface="Comic Sans MS"/>
              <a:ea typeface="Comic Sans MS"/>
            </a:endParaRPr>
          </a:p>
        </p:txBody>
      </p:sp>
      <p:pic>
        <p:nvPicPr>
          <p:cNvPr id="176" name="Рисунок 4" descr=""/>
          <p:cNvPicPr/>
          <p:nvPr/>
        </p:nvPicPr>
        <p:blipFill>
          <a:blip r:embed="rId9"/>
          <a:stretch/>
        </p:blipFill>
        <p:spPr>
          <a:xfrm>
            <a:off x="492120" y="1278000"/>
            <a:ext cx="34480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1403280" y="1628640"/>
          <a:ext cx="7056360" cy="4610160"/>
        </p:xfrm>
        <a:graphic>
          <a:graphicData uri="http://schemas.openxmlformats.org/drawingml/2006/table">
            <a:tbl>
              <a:tblPr/>
              <a:tblGrid>
                <a:gridCol w="2986200"/>
                <a:gridCol w="677880"/>
                <a:gridCol w="3392280"/>
              </a:tblGrid>
              <a:tr h="594000">
                <a:tc>
                  <a:txBody>
                    <a:bodyPr lIns="25560" rIns="25560" tIns="0" bIns="0" anchor="t">
                      <a:noAutofit/>
                    </a:bodyPr>
                    <a:p>
                      <a:pPr marL="484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ытовые химик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49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редное влияние химик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  <a:tr h="987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) растворитель лаков — тетрахлороме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) под действием света образуются взрывчатые перокси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  <a:tr h="10209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этер — растворитель для жи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) в больших дозах вызывает тяжелое поражение печ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  <a:tr h="9874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) «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» — средство для чистки раков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) вызывает аллергическую реакцию, очень огнеопас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  <a:tr h="1020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)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Raid»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— средство от тарак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) раздражает кожу, гл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</a:tbl>
          </a:graphicData>
        </a:graphic>
      </p:graphicFrame>
      <p:sp>
        <p:nvSpPr>
          <p:cNvPr id="178" name="Прямоугольник 3"/>
          <p:cNvSpPr/>
          <p:nvPr/>
        </p:nvSpPr>
        <p:spPr>
          <a:xfrm>
            <a:off x="1600200" y="981000"/>
            <a:ext cx="70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Установите соответствие между бытовыми химикатами и их вредным влиянием на человека и окружающую  сре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2"/>
          <p:cNvSpPr/>
          <p:nvPr/>
        </p:nvSpPr>
        <p:spPr>
          <a:xfrm>
            <a:off x="826920" y="2421000"/>
            <a:ext cx="831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Укажите, какие химические соединения являются бытовыми химикатами,  а какие — лекарственными препара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ытовые химикаты………………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roman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екарственные препараты…………….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 кальцинированная сода;        в) скипидар;             д) белиз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) аспирин;                                  г)  камфора;           е) перекись вод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9" dur="indefinite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55d00"/>
                </a:solidFill>
                <a:latin typeface="Comic Sans MS"/>
              </a:rPr>
              <a:t>Домашнее зада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900000" y="2550960"/>
            <a:ext cx="770436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5d00"/>
                </a:solidFill>
                <a:latin typeface="Comic Sans MS"/>
              </a:rPr>
              <a:t>Повторить  п.17. Прочитать п.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5d00"/>
                </a:solidFill>
                <a:latin typeface="Comic Sans MS"/>
              </a:rPr>
              <a:t>Выполнить творческую работу письменно в тетради на выбо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5d00"/>
                </a:solidFill>
                <a:latin typeface="Comic Sans MS"/>
              </a:rPr>
              <a:t>1.Дезодоранты и озоновый «щит» план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5d00"/>
                </a:solidFill>
                <a:latin typeface="Comic Sans MS"/>
              </a:rPr>
              <a:t>2.Косметические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2"/>
          <p:cNvGrpSpPr/>
          <p:nvPr/>
        </p:nvGrpSpPr>
        <p:grpSpPr>
          <a:xfrm>
            <a:off x="1981080" y="533520"/>
            <a:ext cx="5622480" cy="4571280"/>
            <a:chOff x="1981080" y="533520"/>
            <a:chExt cx="5622480" cy="4571280"/>
          </a:xfrm>
        </p:grpSpPr>
        <p:grpSp>
          <p:nvGrpSpPr>
            <p:cNvPr id="183" name="Group 5"/>
            <p:cNvGrpSpPr/>
            <p:nvPr/>
          </p:nvGrpSpPr>
          <p:grpSpPr>
            <a:xfrm>
              <a:off x="2801520" y="533520"/>
              <a:ext cx="2894760" cy="4571280"/>
              <a:chOff x="2801520" y="533520"/>
              <a:chExt cx="2894760" cy="4571280"/>
            </a:xfrm>
          </p:grpSpPr>
          <p:sp>
            <p:nvSpPr>
              <p:cNvPr id="184" name="Freeform 6"/>
              <p:cNvSpPr/>
              <p:nvPr/>
            </p:nvSpPr>
            <p:spPr>
              <a:xfrm>
                <a:off x="4008600" y="978840"/>
                <a:ext cx="700200" cy="79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7"/>
              <p:cNvSpPr/>
              <p:nvPr/>
            </p:nvSpPr>
            <p:spPr>
              <a:xfrm>
                <a:off x="4279320" y="1999440"/>
                <a:ext cx="764640" cy="172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8"/>
              <p:cNvSpPr/>
              <p:nvPr/>
            </p:nvSpPr>
            <p:spPr>
              <a:xfrm>
                <a:off x="4490640" y="533520"/>
                <a:ext cx="1205640" cy="158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9"/>
              <p:cNvSpPr/>
              <p:nvPr/>
            </p:nvSpPr>
            <p:spPr>
              <a:xfrm>
                <a:off x="2801520" y="1463040"/>
                <a:ext cx="1641600" cy="875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0"/>
              <p:cNvSpPr/>
              <p:nvPr/>
            </p:nvSpPr>
            <p:spPr>
              <a:xfrm>
                <a:off x="3828240" y="3461040"/>
                <a:ext cx="914400" cy="109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1"/>
              <p:cNvSpPr/>
              <p:nvPr/>
            </p:nvSpPr>
            <p:spPr>
              <a:xfrm>
                <a:off x="4644000" y="3452760"/>
                <a:ext cx="783360" cy="165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12"/>
            <p:cNvGrpSpPr/>
            <p:nvPr/>
          </p:nvGrpSpPr>
          <p:grpSpPr>
            <a:xfrm>
              <a:off x="1981080" y="2777760"/>
              <a:ext cx="5622480" cy="1036440"/>
              <a:chOff x="1981080" y="2777760"/>
              <a:chExt cx="5622480" cy="1036440"/>
            </a:xfrm>
          </p:grpSpPr>
          <p:sp>
            <p:nvSpPr>
              <p:cNvPr id="191" name="Freeform 13"/>
              <p:cNvSpPr/>
              <p:nvPr/>
            </p:nvSpPr>
            <p:spPr>
              <a:xfrm>
                <a:off x="2079720" y="2800080"/>
                <a:ext cx="5459400" cy="9892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4"/>
              <p:cNvSpPr/>
              <p:nvPr/>
            </p:nvSpPr>
            <p:spPr>
              <a:xfrm>
                <a:off x="1981080" y="2777760"/>
                <a:ext cx="5622480" cy="9208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5"/>
              <p:cNvSpPr/>
              <p:nvPr/>
            </p:nvSpPr>
            <p:spPr>
              <a:xfrm>
                <a:off x="2018520" y="3110760"/>
                <a:ext cx="5578200" cy="703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6"/>
            <p:cNvGrpSpPr/>
            <p:nvPr/>
          </p:nvGrpSpPr>
          <p:grpSpPr>
            <a:xfrm>
              <a:off x="2023200" y="1527480"/>
              <a:ext cx="4554720" cy="1649520"/>
              <a:chOff x="2023200" y="1527480"/>
              <a:chExt cx="4554720" cy="1649520"/>
            </a:xfrm>
          </p:grpSpPr>
          <p:sp>
            <p:nvSpPr>
              <p:cNvPr id="195" name="Freeform 17"/>
              <p:cNvSpPr/>
              <p:nvPr/>
            </p:nvSpPr>
            <p:spPr>
              <a:xfrm>
                <a:off x="2023200" y="2115000"/>
                <a:ext cx="604080" cy="140760"/>
              </a:xfrm>
              <a:prstGeom prst="pi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8"/>
              <p:cNvSpPr/>
              <p:nvPr/>
            </p:nvSpPr>
            <p:spPr>
              <a:xfrm>
                <a:off x="2217240" y="2870640"/>
                <a:ext cx="563040" cy="30636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9"/>
              <p:cNvSpPr/>
              <p:nvPr/>
            </p:nvSpPr>
            <p:spPr>
              <a:xfrm>
                <a:off x="5973480" y="1527480"/>
                <a:ext cx="583920" cy="275040"/>
              </a:xfrm>
              <a:prstGeom prst="pi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0"/>
              <p:cNvSpPr/>
              <p:nvPr/>
            </p:nvSpPr>
            <p:spPr>
              <a:xfrm>
                <a:off x="6016320" y="2442240"/>
                <a:ext cx="561600" cy="30636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9" name="WordArt 21" descr=""/>
          <p:cNvPicPr/>
          <p:nvPr/>
        </p:nvPicPr>
        <p:blipFill>
          <a:blip r:embed="rId5"/>
          <a:stretch/>
        </p:blipFill>
        <p:spPr>
          <a:xfrm>
            <a:off x="560520" y="5102280"/>
            <a:ext cx="84121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Comic Sans MS"/>
              </a:rPr>
              <a:t>Бытовые химикаты — это отдельные химические вещества, а чаще смеси веществ, которые используются в быту с определённым назнач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979640" y="4365720"/>
            <a:ext cx="5181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Comic Sans MS"/>
              </a:rPr>
              <a:t>Классификация препаратов </a:t>
            </a:r>
            <a:br>
              <a:rPr sz="3200"/>
            </a:br>
            <a:r>
              <a:rPr b="1" lang="ru-RU" sz="3200" spc="-1" strike="noStrike">
                <a:solidFill>
                  <a:srgbClr val="cc6600"/>
                </a:solidFill>
                <a:latin typeface="Comic Sans MS"/>
              </a:rPr>
              <a:t>бытовой химии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Organization Chart 5"/>
          <p:cNvGrpSpPr/>
          <p:nvPr/>
        </p:nvGrpSpPr>
        <p:grpSpPr>
          <a:xfrm>
            <a:off x="539640" y="2349360"/>
            <a:ext cx="8604000" cy="3742920"/>
            <a:chOff x="539640" y="2349360"/>
            <a:chExt cx="8604000" cy="3742920"/>
          </a:xfrm>
        </p:grpSpPr>
        <p:cxnSp>
          <p:nvCxnSpPr>
            <p:cNvPr id="105" name="_s1028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5358240" y="3342960"/>
              <a:ext cx="757440" cy="1755000"/>
            </a:xfrm>
            <a:prstGeom prst="bentConnector3">
              <a:avLst>
                <a:gd name="adj1" fmla="val 151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29"/>
            <p:cNvCxnSpPr>
              <a:stCxn id="109" idx="0"/>
              <a:endCxn id="107" idx="2"/>
            </p:cNvCxnSpPr>
            <p:nvPr/>
          </p:nvCxnSpPr>
          <p:spPr>
            <a:xfrm flipV="1" rot="16200000">
              <a:off x="6243480" y="2457720"/>
              <a:ext cx="757440" cy="3525480"/>
            </a:xfrm>
            <a:prstGeom prst="bentConnector3">
              <a:avLst>
                <a:gd name="adj1" fmla="val 151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030"/>
            <p:cNvCxnSpPr>
              <a:stCxn id="111" idx="0"/>
              <a:endCxn id="107" idx="2"/>
            </p:cNvCxnSpPr>
            <p:nvPr/>
          </p:nvCxnSpPr>
          <p:spPr>
            <a:xfrm flipH="1" flipV="1" rot="5400000">
              <a:off x="4468680" y="4207680"/>
              <a:ext cx="757440" cy="25560"/>
            </a:xfrm>
            <a:prstGeom prst="bentConnector3">
              <a:avLst>
                <a:gd name="adj1" fmla="val 151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1031"/>
            <p:cNvCxnSpPr>
              <a:stCxn id="113" idx="0"/>
              <a:endCxn id="107" idx="2"/>
            </p:cNvCxnSpPr>
            <p:nvPr/>
          </p:nvCxnSpPr>
          <p:spPr>
            <a:xfrm flipH="1" flipV="1" rot="5400000">
              <a:off x="3586680" y="3325680"/>
              <a:ext cx="757440" cy="1789560"/>
            </a:xfrm>
            <a:prstGeom prst="bentConnector3">
              <a:avLst>
                <a:gd name="adj1" fmla="val 151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1032"/>
            <p:cNvCxnSpPr>
              <a:stCxn id="115" idx="0"/>
              <a:endCxn id="107" idx="2"/>
            </p:cNvCxnSpPr>
            <p:nvPr/>
          </p:nvCxnSpPr>
          <p:spPr>
            <a:xfrm flipH="1" flipV="1" rot="5400000">
              <a:off x="2710080" y="2430720"/>
              <a:ext cx="739080" cy="3561120"/>
            </a:xfrm>
            <a:prstGeom prst="bentConnector3">
              <a:avLst>
                <a:gd name="adj1" fmla="val 154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1033"/>
            <p:cNvSpPr/>
            <p:nvPr/>
          </p:nvSpPr>
          <p:spPr>
            <a:xfrm>
              <a:off x="4098960" y="2349360"/>
              <a:ext cx="1520640" cy="149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00"/>
                  </a:solidFill>
                  <a:latin typeface="Arial"/>
                </a:rPr>
                <a:t>Классификаци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00"/>
                  </a:solidFill>
                  <a:latin typeface="Arial"/>
                </a:rPr>
                <a:t>препарат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336600"/>
                  </a:solidFill>
                  <a:latin typeface="Arial"/>
                </a:rPr>
                <a:t>бытовой химии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34"/>
            <p:cNvSpPr/>
            <p:nvPr/>
          </p:nvSpPr>
          <p:spPr>
            <a:xfrm>
              <a:off x="539640" y="4581000"/>
              <a:ext cx="1518840" cy="14929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6600"/>
                  </a:solidFill>
                  <a:latin typeface="Arial"/>
                </a:rPr>
                <a:t>По назначению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5"/>
            <p:cNvSpPr/>
            <p:nvPr/>
          </p:nvSpPr>
          <p:spPr>
            <a:xfrm>
              <a:off x="2310840" y="4599360"/>
              <a:ext cx="1519920" cy="14929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336600"/>
                  </a:solidFill>
                  <a:latin typeface="Arial"/>
                </a:rPr>
                <a:t>По агрегатному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336600"/>
                  </a:solidFill>
                  <a:latin typeface="Arial"/>
                </a:rPr>
                <a:t>состоянию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6"/>
            <p:cNvSpPr/>
            <p:nvPr/>
          </p:nvSpPr>
          <p:spPr>
            <a:xfrm>
              <a:off x="4066200" y="4599360"/>
              <a:ext cx="1537200" cy="14929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6600"/>
                  </a:solidFill>
                  <a:latin typeface="Arial"/>
                </a:rPr>
                <a:t>По концентрац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7"/>
            <p:cNvSpPr/>
            <p:nvPr/>
          </p:nvSpPr>
          <p:spPr>
            <a:xfrm>
              <a:off x="7625880" y="4599360"/>
              <a:ext cx="1517760" cy="1491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6600"/>
                  </a:solidFill>
                  <a:latin typeface="Arial"/>
                </a:rPr>
                <a:t>По степен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6600"/>
                  </a:solidFill>
                  <a:latin typeface="Arial"/>
                </a:rPr>
                <a:t>потенциальной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6600"/>
                  </a:solidFill>
                  <a:latin typeface="Arial"/>
                </a:rPr>
                <a:t>опасност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8"/>
            <p:cNvSpPr/>
            <p:nvPr/>
          </p:nvSpPr>
          <p:spPr>
            <a:xfrm>
              <a:off x="5855400" y="4599360"/>
              <a:ext cx="1518120" cy="14889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6600"/>
                  </a:solidFill>
                  <a:latin typeface="Arial"/>
                </a:rPr>
                <a:t>П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66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336600"/>
                  </a:solidFill>
                  <a:latin typeface="Arial"/>
                </a:rPr>
                <a:t>использованию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Picture 19" descr=""/>
          <p:cNvPicPr/>
          <p:nvPr/>
        </p:nvPicPr>
        <p:blipFill>
          <a:blip r:embed="rId1"/>
          <a:stretch/>
        </p:blipFill>
        <p:spPr>
          <a:xfrm>
            <a:off x="7956720" y="476280"/>
            <a:ext cx="7855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75636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Comic Sans MS"/>
              </a:rPr>
              <a:t>Классификация препаратов бытовой химии </a:t>
            </a:r>
            <a:br>
              <a:rPr sz="1800"/>
            </a:br>
            <a:r>
              <a:rPr b="1" i="1" lang="ru-RU" sz="3600" spc="-1" strike="noStrike" u="sng">
                <a:solidFill>
                  <a:srgbClr val="cc6600"/>
                </a:solidFill>
                <a:uFillTx/>
                <a:latin typeface="Comic Sans MS"/>
              </a:rPr>
              <a:t>по назначени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5d00"/>
                </a:solidFill>
                <a:latin typeface="Comic Sans MS"/>
              </a:rPr>
              <a:t>Моющие 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5d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455d00"/>
                </a:solidFill>
                <a:latin typeface="Comic Sans MS"/>
              </a:rPr>
              <a:t>Чистя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5d00"/>
                </a:solidFill>
                <a:latin typeface="Comic Sans MS"/>
              </a:rPr>
              <a:t>Дезинфицирующие 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5d00"/>
                </a:solidFill>
                <a:latin typeface="Comic Sans MS"/>
              </a:rPr>
              <a:t>Уход за мебел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5d00"/>
                </a:solidFill>
                <a:latin typeface="Comic Sans MS"/>
              </a:rPr>
              <a:t>Уход за по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5d00"/>
                </a:solidFill>
                <a:latin typeface="Comic Sans MS"/>
              </a:rPr>
              <a:t>Борьба с бытовыми насеком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5d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455d00"/>
                </a:solidFill>
                <a:latin typeface="Comic Sans MS"/>
              </a:rPr>
              <a:t>Средства защиты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5d00"/>
                </a:solidFill>
                <a:latin typeface="Comic Sans MS"/>
              </a:rPr>
              <a:t>Универсальные 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5d00"/>
                </a:solidFill>
                <a:latin typeface="Comic Sans MS"/>
              </a:rPr>
              <a:t>Средства гигиены и косме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7424640" y="2492280"/>
            <a:ext cx="914400" cy="2438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6227640" y="4797360"/>
            <a:ext cx="993960" cy="1884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7578720" y="0"/>
            <a:ext cx="1565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Comic Sans MS"/>
              </a:rPr>
              <a:t>Классификация препаратов бытовой химии</a:t>
            </a:r>
            <a:br>
              <a:rPr sz="1800"/>
            </a:br>
            <a:r>
              <a:rPr b="1" i="1" lang="ru-RU" sz="3200" spc="-1" strike="noStrike" u="sng">
                <a:solidFill>
                  <a:srgbClr val="cc6600"/>
                </a:solidFill>
                <a:uFillTx/>
                <a:latin typeface="Comic Sans MS"/>
              </a:rPr>
              <a:t>по агрегатному состоянию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08000"/>
                </a:solidFill>
                <a:latin typeface="Comic Sans MS"/>
              </a:rPr>
              <a:t>Жидкие (также суспензии и эмульс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Comic Sans MS"/>
              </a:rPr>
              <a:t>Твердые (порошкообразные, гранулированные и таблетированн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2627280" y="5229360"/>
            <a:ext cx="1779480" cy="1292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7524720" y="2349360"/>
            <a:ext cx="804960" cy="1298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5651640" y="4076640"/>
            <a:ext cx="2300040" cy="23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Comic Sans MS"/>
              </a:rPr>
              <a:t>Классификация препаратов бытовой химии</a:t>
            </a:r>
            <a:br>
              <a:rPr sz="18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i="1" lang="ru-RU" sz="3200" spc="-1" strike="noStrike" u="sng">
                <a:solidFill>
                  <a:srgbClr val="cc6600"/>
                </a:solidFill>
                <a:uFillTx/>
                <a:latin typeface="Comic Sans MS"/>
              </a:rPr>
              <a:t>по концентрации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Comic Sans MS"/>
              </a:rPr>
              <a:t>Готовые к употреб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Comic Sans MS"/>
              </a:rPr>
              <a:t>Концентриров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56360" y="2421000"/>
            <a:ext cx="1420920" cy="1828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2"/>
          <a:stretch/>
        </p:blipFill>
        <p:spPr>
          <a:xfrm>
            <a:off x="5364000" y="3933720"/>
            <a:ext cx="1054440" cy="2670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116000" y="4005360"/>
            <a:ext cx="2924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13:38:04Z</dcterms:created>
  <dc:creator>Customer</dc:creator>
  <dc:description/>
  <dc:language>en-US</dc:language>
  <cp:lastModifiedBy>User</cp:lastModifiedBy>
  <dcterms:modified xsi:type="dcterms:W3CDTF">2012-10-22T17:16:34Z</dcterms:modified>
  <cp:revision>20</cp:revision>
  <dc:subject/>
  <dc:title>Тема:  Органические соединения в быту. Понятие о бытовых химикатах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1f000000000001024140</vt:lpwstr>
  </property>
</Properties>
</file>