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353-0D78-4204-A34A-3E1D01F5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421-956C-494D-B11C-EE2A24E6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8E2-B555-4650-8DFE-1391BF5F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643-74B2-4D78-A14E-44FB1E4F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A89E-A871-4E6E-97F4-C10B9FFF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54A3-EFAD-4C33-9684-D7BAC19A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5726-321A-496A-BFE5-45336682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6BB9-EAE8-4BF6-ABBF-8DD5D67B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BDC3-667B-4BFD-BABC-17B59003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6C24-E14D-4A08-AB0C-04F775E8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6D8C-02F9-45F7-9DF5-1DD2185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620-69CB-4AB7-8356-ED089D24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F811-BB38-4937-A432-241B3EF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F3CD-AFC5-4F83-AC28-CA5B2ED0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0B67-9D3A-4DE0-ACC5-2D90314B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1DDD-15B2-4547-B36B-CA6C0FB0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77B5-B4B0-498D-B7E7-5F1426E3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F1A-F6D9-4B23-8E76-742D2DD5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AC8-422D-499F-97B8-870394D4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B16-4FBC-4E08-A05E-845F4E42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09E-89C9-4569-9FCC-47223B7A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299-6380-45E5-9025-8B52F52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3F1-84FB-47F4-9A42-39A42733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452-B4D1-46FC-846D-B4FCC0DF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D074-C748-4F23-8079-2F82B194B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0176-18CA-45E9-A7BA-D3E7C3679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бщеобразовательная школа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-I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ступеней №1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ировского городского совета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тер –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Алюминий и его соединения. Применение алюминия.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и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высшей катег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лык Н.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ировское 2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плавы алюми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юралюминий – 94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; 4% Cu; 0,5% Mg;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Mn; Si; F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изок к стали по прочности, но легче её в 3 раза (самолетостроени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лумин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5-90% Al; 10-14% Si; 0,1% 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годен для литья (авто и машиностроен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дроналий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Al; 10% M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одвергается коррозии в морской воде (кораблестроени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Применение алюмин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90600" y="990720"/>
            <a:ext cx="47628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му не жаль «денег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нажды два приятеля Алюминий и Железо поздно возвращались домой. И вдруг на них неожиданно напал грабитель Хлор, который потребовал выложить кошельки с электрон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вы считаете, какой из приятелей легче расстанется с кошельком? Объясните почем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в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терялся породистый оксид, принадлежащий жильцу третьего подъезда. Особые приметы: имеет молекулярную массу 102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шу вернуть за вознаграждение.(Если Вы сможете найти этот оксид и указать его химический характер, то приходите за вознаграждением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«Нигде нет покоя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Алюминий пришел в кафе, там уже сидели: Кислород, Хлорид натрия в растворе, разбавленная Серная кислота, Гидроксид  калия и концентрированная Азотная кисл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сутствие каких посетителей кафе испортило ему настроение? Почему? Подтвердите ответ уравнениями реак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Решить задачу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читайте объем водорода, выделившегося при взаимодействии алюминия с 200г раствора гидроксида натрия, если массовая доля щелочи в нем 25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Другого ничего в природе нет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Ни здесь, ни там в космических глубинах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 от песчинок малых до планет –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з элементов состоит единых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Степан Щипачев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«Читая Менделеева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равнение строения атомов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Na,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Mg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и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Al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ходство: одинаковое число энергетических уровней (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личия: - разный заряд ядра ат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различное число электронов на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леднем энергетическом уров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 rot="1059600">
            <a:off x="4648320" y="2590560"/>
            <a:ext cx="4317840" cy="3809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 rot="20699400">
            <a:off x="0" y="609120"/>
            <a:ext cx="458460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Задания для работы в группах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Нахождение алюминия в природе, содержание в земной коре, получ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Химические свойства алюминия (взаимодействие с неметаллам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І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Взаимодействие с кислотами и щелочами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Применение алюминия и его сплавов.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 rot="367200">
            <a:off x="609480" y="-406080"/>
            <a:ext cx="7267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кажи мне - и я забуд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кажи мне - и я запомню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й сделать - и я пойм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4800600"/>
            <a:ext cx="453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Китайская притч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еактивы для лабораторных опыт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086600" cy="5259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Блок - схем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мфотерность – это способность вещества при определенных условиях проявлять свойства как оснований, так и кислот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AlC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Na OH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Al(OH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N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32004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32004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124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388620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4267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66520" y="3962520"/>
            <a:ext cx="17528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35812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505320"/>
            <a:ext cx="30456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267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648320"/>
            <a:ext cx="30456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3657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3657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58128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34340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472428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9625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36640" y="289548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81080" y="3124080"/>
            <a:ext cx="11430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исл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562720" y="3048120"/>
            <a:ext cx="205740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быток щело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4952880"/>
            <a:ext cx="17334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адок исчез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38680" y="4876920"/>
            <a:ext cx="1733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адок исчез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91120" y="4419720"/>
            <a:ext cx="761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l(OH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876920" y="4572000"/>
            <a:ext cx="85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438280" y="52574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77120" y="518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5638680"/>
            <a:ext cx="26384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агирует как осн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257800" y="5562720"/>
            <a:ext cx="23623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агирует как кисл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лучение алюми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1825 году Х.Эрстед получил алюминий химическим путем: при взаимодействии хлорида алюминия с металлическим кал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ые кусочки металла были величиной с булавочную голов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первые слиток алюминия был представлен на Парижской выставке в 1855 году. Один килограмм его стоил баснословно дорого – 1000 золотых руб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18T10:41:0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4000000000001024140</vt:lpwstr>
  </property>
  <property fmtid="{D5CDD505-2E9C-101B-9397-08002B2CF9AE}" pid="3" name="Version">
    <vt:r8>1</vt:r8>
  </property>
</Properties>
</file>