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1D6-375D-48EE-8F1D-276C37ED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D53-96C7-4364-83CA-1DD5D79F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9B8-7E8E-4CAD-ADF2-3B286078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51A2-60FD-418C-956A-2E94A5AD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3A05-92FC-4405-90FB-9DAE8115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A2E8-BEA8-46B7-8CC1-A843D4E9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2F20-5DCD-4CC2-BAA1-20BCACB2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D06A-EA2C-4049-A5ED-CC4CD573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EBA0-0F45-44D0-B5C5-62D7250E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ABC3-8BA8-488C-AFC5-D77859BD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635F-63B5-459C-BF35-FC71B342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753-D636-4610-A5BB-5456B9C4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DC6E-7743-49D6-BFF9-DAC8CA2A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9E28-1FE9-4E24-A16C-8AC93122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8E86-92B9-4C5E-98E0-8BB32518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F8B8-B7F0-47C0-959F-55C8E608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B4C1-5BB2-4837-835D-7C1B5D49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0C6-C128-40CD-85F1-C8BF60A1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0AB-7CE6-41C1-B2B8-1D1C65E3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D58-D9B4-46E1-8AFB-96E8C5DA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501-205C-4EFC-B170-E8A369A1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D500-A846-43BB-91B4-E962E0BF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DC2-0F85-47D4-AE4E-22412500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B81-12D2-41B1-8559-29E0261A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DCF1-EAD9-41B2-A1DB-0B281CECA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48AC-2892-4953-8BD3-38DF2C60C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бщеобразовательная школа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I-III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ступеней №1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Кировского городского совета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тер –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Алюминий и его соединения. Применение алюминия.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готови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высшей категор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лык Н.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ировское 2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плавы алюмини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юралюминий – 94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; 4% Cu; 0,5% Mg;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Mn; Si; F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изок к стали по прочности, но легче её в 3 раза (самолетостроени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лумин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5-90% Al; 10-14% Si; 0,1% 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годен для литья (авто и машиностроени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дроналий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0% Al; 10% M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подвергается коррозии в морской воде (кораблестроени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Применение алюмин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90600" y="990720"/>
            <a:ext cx="47628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му не жаль «денег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днажды два приятеля Алюминий и Железо поздно возвращались домой. И вдруг на них неожиданно напал грабитель Хлор, который потребовал выложить кошельки с электрона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вы считаете, какой из приятелей легче расстанется с кошельком? Объясните почему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вл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терялся породистый оксид, принадлежащий жильцу третьего подъезда. Особые приметы: имеет молекулярную массу 102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шу вернуть за вознаграждение.(Если Вы сможете найти этот оксид и указать его химический характер, то приходите за вознаграждением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«Нигде нет покоя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Алюминий пришел в кафе, там уже сидели: Кислород, Хлорид натрия в растворе, разбавленная Серная кислота, Гидроксид  калия и концентрированная Азотная кисл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сутствие каких посетителей кафе испортило ему настроение? Почему? Подтвердите ответ уравнениями реакц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Решить задачу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читайте объем водорода, выделившегося при взаимодействии алюминия с 200г раствора гидроксида натрия, если массовая доля щелочи в нем 25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Другого ничего в природе нет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Ни здесь, ни там в космических глубинах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е от песчинок малых до планет –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Из элементов состоит единых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Степан Щипачев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«Читая Менделеева»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равнение строения атомов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Na,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Mg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и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Al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ходство: одинаковое число энергетических уровней (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личия: - разный заряд ядра ато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различное число электронов на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леднем энергетическом уров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 rot="1059600">
            <a:off x="4648320" y="2590560"/>
            <a:ext cx="4317840" cy="3809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 rot="20699400">
            <a:off x="0" y="609120"/>
            <a:ext cx="4584600" cy="3525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Задания для работы в группах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а: Нахождение алюминия в природе, содержание в земной коре, получ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а: Химические свойства алюминия (взаимодействие с неметаллами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І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а: Взаимодействие с кислотами и щелочами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а: Применение алюминия и его сплавов.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 rot="367200">
            <a:off x="609480" y="-406080"/>
            <a:ext cx="72676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кажи мне - и я забуду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кажи мне - и я запомню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ай сделать - и я пойм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4800600"/>
            <a:ext cx="4533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Китайская притча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еактивы для лабораторных опыт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086600" cy="5259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Блок - схем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мфотерность – это способность вещества при определенных условиях проявлять свойства как оснований, так и кислот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AlC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Na OH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Al(OH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N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362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32004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32004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124080"/>
            <a:ext cx="3045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3886200"/>
            <a:ext cx="3045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4267080"/>
            <a:ext cx="3045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666520" y="3962520"/>
            <a:ext cx="17528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35812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505320"/>
            <a:ext cx="30456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4267080"/>
            <a:ext cx="3045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4648320"/>
            <a:ext cx="30456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36576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36576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581280"/>
            <a:ext cx="3049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4343400"/>
            <a:ext cx="3049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4724280"/>
            <a:ext cx="3049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962520"/>
            <a:ext cx="16002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36640" y="2895480"/>
            <a:ext cx="146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81080" y="3124080"/>
            <a:ext cx="11430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исл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562720" y="3048120"/>
            <a:ext cx="205740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быток щело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00200" y="4952880"/>
            <a:ext cx="17334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адок исчез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638680" y="4876920"/>
            <a:ext cx="17337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адок исчез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191120" y="4419720"/>
            <a:ext cx="7617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l(OH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876920" y="4572000"/>
            <a:ext cx="856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438280" y="52574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77120" y="518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5638680"/>
            <a:ext cx="263844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агирует как осн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257800" y="5562720"/>
            <a:ext cx="23623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агирует как кисл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олучение алюмини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059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1825 году Х.Эрстед получил алюминий химическим путем: при взаимодействии хлорида алюминия с металлическим кали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вые кусочки металла были величиной с булавочную голов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первые слиток алюминия был представлен на Парижской выставке в 1855 году. Один килограмм его стоил баснословно дорого – 1000 золотых руб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18T10:41:0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4000000000001024140</vt:lpwstr>
  </property>
  <property fmtid="{D5CDD505-2E9C-101B-9397-08002B2CF9AE}" pid="3" name="Version">
    <vt:r8>1</vt:r8>
  </property>
</Properties>
</file>