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DB9-B3CD-4144-86BE-CEB059B9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7A4-0E1F-4E74-B140-11CF879F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70C-731D-4F80-B7C2-15A04A85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9D7-DB70-4ACC-B5EC-4880A35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1FC-245E-4551-809E-10191B8E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1A76-7B17-4F88-89EA-14DA8A7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FFBC-F221-4773-BA13-0FE1BEA5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CDF-BE06-4C98-A1B6-407EFB09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A05-CEC0-4B0A-AE0A-91DE1CB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89E2-23A3-4E01-8327-7F81540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B38-C474-4E39-A873-29EE9850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52D-D226-4FBE-9914-E34BA823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AA8B-0B9E-469D-B3DC-D7048E1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AA5B-3123-404F-B66D-BAC761A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4A4D-D3E3-4BF7-87A1-58E3C9A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79CA-B926-457C-90D0-2D7AA7BC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1E21-EAF2-4EBA-A643-6F24C206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B7A-142E-4C04-83C5-9DFFC90C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E9C-C16E-46DE-9A6D-5DBCBB8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8CE-EA80-4B60-AF50-3D93BB61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A9E-1811-49C0-9F6E-968A4C5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A30-087B-44BE-89D8-4EF8691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5B9-70D1-4C7F-A151-44DFF4F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B23-E23E-4D2E-81BE-D635044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825-B32E-4AF7-A73C-FC2172B69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4529-AB44-4723-B7D8-B5C4C953F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бщеобразовательная школа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-I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тупеней №1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ировского городского совета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тер –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люминий и его соединения. Применение алюминия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высше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лык Н.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ровское 2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лавы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юралюминий – 94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; 4% Cu; 0,5% Mg;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Mn; Si; F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зок к стали по прочности, но легче её в 3 раза (самолето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умин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5-90% Al; 10-14% Si; 0,1% 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годен для литья (авто и машиностро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дроналий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Al; 10% M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двергается коррозии в морской воде (кораблестроени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рименение алюми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90600" y="990720"/>
            <a:ext cx="4762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му не жаль «денег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нажды два приятеля Алюминий и Железо поздно возвращались домой. И вдруг на них неожиданно напал грабитель Хлор, который потребовал выложить кошельки с электрон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вы считаете, какой из приятелей легче расстанется с кошельком? Объясните почем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в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терялся породистый оксид, принадлежащий жильцу третьего подъезда. Особые приметы: имеет молекулярную массу 102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шу вернуть за вознаграждение.(Если Вы сможете найти этот оксид и указать его химический характер, то приходите за вознаграждением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Нигде нет покоя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Алюминий пришел в кафе, там уже сидели: Кислород, Хлорид натрия в растворе, разбавленная Серная кислота, Гидроксид  калия и концентрированная Азотная кисл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утствие каких посетителей кафе испортило ему настроение? Почему? Подтвердите ответ уравнениями реак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Решить задач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читайте объем водорода, выделившегося при взаимодействии алюминия с 200г раствора гидроксида натрия, если массовая доля щелочи в нем 2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Другого ничего в природе н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Ни здесь, ни там в космических глубинах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 от песчинок малых до планет –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з элементов состоит единых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Степан Щипачев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«Читая Менделеев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равнение строения атомов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a,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Mg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Al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ходство: одинаковое число энергетических уровней (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личия: - разный заряд ядра ат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различное число электронов на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днем энергетическом уров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59600">
            <a:off x="4648320" y="2590560"/>
            <a:ext cx="4317840" cy="380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rot="20699400">
            <a:off x="0" y="609120"/>
            <a:ext cx="458460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адания для работы в группа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Нахождение алюминия в природе, содержание в земной коре, получ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Химические свойства алюминия (взаимодействие с неметаллам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ІІ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Взаимодействие с кислотами и щелочам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уппа: Применение алюминия и его сплавов.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 rot="367200">
            <a:off x="609480" y="-406080"/>
            <a:ext cx="72676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ажи мне - и я забуд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ажи мне - и я запомню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й сделать - и я пойм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4800600"/>
            <a:ext cx="453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Китайская притч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активы для лабораторных опыт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8660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лок - схем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мфотерность – это способность вещества при определенных условиях проявлять свойства как оснований, так и кисло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AlC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 OH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Al(OH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2004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124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388620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66520" y="3962520"/>
            <a:ext cx="17528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5812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05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267080"/>
            <a:ext cx="3045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648320"/>
            <a:ext cx="30456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576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81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34340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724280"/>
            <a:ext cx="3049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9625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28954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81080" y="3124080"/>
            <a:ext cx="11430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562720" y="3048120"/>
            <a:ext cx="205740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быток щело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4952880"/>
            <a:ext cx="17334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38680" y="4876920"/>
            <a:ext cx="1733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адок исчез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91120" y="4419720"/>
            <a:ext cx="7617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(OH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6920" y="4572000"/>
            <a:ext cx="85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438280" y="5257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771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5638680"/>
            <a:ext cx="26384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осн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57800" y="5562720"/>
            <a:ext cx="23623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агирует как кисл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лучение алюми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1825 году Х.Эрстед получил алюминий химическим путем: при взаимодействии хлорида алюминия с металлическим кал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ые кусочки металла были величиной с булавочную голов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первые слиток алюминия был представлен на Парижской выставке в 1855 году. Один килограмм его стоил баснословно дорого – 1000 золотых руб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18T10:41:0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4000000000001024140</vt:lpwstr>
  </property>
  <property fmtid="{D5CDD505-2E9C-101B-9397-08002B2CF9AE}" pid="3" name="Version">
    <vt:r8>1</vt:r8>
  </property>
</Properties>
</file>