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BEC-1F99-4532-85DF-4A08014A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CADF-CA4E-4465-AC92-E6A26B87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EA31-2886-45E6-8C42-5592190C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350C-C12C-4435-B28D-A7A98408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6A12-3C02-450B-8F00-BAA529CF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99EA-6E89-4B09-B90C-19225B61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F91B-C0D0-4D65-B7A4-38A56D29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3584-826B-4101-8FE0-18549B92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7F67-235E-4602-87C5-7A44B646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29CA-12B7-4F2A-9DD6-4540F9D6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51D1-ADD0-4FBF-BD19-7C83B799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9603-3E47-4F05-967A-6A573CAE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35DB-7135-40DD-B48F-494063D9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0B85-5025-48FB-9B2F-EF85C5F4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50E6-9D06-491F-9C62-927809D7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6E68-78AA-4C5D-8529-94D8E711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D126-FC2E-40AD-B874-8FAF8240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4DAC-D436-44F8-84E5-50BCD21C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8C2B-7168-410D-905B-538492D5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D960-16D6-4BFC-BB29-2780EAB9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E1EF-9152-4C0D-A088-8622DB65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42CE-8F5B-4FB7-94C5-8F9FC18C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A93F-C4EE-4583-9A85-0F6A4C72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54A9-D39C-43A5-A072-83361B8C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1B18-E7DC-4882-9D5F-8E4B98325B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7C3C-E4D5-46AC-ABC2-0847CA53FB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бщеобразовательная школа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I-III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ступеней №1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Кировского городского совета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18960" y="198108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стер – кла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Алюминий и его соединения. Применение алюминия.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готови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высшей категор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лык Н.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ировское 20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плавы алюминия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юралюминий – 94%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; 4% Cu; 0,5% Mg;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Mn; Si; F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изок к стали по прочности, но легче её в 3 раза (самолетостроени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лумин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5-90% Al; 10-14% Si; 0,1% 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годен для литья (авто и машиностроени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идроналий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0% Al; 10% M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подвергается коррозии в морской воде (кораблестроени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Применение алюминия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90600" y="990720"/>
            <a:ext cx="47628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Кому не жаль «денег»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днажды два приятеля Алюминий и Железо поздно возвращались домой. И вдруг на них неожиданно напал грабитель Хлор, который потребовал выложить кошельки с электрона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 вы считаете, какой из приятелей легче расстанется с кошельком? Объясните почему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вл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терялся породистый оксид, принадлежащий жильцу третьего подъезда. Особые приметы: имеет молекулярную массу 102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шу вернуть за вознаграждение.(Если Вы сможете найти этот оксид и указать его химический характер, то приходите за вознаграждением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«Нигде нет покоя»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да Алюминий пришел в кафе, там уже сидели: Кислород, Хлорид натрия в растворе, разбавленная Серная кислота, Гидроксид  калия и концентрированная Азотная кисло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сутствие каких посетителей кафе испортило ему настроение? Почему? Подтвердите ответ уравнениями реакц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Решить задачу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читайте объем водорода, выделившегося при взаимодействии алюминия с 200г раствора гидроксида натрия, если массовая доля щелочи в нем 25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«Другого ничего в природе нет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Ни здесь, ни там в космических глубинах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се от песчинок малых до планет –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Из элементов состоит единых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Степан Щипачев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«Читая Менделеева»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равнение строения атомов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Na,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Mg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и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Al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ходство: одинаковое число энергетических уровней (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тличия: - разный заряд ядра ато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различное число электронов на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следнем энергетическом уровн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 rot="1059600">
            <a:off x="4648320" y="2590560"/>
            <a:ext cx="4317840" cy="3809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 rot="20699400">
            <a:off x="0" y="609120"/>
            <a:ext cx="4584600" cy="3525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Задания для работы в группах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І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группа: Нахождение алюминия в природе, содержание в земной коре, получ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ІІ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группа: Химические свойства алюминия (взаимодействие с неметаллами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ІІІ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группа: Взаимодействие с кислотами и щелочами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группа: Применение алюминия и его сплавов.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 rot="367200">
            <a:off x="609480" y="-406080"/>
            <a:ext cx="72676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кажи мне - и я забуду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кажи мне - и я запомню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ай сделать - и я пойм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4800600"/>
            <a:ext cx="4533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Китайская притча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Реактивы для лабораторных опыт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086600" cy="5259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Блок - схем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мфотерность – это способность вещества при определенных условиях проявлять свойства как оснований, так и кислот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AlC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Na OH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Al(OH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NaC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3623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32004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32004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3124080"/>
            <a:ext cx="3045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3886200"/>
            <a:ext cx="3045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4267080"/>
            <a:ext cx="3045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666520" y="3962520"/>
            <a:ext cx="17528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5812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35812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3505320"/>
            <a:ext cx="30456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4267080"/>
            <a:ext cx="3045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4648320"/>
            <a:ext cx="30456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36576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36576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581280"/>
            <a:ext cx="30492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4343400"/>
            <a:ext cx="30492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4724280"/>
            <a:ext cx="30492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962520"/>
            <a:ext cx="16002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36640" y="2895480"/>
            <a:ext cx="146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981080" y="3124080"/>
            <a:ext cx="11430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исл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562720" y="3048120"/>
            <a:ext cx="205740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быток щело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00200" y="4952880"/>
            <a:ext cx="17334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садок исчеза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638680" y="4876920"/>
            <a:ext cx="17337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садок исчеза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191120" y="4419720"/>
            <a:ext cx="7617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l(OH)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876920" y="4572000"/>
            <a:ext cx="856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438280" y="52574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477120" y="518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5638680"/>
            <a:ext cx="263844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агирует как осн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257800" y="5562720"/>
            <a:ext cx="23623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агирует как кисл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олучение алюминия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0592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1825 году Х.Эрстед получил алюминий химическим путем: при взаимодействии хлорида алюминия с металлическим кали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вые кусочки металла были величиной с булавочную головк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первые слиток алюминия был представлен на Парижской выставке в 1855 году. Один килограмм его стоил баснословно дорого – 1000 золотых рубл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8-18T10:41:0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4000000000001024140</vt:lpwstr>
  </property>
  <property fmtid="{D5CDD505-2E9C-101B-9397-08002B2CF9AE}" pid="3" name="Version">
    <vt:r8>1</vt:r8>
  </property>
</Properties>
</file>