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44D-8889-4985-B211-92B37D06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F2B1-DF8B-4F25-A008-368969E3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EF28F-C902-4EC3-8FC6-02AB0D26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D9932-6E1B-4BF0-969A-FF5404AD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F601A-19F2-415E-9BF2-2E51D652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E5EDB-9912-46DF-ADB4-AB01C3C5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9C350-1D86-415B-AEB7-601B7DC6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6534C-DC86-4844-A4D3-233FA222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7517B-164C-4159-B095-B36C575D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70BB0-2899-4FC6-BF3B-0CA099CF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D6BD9-1CA8-4D5E-A21C-9BF78FBA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2B25-AC43-4AC9-8D89-57385C9B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AB9-D9C4-4AB4-B111-7FB03A73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E22B-2401-4F34-84A0-A436B62B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5A7C-0B47-445C-A98D-1C390347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D6F1-C5DD-4585-9457-6E4E6E13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CC9F-B713-4D95-B0C4-F5A224CF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FDCF-5E57-4363-BCD5-9A5F2716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E3F0-72BD-4BBE-B184-86E9C5FB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C6AE-EDE5-4481-A3AE-A46C7F60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C793-7E21-4DF2-8168-1C86839B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6906-21D0-417D-AB9E-C18E20C6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C34C-4797-484C-B1A9-E4434ADF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9967-1196-48D4-A212-C304C40E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BCDD-B1D3-43ED-BBD3-0AC60396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A74B-4717-41A3-95E4-D33B18CB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AB77F-0B08-4005-A72B-A958800E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8E615-CF3A-4900-88B4-A3DD5E6D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7CC4B-6906-4481-BFF3-8E72C016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3E657-BE0D-47A1-8945-A428D209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BF42-DD4E-4274-8163-58FBF60F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7151-50B8-4D9E-99C8-29BC36F4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D06D3-2398-435A-9FA3-4AEC3575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F7FDD-7DA7-46C9-AF6C-C5B69F03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B855B-F101-46C1-A28B-4B339286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81A9F-24AD-4E3C-97CA-BDD9C8F4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1447C-A756-4DF5-AC4B-A6C291C7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059C7-34F3-40E9-933A-707BA025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C2B8D-B583-4148-BE28-CD277183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8049E-EE1A-4DCF-BCAB-E45B3A5A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7C9FE-7F88-43C6-B299-809CC2F4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93A0D-EF5F-447A-B8CD-674B9D53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0595-9790-447E-9E81-A7662B64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CD865-7EEF-4141-857D-CD794865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525F7-3966-464E-8503-62627E23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D6CEB-00AF-4087-8FCE-E97077F2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CA1AF-CF6C-4A08-B876-072CA1B0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8EA7A-AA6D-4DF9-852A-93498F80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7E660-C02B-4B2F-85C5-EF6321D7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62798-6706-4A34-AF61-530F2299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1D3B5-F05A-433C-A4A2-09DF634D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31164-EC33-4B0B-98AF-4BD2BDC5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FCA1D-7494-4F81-91D2-D18C37EB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415-86B3-42FD-B6BE-91E3A4F5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1AD9D-0829-4B61-83CB-7FA1D48B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04E24-77F0-4119-AEBD-0CE3F54E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E64B3-63C7-4A0A-A4ED-0389FF0D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9B884-8BB3-4614-80C8-36A66FA1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8F05C-3F92-4942-BD57-B8B554F7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D68DB-3A56-4BE6-B21E-53FFC029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9A89C-4083-4B82-AACD-9596CB16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D884E-9BB2-4B74-B001-932CC6FC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06944-9A97-4E50-8560-554D78D1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E631D-D84E-453E-A732-BC23E92B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BC1-C567-46D3-9987-2F0E92C1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661E7-860D-45E2-99ED-CAC75349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F6C9A-3D73-42B6-8ED9-E4479E20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C6DFA-3BF7-485B-A18B-B32AF20D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E5528-6B7C-4786-81E6-AB96E129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BC29F-9041-4145-8E3E-0894D549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11B35-9BC2-4A02-84E5-8FCBFC9C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6FA1D-7697-48C3-8CAD-C8D186E0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A2F2D-928C-4A97-90F7-24FC1308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476A0-ADEB-46B4-B9D2-12F38A51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71C2A-DC0A-4EA3-BE38-9AF53F59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3B2-9C37-4D73-9140-1D6283E9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858AB-9014-4976-AEB4-C8A45537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7425E-FD43-4FF4-82EA-EA4584E8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5B5D4-0982-4741-9C8B-6E11C29B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2EEE7-E5CF-4F98-B2A3-1ADBE4C4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DBCE8-1169-4E43-9F5E-A55F3C52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E5B07-D02A-431D-A28F-9CFD3459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55B11-93BD-4ADF-94D1-5466CFA1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09A66-08DB-4E51-9519-A60A43A2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70B47-70F9-46C3-9B31-5EEAA418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68F7F-1846-4FEF-BD65-825CA773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17C-9571-4179-8540-4A1EB614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03A12-85D4-4696-80F7-F8372E7E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D8BFA-341C-404C-AB77-8DF203CE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81B22-C65C-46EE-9019-8E113154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FFC23-0BF0-4523-A927-5D9DC57B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95142-6426-4FDD-AC15-DEB474AE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21459-CEE8-4F19-92E3-382E5961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E7E1A-E1D6-4E54-86EA-95AF9341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CC836-121F-4F18-9154-641EE47D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1F988-E3C5-4BFA-9FF5-9D691118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76A89-72B9-45D3-AC7D-FA75AAD7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299-323A-44D0-B23F-C7FFC0E6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A3033-CCFB-43C4-AF90-92188EFB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5E8BE-4C17-4AF8-A18A-03167C2D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91601-FD4D-4F47-9C21-00E82B6A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D4709-32B0-4FD3-99D3-D35A8D0A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C6F44-7BBA-48BD-9877-2F6BDAAD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06507-06A9-4FE5-BE05-E1C03C83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17871-35ED-408A-8ABC-66E16B19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B2CB9-C35E-4DC1-AF2E-A408EC0D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FBFF7-EEA0-425F-981D-465DECCB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53AC2-CE84-4BAF-93F5-AD503FEE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0118-F65D-4740-8862-F6EE250477E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ADCD-2622-4AB5-9293-E764556259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ED7A-ECBD-4BF1-83DF-F3B317DE0F3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5B9F-DBA7-4DAF-9BAA-A578594835B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3B5D-92A0-40B7-BD6E-B27BC23D68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7FFD-B6D6-4F42-953D-72972B8252F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5F6F-0384-4BB0-A593-629E484753C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673C-2A35-4604-A1CA-7AE2E306C2A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53C5-D319-40F2-9895-02E6B359DCA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Группа 15"/>
          <p:cNvGrpSpPr/>
          <p:nvPr/>
        </p:nvGrpSpPr>
        <p:grpSpPr>
          <a:xfrm>
            <a:off x="2357280" y="2000160"/>
            <a:ext cx="4762800" cy="3162240"/>
            <a:chOff x="2357280" y="2000160"/>
            <a:chExt cx="4762800" cy="3162240"/>
          </a:xfrm>
        </p:grpSpPr>
        <p:pic>
          <p:nvPicPr>
            <p:cNvPr id="400" name="Picture 2" descr=""/>
            <p:cNvPicPr/>
            <p:nvPr/>
          </p:nvPicPr>
          <p:blipFill>
            <a:blip r:embed="rId2"/>
            <a:stretch/>
          </p:blipFill>
          <p:spPr>
            <a:xfrm>
              <a:off x="2357280" y="2000160"/>
              <a:ext cx="4762800" cy="31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Box 14"/>
            <p:cNvSpPr/>
            <p:nvPr/>
          </p:nvSpPr>
          <p:spPr>
            <a:xfrm>
              <a:off x="4286160" y="4643280"/>
              <a:ext cx="271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Franklin Gothic Book"/>
                </a:rPr>
                <a:t>Растет дерево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02" name="Группа 17"/>
          <p:cNvGrpSpPr/>
          <p:nvPr/>
        </p:nvGrpSpPr>
        <p:grpSpPr>
          <a:xfrm>
            <a:off x="2500200" y="2071800"/>
            <a:ext cx="4462560" cy="3397680"/>
            <a:chOff x="2500200" y="2071800"/>
            <a:chExt cx="4462560" cy="3397680"/>
          </a:xfrm>
        </p:grpSpPr>
        <p:pic>
          <p:nvPicPr>
            <p:cNvPr id="403" name="Picture 3" descr=""/>
            <p:cNvPicPr/>
            <p:nvPr/>
          </p:nvPicPr>
          <p:blipFill>
            <a:blip r:embed="rId3"/>
            <a:stretch/>
          </p:blipFill>
          <p:spPr>
            <a:xfrm>
              <a:off x="2500200" y="2071800"/>
              <a:ext cx="4462560" cy="29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Box 16"/>
            <p:cNvSpPr/>
            <p:nvPr/>
          </p:nvSpPr>
          <p:spPr>
            <a:xfrm>
              <a:off x="4286160" y="4644000"/>
              <a:ext cx="264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Franklin Gothic Book"/>
                </a:rPr>
                <a:t>Замерзает вода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05" name="Группа 20"/>
          <p:cNvGrpSpPr/>
          <p:nvPr/>
        </p:nvGrpSpPr>
        <p:grpSpPr>
          <a:xfrm>
            <a:off x="2786040" y="2071800"/>
            <a:ext cx="3786120" cy="2897640"/>
            <a:chOff x="2786040" y="2071800"/>
            <a:chExt cx="3786120" cy="2897640"/>
          </a:xfrm>
        </p:grpSpPr>
        <p:pic>
          <p:nvPicPr>
            <p:cNvPr id="406" name="Picture 4" descr=""/>
            <p:cNvPicPr/>
            <p:nvPr/>
          </p:nvPicPr>
          <p:blipFill>
            <a:blip r:embed="rId4"/>
            <a:stretch/>
          </p:blipFill>
          <p:spPr>
            <a:xfrm>
              <a:off x="2786040" y="2071800"/>
              <a:ext cx="378612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Box 18"/>
            <p:cNvSpPr/>
            <p:nvPr/>
          </p:nvSpPr>
          <p:spPr>
            <a:xfrm>
              <a:off x="4071960" y="4143960"/>
              <a:ext cx="242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Franklin Gothic Book"/>
                </a:rPr>
                <a:t>Ржавеет металл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08" name="Группа 22"/>
          <p:cNvGrpSpPr/>
          <p:nvPr/>
        </p:nvGrpSpPr>
        <p:grpSpPr>
          <a:xfrm>
            <a:off x="3000240" y="1285920"/>
            <a:ext cx="3071880" cy="4110840"/>
            <a:chOff x="3000240" y="1285920"/>
            <a:chExt cx="3071880" cy="4110840"/>
          </a:xfrm>
        </p:grpSpPr>
        <p:pic>
          <p:nvPicPr>
            <p:cNvPr id="409" name="Picture 5" descr=""/>
            <p:cNvPicPr/>
            <p:nvPr/>
          </p:nvPicPr>
          <p:blipFill>
            <a:blip r:embed="rId5"/>
            <a:stretch/>
          </p:blipFill>
          <p:spPr>
            <a:xfrm>
              <a:off x="3000240" y="1285920"/>
              <a:ext cx="3071880" cy="40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Box 21"/>
            <p:cNvSpPr/>
            <p:nvPr/>
          </p:nvSpPr>
          <p:spPr>
            <a:xfrm>
              <a:off x="3786120" y="45712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Franklin Gothic Book"/>
                </a:rPr>
                <a:t>Растворяется сахар в чае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11" name="Группа 24"/>
          <p:cNvGrpSpPr/>
          <p:nvPr/>
        </p:nvGrpSpPr>
        <p:grpSpPr>
          <a:xfrm>
            <a:off x="2643120" y="2143080"/>
            <a:ext cx="4394160" cy="2868480"/>
            <a:chOff x="2643120" y="2143080"/>
            <a:chExt cx="4394160" cy="2868480"/>
          </a:xfrm>
        </p:grpSpPr>
        <p:pic>
          <p:nvPicPr>
            <p:cNvPr id="412" name="Picture 7" descr=""/>
            <p:cNvPicPr/>
            <p:nvPr/>
          </p:nvPicPr>
          <p:blipFill>
            <a:blip r:embed="rId6"/>
            <a:stretch/>
          </p:blipFill>
          <p:spPr>
            <a:xfrm>
              <a:off x="2643120" y="2143080"/>
              <a:ext cx="4394160" cy="28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Box 23"/>
            <p:cNvSpPr/>
            <p:nvPr/>
          </p:nvSpPr>
          <p:spPr>
            <a:xfrm>
              <a:off x="4572360" y="2285640"/>
              <a:ext cx="242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Franklin Gothic Book"/>
                </a:rPr>
                <a:t>Извергается вулкан</a:t>
              </a:r>
              <a:endParaRPr b="0" lang="en-US" sz="2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14" name="Группа 27"/>
          <p:cNvGrpSpPr/>
          <p:nvPr/>
        </p:nvGrpSpPr>
        <p:grpSpPr>
          <a:xfrm>
            <a:off x="2714760" y="2071800"/>
            <a:ext cx="4190760" cy="3204000"/>
            <a:chOff x="2714760" y="2071800"/>
            <a:chExt cx="4190760" cy="3204000"/>
          </a:xfrm>
        </p:grpSpPr>
        <p:pic>
          <p:nvPicPr>
            <p:cNvPr id="415" name="Рисунок 13" descr="058_curds.jpg"/>
            <p:cNvPicPr/>
            <p:nvPr/>
          </p:nvPicPr>
          <p:blipFill>
            <a:blip r:embed="rId7"/>
            <a:stretch/>
          </p:blipFill>
          <p:spPr>
            <a:xfrm>
              <a:off x="2714760" y="2071800"/>
              <a:ext cx="419076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Box 25"/>
            <p:cNvSpPr/>
            <p:nvPr/>
          </p:nvSpPr>
          <p:spPr>
            <a:xfrm>
              <a:off x="4286160" y="4572000"/>
              <a:ext cx="221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Franklin Gothic Book"/>
                </a:rPr>
                <a:t>Скисает молоко</a:t>
              </a:r>
              <a:endParaRPr b="0" lang="en-US" sz="2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17" name="Заголовок 1" descr=""/>
          <p:cNvPicPr/>
          <p:nvPr/>
        </p:nvPicPr>
        <p:blipFill>
          <a:blip r:embed="rId8"/>
          <a:stretch/>
        </p:blipFill>
        <p:spPr>
          <a:xfrm>
            <a:off x="5230800" y="-133200"/>
            <a:ext cx="3919680" cy="712800"/>
          </a:xfrm>
          <a:prstGeom prst="rect">
            <a:avLst/>
          </a:prstGeom>
          <a:ln w="0">
            <a:noFill/>
          </a:ln>
        </p:spPr>
      </p:pic>
      <p:pic>
        <p:nvPicPr>
          <p:cNvPr id="418" name="Заголовок 1" descr=""/>
          <p:cNvPicPr/>
          <p:nvPr/>
        </p:nvPicPr>
        <p:blipFill>
          <a:blip r:embed="rId9"/>
          <a:stretch/>
        </p:blipFill>
        <p:spPr>
          <a:xfrm>
            <a:off x="-6480" y="-109440"/>
            <a:ext cx="3919680" cy="689040"/>
          </a:xfrm>
          <a:prstGeom prst="rect">
            <a:avLst/>
          </a:prstGeom>
          <a:ln w="0">
            <a:noFill/>
          </a:ln>
        </p:spPr>
      </p:pic>
      <p:pic>
        <p:nvPicPr>
          <p:cNvPr id="419" name="Заголовок 1" descr=""/>
          <p:cNvPicPr/>
          <p:nvPr/>
        </p:nvPicPr>
        <p:blipFill>
          <a:blip r:embed="rId10"/>
          <a:stretch/>
        </p:blipFill>
        <p:spPr>
          <a:xfrm>
            <a:off x="5230800" y="5754600"/>
            <a:ext cx="3919680" cy="712800"/>
          </a:xfrm>
          <a:prstGeom prst="rect">
            <a:avLst/>
          </a:prstGeom>
          <a:ln w="0">
            <a:noFill/>
          </a:ln>
        </p:spPr>
      </p:pic>
      <p:pic>
        <p:nvPicPr>
          <p:cNvPr id="420" name="Заголовок 1" descr=""/>
          <p:cNvPicPr/>
          <p:nvPr/>
        </p:nvPicPr>
        <p:blipFill>
          <a:blip r:embed="rId11"/>
          <a:stretch/>
        </p:blipFill>
        <p:spPr>
          <a:xfrm>
            <a:off x="-6480" y="5742000"/>
            <a:ext cx="39196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L -0.26233 0.2507 E">
                                      <p:cBhvr>
                                        <p:cTn id="11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5185E-006 L 0.34497 -0.38009 E">
                                      <p:cBhvr>
                                        <p:cTn id="20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22222E-006 L -0.36597 -0.31343 E">
                                      <p:cBhvr>
                                        <p:cTn id="31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L 0.16146 -0.32338 E">
                                      <p:cBhvr>
                                        <p:cTn id="42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L 0.22274 0.26203 E">
                                      <p:cBhvr>
                                        <p:cTn id="53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 L -0.13628 -0.41968 E">
                                      <p:cBhvr>
                                        <p:cTn id="64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414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едставьте, что в ваших руках волшебная палочка и вы превращаете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А) алмаз в углекислый газ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Б) золотую цепочку в золотой перстень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В) железо в ржавчину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Г) лёд в пар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пределите, какие превращения являются физическими явления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едприятие производит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) железо из железной руды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Б) медную проволоку из медных болванок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) щебень из гранит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Г) известняк из мел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Д) скульптуры из мрамор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пределите, какие из перечисленных превращений являются химически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2"/>
          <a:stretch/>
        </p:blipFill>
        <p:spPr>
          <a:xfrm>
            <a:off x="42840" y="1066680"/>
            <a:ext cx="8637480" cy="2462400"/>
          </a:xfrm>
          <a:prstGeom prst="rect">
            <a:avLst/>
          </a:prstGeom>
          <a:ln w="0">
            <a:noFill/>
          </a:ln>
        </p:spPr>
      </p:pic>
      <p:pic>
        <p:nvPicPr>
          <p:cNvPr id="422" name="Подзаголовок 2" descr=""/>
          <p:cNvPicPr/>
          <p:nvPr/>
        </p:nvPicPr>
        <p:blipFill>
          <a:blip r:embed="rId3"/>
          <a:stretch/>
        </p:blipFill>
        <p:spPr>
          <a:xfrm>
            <a:off x="244440" y="3681360"/>
            <a:ext cx="85755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Содержимое 3" descr=""/>
          <p:cNvPicPr/>
          <p:nvPr/>
        </p:nvPicPr>
        <p:blipFill>
          <a:blip r:embed="rId2"/>
          <a:stretch/>
        </p:blipFill>
        <p:spPr>
          <a:xfrm>
            <a:off x="-19080" y="-6480"/>
            <a:ext cx="91821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Рисунок 4" descr="058_curds.jpg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8" descr="5fire.jpg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4"/>
          <a:stretch/>
        </p:blipFill>
        <p:spPr>
          <a:xfrm>
            <a:off x="0" y="-536400"/>
            <a:ext cx="5286240" cy="3965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"/>
          <p:cNvPicPr/>
          <p:nvPr/>
        </p:nvPicPr>
        <p:blipFill>
          <a:blip r:embed="rId5"/>
          <a:stretch/>
        </p:blipFill>
        <p:spPr>
          <a:xfrm>
            <a:off x="5143680" y="-1881360"/>
            <a:ext cx="4000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Наблюдения и 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 К раствору щелочи добавляем 2 капли фенолфталеин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зменение окрас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 К раствору соды добавляем хлоридную кисло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ыделение газ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 К раствору купрум(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ІІ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ульфата приливаем щелоч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ыпадение осад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. Зажигаем свеч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вечение, выделение теплот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2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. Портятся пищевые прод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явление запах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29" name="Прямоугольник 2"/>
          <p:cNvSpPr/>
          <p:nvPr/>
        </p:nvSpPr>
        <p:spPr>
          <a:xfrm>
            <a:off x="0" y="571680"/>
            <a:ext cx="4500720" cy="12142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Прямоугольник 4"/>
          <p:cNvSpPr/>
          <p:nvPr/>
        </p:nvSpPr>
        <p:spPr>
          <a:xfrm>
            <a:off x="4643280" y="571680"/>
            <a:ext cx="4500720" cy="12142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Прямоугольник 5"/>
          <p:cNvSpPr/>
          <p:nvPr/>
        </p:nvSpPr>
        <p:spPr>
          <a:xfrm>
            <a:off x="0" y="1857240"/>
            <a:ext cx="4500720" cy="12859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Прямоугольник 6"/>
          <p:cNvSpPr/>
          <p:nvPr/>
        </p:nvSpPr>
        <p:spPr>
          <a:xfrm>
            <a:off x="4643280" y="1857240"/>
            <a:ext cx="4500720" cy="12859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Прямоугольник 7"/>
          <p:cNvSpPr/>
          <p:nvPr/>
        </p:nvSpPr>
        <p:spPr>
          <a:xfrm>
            <a:off x="0" y="3214800"/>
            <a:ext cx="4500720" cy="11430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Прямоугольник 8"/>
          <p:cNvSpPr/>
          <p:nvPr/>
        </p:nvSpPr>
        <p:spPr>
          <a:xfrm>
            <a:off x="4643280" y="3214800"/>
            <a:ext cx="4500720" cy="11430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Прямоугольник 9"/>
          <p:cNvSpPr/>
          <p:nvPr/>
        </p:nvSpPr>
        <p:spPr>
          <a:xfrm>
            <a:off x="0" y="4429080"/>
            <a:ext cx="4500720" cy="121464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Прямоугольник 10"/>
          <p:cNvSpPr/>
          <p:nvPr/>
        </p:nvSpPr>
        <p:spPr>
          <a:xfrm>
            <a:off x="4643280" y="4429080"/>
            <a:ext cx="4500720" cy="121464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Прямоугольник 11"/>
          <p:cNvSpPr/>
          <p:nvPr/>
        </p:nvSpPr>
        <p:spPr>
          <a:xfrm>
            <a:off x="0" y="5715000"/>
            <a:ext cx="4500720" cy="12142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Прямоугольник 12"/>
          <p:cNvSpPr/>
          <p:nvPr/>
        </p:nvSpPr>
        <p:spPr>
          <a:xfrm>
            <a:off x="4643280" y="5715000"/>
            <a:ext cx="4500720" cy="12142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2"/>
          <a:stretch/>
        </p:blipFill>
        <p:spPr>
          <a:xfrm>
            <a:off x="133200" y="3348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- изменение температуры,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- столкновение частиц веществ,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- изменение давления,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- перемешивание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2"/>
          <a:stretch/>
        </p:blipFill>
        <p:spPr>
          <a:xfrm>
            <a:off x="285840" y="6480"/>
            <a:ext cx="8864640" cy="24620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285840" y="2332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e3b30"/>
                </a:solidFill>
                <a:latin typeface="Franklin Gothic Book"/>
              </a:rPr>
              <a:t>1)За зиму опавшие листья перегнивают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e3b30"/>
                </a:solidFill>
                <a:latin typeface="Franklin Gothic Book"/>
              </a:rPr>
              <a:t>2)Зимой ветки деревьев покрываются инеем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e3b30"/>
                </a:solidFill>
                <a:latin typeface="Franklin Gothic Book"/>
              </a:rPr>
              <a:t>3)Виноградный сок бродит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e3b30"/>
                </a:solidFill>
                <a:latin typeface="Franklin Gothic Book"/>
              </a:rPr>
              <a:t>4)Запах разлитых духов быстро распространяется по всей комнате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e3b30"/>
                </a:solidFill>
                <a:latin typeface="Franklin Gothic Book"/>
              </a:rPr>
              <a:t>5)Железный гвоздь, лежащий на улице, быстро ржавеет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e3b30"/>
                </a:solidFill>
                <a:latin typeface="Franklin Gothic Book"/>
              </a:rPr>
              <a:t>6)Разлитый ацетон быстро испаряется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e3b30"/>
                </a:solidFill>
                <a:latin typeface="Franklin Gothic Book"/>
              </a:rPr>
              <a:t>7)Образуется соль при испарении морской воды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e3b30"/>
                </a:solidFill>
                <a:latin typeface="Franklin Gothic Book"/>
              </a:rPr>
              <a:t>8)Взрывается динамит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2"/>
          <a:stretch/>
        </p:blipFill>
        <p:spPr>
          <a:xfrm>
            <a:off x="85680" y="-6480"/>
            <a:ext cx="896148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0" y="1071720"/>
          <a:ext cx="9144000" cy="57862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Химическое я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При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кисание мол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жавление мет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заимодействие соды с уксус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орение природного г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тухание я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2"/>
          <a:stretch/>
        </p:blipFill>
        <p:spPr>
          <a:xfrm>
            <a:off x="-49320" y="2139840"/>
            <a:ext cx="936468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13T07:44:13Z</dcterms:modified>
  <cp:revision>22</cp:revision>
  <dc:subject/>
  <dc:title>Физические и химические  явления. Химические реакции и явления,  которые их сопровождают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22000000000001024140</vt:lpwstr>
  </property>
</Properties>
</file>