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68E-D007-4B6F-957D-B78AA43B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5CF-DDEB-458A-B131-DB909E87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AAC-13D2-4723-8B57-2C2ED57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7BF-472C-41AE-9D2F-390868DE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43A-B860-4682-8B98-4499F06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CA8C-FD07-4DE7-AC49-09B897C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3DA-9898-4EB1-B150-1773277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756-BC80-4939-B9CA-9F20D92B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C5A-BB68-45F3-9CD1-0630E3A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A298-5D7C-4C66-8941-1DC7A5A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B1B4-E325-4871-A757-7C38495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5E4-9F96-4F00-8472-E368766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481-C1B3-44EE-90CE-6848E06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F7F6-A861-4DC1-AD33-9E53910A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2AC-19B2-46E6-987E-EADDE10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DE1-51C5-4226-BB22-018CB47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97E-F450-48B0-8130-FE2DF808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0BB-377F-4A70-810A-1FED733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32F-DB31-447E-8229-D1FEE72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852-5D78-41B9-9637-2C64BC3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CAD-7067-4524-88C2-D3B623B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A2E-89AA-4F7C-B513-9F99140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B6B-4796-4AA0-87B3-BF06BD5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52F-8328-4BEF-9889-C3402C6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561d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F169-CE90-4257-A11B-F973104322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561d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D979-46E9-4111-AE40-72EE8EC930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бобщение по теме: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Основные классы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неорганических соединений»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асибо за урок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 нашего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бщить и систематизировать знания по    теме «Основные классы неорганических соединений», подготовиться к контрольной рабо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47920" y="1903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классы неорганических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еди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4114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019920" y="289548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029200" y="29718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3809880" y="297180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276720" y="3124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514600" y="2895480"/>
            <a:ext cx="9907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523880" y="37339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276720" y="3733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5029200" y="3733920"/>
            <a:ext cx="1219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7010280" y="37339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каждой тройки веществ найти вещество, отличающиеся от двух других. Указать признак отлич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NaOH, KOH, Cu(OH)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LiOH, H2SO4, Ca(OH)2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(OH)3, Al(OH)3, Ba(OH)2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Na2SO4, Mg(OH)2, KNO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ерез запятую(по названиям веществ) написать формулы вещест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ер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ероводородная кислота, магний хлорид, натрий гироксид, натрий сульфат, калий сульфид, сульфур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V)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оксид, сульфатная кислота, сернистая кислота, сульфур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I)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оксид, калий сульфит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з приведенных формул составьте генетический ряд, образованной серой и написать уравнения соответствующих реак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. S → H2S → K2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. S→ SO2 → H2SO3 → K2SO3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3. S → SO3 → H2SO4 → Na2SO4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… + … = CuCl2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Mg + Cl2 =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Fe(OH)3 = …+ ...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… + … = CaCl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uO + … = CuSO4 + ...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… + 6HCl = 2FeCl3 + 3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… + … = NaCl + 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K + Cl2 =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Cu(OH)2 = … + …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… + … = Mg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aO + 2… = Ca(NO3)2 +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… + 2HCl = ZnCl2 +…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Cu(OH)2 + 2HCl  = CuCl2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Mg + Cl2 = Mg Cl2 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2 Fe(OH)3 = Fe2O3+  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Ca + Cl2  = CaCl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uO +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4 = CuSO4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Fe2O3  + 6HCl = 2FeCl3 + 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NaCl + 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2K + Cl2 = 2 KCl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Cu(OH)2  = CuO  +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2 Mg  + O2 = 2Mg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aO + 2HNO3 = Ca(NO3)2 + H2O 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Zn + 2HCl = ZnCl2 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7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моллаев</cp:lastModifiedBy>
  <dcterms:modified xsi:type="dcterms:W3CDTF">2012-01-09T11:48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6000000000001024140</vt:lpwstr>
  </property>
  <property fmtid="{D5CDD505-2E9C-101B-9397-08002B2CF9AE}" pid="3" name="Version">
    <vt:r8>1</vt:r8>
  </property>
</Properties>
</file>