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696-D517-4906-9BA6-C99D31B1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192-680D-4749-B2CF-C0E8D0C3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069-F923-47E7-B18D-846B45C5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A42-14FC-4799-AAEA-AA80F734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AFD5-0BCF-4C8C-9ED3-F6E6E50E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C5B4-A496-475E-95B1-0B8636A4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CA0C-2042-4DF4-89AC-5BB9D690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528C-F807-458A-A53A-FA906CB2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B895-BDB7-4C72-A40E-3831A781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7E7D-9E7D-4B30-AD67-38FB7319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AEAF-B672-4484-B5FD-3FE24935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18F-499D-4CAD-B135-6E1D4F6F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4020-6D9F-4D37-9C26-97735315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67AD-F015-4E2A-BE53-65E0144E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008E-8FD4-4997-A17B-A852A2BC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D52A-CE7A-4BD1-A354-81703F36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EB7B-61C8-4689-8687-051118F7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9AA-E889-4471-A987-406DCBBE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1C3-2045-4FBB-B49B-7897E6F8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885A-B1E5-4DA2-8A9F-9673AEA2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5DF-4840-47AB-8238-798555FC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596-E66E-4FA7-80F4-E1CB637A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A2E-7034-434A-BBE8-1F4671E9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699-C243-406E-96E7-5358EB7C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5f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572c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572c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561d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63AC-81A2-46BD-95B3-1CCC1B7E5A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5f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572c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572c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561d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6E39-CC9D-44EA-AEC1-D5C0594B9F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Обобщение по теме: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«Основные классы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неорганических соединений»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Спасибо за урок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ель нашего урок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общить и систематизировать знания по    теме «Основные классы неорганических соединений», подготовиться к контрольной работ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447920" y="19036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классы неорганических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един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4114800" y="3200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6019920" y="2895480"/>
            <a:ext cx="11430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5029200" y="29718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0"/>
          <p:cNvSpPr/>
          <p:nvPr/>
        </p:nvSpPr>
        <p:spPr>
          <a:xfrm flipH="1">
            <a:off x="3809880" y="2971800"/>
            <a:ext cx="5335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3276720" y="31240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 flipH="1">
            <a:off x="2514600" y="2895480"/>
            <a:ext cx="9907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1523880" y="37339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3276720" y="3733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5029200" y="3733920"/>
            <a:ext cx="12193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7010280" y="37339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реди каждой тройки веществ найти вещество, отличающиеся от двух других. Указать признак отлич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NaOH, KOH, Cu(OH)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LiOH, H2SO4, Ca(OH)2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e(OH)3, Al(OH)3, Ba(OH)2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Na2SO4, Mg(OH)2, KNO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Через запятую(по названиям веществ) написать формулы вещест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Сер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сероводородная кислота, магний хлорид, натрий гироксид, натрий сульфат, калий сульфид, сульфур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V)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оксид, сульфатная кислота, сернистая кислота, сульфур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I)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оксид, калий сульфит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з приведенных формул составьте генетический ряд, образованной серой и написать уравнения соответствующих реакц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1. S → H2S → K2S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2. S→ SO2 → H2SO3 → K2SO3.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3. S → SO3 → H2SO4 → Na2SO4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 … + … = CuCl2 + 2H2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Mg + Cl2 = …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) Fe(OH)3 = …+ ...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) … + … = CaCl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) CuO + … = CuSO4 + ...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) … + 6HCl = 2FeCl3 + 3…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… + … = NaCl + H2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K + Cl2 = …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) Cu(OH)2 = … + …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) … + … = Mg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) CaO + 2… = Ca(NO3)2 + …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) … + 2HCl = ZnCl2 +…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 Cu(OH)2 + 2HCl  = CuCl2 + 2H2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Mg + Cl2 = Mg Cl2 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) 2 Fe(OH)3 = Fe2O3+  3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2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) Ca + Cl2  = CaCl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) CuO +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4 = CuSO4 + 2H2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) Fe2O3  + 6HCl = 2FeCl3 + 3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2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N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= NaCl + H2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2K + Cl2 = 2 KCl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) Cu(OH)2  = CuO  +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2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) 2 Mg  + O2 = 2Mg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) CaO + 2HNO3 = Ca(NO3)2 + H2O 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) Zn + 2HCl = ZnCl2 +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7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кмоллаев</cp:lastModifiedBy>
  <dcterms:modified xsi:type="dcterms:W3CDTF">2012-01-09T11:48:1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6000000000001024140</vt:lpwstr>
  </property>
  <property fmtid="{D5CDD505-2E9C-101B-9397-08002B2CF9AE}" pid="3" name="Version">
    <vt:r8>1</vt:r8>
  </property>
</Properties>
</file>