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1506-6F37-457F-9779-B63D1D2A0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9243-14BA-4688-BE87-D4565131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492F-C688-4F5D-84BE-CD83EA60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B2AB-70E0-438A-9C9A-C59075024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A4C0-7611-46EA-A99C-49B91C0E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7B99-9CEF-4145-BDD7-E283FAB2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6BC0-2192-42D3-B573-6D118798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33C3-627B-4BBA-8A9C-8FD085FF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9568-A2D5-4DDD-8D2A-263FE76F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67B0-9784-4B67-BDF4-32480F09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E749-53EB-4EAF-93B7-226202EC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AA7F-9592-4D87-A469-A8E87FD9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795F-051D-4A24-B315-0AA82F3A6E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eratium1"/>
          <p:cNvPicPr/>
          <p:nvPr/>
        </p:nvPicPr>
        <p:blipFill>
          <a:blip r:embed="rId1"/>
          <a:stretch/>
        </p:blipFill>
        <p:spPr>
          <a:xfrm>
            <a:off x="380880" y="2205000"/>
            <a:ext cx="6654960" cy="45244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3200400" y="60199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Cerati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80880" y="228600"/>
            <a:ext cx="8229600" cy="32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Подцарство Простейшие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Protozo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вободноживущие, паразиты, симбионты многоклеточных животных. Насчитывается свыше 40 тыс видов во всех средах обит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Впервые открыты А. ван Левенгуком в 1676 году, названы им «анималькулами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4932360" y="5300640"/>
            <a:ext cx="40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Урок подготови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учитель биологии Мариупольской ОШ №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Руднев Н. 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400px-Sphaeroeca-colony"/>
          <p:cNvPicPr/>
          <p:nvPr/>
        </p:nvPicPr>
        <p:blipFill>
          <a:blip r:embed="rId1"/>
          <a:stretch/>
        </p:blipFill>
        <p:spPr>
          <a:xfrm>
            <a:off x="228600" y="380880"/>
            <a:ext cx="6934320" cy="52009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457200" y="594360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фероека – колониальный воротничковый жгутиконосец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0520" y="87480"/>
            <a:ext cx="9068040" cy="63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Тип Ресничные, или Инфузории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iliophor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вободноживущие или паразиты с ярко выраженным ядерным дуализмом (микро- и макронуклеус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Органеллы передвижения – реснич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Тело покрыто упругой оболочкой, примыкающей к мембране – пелликул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На одной стороне клетки образуется клеточный рот (цитостом), через который заглатывается пищ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ократительных вакуолей одна или несколько, они имеют специфическое строение и фиксированное расположение в теле инфузор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Полового размножения нет. Существует половой процесс по типу конъюгации (обмен генеративными ядрами между двумя клеткам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Обитают во всех средах, кроме воздушной. При неблагоприятных условиях образуют цис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Инфузории подразделяются на два класса: Ресничные инфузории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iliata)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и Сосущие инфузории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uctor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0" y="34920"/>
            <a:ext cx="7623000" cy="522288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395280" y="548640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Инфузория-туфелька под электронным микроскопом. Обозначьте и подпишите необходимые структуры в тетради. Макронуклеус на фото не виде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ая соединительная линия 2"/>
          <p:cNvSpPr/>
          <p:nvPr/>
        </p:nvSpPr>
        <p:spPr>
          <a:xfrm>
            <a:off x="4859280" y="2205000"/>
            <a:ext cx="1708200" cy="216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ая соединительная линия 5"/>
          <p:cNvSpPr/>
          <p:nvPr/>
        </p:nvSpPr>
        <p:spPr>
          <a:xfrm>
            <a:off x="1752480" y="1484280"/>
            <a:ext cx="1706760" cy="216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ая соединительная линия 6"/>
          <p:cNvSpPr/>
          <p:nvPr/>
        </p:nvSpPr>
        <p:spPr>
          <a:xfrm>
            <a:off x="684360" y="2097000"/>
            <a:ext cx="2663640" cy="900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8"/>
          <p:cNvSpPr/>
          <p:nvPr/>
        </p:nvSpPr>
        <p:spPr>
          <a:xfrm>
            <a:off x="395280" y="4724280"/>
            <a:ext cx="1708200" cy="360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ая соединительная линия 10"/>
          <p:cNvSpPr/>
          <p:nvPr/>
        </p:nvSpPr>
        <p:spPr>
          <a:xfrm flipV="1">
            <a:off x="6769080" y="475920"/>
            <a:ext cx="971640" cy="144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ая соединительная линия 12"/>
          <p:cNvSpPr/>
          <p:nvPr/>
        </p:nvSpPr>
        <p:spPr>
          <a:xfrm>
            <a:off x="7020000" y="1617840"/>
            <a:ext cx="1368360" cy="2156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ая соединительная линия 13"/>
          <p:cNvSpPr/>
          <p:nvPr/>
        </p:nvSpPr>
        <p:spPr>
          <a:xfrm flipV="1">
            <a:off x="6719760" y="1833480"/>
            <a:ext cx="1668600" cy="1555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5"/>
          <p:cNvSpPr/>
          <p:nvPr/>
        </p:nvSpPr>
        <p:spPr>
          <a:xfrm>
            <a:off x="2268360" y="4905360"/>
            <a:ext cx="3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6"/>
          <p:cNvSpPr/>
          <p:nvPr/>
        </p:nvSpPr>
        <p:spPr>
          <a:xfrm>
            <a:off x="7740720" y="260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7"/>
          <p:cNvSpPr/>
          <p:nvPr/>
        </p:nvSpPr>
        <p:spPr>
          <a:xfrm>
            <a:off x="8388360" y="1592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8"/>
          <p:cNvSpPr/>
          <p:nvPr/>
        </p:nvSpPr>
        <p:spPr>
          <a:xfrm>
            <a:off x="1476360" y="1197000"/>
            <a:ext cx="27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9"/>
          <p:cNvSpPr/>
          <p:nvPr/>
        </p:nvSpPr>
        <p:spPr>
          <a:xfrm>
            <a:off x="395280" y="182412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0"/>
          <p:cNvSpPr/>
          <p:nvPr/>
        </p:nvSpPr>
        <p:spPr>
          <a:xfrm>
            <a:off x="6719760" y="2286000"/>
            <a:ext cx="3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3"/>
          <p:cNvSpPr/>
          <p:nvPr/>
        </p:nvSpPr>
        <p:spPr>
          <a:xfrm>
            <a:off x="426960" y="620640"/>
            <a:ext cx="79200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Домашнее зад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Прочитать параграф 11, 12 (учебник Т. И. Базанова – Биология для 8 класса), найти ответы на вопросы в конце параграфа, подготовить краткие сообщения о болезнях, вызываемых простейшими (по желанию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-маля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-лейшманио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-амебная дизенте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-балантидио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токсоплазмо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euglena_viridis_1"/>
          <p:cNvPicPr/>
          <p:nvPr/>
        </p:nvPicPr>
        <p:blipFill>
          <a:blip r:embed="rId1"/>
          <a:stretch/>
        </p:blipFill>
        <p:spPr>
          <a:xfrm>
            <a:off x="0" y="0"/>
            <a:ext cx="4716360" cy="314640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4716360" y="981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Одиночные простейш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Эвглена зеле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goldstein_1"/>
          <p:cNvPicPr/>
          <p:nvPr/>
        </p:nvPicPr>
        <p:blipFill>
          <a:blip r:embed="rId2"/>
          <a:stretch/>
        </p:blipFill>
        <p:spPr>
          <a:xfrm>
            <a:off x="4067280" y="3406680"/>
            <a:ext cx="5076720" cy="3376800"/>
          </a:xfrm>
          <a:prstGeom prst="rect">
            <a:avLst/>
          </a:prstGeom>
          <a:ln w="0">
            <a:noFill/>
          </a:ln>
        </p:spPr>
      </p:pic>
      <p:sp>
        <p:nvSpPr>
          <p:cNvPr id="48" name="TextBox 6"/>
          <p:cNvSpPr/>
          <p:nvPr/>
        </p:nvSpPr>
        <p:spPr>
          <a:xfrm>
            <a:off x="755640" y="414972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Колониальные простейш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Вольвок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0"/>
            <a:ext cx="88390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Тип Саркомастигофоры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arcomastigophora)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Подтипы Саркодовые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arcodina)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и Жгутиковые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astigophora)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Одноклеточные или колониальные, свободноживущие, паразиты и симбионты многоклеточных. Половое размножение обычно не наблюдается. Органеллы движения – псевдоподии или жгут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Mastigamoeba aspera"/>
          <p:cNvPicPr/>
          <p:nvPr/>
        </p:nvPicPr>
        <p:blipFill>
          <a:blip r:embed="rId1"/>
          <a:stretch/>
        </p:blipFill>
        <p:spPr>
          <a:xfrm>
            <a:off x="2971800" y="2825640"/>
            <a:ext cx="5334120" cy="3718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457200" y="54864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Mastigamoeba aspe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228600" y="380880"/>
            <a:ext cx="8534520" cy="21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Подтип Саркодовые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(Sarcodi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Основные органеллы движения – псевдоподии различной степени сложности (лобоподии, ризоподии, аксоподи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вободноживущие (почва, водоемы) и паразит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Классы: Корненожки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Солнечники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Радиоляр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nummulites_laevigatus"/>
          <p:cNvPicPr/>
          <p:nvPr/>
        </p:nvPicPr>
        <p:blipFill>
          <a:blip r:embed="rId1"/>
          <a:stretch/>
        </p:blipFill>
        <p:spPr>
          <a:xfrm>
            <a:off x="4424400" y="3286080"/>
            <a:ext cx="3576600" cy="3460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1905120" y="60958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ummulites laevigat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arcella2"/>
          <p:cNvPicPr/>
          <p:nvPr/>
        </p:nvPicPr>
        <p:blipFill>
          <a:blip r:embed="rId1"/>
          <a:stretch/>
        </p:blipFill>
        <p:spPr>
          <a:xfrm>
            <a:off x="0" y="0"/>
            <a:ext cx="4495680" cy="3381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arcella3"/>
          <p:cNvPicPr/>
          <p:nvPr/>
        </p:nvPicPr>
        <p:blipFill>
          <a:blip r:embed="rId2"/>
          <a:stretch/>
        </p:blipFill>
        <p:spPr>
          <a:xfrm>
            <a:off x="4343400" y="20574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0" y="3886200"/>
            <a:ext cx="388620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rcella sp.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–обитатель пресных водоемов и влажных почв. Один из основных почвообразователей в зоне леса, лугов и степ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образует раковину из рогоподобного веще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Microscopic-shells-of-foraminifera-and-coccolithophores_full_size_landscape"/>
          <p:cNvPicPr/>
          <p:nvPr/>
        </p:nvPicPr>
        <p:blipFill>
          <a:blip r:embed="rId1"/>
          <a:srcRect l="0" t="0" r="0" b="63"/>
          <a:stretch/>
        </p:blipFill>
        <p:spPr>
          <a:xfrm>
            <a:off x="-14400" y="0"/>
            <a:ext cx="6464520" cy="37828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228600" y="4005360"/>
            <a:ext cx="83059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Фораминиферы, образующие мел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лева – элетронная микрофотография (сканирующий электронный микроскоп). Хорошо видна структура ракови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права на фото под световым микроскопом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iscorbis vesicularis, Taxularia sagittula, Ammodiscus incertus, Spiroloculina depressa, Saccamina sphae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28600" y="152280"/>
            <a:ext cx="8763120" cy="63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Подтип Жгутиконосцы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astigophor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вободноживущие и паразиты, а также симбионты многоклеточных, одиночные и колониальные формы, имеющие жгутики (1, 2, 4, 8 или более). Клетки имеют относительно постоянную форму за счет плотной оболочки – пелликул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Преимущественно одноядерные, встречаются виды с ядерным дуализм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Половое размножение может отсутствовать, встречаются виды с чередованием покол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Подтип разделяется на два класса – Животные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Zoomastigophorea)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и Растительные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Phytomastigophorea)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жгутиконосц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Для растительных жгутиконосцев характерно наличие светочувствительного глазка – стигм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euglena_viridis_1"/>
          <p:cNvPicPr/>
          <p:nvPr/>
        </p:nvPicPr>
        <p:blipFill>
          <a:blip r:embed="rId1"/>
          <a:stretch/>
        </p:blipFill>
        <p:spPr>
          <a:xfrm>
            <a:off x="0" y="0"/>
            <a:ext cx="7885080" cy="52592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312840" y="547524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Эвглена зеленая– типичный представитель растительных жгутиконосце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monosiga_brevicollis_300"/>
          <p:cNvPicPr/>
          <p:nvPr/>
        </p:nvPicPr>
        <p:blipFill>
          <a:blip r:embed="rId1"/>
          <a:stretch/>
        </p:blipFill>
        <p:spPr>
          <a:xfrm>
            <a:off x="0" y="228600"/>
            <a:ext cx="6019920" cy="4113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380880" y="518148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Монозига</a:t>
            </a:r>
            <a:r>
              <a:rPr b="0" lang="uk-UA" sz="2000" spc="-1" strike="noStrike">
                <a:solidFill>
                  <a:srgbClr val="ffff00"/>
                </a:solidFill>
                <a:latin typeface="Arial"/>
                <a:ea typeface="Arial"/>
              </a:rPr>
              <a:t>– свободноживущие воротничков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ые жгутиконосцы, жгутик окружен микроворсинками, образующими воротничок, который служит для улавливания пищ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7T12:26:50Z</dcterms:created>
  <dc:creator>ВАРЯГ</dc:creator>
  <dc:description/>
  <dc:language>en-US</dc:language>
  <cp:lastModifiedBy>Admin</cp:lastModifiedBy>
  <dcterms:modified xsi:type="dcterms:W3CDTF">2014-08-29T05:51:05Z</dcterms:modified>
  <cp:revision>2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05000000000001024140</vt:lpwstr>
  </property>
</Properties>
</file>