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1E44-3A9C-4006-B294-3FE21917A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09A0-0B9B-44C0-BA9D-8DAA3308C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2030-CD65-4459-822F-20179D685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1041-851D-4497-A11C-9525CD1B6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BEC7-4773-45F9-89F3-563E66375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1CFC-32CB-47D2-B351-9764DC4A9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E88D-64F2-4DC7-8335-49D377E48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9CCB-612E-4675-9937-BCF7C6E1C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C29B-4DE9-4BA5-9421-6A341679E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3BCB-9DFA-4BC0-83DB-BE007D81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0029-EC4D-427E-8CD5-39F14F2D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7CAD-D863-4040-B5BD-EC577C6E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7A241-82CF-4181-9908-9D94ECB49F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ceratium1"/>
          <p:cNvPicPr/>
          <p:nvPr/>
        </p:nvPicPr>
        <p:blipFill>
          <a:blip r:embed="rId1"/>
          <a:stretch/>
        </p:blipFill>
        <p:spPr>
          <a:xfrm>
            <a:off x="380880" y="2205000"/>
            <a:ext cx="6654960" cy="45244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6"/>
          <p:cNvSpPr/>
          <p:nvPr/>
        </p:nvSpPr>
        <p:spPr>
          <a:xfrm>
            <a:off x="3200400" y="60199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Ceratiu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380880" y="228600"/>
            <a:ext cx="8229600" cy="32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Подцарство Простейшие (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Protozo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Свободноживущие, паразиты, симбионты многоклеточных животных. Насчитывается свыше 40 тыс видов во всех средах обита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Впервые открыты А. ван Левенгуком в 1676 году, названы им «анималькулами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1"/>
          <p:cNvSpPr/>
          <p:nvPr/>
        </p:nvSpPr>
        <p:spPr>
          <a:xfrm>
            <a:off x="4932360" y="5300640"/>
            <a:ext cx="403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Урок подготови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учитель биологии Мариупольской ОШ №7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Руднев Н. 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400px-Sphaeroeca-colony"/>
          <p:cNvPicPr/>
          <p:nvPr/>
        </p:nvPicPr>
        <p:blipFill>
          <a:blip r:embed="rId1"/>
          <a:stretch/>
        </p:blipFill>
        <p:spPr>
          <a:xfrm>
            <a:off x="228600" y="380880"/>
            <a:ext cx="6934320" cy="52009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457200" y="594360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Сфероека – колониальный воротничковый жгутиконосец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20520" y="87480"/>
            <a:ext cx="9068040" cy="63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Тип Ресничные, или Инфузории (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Ciliophor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Свободноживущие или паразиты с ярко выраженным ядерным дуализмом (микро- и макронуклеус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Органеллы передвижения – реснич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Тело покрыто упругой оболочкой, примыкающей к мембране – пелликул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На одной стороне клетки образуется клеточный рот (цитостом), через который заглатывается пищ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Сократительных вакуолей одна или несколько, они имеют специфическое строение и фиксированное расположение в теле инфузор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Полового размножения нет. Существует половой процесс по типу конъюгации (обмен генеративными ядрами между двумя клетками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Обитают во всех средах, кроме воздушной. При неблагоприятных условиях образуют цист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Инфузории подразделяются на два класса: Ресничные инфузории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Ciliata)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 и Сосущие инфузории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Suctori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"/>
          <p:cNvPicPr/>
          <p:nvPr/>
        </p:nvPicPr>
        <p:blipFill>
          <a:blip r:embed="rId1"/>
          <a:stretch/>
        </p:blipFill>
        <p:spPr>
          <a:xfrm>
            <a:off x="0" y="34920"/>
            <a:ext cx="7623000" cy="5222880"/>
          </a:xfrm>
          <a:prstGeom prst="rect">
            <a:avLst/>
          </a:prstGeom>
          <a:ln w="0">
            <a:noFill/>
          </a:ln>
        </p:spPr>
      </p:pic>
      <p:sp>
        <p:nvSpPr>
          <p:cNvPr id="69" name="TextBox 2"/>
          <p:cNvSpPr/>
          <p:nvPr/>
        </p:nvSpPr>
        <p:spPr>
          <a:xfrm>
            <a:off x="395280" y="5486400"/>
            <a:ext cx="705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Инфузория-туфелька под электронным микроскопом. Обозначьте и подпишите необходимые структуры в тетради. Макронуклеус на фото не виде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ая соединительная линия 2"/>
          <p:cNvSpPr/>
          <p:nvPr/>
        </p:nvSpPr>
        <p:spPr>
          <a:xfrm>
            <a:off x="4859280" y="2205000"/>
            <a:ext cx="1708200" cy="2160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ая соединительная линия 5"/>
          <p:cNvSpPr/>
          <p:nvPr/>
        </p:nvSpPr>
        <p:spPr>
          <a:xfrm>
            <a:off x="1752480" y="1484280"/>
            <a:ext cx="1706760" cy="21600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ая соединительная линия 6"/>
          <p:cNvSpPr/>
          <p:nvPr/>
        </p:nvSpPr>
        <p:spPr>
          <a:xfrm>
            <a:off x="684360" y="2097000"/>
            <a:ext cx="2663640" cy="9003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ая соединительная линия 8"/>
          <p:cNvSpPr/>
          <p:nvPr/>
        </p:nvSpPr>
        <p:spPr>
          <a:xfrm>
            <a:off x="395280" y="4724280"/>
            <a:ext cx="1708200" cy="3603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ая соединительная линия 10"/>
          <p:cNvSpPr/>
          <p:nvPr/>
        </p:nvSpPr>
        <p:spPr>
          <a:xfrm flipV="1">
            <a:off x="6769080" y="475920"/>
            <a:ext cx="971640" cy="1443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ая соединительная линия 12"/>
          <p:cNvSpPr/>
          <p:nvPr/>
        </p:nvSpPr>
        <p:spPr>
          <a:xfrm>
            <a:off x="7020000" y="1617840"/>
            <a:ext cx="1368360" cy="2156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ая соединительная линия 13"/>
          <p:cNvSpPr/>
          <p:nvPr/>
        </p:nvSpPr>
        <p:spPr>
          <a:xfrm flipV="1">
            <a:off x="6719760" y="1833480"/>
            <a:ext cx="1668600" cy="15552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15"/>
          <p:cNvSpPr/>
          <p:nvPr/>
        </p:nvSpPr>
        <p:spPr>
          <a:xfrm>
            <a:off x="2268360" y="4905360"/>
            <a:ext cx="3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16"/>
          <p:cNvSpPr/>
          <p:nvPr/>
        </p:nvSpPr>
        <p:spPr>
          <a:xfrm>
            <a:off x="7740720" y="260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17"/>
          <p:cNvSpPr/>
          <p:nvPr/>
        </p:nvSpPr>
        <p:spPr>
          <a:xfrm>
            <a:off x="8388360" y="1592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18"/>
          <p:cNvSpPr/>
          <p:nvPr/>
        </p:nvSpPr>
        <p:spPr>
          <a:xfrm>
            <a:off x="1476360" y="1197000"/>
            <a:ext cx="27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19"/>
          <p:cNvSpPr/>
          <p:nvPr/>
        </p:nvSpPr>
        <p:spPr>
          <a:xfrm>
            <a:off x="395280" y="182412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20"/>
          <p:cNvSpPr/>
          <p:nvPr/>
        </p:nvSpPr>
        <p:spPr>
          <a:xfrm>
            <a:off x="6719760" y="2286000"/>
            <a:ext cx="3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3"/>
          <p:cNvSpPr/>
          <p:nvPr/>
        </p:nvSpPr>
        <p:spPr>
          <a:xfrm>
            <a:off x="426960" y="620640"/>
            <a:ext cx="792000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Домашнее зада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Прочитать параграф 11, 12 (учебник Т. И. Базанова – Биология для 8 класса), найти ответы на вопросы в конце параграфа, подготовить краткие сообщения о болезнях, вызываемых простейшими (по желанию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-маляр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-лейшманио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-амебная дизентер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-балантидио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-</a:t>
            </a: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токсоплазмо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euglena_viridis_1"/>
          <p:cNvPicPr/>
          <p:nvPr/>
        </p:nvPicPr>
        <p:blipFill>
          <a:blip r:embed="rId1"/>
          <a:stretch/>
        </p:blipFill>
        <p:spPr>
          <a:xfrm>
            <a:off x="0" y="0"/>
            <a:ext cx="4716360" cy="3146400"/>
          </a:xfrm>
          <a:prstGeom prst="rect">
            <a:avLst/>
          </a:prstGeom>
          <a:ln w="0">
            <a:noFill/>
          </a:ln>
        </p:spPr>
      </p:pic>
      <p:sp>
        <p:nvSpPr>
          <p:cNvPr id="46" name="TextBox 4"/>
          <p:cNvSpPr/>
          <p:nvPr/>
        </p:nvSpPr>
        <p:spPr>
          <a:xfrm>
            <a:off x="4716360" y="981000"/>
            <a:ext cx="36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Одиночные простейши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Эвглена зелен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goldstein_1"/>
          <p:cNvPicPr/>
          <p:nvPr/>
        </p:nvPicPr>
        <p:blipFill>
          <a:blip r:embed="rId2"/>
          <a:stretch/>
        </p:blipFill>
        <p:spPr>
          <a:xfrm>
            <a:off x="4067280" y="3406680"/>
            <a:ext cx="5076720" cy="3376800"/>
          </a:xfrm>
          <a:prstGeom prst="rect">
            <a:avLst/>
          </a:prstGeom>
          <a:ln w="0">
            <a:noFill/>
          </a:ln>
        </p:spPr>
      </p:pic>
      <p:sp>
        <p:nvSpPr>
          <p:cNvPr id="48" name="TextBox 6"/>
          <p:cNvSpPr/>
          <p:nvPr/>
        </p:nvSpPr>
        <p:spPr>
          <a:xfrm>
            <a:off x="755640" y="4149720"/>
            <a:ext cx="39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Колониальные простейши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Вольвок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0" y="0"/>
            <a:ext cx="883908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Тип Саркомастигофоры (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arcomastigophora)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Подтипы Саркодовые(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Sarcodina)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и Жгутиковые (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Mastigophora)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Одноклеточные или колониальные, свободноживущие, паразиты и симбионты многоклеточных. Половое размножение обычно не наблюдается. Органеллы движения – псевдоподии или жгути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Mastigamoeba aspera"/>
          <p:cNvPicPr/>
          <p:nvPr/>
        </p:nvPicPr>
        <p:blipFill>
          <a:blip r:embed="rId1"/>
          <a:stretch/>
        </p:blipFill>
        <p:spPr>
          <a:xfrm>
            <a:off x="2971800" y="2825640"/>
            <a:ext cx="5334120" cy="37180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457200" y="54864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Mastigamoeba aspe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5"/>
          <p:cNvSpPr/>
          <p:nvPr/>
        </p:nvSpPr>
        <p:spPr>
          <a:xfrm>
            <a:off x="228600" y="380880"/>
            <a:ext cx="8534520" cy="21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Подтип Саркодовые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(Sarcodin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Основные органеллы движения – псевдоподии различной степени сложности (лобоподии, ризоподии, аксоподии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Свободноживущие (почва, водоемы) и паразит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Классы: Корненожки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,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 Солнечники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,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Радиоляр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6" descr="nummulites_laevigatus"/>
          <p:cNvPicPr/>
          <p:nvPr/>
        </p:nvPicPr>
        <p:blipFill>
          <a:blip r:embed="rId1"/>
          <a:stretch/>
        </p:blipFill>
        <p:spPr>
          <a:xfrm>
            <a:off x="4424400" y="3286080"/>
            <a:ext cx="3576600" cy="34606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7"/>
          <p:cNvSpPr/>
          <p:nvPr/>
        </p:nvSpPr>
        <p:spPr>
          <a:xfrm>
            <a:off x="1905120" y="609588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Nummulites laevigat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arcella2"/>
          <p:cNvPicPr/>
          <p:nvPr/>
        </p:nvPicPr>
        <p:blipFill>
          <a:blip r:embed="rId1"/>
          <a:stretch/>
        </p:blipFill>
        <p:spPr>
          <a:xfrm>
            <a:off x="0" y="0"/>
            <a:ext cx="4495680" cy="3381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arcella3"/>
          <p:cNvPicPr/>
          <p:nvPr/>
        </p:nvPicPr>
        <p:blipFill>
          <a:blip r:embed="rId2"/>
          <a:stretch/>
        </p:blipFill>
        <p:spPr>
          <a:xfrm>
            <a:off x="4343400" y="205740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4"/>
          <p:cNvSpPr/>
          <p:nvPr/>
        </p:nvSpPr>
        <p:spPr>
          <a:xfrm>
            <a:off x="0" y="3886200"/>
            <a:ext cx="388620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Arcella sp.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 –обитатель пресных водоемов и влажных почв. Один из основных почвообразователей в зоне леса, лугов и степ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образует раковину из рогоподобного вещест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Microscopic-shells-of-foraminifera-and-coccolithophores_full_size_landscape"/>
          <p:cNvPicPr/>
          <p:nvPr/>
        </p:nvPicPr>
        <p:blipFill>
          <a:blip r:embed="rId1"/>
          <a:srcRect l="0" t="0" r="0" b="63"/>
          <a:stretch/>
        </p:blipFill>
        <p:spPr>
          <a:xfrm>
            <a:off x="-14400" y="0"/>
            <a:ext cx="6464520" cy="37828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228600" y="4005360"/>
            <a:ext cx="830592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Фораминиферы, образующие мел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слева – элетронная микрофотография (сканирующий электронный микроскоп). Хорошо видна структура раковин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Справа на фото под световым микроскопом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Discorbis vesicularis, Taxularia sagittula, Ammodiscus incertus, Spiroloculina depressa, Saccamina sphaer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228600" y="152280"/>
            <a:ext cx="8763120" cy="63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Подтип Жгутиконосцы (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Mastigophor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Свободноживущие и паразиты, а также симбионты многоклеточных, одиночные и колониальные формы, имеющие жгутики (1, 2, 4, 8 или более). Клетки имеют относительно постоянную форму за счет плотной оболочки – пелликул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Преимущественно одноядерные, встречаются виды с ядерным дуализм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Половое размножение может отсутствовать, встречаются виды с чередованием поколен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Подтип разделяется на два класса – Животные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Zoomastigophorea) 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и Растительные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Phytomastigophorea)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 жгутиконосц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Для растительных жгутиконосцев характерно наличие светочувствительного глазка – стигм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euglena_viridis_1"/>
          <p:cNvPicPr/>
          <p:nvPr/>
        </p:nvPicPr>
        <p:blipFill>
          <a:blip r:embed="rId1"/>
          <a:stretch/>
        </p:blipFill>
        <p:spPr>
          <a:xfrm>
            <a:off x="0" y="0"/>
            <a:ext cx="7885080" cy="52592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312840" y="547524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Эвглена зеленая– типичный представитель растительных жгутиконосце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monosiga_brevicollis_300"/>
          <p:cNvPicPr/>
          <p:nvPr/>
        </p:nvPicPr>
        <p:blipFill>
          <a:blip r:embed="rId1"/>
          <a:stretch/>
        </p:blipFill>
        <p:spPr>
          <a:xfrm>
            <a:off x="0" y="228600"/>
            <a:ext cx="6019920" cy="41133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380880" y="518148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Монозига</a:t>
            </a:r>
            <a:r>
              <a:rPr b="0" lang="uk-UA" sz="2000" spc="-1" strike="noStrike">
                <a:solidFill>
                  <a:srgbClr val="ffff00"/>
                </a:solidFill>
                <a:latin typeface="Arial"/>
                <a:ea typeface="Arial"/>
              </a:rPr>
              <a:t>– свободноживущие воротничков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ые жгутиконосцы, жгутик окружен микроворсинками, образующими воротничок, который служит для улавливания пищ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7T12:26:50Z</dcterms:created>
  <dc:creator>ВАРЯГ</dc:creator>
  <dc:description/>
  <dc:language>en-US</dc:language>
  <cp:lastModifiedBy>Admin</cp:lastModifiedBy>
  <dcterms:modified xsi:type="dcterms:W3CDTF">2014-08-29T05:51:05Z</dcterms:modified>
  <cp:revision>21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005000000000001024140</vt:lpwstr>
  </property>
</Properties>
</file>