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141-8F7A-47B9-8F48-948FA067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F62-4F99-490E-8A8B-D65DB1F8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29E6-070D-494A-8980-EBDC1625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F14-AFE5-491E-8B73-719C4623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415-156E-4EDE-B5D2-EBFC87C2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431-06F4-4721-9305-59BABB06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649-7258-4518-B619-7E63D783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F482-3767-48A3-A5E2-A7FDC8FD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D2F-91BD-43DD-8DD0-98E811F9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423D-614A-447A-9E84-0B453B29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0C0-CE95-4FA8-902B-01295309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F4A-CEF3-4AFE-B731-07215DCB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9167-2454-4D68-9079-5B2E793F7B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eratium1"/>
          <p:cNvPicPr/>
          <p:nvPr/>
        </p:nvPicPr>
        <p:blipFill>
          <a:blip r:embed="rId1"/>
          <a:stretch/>
        </p:blipFill>
        <p:spPr>
          <a:xfrm>
            <a:off x="380880" y="2205000"/>
            <a:ext cx="6654960" cy="4524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3200400" y="601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erat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228600"/>
            <a:ext cx="822960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царство Простейшие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rotozo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, паразиты, симбионты многоклеточных животных. Насчитывается свыше 40 тыс видов во всех средах обит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Впервые открыты А. ван Левенгуком в 1676 году, названы им «анималькулам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4932360" y="530064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рок подготови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читель биологии Мариупольской ОШ №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Руднев Н.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400px-Sphaeroeca-colony"/>
          <p:cNvPicPr/>
          <p:nvPr/>
        </p:nvPicPr>
        <p:blipFill>
          <a:blip r:embed="rId1"/>
          <a:stretch/>
        </p:blipFill>
        <p:spPr>
          <a:xfrm>
            <a:off x="228600" y="3808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457200" y="59436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фероека – колониальный воротничковый жгутиконосе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0520" y="87480"/>
            <a:ext cx="9068040" cy="63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Тип Ресничные, или Инфузории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iliophor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 или паразиты с ярко выраженным ядерным дуализмом (микро- и макронуклеус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рганеллы передвижения – реснич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ело покрыто упругой оболочкой, примыкающей к мембране – пелликул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На одной стороне клетки образуется клеточный рот (цитостом), через который заглатывается пищ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ократительных вакуолей одна или несколько, они имеют специфическое строение и фиксированное расположение в теле инфузор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лового размножения нет. Существует половой процесс по типу конъюгации (обмен генеративными ядрами между двумя клеткам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битают во всех средах, кроме воздушной. При неблагоприятных условиях образуют цис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Инфузории подразделяются на два класса: Ресничные инфузории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iliata)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и Сосущие инфузории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uctor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34920"/>
            <a:ext cx="7623000" cy="5222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395280" y="548640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Инфузория-туфелька под электронным микроскопом. Обозначьте и подпишите необходимые структуры в тетради. Макронуклеус на фото не вид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2"/>
          <p:cNvSpPr/>
          <p:nvPr/>
        </p:nvSpPr>
        <p:spPr>
          <a:xfrm>
            <a:off x="4859280" y="2205000"/>
            <a:ext cx="1708200" cy="216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ая соединительная линия 5"/>
          <p:cNvSpPr/>
          <p:nvPr/>
        </p:nvSpPr>
        <p:spPr>
          <a:xfrm>
            <a:off x="1752480" y="1484280"/>
            <a:ext cx="1706760" cy="216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6"/>
          <p:cNvSpPr/>
          <p:nvPr/>
        </p:nvSpPr>
        <p:spPr>
          <a:xfrm>
            <a:off x="684360" y="2097000"/>
            <a:ext cx="2663640" cy="900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>
            <a:off x="395280" y="4724280"/>
            <a:ext cx="1708200" cy="360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10"/>
          <p:cNvSpPr/>
          <p:nvPr/>
        </p:nvSpPr>
        <p:spPr>
          <a:xfrm flipV="1">
            <a:off x="6769080" y="475920"/>
            <a:ext cx="971640" cy="144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12"/>
          <p:cNvSpPr/>
          <p:nvPr/>
        </p:nvSpPr>
        <p:spPr>
          <a:xfrm>
            <a:off x="7020000" y="1617840"/>
            <a:ext cx="1368360" cy="215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13"/>
          <p:cNvSpPr/>
          <p:nvPr/>
        </p:nvSpPr>
        <p:spPr>
          <a:xfrm flipV="1">
            <a:off x="6719760" y="1833480"/>
            <a:ext cx="1668600" cy="1555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2268360" y="4905360"/>
            <a:ext cx="3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7740720" y="26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8388360" y="1592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1476360" y="1197000"/>
            <a:ext cx="2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9"/>
          <p:cNvSpPr/>
          <p:nvPr/>
        </p:nvSpPr>
        <p:spPr>
          <a:xfrm>
            <a:off x="395280" y="18241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6719760" y="2286000"/>
            <a:ext cx="3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426960" y="620640"/>
            <a:ext cx="79200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Прочитать параграф 11, 12 (учебник Т. И. Базанова – Биология для 8 класса), найти ответы на вопросы в конце параграфа, подготовить краткие сообщения о болезнях, вызываемых простейшими (по желанию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маля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лейшмани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амебная дизент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балантиди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токсоплазм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uglena_viridis_1"/>
          <p:cNvPicPr/>
          <p:nvPr/>
        </p:nvPicPr>
        <p:blipFill>
          <a:blip r:embed="rId1"/>
          <a:stretch/>
        </p:blipFill>
        <p:spPr>
          <a:xfrm>
            <a:off x="0" y="0"/>
            <a:ext cx="4716360" cy="3146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716360" y="981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Одиночные простейш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Эвглена зеле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goldstein_1"/>
          <p:cNvPicPr/>
          <p:nvPr/>
        </p:nvPicPr>
        <p:blipFill>
          <a:blip r:embed="rId2"/>
          <a:stretch/>
        </p:blipFill>
        <p:spPr>
          <a:xfrm>
            <a:off x="4067280" y="3406680"/>
            <a:ext cx="5076720" cy="337680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755640" y="414972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олониальные простейш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Вольвок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0"/>
            <a:ext cx="8839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Тип Саркомастигофоры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arcomastigophora)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типы Саркодовые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arcodina)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и Жгутиковые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stigophora)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Одноклеточные или колониальные, свободноживущие, паразиты и симбионты многоклеточных. Половое размножение обычно не наблюдается. Органеллы движения – псевдоподии или жгу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Mastigamoeba aspera"/>
          <p:cNvPicPr/>
          <p:nvPr/>
        </p:nvPicPr>
        <p:blipFill>
          <a:blip r:embed="rId1"/>
          <a:stretch/>
        </p:blipFill>
        <p:spPr>
          <a:xfrm>
            <a:off x="2971800" y="2825640"/>
            <a:ext cx="5334120" cy="3718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457200" y="5486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astigamoeba asp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228600" y="380880"/>
            <a:ext cx="853452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тип Саркодовые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(Sarcodi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сновные органеллы движения – псевдоподии различной степени сложности (лобоподии, ризоподии, аксоподи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 (почва, водоемы) и паразит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лассы: Корненожк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Солнечник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Радиоля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nummulites_laevigatus"/>
          <p:cNvPicPr/>
          <p:nvPr/>
        </p:nvPicPr>
        <p:blipFill>
          <a:blip r:embed="rId1"/>
          <a:stretch/>
        </p:blipFill>
        <p:spPr>
          <a:xfrm>
            <a:off x="4424400" y="3286080"/>
            <a:ext cx="3576600" cy="3460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905120" y="60958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ummulites laevigat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arcella2"/>
          <p:cNvPicPr/>
          <p:nvPr/>
        </p:nvPicPr>
        <p:blipFill>
          <a:blip r:embed="rId1"/>
          <a:stretch/>
        </p:blipFill>
        <p:spPr>
          <a:xfrm>
            <a:off x="0" y="0"/>
            <a:ext cx="4495680" cy="3381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rcella3"/>
          <p:cNvPicPr/>
          <p:nvPr/>
        </p:nvPicPr>
        <p:blipFill>
          <a:blip r:embed="rId2"/>
          <a:stretch/>
        </p:blipFill>
        <p:spPr>
          <a:xfrm>
            <a:off x="434340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0" y="3886200"/>
            <a:ext cx="38862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rcella sp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–обитатель пресных водоемов и влажных почв. Один из основных почвообразователей в зоне леса, лугов и степ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бразует раковину из рогоподобного вещ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Microscopic-shells-of-foraminifera-and-coccolithophores_full_size_landscape"/>
          <p:cNvPicPr/>
          <p:nvPr/>
        </p:nvPicPr>
        <p:blipFill>
          <a:blip r:embed="rId1"/>
          <a:srcRect l="0" t="0" r="0" b="63"/>
          <a:stretch/>
        </p:blipFill>
        <p:spPr>
          <a:xfrm>
            <a:off x="-14400" y="0"/>
            <a:ext cx="6464520" cy="3782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28600" y="4005360"/>
            <a:ext cx="83059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Фораминиферы, образующие мел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лева – элетронная микрофотография (сканирующий электронный микроскоп). Хорошо видна структура раков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права на фото под световым микроскопом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iscorbis vesicularis, Taxularia sagittula, Ammodiscus incertus, Spiroloculina depressa, Saccamina sphae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152280"/>
            <a:ext cx="8763120" cy="63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тип Жгутиконосцы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stigophor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 и паразиты, а также симбионты многоклеточных, одиночные и колониальные формы, имеющие жгутики (1, 2, 4, 8 или более). Клетки имеют относительно постоянную форму за счет плотной оболочки – пеллику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реимущественно одноядерные, встречаются виды с ядерным дуализм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ловое размножение может отсутствовать, встречаются виды с чередованием покол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дтип разделяется на два класса – Животные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Zoomastigophorea)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и Растительные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hytomastigophorea)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жгутиконосц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Для растительных жгутиконосцев характерно наличие светочувствительного глазка – стиг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uglena_viridis_1"/>
          <p:cNvPicPr/>
          <p:nvPr/>
        </p:nvPicPr>
        <p:blipFill>
          <a:blip r:embed="rId1"/>
          <a:stretch/>
        </p:blipFill>
        <p:spPr>
          <a:xfrm>
            <a:off x="0" y="0"/>
            <a:ext cx="7885080" cy="5259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12840" y="547524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вглена зеленая– типичный представитель растительных жгутиконосц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monosiga_brevicollis_300"/>
          <p:cNvPicPr/>
          <p:nvPr/>
        </p:nvPicPr>
        <p:blipFill>
          <a:blip r:embed="rId1"/>
          <a:stretch/>
        </p:blipFill>
        <p:spPr>
          <a:xfrm>
            <a:off x="0" y="228600"/>
            <a:ext cx="6019920" cy="4113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80880" y="51814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Монозига</a:t>
            </a:r>
            <a:r>
              <a:rPr b="0" lang="uk-UA" sz="2000" spc="-1" strike="noStrike">
                <a:solidFill>
                  <a:srgbClr val="ffff00"/>
                </a:solidFill>
                <a:latin typeface="Arial"/>
                <a:ea typeface="Arial"/>
              </a:rPr>
              <a:t>– свободноживущие воротничков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ые жгутиконосцы, жгутик окружен микроворсинками, образующими воротничок, который служит для улавливания пищ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7T12:26:50Z</dcterms:created>
  <dc:creator>ВАРЯГ</dc:creator>
  <dc:description/>
  <dc:language>en-US</dc:language>
  <cp:lastModifiedBy>Admin</cp:lastModifiedBy>
  <dcterms:modified xsi:type="dcterms:W3CDTF">2014-08-29T05:51:05Z</dcterms:modified>
  <cp:revision>2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5000000000001024140</vt:lpwstr>
  </property>
</Properties>
</file>