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85B-D8BB-4993-8ADB-4CBB52FD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390-5687-494F-868D-5232DFA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B5F-7956-4191-8226-6ED203AD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FA0-99F2-4B57-BEB9-9D4568DA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54C-57AF-4A28-9D7D-96A93DE2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3C1-A6EC-4A1D-BD09-A2ABA258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C51-B453-4D08-BE50-6A0DE783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D28-8ACB-4E24-A45C-BB65329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DAF-ADDA-4CF1-A3DE-1EDFB473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C28-9213-419B-AD52-E52D758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BE9-3065-4A6E-A616-BC2A11D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116-E5DB-4AC6-A2F6-3870698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36FF-1535-49E3-B9EF-001B2DBA9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eratium1"/>
          <p:cNvPicPr/>
          <p:nvPr/>
        </p:nvPicPr>
        <p:blipFill>
          <a:blip r:embed="rId1"/>
          <a:stretch/>
        </p:blipFill>
        <p:spPr>
          <a:xfrm>
            <a:off x="380880" y="2205000"/>
            <a:ext cx="6654960" cy="452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2004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erat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28600"/>
            <a:ext cx="8229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царство Простейшие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ozo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, паразиты, симбионты многоклеточных животных. Насчитывается свыше 40 тыс видов во всех средах об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первые открыты А. ван Левенгуком в 1676 году, названы им «анималькула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932360" y="5300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рок подготов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ель биологии Мариупольской ОШ №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Руднев Н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00px-Sphaeroeca-colony"/>
          <p:cNvPicPr/>
          <p:nvPr/>
        </p:nvPicPr>
        <p:blipFill>
          <a:blip r:embed="rId1"/>
          <a:stretch/>
        </p:blipFill>
        <p:spPr>
          <a:xfrm>
            <a:off x="2286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20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фероека – колониальный воротничковый жгутиконос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520" y="87480"/>
            <a:ext cx="906804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Ресничные, или Инфузории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li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ли паразиты с ярко выраженным ядерным дуализмом (микро- и макронукле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рганеллы передвижения – рес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ло покрыто упругой оболочкой, примыкающей к мембране – пеллик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 одной стороне клетки образуется клеточный рот (цитостом), через который заглатывается пищ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ократительных вакуолей одна или несколько, они имеют специфическое строение и фиксированное расположение в теле инфуз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го размножения нет. Существует половой процесс по типу конъюгации (обмен генеративными ядрами между двумя клетка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итают во всех средах, кроме воздушной. При неблагоприятных условиях образуют ци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и подразделяются на два класса: Ресничны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iliat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и Сосущи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cto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34920"/>
            <a:ext cx="7623000" cy="522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95280" y="54864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я-туфелька под электронным микроскопом. Обозначьте и подпишите необходимые структуры в тетради. Макронуклеус на фото не вид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2"/>
          <p:cNvSpPr/>
          <p:nvPr/>
        </p:nvSpPr>
        <p:spPr>
          <a:xfrm>
            <a:off x="4859280" y="2205000"/>
            <a:ext cx="170820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1752480" y="1484280"/>
            <a:ext cx="17067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684360" y="2097000"/>
            <a:ext cx="2663640" cy="90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95280" y="4724280"/>
            <a:ext cx="170820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6769080" y="475920"/>
            <a:ext cx="971640" cy="14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2"/>
          <p:cNvSpPr/>
          <p:nvPr/>
        </p:nvSpPr>
        <p:spPr>
          <a:xfrm>
            <a:off x="7020000" y="1617840"/>
            <a:ext cx="1368360" cy="21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 flipV="1">
            <a:off x="6719760" y="1833480"/>
            <a:ext cx="1668600" cy="155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268360" y="4905360"/>
            <a:ext cx="3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7740720" y="26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388360" y="15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476360" y="1197000"/>
            <a:ext cx="2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95280" y="18241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719760" y="2286000"/>
            <a:ext cx="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426960" y="620640"/>
            <a:ext cx="7920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рочитать параграф 11, 12 (учебник Т. И. Базанова – Биология для 8 класса), найти ответы на вопросы в конце параграфа, подготовить краткие сообщения о болезнях, вызываемых простейшими (по желанию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маля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лейшман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амебная дизен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балантид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ксоплазм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4716360" cy="3146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716360" y="981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диноч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Эвглена зеле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goldstein_1"/>
          <p:cNvPicPr/>
          <p:nvPr/>
        </p:nvPicPr>
        <p:blipFill>
          <a:blip r:embed="rId2"/>
          <a:stretch/>
        </p:blipFill>
        <p:spPr>
          <a:xfrm>
            <a:off x="4067280" y="3406680"/>
            <a:ext cx="5076720" cy="3376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55640" y="4149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лониаль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льво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883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Саркомастигофор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mastigophora)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ы Саркодовые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dina)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и Жгутиковы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ноклеточные или колониальные, свободноживущие, паразиты и симбионты многоклеточных. Половое размножение обычно не наблюдается. Органеллы движения – псевдоподии или жгу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Mastigamoeba aspera"/>
          <p:cNvPicPr/>
          <p:nvPr/>
        </p:nvPicPr>
        <p:blipFill>
          <a:blip r:embed="rId1"/>
          <a:stretch/>
        </p:blipFill>
        <p:spPr>
          <a:xfrm>
            <a:off x="2971800" y="2825640"/>
            <a:ext cx="5334120" cy="371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720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stigamoeba asp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380880"/>
            <a:ext cx="853452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Саркодовые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arc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рганеллы движения – псевдоподии различной степени сложности (лобоподии, ризоподии, аксопод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(почва, водоемы) и парази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ассы: Корненож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Солнечни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диоля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nummulites_laevigatus"/>
          <p:cNvPicPr/>
          <p:nvPr/>
        </p:nvPicPr>
        <p:blipFill>
          <a:blip r:embed="rId1"/>
          <a:stretch/>
        </p:blipFill>
        <p:spPr>
          <a:xfrm>
            <a:off x="4424400" y="3286080"/>
            <a:ext cx="357660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51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ummulites laevig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rcella2"/>
          <p:cNvPicPr/>
          <p:nvPr/>
        </p:nvPicPr>
        <p:blipFill>
          <a:blip r:embed="rId1"/>
          <a:stretch/>
        </p:blipFill>
        <p:spPr>
          <a:xfrm>
            <a:off x="0" y="0"/>
            <a:ext cx="4495680" cy="33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rcella3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3886200"/>
            <a:ext cx="38862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rcella sp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обитатель пресных водоемов и влажных почв. Один из основных почвообразователей в зоне леса, лугов и ст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разует раковину из рогоподобного ве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croscopic-shells-of-foraminifera-and-coccolithophores_full_size_landscape"/>
          <p:cNvPicPr/>
          <p:nvPr/>
        </p:nvPicPr>
        <p:blipFill>
          <a:blip r:embed="rId1"/>
          <a:srcRect l="0" t="0" r="0" b="63"/>
          <a:stretch/>
        </p:blipFill>
        <p:spPr>
          <a:xfrm>
            <a:off x="-14400" y="0"/>
            <a:ext cx="6464520" cy="3782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4005360"/>
            <a:ext cx="83059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ораминиферы, образующие ме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лева – элетронная микрофотография (сканирующий электронный микроскоп). Хорошо видна структура раков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права на фото под световым микроскопом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iscorbis vesicularis, Taxularia sagittula, Ammodiscus incertus, Spiroloculina depressa, Saccamina spha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152280"/>
            <a:ext cx="876312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Жгутиконосц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 паразиты, а также симбионты многоклеточных, одиночные и колониальные формы, имеющие жгутики (1, 2, 4, 8 или более). Клетки имеют относительно постоянную форму за счет плотной оболочки – пелли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реимущественно одноядерные, встречаются виды с ядерным дуали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е размножение может отсутствовать, встречаются виды с чередованием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дтип разделяется на два класса – Живот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oomastigophorea)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Раститель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hytomastigophore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жгутиконос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стительных жгутиконосцев характерно наличие светочувствительного глазка – стиг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7885080" cy="525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2840" y="547524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вглена зеленая– типичный представитель растительных жгутиконос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onosiga_brevicollis_300"/>
          <p:cNvPicPr/>
          <p:nvPr/>
        </p:nvPicPr>
        <p:blipFill>
          <a:blip r:embed="rId1"/>
          <a:stretch/>
        </p:blipFill>
        <p:spPr>
          <a:xfrm>
            <a:off x="0" y="2286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0880" y="5181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онозига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Arial"/>
              </a:rPr>
              <a:t>– свободноживущие воротнич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ые жгутиконосцы, жгутик окружен микроворсинками, образующими воротничок, который служит для улавливания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2:26:50Z</dcterms:created>
  <dc:creator>ВАРЯГ</dc:creator>
  <dc:description/>
  <dc:language>en-US</dc:language>
  <cp:lastModifiedBy>Admin</cp:lastModifiedBy>
  <dcterms:modified xsi:type="dcterms:W3CDTF">2014-08-29T05:51:0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