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chimes.wav" ContentType="audio/x-wav"/>
  <Override PartName="/ppt/media/image16.jpeg" ContentType="image/jpeg"/>
  <Override PartName="/ppt/media/image11.jpeg" ContentType="image/jpeg"/>
  <Override PartName="/ppt/media/image15.jpeg" ContentType="image/jpeg"/>
  <Override PartName="/ppt/media/image1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0696-79B4-467B-A034-83C59E31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BBB1-2461-45A3-956C-B3369AF9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CCEB-D472-4819-9F8D-B0F0DF15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4A2A-2BE7-46A3-BB83-F35B59F5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FB5A-1065-414D-A5C0-9E08171B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B702-91BF-4035-9F1D-1420DA43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8E85-D2B2-4947-A8BA-DBCA2593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C8A8-3C20-4E3F-985C-083F1E1D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6BF9-A349-42B3-8632-474B2788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3A87-F341-4A1F-86F0-E2243A73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0DD7-DB59-4D6A-94FF-036366CC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1959-4C18-4591-BA98-4CB93F4D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ED63-5823-4EA8-8375-5050B123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01C1-1FB2-4E77-9B3C-07B49ABD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3FA1-F956-4630-A5A8-07BE85B6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410E-EFD0-4685-A1FF-461A3B62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981E-2D85-4BB8-939B-83ECF796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5FA4E-0563-4331-8934-C9705507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36F4B-482A-496F-8323-A179261F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EC533-6295-44A4-80A2-0E3418DE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B05C6-7E16-4B70-883B-B3B23EF0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BBA73-5195-438D-B5D4-205E1FFE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4638-C1E2-4F38-A49F-32B07D79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2A8A2-5583-4D38-894F-2BD9BAEF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1A228-0FEA-4A11-BD6F-B7C9A727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462F3-768B-4270-BEBB-050792BA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9EBA4-B554-4539-A92E-957EBEAE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0F803-5992-47B4-8039-BABC07CC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935FA-4519-4D75-84C6-4B5C464E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2EDA8-AA68-41CD-B6F0-8A96E42C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5576B-E2E5-4ABE-8CED-FB9AC584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94178-63F7-4580-BCEF-DD9B098C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30396-F6DE-425E-83CC-67B06C44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6AEF-B10F-4BC7-852E-9729E52C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5E539-1A73-4BB4-9F4C-55C69933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A6B99-9FCB-4E7B-9954-D0CD6329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F5E34-1771-4425-BCA2-C9EDF1DF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B33F1-6434-4D48-8513-EAF32F4C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EEA36-5C91-45C5-A521-6101459B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60CF6-E720-42EA-94AA-D10C7F3B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3E2E2-66BD-43FD-911D-54DE1EDC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3A6C1-CC7B-4C5F-BF5B-21F30A5E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68550-3A36-4A98-96BC-122FE27C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7501-9FB8-4A06-A7EA-F895AAB7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9236-667D-46DD-ACFD-A61D53C7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12E5-28B4-4486-B727-16D2DE55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6F5B-2927-4890-ACE4-85B460A9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28D7-AB9B-4E0E-8A55-84B80B84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BCBC-C478-4907-AB19-ED67446B0BC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6C6A-E012-41C4-8F0E-3A5E7528293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6177-8E7F-4951-B801-F3B4EC2BA3D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1F68-3CAF-4F1F-9BB5-33B690386F9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Прямоугольник 3" descr=""/>
          <p:cNvPicPr/>
          <p:nvPr/>
        </p:nvPicPr>
        <p:blipFill>
          <a:blip r:embed="rId1"/>
          <a:stretch/>
        </p:blipFill>
        <p:spPr>
          <a:xfrm>
            <a:off x="-182520" y="189000"/>
            <a:ext cx="9734400" cy="2627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993600" y="2708280"/>
            <a:ext cx="710424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4560" y="70920"/>
            <a:ext cx="9109080" cy="702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i="1" lang="ru-RU" sz="2300" spc="-1" strike="noStrike">
                <a:solidFill>
                  <a:srgbClr val="404040"/>
                </a:solidFill>
                <a:latin typeface="Trebuchet MS"/>
              </a:rPr>
              <a:t>)Семенники, мошонка, яички, предстательная железа, яичники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404040"/>
                </a:solidFill>
                <a:latin typeface="Trebuchet MS"/>
              </a:rPr>
              <a:t>2</a:t>
            </a:r>
            <a:r>
              <a:rPr b="0" i="1" lang="ru-RU" sz="2300" spc="-1" strike="noStrike">
                <a:solidFill>
                  <a:srgbClr val="404040"/>
                </a:solidFill>
                <a:latin typeface="Trebuchet MS"/>
              </a:rPr>
              <a:t>)Молочные железы, шейка матки, сперматогенез, матка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404040"/>
                </a:solidFill>
                <a:latin typeface="Trebuchet MS"/>
              </a:rPr>
              <a:t>3</a:t>
            </a:r>
            <a:r>
              <a:rPr b="0" i="1" lang="ru-RU" sz="2300" spc="-1" strike="noStrike">
                <a:solidFill>
                  <a:srgbClr val="404040"/>
                </a:solidFill>
                <a:latin typeface="Trebuchet MS"/>
              </a:rPr>
              <a:t>) Акросома, хвост, головка, эмбрион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404040"/>
                </a:solidFill>
                <a:latin typeface="Trebuchet MS"/>
              </a:rPr>
              <a:t>4</a:t>
            </a:r>
            <a:r>
              <a:rPr b="0" i="1" lang="ru-RU" sz="2300" spc="-1" strike="noStrike">
                <a:solidFill>
                  <a:srgbClr val="404040"/>
                </a:solidFill>
                <a:latin typeface="Trebuchet MS"/>
              </a:rPr>
              <a:t>) Тестостерон, эстродиол, прогестерон, яйцеклетка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404040"/>
                </a:solidFill>
                <a:latin typeface="Trebuchet MS"/>
              </a:rPr>
              <a:t>5</a:t>
            </a:r>
            <a:r>
              <a:rPr b="0" i="1" lang="ru-RU" sz="2300" spc="-1" strike="noStrike">
                <a:solidFill>
                  <a:srgbClr val="404040"/>
                </a:solidFill>
                <a:latin typeface="Trebuchet MS"/>
              </a:rPr>
              <a:t>) Любовь, брак, акселерация, семья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404040"/>
                </a:solidFill>
                <a:latin typeface="Trebuchet MS"/>
              </a:rPr>
              <a:t>6</a:t>
            </a:r>
            <a:r>
              <a:rPr b="0" i="1" lang="ru-RU" sz="2300" spc="-1" strike="noStrike">
                <a:solidFill>
                  <a:srgbClr val="404040"/>
                </a:solidFill>
                <a:latin typeface="Trebuchet MS"/>
              </a:rPr>
              <a:t>) Увеличение молочных желез, усиление обмена веществ, расширение костей таза, хромосомы, токсикоз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404040"/>
                </a:solidFill>
                <a:latin typeface="Trebuchet MS"/>
              </a:rPr>
              <a:t>7</a:t>
            </a:r>
            <a:r>
              <a:rPr b="0" i="1" lang="ru-RU" sz="2300" spc="-1" strike="noStrike">
                <a:solidFill>
                  <a:srgbClr val="404040"/>
                </a:solidFill>
                <a:latin typeface="Trebuchet MS"/>
              </a:rPr>
              <a:t>) Гены, хромосомы, генотип, кариотип, оплодотворение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404040"/>
                </a:solidFill>
                <a:latin typeface="Trebuchet MS"/>
              </a:rPr>
              <a:t>8</a:t>
            </a:r>
            <a:r>
              <a:rPr b="0" i="1" lang="ru-RU" sz="2300" spc="-1" strike="noStrike">
                <a:solidFill>
                  <a:srgbClr val="404040"/>
                </a:solidFill>
                <a:latin typeface="Trebuchet MS"/>
              </a:rPr>
              <a:t>) Плацента, пупочный канатик, околоплодные воды, овогенез</a:t>
            </a:r>
            <a:r>
              <a:rPr b="0" i="1" lang="ru-RU" sz="2300" spc="-1" strike="noStrike">
                <a:solidFill>
                  <a:srgbClr val="404040"/>
                </a:solidFill>
                <a:latin typeface="Arial"/>
              </a:rPr>
              <a:t>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404040"/>
                </a:solidFill>
                <a:latin typeface="Trebuchet MS"/>
              </a:rPr>
              <a:t>9)</a:t>
            </a:r>
            <a:r>
              <a:rPr b="0" i="1" lang="ru-RU" sz="2300" spc="-1" strike="noStrike">
                <a:solidFill>
                  <a:srgbClr val="404040"/>
                </a:solidFill>
                <a:latin typeface="Arial"/>
              </a:rPr>
              <a:t>Новорожденный период, первое детство, зрелость, старость, эмбрион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404040"/>
                </a:solidFill>
                <a:latin typeface="Arial"/>
              </a:rPr>
              <a:t>10) Овогенез, сперматогенез, онтогенез, гаметогенез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1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24000" y="433440"/>
            <a:ext cx="842472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799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) Я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ичники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Trebuchet MS"/>
              </a:rPr>
              <a:t>2</a:t>
            </a: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) С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перматогенез</a:t>
            </a: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Trebuchet MS"/>
              </a:rPr>
              <a:t>3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) </a:t>
            </a: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Э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мбрион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Trebuchet MS"/>
              </a:rPr>
              <a:t>4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) </a:t>
            </a: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Я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йцеклетка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Trebuchet MS"/>
              </a:rPr>
              <a:t>5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) </a:t>
            </a: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А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кселерация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Trebuchet MS"/>
              </a:rPr>
              <a:t>6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) хромосомы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Trebuchet MS"/>
              </a:rPr>
              <a:t>7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) </a:t>
            </a: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О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плодотворение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Trebuchet MS"/>
              </a:rPr>
              <a:t>8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) </a:t>
            </a: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О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вогенез</a:t>
            </a: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Trebuchet MS"/>
              </a:rPr>
              <a:t>9)</a:t>
            </a: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 Эмбрион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10) Овогенез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circle/>
    <p:sndAc>
      <p:stSnd>
        <p:snd r:embed="rId2" name="chimes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1"/>
          <p:cNvSpPr/>
          <p:nvPr/>
        </p:nvSpPr>
        <p:spPr>
          <a:xfrm>
            <a:off x="2114640" y="2576520"/>
            <a:ext cx="437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66"/>
                </a:solidFill>
                <a:latin typeface="Trebuchet MS"/>
              </a:rPr>
              <a:t>Заболевания, которые передаются половым пут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2"/>
          <a:stretch/>
        </p:blipFill>
        <p:spPr>
          <a:xfrm>
            <a:off x="7020000" y="620640"/>
            <a:ext cx="2016000" cy="4786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28520" y="28440"/>
            <a:ext cx="3726000" cy="2349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4"/>
          <a:stretch/>
        </p:blipFill>
        <p:spPr>
          <a:xfrm>
            <a:off x="128520" y="2863800"/>
            <a:ext cx="2014560" cy="38052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2556000" y="1008000"/>
            <a:ext cx="4248000" cy="53006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3"/>
          <p:cNvSpPr/>
          <p:nvPr/>
        </p:nvSpPr>
        <p:spPr>
          <a:xfrm>
            <a:off x="0" y="1874880"/>
            <a:ext cx="26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ДА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3564000" y="4005360"/>
            <a:ext cx="25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6588000" y="1989000"/>
            <a:ext cx="30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Нет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24000" y="115920"/>
            <a:ext cx="822960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lnSpc>
                <a:spcPct val="9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68000" indent="-468000">
              <a:lnSpc>
                <a:spcPct val="9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Franklin Gothic Medium"/>
              </a:rPr>
              <a:t>Язвы к области паха, половых органов – симптом сифилиса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68000" indent="-468000">
              <a:lnSpc>
                <a:spcPct val="9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Franklin Gothic Medium"/>
              </a:rPr>
              <a:t>Необычные уплотнения в области половых органов – симптом сифилиса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68000" indent="-468000">
              <a:lnSpc>
                <a:spcPct val="9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Franklin Gothic Medium"/>
              </a:rPr>
              <a:t>Может ли презерватив спасти от венерического заболевания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68000" indent="-468000">
              <a:lnSpc>
                <a:spcPct val="9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Franklin Gothic Medium"/>
              </a:rPr>
              <a:t>Сифилис – вирусное заболевание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68000" indent="-468000">
              <a:lnSpc>
                <a:spcPct val="9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Franklin Gothic Medium"/>
              </a:rPr>
              <a:t>Можно ли заразиться  СПИДом через бытовые предметы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68000" indent="-468000">
              <a:lnSpc>
                <a:spcPct val="9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Franklin Gothic Medium"/>
              </a:rPr>
              <a:t>Существуют ли бытовые формы сифилиса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68000" indent="-468000">
              <a:lnSpc>
                <a:spcPct val="9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Franklin Gothic Medium"/>
              </a:rPr>
              <a:t>Можно ли сегодня вылечиться от СПИДа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68000" indent="-468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circl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8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7:18:12Z</dcterms:created>
  <dc:creator>ACER</dc:creator>
  <dc:description/>
  <dc:language>en-US</dc:language>
  <cp:lastModifiedBy>User</cp:lastModifiedBy>
  <dcterms:modified xsi:type="dcterms:W3CDTF">2013-02-26T07:28:55Z</dcterms:modified>
  <cp:revision>2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1a000000000001024140</vt:lpwstr>
  </property>
</Properties>
</file>