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90A-4B13-427F-AF1E-0123F96D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EF5-F895-4334-9E86-57545DE0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3BC-0DA2-4E5D-88EB-E161BFDF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356-375D-40E3-B0C3-32776096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F3A-5636-4F9F-A0EF-B3E2FF0D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F27A-19A3-47A1-8B6D-9CF65D9F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B9F6-8D42-4F42-B7B2-F932902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A70-5251-4FFE-9AB8-B1A4DAD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B0E-6682-4E48-8536-B526BAF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0187-3DED-4FCE-AEC0-27E2ABC3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451-8E41-4972-B9B7-D532CFB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E0B-6405-4A8B-9412-AFEAE601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866-831E-40D1-AD93-1D57C3F4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1889-0532-4733-8890-5E5B9F5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ED4-E7B7-44F5-810D-4B88E53A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217-55DF-40EB-8338-981EBB89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FEE0-0AFD-493E-A003-10AC05CD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FDFD-A155-4D44-9EFE-E9BB3F8E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7BD5-FE22-4A98-866D-A145EEB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DCE7-F447-459A-A18B-F5B3D16D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5E13-C634-4F40-8672-57738931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F39B2-5182-4E77-8C8A-4F56A0E5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FFC-DEFE-4FA6-A267-96FE16C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B7048-416D-4D62-B9A7-9A1B4BA1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3407-AD47-425D-A8A7-FA89840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AD4E-D196-4F58-95DE-1CDE6B3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F25B-3F68-4B13-9F8D-4DEFE59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C623-29CB-4119-B031-1ED5A0E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4B13-EF9E-45A6-A4B8-4F8FAE19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BD7F-9581-422D-8ACA-5072FF97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CED8-5146-4D38-A2D2-AEFC610A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83DA-3432-4A8B-874F-4398CF3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817A1-1AAD-4A83-B582-59BC282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A03-A33C-4EF7-B186-F554CC21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950A-E937-44F6-9EF8-2E033F46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F0DA-7E47-455B-8529-FA9AE89E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ABE2D-77F5-419A-900C-CAF8EBD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B2E9-B527-482B-88D0-12FEBA11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B431-4F6A-4F69-A723-ACA4508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8B17-5468-4477-ACC6-CED04A0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63A0-5829-4F1F-9B2B-EEE2DA9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0094-346D-4427-8EDA-1CED6B63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61C4-FAD4-475B-AC8A-CE53968F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5CA-4F58-4C2E-B9B7-8E8DF14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CE1-2782-4CFB-BAD1-C86E3DCB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926-2597-4C4C-81CA-F744430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E5D-520D-4088-A91A-91A9934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398-6CFC-4127-82CE-6CD503A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0C03-5A81-4FCE-AE17-774C8FA428F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ED9-6493-40F9-96B8-D14CDA0DC7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FF4-EE5E-4E0E-B590-3AC6F51120C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EB8-F4A8-46EF-B0C7-0B1086E176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-182520" y="189000"/>
            <a:ext cx="973440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993600" y="2708280"/>
            <a:ext cx="710424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4560" y="70920"/>
            <a:ext cx="9109080" cy="70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Семенники, мошонка, яички, предстательная железа, яичники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Молочные железы, шейка матки, сперматогенез, ма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Акросома, хвост, головка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Тестостерон, эстродиол, прогестерон, яйцеклетка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Любовь, брак, акселерация, семья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Увеличение молочных желез, усиление обмена веществ, расширение костей таза, хромосомы, токсикоз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Гены, хромосомы, генотип, кариотип, оплодотворение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2300" spc="-1" strike="noStrike">
                <a:solidFill>
                  <a:srgbClr val="404040"/>
                </a:solidFill>
                <a:latin typeface="Trebuchet MS"/>
              </a:rPr>
              <a:t>) Плацента, пупочный канатик, околоплодные воды, овогенез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Новорожденный период, первое детство, зрелость, старость, эмбрион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75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Arial"/>
              </a:rPr>
              <a:t>10) Овогенез, сперматогенез, онтогенез, гаметогенез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43344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ичники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) С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ермат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Э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Я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йцеклетка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5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кселерац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6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хромосомы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плодотворение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8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) 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404040"/>
                </a:solidFill>
                <a:latin typeface="Trebuchet MS"/>
              </a:rPr>
              <a:t>вогенез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Trebuchet MS"/>
              </a:rPr>
              <a:t>9)</a:t>
            </a: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 Эмбрион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Arial"/>
              </a:rPr>
              <a:t>10) Овогенез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  <p:sndAc>
      <p:stSnd>
        <p:snd r:embed="rId2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1"/>
          <p:cNvSpPr/>
          <p:nvPr/>
        </p:nvSpPr>
        <p:spPr>
          <a:xfrm>
            <a:off x="2114640" y="2576520"/>
            <a:ext cx="43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66"/>
                </a:solidFill>
                <a:latin typeface="Trebuchet MS"/>
              </a:rPr>
              <a:t>Заболевания, которые передаются половым пу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2016000" cy="4786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28520" y="28440"/>
            <a:ext cx="3726000" cy="2349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tretch/>
        </p:blipFill>
        <p:spPr>
          <a:xfrm>
            <a:off x="128520" y="2863800"/>
            <a:ext cx="2014560" cy="3805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2556000" y="1008000"/>
            <a:ext cx="4248000" cy="5300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0" y="187488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Д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3564000" y="400536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588000" y="1989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Нет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40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Язвы к области паха,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Необычные уплотнения в области половых органов – симптом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ет ли презерватив спасти от венерического заболевания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ифилис – вирусное заболевание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заразиться  СПИДом через бытовые предметы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Существуют ли бытовые формы сифилис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Franklin Gothic Medium"/>
              </a:rPr>
              <a:t>Можно ли сегодня вылечиться от СПИДа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68000" indent="-46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18:12Z</dcterms:created>
  <dc:creator>ACER</dc:creator>
  <dc:description/>
  <dc:language>en-US</dc:language>
  <cp:lastModifiedBy>User</cp:lastModifiedBy>
  <dcterms:modified xsi:type="dcterms:W3CDTF">2013-02-26T07:28:55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1a000000000001024140</vt:lpwstr>
  </property>
</Properties>
</file>