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27E-9280-4BC3-A1B4-9D1F271F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BE4-1F9D-4395-AFA6-D6BF6AF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D1E-2EC2-4BBC-AE02-841CDC52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D05-CBF4-4E14-9287-777A9374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85C-2A21-426E-9A5C-D72CE571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4D73-3271-4948-ADF8-3C836C3D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249D-A6D3-4DF6-83E8-C32C88F6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B4A5-3929-4860-BB66-F67A311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08F1-DD74-4A98-A3EE-A11C44C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901E-0E04-48A7-8B68-E397EDD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6C06-98D0-4A1F-8BBD-FDA391B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CD8-2387-47FB-8338-5A5BACB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CB1-F796-476C-AA7E-7CCE658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B3BC-353D-457B-8D41-EA66D43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B1E2-01D9-46E4-B9EF-3163348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87C7-9527-484D-979D-4480FA25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F51C-59AC-4C70-9D95-4B4E51B5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9DEB-5E27-4F7B-A8AA-BEE28721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C50B-2D14-463F-9928-1DB3ED0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D970-66F9-44D8-8012-A5BEF495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02E2-F60E-466F-B01E-21E4C86C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CA79-AFB4-415D-B830-32C605C9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669-4364-4060-894E-3DC36CE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AD7B-8562-469A-A941-FA5414A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0342-577F-47BE-BC7C-CCCB739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871E-1FC4-426B-B5C0-25A54DF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31A3-DFF2-44E5-BC94-025F78F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03F3-330B-45CB-B001-5E494C2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C2E2-B8D2-4805-8294-38DFAAD6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A5D4-5FDD-4737-AA68-761D264B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EF64-3DAE-4988-94A2-09AF9CE5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1126-45C3-4D0B-8C9D-93A07D50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0027-D667-4576-8C8F-FB709B72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032-360C-44FD-B58D-AD24638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0804-35A6-4364-B679-35B7679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600B-9B43-48FE-8C98-6F551973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0041-C657-4782-96E6-6D5E8019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5DF0-3E51-463E-AF26-4077DD75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37FA-880D-491E-AF59-21482C0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8150-480E-47A8-99E9-FC3A82C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20FD-874E-4C11-AE38-90BC710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6465-7376-446F-8B07-9E93E6D0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CA47-D69D-472D-A177-8E454F1C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C6D-5CD2-4027-A7F0-F58A3CB5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70D-E07B-4116-B23C-21BF2AEA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F07-6381-46BC-B591-3600AEB5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845-2A7E-49A5-9688-E9E7A01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06A-9AE1-4964-A7E3-F9C465DF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57EB-ECFB-481E-B981-4A4E9F169B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0707-B8AD-4F03-8B3F-061CC90DE0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A5CF-9F01-4B23-8262-FD4F88D22A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0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E76A-B9BB-472D-8398-7F7E1D4914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762120" y="1523880"/>
            <a:ext cx="795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оловое размножение.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Строение и разнообразие цветков.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Лабораторная работа № 9 «Строение и разнообразие цветков.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цветок2"/>
          <p:cNvPicPr/>
          <p:nvPr/>
        </p:nvPicPr>
        <p:blipFill>
          <a:blip r:embed="rId1"/>
          <a:stretch/>
        </p:blipFill>
        <p:spPr>
          <a:xfrm>
            <a:off x="5029200" y="1447920"/>
            <a:ext cx="3641760" cy="4952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цветок9"/>
          <p:cNvPicPr/>
          <p:nvPr/>
        </p:nvPicPr>
        <p:blipFill>
          <a:blip r:embed="rId2"/>
          <a:stretch/>
        </p:blipFill>
        <p:spPr>
          <a:xfrm>
            <a:off x="380880" y="380880"/>
            <a:ext cx="388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цветок вишня"/>
          <p:cNvPicPr/>
          <p:nvPr/>
        </p:nvPicPr>
        <p:blipFill>
          <a:blip r:embed="rId1"/>
          <a:srcRect l="0" t="0" r="0" b="-339"/>
          <a:stretch/>
        </p:blipFill>
        <p:spPr>
          <a:xfrm>
            <a:off x="685800" y="22860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цветок вишня001"/>
          <p:cNvPicPr/>
          <p:nvPr/>
        </p:nvPicPr>
        <p:blipFill>
          <a:blip r:embed="rId2"/>
          <a:srcRect l="0" t="0" r="0" b="-99"/>
          <a:stretch/>
        </p:blipFill>
        <p:spPr>
          <a:xfrm>
            <a:off x="3581280" y="2579760"/>
            <a:ext cx="5410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ч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л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8" name="Picture 4" descr="цветок вишня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цветник двойной , простой( венчиковый , чашечковый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ик (сростно-,свободнолепест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ечка (сростно-,свободнолист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цветок вишня004"/>
          <p:cNvPicPr/>
          <p:nvPr/>
        </p:nvPicPr>
        <p:blipFill>
          <a:blip r:embed="rId1"/>
          <a:srcRect l="0" t="0" r="0" b="-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х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ылени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→ оплодотворение → плод (семе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7" name="Picture 4" descr="цветок вишня005"/>
          <p:cNvPicPr/>
          <p:nvPr/>
        </p:nvPicPr>
        <p:blipFill>
          <a:blip r:embed="rId1"/>
          <a:stretch/>
        </p:blipFill>
        <p:spPr>
          <a:xfrm>
            <a:off x="1295280" y="3581280"/>
            <a:ext cx="7162920" cy="2913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цветок вишня006"/>
          <p:cNvPicPr/>
          <p:nvPr/>
        </p:nvPicPr>
        <p:blipFill>
          <a:blip r:embed="rId2"/>
          <a:stretch/>
        </p:blipFill>
        <p:spPr>
          <a:xfrm>
            <a:off x="1066680" y="304920"/>
            <a:ext cx="7620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1" name="Picture 4" descr="цветок вишня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4" descr="цветок вишня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сновное задание урока: изучить строение цветка и выяснить его биологическое значени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метрия цветк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59984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номорфные (вишня, яблон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гоморфные (горох, фасол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имметричные (каштан , гладиолу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 rot="1530000">
            <a:off x="2438280" y="33526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 rot="12296400">
            <a:off x="4191120" y="419076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 rot="4566600">
            <a:off x="3047760" y="27432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 rot="19990800">
            <a:off x="2437920" y="42670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Oval 13"/>
          <p:cNvSpPr/>
          <p:nvPr/>
        </p:nvSpPr>
        <p:spPr>
          <a:xfrm rot="4566600">
            <a:off x="3504960" y="45720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Oval 14"/>
          <p:cNvSpPr/>
          <p:nvPr/>
        </p:nvSpPr>
        <p:spPr>
          <a:xfrm rot="19776000">
            <a:off x="4267080" y="312372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4191120" y="3733920"/>
            <a:ext cx="60948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19504800">
            <a:off x="2591280" y="41907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15666000">
            <a:off x="3955680" y="488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 rot="1557000">
            <a:off x="4876200" y="4419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 rot="19807800">
            <a:off x="4724640" y="3123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СИММЕТР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 rot="4554000">
            <a:off x="3268080" y="274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стик тычин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 rot="1398600">
            <a:off x="2437920" y="3505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множение-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WordArt 22"/>
          <p:cNvSpPr txBox="1"/>
          <p:nvPr/>
        </p:nvSpPr>
        <p:spPr>
          <a:xfrm>
            <a:off x="1219320" y="38088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«Ромаш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суждение вопроса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биологическое значение цвет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раграф №27,на вопросы 1-7 с.115 ответить у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дготовить интересные факты о цве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327800" cy="992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0033"/>
                </a:solidFill>
                <a:latin typeface="Times New Roman"/>
              </a:rPr>
              <a:t>Цветок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03480" y="3809520"/>
            <a:ext cx="25905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оизмененный пр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4"/>
          <p:cNvCxnSpPr/>
          <p:nvPr/>
        </p:nvCxnSpPr>
        <p:spPr>
          <a:xfrm>
            <a:off x="4266720" y="2362320"/>
            <a:ext cx="3048840" cy="762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5" name="Прямая со стрелкой 7"/>
          <p:cNvCxnSpPr/>
          <p:nvPr/>
        </p:nvCxnSpPr>
        <p:spPr>
          <a:xfrm flipH="1">
            <a:off x="2361600" y="2361240"/>
            <a:ext cx="1905480" cy="10674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6" name="Прямая со стрелкой 10"/>
          <p:cNvCxnSpPr/>
          <p:nvPr/>
        </p:nvCxnSpPr>
        <p:spPr>
          <a:xfrm>
            <a:off x="4267080" y="2362320"/>
            <a:ext cx="76680" cy="838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>
            <a:off x="4266720" y="2362320"/>
            <a:ext cx="2134440" cy="1296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sp>
        <p:nvSpPr>
          <p:cNvPr id="258" name="Подзаголовок 17"/>
          <p:cNvSpPr/>
          <p:nvPr/>
        </p:nvSpPr>
        <p:spPr>
          <a:xfrm>
            <a:off x="3581280" y="3809880"/>
            <a:ext cx="175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2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троение цвет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Подзаголовок 17"/>
          <p:cNvSpPr/>
          <p:nvPr/>
        </p:nvSpPr>
        <p:spPr>
          <a:xfrm>
            <a:off x="5486400" y="3809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3 Классификация цветков (растений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Подзаголовок 17"/>
          <p:cNvSpPr/>
          <p:nvPr/>
        </p:nvSpPr>
        <p:spPr>
          <a:xfrm>
            <a:off x="7238880" y="32004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4 Симметри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Подзаголовок 17"/>
          <p:cNvSpPr/>
          <p:nvPr/>
        </p:nvSpPr>
        <p:spPr>
          <a:xfrm>
            <a:off x="0" y="5562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Во время урока при изучении новой темы учащиеся продолжают работу со словарём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0" descr="цветок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цветок1"/>
          <p:cNvPicPr/>
          <p:nvPr/>
        </p:nvPicPr>
        <p:blipFill>
          <a:blip r:embed="rId2"/>
          <a:stretch/>
        </p:blipFill>
        <p:spPr>
          <a:xfrm>
            <a:off x="4724280" y="1295280"/>
            <a:ext cx="3724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цветок10"/>
          <p:cNvPicPr/>
          <p:nvPr/>
        </p:nvPicPr>
        <p:blipFill>
          <a:blip r:embed="rId1"/>
          <a:stretch/>
        </p:blipFill>
        <p:spPr>
          <a:xfrm>
            <a:off x="4572000" y="762120"/>
            <a:ext cx="411156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цветок12"/>
          <p:cNvPicPr/>
          <p:nvPr/>
        </p:nvPicPr>
        <p:blipFill>
          <a:blip r:embed="rId2"/>
          <a:stretch/>
        </p:blipFill>
        <p:spPr>
          <a:xfrm>
            <a:off x="457200" y="304920"/>
            <a:ext cx="400680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цветок14"/>
          <p:cNvPicPr/>
          <p:nvPr/>
        </p:nvPicPr>
        <p:blipFill>
          <a:blip r:embed="rId1"/>
          <a:stretch/>
        </p:blipFill>
        <p:spPr>
          <a:xfrm>
            <a:off x="4572000" y="990720"/>
            <a:ext cx="4232160" cy="5424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цветок15"/>
          <p:cNvPicPr/>
          <p:nvPr/>
        </p:nvPicPr>
        <p:blipFill>
          <a:blip r:embed="rId2"/>
          <a:stretch/>
        </p:blipFill>
        <p:spPr>
          <a:xfrm>
            <a:off x="380880" y="304920"/>
            <a:ext cx="4011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цветок3"/>
          <p:cNvPicPr/>
          <p:nvPr/>
        </p:nvPicPr>
        <p:blipFill>
          <a:blip r:embed="rId1"/>
          <a:stretch/>
        </p:blipFill>
        <p:spPr>
          <a:xfrm>
            <a:off x="457200" y="304920"/>
            <a:ext cx="4016520" cy="551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цветок4"/>
          <p:cNvPicPr/>
          <p:nvPr/>
        </p:nvPicPr>
        <p:blipFill>
          <a:blip r:embed="rId2"/>
          <a:stretch/>
        </p:blipFill>
        <p:spPr>
          <a:xfrm>
            <a:off x="4572000" y="1066680"/>
            <a:ext cx="40165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цветок5"/>
          <p:cNvPicPr/>
          <p:nvPr/>
        </p:nvPicPr>
        <p:blipFill>
          <a:blip r:embed="rId1"/>
          <a:stretch/>
        </p:blipFill>
        <p:spPr>
          <a:xfrm>
            <a:off x="4800600" y="990720"/>
            <a:ext cx="4071960" cy="5595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цветок6"/>
          <p:cNvPicPr/>
          <p:nvPr/>
        </p:nvPicPr>
        <p:blipFill>
          <a:blip r:embed="rId2"/>
          <a:stretch/>
        </p:blipFill>
        <p:spPr>
          <a:xfrm>
            <a:off x="533520" y="304920"/>
            <a:ext cx="4022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цветок7"/>
          <p:cNvPicPr/>
          <p:nvPr/>
        </p:nvPicPr>
        <p:blipFill>
          <a:blip r:embed="rId1"/>
          <a:stretch/>
        </p:blipFill>
        <p:spPr>
          <a:xfrm>
            <a:off x="4724280" y="1219320"/>
            <a:ext cx="4029120" cy="5257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цветок8"/>
          <p:cNvPicPr/>
          <p:nvPr/>
        </p:nvPicPr>
        <p:blipFill>
          <a:blip r:embed="rId2"/>
          <a:stretch/>
        </p:blipFill>
        <p:spPr>
          <a:xfrm>
            <a:off x="533520" y="609480"/>
            <a:ext cx="390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</cp:lastModifiedBy>
  <dcterms:modified xsi:type="dcterms:W3CDTF">2009-10-26T16:01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4140</vt:lpwstr>
  </property>
  <property fmtid="{D5CDD505-2E9C-101B-9397-08002B2CF9AE}" pid="3" name="Version">
    <vt:r8>1</vt:r8>
  </property>
</Properties>
</file>