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C6EF-C576-40A0-B042-6AF60ADE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12C1-8816-48DF-BDAF-675EF8EF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1095-F2B2-4C3C-BAC0-0A94C111F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9B2-5A65-4AC1-AA72-7F1450DBF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C588-329C-4A30-9B7D-44BC2F7D0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B876-E55E-4F44-8911-6AA8974A0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74467-08D5-46C2-96D7-CFB22256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0A58-F505-46BB-AD8B-CEB4CAB5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75F8-A722-4E95-9622-A7F3AFC5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B2560-6418-4697-B508-416C8459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649B-61FF-41F2-95CC-33B5A2D1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6A15-6220-4E6A-A452-4AD7D9EB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67A4-7949-436A-B864-5DA93AD7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3B90-F00A-438E-86DF-A7DB990B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32B9-7E86-4BA6-AE25-FB649A8B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68B01-2321-4B03-9E82-9FDEA9F2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B55DC-9F35-4937-8405-1FA53DEB5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E1230-FDD3-415E-B742-CECD72A0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9AB8-3ECC-482C-BCD7-1D405FA60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E58AE-11EA-47FA-9A9F-EBD4120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C5231-C344-4C7B-83FD-7C04D70AA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21D95-3644-4C16-B0C9-D30CF79E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0A1-96B2-4C51-A555-A336C08A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6CF5-8807-47D9-8882-73EB9FCF0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13FB3-7B33-40D9-9BB3-E0FF74A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76743-CCC8-4855-9A8B-265DA7402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6F39-3DD1-437C-873C-24859B9C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E256-4E28-4B33-9137-563312F9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B1C6-D403-479F-82F2-7C7361E94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B4B04-290F-4744-BDDB-BC8DEA495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B3AC-69F0-43E5-BC22-F28AC248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98131-33FE-4FCE-96E1-5AF6B923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1B066-FDB6-4EE5-AF28-E34ECC73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12A-401F-4096-B8E1-B6314912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EFBA-A3E0-4B4C-8658-20FBFCF3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ADE66-4ABD-4BF8-9C4E-D0E5352C4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178B5-F5F9-47CF-BB07-20ED054C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B2AE4-6E91-446F-9A1A-AB258B54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F75B3-F797-444C-8332-A439DA37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3CB21-4EDD-40F1-8DCE-DF0312A0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66FFF-FA71-49CE-A1E8-63A39462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A8399-E996-48EE-832D-FAF4010AC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AF986-B5F5-4CE8-9824-C8DD9989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8348-8C87-40D0-88CE-F5477828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F48-87F4-41DA-B3E7-68C1890F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28AD-ABD0-48B1-A330-6F188BAE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DC66-7771-4303-9738-90499862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980-3C5E-43A1-AA34-235885DB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91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65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65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9A92-B925-49AF-9010-1C2D3A9655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97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6959-C27D-4E0A-87B4-FF1C42617F1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5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5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5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5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7773-D4A9-4DC0-ABC8-637D6FAFC60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20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20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F002-3557-4F1F-90B9-B14872186A3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4"/>
          <p:cNvSpPr/>
          <p:nvPr/>
        </p:nvSpPr>
        <p:spPr>
          <a:xfrm>
            <a:off x="762120" y="1523880"/>
            <a:ext cx="7950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Половое размножение.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Строение и разнообразие цветков. </a:t>
            </a:r>
            <a:br>
              <a:rPr sz="4400"/>
            </a:br>
            <a:r>
              <a:rPr b="1" lang="ru-RU" sz="4400" spc="-1" strike="noStrike">
                <a:solidFill>
                  <a:srgbClr val="330033"/>
                </a:solidFill>
                <a:latin typeface="Arial"/>
              </a:rPr>
              <a:t>Лабораторная работа № 9 «Строение и разнообразие цветков.»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1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цветок2"/>
          <p:cNvPicPr/>
          <p:nvPr/>
        </p:nvPicPr>
        <p:blipFill>
          <a:blip r:embed="rId1"/>
          <a:stretch/>
        </p:blipFill>
        <p:spPr>
          <a:xfrm>
            <a:off x="5029200" y="1447920"/>
            <a:ext cx="3641760" cy="49528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цветок9"/>
          <p:cNvPicPr/>
          <p:nvPr/>
        </p:nvPicPr>
        <p:blipFill>
          <a:blip r:embed="rId2"/>
          <a:stretch/>
        </p:blipFill>
        <p:spPr>
          <a:xfrm>
            <a:off x="380880" y="380880"/>
            <a:ext cx="3881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" descr="цветок вишня"/>
          <p:cNvPicPr/>
          <p:nvPr/>
        </p:nvPicPr>
        <p:blipFill>
          <a:blip r:embed="rId1"/>
          <a:srcRect l="0" t="0" r="0" b="-339"/>
          <a:stretch/>
        </p:blipFill>
        <p:spPr>
          <a:xfrm>
            <a:off x="685800" y="228600"/>
            <a:ext cx="2830680" cy="3962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цветок вишня001"/>
          <p:cNvPicPr/>
          <p:nvPr/>
        </p:nvPicPr>
        <p:blipFill>
          <a:blip r:embed="rId2"/>
          <a:srcRect l="0" t="0" r="0" b="-99"/>
          <a:stretch/>
        </p:blipFill>
        <p:spPr>
          <a:xfrm>
            <a:off x="3581280" y="2579760"/>
            <a:ext cx="541044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4" dur="5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5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ст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ыч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пест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аше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ло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нож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88" name="Picture 4" descr="цветок вишня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ловар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914400" y="15998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олоцветник двойной , простой( венчиковый , чашечковый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нчик (сростно-,свободнолепестн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шечка (сростно-,свободнолист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4" descr="цветок вишня004"/>
          <p:cNvPicPr/>
          <p:nvPr/>
        </p:nvPicPr>
        <p:blipFill>
          <a:blip r:embed="rId1"/>
          <a:srcRect l="0" t="0" r="0" b="-4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хем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ыление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→ оплодотворение → плод (семен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297" name="Picture 4" descr="цветок вишня005"/>
          <p:cNvPicPr/>
          <p:nvPr/>
        </p:nvPicPr>
        <p:blipFill>
          <a:blip r:embed="rId1"/>
          <a:stretch/>
        </p:blipFill>
        <p:spPr>
          <a:xfrm>
            <a:off x="1295280" y="3581280"/>
            <a:ext cx="7162920" cy="2913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цветок вишня006"/>
          <p:cNvPicPr/>
          <p:nvPr/>
        </p:nvPicPr>
        <p:blipFill>
          <a:blip r:embed="rId2"/>
          <a:stretch/>
        </p:blipFill>
        <p:spPr>
          <a:xfrm>
            <a:off x="1066680" y="304920"/>
            <a:ext cx="76201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1" name="Picture 4" descr="цветок вишня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04" name="Picture 4" descr="цветок вишня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040" y="1980720"/>
            <a:ext cx="792468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0033"/>
                </a:solidFill>
                <a:latin typeface="Times New Roman"/>
              </a:rPr>
              <a:t>Основное задание урока: изучить строение цветка и выяснить его биологическое значение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имметрия цветков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914400" y="1599840"/>
            <a:ext cx="7772400" cy="15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тиноморфные (вишня, яблон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гоморфные (горох, фасоль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симметричные (каштан , гладиолус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7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Oval 6"/>
          <p:cNvSpPr/>
          <p:nvPr/>
        </p:nvSpPr>
        <p:spPr>
          <a:xfrm rot="1530000">
            <a:off x="2438280" y="3352680"/>
            <a:ext cx="2286000" cy="6098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Oval 9"/>
          <p:cNvSpPr/>
          <p:nvPr/>
        </p:nvSpPr>
        <p:spPr>
          <a:xfrm rot="12296400">
            <a:off x="4191120" y="4190760"/>
            <a:ext cx="2286000" cy="6094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Oval 11"/>
          <p:cNvSpPr/>
          <p:nvPr/>
        </p:nvSpPr>
        <p:spPr>
          <a:xfrm rot="4566600">
            <a:off x="3047760" y="2743200"/>
            <a:ext cx="2286000" cy="6094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Oval 12"/>
          <p:cNvSpPr/>
          <p:nvPr/>
        </p:nvSpPr>
        <p:spPr>
          <a:xfrm rot="19990800">
            <a:off x="2437920" y="4267080"/>
            <a:ext cx="2286000" cy="6098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Oval 13"/>
          <p:cNvSpPr/>
          <p:nvPr/>
        </p:nvSpPr>
        <p:spPr>
          <a:xfrm rot="4566600">
            <a:off x="3504960" y="4572000"/>
            <a:ext cx="2286000" cy="60948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Oval 14"/>
          <p:cNvSpPr/>
          <p:nvPr/>
        </p:nvSpPr>
        <p:spPr>
          <a:xfrm rot="19776000">
            <a:off x="4267080" y="3123720"/>
            <a:ext cx="2286000" cy="60984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Oval 4"/>
          <p:cNvSpPr/>
          <p:nvPr/>
        </p:nvSpPr>
        <p:spPr>
          <a:xfrm>
            <a:off x="4191120" y="3733920"/>
            <a:ext cx="609480" cy="685800"/>
          </a:xfrm>
          <a:prstGeom prst="ellipse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 rot="19504800">
            <a:off x="2591280" y="419076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ЦВЕТО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Text Box 17"/>
          <p:cNvSpPr/>
          <p:nvPr/>
        </p:nvSpPr>
        <p:spPr>
          <a:xfrm rot="15666000">
            <a:off x="3955680" y="48823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ВЕНЧИ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Text Box 18"/>
          <p:cNvSpPr/>
          <p:nvPr/>
        </p:nvSpPr>
        <p:spPr>
          <a:xfrm rot="1557000">
            <a:off x="4876200" y="44193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ЧАШЕЧ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Text Box 19"/>
          <p:cNvSpPr/>
          <p:nvPr/>
        </p:nvSpPr>
        <p:spPr>
          <a:xfrm rot="19807800">
            <a:off x="4724640" y="3123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00"/>
                </a:solidFill>
                <a:latin typeface="Arial"/>
              </a:rPr>
              <a:t>СИММЕТРИЯ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Text Box 20"/>
          <p:cNvSpPr/>
          <p:nvPr/>
        </p:nvSpPr>
        <p:spPr>
          <a:xfrm rot="4554000">
            <a:off x="3268080" y="274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пестик тычинка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Text Box 21"/>
          <p:cNvSpPr/>
          <p:nvPr/>
        </p:nvSpPr>
        <p:spPr>
          <a:xfrm rot="1398600">
            <a:off x="2437920" y="350532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Arial"/>
              </a:rPr>
              <a:t>Размножение-…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WordArt 22"/>
          <p:cNvSpPr txBox="1"/>
          <p:nvPr/>
        </p:nvSpPr>
        <p:spPr>
          <a:xfrm>
            <a:off x="1219320" y="380880"/>
            <a:ext cx="7086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гра «Ромашка»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бсуждение вопроса :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43256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ем биологическое значение цветков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1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3" dur="8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Параграф №27,на вопросы 1-7 с.115 ответить ус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дготовить интересные факты о цвет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23880"/>
            <a:ext cx="7327800" cy="992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300" spc="-1" strike="noStrike">
                <a:solidFill>
                  <a:srgbClr val="330033"/>
                </a:solidFill>
                <a:latin typeface="Times New Roman"/>
              </a:rPr>
              <a:t>Цветок</a:t>
            </a:r>
            <a:endParaRPr b="0" lang="en-US" sz="63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03480" y="3809520"/>
            <a:ext cx="2590560" cy="8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доизмененный пробе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Прямая со стрелкой 4"/>
          <p:cNvCxnSpPr/>
          <p:nvPr/>
        </p:nvCxnSpPr>
        <p:spPr>
          <a:xfrm>
            <a:off x="4266720" y="2362320"/>
            <a:ext cx="3048840" cy="76248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55" name="Прямая со стрелкой 7"/>
          <p:cNvCxnSpPr/>
          <p:nvPr/>
        </p:nvCxnSpPr>
        <p:spPr>
          <a:xfrm flipH="1">
            <a:off x="2361600" y="2361240"/>
            <a:ext cx="1905480" cy="10674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56" name="Прямая со стрелкой 10"/>
          <p:cNvCxnSpPr/>
          <p:nvPr/>
        </p:nvCxnSpPr>
        <p:spPr>
          <a:xfrm>
            <a:off x="4267080" y="2362320"/>
            <a:ext cx="76680" cy="8388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cxnSp>
        <p:nvCxnSpPr>
          <p:cNvPr id="257" name="Прямая со стрелкой 15"/>
          <p:cNvCxnSpPr/>
          <p:nvPr/>
        </p:nvCxnSpPr>
        <p:spPr>
          <a:xfrm>
            <a:off x="4266720" y="2362320"/>
            <a:ext cx="2134440" cy="1296000"/>
          </a:xfrm>
          <a:prstGeom prst="straightConnector1">
            <a:avLst/>
          </a:prstGeom>
          <a:ln w="9360">
            <a:solidFill>
              <a:srgbClr val="c9c994"/>
            </a:solidFill>
            <a:miter/>
            <a:tailEnd len="med" type="arrow" w="med"/>
          </a:ln>
        </p:spPr>
      </p:cxnSp>
      <p:sp>
        <p:nvSpPr>
          <p:cNvPr id="258" name="Подзаголовок 17"/>
          <p:cNvSpPr/>
          <p:nvPr/>
        </p:nvSpPr>
        <p:spPr>
          <a:xfrm>
            <a:off x="3581280" y="3809880"/>
            <a:ext cx="1752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2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Строение цветка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Подзаголовок 17"/>
          <p:cNvSpPr/>
          <p:nvPr/>
        </p:nvSpPr>
        <p:spPr>
          <a:xfrm>
            <a:off x="5486400" y="3809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3 Классификация цветков (растений)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Подзаголовок 17"/>
          <p:cNvSpPr/>
          <p:nvPr/>
        </p:nvSpPr>
        <p:spPr>
          <a:xfrm>
            <a:off x="7238880" y="3200400"/>
            <a:ext cx="1524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4 Симметрия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Подзаголовок 17"/>
          <p:cNvSpPr/>
          <p:nvPr/>
        </p:nvSpPr>
        <p:spPr>
          <a:xfrm>
            <a:off x="0" y="556272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f1311"/>
                </a:solidFill>
                <a:latin typeface="Arial"/>
              </a:rPr>
              <a:t>Во время урока при изучении новой темы учащиеся продолжают работу со словарём</a:t>
            </a:r>
            <a:r>
              <a:rPr b="0" lang="ru-RU" sz="1600" spc="-1" strike="noStrike">
                <a:solidFill>
                  <a:srgbClr val="2f1311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5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0" descr="цветок"/>
          <p:cNvPicPr/>
          <p:nvPr/>
        </p:nvPicPr>
        <p:blipFill>
          <a:blip r:embed="rId1"/>
          <a:stretch/>
        </p:blipFill>
        <p:spPr>
          <a:xfrm>
            <a:off x="533520" y="304920"/>
            <a:ext cx="3809880" cy="518148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1" descr="цветок1"/>
          <p:cNvPicPr/>
          <p:nvPr/>
        </p:nvPicPr>
        <p:blipFill>
          <a:blip r:embed="rId2"/>
          <a:stretch/>
        </p:blipFill>
        <p:spPr>
          <a:xfrm>
            <a:off x="4724280" y="1295280"/>
            <a:ext cx="3724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5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цветок10"/>
          <p:cNvPicPr/>
          <p:nvPr/>
        </p:nvPicPr>
        <p:blipFill>
          <a:blip r:embed="rId1"/>
          <a:stretch/>
        </p:blipFill>
        <p:spPr>
          <a:xfrm>
            <a:off x="4572000" y="762120"/>
            <a:ext cx="4111560" cy="5715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цветок12"/>
          <p:cNvPicPr/>
          <p:nvPr/>
        </p:nvPicPr>
        <p:blipFill>
          <a:blip r:embed="rId2"/>
          <a:stretch/>
        </p:blipFill>
        <p:spPr>
          <a:xfrm>
            <a:off x="457200" y="304920"/>
            <a:ext cx="400680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цветок14"/>
          <p:cNvPicPr/>
          <p:nvPr/>
        </p:nvPicPr>
        <p:blipFill>
          <a:blip r:embed="rId1"/>
          <a:stretch/>
        </p:blipFill>
        <p:spPr>
          <a:xfrm>
            <a:off x="4572000" y="990720"/>
            <a:ext cx="4232160" cy="5424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цветок15"/>
          <p:cNvPicPr/>
          <p:nvPr/>
        </p:nvPicPr>
        <p:blipFill>
          <a:blip r:embed="rId2"/>
          <a:stretch/>
        </p:blipFill>
        <p:spPr>
          <a:xfrm>
            <a:off x="380880" y="304920"/>
            <a:ext cx="40118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5" descr="цветок3"/>
          <p:cNvPicPr/>
          <p:nvPr/>
        </p:nvPicPr>
        <p:blipFill>
          <a:blip r:embed="rId1"/>
          <a:stretch/>
        </p:blipFill>
        <p:spPr>
          <a:xfrm>
            <a:off x="457200" y="304920"/>
            <a:ext cx="4016520" cy="551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цветок4"/>
          <p:cNvPicPr/>
          <p:nvPr/>
        </p:nvPicPr>
        <p:blipFill>
          <a:blip r:embed="rId2"/>
          <a:stretch/>
        </p:blipFill>
        <p:spPr>
          <a:xfrm>
            <a:off x="4572000" y="1066680"/>
            <a:ext cx="401652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4" dur="5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цветок5"/>
          <p:cNvPicPr/>
          <p:nvPr/>
        </p:nvPicPr>
        <p:blipFill>
          <a:blip r:embed="rId1"/>
          <a:stretch/>
        </p:blipFill>
        <p:spPr>
          <a:xfrm>
            <a:off x="4800600" y="990720"/>
            <a:ext cx="4071960" cy="55958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цветок6"/>
          <p:cNvPicPr/>
          <p:nvPr/>
        </p:nvPicPr>
        <p:blipFill>
          <a:blip r:embed="rId2"/>
          <a:stretch/>
        </p:blipFill>
        <p:spPr>
          <a:xfrm>
            <a:off x="533520" y="304920"/>
            <a:ext cx="402264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цветок7"/>
          <p:cNvPicPr/>
          <p:nvPr/>
        </p:nvPicPr>
        <p:blipFill>
          <a:blip r:embed="rId1"/>
          <a:stretch/>
        </p:blipFill>
        <p:spPr>
          <a:xfrm>
            <a:off x="4724280" y="1219320"/>
            <a:ext cx="4029120" cy="5257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цветок8"/>
          <p:cNvPicPr/>
          <p:nvPr/>
        </p:nvPicPr>
        <p:blipFill>
          <a:blip r:embed="rId2"/>
          <a:stretch/>
        </p:blipFill>
        <p:spPr>
          <a:xfrm>
            <a:off x="533520" y="609480"/>
            <a:ext cx="39020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ma</cp:lastModifiedBy>
  <dcterms:modified xsi:type="dcterms:W3CDTF">2009-10-26T16:01:53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11000000000001024140</vt:lpwstr>
  </property>
  <property fmtid="{D5CDD505-2E9C-101B-9397-08002B2CF9AE}" pid="3" name="Version">
    <vt:r8>1</vt:r8>
  </property>
</Properties>
</file>