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0293-3ED4-4790-9210-6F8A7EEB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1EA-FC7C-43B3-91C8-2FF527B1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CF70-10EA-4D7B-9E83-9CBFADB3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155-C981-4303-88B5-DECC1D75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2CEE-948B-48AB-92B7-08C11D2F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A431-3E91-4561-98BD-0A359960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6DBC-A5B7-43A5-9085-B0F71598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9AB9-EEB2-47E1-891A-7BCC944D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AC31-A518-4627-A677-39AB45EF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7A64-0A3E-416E-9505-32E7B595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CBFA-30A4-4E0F-8086-6534EB3F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5585-D5CD-4006-B612-EB2CC812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70E4-0041-47B2-B3C2-58701583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C7BB-CD9B-42DD-AEE4-B3B286AF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B0FD-04AF-4914-994D-507ABAB7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5062-0EF0-4FC2-8488-676F0944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78FD-0457-4612-9B1E-BBED2222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BC9D5-4E09-4C86-8D6A-5A6E72E4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2B63E-D977-47DF-9181-6A4DF486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E89C8-7233-47BD-8EF5-00AB691D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50151-598A-4CBA-AEDD-57B31C21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3E292-8FBB-4CF0-8D0C-0FF6819B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9EB-2E0A-4A42-AA4F-F59A30BB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C85A5-0B55-491A-904F-C0EDFF50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03810-A09D-42C2-9B38-331BA37F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6AEC4-8485-402D-B90B-522EEF6B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0AE89-84A9-456C-BF1D-C87620CC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13C2F-986A-42EB-9447-90207541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49BB4-E9CB-4F7B-8DBE-8F774ACD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86F44-8AD2-49FB-90DC-F0DCDDFF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A4701-AED8-4885-99C4-E265705A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E3091-378F-400E-A67C-84D24A53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17035-E18D-485F-AA73-068B75D2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4C2-F3C0-4B2C-910C-AEBB5501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B8E38-A32A-4AC8-8C5C-2086E812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A481C-5537-4903-AB31-021BCD74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C447E-EB3E-49A0-9D6D-02D723B7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5055F-E9B8-4452-9BCF-4280C800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AD0AD-0A85-4962-9FF3-DCB68EF4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4C182-C204-4046-909F-0AF708CB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CB2C9-2160-4E3F-B776-857F0845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4DEE6-ADB2-4AFB-9711-8F0F89C3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DC762-FB4B-47B4-8177-B723BEF6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CAF3-AC5A-4DB4-99C0-9BA1963E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412-9738-4FCA-B68A-F34F8D05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409-9577-45E4-8610-0EC1D0B9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7C6-3461-45D9-983F-D00A3A25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A8C5-2AA3-4560-9B87-C2B9AA37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DF72-2FF7-4684-A44E-8BD0B74E5A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7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5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7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A377-5E25-4A3A-BA2A-157C0F4B806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5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5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5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607C-E4DD-4FAA-BC84-D601739D14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0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0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0A1F-6AEC-4CFE-9979-117F24D2C3A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762120" y="1523880"/>
            <a:ext cx="7950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Половое размножение.</a:t>
            </a:r>
            <a:br>
              <a:rPr sz="4400"/>
            </a:b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Строение и разнообразие цветков. </a:t>
            </a:r>
            <a:br>
              <a:rPr sz="4400"/>
            </a:b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Лабораторная работа № 9 «Строение и разнообразие цветков.»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цветок2"/>
          <p:cNvPicPr/>
          <p:nvPr/>
        </p:nvPicPr>
        <p:blipFill>
          <a:blip r:embed="rId1"/>
          <a:stretch/>
        </p:blipFill>
        <p:spPr>
          <a:xfrm>
            <a:off x="5029200" y="1447920"/>
            <a:ext cx="3641760" cy="4952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цветок9"/>
          <p:cNvPicPr/>
          <p:nvPr/>
        </p:nvPicPr>
        <p:blipFill>
          <a:blip r:embed="rId2"/>
          <a:stretch/>
        </p:blipFill>
        <p:spPr>
          <a:xfrm>
            <a:off x="380880" y="380880"/>
            <a:ext cx="388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цветок вишня"/>
          <p:cNvPicPr/>
          <p:nvPr/>
        </p:nvPicPr>
        <p:blipFill>
          <a:blip r:embed="rId1"/>
          <a:srcRect l="0" t="0" r="0" b="-339"/>
          <a:stretch/>
        </p:blipFill>
        <p:spPr>
          <a:xfrm>
            <a:off x="685800" y="228600"/>
            <a:ext cx="2830680" cy="39625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цветок вишня001"/>
          <p:cNvPicPr/>
          <p:nvPr/>
        </p:nvPicPr>
        <p:blipFill>
          <a:blip r:embed="rId2"/>
          <a:srcRect l="0" t="0" r="0" b="-99"/>
          <a:stretch/>
        </p:blipFill>
        <p:spPr>
          <a:xfrm>
            <a:off x="3581280" y="2579760"/>
            <a:ext cx="54104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5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5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ловар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т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ч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пес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ш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оло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оно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8" name="Picture 4" descr="цветок вишня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ловар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144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олоцветник двойной , простой( венчиковый , чашечковый,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нчик (сростно-,свободнолепест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шечка (сростно-,свободнолист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цветок вишня004"/>
          <p:cNvPicPr/>
          <p:nvPr/>
        </p:nvPicPr>
        <p:blipFill>
          <a:blip r:embed="rId1"/>
          <a:srcRect l="0" t="0" r="0" b="-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хем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ыление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→ оплодотворение → плод (семен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7" name="Picture 4" descr="цветок вишня005"/>
          <p:cNvPicPr/>
          <p:nvPr/>
        </p:nvPicPr>
        <p:blipFill>
          <a:blip r:embed="rId1"/>
          <a:stretch/>
        </p:blipFill>
        <p:spPr>
          <a:xfrm>
            <a:off x="1295280" y="3581280"/>
            <a:ext cx="7162920" cy="29131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цветок вишня006"/>
          <p:cNvPicPr/>
          <p:nvPr/>
        </p:nvPicPr>
        <p:blipFill>
          <a:blip r:embed="rId2"/>
          <a:stretch/>
        </p:blipFill>
        <p:spPr>
          <a:xfrm>
            <a:off x="1066680" y="304920"/>
            <a:ext cx="76201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1" name="Picture 4" descr="цветок вишня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4" name="Picture 4" descr="цветок вишня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198072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Основное задание урока: изучить строение цветка и выяснить его биологическое значение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мметрия цветков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914400" y="1599840"/>
            <a:ext cx="7772400" cy="15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номорфные (вишня, яблоня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гоморфные (горох, фасоль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имметричные (каштан , гладиолус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Oval 6"/>
          <p:cNvSpPr/>
          <p:nvPr/>
        </p:nvSpPr>
        <p:spPr>
          <a:xfrm rot="1530000">
            <a:off x="2438280" y="3352680"/>
            <a:ext cx="2286000" cy="6098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Oval 9"/>
          <p:cNvSpPr/>
          <p:nvPr/>
        </p:nvSpPr>
        <p:spPr>
          <a:xfrm rot="12296400">
            <a:off x="4191120" y="4190760"/>
            <a:ext cx="2286000" cy="6094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Oval 11"/>
          <p:cNvSpPr/>
          <p:nvPr/>
        </p:nvSpPr>
        <p:spPr>
          <a:xfrm rot="4566600">
            <a:off x="3047760" y="2743200"/>
            <a:ext cx="2286000" cy="6094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Oval 12"/>
          <p:cNvSpPr/>
          <p:nvPr/>
        </p:nvSpPr>
        <p:spPr>
          <a:xfrm rot="19990800">
            <a:off x="2437920" y="4267080"/>
            <a:ext cx="2286000" cy="6098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Oval 13"/>
          <p:cNvSpPr/>
          <p:nvPr/>
        </p:nvSpPr>
        <p:spPr>
          <a:xfrm rot="4566600">
            <a:off x="3504960" y="4572000"/>
            <a:ext cx="2286000" cy="6094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Oval 14"/>
          <p:cNvSpPr/>
          <p:nvPr/>
        </p:nvSpPr>
        <p:spPr>
          <a:xfrm rot="19776000">
            <a:off x="4267080" y="3123720"/>
            <a:ext cx="2286000" cy="6098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Oval 4"/>
          <p:cNvSpPr/>
          <p:nvPr/>
        </p:nvSpPr>
        <p:spPr>
          <a:xfrm>
            <a:off x="4191120" y="3733920"/>
            <a:ext cx="609480" cy="6858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 rot="19504800">
            <a:off x="2591280" y="41907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ВЕТО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Text Box 17"/>
          <p:cNvSpPr/>
          <p:nvPr/>
        </p:nvSpPr>
        <p:spPr>
          <a:xfrm rot="15666000">
            <a:off x="3955680" y="4882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ЕНЧИ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 rot="1557000">
            <a:off x="4876200" y="44193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ЧАШЕЧ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Text Box 19"/>
          <p:cNvSpPr/>
          <p:nvPr/>
        </p:nvSpPr>
        <p:spPr>
          <a:xfrm rot="19807800">
            <a:off x="4724640" y="3123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СИММЕТР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Text Box 20"/>
          <p:cNvSpPr/>
          <p:nvPr/>
        </p:nvSpPr>
        <p:spPr>
          <a:xfrm rot="4554000">
            <a:off x="3268080" y="2749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естик тычин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 rot="1398600">
            <a:off x="2437920" y="35053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змножение-…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WordArt 22"/>
          <p:cNvSpPr txBox="1"/>
          <p:nvPr/>
        </p:nvSpPr>
        <p:spPr>
          <a:xfrm>
            <a:off x="1219320" y="380880"/>
            <a:ext cx="7086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 «Ромашка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суждение вопроса 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43256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ем биологическое значение цвет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араграф №27,на вопросы 1-7 с.115 ответить ус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дготовить интересные факты о цвет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7327800" cy="992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330033"/>
                </a:solidFill>
                <a:latin typeface="Times New Roman"/>
              </a:rPr>
              <a:t>Цветок</a:t>
            </a:r>
            <a:endParaRPr b="0" lang="en-US" sz="6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203480" y="3809520"/>
            <a:ext cx="259056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доизмененный пробе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Прямая со стрелкой 4"/>
          <p:cNvCxnSpPr/>
          <p:nvPr/>
        </p:nvCxnSpPr>
        <p:spPr>
          <a:xfrm>
            <a:off x="4266720" y="2362320"/>
            <a:ext cx="3048840" cy="7624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55" name="Прямая со стрелкой 7"/>
          <p:cNvCxnSpPr/>
          <p:nvPr/>
        </p:nvCxnSpPr>
        <p:spPr>
          <a:xfrm flipH="1">
            <a:off x="2361600" y="2361240"/>
            <a:ext cx="1905480" cy="106740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56" name="Прямая со стрелкой 10"/>
          <p:cNvCxnSpPr/>
          <p:nvPr/>
        </p:nvCxnSpPr>
        <p:spPr>
          <a:xfrm>
            <a:off x="4267080" y="2362320"/>
            <a:ext cx="76680" cy="83880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57" name="Прямая со стрелкой 15"/>
          <p:cNvCxnSpPr/>
          <p:nvPr/>
        </p:nvCxnSpPr>
        <p:spPr>
          <a:xfrm>
            <a:off x="4266720" y="2362320"/>
            <a:ext cx="2134440" cy="129600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sp>
        <p:nvSpPr>
          <p:cNvPr id="258" name="Подзаголовок 17"/>
          <p:cNvSpPr/>
          <p:nvPr/>
        </p:nvSpPr>
        <p:spPr>
          <a:xfrm>
            <a:off x="3581280" y="3809880"/>
            <a:ext cx="1752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2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Строение цветк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Подзаголовок 17"/>
          <p:cNvSpPr/>
          <p:nvPr/>
        </p:nvSpPr>
        <p:spPr>
          <a:xfrm>
            <a:off x="5486400" y="3809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3 Классификация цветков (растений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Подзаголовок 17"/>
          <p:cNvSpPr/>
          <p:nvPr/>
        </p:nvSpPr>
        <p:spPr>
          <a:xfrm>
            <a:off x="7238880" y="3200400"/>
            <a:ext cx="152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4 Симметрия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Подзаголовок 17"/>
          <p:cNvSpPr/>
          <p:nvPr/>
        </p:nvSpPr>
        <p:spPr>
          <a:xfrm>
            <a:off x="0" y="556272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Arial"/>
              </a:rPr>
              <a:t>Во время урока при изучении новой темы учащиеся продолжают работу со словарём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0" descr="цветок"/>
          <p:cNvPicPr/>
          <p:nvPr/>
        </p:nvPicPr>
        <p:blipFill>
          <a:blip r:embed="rId1"/>
          <a:stretch/>
        </p:blipFill>
        <p:spPr>
          <a:xfrm>
            <a:off x="533520" y="304920"/>
            <a:ext cx="3809880" cy="5181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1" descr="цветок1"/>
          <p:cNvPicPr/>
          <p:nvPr/>
        </p:nvPicPr>
        <p:blipFill>
          <a:blip r:embed="rId2"/>
          <a:stretch/>
        </p:blipFill>
        <p:spPr>
          <a:xfrm>
            <a:off x="4724280" y="1295280"/>
            <a:ext cx="3724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цветок10"/>
          <p:cNvPicPr/>
          <p:nvPr/>
        </p:nvPicPr>
        <p:blipFill>
          <a:blip r:embed="rId1"/>
          <a:stretch/>
        </p:blipFill>
        <p:spPr>
          <a:xfrm>
            <a:off x="4572000" y="762120"/>
            <a:ext cx="4111560" cy="5715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цветок12"/>
          <p:cNvPicPr/>
          <p:nvPr/>
        </p:nvPicPr>
        <p:blipFill>
          <a:blip r:embed="rId2"/>
          <a:stretch/>
        </p:blipFill>
        <p:spPr>
          <a:xfrm>
            <a:off x="457200" y="304920"/>
            <a:ext cx="400680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цветок14"/>
          <p:cNvPicPr/>
          <p:nvPr/>
        </p:nvPicPr>
        <p:blipFill>
          <a:blip r:embed="rId1"/>
          <a:stretch/>
        </p:blipFill>
        <p:spPr>
          <a:xfrm>
            <a:off x="4572000" y="990720"/>
            <a:ext cx="4232160" cy="5424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цветок15"/>
          <p:cNvPicPr/>
          <p:nvPr/>
        </p:nvPicPr>
        <p:blipFill>
          <a:blip r:embed="rId2"/>
          <a:stretch/>
        </p:blipFill>
        <p:spPr>
          <a:xfrm>
            <a:off x="380880" y="304920"/>
            <a:ext cx="4011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цветок3"/>
          <p:cNvPicPr/>
          <p:nvPr/>
        </p:nvPicPr>
        <p:blipFill>
          <a:blip r:embed="rId1"/>
          <a:stretch/>
        </p:blipFill>
        <p:spPr>
          <a:xfrm>
            <a:off x="457200" y="304920"/>
            <a:ext cx="4016520" cy="551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цветок4"/>
          <p:cNvPicPr/>
          <p:nvPr/>
        </p:nvPicPr>
        <p:blipFill>
          <a:blip r:embed="rId2"/>
          <a:stretch/>
        </p:blipFill>
        <p:spPr>
          <a:xfrm>
            <a:off x="4572000" y="1066680"/>
            <a:ext cx="401652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5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цветок5"/>
          <p:cNvPicPr/>
          <p:nvPr/>
        </p:nvPicPr>
        <p:blipFill>
          <a:blip r:embed="rId1"/>
          <a:stretch/>
        </p:blipFill>
        <p:spPr>
          <a:xfrm>
            <a:off x="4800600" y="990720"/>
            <a:ext cx="4071960" cy="5595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цветок6"/>
          <p:cNvPicPr/>
          <p:nvPr/>
        </p:nvPicPr>
        <p:blipFill>
          <a:blip r:embed="rId2"/>
          <a:stretch/>
        </p:blipFill>
        <p:spPr>
          <a:xfrm>
            <a:off x="533520" y="304920"/>
            <a:ext cx="40226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цветок7"/>
          <p:cNvPicPr/>
          <p:nvPr/>
        </p:nvPicPr>
        <p:blipFill>
          <a:blip r:embed="rId1"/>
          <a:stretch/>
        </p:blipFill>
        <p:spPr>
          <a:xfrm>
            <a:off x="4724280" y="1219320"/>
            <a:ext cx="4029120" cy="5257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цветок8"/>
          <p:cNvPicPr/>
          <p:nvPr/>
        </p:nvPicPr>
        <p:blipFill>
          <a:blip r:embed="rId2"/>
          <a:stretch/>
        </p:blipFill>
        <p:spPr>
          <a:xfrm>
            <a:off x="533520" y="609480"/>
            <a:ext cx="39020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ma</cp:lastModifiedBy>
  <dcterms:modified xsi:type="dcterms:W3CDTF">2009-10-26T16:01:5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11000000000001024140</vt:lpwstr>
  </property>
  <property fmtid="{D5CDD505-2E9C-101B-9397-08002B2CF9AE}" pid="3" name="Version">
    <vt:r8>1</vt:r8>
  </property>
</Properties>
</file>