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34A-B392-414E-9F40-DBFD8D5A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BBC-C79E-4527-9233-6E847DE5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B5B-C0C6-4B63-9197-5E4A0235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43C-AAB5-4A00-8269-C6D8D55A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58C4-E8D3-4EE5-913A-6333B093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9F7B-0CD1-4DF9-ACF8-1D939FFF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C9B5-35F2-4704-BE38-7E5472FF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B0EB-A547-4A6B-BF37-2B50CAF2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4DEF-F420-482F-89BE-374A5048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0A7B-E983-4B85-BDAD-6D19FB6B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16FD-EDC1-4D2F-8CAC-A24CBBF7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46A-70FC-4F32-AE6F-A85D0327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5FF4-BE2F-4D2D-BA83-A68DD5F1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A639-CCCF-428A-9D53-126CDD7E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8CDB-E25D-41EA-B8CA-EC76903D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2314-0B78-4026-AB5A-0F45032E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5D3E-1912-452E-B006-95CF82E7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7136B-7B03-4095-87A0-CA131C74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4186-55F6-4C4B-879F-0A277BB6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F994-AB01-4C63-9B2B-BFE9EC45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1536-AC09-4B99-8583-467A4222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4B84F-DEC1-4F09-89F7-8BB8D9B1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D86-D510-4138-B5A9-2AB76A6E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16ADE-FAEB-4639-A381-BEF4F170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D98B-304D-462A-A7FF-402D5BAB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F4CF-57C0-4C14-AFD6-51B9FCD3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AA41-7EC7-4C73-A8E5-EE1909D8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5FCA-899A-421D-8F5B-8C1B7394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8F1A3-5AAC-460F-9666-5DE8FCBF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EA78-92B7-47B5-B2FC-9044C937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64E4-4F40-4C8D-9B43-FD2DB780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521D-0442-42C9-AB06-A4405874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70B99-E5EE-4844-B19A-B94D57EB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903-E5BE-45AD-BA8C-B108AAE2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FB59-C5B0-423B-A5AA-0384DE8F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52D2-2832-4B93-B3FF-A6D54CF9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2EBE6-FE90-4203-BBA2-E84D6451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BF583-C42F-4BD6-9076-1D47573E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DE150-FAEE-45FE-A93C-F4CEB29E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C810-1747-45EE-8FCD-7B36CB7B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06A6-4E40-41A5-BF4B-2FCD8F28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D608F-03C1-441A-BF9C-AADC5EAF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05BA-9B18-47F0-B1F5-42E5A412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2751C-0238-40CE-994F-DDA2D444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9DA-9E15-4032-B7D1-1EF3F049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F9CB8-2AC9-4448-8D44-7ED0C98D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7ABF3-D1AE-4AB7-B2A8-366D32E4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080A5-D184-403A-AA82-7565DE54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7C159-981B-4C06-975A-477A5A0A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EFF94-F659-4788-A1E1-71244365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38492-EE0A-4A41-A2B3-7EB68BEC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F7ACD-55CB-4D36-B5D1-35976055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51F30-56D7-4120-A6FF-681C995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F500-2228-4AFC-8768-C347E45D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1EBB7-EE88-4570-99B1-5EE149A5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06E-E760-4C88-B5BE-AE8A4683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7146C-2135-4EEB-81E7-747206EB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1955B-4AA9-40AF-927E-EEF30E3F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78A7E-CA13-4BD4-8DB4-9CE6FB62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13313-4EF3-4B91-ACDB-BD600DAB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D0E9D-1233-4F21-A2E1-9CD09EBC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856D-84FC-40DF-B2EF-15365DB9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A5687-1F0A-4C47-8B7B-939573DF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1364E-EB4B-4727-9847-2C544701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35B43-F713-4B89-B6EF-FA428FF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DA155-713F-4AA5-BA18-C9F22215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FEA-17D4-4807-A9DD-DBD6E6D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FAF0F-92F4-4043-9610-6971272B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170E2-137E-4377-A315-09B7B804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38B51-3376-49A0-829B-601C45C3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689F8-2E69-45E7-8B6A-EBB7881C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16D02-ADCD-45D1-BC19-9DD5FDF5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64ABF-BD88-4FB2-A179-D45B8EDB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03B40-DA41-4DF7-B371-1D9C3965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888CA-BE07-4D38-AA13-FCFB2AC6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7E5A3-0675-4C2B-8939-F0E9FD1E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71D78-4D79-45CC-B412-79A597CD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3E8-2D6A-4C69-AA98-64B14A11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70A5B-E5F2-4AEA-9F31-B30FBB8B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D9EAB-B5CD-4CBF-BF48-87D7CEE5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10075-9BC0-43FD-9B35-5E690D0B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254B5-95FE-4FF5-96AE-01D39C1D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D1AF2-269F-4F61-8F58-74CFAC28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AE0-95E7-48AA-B65A-21DE97E5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DDB7-A0AD-4710-A8F9-6FA5BBD0849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FE9F-0111-4270-A068-AC586D606E6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F908-27F0-4595-9F97-B43EB676531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3C4C-6EBF-4E8D-91D0-9B106DB0A12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29DD-C8F1-428E-9A86-1F8BAC9447E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8976-BEFC-4978-A03E-594434D0EF0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772F-4629-4352-91D0-0FC088C9B58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2.jpeg"/><Relationship Id="rId3" Type="http://schemas.openxmlformats.org/officeDocument/2006/relationships/image" Target="../media/image41.jpeg"/><Relationship Id="rId4" Type="http://schemas.openxmlformats.org/officeDocument/2006/relationships/image" Target="../media/image38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C:\Documents and Settings\User\Рабочий стол\Чередниченко\0_26e52_82b8f474_-1-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85880" y="1142640"/>
            <a:ext cx="80582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ndara"/>
              </a:rPr>
              <a:t>Разнообразие моллюсков</a:t>
            </a:r>
            <a:endParaRPr b="0" lang="en-US" sz="8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Двустворчаты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Мид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Устр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816360" cy="297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4602240" y="3284640"/>
            <a:ext cx="3986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Documents and Settings\User\Рабочий стол\Чередниченко\0_60f65_d4d2dfa_-1-L.jpg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Двустворчаты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Жемчужн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Перлов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2305080" cy="2524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067280" y="32274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Documents and Settings\User\Рабочий стол\Чередниченко\stone23.jpg"/>
          <p:cNvPicPr/>
          <p:nvPr/>
        </p:nvPicPr>
        <p:blipFill>
          <a:blip r:embed="rId1"/>
          <a:stretch/>
        </p:blipFill>
        <p:spPr>
          <a:xfrm rot="20806200">
            <a:off x="561960" y="347400"/>
            <a:ext cx="3357720" cy="2797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Documents and Settings\User\Рабочий стол\Чередниченко\27529176.jpg"/>
          <p:cNvPicPr/>
          <p:nvPr/>
        </p:nvPicPr>
        <p:blipFill>
          <a:blip r:embed="rId2"/>
          <a:stretch/>
        </p:blipFill>
        <p:spPr>
          <a:xfrm rot="21220800">
            <a:off x="1507680" y="3531960"/>
            <a:ext cx="3333960" cy="2923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Documents and Settings\User\Рабочий стол\Чередниченко\imgs048.jpg"/>
          <p:cNvPicPr/>
          <p:nvPr/>
        </p:nvPicPr>
        <p:blipFill>
          <a:blip r:embed="rId3"/>
          <a:stretch/>
        </p:blipFill>
        <p:spPr>
          <a:xfrm rot="265800">
            <a:off x="5303520" y="985320"/>
            <a:ext cx="34812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Двустворчаты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орабельный Черв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ридакна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C:\Documents and Settings\User\Рабочий стол\Чередниченко\Раковина-тридакны.jpg"/>
          <p:cNvPicPr/>
          <p:nvPr/>
        </p:nvPicPr>
        <p:blipFill>
          <a:blip r:embed="rId2"/>
          <a:stretch/>
        </p:blipFill>
        <p:spPr>
          <a:xfrm>
            <a:off x="4930920" y="3286080"/>
            <a:ext cx="3498840" cy="2286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murzim.ru/uploads/posts/2010-11/1291071621_image025.jpg"/>
          <p:cNvPicPr/>
          <p:nvPr/>
        </p:nvPicPr>
        <p:blipFill>
          <a:blip r:embed="rId3"/>
          <a:stretch/>
        </p:blipFill>
        <p:spPr>
          <a:xfrm>
            <a:off x="3000240" y="3357720"/>
            <a:ext cx="4273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Голов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Осьминог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альма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55640" y="3290760"/>
            <a:ext cx="3629160" cy="2924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5148360" y="3290760"/>
            <a:ext cx="2962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7" name="Чудище-осьминог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Голов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42600" y="2643120"/>
            <a:ext cx="382284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аракат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Наутилу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324000" y="3157560"/>
            <a:ext cx="3887640" cy="3008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4587840" y="3157560"/>
            <a:ext cx="38098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Мид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Гребешо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6" name="Picture 2" descr="C:\Documents and Settings\User\Рабочий стол\Чередниченко\midiya.jpg"/>
          <p:cNvPicPr/>
          <p:nvPr/>
        </p:nvPicPr>
        <p:blipFill>
          <a:blip r:embed="rId1"/>
          <a:stretch/>
        </p:blipFill>
        <p:spPr>
          <a:xfrm>
            <a:off x="357120" y="3214800"/>
            <a:ext cx="3175200" cy="3174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9" descr="C:\Documents and Settings\User\Рабочий стол\Чередниченко\Jakobsmuschel 4.jpg"/>
          <p:cNvPicPr/>
          <p:nvPr/>
        </p:nvPicPr>
        <p:blipFill>
          <a:blip r:embed="rId2"/>
          <a:stretch/>
        </p:blipFill>
        <p:spPr>
          <a:xfrm>
            <a:off x="4572000" y="321480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Сердцевидка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1" name="Picture 2" descr="C:\Documents and Settings\User\Рабочий стол\Чередниченко\miya.jpg"/>
          <p:cNvPicPr/>
          <p:nvPr/>
        </p:nvPicPr>
        <p:blipFill>
          <a:blip r:embed="rId1"/>
          <a:stretch/>
        </p:blipFill>
        <p:spPr>
          <a:xfrm>
            <a:off x="500040" y="307188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Documents and Settings\User\Рабочий стол\Чередниченко\Сердцевидка-Сеrastoderma-glaucum.jpg"/>
          <p:cNvPicPr/>
          <p:nvPr/>
        </p:nvPicPr>
        <p:blipFill>
          <a:blip r:embed="rId2"/>
          <a:stretch/>
        </p:blipFill>
        <p:spPr>
          <a:xfrm>
            <a:off x="4643280" y="3143160"/>
            <a:ext cx="33894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28400" y="642600"/>
            <a:ext cx="8429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Тема урока: 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Разнообразие моллюсков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87d6"/>
                </a:solidFill>
                <a:latin typeface="Candara"/>
              </a:rPr>
              <a:t>Цели урока: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зучить разнообразие моллюс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бъяснить взаимосвязь особенностей строения и способа жизни моллюс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Выяснить значение моллюсков в экосистемах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аучиться распознавать раковины моллюс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Выполнить лабораторную работ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енер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асс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6" name="Picture 2" descr="C:\Documents and Settings\User\Рабочий стол\Чередниченко\vey.jpg"/>
          <p:cNvPicPr/>
          <p:nvPr/>
        </p:nvPicPr>
        <p:blipFill>
          <a:blip r:embed="rId1"/>
          <a:stretch/>
        </p:blipFill>
        <p:spPr>
          <a:xfrm>
            <a:off x="500040" y="3071880"/>
            <a:ext cx="3175200" cy="3174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Documents and Settings\User\Рабочий стол\Чередниченко\Трития-насса-Tritio-reticulate-L..jpeg"/>
          <p:cNvPicPr/>
          <p:nvPr/>
        </p:nvPicPr>
        <p:blipFill>
          <a:blip r:embed="rId2"/>
          <a:stretch/>
        </p:blipFill>
        <p:spPr>
          <a:xfrm>
            <a:off x="4786200" y="314316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Игольчатая улит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Трит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1" name="Picture 2" descr="C:\Documents and Settings\User\Рабочий стол\Чередниченко\Игольная-улитка-Cerithium-oulgatum-225x300.jpg"/>
          <p:cNvPicPr/>
          <p:nvPr/>
        </p:nvPicPr>
        <p:blipFill>
          <a:blip r:embed="rId1"/>
          <a:stretch/>
        </p:blipFill>
        <p:spPr>
          <a:xfrm>
            <a:off x="714240" y="314316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C:\Documents and Settings\User\Рабочий стол\Чередниченко\triciya3.jpg"/>
          <p:cNvPicPr/>
          <p:nvPr/>
        </p:nvPicPr>
        <p:blipFill>
          <a:blip r:embed="rId2"/>
          <a:stretch/>
        </p:blipFill>
        <p:spPr>
          <a:xfrm>
            <a:off x="4714920" y="3214800"/>
            <a:ext cx="3357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Лентидиу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Черенок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6" name="Picture 2" descr="C:\Documents and Settings\User\Рабочий стол\Чередниченко\images (3).jpg"/>
          <p:cNvPicPr/>
          <p:nvPr/>
        </p:nvPicPr>
        <p:blipFill>
          <a:blip r:embed="rId1"/>
          <a:stretch/>
        </p:blipFill>
        <p:spPr>
          <a:xfrm>
            <a:off x="500040" y="3286080"/>
            <a:ext cx="3664080" cy="2428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Documents and Settings\User\Рабочий стол\Чередниченко\cherenok.jpg"/>
          <p:cNvPicPr/>
          <p:nvPr/>
        </p:nvPicPr>
        <p:blipFill>
          <a:blip r:embed="rId2"/>
          <a:stretch/>
        </p:blipFill>
        <p:spPr>
          <a:xfrm>
            <a:off x="4786200" y="314316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7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Соотношение биомассы дна Азовского мор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9" name="Диаграмма 8" descr=""/>
          <p:cNvPicPr/>
          <p:nvPr/>
        </p:nvPicPr>
        <p:blipFill>
          <a:blip r:embed="rId1"/>
          <a:stretch/>
        </p:blipFill>
        <p:spPr>
          <a:xfrm>
            <a:off x="285840" y="2500200"/>
            <a:ext cx="4143240" cy="3135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User\Рабочий стол\Чередниченко\miya.jpg"/>
          <p:cNvPicPr/>
          <p:nvPr/>
        </p:nvPicPr>
        <p:blipFill>
          <a:blip r:embed="rId2"/>
          <a:stretch/>
        </p:blipFill>
        <p:spPr>
          <a:xfrm>
            <a:off x="6429240" y="2500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Documents and Settings\User\Рабочий стол\Чередниченко\Сердцевидка-Сеrastoderma-glaucum.jpg"/>
          <p:cNvPicPr/>
          <p:nvPr/>
        </p:nvPicPr>
        <p:blipFill>
          <a:blip r:embed="rId3"/>
          <a:stretch/>
        </p:blipFill>
        <p:spPr>
          <a:xfrm>
            <a:off x="4286160" y="2500200"/>
            <a:ext cx="1746360" cy="1746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Documents and Settings\User\Рабочий стол\Чередниченко\images (3).jpg"/>
          <p:cNvPicPr/>
          <p:nvPr/>
        </p:nvPicPr>
        <p:blipFill>
          <a:blip r:embed="rId4"/>
          <a:stretch/>
        </p:blipFill>
        <p:spPr>
          <a:xfrm>
            <a:off x="4214880" y="4429080"/>
            <a:ext cx="2130480" cy="17859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5"/>
          <a:stretch/>
        </p:blipFill>
        <p:spPr>
          <a:xfrm>
            <a:off x="6500880" y="4429080"/>
            <a:ext cx="1590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Пищевые цеп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85480" y="2679480"/>
            <a:ext cx="864396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Фитопланктон        Моллюски        мелкая рыба       хищная рыб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cxnSp>
        <p:nvCxnSpPr>
          <p:cNvPr id="426" name="Прямая со стрелкой 5"/>
          <p:cNvCxnSpPr/>
          <p:nvPr/>
        </p:nvCxnSpPr>
        <p:spPr>
          <a:xfrm>
            <a:off x="2285640" y="292896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7" name="Прямая со стрелкой 6"/>
          <p:cNvCxnSpPr/>
          <p:nvPr/>
        </p:nvCxnSpPr>
        <p:spPr>
          <a:xfrm>
            <a:off x="4214880" y="292896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Прямая со стрелкой 7"/>
          <p:cNvCxnSpPr/>
          <p:nvPr/>
        </p:nvCxnSpPr>
        <p:spPr>
          <a:xfrm>
            <a:off x="6500880" y="292896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29" name="Диаграмма 8" descr=""/>
          <p:cNvPicPr/>
          <p:nvPr/>
        </p:nvPicPr>
        <p:blipFill>
          <a:blip r:embed="rId1"/>
          <a:stretch/>
        </p:blipFill>
        <p:spPr>
          <a:xfrm>
            <a:off x="1714680" y="3286080"/>
            <a:ext cx="5715000" cy="33577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9"/>
          <p:cNvSpPr/>
          <p:nvPr/>
        </p:nvSpPr>
        <p:spPr>
          <a:xfrm>
            <a:off x="2643120" y="59292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70-е   90-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5214960" y="59166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70-е   90-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итание виноградной улитк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337680"/>
            <a:ext cx="7859880" cy="100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915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Виноградная Улитка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Кону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38436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идроб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Ахати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500040" y="3071880"/>
            <a:ext cx="2376360" cy="2692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4048200" y="3141720"/>
            <a:ext cx="45687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Голый слизен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апа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2857680" cy="1981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788000" y="3249720"/>
            <a:ext cx="29052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аур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урек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366840" y="3141720"/>
            <a:ext cx="3835440" cy="273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643280" y="3146400"/>
            <a:ext cx="3816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Documents and Settings\User\Рабочий стол\Чередниченко\uliy-tsesar.jpg"/>
          <p:cNvPicPr/>
          <p:nvPr/>
        </p:nvPicPr>
        <p:blipFill>
          <a:blip r:embed="rId1"/>
          <a:stretch/>
        </p:blipFill>
        <p:spPr>
          <a:xfrm>
            <a:off x="357120" y="1928880"/>
            <a:ext cx="3713400" cy="2943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C:\Documents and Settings\User\Рабочий стол\Чередниченко\1200412722__28.jpg"/>
          <p:cNvPicPr/>
          <p:nvPr/>
        </p:nvPicPr>
        <p:blipFill>
          <a:blip r:embed="rId2"/>
          <a:stretch/>
        </p:blipFill>
        <p:spPr>
          <a:xfrm>
            <a:off x="4357800" y="714240"/>
            <a:ext cx="43653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гребешки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3:13:12Z</dcterms:created>
  <dc:creator>Пользователь</dc:creator>
  <dc:description/>
  <dc:language>en-US</dc:language>
  <cp:lastModifiedBy>Илвия Попова</cp:lastModifiedBy>
  <dcterms:modified xsi:type="dcterms:W3CDTF">2012-10-15T21:27:06Z</dcterms:modified>
  <cp:revision>17</cp:revision>
  <dc:subject/>
  <dc:title>МОЛЛЮС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1b000000000001024140</vt:lpwstr>
  </property>
</Properties>
</file>