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C29-FB95-4D6E-896B-444B662F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74DB-D33B-4386-98ED-6734BAC8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C116-0F43-4BF3-AA86-3B6B12EE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F269-CB7F-43C2-85BB-FFC71529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D502-10BB-4442-8B7A-9BA7C5E2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6AB7-E023-4EE3-8825-BDCCDAF1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8BF0-0BC7-4A41-A646-61A230B1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C3BB-4A42-45F5-9A59-C81B013D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3F67-0A14-4716-9F7A-D73CAB7D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4490-7738-4DDD-89DD-CF4F0F9E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867D-40DC-4E76-8EB1-0E071E26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0EF-2075-41FB-B254-19BD9FFE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F3AD-36A2-4257-B0EA-ABB1284F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CA54-F8D2-4B22-A091-69CE02DF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4C73-98C4-4888-A8A7-26DCA01E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F17F-81A5-4F08-A095-5C962FFC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1A36-5B90-4C88-ADA5-0AFCB03A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BDC75-6FE2-4756-AF6A-34C63373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9D5B5-3E3D-49D7-85CE-E5293D78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84E98-9684-429A-B8A9-7F43B3C0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715A4-985C-4A2D-B0A2-A6880CA3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EB43A-8EC8-4F7C-936C-CDAA55F8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556-5082-4D20-A7A9-07EB7C81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BE427-EF72-43B1-BC60-11FF7A83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1BCB7-5B8B-4C62-A9EF-E7F97DCB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47229-7635-40AE-98CD-90D0554E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FC2D2-E073-4150-AAF9-07975819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DDA73-AA0E-418F-8A81-29BC4A58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C5838-571C-4B90-9C58-B7FB49E6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4E1F0-4860-42CA-92B4-E38F469E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41E60-E33F-4AD7-B6DB-56BC4B77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FF1D5-2BF0-47F3-86C8-70D4A2D2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91EAC-3979-4E50-BBC5-DB7A11AB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9CB4-2985-48DA-AD13-126D7BCD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CD56A-B79D-4D61-8A8B-AA9B4402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02E6B-BD24-4444-A7AC-2C6FE8FF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90595-9802-4B18-A9A4-88D08318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BB2B8-ABA2-415B-98F9-9F55CF0F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0FEA4-5B12-47F8-8955-8F495D63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F07DA-CCE2-432C-8361-E0E45F05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C9346-962C-48A4-AA37-BD44BA47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16B3B-93E4-4FE1-BBA7-BB19031F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ACEA0-F635-49D1-92CC-CF3DD949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4A206-F4F7-4C98-8138-38FF3A2D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0F63-EDD8-4FCC-BF60-41AF27AF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AF87C-EB17-43DA-A784-EF080C60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BD846-53FE-4745-936A-BC173CE3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63620-333A-42D0-987F-E79074C7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7D0A5-8679-4EDC-AF9F-75C964DF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E6BF1-8CB0-46B2-A9EF-97D266B0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2FD26-8493-4EE1-AB08-3E0DA39D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E67EA-136E-4AC9-894B-A1800DEE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D98D8-BC73-4424-AE6F-5A325BE4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D55AA-A95C-48C6-8D9B-E86CA78C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C5627-BA4C-4EA5-B5D9-836A283B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EAA-9FB4-477A-A965-C67D9E2B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28AD2-6596-4983-BE4B-E136D1AD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7BABD-3685-4F0D-B249-B966D749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216D0-CE44-47E5-8127-26972514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4D24A-CE6D-42AA-81D0-E67A598F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AEE20-AEF3-495C-B0D0-997948C2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37F26-50A6-44E4-A661-DA9DB8A1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69ED7-A153-4529-84E3-46FFA6AE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F5F00-7CB3-42F9-B168-4D076FDA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D88AB-5CD1-4F8C-803A-6BFBEBD4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3CB6F-7535-4C58-A516-26401607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92D4-4849-449B-B926-5358DEE8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22BA4-FF4E-4AC2-9985-457F8066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74229-8D00-46E8-B3A9-2F021184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F4808-7998-4A4F-9DD3-65F60359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74F5C-2FAB-4FB4-9FD7-855BE2E5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B5E93-B0CE-4B9A-ABD2-033205CC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F0D54-0B1F-423E-84D8-3FF6DDF0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8022F-764A-4B9D-ABEA-F6B6D41C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9A82A-18FB-4E17-8082-A2385E5B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1A218-5ADC-42A8-85A9-DC735274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83459-98D2-4ED8-9ED2-7DA12D88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D7B-556F-48B3-9DE9-71B10003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8FE62-5042-4236-ADBF-303CE14C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0B137-33F9-45F6-90CE-9C81EE34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D533A-9F5A-412E-872A-09B8A16D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A4579-EB8B-4C83-8E35-E61E2B5E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3D113-9ED0-435C-9C92-CBC93A11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9E76-81F8-46C8-A3AC-B9F3CDAA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FEBB-176A-45DE-BEF4-ACE7015567C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659F-62E4-45A1-859A-FC70ACD5AEA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CA44-F129-4D4F-AE52-96AA890D973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83EB-ABDD-4DBF-B53A-B2381DDCF4D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FEFB-C160-49E7-AC32-A2954B153C1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E67F-E7C5-44A7-B0E5-06682694FA1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6817-72F7-41A5-BCC2-45FB731516E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2.jpeg"/><Relationship Id="rId3" Type="http://schemas.openxmlformats.org/officeDocument/2006/relationships/image" Target="../media/image41.jpeg"/><Relationship Id="rId4" Type="http://schemas.openxmlformats.org/officeDocument/2006/relationships/image" Target="../media/image38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C:\Documents and Settings\User\Рабочий стол\Чередниченко\0_26e52_82b8f474_-1-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785880" y="1142640"/>
            <a:ext cx="80582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ndara"/>
              </a:rPr>
              <a:t>Разнообразие моллюсков</a:t>
            </a:r>
            <a:endParaRPr b="0" lang="en-US" sz="8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Двустворчаты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Мид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Устриц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3816360" cy="2971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4602240" y="3284640"/>
            <a:ext cx="3986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:\Documents and Settings\User\Рабочий стол\Чередниченко\0_60f65_d4d2dfa_-1-L.jpg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Двустворчаты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Жемчужниц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Перловиц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971640" y="3213000"/>
            <a:ext cx="2305080" cy="2524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4067280" y="32274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C:\Documents and Settings\User\Рабочий стол\Чередниченко\stone23.jpg"/>
          <p:cNvPicPr/>
          <p:nvPr/>
        </p:nvPicPr>
        <p:blipFill>
          <a:blip r:embed="rId1"/>
          <a:stretch/>
        </p:blipFill>
        <p:spPr>
          <a:xfrm rot="20806200">
            <a:off x="561960" y="347400"/>
            <a:ext cx="3357720" cy="27972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C:\Documents and Settings\User\Рабочий стол\Чередниченко\27529176.jpg"/>
          <p:cNvPicPr/>
          <p:nvPr/>
        </p:nvPicPr>
        <p:blipFill>
          <a:blip r:embed="rId2"/>
          <a:stretch/>
        </p:blipFill>
        <p:spPr>
          <a:xfrm rot="21220800">
            <a:off x="1507680" y="3531960"/>
            <a:ext cx="3333960" cy="2923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Documents and Settings\User\Рабочий стол\Чередниченко\imgs048.jpg"/>
          <p:cNvPicPr/>
          <p:nvPr/>
        </p:nvPicPr>
        <p:blipFill>
          <a:blip r:embed="rId3"/>
          <a:stretch/>
        </p:blipFill>
        <p:spPr>
          <a:xfrm rot="265800">
            <a:off x="5303520" y="985320"/>
            <a:ext cx="34812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Двустворчаты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Корабельный Черв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Тридакна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642960" y="3214800"/>
            <a:ext cx="2232000" cy="2976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C:\Documents and Settings\User\Рабочий стол\Чередниченко\Раковина-тридакны.jpg"/>
          <p:cNvPicPr/>
          <p:nvPr/>
        </p:nvPicPr>
        <p:blipFill>
          <a:blip r:embed="rId2"/>
          <a:stretch/>
        </p:blipFill>
        <p:spPr>
          <a:xfrm>
            <a:off x="4930920" y="3286080"/>
            <a:ext cx="3498840" cy="2286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http://murzim.ru/uploads/posts/2010-11/1291071621_image025.jpg"/>
          <p:cNvPicPr/>
          <p:nvPr/>
        </p:nvPicPr>
        <p:blipFill>
          <a:blip r:embed="rId3"/>
          <a:stretch/>
        </p:blipFill>
        <p:spPr>
          <a:xfrm>
            <a:off x="3000240" y="3357720"/>
            <a:ext cx="42732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Головоног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Осьминог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Кальмар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755640" y="3290760"/>
            <a:ext cx="3629160" cy="2924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5148360" y="3290760"/>
            <a:ext cx="29620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7" name="Чудище-осьминог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Головоног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42600" y="2643120"/>
            <a:ext cx="382284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Каракатиц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Наутилус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324000" y="3157560"/>
            <a:ext cx="3887640" cy="3008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2"/>
          <a:stretch/>
        </p:blipFill>
        <p:spPr>
          <a:xfrm>
            <a:off x="4587840" y="3157560"/>
            <a:ext cx="380988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Моллюски Азовского мор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Мид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Гребешо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6" name="Picture 2" descr="C:\Documents and Settings\User\Рабочий стол\Чередниченко\midiya.jpg"/>
          <p:cNvPicPr/>
          <p:nvPr/>
        </p:nvPicPr>
        <p:blipFill>
          <a:blip r:embed="rId1"/>
          <a:stretch/>
        </p:blipFill>
        <p:spPr>
          <a:xfrm>
            <a:off x="357120" y="3214800"/>
            <a:ext cx="3175200" cy="31748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9" descr="C:\Documents and Settings\User\Рабочий стол\Чередниченко\Jakobsmuschel 4.jpg"/>
          <p:cNvPicPr/>
          <p:nvPr/>
        </p:nvPicPr>
        <p:blipFill>
          <a:blip r:embed="rId2"/>
          <a:stretch/>
        </p:blipFill>
        <p:spPr>
          <a:xfrm>
            <a:off x="4572000" y="3214800"/>
            <a:ext cx="3071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Моллюски Азовского мор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М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Сердцевидка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1" name="Picture 2" descr="C:\Documents and Settings\User\Рабочий стол\Чередниченко\miya.jpg"/>
          <p:cNvPicPr/>
          <p:nvPr/>
        </p:nvPicPr>
        <p:blipFill>
          <a:blip r:embed="rId1"/>
          <a:stretch/>
        </p:blipFill>
        <p:spPr>
          <a:xfrm>
            <a:off x="500040" y="307188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Documents and Settings\User\Рабочий стол\Чередниченко\Сердцевидка-Сеrastoderma-glaucum.jpg"/>
          <p:cNvPicPr/>
          <p:nvPr/>
        </p:nvPicPr>
        <p:blipFill>
          <a:blip r:embed="rId2"/>
          <a:stretch/>
        </p:blipFill>
        <p:spPr>
          <a:xfrm>
            <a:off x="4643280" y="3143160"/>
            <a:ext cx="338940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28400" y="642600"/>
            <a:ext cx="84294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Тема урока: </a:t>
            </a: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Разнообразие моллюсков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87d6"/>
                </a:solidFill>
                <a:latin typeface="Candara"/>
              </a:rPr>
              <a:t>Цели урока: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Изучить разнообразие моллюсков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Объяснить взаимосвязь особенностей строения и способа жизни моллюсков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Выяснить значение моллюсков в экосистемах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аучиться распознавать раковины моллюсков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Выполнить лабораторную работ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Моллюски Азовского мор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Венерк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Насс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6" name="Picture 2" descr="C:\Documents and Settings\User\Рабочий стол\Чередниченко\vey.jpg"/>
          <p:cNvPicPr/>
          <p:nvPr/>
        </p:nvPicPr>
        <p:blipFill>
          <a:blip r:embed="rId1"/>
          <a:stretch/>
        </p:blipFill>
        <p:spPr>
          <a:xfrm>
            <a:off x="500040" y="3071880"/>
            <a:ext cx="3175200" cy="3174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Documents and Settings\User\Рабочий стол\Чередниченко\Трития-насса-Tritio-reticulate-L..jpeg"/>
          <p:cNvPicPr/>
          <p:nvPr/>
        </p:nvPicPr>
        <p:blipFill>
          <a:blip r:embed="rId2"/>
          <a:stretch/>
        </p:blipFill>
        <p:spPr>
          <a:xfrm>
            <a:off x="4786200" y="3143160"/>
            <a:ext cx="3143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Моллюски Азовского мор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Игольчатая улитк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Трит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1" name="Picture 2" descr="C:\Documents and Settings\User\Рабочий стол\Чередниченко\Игольная-улитка-Cerithium-oulgatum-225x300.jpg"/>
          <p:cNvPicPr/>
          <p:nvPr/>
        </p:nvPicPr>
        <p:blipFill>
          <a:blip r:embed="rId1"/>
          <a:stretch/>
        </p:blipFill>
        <p:spPr>
          <a:xfrm>
            <a:off x="714240" y="314316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C:\Documents and Settings\User\Рабочий стол\Чередниченко\triciya3.jpg"/>
          <p:cNvPicPr/>
          <p:nvPr/>
        </p:nvPicPr>
        <p:blipFill>
          <a:blip r:embed="rId2"/>
          <a:stretch/>
        </p:blipFill>
        <p:spPr>
          <a:xfrm>
            <a:off x="4714920" y="3214800"/>
            <a:ext cx="3357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Моллюски Азовского мор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Лентидиу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Черенок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6" name="Picture 2" descr="C:\Documents and Settings\User\Рабочий стол\Чередниченко\images (3).jpg"/>
          <p:cNvPicPr/>
          <p:nvPr/>
        </p:nvPicPr>
        <p:blipFill>
          <a:blip r:embed="rId1"/>
          <a:stretch/>
        </p:blipFill>
        <p:spPr>
          <a:xfrm>
            <a:off x="500040" y="3286080"/>
            <a:ext cx="3664080" cy="2428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C:\Documents and Settings\User\Рабочий стол\Чередниченко\cherenok.jpg"/>
          <p:cNvPicPr/>
          <p:nvPr/>
        </p:nvPicPr>
        <p:blipFill>
          <a:blip r:embed="rId2"/>
          <a:stretch/>
        </p:blipFill>
        <p:spPr>
          <a:xfrm>
            <a:off x="4786200" y="3143160"/>
            <a:ext cx="3143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7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Соотношение биомассы дна Азовского моря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9" name="Диаграмма 8" descr=""/>
          <p:cNvPicPr/>
          <p:nvPr/>
        </p:nvPicPr>
        <p:blipFill>
          <a:blip r:embed="rId1"/>
          <a:stretch/>
        </p:blipFill>
        <p:spPr>
          <a:xfrm>
            <a:off x="285840" y="2500200"/>
            <a:ext cx="4143240" cy="31356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cuments and Settings\User\Рабочий стол\Чередниченко\miya.jpg"/>
          <p:cNvPicPr/>
          <p:nvPr/>
        </p:nvPicPr>
        <p:blipFill>
          <a:blip r:embed="rId2"/>
          <a:stretch/>
        </p:blipFill>
        <p:spPr>
          <a:xfrm>
            <a:off x="6429240" y="25002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Documents and Settings\User\Рабочий стол\Чередниченко\Сердцевидка-Сеrastoderma-glaucum.jpg"/>
          <p:cNvPicPr/>
          <p:nvPr/>
        </p:nvPicPr>
        <p:blipFill>
          <a:blip r:embed="rId3"/>
          <a:stretch/>
        </p:blipFill>
        <p:spPr>
          <a:xfrm>
            <a:off x="4286160" y="2500200"/>
            <a:ext cx="1746360" cy="1746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C:\Documents and Settings\User\Рабочий стол\Чередниченко\images (3).jpg"/>
          <p:cNvPicPr/>
          <p:nvPr/>
        </p:nvPicPr>
        <p:blipFill>
          <a:blip r:embed="rId4"/>
          <a:stretch/>
        </p:blipFill>
        <p:spPr>
          <a:xfrm>
            <a:off x="4214880" y="4429080"/>
            <a:ext cx="2130480" cy="17859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5"/>
          <a:stretch/>
        </p:blipFill>
        <p:spPr>
          <a:xfrm>
            <a:off x="6500880" y="4429080"/>
            <a:ext cx="15904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Пищевые цеп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285480" y="2679480"/>
            <a:ext cx="864396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Фитопланктон        Моллюски        мелкая рыба       хищная рыб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cxnSp>
        <p:nvCxnSpPr>
          <p:cNvPr id="426" name="Прямая со стрелкой 5"/>
          <p:cNvCxnSpPr/>
          <p:nvPr/>
        </p:nvCxnSpPr>
        <p:spPr>
          <a:xfrm>
            <a:off x="2285640" y="292896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7" name="Прямая со стрелкой 6"/>
          <p:cNvCxnSpPr/>
          <p:nvPr/>
        </p:nvCxnSpPr>
        <p:spPr>
          <a:xfrm>
            <a:off x="4214880" y="292896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8" name="Прямая со стрелкой 7"/>
          <p:cNvCxnSpPr/>
          <p:nvPr/>
        </p:nvCxnSpPr>
        <p:spPr>
          <a:xfrm>
            <a:off x="6500880" y="292896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29" name="Диаграмма 8" descr=""/>
          <p:cNvPicPr/>
          <p:nvPr/>
        </p:nvPicPr>
        <p:blipFill>
          <a:blip r:embed="rId1"/>
          <a:stretch/>
        </p:blipFill>
        <p:spPr>
          <a:xfrm>
            <a:off x="1714680" y="3286080"/>
            <a:ext cx="5715000" cy="3357720"/>
          </a:xfrm>
          <a:prstGeom prst="rect">
            <a:avLst/>
          </a:prstGeom>
          <a:ln w="0">
            <a:noFill/>
          </a:ln>
        </p:spPr>
      </p:pic>
      <p:sp>
        <p:nvSpPr>
          <p:cNvPr id="430" name="TextBox 9"/>
          <p:cNvSpPr/>
          <p:nvPr/>
        </p:nvSpPr>
        <p:spPr>
          <a:xfrm>
            <a:off x="2643120" y="59292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70-е   90-е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1" name="TextBox 10"/>
          <p:cNvSpPr/>
          <p:nvPr/>
        </p:nvSpPr>
        <p:spPr>
          <a:xfrm>
            <a:off x="5214960" y="59166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70-е   90-е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итание виноградной улитки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337680"/>
            <a:ext cx="7859880" cy="100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Класс Брюхоногие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9152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Виноградная Улитка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Конус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648240" cy="2735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338436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Брюхоног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Гидроб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Ахатин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500040" y="3071880"/>
            <a:ext cx="2376360" cy="2692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"/>
          <p:cNvPicPr/>
          <p:nvPr/>
        </p:nvPicPr>
        <p:blipFill>
          <a:blip r:embed="rId2"/>
          <a:stretch/>
        </p:blipFill>
        <p:spPr>
          <a:xfrm>
            <a:off x="4048200" y="3141720"/>
            <a:ext cx="45687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Брюхоног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Голый слизен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Рапан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900000" y="3573360"/>
            <a:ext cx="2857680" cy="1981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4788000" y="3249720"/>
            <a:ext cx="29052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Брюхоног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Каур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Мурекс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366840" y="3141720"/>
            <a:ext cx="3835440" cy="273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643280" y="3146400"/>
            <a:ext cx="38163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C:\Documents and Settings\User\Рабочий стол\Чередниченко\uliy-tsesar.jpg"/>
          <p:cNvPicPr/>
          <p:nvPr/>
        </p:nvPicPr>
        <p:blipFill>
          <a:blip r:embed="rId1"/>
          <a:stretch/>
        </p:blipFill>
        <p:spPr>
          <a:xfrm>
            <a:off x="357120" y="1928880"/>
            <a:ext cx="3713400" cy="2943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C:\Documents and Settings\User\Рабочий стол\Чередниченко\1200412722__28.jpg"/>
          <p:cNvPicPr/>
          <p:nvPr/>
        </p:nvPicPr>
        <p:blipFill>
          <a:blip r:embed="rId2"/>
          <a:stretch/>
        </p:blipFill>
        <p:spPr>
          <a:xfrm>
            <a:off x="4357800" y="714240"/>
            <a:ext cx="436536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гребешки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3:13:12Z</dcterms:created>
  <dc:creator>Пользователь</dc:creator>
  <dc:description/>
  <dc:language>en-US</dc:language>
  <cp:lastModifiedBy>Илвия Попова</cp:lastModifiedBy>
  <dcterms:modified xsi:type="dcterms:W3CDTF">2012-10-15T21:27:06Z</dcterms:modified>
  <cp:revision>17</cp:revision>
  <dc:subject/>
  <dc:title>МОЛЛЮС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c1b000000000001024140</vt:lpwstr>
  </property>
</Properties>
</file>