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7C2-1E69-47F8-A55E-E409F17A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662-8B5D-4B11-825B-15A1F107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716-599F-42A7-9A89-9BB7D24D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7DC-FA0A-4DD8-816C-4C906DDB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2321-6679-43B8-8372-A0FDE314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BB26-114B-4FB5-8B38-852CCC95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8561-3E7A-44F0-BA37-8E0E0694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1BC7-4EDA-490E-8E20-002EC025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05B5-A46B-44E9-9D66-14FC6BCC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1826-B60D-4B5B-A44E-15EA58DC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94CD-BD0C-41CB-AEBF-45509AD7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ED9-5848-4738-9669-2D319851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2125-BE2F-4C15-AD97-CEFB067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7543-D121-4144-B500-493A46AD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9A78-3E68-44DD-B701-C20726D0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9D39-852D-4D5E-B824-3D95B334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B711-E542-4E72-AEB8-BC31FDE0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D5FF-8645-475A-8BFB-90F1ED90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EFFE-CAC5-438E-88F0-9B72C4A9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E059-E37A-4125-8235-9A391ADF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1761E-A94E-43A0-AFBA-576174A2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BAB4-ADD9-4E78-8B77-0DC0ED6A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DE9-FAAB-4EE9-A99F-01D9F16C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BE573-C7DF-4828-8D9E-1107B558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01432-B583-4E92-A906-B4F3253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C6BE-DCC5-4756-B89F-DE3CC505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8AE6-3A32-479C-9E6C-0E7AC82D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6E14C-A35B-4260-90F2-8FE57C50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64B7-A411-4AFE-AE61-E857B4EE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2302-FBC0-4DB7-A6C6-CAC38DFD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20C06-10E8-4991-8580-6990EE50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6841-A278-4E5B-9DBC-C9DB3039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A4ED-C5CF-4A8C-A31F-206999B9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B8B-B611-4D22-9BB2-8315EB0E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87564-C302-4749-9BCC-3779A307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38BB5-1306-4BE3-B1B1-038BF64A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89EF6-1B4D-4789-8F7C-A6A32BFF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8CDFD-8491-4650-B453-4D6A476F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6DC55-A282-4DCB-A3CC-C65960C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E89B-0857-4341-879A-AF0FF219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90A69-3A1E-481C-83FA-2AAAEDA2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2449-F1E8-45A6-8F30-853CB58A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BE27-1F7D-4188-8BB7-634271FC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BABA4-DE7B-470C-B5D0-CA881923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709-AE07-4D94-8953-6133A13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067F2-090E-40E2-8677-13C74A1C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13827-4A6D-45E1-818F-32B9E31D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91711-1087-4CE6-8329-B591D599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066A6-F3D6-4BA6-8DF2-22585F21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E1E16-C75A-4302-8C55-A9B19A76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7E02B-3A15-4C6E-92FB-D88A609B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B970-1185-48EC-8FD9-44ECF0BF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778F9-D2FF-47FB-B8BF-2E04B9DB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C9200-FA8B-46AF-B79F-F3D560E5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6F0D6-9CB4-4064-B3DE-B9E6119F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30E-FB86-4C65-8E3B-97D3916B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EA19E-677E-4F87-9717-44B3B668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3F83-3A70-4CFF-8D4A-DE313C06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B5645-725C-49FD-B071-61DA064B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19AB8-FDB4-4ABF-8E3C-15754405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DF0E5-AE4C-4F11-A0B3-48E785C7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4E471-0F1F-47B7-832F-5F0BAA75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06A54-171C-47AA-8723-9DE62673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B5779-7509-4C11-87D4-EABE36FF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4D281-778F-4E31-BC9D-E3363ACC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6A63-2374-4F17-B94D-5E207561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5B8-8C8B-43FA-B1BF-A93D0072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07C58-F3D4-48BA-ABC3-498027A6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EFA92-B8CC-4D59-A044-0848DB5E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A4514-01E2-4070-A866-BB8E6401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9E010-5EE2-445A-A1F8-8F529E73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B880C-F435-4E03-976A-C46A455B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55DB3-1892-417D-9079-3817C3C8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827C0-3792-4E17-A8F7-883F1C5D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52990-7631-44B4-957E-FB5FB930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1A348-10BF-40D7-A735-DC95CF69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A551F-AD9F-4055-AC89-4A51CC70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1BD-3137-4760-8BB1-A50D6E4B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F9F4E-4C1F-4FD6-AF36-F8EFE042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5991F-60D7-4861-9A0B-86DE2574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40FA2-309A-4E52-BAF9-A2D54A2C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12E8E-4AF1-4EFC-99B8-8438C402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09BEC-C9F8-4A00-BB7E-1B179828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9B1-6163-40BA-A6A1-3B9693E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85CD-3556-4C16-8F21-CC6E99CE1AC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02D7-80A7-45F8-A0DD-B6ACA85CA5F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FBB1-ADFF-43E5-BF10-34446E69522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F562-1D3E-4C32-9674-D05F5750827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2739-385B-4C31-976F-B6682786CFF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1E61-F299-4D6B-804E-D42DE3C3744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7E30-09DA-437C-AC85-576F086BCC5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2.jpeg"/><Relationship Id="rId3" Type="http://schemas.openxmlformats.org/officeDocument/2006/relationships/image" Target="../media/image41.jpeg"/><Relationship Id="rId4" Type="http://schemas.openxmlformats.org/officeDocument/2006/relationships/image" Target="../media/image38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C:\Documents and Settings\User\Рабочий стол\Чередниченко\0_26e52_82b8f474_-1-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85880" y="1142640"/>
            <a:ext cx="80582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ndara"/>
              </a:rPr>
              <a:t>Разнообразие моллюсков</a:t>
            </a:r>
            <a:endParaRPr b="0" lang="en-US" sz="8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Двустворчаты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Мид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Устриц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3816360" cy="2971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4602240" y="3284640"/>
            <a:ext cx="3986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Documents and Settings\User\Рабочий стол\Чередниченко\0_60f65_d4d2dfa_-1-L.jpg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Двустворчаты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Жемчужниц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Перловиц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2305080" cy="2524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067280" y="32274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Documents and Settings\User\Рабочий стол\Чередниченко\stone23.jpg"/>
          <p:cNvPicPr/>
          <p:nvPr/>
        </p:nvPicPr>
        <p:blipFill>
          <a:blip r:embed="rId1"/>
          <a:stretch/>
        </p:blipFill>
        <p:spPr>
          <a:xfrm rot="20806200">
            <a:off x="561960" y="347400"/>
            <a:ext cx="3357720" cy="2797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Documents and Settings\User\Рабочий стол\Чередниченко\27529176.jpg"/>
          <p:cNvPicPr/>
          <p:nvPr/>
        </p:nvPicPr>
        <p:blipFill>
          <a:blip r:embed="rId2"/>
          <a:stretch/>
        </p:blipFill>
        <p:spPr>
          <a:xfrm rot="21220800">
            <a:off x="1507680" y="3531960"/>
            <a:ext cx="3333960" cy="2923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Documents and Settings\User\Рабочий стол\Чередниченко\imgs048.jpg"/>
          <p:cNvPicPr/>
          <p:nvPr/>
        </p:nvPicPr>
        <p:blipFill>
          <a:blip r:embed="rId3"/>
          <a:stretch/>
        </p:blipFill>
        <p:spPr>
          <a:xfrm rot="265800">
            <a:off x="5303520" y="985320"/>
            <a:ext cx="34812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Двустворчаты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Корабельный Черв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Тридакна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642960" y="3214800"/>
            <a:ext cx="2232000" cy="2976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C:\Documents and Settings\User\Рабочий стол\Чередниченко\Раковина-тридакны.jpg"/>
          <p:cNvPicPr/>
          <p:nvPr/>
        </p:nvPicPr>
        <p:blipFill>
          <a:blip r:embed="rId2"/>
          <a:stretch/>
        </p:blipFill>
        <p:spPr>
          <a:xfrm>
            <a:off x="4930920" y="3286080"/>
            <a:ext cx="3498840" cy="2286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murzim.ru/uploads/posts/2010-11/1291071621_image025.jpg"/>
          <p:cNvPicPr/>
          <p:nvPr/>
        </p:nvPicPr>
        <p:blipFill>
          <a:blip r:embed="rId3"/>
          <a:stretch/>
        </p:blipFill>
        <p:spPr>
          <a:xfrm>
            <a:off x="3000240" y="3357720"/>
            <a:ext cx="4273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Голов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Осьминог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Кальма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55640" y="3290760"/>
            <a:ext cx="3629160" cy="2924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5148360" y="3290760"/>
            <a:ext cx="2962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7" name="Чудище-осьминог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Голов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42600" y="2643120"/>
            <a:ext cx="382284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Каракатиц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Наутилу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324000" y="3157560"/>
            <a:ext cx="3887640" cy="3008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4587840" y="3157560"/>
            <a:ext cx="38098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Мид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Гребешо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6" name="Picture 2" descr="C:\Documents and Settings\User\Рабочий стол\Чередниченко\midiya.jpg"/>
          <p:cNvPicPr/>
          <p:nvPr/>
        </p:nvPicPr>
        <p:blipFill>
          <a:blip r:embed="rId1"/>
          <a:stretch/>
        </p:blipFill>
        <p:spPr>
          <a:xfrm>
            <a:off x="357120" y="3214800"/>
            <a:ext cx="3175200" cy="3174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9" descr="C:\Documents and Settings\User\Рабочий стол\Чередниченко\Jakobsmuschel 4.jpg"/>
          <p:cNvPicPr/>
          <p:nvPr/>
        </p:nvPicPr>
        <p:blipFill>
          <a:blip r:embed="rId2"/>
          <a:stretch/>
        </p:blipFill>
        <p:spPr>
          <a:xfrm>
            <a:off x="4572000" y="321480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Сердцевидка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1" name="Picture 2" descr="C:\Documents and Settings\User\Рабочий стол\Чередниченко\miya.jpg"/>
          <p:cNvPicPr/>
          <p:nvPr/>
        </p:nvPicPr>
        <p:blipFill>
          <a:blip r:embed="rId1"/>
          <a:stretch/>
        </p:blipFill>
        <p:spPr>
          <a:xfrm>
            <a:off x="500040" y="307188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Documents and Settings\User\Рабочий стол\Чередниченко\Сердцевидка-Сеrastoderma-glaucum.jpg"/>
          <p:cNvPicPr/>
          <p:nvPr/>
        </p:nvPicPr>
        <p:blipFill>
          <a:blip r:embed="rId2"/>
          <a:stretch/>
        </p:blipFill>
        <p:spPr>
          <a:xfrm>
            <a:off x="4643280" y="3143160"/>
            <a:ext cx="33894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28400" y="642600"/>
            <a:ext cx="8429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Тема урока: 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Разнообразие моллюсков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87d6"/>
                </a:solidFill>
                <a:latin typeface="Candara"/>
              </a:rPr>
              <a:t>Цели урока: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зучить разнообразие моллюс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бъяснить взаимосвязь особенностей строения и способа жизни моллюс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Выяснить значение моллюсков в экосистемах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аучиться распознавать раковины моллюс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Выполнить лабораторную работ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енер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асс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6" name="Picture 2" descr="C:\Documents and Settings\User\Рабочий стол\Чередниченко\vey.jpg"/>
          <p:cNvPicPr/>
          <p:nvPr/>
        </p:nvPicPr>
        <p:blipFill>
          <a:blip r:embed="rId1"/>
          <a:stretch/>
        </p:blipFill>
        <p:spPr>
          <a:xfrm>
            <a:off x="500040" y="3071880"/>
            <a:ext cx="3175200" cy="3174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Documents and Settings\User\Рабочий стол\Чередниченко\Трития-насса-Tritio-reticulate-L..jpeg"/>
          <p:cNvPicPr/>
          <p:nvPr/>
        </p:nvPicPr>
        <p:blipFill>
          <a:blip r:embed="rId2"/>
          <a:stretch/>
        </p:blipFill>
        <p:spPr>
          <a:xfrm>
            <a:off x="4786200" y="314316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Игольчатая улит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Трит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1" name="Picture 2" descr="C:\Documents and Settings\User\Рабочий стол\Чередниченко\Игольная-улитка-Cerithium-oulgatum-225x300.jpg"/>
          <p:cNvPicPr/>
          <p:nvPr/>
        </p:nvPicPr>
        <p:blipFill>
          <a:blip r:embed="rId1"/>
          <a:stretch/>
        </p:blipFill>
        <p:spPr>
          <a:xfrm>
            <a:off x="714240" y="314316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C:\Documents and Settings\User\Рабочий стол\Чередниченко\triciya3.jpg"/>
          <p:cNvPicPr/>
          <p:nvPr/>
        </p:nvPicPr>
        <p:blipFill>
          <a:blip r:embed="rId2"/>
          <a:stretch/>
        </p:blipFill>
        <p:spPr>
          <a:xfrm>
            <a:off x="4714920" y="3214800"/>
            <a:ext cx="3357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Моллюски Азовского мор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Лентидиу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Черенок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6" name="Picture 2" descr="C:\Documents and Settings\User\Рабочий стол\Чередниченко\images (3).jpg"/>
          <p:cNvPicPr/>
          <p:nvPr/>
        </p:nvPicPr>
        <p:blipFill>
          <a:blip r:embed="rId1"/>
          <a:stretch/>
        </p:blipFill>
        <p:spPr>
          <a:xfrm>
            <a:off x="500040" y="3286080"/>
            <a:ext cx="3664080" cy="2428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Documents and Settings\User\Рабочий стол\Чередниченко\cherenok.jpg"/>
          <p:cNvPicPr/>
          <p:nvPr/>
        </p:nvPicPr>
        <p:blipFill>
          <a:blip r:embed="rId2"/>
          <a:stretch/>
        </p:blipFill>
        <p:spPr>
          <a:xfrm>
            <a:off x="4786200" y="314316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7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Соотношение биомассы дна Азовского мор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9" name="Диаграмма 8" descr=""/>
          <p:cNvPicPr/>
          <p:nvPr/>
        </p:nvPicPr>
        <p:blipFill>
          <a:blip r:embed="rId1"/>
          <a:stretch/>
        </p:blipFill>
        <p:spPr>
          <a:xfrm>
            <a:off x="285840" y="2500200"/>
            <a:ext cx="4143240" cy="3135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User\Рабочий стол\Чередниченко\miya.jpg"/>
          <p:cNvPicPr/>
          <p:nvPr/>
        </p:nvPicPr>
        <p:blipFill>
          <a:blip r:embed="rId2"/>
          <a:stretch/>
        </p:blipFill>
        <p:spPr>
          <a:xfrm>
            <a:off x="6429240" y="2500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Documents and Settings\User\Рабочий стол\Чередниченко\Сердцевидка-Сеrastoderma-glaucum.jpg"/>
          <p:cNvPicPr/>
          <p:nvPr/>
        </p:nvPicPr>
        <p:blipFill>
          <a:blip r:embed="rId3"/>
          <a:stretch/>
        </p:blipFill>
        <p:spPr>
          <a:xfrm>
            <a:off x="4286160" y="2500200"/>
            <a:ext cx="1746360" cy="1746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Documents and Settings\User\Рабочий стол\Чередниченко\images (3).jpg"/>
          <p:cNvPicPr/>
          <p:nvPr/>
        </p:nvPicPr>
        <p:blipFill>
          <a:blip r:embed="rId4"/>
          <a:stretch/>
        </p:blipFill>
        <p:spPr>
          <a:xfrm>
            <a:off x="4214880" y="4429080"/>
            <a:ext cx="2130480" cy="17859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5"/>
          <a:stretch/>
        </p:blipFill>
        <p:spPr>
          <a:xfrm>
            <a:off x="6500880" y="4429080"/>
            <a:ext cx="1590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Пищевые цеп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85480" y="2679480"/>
            <a:ext cx="864396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Фитопланктон        Моллюски        мелкая рыба       хищная рыб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cxnSp>
        <p:nvCxnSpPr>
          <p:cNvPr id="426" name="Прямая со стрелкой 5"/>
          <p:cNvCxnSpPr/>
          <p:nvPr/>
        </p:nvCxnSpPr>
        <p:spPr>
          <a:xfrm>
            <a:off x="2285640" y="292896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7" name="Прямая со стрелкой 6"/>
          <p:cNvCxnSpPr/>
          <p:nvPr/>
        </p:nvCxnSpPr>
        <p:spPr>
          <a:xfrm>
            <a:off x="4214880" y="292896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Прямая со стрелкой 7"/>
          <p:cNvCxnSpPr/>
          <p:nvPr/>
        </p:nvCxnSpPr>
        <p:spPr>
          <a:xfrm>
            <a:off x="6500880" y="292896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29" name="Диаграмма 8" descr=""/>
          <p:cNvPicPr/>
          <p:nvPr/>
        </p:nvPicPr>
        <p:blipFill>
          <a:blip r:embed="rId1"/>
          <a:stretch/>
        </p:blipFill>
        <p:spPr>
          <a:xfrm>
            <a:off x="1714680" y="3286080"/>
            <a:ext cx="5715000" cy="3357720"/>
          </a:xfrm>
          <a:prstGeom prst="rect">
            <a:avLst/>
          </a:prstGeom>
          <a:ln w="0">
            <a:noFill/>
          </a:ln>
        </p:spPr>
      </p:pic>
      <p:sp>
        <p:nvSpPr>
          <p:cNvPr id="430" name="TextBox 9"/>
          <p:cNvSpPr/>
          <p:nvPr/>
        </p:nvSpPr>
        <p:spPr>
          <a:xfrm>
            <a:off x="2643120" y="59292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70-е   90-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5214960" y="59166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70-е   90-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итание виноградной улитк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337680"/>
            <a:ext cx="7859880" cy="100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Класс Брюхоноги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915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Виноградная Улитка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Кону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648240" cy="2735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38436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Брюх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идроб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Ахати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500040" y="3071880"/>
            <a:ext cx="2376360" cy="2692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4048200" y="3141720"/>
            <a:ext cx="45687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Брюх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Голый слизен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апа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2857680" cy="1981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4788000" y="3249720"/>
            <a:ext cx="29052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Класс Брюхоног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Каур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урек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366840" y="3141720"/>
            <a:ext cx="3835440" cy="273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643280" y="3146400"/>
            <a:ext cx="3816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Documents and Settings\User\Рабочий стол\Чередниченко\uliy-tsesar.jpg"/>
          <p:cNvPicPr/>
          <p:nvPr/>
        </p:nvPicPr>
        <p:blipFill>
          <a:blip r:embed="rId1"/>
          <a:stretch/>
        </p:blipFill>
        <p:spPr>
          <a:xfrm>
            <a:off x="357120" y="1928880"/>
            <a:ext cx="3713400" cy="2943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C:\Documents and Settings\User\Рабочий стол\Чередниченко\1200412722__28.jpg"/>
          <p:cNvPicPr/>
          <p:nvPr/>
        </p:nvPicPr>
        <p:blipFill>
          <a:blip r:embed="rId2"/>
          <a:stretch/>
        </p:blipFill>
        <p:spPr>
          <a:xfrm>
            <a:off x="4357800" y="714240"/>
            <a:ext cx="43653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гребешки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3:13:12Z</dcterms:created>
  <dc:creator>Пользователь</dc:creator>
  <dc:description/>
  <dc:language>en-US</dc:language>
  <cp:lastModifiedBy>Илвия Попова</cp:lastModifiedBy>
  <dcterms:modified xsi:type="dcterms:W3CDTF">2012-10-15T21:27:06Z</dcterms:modified>
  <cp:revision>17</cp:revision>
  <dc:subject/>
  <dc:title>МОЛЛЮС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1b000000000001024140</vt:lpwstr>
  </property>
</Properties>
</file>