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37A1-C29B-4A56-B263-D289AE4E8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4BDF-068F-4880-A8CD-93016FA3C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D2A1-AA69-4148-9B6E-D177C8C7E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1F19-E4F0-4A3E-B6D6-BBC8604D4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9FDD-0F59-49E7-843A-425A1B959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6D4D-0AFC-492E-847E-F30454E1D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DB6C-3A7E-44F6-9A92-71A2AA83A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1838-BCC4-4299-9EBD-F676A7A26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C6B8-062D-4EA5-85F7-6E92A5AD7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D68A-2A17-45B4-BA43-4B82B296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FD09-F05E-4988-8D4C-4322F4B0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3C6F-7A1A-44BA-A8C9-B9EF0061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DD5D2-631B-4FC3-A10C-5909FDF79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Arial"/>
              </a:rPr>
              <a:t>Питание и здоровь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Ознакомить учащихся с основными требованиями нормального пит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Рассмотреть последствия недостаточного питания и ожир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Определить факторы, негативно влияющие на обмен вещест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Научить анализировать индивидуальный рацион пит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Формировать потребность в здоровом образе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457200" y="0"/>
          <a:ext cx="8229600" cy="64785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6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Витами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Где содержат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Для чего необходи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А(ретинол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Молоко, сливочное масло, яйца, рыбий жир, свежая зел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Для глаз(способность видеть при незначительном освещении), для кож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В(группа нескольких витаминов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Хлеб с отрубями, дрожжи, печень, соевые боб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Для деления клеток, для высвобождения энергии из пищ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С(аскорбиновая кислот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Апельсины, лимоны, смородина, помидоры, свежая зелен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Для кровеносных сосудов, заживления ран, профилактика простуды, укрепление десе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Д(кальциферол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Рыбий жир, молоко, яйца, сливочное масл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Для костей, зуб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66ff"/>
                          </a:solidFill>
                          <a:latin typeface="Arial"/>
                        </a:rPr>
                        <a:t>Е(токоферол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66ff"/>
                          </a:solidFill>
                          <a:latin typeface="Arial"/>
                        </a:rPr>
                        <a:t>Растительное масло, хлеб с отрубями, рис, яйца, масло, свежая зелен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66ff"/>
                          </a:solidFill>
                          <a:latin typeface="Arial"/>
                        </a:rPr>
                        <a:t>Для мышц, печени, репродуктивной функци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ccff"/>
                          </a:solidFill>
                          <a:latin typeface="Arial"/>
                        </a:rPr>
                        <a:t>К(филокинон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ccff"/>
                          </a:solidFill>
                          <a:latin typeface="Arial"/>
                        </a:rPr>
                        <a:t>Свежая зелень, печен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ccff"/>
                          </a:solidFill>
                          <a:latin typeface="Arial"/>
                        </a:rPr>
                        <a:t>Для свертывания кров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ff"/>
                </a:solidFill>
                <a:latin typeface="Arial"/>
              </a:rPr>
              <a:t>Принципы рационального пит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ff00"/>
                </a:solidFill>
                <a:latin typeface="Arial"/>
              </a:rPr>
              <a:t>Соответствие рациона питания енергетическим  потребностям организ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6600"/>
                </a:solidFill>
                <a:latin typeface="Arial"/>
              </a:rPr>
              <a:t>Оптимальное соотношение и достаточное употребление жизненно необходимых проду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8000"/>
                </a:solidFill>
                <a:latin typeface="Arial"/>
              </a:rPr>
              <a:t>Соблюдение правильного режима пи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33cc"/>
                </a:solidFill>
                <a:latin typeface="Arial"/>
              </a:rPr>
              <a:t>Максимальное разнообразие раци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5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5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5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5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5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5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5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5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Arial"/>
              </a:rPr>
              <a:t>БУДЬТЕ ЗДОРОВЫ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cc3300"/>
                </a:solidFill>
                <a:latin typeface="Arial"/>
              </a:rPr>
              <a:t>Рациональное пит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Своевременное и правильно организованное обеспечение организма разнообразной и вкусной пищей, которая содержит оптимальное количество питательных веществ, необходимых для жизнедеятельности, роста, развития и увеличения трудоспособности организ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Норма пит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ff6600"/>
                </a:solidFill>
                <a:latin typeface="Arial"/>
              </a:rPr>
              <a:t>Количество еды, её компонентов, которое обеспечивает нормальное состояние здоровья человека любого возраста, разного пола, рода деятельности и отвечает его биологической приро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d60093"/>
                </a:solidFill>
                <a:latin typeface="Arial"/>
              </a:rPr>
              <a:t>ЗАВИСИТ О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60093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d60093"/>
                </a:solidFill>
                <a:latin typeface="Arial"/>
              </a:rPr>
              <a:t>-возрас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60093"/>
                </a:solidFill>
                <a:latin typeface="Arial"/>
              </a:rPr>
              <a:t>                                </a:t>
            </a:r>
            <a:r>
              <a:rPr b="0" lang="en-US" sz="2800" spc="-1" strike="noStrike">
                <a:solidFill>
                  <a:srgbClr val="d60093"/>
                </a:solidFill>
                <a:latin typeface="Arial"/>
              </a:rPr>
              <a:t>-по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60093"/>
                </a:solidFill>
                <a:latin typeface="Arial"/>
              </a:rPr>
              <a:t>                                    </a:t>
            </a:r>
            <a:r>
              <a:rPr b="0" lang="en-US" sz="2800" spc="-1" strike="noStrike">
                <a:solidFill>
                  <a:srgbClr val="d60093"/>
                </a:solidFill>
                <a:latin typeface="Arial"/>
              </a:rPr>
              <a:t>-характера тру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60093"/>
                </a:solidFill>
                <a:latin typeface="Arial"/>
              </a:rPr>
              <a:t>                                          </a:t>
            </a:r>
            <a:r>
              <a:rPr b="0" lang="en-US" sz="2800" spc="-1" strike="noStrike">
                <a:solidFill>
                  <a:srgbClr val="d60093"/>
                </a:solidFill>
                <a:latin typeface="Arial"/>
              </a:rPr>
              <a:t>-состояния здоров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2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В норме, масса тела взрослого человека (</a:t>
            </a: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в килограммах</a:t>
            </a: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) в среднем составляет рост в сантиметрах минус 100-110.</a:t>
            </a:r>
            <a:br>
              <a:rPr sz="4400"/>
            </a:b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6600cc"/>
                </a:solidFill>
                <a:latin typeface="Arial"/>
              </a:rPr>
              <a:t>по методике украинского ученого, доктора кардиолога Николая Амосов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9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33cc"/>
                </a:solidFill>
                <a:latin typeface="Arial"/>
              </a:rPr>
              <a:t>    </a:t>
            </a:r>
            <a:r>
              <a:rPr b="0" lang="uk-UA" sz="3200" spc="-1" strike="noStrike">
                <a:solidFill>
                  <a:srgbClr val="ff33cc"/>
                </a:solidFill>
                <a:latin typeface="Arial"/>
              </a:rPr>
              <a:t>Питательные вещества – источник энергии и строительный  материал для организ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cc"/>
                </a:solidFill>
                <a:latin typeface="Arial"/>
              </a:rPr>
              <a:t>Углеводы             Белки                Жи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32000" y="2205000"/>
            <a:ext cx="485640" cy="1479600"/>
          </a:xfrm>
          <a:prstGeom prst="downArrow">
            <a:avLst>
              <a:gd name="adj1" fmla="val 50000"/>
              <a:gd name="adj2" fmla="val 7616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356000" y="2421000"/>
            <a:ext cx="486000" cy="1512720"/>
          </a:xfrm>
          <a:prstGeom prst="downArrow">
            <a:avLst>
              <a:gd name="adj1" fmla="val 50000"/>
              <a:gd name="adj2" fmla="val 778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93080" y="2276640"/>
            <a:ext cx="485640" cy="1512720"/>
          </a:xfrm>
          <a:prstGeom prst="downArrow">
            <a:avLst>
              <a:gd name="adj1" fmla="val 50000"/>
              <a:gd name="adj2" fmla="val 778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ff00"/>
                </a:solidFill>
                <a:latin typeface="Arial"/>
              </a:rPr>
              <a:t>УГЛЕ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Arial"/>
              </a:rPr>
              <a:t>Основной  источник енергии в организ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33cc"/>
                </a:solidFill>
                <a:latin typeface="Arial"/>
              </a:rPr>
              <a:t>Значительное количество находится продуктах растительного происхожд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Arial"/>
              </a:rPr>
              <a:t>(картофель, хлеб, фрукты и т. д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9900"/>
                </a:solidFill>
                <a:latin typeface="Arial"/>
              </a:rPr>
              <a:t>Бел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Примеры белков в организм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60093"/>
                </a:solidFill>
                <a:latin typeface="Arial"/>
              </a:rPr>
              <a:t>-гемоглобин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(содержится в эритроцитах, разносит кислород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60093"/>
                </a:solidFill>
                <a:latin typeface="Arial"/>
              </a:rPr>
              <a:t>-кератин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(белок, из которого образованы ногти и волосы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60093"/>
                </a:solidFill>
                <a:latin typeface="Arial"/>
              </a:rPr>
              <a:t>-актин и миози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(дают возможность мышцам сокращатьс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Источник белко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60093"/>
                </a:solidFill>
                <a:latin typeface="Arial"/>
              </a:rPr>
              <a:t>- мясо, рыба, яйца, орехи, молоко, боб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Жир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Необходимы организму для образования энергии и теп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Насыщенные жир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содержатся в продуктах животного происхождения: масле, сале, жирном мя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Ненасыщенные жир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находятся в продуктах растительного происхождения, включая масла и орех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ff"/>
                </a:solidFill>
                <a:latin typeface="Arial"/>
              </a:rPr>
              <a:t>Дополнительные питательные веще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МИНЕРА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ВИТАМ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Помогают организму правильно работ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5T09:15:47Z</dcterms:created>
  <dc:creator>Lite5User</dc:creator>
  <dc:description/>
  <dc:language>en-US</dc:language>
  <cp:lastModifiedBy>Lite5User</cp:lastModifiedBy>
  <dcterms:modified xsi:type="dcterms:W3CDTF">2011-03-22T13:07:28Z</dcterms:modified>
  <cp:revision>7</cp:revision>
  <dc:subject/>
  <dc:title>Раціональне харчування-  своєчасне й доцільно організоване постачання організму поживною та смачною їжею, яка містить оптимальну кількість поживних речовин,необхідних для забезпечення життєдіяльності, росту, розвитку та підвищення працездатності.</dc:title>
</cp:coreProperties>
</file>