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649E6-62A5-4C1E-A6F0-D295FE607F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FF238-0E99-4257-8274-6A53F0CE4E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8EAD7-2FF1-48F8-B9E3-0E1AC04BBD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80972-3A0A-4515-88F5-9C49F009A7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85F74-598A-4D4F-977A-A215D1576A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1909AF-9657-4D84-8E2B-F3282ECAEBA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826C9-6E4A-4CF3-9AC4-2C1D5A254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82D72-8137-446B-ADC9-7916830861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2874C-8813-4B5F-8E20-90AB276894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F0B34-A36A-43E8-994E-C55C925CE0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605D54-7A07-4097-9F12-431027F2FC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1AB3B-EAAD-42DB-BAFD-41D2805745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A2E15-D8A5-4E98-A90C-879A02FD143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60093"/>
                </a:solidFill>
                <a:latin typeface="Arial"/>
              </a:rPr>
              <a:t>Питание и здоровь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знакомить учащихся с основными требованиями нормального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Рассмотреть последствия недостаточного питания и ожире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Определить факторы, негативно влияющие на обмен веществ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Научить анализировать индивидуальный рацион питания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99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Формировать потребность в здоровом образе жизн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omb dir="horz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8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8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" fill="hold">
                      <p:stCondLst>
                        <p:cond delay="indefinite"/>
                      </p:stCondLst>
                      <p:childTnLst>
                        <p:par>
                          <p:cTn id="21" fill="hold">
                            <p:stCondLst>
                              <p:cond delay="0"/>
                            </p:stCondLst>
                            <p:childTnLst>
                              <p:par>
                                <p:cTn id="22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" dur="1000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" dur="1000" fill="hold"/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" dur="1000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0" name=""/>
          <p:cNvGraphicFramePr/>
          <p:nvPr/>
        </p:nvGraphicFramePr>
        <p:xfrm>
          <a:off x="457200" y="0"/>
          <a:ext cx="8229600" cy="647856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765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Витамин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Где содержатся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cc0099"/>
                          </a:solidFill>
                          <a:latin typeface="Arial"/>
                        </a:rPr>
                        <a:t>Для чего необходим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А(ретин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Молоко, сливочное масло, яйца, рыбий жир, свежая зелен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6600"/>
                          </a:solidFill>
                          <a:latin typeface="Arial"/>
                        </a:rPr>
                        <a:t>Для глаз(способность видеть при незначительном освещении), для кож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В(группа нескольких витаминов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Хлеб с отрубями, дрожжи, печень, соевые бобы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Для деления клеток, для высвобождения энергии из пищ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68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С(аскорбиновая кислота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Апельсины, лимоны, смородина, помидоры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ff0066"/>
                          </a:solidFill>
                          <a:latin typeface="Arial"/>
                        </a:rPr>
                        <a:t>Для кровеносных сосудов, заживления ран, профилактика простуды, укрепление десен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1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(кальци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Рыбий жир, молоко, яйца, сливочное масло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cc00"/>
                          </a:solidFill>
                          <a:latin typeface="Arial"/>
                        </a:rPr>
                        <a:t>Для костей, зубов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Е(токоферол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Растительное масло, хлеб с отрубями, рис, яйца, масло, свежая зел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9966ff"/>
                          </a:solidFill>
                          <a:latin typeface="Arial"/>
                        </a:rPr>
                        <a:t>Для мышц, печени, репродуктивной функци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3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К(филокинон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Свежая зелень, печень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ccff"/>
                          </a:solidFill>
                          <a:latin typeface="Arial"/>
                        </a:rPr>
                        <a:t>Для свертывания крови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comb dir="horz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ff"/>
                </a:solidFill>
                <a:latin typeface="Arial"/>
              </a:rPr>
              <a:t>Принципы рационального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ff00"/>
                </a:solidFill>
                <a:latin typeface="Arial"/>
              </a:rPr>
              <a:t>Соответствие рациона питания енергетическим  потребностям организм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66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6600"/>
                </a:solidFill>
                <a:latin typeface="Arial"/>
              </a:rPr>
              <a:t>Оптимальное соотношение и достаточное употребление жизненно необходимых продук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8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8000"/>
                </a:solidFill>
                <a:latin typeface="Arial"/>
              </a:rPr>
              <a:t>Соблюдение правильного режима пит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33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Максимальное разнообразие рацион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5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5000" fill="hold"/>
                                        <p:tgtEl>
                                          <p:spTgt spid="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7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9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5000" fill="hold"/>
                                        <p:tgtEl>
                                          <p:spTgt spid="6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5000" fill="hold"/>
                                        <p:tgtEl>
                                          <p:spTgt spid="6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15000" fill="hold"/>
                                        <p:tgtEl>
                                          <p:spTgt spid="6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9" nodeType="withEffect" fill="hold" presetClass="entr" presetID="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1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5000" fill="hold"/>
                                        <p:tgtEl>
                                          <p:spTgt spid="6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617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Arial"/>
              </a:rPr>
              <a:t>БУДЬТЕ ЗДОРОВЫ!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ll dir="d"/>
  </p:transition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with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-.5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xit" presetID="25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87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-9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8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-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-.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9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+.4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1" dur="2000" fill="hold"/>
                                        <p:tgtEl>
                                          <p:spTgt spid="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5000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1998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6000" spc="-1" strike="noStrike">
                <a:solidFill>
                  <a:srgbClr val="cc3300"/>
                </a:solidFill>
                <a:latin typeface="Arial"/>
              </a:rPr>
              <a:t>Рациональное питани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773000"/>
            <a:ext cx="8229600" cy="4352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en-US" sz="3200" spc="-1" strike="noStrike">
                <a:solidFill>
                  <a:srgbClr val="99cc00"/>
                </a:solidFill>
                <a:latin typeface="Arial"/>
              </a:rPr>
              <a:t>Своевременное и правильно организованное обеспечение организма разнообразной и вкусной пищей, которая содержит оптимальное количество питательных веществ, необходимых для жизнедеятельности, роста, развития и увеличения трудоспособности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9999"/>
                </a:solidFill>
                <a:latin typeface="Arial"/>
              </a:rPr>
              <a:t>Норма питания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i="1" lang="en-US" sz="2800" spc="-1" strike="noStrike">
                <a:solidFill>
                  <a:srgbClr val="ff6600"/>
                </a:solidFill>
                <a:latin typeface="Arial"/>
              </a:rPr>
              <a:t>Количество еды, её компонентов, которое обеспечивает нормальное состояние здоровья человека любого возраста, разного пола, рода деятельности и отвечает его биологической природ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ЗАВИСИТ ОТ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возраст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пол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характера труда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                                         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состояния здоровь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strips dir="rd"/>
  </p:transition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path" presetID="1">
                                  <p:stCondLst>
                                    <p:cond delay="0"/>
                                  </p:stCondLst>
                                  <p:iterate type="lt">
                                    <p:tmAbs val="200"/>
                                  </p:iterate>
                                  <p:childTnLst>
                                    <p:animMotion origin="layout" path="M 3.61111E-006 3.33333E-006 C 0.06892 3.33333E-006 0.125 0.02847 0.125 0.06389 C 0.125 0.09907 0.06892 0.12777 3.61111E-006 0.12777 C -0.0691 0.12777 -0.125 0.09907 -0.125 0.06389 C -0.125 0.02847 -0.0691 3.33333E-006 3.61111E-006 3.33333E-006 Z">
                                      <p:cBhvr>
                                        <p:cTn id="62" dur="2000" fill="hold"/>
                                        <p:tgtEl>
                                          <p:spTgt spid="4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" fill="hold">
                      <p:stCondLst>
                        <p:cond delay="indefinite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241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В норме, масса тела взрослого человека (</a:t>
            </a: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в килограммах</a:t>
            </a:r>
            <a:r>
              <a:rPr b="0" lang="en-US" sz="4400" spc="-1" strike="noStrike">
                <a:solidFill>
                  <a:srgbClr val="6600cc"/>
                </a:solidFill>
                <a:latin typeface="Arial"/>
              </a:rPr>
              <a:t>) в среднем составляет рост в сантиметрах минус 100-110.</a:t>
            </a:r>
            <a:br>
              <a:rPr sz="4400"/>
            </a:br>
            <a:r>
              <a:rPr b="0" lang="en-US" sz="4000" spc="-1" strike="noStrike">
                <a:solidFill>
                  <a:srgbClr val="6600cc"/>
                </a:solidFill>
                <a:latin typeface="Arial"/>
              </a:rPr>
              <a:t>(</a:t>
            </a:r>
            <a:r>
              <a:rPr b="0" lang="en-US" sz="3600" spc="-1" strike="noStrike">
                <a:solidFill>
                  <a:srgbClr val="6600cc"/>
                </a:solidFill>
                <a:latin typeface="Arial"/>
              </a:rPr>
              <a:t>по методике украинского ученого, доктора кардиолога Николая Амосова)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fill="hold">
                      <p:stCondLst>
                        <p:cond delay="0"/>
                      </p:stCondLst>
                      <p:childTnLst>
                        <p:par>
                          <p:cTn id="96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withEffect" fill="hold" presetClass="path" presetID="29">
                                  <p:stCondLst>
                                    <p:cond delay="0"/>
                                  </p:stCondLst>
                                  <p:iterate type="lt">
                                    <p:tmAbs val="129.9"/>
                                  </p:iterate>
                                  <p:childTnLst>
                                    <p:animMotion origin="layout" path="M 0 0 C 0.007 -0.01333 0.014 -0.028 0.021 -0.04667 C 0.04 -0.1 0.045 -0.152 0.031 -0.16 C 0.017 -0.16933 -0.01 -0.132 -0.029 -0.07867 C -0.039 -0.05067 -0.045 -0.024 -0.047 -0.004 C -0.05 0.012 -0.051 0.028 -0.051 0.04667 C -0.051 0.10667 -0.038 0.156 -0.023 0.156 C -0.008 0.156 0.005 0.10667 0.005 0.04667 C 0.005 0.01867 0.002 -0.008 -0.003 -0.02667 C -0.005 -0.04267 -0.01 -0.06 -0.016 -0.07733 C -0.036 -0.132 -0.063 -0.16933 -0.077 -0.16 C -0.091 -0.15067 -0.086 -0.1 -0.066 -0.04533 C -0.058 -0.02 -0.047 0.00133 -0.036 0.016 C -0.028 0.02933 -0.019 0.04133 -0.007 0.05333 C 0.029 0.092 0.065 0.10933 0.075 0.09333 C 0.084 0.07733 0.064 0.03333 0.028 -0.004 C 0.013 -0.02 -0.003 -0.032 -0.016 -0.04 C -0.028 -0.048 -0.043 -0.05467 -0.059 -0.05867 C -0.103 -0.072 -0.141 -0.068 -0.144 -0.04667 C -0.148 -0.02667 -0.115 0 -0.071 0.01333 C -0.051 0.01867 -0.032 0.02133 -0.017 0.02 C -0.004 0.02 0.01 0.01733 0.025 0.01333 C 0.069 0 0.102 -0.028 0.098 -0.048 C 0.095 -0.068 0.057 -0.07333 0.013 -0.06 C -0.008 -0.05333 -0.027 -0.044 -0.04 -0.03333 C -0.051 -0.02533 -0.062 -0.016 -0.074 -0.004 C -0.109 0.03467 -0.13 0.07733 -0.12 0.09333 C -0.111 0.10933 -0.074 0.092 -0.039 0.05467 C -0.022 0.036 -0.008 0.01733 0 0 Z">
                                      <p:cBhvr>
                                        <p:cTn id="98" dur="1299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457200" y="260280"/>
            <a:ext cx="8229600" cy="5865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    </a:t>
            </a: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Питательные вещества – источник энергии и строительный  материал для организм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33cc"/>
                </a:solidFill>
                <a:latin typeface="Arial"/>
              </a:rPr>
              <a:t>Углеводы             Белки                Жир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1332000" y="2205000"/>
            <a:ext cx="485640" cy="1479600"/>
          </a:xfrm>
          <a:prstGeom prst="downArrow">
            <a:avLst>
              <a:gd name="adj1" fmla="val 50000"/>
              <a:gd name="adj2" fmla="val 7616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356000" y="2421000"/>
            <a:ext cx="486000" cy="1512720"/>
          </a:xfrm>
          <a:prstGeom prst="downArrow">
            <a:avLst>
              <a:gd name="adj1" fmla="val 50000"/>
              <a:gd name="adj2" fmla="val 77815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7093080" y="2276640"/>
            <a:ext cx="485640" cy="1512720"/>
          </a:xfrm>
          <a:prstGeom prst="downArrow">
            <a:avLst>
              <a:gd name="adj1" fmla="val 50000"/>
              <a:gd name="adj2" fmla="val 7787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9" dur="indefinite" restart="never" nodeType="tmRoot">
          <p:childTnLst>
            <p:seq>
              <p:cTn id="100" dur="indefinite" nodeType="mainSeq">
                <p:childTnLst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5" dur="1000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6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2" dur="1000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00ff00"/>
                </a:solidFill>
                <a:latin typeface="Arial"/>
              </a:rPr>
              <a:t>УГЛЕВОД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Основной  источник енергии в организм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ff33cc"/>
                </a:solidFill>
                <a:latin typeface="Arial"/>
              </a:rPr>
              <a:t>Значительное количество находится продуктах растительного происхождения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3200" spc="-1" strike="noStrike">
                <a:solidFill>
                  <a:srgbClr val="0000ff"/>
                </a:solidFill>
                <a:latin typeface="Arial"/>
              </a:rPr>
              <a:t>(картофель, хлеб, фрукты и т. д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0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withEffect" fill="hold" presetClass="entr" presetID="35">
                                  <p:stCondLst>
                                    <p:cond delay="0"/>
                                  </p:stCondLst>
                                  <p:iterate type="lt">
                                    <p:tmAbs val="60"/>
                                  </p:iterate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6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2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6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4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39" dur="5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9900"/>
                </a:solidFill>
                <a:latin typeface="Arial"/>
              </a:rPr>
              <a:t>Белки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268280"/>
            <a:ext cx="8229600" cy="48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Примеры белков в организм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гемоглоб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содержится в эритроцитах, разносит кислород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кератин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белок, из которого образованы ногти и волосы)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актин и миозин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009900"/>
                </a:solidFill>
                <a:latin typeface="Arial"/>
              </a:rPr>
              <a:t>(дают возможность мышцам сокращаться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6600"/>
                </a:solidFill>
                <a:latin typeface="Arial"/>
              </a:rPr>
              <a:t>Источник белков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800" spc="-1" strike="noStrike">
                <a:solidFill>
                  <a:srgbClr val="d60093"/>
                </a:solidFill>
                <a:latin typeface="Arial"/>
              </a:rPr>
              <a:t>- мясо, рыба, яйца, орехи, молоко, боб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fill="hold">
                      <p:stCondLst>
                        <p:cond delay="0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6" dur="2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1" dur="2000"/>
                                        <p:tgtEl>
                                          <p:spTgt spid="5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6" dur="2000"/>
                                        <p:tgtEl>
                                          <p:spTgt spid="5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1" dur="2000"/>
                                        <p:tgtEl>
                                          <p:spTgt spid="5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2000"/>
                                        <p:tgtEl>
                                          <p:spTgt spid="5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2000"/>
                                        <p:tgtEl>
                                          <p:spTgt spid="5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ff"/>
                </a:solidFill>
                <a:latin typeface="Arial"/>
              </a:rPr>
              <a:t>Жир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Необходимы организму для образования энергии и теп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содержатся в продуктах животного происхождения: масле, сале, жирном мяс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Ненасыщенные жиры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находятся в продуктах растительного происхождения, включая масла и орех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0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0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1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500"/>
                                        <p:tgtEl>
                                          <p:spTgt spid="5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5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8" fill="hold">
                      <p:stCondLst>
                        <p:cond delay="indefinite"/>
                      </p:stCondLst>
                      <p:childTnLst>
                        <p:par>
                          <p:cTn id="199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49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5" dur="500"/>
                                        <p:tgtEl>
                                          <p:spTgt spid="5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66ff"/>
                </a:solidFill>
                <a:latin typeface="Arial"/>
              </a:rPr>
              <a:t>Дополнительные питательные вещества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99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ВОД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cc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cc3300"/>
                </a:solidFill>
                <a:latin typeface="Arial"/>
              </a:rPr>
              <a:t>МИНЕРАЛ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0066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66"/>
                </a:solidFill>
                <a:latin typeface="Arial"/>
              </a:rPr>
              <a:t>ВИТАМИНЫ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9900"/>
                </a:solidFill>
                <a:latin typeface="Arial"/>
              </a:rPr>
              <a:t>Помогают организму правильно работа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206" dur="indefinite" restart="never" nodeType="tmRoot">
          <p:childTnLst>
            <p:seq>
              <p:cTn id="207" dur="indefinite" nodeType="mainSeq">
                <p:childTnLst>
                  <p:par>
                    <p:cTn id="208" fill="hold">
                      <p:stCondLst>
                        <p:cond delay="0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with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80"/>
                                  </p:iterate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8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4" fill="hold">
                      <p:stCondLst>
                        <p:cond delay="indefinite"/>
                      </p:stCondLst>
                      <p:childTnLst>
                        <p:par>
                          <p:cTn id="215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8" dur="1000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19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10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26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1000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10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6" dur="1000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2-05T09:15:47Z</dcterms:created>
  <dc:creator>Lite5User</dc:creator>
  <dc:description/>
  <dc:language>en-US</dc:language>
  <cp:lastModifiedBy>Lite5User</cp:lastModifiedBy>
  <dcterms:modified xsi:type="dcterms:W3CDTF">2011-03-22T13:07:28Z</dcterms:modified>
  <cp:revision>7</cp:revision>
  <dc:subject/>
  <dc:title>Раціональне харчування-  своєчасне й доцільно організоване постачання організму поживною та смачною їжею, яка містить оптимальну кількість поживних речовин,необхідних для забезпечення життєдіяльності, росту, розвитку та підвищення працездатності.</dc:title>
</cp:coreProperties>
</file>