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CF2-A98E-43BC-B9EA-DA5184F4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7A3-D15C-4837-A0E0-36D6429E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1FF-A212-4D07-A102-6AB89DBF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91B-68E6-421F-9938-9DE4A0E5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AB2-B270-47E1-8290-2580180F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B4D-D39D-4EC7-9354-79BB1A42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BDF-BCF2-4C76-99F8-C62CD737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013-F65E-42F8-B0BF-D91BE5D5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B68-4009-4DF2-9A49-9B40CD2C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865-8644-48E9-A74F-EF42D668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231-07C3-47FF-B6F6-0966B5F2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673-3D31-403C-8CBE-CDC2018E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AFDA-AAEB-4DE3-91FE-68C527525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Питание и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Ознакомить учащихся с основными требованиями нормального 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Рассмотреть последствия недостаточного питания и ожи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Определить факторы, негативно влияющие на обмен ве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Научить анализировать индивидуальный рацион 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Формировать потребность в здоровом образе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0"/>
          <a:ext cx="8229600" cy="6478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Витам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Где содержа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Для чего необход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А(ретин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Молоко, сливочное масло, яйца, рыбий жир, свежая зел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Для глаз(способность видеть при незначительном освещении), для кож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(группа нескольких витамин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Хлеб с отрубями, дрожжи, печень, соевые боб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Для деления клеток, для высвобождения энергии из пищ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(аскорбиновая кисло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пельсины, лимоны, смородина, помидоры, свежая зел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ля кровеносных сосудов, заживления ран, профилактика простуды, укрепление дес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Д(кальцифер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ыбий жир, молоко, яйца, сливочное мас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Для костей, зуб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Е(токофер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Растительное масло, хлеб с отрубями, рис, яйца, масло, свежая зел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Для мышц, печени, репродуктивной функ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К(филокин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вежая зелень, печ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Для свертывания кров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Принципы рационального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Arial"/>
              </a:rPr>
              <a:t>Соответствие рациона питания енергетическим  потребностям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Arial"/>
              </a:rPr>
              <a:t>Оптимальное соотношение и достаточное употребление жизненно необходимых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Соблюдение правильного режима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Максимальное разнообразие рац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БУДЬТЕ ЗДОРОВ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3300"/>
                </a:solidFill>
                <a:latin typeface="Arial"/>
              </a:rPr>
              <a:t>Рациональное пит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Своевременное и правильно организованное обеспечение организма разнообразной и вкусной пищей, которая содержит оптимальное количество питательных веществ, необходимых для жизнедеятельности, роста, развития и увеличения трудоспособности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Норм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Количество еды, её компонентов, которое обеспечивает нормальное состояние здоровья человека любого возраста, разного пола, рода деятельности и отвечает его биологической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ЗАВИСИТ 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возра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по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характера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состояния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В норме, масса тела взрослого человека (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в килограммах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) в среднем составляет рост в сантиметрах минус 100-110.</a:t>
            </a:r>
            <a:br>
              <a:rPr sz="4400"/>
            </a:b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по методике украинского ученого, доктора кардиолога Николая Амос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Питательные вещества – источник энергии и строительный  материал для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Углеводы             Белки                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2205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2421000"/>
            <a:ext cx="486000" cy="1512720"/>
          </a:xfrm>
          <a:prstGeom prst="downArrow">
            <a:avLst>
              <a:gd name="adj1" fmla="val 50000"/>
              <a:gd name="adj2" fmla="val 778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2276640"/>
            <a:ext cx="485640" cy="1512720"/>
          </a:xfrm>
          <a:prstGeom prst="downArrow">
            <a:avLst>
              <a:gd name="adj1" fmla="val 50000"/>
              <a:gd name="adj2" fmla="val 778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00"/>
                </a:solidFill>
                <a:latin typeface="Arial"/>
              </a:rPr>
              <a:t>УГЛЕ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Основной  источник енергии в органи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Значительное количество находится продуктах растительного происх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(картофель, хлеб, фрукты и т. 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"/>
              </a:rPr>
              <a:t>Бел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Примеры белков в организ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гемоглобин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содержится в эритроцитах, разносит кислор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кератин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белок, из которого образованы ногти и воло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актин и миоз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дают возможность мышцам сокращать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Источник бел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 мясо, рыба, яйца, орехи, молоко, б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Жи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Необходимы организму для образования энергии и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сыщенные жи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одержатся в продуктах животного происхождения: масле, сале, жирном мя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енасыщенные жи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ходятся в продуктах растительного происхождения, включая масла и оре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Дополнительные питательные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МИНЕР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омогают организму правильно рабо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09:15:47Z</dcterms:created>
  <dc:creator>Lite5User</dc:creator>
  <dc:description/>
  <dc:language>en-US</dc:language>
  <cp:lastModifiedBy>Lite5User</cp:lastModifiedBy>
  <dcterms:modified xsi:type="dcterms:W3CDTF">2011-03-22T13:07:28Z</dcterms:modified>
  <cp:revision>7</cp:revision>
  <dc:subject/>
  <dc:title>Раціональне харчування-  своєчасне й доцільно організоване постачання організму поживною та смачною їжею, яка містить оптимальну кількість поживних речовин,необхідних для забезпечення життєдіяльності, росту, розвитку та підвищення працездатності.</dc:title>
</cp:coreProperties>
</file>