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DCC7-3205-4D83-B530-AFC7CE1B8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74E0-4D66-4D28-9F25-4A2C90C1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5FED-85B6-4737-83A5-C52838A52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6604-A80E-4F6B-AB5E-E0B68D71D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C17A-7DA4-4929-B913-6002B7B0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2916-E822-4F4A-BA24-DEBC5560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D196-AAFC-4FBD-B959-A90A0F18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E5B6-E9BB-483A-92B6-97347777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B56C-3F1E-4439-90C3-0248B0C9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DD85-0D20-4FCF-8FC8-0E4B87F7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9CF2-DE7A-4416-9D0D-2E16754D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CB67-7121-4641-AFA7-751537A5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0264-E9C2-409B-AB4F-3288C4BFD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Arial"/>
              </a:rPr>
              <a:t>Питание и здоров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Ознакомить учащихся с основными требованиями нормального пит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Рассмотреть последствия недостаточного питания и ожир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Определить факторы, негативно влияющие на обмен вещест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Научить анализировать индивидуальный рацион пит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Формировать потребность в здоровом образе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57200" y="0"/>
          <a:ext cx="8229600" cy="64785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Витам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Где содержа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Для чего необходи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А(ретино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Молоко, сливочное масло, яйца, рыбий жир, свежая зел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Для глаз(способность видеть при незначительном освещении), для кож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В(группа нескольких витамино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Хлеб с отрубями, дрожжи, печень, соевые боб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Для деления клеток, для высвобождения энергии из пищ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(аскорбиновая кислот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Апельсины, лимоны, смородина, помидоры, свежая зелен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Для кровеносных сосудов, заживления ран, профилактика простуды, укрепление десе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Д(кальциферо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Рыбий жир, молоко, яйца, сливочное масл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Для костей, зуб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Е(токоферо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Растительное масло, хлеб с отрубями, рис, яйца, масло, свежая зелен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Для мышц, печени, репродуктивной функ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К(филокинон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Свежая зелень, печен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Для свертывания кров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Arial"/>
              </a:rPr>
              <a:t>Принципы рационального п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ff00"/>
                </a:solidFill>
                <a:latin typeface="Arial"/>
              </a:rPr>
              <a:t>Соответствие рациона питания енергетическим  потребностям орган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6600"/>
                </a:solidFill>
                <a:latin typeface="Arial"/>
              </a:rPr>
              <a:t>Оптимальное соотношение и достаточное употребление жизненно необходимых проду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8000"/>
                </a:solidFill>
                <a:latin typeface="Arial"/>
              </a:rPr>
              <a:t>Соблюдение правильного режима 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cc"/>
                </a:solidFill>
                <a:latin typeface="Arial"/>
              </a:rPr>
              <a:t>Максимальное разнообразие раци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5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5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5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5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5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5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БУДЬТЕ ЗДОРОВЫ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cc3300"/>
                </a:solidFill>
                <a:latin typeface="Arial"/>
              </a:rPr>
              <a:t>Рациональное пит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Своевременное и правильно организованное обеспечение организма разнообразной и вкусной пищей, которая содержит оптимальное количество питательных веществ, необходимых для жизнедеятельности, роста, развития и увеличения трудоспособности орган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Норма п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Количество еды, её компонентов, которое обеспечивает нормальное состояние здоровья человека любого возраста, разного пола, рода деятельности и отвечает его биологической прир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ЗАВИСИТ О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-возрас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-по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                                    </a:t>
            </a: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-характера тру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                                          </a:t>
            </a: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-состояния здоро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2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В норме, масса тела взрослого человека (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в килограммах</a:t>
            </a: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) в среднем составляет рост в сантиметрах минус 100-110.</a:t>
            </a:r>
            <a:br>
              <a:rPr sz="4400"/>
            </a:b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6600cc"/>
                </a:solidFill>
                <a:latin typeface="Arial"/>
              </a:rPr>
              <a:t>по методике украинского ученого, доктора кардиолога Николая Амосов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9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ff33cc"/>
                </a:solidFill>
                <a:latin typeface="Arial"/>
              </a:rPr>
              <a:t>Питательные вещества – источник энергии и строительный  материал для орган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Углеводы             Белки                Жи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32000" y="2205000"/>
            <a:ext cx="485640" cy="1479600"/>
          </a:xfrm>
          <a:prstGeom prst="downArrow">
            <a:avLst>
              <a:gd name="adj1" fmla="val 50000"/>
              <a:gd name="adj2" fmla="val 761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56000" y="2421000"/>
            <a:ext cx="486000" cy="1512720"/>
          </a:xfrm>
          <a:prstGeom prst="downArrow">
            <a:avLst>
              <a:gd name="adj1" fmla="val 50000"/>
              <a:gd name="adj2" fmla="val 778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93080" y="2276640"/>
            <a:ext cx="485640" cy="1512720"/>
          </a:xfrm>
          <a:prstGeom prst="downArrow">
            <a:avLst>
              <a:gd name="adj1" fmla="val 50000"/>
              <a:gd name="adj2" fmla="val 778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ff00"/>
                </a:solidFill>
                <a:latin typeface="Arial"/>
              </a:rPr>
              <a:t>УГЛЕ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Основной  источник енергии в организ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cc"/>
                </a:solidFill>
                <a:latin typeface="Arial"/>
              </a:rPr>
              <a:t>Значительное количество находится продуктах растительного происхож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(картофель, хлеб, фрукты и т. 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00"/>
                </a:solidFill>
                <a:latin typeface="Arial"/>
              </a:rPr>
              <a:t>Бел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Примеры белков в организм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-гемоглобин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содержится в эритроцитах, разносит кислород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-кератин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белок, из которого образованы ногти и волосы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-актин и миози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дают возможность мышцам сокращатьс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Источник белк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- мясо, рыба, яйца, орехи, молоко, бо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Жир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Необходимы организму для образования энергии и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асыщенные жир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одержатся в продуктах животного происхождения: масле, сале, жирном мя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енасыщенные жир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находятся в продуктах растительного происхождения, включая масла и оре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ff"/>
                </a:solidFill>
                <a:latin typeface="Arial"/>
              </a:rPr>
              <a:t>Дополнительные питательные ве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МИНЕР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ВИТАМ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Помогают организму правильно работ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09:15:47Z</dcterms:created>
  <dc:creator>Lite5User</dc:creator>
  <dc:description/>
  <dc:language>en-US</dc:language>
  <cp:lastModifiedBy>Lite5User</cp:lastModifiedBy>
  <dcterms:modified xsi:type="dcterms:W3CDTF">2011-03-22T13:07:28Z</dcterms:modified>
  <cp:revision>7</cp:revision>
  <dc:subject/>
  <dc:title>Раціональне харчування-  своєчасне й доцільно організоване постачання організму поживною та смачною їжею, яка містить оптимальну кількість поживних речовин,необхідних для забезпечення життєдіяльності, росту, розвитку та підвищення працездатності.</dc:title>
</cp:coreProperties>
</file>