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4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35.png" ContentType="image/png"/>
  <Override PartName="/ppt/media/image33.jpeg" ContentType="image/jpeg"/>
  <Override PartName="/ppt/media/image7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30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  <p:sldId id="278" r:id="rId61"/>
    <p:sldId id="279" r:id="rId62"/>
    <p:sldId id="280" r:id="rId63"/>
    <p:sldId id="281" r:id="rId64"/>
    <p:sldId id="282" r:id="rId65"/>
    <p:sldId id="283" r:id="rId66"/>
    <p:sldId id="284" r:id="rId67"/>
    <p:sldId id="285" r:id="rId68"/>
    <p:sldId id="286" r:id="rId69"/>
    <p:sldId id="287" r:id="rId70"/>
    <p:sldId id="288" r:id="rId71"/>
    <p:sldId id="289" r:id="rId72"/>
    <p:sldId id="290" r:id="rId73"/>
    <p:sldId id="291" r:id="rId74"/>
    <p:sldId id="292" r:id="rId75"/>
    <p:sldId id="293" r:id="rId76"/>
    <p:sldId id="294" r:id="rId77"/>
    <p:sldId id="295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slide" Target="slides/slide23.xml"/><Relationship Id="rId62" Type="http://schemas.openxmlformats.org/officeDocument/2006/relationships/slide" Target="slides/slide24.xml"/><Relationship Id="rId63" Type="http://schemas.openxmlformats.org/officeDocument/2006/relationships/slide" Target="slides/slide25.xml"/><Relationship Id="rId64" Type="http://schemas.openxmlformats.org/officeDocument/2006/relationships/slide" Target="slides/slide26.xml"/><Relationship Id="rId65" Type="http://schemas.openxmlformats.org/officeDocument/2006/relationships/slide" Target="slides/slide27.xml"/><Relationship Id="rId66" Type="http://schemas.openxmlformats.org/officeDocument/2006/relationships/slide" Target="slides/slide28.xml"/><Relationship Id="rId67" Type="http://schemas.openxmlformats.org/officeDocument/2006/relationships/slide" Target="slides/slide29.xml"/><Relationship Id="rId68" Type="http://schemas.openxmlformats.org/officeDocument/2006/relationships/slide" Target="slides/slide30.xml"/><Relationship Id="rId69" Type="http://schemas.openxmlformats.org/officeDocument/2006/relationships/slide" Target="slides/slide31.xml"/><Relationship Id="rId70" Type="http://schemas.openxmlformats.org/officeDocument/2006/relationships/slide" Target="slides/slide32.xml"/><Relationship Id="rId71" Type="http://schemas.openxmlformats.org/officeDocument/2006/relationships/slide" Target="slides/slide33.xml"/><Relationship Id="rId72" Type="http://schemas.openxmlformats.org/officeDocument/2006/relationships/slide" Target="slides/slide34.xml"/><Relationship Id="rId73" Type="http://schemas.openxmlformats.org/officeDocument/2006/relationships/slide" Target="slides/slide35.xml"/><Relationship Id="rId74" Type="http://schemas.openxmlformats.org/officeDocument/2006/relationships/slide" Target="slides/slide36.xml"/><Relationship Id="rId75" Type="http://schemas.openxmlformats.org/officeDocument/2006/relationships/slide" Target="slides/slide37.xml"/><Relationship Id="rId76" Type="http://schemas.openxmlformats.org/officeDocument/2006/relationships/slide" Target="slides/slide38.xml"/><Relationship Id="rId77" Type="http://schemas.openxmlformats.org/officeDocument/2006/relationships/slide" Target="slides/slide39.xml"/><Relationship Id="rId78" Type="http://schemas.openxmlformats.org/officeDocument/2006/relationships/slide" Target="slides/slide40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CFB-0868-4E4A-BFA0-E9B55528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F34-E08D-4029-9CD7-A81020C9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B8AAB-95DE-46D7-A463-63BA2915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982E0-6A6C-4075-8B37-39899E1D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AD7DC-BA7B-4D79-BFEA-8C72A799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36579-0606-48DF-BAA9-2F2DB96E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EE83C-8222-4CA0-A391-5A1CD237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79640-2AD0-45DC-9C91-197A60FE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782C7-8C23-49D8-9567-753A15C3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54F43-C0D0-4A9B-A480-94E220DF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F1338-32AF-472F-813E-6E5DB4DB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F9B4F-6692-4476-B928-351FDCD8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1C9-38E3-4F5D-89ED-31E99FF4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40B8D-6E1C-4D51-9129-66B603E2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19629-F214-4FAA-9F34-3BEBE33A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F02D9-AD06-4555-8FAB-A1E045AC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C2A86-4FF4-46CB-B227-3BA634A8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44F50-4B2F-46A3-90F1-AC1D833A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FFAF2-F43E-4801-845E-54ADD3CC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5F587-705C-437B-9D73-90C640CF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E8625-E42F-4E40-BA6A-2D080538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41107-2BA4-4625-9FF2-DA558BF0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9A6FF-AC81-44A9-8D5D-812F5242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370-0D06-435D-9BF2-F4D858DE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28F97-DA45-4C6A-B0B3-88F69F36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1DA3D-373A-4DEE-BEAE-B54BD945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3AD00-C85A-44A1-8199-AB1FAC32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8024B-3291-4397-9B74-C252612B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1DD35-1752-43F6-94A0-3948994F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79D0F-43FA-4319-ACFD-BD933A49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AFDD0-8954-4727-9685-DC511FE2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65225-1EB2-4248-A1BA-B08FAFCE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AAE4C-2774-4710-8519-31DF0D87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69EF9-9B27-4737-A8EC-9020E4E4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3ABA-728C-478E-8177-C38E0594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887BF-A180-4AE6-A90C-8C4FCFF6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E1005-F31E-4C0A-98A7-CE2EA8EE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FDB94-1E14-4B7C-92AC-D31B9788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E00C6-8856-479A-B4EE-1A66FF37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C7C75-7EFB-4398-952C-57241B96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285B5-2C43-4360-A5E4-6DA6CDD8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655A2-EE93-4904-BCFB-FCCBBB92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3C986-4790-4552-9816-3DB02D02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8CDE3-8D8C-47B5-8940-6B4F4673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25FF4-723F-470E-A8F5-FEB8B549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6EF8-FC02-4BCB-A513-249178D4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96F79-D191-4028-B7DF-927BEAB2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53060-457E-4262-8B5A-FCA2ADD7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C03BF-01DF-4479-976C-69E1E99E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18190-FAA7-4451-AE2A-1F6155D5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6FD17-BC7A-4AB8-86B6-EF3C8268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D9F63-7378-42A1-9414-B4F01CA0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61129-D524-43EA-8FF5-9F9C8938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7F24C-19A6-4C9B-BECE-65F14981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5D73A-0D4D-4EF7-A798-F9960F74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01EDA-0F98-45BB-86D9-ACDAFE97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938C-9C34-400C-A7AB-05E16694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7A0BF-9418-4B8F-9ECB-CA337F85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4EC7D-F371-4A00-B094-41B47585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CEA32B-C9C5-4FCC-8DC7-2910A7E7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08904-73D5-4724-B180-D5F3AE6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08433-67EC-40A8-BB60-4DF87FD0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E9163-6C8B-490F-B347-E07BB819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2A7D2-0821-4A2C-AD9B-5435E787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6001F-57BF-40BC-B358-52DA0953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F0F66-7B34-423E-89F1-0D118EF8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5989D-3439-4316-BC98-33EC3803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DF17-2919-432E-94F6-2BF85BBE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2FA829-8CEC-4DE0-9C31-9F736945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15A5C-477E-4F87-9882-65B3121C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6F7137-17F6-43EE-99CF-3ECAC5B7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EF002-FF39-47CF-A795-19844D8F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3486A9-B0C9-4674-9EFD-79D9A846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AFFCA-1295-4695-B41E-AEFB2A4E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C98F5-F3A0-4D87-8F3D-C500E2C8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DE12A-3FD1-4CE1-B9F9-66991826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94648-56DC-4E46-A450-BFC19D9D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D4DA66-1630-490C-92E8-3EF54659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DBA9-9612-4C42-8A1F-1DD09D1E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2EB50-9A71-44B8-9367-269F761D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0189C1-3C5D-40DD-9523-0712DF53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F604F6-0582-4A47-86FE-1166C541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A39BEE-6E41-43C0-B845-01881AAF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C9CE45-F5B0-4E64-8DB6-DEAB2177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20B348-ECEC-44AC-9FBB-2C265BC2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DFA22-E5ED-4226-A5C8-496E251D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6BEE65-D040-4470-8C06-F0BB448C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AA958-C98C-42D6-ADAA-661E7226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2BCDB-48EA-4E2F-9ABE-95BF082E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B98C-65A7-43D0-B16E-4481EA4C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7CE90D-5585-494A-84FA-98A5B21C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53D8B-1E98-45FE-B23A-8F04D113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2A8042-86DB-464D-9406-128F9CCE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544EB8-1B03-49EE-ABED-758D61E3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769330-55A9-4249-B2BD-D294A78D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D4335-9A6B-4926-891B-092823D7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CB1FED-65D3-4CE2-830A-099BC387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8F81E-343D-47DA-9175-2A316C63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5F64AE-F8DB-4FF4-8963-B336FDFC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BB8571-4576-4B6D-9DE8-3E36D162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D2A3-6CF4-4267-BD0F-79B43268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952FB8-780E-4A71-BB38-FE940B1B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11177-65F0-4729-9AD5-523CD8DD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37EBA3-7CCE-4E06-8A9E-8F81233A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9D45A3-DBE6-47C6-AC7A-F2C105FD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30E56F-CE87-484D-BADF-A8DF6EA9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941C17-3CD3-4653-9892-6DEE68C1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814E07-5A04-416E-B7FC-3C9FB6BC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E7F4FF-2F75-4DAF-8306-4014D3B1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965D62-BF54-4A11-BB78-1C56F029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EFD1B7-2F36-4B50-B73E-6BECF4E4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1F4-6893-4003-8896-20AACA08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5DDB-E2AE-42E5-B91E-DA096392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EB9098-3282-47DE-9FDE-92CCA309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BB9BCA-345E-4E07-85AA-5B441012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33793B-2F92-48C7-AD4D-744B06F6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4A2037-382E-44C7-8A22-FE3BD866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73E23-5ACC-479F-A395-E2E51309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316CB-2E48-48DA-86D7-F4A49653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36B328-B658-430B-8F8D-54697EA3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E992F8-8860-4E28-BBBC-01309A95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67882-4B4B-430B-85D2-7D5BD19A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0BDFA0-BE11-4016-8108-30921F65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922B-B2AE-4CDB-B52B-88599F63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D7B367-67AB-4955-9832-D31DFE7B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CFB16-7C3E-49F8-BCEA-974777E8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3883CE-9F18-4027-9001-24C2E292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82F48E-2645-4940-A840-190DFF2F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4DC884-B679-401B-AC7C-903669B3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0FB048-973C-4E1D-8B1E-B76EE1D1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D4D05F-6FA7-499C-B7CE-13071D2C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462AA-C83A-4720-B684-C7BD190F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939922-AE6B-424B-B43C-A444F954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40100D-891E-445D-B197-40BE40BB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EEA1-F28B-44C5-B1E5-70BE9B5E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59E97A-3618-468A-B711-F43541A9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5B5D63-16D8-4063-85EB-2761A686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7B057-8F5A-4BF4-96A3-0228BCC8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6133CD-E36C-4C7F-9491-AA7EFD42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770FEF-084B-4BB2-96A8-9F104343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4D88AD-670F-491E-BEF6-0AEF1399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0F37D7-D046-442A-9C7B-296DF74B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C39F6C-1BCC-459D-9465-227049C8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2A926E-76BE-4323-BD02-B5BA3855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D3C6AC-33C4-4843-AD75-5780ED13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17F7-4CA0-4C16-91E0-92FA1E1D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21EE48-6F97-4E04-B3CF-A621B0DE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E3C26-5CE7-464B-B126-B87A413E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00A07E-70A6-4352-A7A4-C8FE5FA9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0713EE-8767-40BF-BE66-85579861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8848F9-B179-40E2-B81F-7D95FED6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69B597-CE25-403B-9C1D-7E6F8AB7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F41C21-FD47-437B-B90A-B1148F0E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74588A-2FE7-4713-A11C-08D49D36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FFCD05-9F0A-4C3E-93B8-8A06BAAA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94D4CD-80C5-444D-9D04-C5DBC60A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B63D-FD86-4755-BD18-95DA4DA6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F826F5-DE91-41B0-ABF8-679B0F5F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DC9299-A9E8-44A0-AAC8-841E45E0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0C263D-03DB-43FD-A69A-3000728C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F267E3-9119-4C6D-993A-8E866FDD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862F15-D60C-4FCE-BE5B-4A41BDEE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79FDE9-E06C-415E-BCDB-19EEB320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7308B7-5D06-4BA5-BC06-3CF9F01B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DBE52B-1C55-4D30-8C2E-0632DFBB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076F2-FEBF-4DF6-8417-874C768C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2C1611-AB16-493E-AE21-1C6792A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E2DA3-82C4-4FB6-A5BD-6580CF1C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F5D88B-E403-42FF-8775-C90B97F3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242BFC-786A-4E99-9FB2-A6ACDEFA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4994DC-EF80-453A-81B4-5A07FAC6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D06C48-AB25-4F39-8497-5CC0DCC9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742E7A-6933-4C8A-8BE8-B563C855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58A6E2-F1C1-4D82-83AE-B7D2579E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B7EAD2-822B-4E58-A49A-FBC86401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332A25-F2B8-41CA-A17F-A172F01C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6BF3A3-7192-4986-A604-D664FD06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7FE21C-B4D1-4446-A95D-8DC06766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E937B-6613-43FB-925B-E84D6845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F07C88-07DA-4C55-A526-C97542C6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AF926F-FAEF-4391-A386-62A89FEF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81A408-6E2B-4E79-A5A4-6BD98405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79584E-3685-4AE6-9083-CD0D8F81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3B9CCE-052D-43CC-9FE3-5743D18B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8EF5E5-245B-4E5D-8C6E-9B3D94C6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776DF3-FE51-4B08-A0C9-BE066F10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005CD1-505B-44D1-8BAD-587A2801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C9B7B8-4D72-4BFF-ACE5-0FF1CD3D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1DD63C-E553-46A4-A35E-7AE16EB1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8D1E-7246-4466-BC04-0EC47B20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F23EC7-98B6-4837-8EFE-36585218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093E5F-9F5F-4B7D-BB3C-08C02DEE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8CBF49-2353-4FCC-B51B-EEFF3976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4AA8E2-478E-4F0A-875E-7792F159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CA697F-5123-4AB7-8002-57D54EF3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FDB43B-2C74-44D6-A6AE-9724E185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D76031-DD11-4A9A-8377-99ED55DF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E66E0A-C31A-45D5-9B03-C6AF1793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A39EC3-82CE-4123-802E-3944A9A1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27A0FC-A7F7-488F-916A-606358C7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3501-A22F-4F27-83BF-D0ED9260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E753B6-2DBE-49FC-BF2F-14D8EE26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C27C63-8493-4D02-A6C2-B46C5E02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49F141-B4DC-4CDA-820B-E160FA50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B12F18-3D7D-4FEE-94E0-B49792CB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090B29-A2A7-4333-98A4-A637A6B5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E9FF21-56A4-4C2E-8071-97BAFFA0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B068BB-8DD3-4536-81B1-388CC67E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A5AC45-1069-42EF-A3CA-7B28CEF2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BED32B-CE9F-4DE0-9D4A-1F83A2FD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9D5DCF-B37D-4237-A323-AC5CFBEF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355E-3142-4D56-BF33-37C7DB2F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4620C2-E027-4F52-87FF-3D4DEBBE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2A7585-99B5-49D0-B18F-D63550DB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90611E-C6AD-458D-8A43-EA51F6DB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4E41E7-3E71-4E7A-AAE4-019B1584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08DCA8-4951-4AD5-BFB4-1A06D7B3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899EE7-5C65-4205-9D1C-C1AE7AAB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F92624-BB70-4BC2-80C5-E9DADC0C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5888B5-1B76-450F-8915-515FF72E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5D3F45-08D8-4871-A72C-AC1B2AAA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B0120C-900A-447A-ACB2-9FEA5F6A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494-CA27-4230-9361-D3A8DBB5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63637-8F4A-4562-AF18-D3C69437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58595E-62FC-4375-BC18-AB47AC00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86F803-0044-4E9D-AD45-6344248E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568BCE-5626-47C3-B903-C958CF0B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EF2F88-164E-405C-B3A2-CC56AB36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F81063-6F70-42F6-A8EE-24B1887E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D18BCB-102A-491B-9E6E-E3B0051F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490333-722A-4B19-A005-514F9FE3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BB52F2-BF11-46FF-B377-319D685E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682B4E-D7AD-496A-90A6-FCB48F76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29F696-D9BF-4EF1-A1FE-4C109980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B3269-2CC3-42D7-B083-7921B39E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B3D3EF-9B35-4B10-BC23-095ACA69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39DFE0-A299-48D7-BEEA-8CEA405F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7A8131-3B89-4560-9A3F-88D725E3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F8300F-418C-478F-88EE-DF84EEB7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BC02CA-456E-47BD-8336-88353E56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433837-905F-492A-BDE2-7D543850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144234-286C-4239-B28B-C523C974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14CF83-0F9C-48EC-A8A3-8968EE50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90F93C-9F6C-40FF-83AE-40B3D250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0E54D9-39A6-4B61-8849-C124A323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2118-2549-4D0D-9A58-F684617D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9AB912-2987-431F-AA17-99679084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52C7FB-C4BB-462A-8353-53611AAD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75A0C3-B95D-46B4-B542-82DAD36F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292E1A-F952-4B99-AD81-67615FB2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C59541-FE9F-46B1-91FC-41B59344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DF3F60-6B99-4FDD-B68E-A4F8FC07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D41911-9D9D-4314-B4A9-7D40A9C5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1B100E-901F-4F7F-9FF6-E66E49DB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F1E19B-A257-4BE0-A7BB-F536034B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12A565-93AA-4209-81AE-777FF9BA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BD392-F03C-435E-9829-C4E254B1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C1BF68-D89D-421A-A8B5-C4B7356C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3EC32B-95C8-4C09-80E6-28C95C02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6508C0-841A-4AF3-A576-729C922F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6CA3DB-D6B1-4F8C-8E9F-9328B3E4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A698C4-83DF-45C2-A14E-49E2A0F8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507B31-182A-4AFC-9E44-1004DD80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AA39F4-84A7-427D-AC9B-763F012E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F73F1D-C732-4657-838E-017526CF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1FE475-1164-4A95-A034-788A951B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07B4D8-5040-47FC-8AD2-015DB4BF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9F88-16BE-421F-A39E-44DF6825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D6E517-8520-4792-9D41-08312448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6CBE6F-541F-4477-B224-96013DC3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44543C-EE2C-487A-89BE-20117C3B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DEAA01-1747-4207-BB65-FC712779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649829-0179-47F5-8D4A-B74669FB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D26FFE-026F-4A6E-B014-5D2420DB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A44741-E6A1-4187-962D-1B609EF1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AEA529-4EE1-4169-AA3C-BB652DC3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DD70AE-FCD1-4D42-9908-0433BF08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A4A536-EE9F-408B-9A44-EA3692E0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E5F80-AB2A-40F2-909C-7585B9DA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1A94C7-C005-451A-91FD-5FC2B71B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CC16F7-40F2-4676-8388-17EC73AD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381AA2-11F5-40CF-BD7B-BB3837FD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AB4B86-75D3-4BDA-AD0B-BAB5A6A8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F9FF51-173E-4E25-9FA0-F7CB0B3C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F8750F-A3A9-4C52-9D8A-1A96F7CD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98B97C-D1D6-4D63-A450-E52752E9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E366D6-7538-4362-8976-F83AD753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213458-D438-40C7-B094-126336CB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DFF4D6-827B-4A02-BB68-F270BBCA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A617-68B8-49A8-9E04-8246000B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570F6E-4DDC-47BF-BBA9-6E79B941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11BB88-95C4-4420-8B64-9CC8ACEE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E59F88-9105-422F-AC6F-B181ABC1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9F0B53-DBFB-4632-816B-E2C44E10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EB74E9-EB42-4B29-9094-442895BF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BCA693-4D47-4090-A994-512B81E8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8EC6BB-5790-4D34-9250-D16DDB2D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3AAA8D-3CB9-44B9-8013-C777EA61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2EC0BC-BF70-4C1C-8A0D-7C1A7293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0964E0-66ED-447A-AE12-1F4E5DED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C6162-F101-41CD-95A6-C7B082EA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4F1504-F21C-43AA-8E2B-E8D6C804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CB0A68-0797-4E59-BDB0-DBFB9667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483785-F76D-49E8-92B8-9E4E1367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5D1431-4450-4C70-BA3A-B721876E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9D310B-8CA0-4F12-873E-A2C323D4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0CA68E-1AB1-468B-BA9D-018E5320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9205B7-8CC9-4573-9908-C3A3EDDD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6D9417-100F-44FE-BBBB-942F06D3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6DAD04-A5C1-41AE-B3F4-3124F0B9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8BB67C-08B9-4981-A23C-E9B1758E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58BA0-C385-4113-ADF2-B054855B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34EDF0-CCC0-4251-851B-AB06E19D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88EDD0-D9FB-4CFE-8F66-1E6819A5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1A4E92-DEE0-42EB-A9DA-E53679CE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534498-E20D-4173-BDEA-F19033ED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34F3A6-B32E-4CED-B211-302A783C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3337940-C17B-4635-8969-3359CCFC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E70FA8-B1F5-4BA6-877D-B1AAFC09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FA0EFE-6159-44AE-A40B-298D27C9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8E5FC8-BEA7-4FE9-A1F8-E4E313B3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0F016E-9EAE-40D8-9E35-E914F5BA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F0DE0-B242-4B0C-9A21-29CCA61D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7AD990-86EB-4998-B9A3-7868A9C9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2CFA90-1A85-42AD-963B-57BB1C44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D6AC79-003E-4E9F-A639-D73D712F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A61784-EBE6-41F1-A828-B6DACE36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32E6ED-04C6-4C7F-A527-4FBBBC75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E5C644-6ED5-45E2-8D4D-4FA0E664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5BB339-4F46-4EC3-8526-82FAD92F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3452F7-8875-4B72-9D73-B6D398ED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628B0F-3812-4E36-83DC-03EAD8D7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3283F5-ABC6-4CB4-9D32-F0C27253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DC7-E2D7-4F2B-85C1-BF502704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68A61-79C1-46F0-A5B0-DEC76846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FC93C7-0D60-4849-8ACE-531B276D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564826-272A-4E57-A255-5CD07190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D78C6C-ACC8-4BEA-916C-EE1B045D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990218-D9F6-4F05-B9BB-29465494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EB28484-D4D9-4D9C-970F-D6C92AF7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94F337-2EB3-43C9-8A33-852C3EAE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6C9E8C-84B0-4729-A7E8-1DBC6721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393D87-2E70-435E-B3A8-1F7FC3A3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28E764-DE60-4CF5-B2F0-AF604EF6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4616A0-A4A4-4A9E-A06B-11309D90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1C316-B299-40FA-81F5-CE405F5D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65706C-BDD4-45F5-A44B-00E790B7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E6A013-F0BA-4F46-9AD6-5E544AFD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0EC08C-7DBA-4CD1-865E-492F3FE1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23B0AC-82A6-424B-A8F3-D4E504D7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F88877-172D-4690-8701-2432A826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C03350-449D-43C0-8D7A-D2586426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4D4212-37E1-4712-AAEA-15262938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B007791-ACC3-42B7-944A-40977CEB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F6ED89-D556-4564-AFBB-B5960A5A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24D109-B5BB-43D3-BCD9-BC2C6DA9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2676-26D3-413B-8668-893FF007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FDE910-3FB9-4FF6-92AD-D2A66F31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92A15D-61C3-47F3-9CA6-F51E4E2B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FD2C27-F947-4AED-8EE0-E9C0EED4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02BE48-01D9-45F2-8250-5BB2A353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5D325E-04B6-4087-BA6E-FF963D8F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A75AF9-36A8-4339-AD03-A4F8C1AA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D001E8-BB30-4D80-9F31-F02755EE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60B5F8-9D7E-436B-B1FA-65339270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088225-AD3A-49A3-81A7-0278AB65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185BCE-9C3F-4D96-8429-E62883A7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B1E0B-5D4E-4ED3-BD82-ACFBD6CA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6DDBB4-8229-459C-B7A8-CB779469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589A7D-9806-419B-9339-5F37DDB9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812A0B-2913-4DC3-9670-73C5A91A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97CA20-5477-4480-93EA-F659C999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58875B4-3E16-44B3-B68D-63C94F04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B9C969-D359-4FFB-BFFA-BAB99D1C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13C9A2-123A-4D72-B0C8-A5B7666A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7C0263-2092-44EC-AC01-C33A2E21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66D41F-72E9-42C6-8804-63427B07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6EED256-DB60-4570-BCC0-A8842619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59E7-F465-4BC9-94FA-9C4632BA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761260-A31B-4B4D-AF86-0EB50427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943E8C-2E6E-40BD-B4E1-DF10FEBB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E97AD7-C294-49F2-A0FC-1F162CF2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DC8759C-02F8-4CC3-B7BE-763EC32D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CA27E4-3CCB-477E-B9D9-FF5D0970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D4753-0361-4F2A-8242-0F439A8F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C0696-3A05-4D53-A980-D74E8C10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A6B0E-8164-4E3D-9C9D-96888F95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E5805-A38C-4B67-A69D-05A36B44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040B8-356C-438F-AFBB-FD4711BD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038-85C8-401A-AA71-A1E7B984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9A20D-D57E-4C4B-8A4A-BEFD480D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47227-2FBB-4E30-9FFC-21EF386F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D1B0A-BBE8-44B4-917B-E7194237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6138E-13B9-454A-98FE-ED84367D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9711D-6820-4D98-866D-78732D18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A41BB-D00D-4C9A-AB50-4C059A87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A9CDC-A829-460D-9EAD-B606096B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FB795-F1A5-4915-AF39-22DEA785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420E2-D9AE-4CBC-B814-2A0D8852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A2CFE-BB35-43A7-9AF4-CA122A69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29E-8B23-4FAC-825E-C777FB82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60470-0E09-4A34-9F2B-C9940907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CE560-6031-4C78-B017-29082AF1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150B1-E0BE-4B6B-8933-E78D759B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AC58A-413D-4617-A56C-64EF5691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6FDC4-D13B-4F6C-84BC-D5A51954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968C1-C8ED-4CD2-9034-BAC0586D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474F2-A67F-4100-AB9D-307B5A02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D6D28-CBAE-489A-8B0E-28A42309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13C0A-E270-4F35-934D-EFC1A3FE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42BAF-98A9-42FF-8806-70365F51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10E-02F1-4373-A47D-B6535137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BCC28-0C1A-46EF-AD35-EBCB45D5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62DDD-FF2A-41A8-BB55-D36B14EE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6C996-F348-496C-98F3-8A4718FA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84B31-02D5-4270-B454-F57ED9B2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2DF6A-ED8C-4CCF-85A5-BC662FCA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FABF9-1A09-46FC-90E1-D4C32D3C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EEF5D-82EB-413E-95AB-11840C01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224C8-2B93-4E31-8AE1-32B66A55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B67FB-97FE-4308-8D25-23EA1241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D8931-2299-4DDA-80ED-018982F0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3B1-AFA4-4EC5-9B67-87EBA8C2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652FA-4F32-45C3-82C9-FBD50A52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EE423-72A4-410A-A479-2ED4B1C3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91F7F-50F2-4517-9D5D-05B7C6F7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40CC6-D867-4F44-AE69-D874E218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C5B47-AF3C-4B9C-ADA8-E5293B1B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65842-E2CB-4376-9761-227E0012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4832D-7D3F-4540-9873-0A7BBCF6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B7A71-9D9A-4788-ADB4-3A8A6DE9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E7CED-DBBF-46B5-AA3F-DD484615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7AB9E-937B-4F68-963C-0F26CA4C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2D2-2AB8-4096-8A13-550BB771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B3B8C-4505-42EB-8681-F3024917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D2555-4689-409B-B878-49E1B515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23F44-FB4B-4854-A414-1A36A954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A087D-7DA3-4CB6-81D3-D486ED4E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2C5E7-CD53-4CB8-BE1C-4D5261AC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E2B7E-63CA-49EB-BD57-92965F4D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8B446-48A2-4F96-B1B9-93617EEE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BE749-4A0F-42F8-A3AF-46DCEE63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537B9-889F-4335-96FD-5993CDDD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D9461-35D2-4685-96B4-1D9FF935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407E-600D-4A3F-96B7-103523187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2598-77E7-4BA7-A23A-4D5BC5FD61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5C86-D3C6-4E00-86F6-B0A9FBA1DA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3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9238-0FD0-44A3-9E95-5FF0F9415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8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9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C3AC-C85C-4214-8E60-FB3850A8254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3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4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4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1915-C664-4B30-84AF-2C32EC3C263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4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61EF-4AE8-44F0-BB8E-E297A0B4226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4B63-480A-422D-BB5B-27B1D8F2A7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DEF0-CB02-4D02-8F60-EA426E76FC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E199-6715-43F6-828B-78E748151A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6A44-E8A7-4978-86E9-77F5B7520B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4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6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0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2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4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0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91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3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9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0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43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2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53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60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5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D5D5-FD85-4632-B217-F0778521FF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077C-4816-478E-91B3-EA572657EF6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2A79-EDF1-4C4B-AFF4-2E754C2903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DF63-F16A-4366-9128-E0546AC42FB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896D-DE02-46A4-A12A-ED34A6FFB2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029E-222B-4778-993A-5BFA32E774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655D-9900-4EF9-8E4A-E72C6F9C338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D915-9670-42E6-8A90-C0D86E4039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BC44-393D-4BBD-BE6E-A80AC36747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F84A-4D1A-4906-80E6-D79666678F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3A2C-C62F-43C4-A684-E39695453A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07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2DB5-E5F7-49DA-832E-8F18EA6E63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1E34-A705-47A2-A74C-692A022322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4463-5AB8-47DC-ABDC-6BE1AF1688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479E-ACAF-4671-9F22-DFEF6DD5B6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F0E7-8940-4A62-8B83-2924E9AE2E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714A-31EB-4601-B272-58F714BC3F2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3628-F956-489D-8383-1D6B99B0A2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0FDE-8FCE-46CE-A6F3-B3FC4B7FC7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5F25-8CD0-4575-B8DF-C2414DEF2F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D00F-1DAF-46CE-A292-BF7343EDC7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98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5974-0A34-4EA1-A156-9D976FF3E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EDE0-83DC-4A8F-B2E3-C25B39C2846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3A40-9E73-4E93-9398-C68C9ADAE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F3C1-910A-4236-9340-E85E1EEAB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480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481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482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484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7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488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89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490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91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492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4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5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6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0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3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4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6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0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1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4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5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2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3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5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6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7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28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529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0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1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2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3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4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5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6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7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8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9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0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41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7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8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9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0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1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2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3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4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5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6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8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9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0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1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2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3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4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5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6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7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8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9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0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2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3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6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77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578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0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581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90" name="Group 113"/>
            <p:cNvGrpSpPr/>
            <p:nvPr/>
          </p:nvGrpSpPr>
          <p:grpSpPr>
            <a:xfrm>
              <a:off x="1800" y="2141280"/>
              <a:ext cx="5209920" cy="4680000"/>
              <a:chOff x="1800" y="2141280"/>
              <a:chExt cx="5209920" cy="4680000"/>
            </a:xfrm>
          </p:grpSpPr>
          <p:sp>
            <p:nvSpPr>
              <p:cNvPr id="591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Group 120"/>
              <p:cNvGrpSpPr/>
              <p:nvPr/>
            </p:nvGrpSpPr>
            <p:grpSpPr>
              <a:xfrm>
                <a:off x="4719240" y="2141280"/>
                <a:ext cx="492480" cy="493560"/>
                <a:chOff x="4719240" y="2141280"/>
                <a:chExt cx="492480" cy="493560"/>
              </a:xfrm>
            </p:grpSpPr>
            <p:sp>
              <p:nvSpPr>
                <p:cNvPr id="598" name="Oval 121"/>
                <p:cNvSpPr/>
                <p:nvPr/>
              </p:nvSpPr>
              <p:spPr>
                <a:xfrm rot="2828400">
                  <a:off x="4734720" y="2367360"/>
                  <a:ext cx="315720" cy="18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2"/>
                <p:cNvSpPr/>
                <p:nvPr/>
              </p:nvSpPr>
              <p:spPr>
                <a:xfrm>
                  <a:off x="4833720" y="2263320"/>
                  <a:ext cx="253080" cy="24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3"/>
                <p:cNvSpPr/>
                <p:nvPr/>
              </p:nvSpPr>
              <p:spPr>
                <a:xfrm>
                  <a:off x="4916160" y="2254320"/>
                  <a:ext cx="181800" cy="1731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124"/>
                <p:cNvSpPr/>
                <p:nvPr/>
              </p:nvSpPr>
              <p:spPr>
                <a:xfrm>
                  <a:off x="4980600" y="2148840"/>
                  <a:ext cx="226080" cy="22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25"/>
                <p:cNvSpPr/>
                <p:nvPr/>
              </p:nvSpPr>
              <p:spPr>
                <a:xfrm>
                  <a:off x="5123520" y="2141280"/>
                  <a:ext cx="8820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2331-FD07-4C6A-AC24-21E1BFD056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patit.com/b/impact.php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&#1088;&#1077;&#1083;&#1072;&#1082;&#1089;.mp4" TargetMode="Externa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4" name="WordArt 8"/>
          <p:cNvSpPr txBox="1"/>
          <p:nvPr/>
        </p:nvSpPr>
        <p:spPr>
          <a:xfrm>
            <a:off x="1332000" y="1628640"/>
            <a:ext cx="6335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РУСНЫЕ БОЛЕЗНИ -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5" name="WordArt 9"/>
          <p:cNvSpPr txBox="1"/>
          <p:nvPr/>
        </p:nvSpPr>
        <p:spPr>
          <a:xfrm>
            <a:off x="442800" y="3146400"/>
            <a:ext cx="85219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обальная опасность для человечес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6" name="Picture 11" descr=""/>
          <p:cNvPicPr/>
          <p:nvPr/>
        </p:nvPicPr>
        <p:blipFill>
          <a:blip r:embed="rId2"/>
          <a:stretch/>
        </p:blipFill>
        <p:spPr>
          <a:xfrm>
            <a:off x="611280" y="397656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1837" name="Picture 12" descr=""/>
          <p:cNvPicPr/>
          <p:nvPr/>
        </p:nvPicPr>
        <p:blipFill>
          <a:blip r:embed="rId3"/>
          <a:stretch/>
        </p:blipFill>
        <p:spPr>
          <a:xfrm>
            <a:off x="5940360" y="4076640"/>
            <a:ext cx="258444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040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Disney Simple"/>
              </a:rPr>
              <a:t>Гепатит А является одной из самых распространенных инфекций человека. В странах с теплым климатом и плохими санитарными условиями гепатитом А болеет очень много людей. Известно, что в Средней Азии практически все дети переболевают гепатитом А. При употреблении зараженной вирусом гепатита А воды или пищевых продуктов (особенно плохо термически обработанных морепродуктов) вирусы проникают в кишечник, затем, всасываясь, с током крови попадают в печень и внедряются в ее клетки – гепатоци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Disney Simple"/>
              </a:rPr>
              <a:t>Вирусные частицы-вирионы размножаются в цитоплазме клеток печени. После выхода из клеток печени они попадают в желчные протоки и выделяются с желчью в кишечни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7" name="Picture 3" descr="Image259"/>
          <p:cNvPicPr/>
          <p:nvPr/>
        </p:nvPicPr>
        <p:blipFill>
          <a:blip r:embed="rId1"/>
          <a:stretch/>
        </p:blipFill>
        <p:spPr>
          <a:xfrm>
            <a:off x="5398920" y="260280"/>
            <a:ext cx="3745080" cy="4032360"/>
          </a:xfrm>
          <a:prstGeom prst="rect">
            <a:avLst/>
          </a:prstGeom>
          <a:ln w="0">
            <a:noFill/>
          </a:ln>
        </p:spPr>
      </p:pic>
      <p:pic>
        <p:nvPicPr>
          <p:cNvPr id="1878" name="Picture 4" descr="HepatitisVirusWellcome cлайд 5"/>
          <p:cNvPicPr/>
          <p:nvPr/>
        </p:nvPicPr>
        <p:blipFill>
          <a:blip r:embed="rId2"/>
          <a:stretch/>
        </p:blipFill>
        <p:spPr>
          <a:xfrm>
            <a:off x="6156360" y="4508640"/>
            <a:ext cx="2087640" cy="213336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5" descr="hep-a5"/>
          <p:cNvPicPr/>
          <p:nvPr/>
        </p:nvPicPr>
        <p:blipFill>
          <a:blip r:embed="rId3"/>
          <a:stretch/>
        </p:blipFill>
        <p:spPr>
          <a:xfrm>
            <a:off x="1763640" y="4805280"/>
            <a:ext cx="36720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ирус гепатита В очень устойчив во внешней среде, обладает высокой инфекционностью. При сохранном иммунном ответе у переболевшего гепатитом В человека формируется стойкий пожизненный иммунитет.Во внешей среде вирус гепатита В может сохраняться около недели - даже в засохшем и незаметном пятне крови, на лезвии бритвы, конце игл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Гепати В поражает более 2 миллионов населения во всем мире, число инфицированных носителей вируса составляет 350 млн. Три четверти жителей Земли живет в регионах с высокой заболеваемостью.Ежегодно отмечается около 4 млн. случаев острого гепатита В, а от 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Comic Sans MS"/>
                <a:hlinkClick r:id="rId1"/>
              </a:rPr>
              <a:t>последствий хронического гепатита В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погибает 1 млн. Человек.Но в последние годы, благодаря широкому повсеместному проведению вакцинации от гепатита В наблюдается обнадеживающая тенденция к снижению заболеваемости этой инфекц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1" name="Picture 3" descr="Hepatitis-B слайд 6"/>
          <p:cNvPicPr/>
          <p:nvPr/>
        </p:nvPicPr>
        <p:blipFill>
          <a:blip r:embed="rId2"/>
          <a:stretch/>
        </p:blipFill>
        <p:spPr>
          <a:xfrm>
            <a:off x="468360" y="3645000"/>
            <a:ext cx="4032360" cy="2948040"/>
          </a:xfrm>
          <a:prstGeom prst="rect">
            <a:avLst/>
          </a:prstGeom>
          <a:ln w="0">
            <a:noFill/>
          </a:ln>
        </p:spPr>
      </p:pic>
      <p:pic>
        <p:nvPicPr>
          <p:cNvPr id="1882" name="Picture 4" descr="Hep_B_Virus_2 ckfql 6"/>
          <p:cNvPicPr/>
          <p:nvPr/>
        </p:nvPicPr>
        <p:blipFill>
          <a:blip r:embed="rId3"/>
          <a:stretch/>
        </p:blipFill>
        <p:spPr>
          <a:xfrm>
            <a:off x="4932360" y="3429000"/>
            <a:ext cx="38876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/>
          </p:nvPr>
        </p:nvSpPr>
        <p:spPr>
          <a:xfrm>
            <a:off x="4211280" y="-360"/>
            <a:ext cx="4608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Главная особенность вируса гепатита С – это его генетическая изменчивость, выраженная способность к мутациям. Известно 6 основных 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генотипов 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ируса гепатита С. Однако, благодаря мутационной активности вируса, в организме человека могут присутствовать около четырех десятков подвидов HCV , правда, в рамках одного генотипа. Иммунная система человека просто не в состоянии контролировать выработку нужных антител - пока вырабатываются антитела на одни вирусы – уже образуются их потомки с иными антигенными свойств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аспространенность гепатита С в развитых странах достигает 2%. Число людей, инфицированных вирусом гепатита С во всем мире достигает 500 млн. Официальная регистрация и учет заболевших и инфицированных гепатитом С начат гораздо позднее, чем при других вирусных гепатитах. Ранее инфекцию называли вирусным гепатитом "ни А, ни В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4" name="Picture 3" descr="cлайд 7jpg"/>
          <p:cNvPicPr/>
          <p:nvPr/>
        </p:nvPicPr>
        <p:blipFill>
          <a:blip r:embed="rId1"/>
          <a:stretch/>
        </p:blipFill>
        <p:spPr>
          <a:xfrm>
            <a:off x="395280" y="135000"/>
            <a:ext cx="3168720" cy="2941560"/>
          </a:xfrm>
          <a:prstGeom prst="rect">
            <a:avLst/>
          </a:prstGeom>
          <a:ln w="0">
            <a:noFill/>
          </a:ln>
        </p:spPr>
      </p:pic>
      <p:pic>
        <p:nvPicPr>
          <p:cNvPr id="1885" name="Picture 4" descr="ckfql 7"/>
          <p:cNvPicPr/>
          <p:nvPr/>
        </p:nvPicPr>
        <p:blipFill>
          <a:blip r:embed="rId2"/>
          <a:stretch/>
        </p:blipFill>
        <p:spPr>
          <a:xfrm>
            <a:off x="468360" y="3284640"/>
            <a:ext cx="306072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68000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Менингит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 – это воспаление оболочек головного или спинного мозга. Болезнь вызывается преимущественно бактериальной или вирусной инфекцией. Менингиту наиболее подвержены дети и подростки, а также пожилые люди. Вирусный менингит протекает намного легче, чем бактериальный. Обычно он не вызывает тяжелых симптомов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Вирусный менингит начинается остро, с высокой лихорадки и общей интоксации. Лихорадка может сопровождаться недомоганием, отсутствием аппетита, тошнотой и рвотой, болью в животе, поносом. Нередки легкие сонливость и оглушенность; более тяжелые расстройства - выраженная спутанность сознания, кома - нехарактерна и требуют быстрого повторного обследования. На 1-2-й день болезни появляется отчетливо выраженный менингеальный синдром - сильная упорная головная боль, повторная рвота, нередко отмечается вялость и сонливость, иногда возбуждение и беспокойство. Возможны жалобы на кашель, насморк, боли в горле и боли в животе. </a:t>
            </a:r>
            <a:br>
              <a:rPr sz="1700"/>
            </a:br>
            <a:br>
              <a:rPr sz="1700"/>
            </a:b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7" name="Picture 3" descr="bd25752769bfd1675e73a8fb7b99f2c9слайж 8"/>
          <p:cNvPicPr/>
          <p:nvPr/>
        </p:nvPicPr>
        <p:blipFill>
          <a:blip r:embed="rId1"/>
          <a:stretch/>
        </p:blipFill>
        <p:spPr>
          <a:xfrm>
            <a:off x="4716360" y="90792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1888" name="Picture 4" descr="o_1666 слайд 8"/>
          <p:cNvPicPr/>
          <p:nvPr/>
        </p:nvPicPr>
        <p:blipFill>
          <a:blip r:embed="rId2"/>
          <a:stretch/>
        </p:blipFill>
        <p:spPr>
          <a:xfrm>
            <a:off x="6443640" y="333360"/>
            <a:ext cx="2484360" cy="3105000"/>
          </a:xfrm>
          <a:prstGeom prst="rect">
            <a:avLst/>
          </a:prstGeom>
          <a:ln w="0">
            <a:noFill/>
          </a:ln>
        </p:spPr>
      </p:pic>
      <p:pic>
        <p:nvPicPr>
          <p:cNvPr id="1889" name="Picture 5" descr="1213183857_n13-3слайд 9"/>
          <p:cNvPicPr/>
          <p:nvPr/>
        </p:nvPicPr>
        <p:blipFill>
          <a:blip r:embed="rId3"/>
          <a:stretch/>
        </p:blipFill>
        <p:spPr>
          <a:xfrm>
            <a:off x="5219640" y="3716280"/>
            <a:ext cx="3610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/>
          </p:nvPr>
        </p:nvSpPr>
        <p:spPr>
          <a:xfrm>
            <a:off x="684360" y="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495c"/>
                </a:solidFill>
                <a:latin typeface="Arial"/>
              </a:rPr>
              <a:t>Острая респираторная вирусная инфекция (ОРВИ) —  группа вирусных заболеваний верхних дыхательных путей. ОРВИ является самым распространённым инфекционным заболеванием в развитых странах, в среднем за год взрослый болеет ОРВИ не реже 2—3 раз, ребёнок — 6—10 ра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1" name="Содержимое 6" descr="820138_3.jpg"/>
          <p:cNvPicPr/>
          <p:nvPr/>
        </p:nvPicPr>
        <p:blipFill>
          <a:blip r:embed="rId1"/>
          <a:stretch/>
        </p:blipFill>
        <p:spPr>
          <a:xfrm>
            <a:off x="4214880" y="1571760"/>
            <a:ext cx="35719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Возбудители ОРВ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вирусы парагрип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вирусы грип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аденовирус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риновирус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реовирусы и др</a:t>
            </a:r>
            <a:r>
              <a:rPr b="0" lang="ru-RU" sz="30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3" name="Содержимое 4" descr="01010301.jpg"/>
          <p:cNvPicPr/>
          <p:nvPr/>
        </p:nvPicPr>
        <p:blipFill>
          <a:blip r:embed="rId1"/>
          <a:stretch/>
        </p:blipFill>
        <p:spPr>
          <a:xfrm>
            <a:off x="3789360" y="2257560"/>
            <a:ext cx="2225520" cy="2433600"/>
          </a:xfrm>
          <a:prstGeom prst="rect">
            <a:avLst/>
          </a:prstGeom>
          <a:ln w="0">
            <a:noFill/>
          </a:ln>
        </p:spPr>
      </p:pic>
      <p:sp>
        <p:nvSpPr>
          <p:cNvPr id="1894" name="TextBox 6"/>
          <p:cNvSpPr/>
          <p:nvPr/>
        </p:nvSpPr>
        <p:spPr>
          <a:xfrm>
            <a:off x="3429000" y="507204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Вирус гриппа. Увеличение в 30 00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5" name="Picture 2" descr=""/>
          <p:cNvPicPr/>
          <p:nvPr/>
        </p:nvPicPr>
        <p:blipFill>
          <a:blip r:embed="rId2"/>
          <a:stretch/>
        </p:blipFill>
        <p:spPr>
          <a:xfrm>
            <a:off x="6143760" y="1000080"/>
            <a:ext cx="2712960" cy="2738520"/>
          </a:xfrm>
          <a:prstGeom prst="rect">
            <a:avLst/>
          </a:prstGeom>
          <a:ln w="0">
            <a:noFill/>
          </a:ln>
        </p:spPr>
      </p:pic>
      <p:sp>
        <p:nvSpPr>
          <p:cNvPr id="1896" name="Прямоугольник 7"/>
          <p:cNvSpPr/>
          <p:nvPr/>
        </p:nvSpPr>
        <p:spPr>
          <a:xfrm>
            <a:off x="6215040" y="371484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ирус парагриппа (электронная микроскоп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/>
          </p:nvPr>
        </p:nvSpPr>
        <p:spPr>
          <a:xfrm>
            <a:off x="0" y="0"/>
            <a:ext cx="3998880" cy="52149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Грипп— острое инфекционное заболевание дыхательных путей, вызываемое вирусом грипп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В настоящее время выявлено более 2000 вариантов вируса гриппа, по сво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антигенным свойствам подразделяются на тип А (подтипы А1 и А2), тип В и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8" name="Picture 2" descr=""/>
          <p:cNvPicPr/>
          <p:nvPr/>
        </p:nvPicPr>
        <p:blipFill>
          <a:blip r:embed="rId1"/>
          <a:stretch/>
        </p:blipFill>
        <p:spPr>
          <a:xfrm>
            <a:off x="4214880" y="1285920"/>
            <a:ext cx="40719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/>
          </p:nvPr>
        </p:nvSpPr>
        <p:spPr>
          <a:xfrm>
            <a:off x="571680" y="1000080"/>
            <a:ext cx="328608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 гриппа имеет сферическую структуру и размер 80-120 нанометров. Сердцевина вируса содержит одноцепочечную отрицательную цепь РНК, состоящую из 8 фрагментов, которые кодируют 10 вирусных белк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0" name="Picture 2" descr=""/>
          <p:cNvPicPr/>
          <p:nvPr/>
        </p:nvPicPr>
        <p:blipFill>
          <a:blip r:embed="rId1"/>
          <a:stretch/>
        </p:blipFill>
        <p:spPr>
          <a:xfrm>
            <a:off x="4357800" y="857160"/>
            <a:ext cx="4071960" cy="4143600"/>
          </a:xfrm>
          <a:prstGeom prst="rect">
            <a:avLst/>
          </a:prstGeom>
          <a:ln w="0">
            <a:noFill/>
          </a:ln>
        </p:spPr>
      </p:pic>
      <p:sp>
        <p:nvSpPr>
          <p:cNvPr id="1901" name="Прямоугольник 5"/>
          <p:cNvSpPr/>
          <p:nvPr/>
        </p:nvSpPr>
        <p:spPr>
          <a:xfrm>
            <a:off x="4485240" y="5000760"/>
            <a:ext cx="366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Микрофотография вируса гри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300024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5964"/>
                </a:solidFill>
                <a:latin typeface="Arial"/>
              </a:rPr>
              <a:t>Герпес— вирусное заболевание с характерным высыпанием сгруппированных пузырьков на коже и слизистых оболочк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5964"/>
                </a:solidFill>
                <a:latin typeface="Arial"/>
              </a:rPr>
              <a:t>Вирусом герпеса инфицировано 95% людей земного шара. ВПГ оказывает разрушительное действие на иммунную систем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3" name="Picture 2" descr=""/>
          <p:cNvPicPr/>
          <p:nvPr/>
        </p:nvPicPr>
        <p:blipFill>
          <a:blip r:embed="rId1"/>
          <a:stretch/>
        </p:blipFill>
        <p:spPr>
          <a:xfrm>
            <a:off x="4071960" y="1571760"/>
            <a:ext cx="45435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/>
          </p:nvPr>
        </p:nvSpPr>
        <p:spPr>
          <a:xfrm>
            <a:off x="642960" y="157176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ее часто вирус поража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жу, глаз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изистые оболочки лиц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изистые оболочки половых орган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ентральную нервную систем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падают вол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5" name="Picture 2" descr=""/>
          <p:cNvPicPr/>
          <p:nvPr/>
        </p:nvPicPr>
        <p:blipFill>
          <a:blip r:embed="rId1"/>
          <a:stretch/>
        </p:blipFill>
        <p:spPr>
          <a:xfrm>
            <a:off x="5143680" y="1714680"/>
            <a:ext cx="2695320" cy="2676240"/>
          </a:xfrm>
          <a:prstGeom prst="rect">
            <a:avLst/>
          </a:prstGeom>
          <a:ln w="0">
            <a:noFill/>
          </a:ln>
        </p:spPr>
      </p:pic>
      <p:sp>
        <p:nvSpPr>
          <p:cNvPr id="1906" name="TextBox 3"/>
          <p:cNvSpPr/>
          <p:nvPr/>
        </p:nvSpPr>
        <p:spPr>
          <a:xfrm>
            <a:off x="5072040" y="4429080"/>
            <a:ext cx="278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Так выглядит вирус герп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Темы сообщ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Строение и разнообразие виру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Вирусы – возбудители болезней челове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Вирусные инфекции в истории человеч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Вирус иммунодефицита челове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.Методы диагностики вирусных болезней. Сообщение врача-лаборанта Бердянской городской больницы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.Профилактика  вирусных болезней. Сообщение медицинской сестры ЗОШ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І-ІІ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т.№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"/>
          <p:cNvSpPr txBox="1"/>
          <p:nvPr/>
        </p:nvSpPr>
        <p:spPr>
          <a:xfrm>
            <a:off x="152280" y="775800"/>
            <a:ext cx="8562960" cy="5851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b5395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b5395"/>
                </a:solidFill>
                <a:latin typeface="Arial"/>
              </a:rPr>
              <a:t>Вирус герпеса поражает клетку человека, разместившись в ее генном аппарате. ВПГ при делении клеток передается другим клеткам со всей наследственной информацией</a:t>
            </a:r>
            <a:r>
              <a:rPr b="1" lang="ru-RU" sz="2200" spc="-1" strike="noStrike">
                <a:solidFill>
                  <a:srgbClr val="0b5395"/>
                </a:solidFill>
                <a:latin typeface="Arial"/>
              </a:rPr>
              <a:t>. Заразившись герпесом человек никогда не избавляется от н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387026"/>
                </a:solidFill>
                <a:latin typeface="Arial"/>
              </a:rPr>
              <a:t>Пути передачи герпе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87026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387026"/>
                </a:solidFill>
                <a:latin typeface="Arial"/>
              </a:rPr>
              <a:t>воздушно-капе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87026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387026"/>
                </a:solidFill>
                <a:latin typeface="Arial"/>
              </a:rPr>
              <a:t>контакт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87026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387026"/>
                </a:solidFill>
                <a:latin typeface="Arial"/>
              </a:rPr>
              <a:t>полов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996633"/>
                </a:solidFill>
                <a:latin typeface="Arial"/>
              </a:rPr>
              <a:t>Вирус герпеса (ВПГ) в неактивном состоянии может существовать на протяжении всей жизни. ВПГ обостряется лишь время от времени на фоне других заболеваний, при общем упадке сил, при неблагоприятной экологической обстановке, переохлаждении, переутомлени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/>
          </p:nvPr>
        </p:nvSpPr>
        <p:spPr>
          <a:xfrm>
            <a:off x="571680" y="1071720"/>
            <a:ext cx="3171600" cy="5176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3495c"/>
                </a:solidFill>
                <a:latin typeface="Arial"/>
              </a:rPr>
              <a:t>Бешенство </a:t>
            </a:r>
            <a:r>
              <a:rPr b="0" lang="en-US" sz="2200" spc="-1" strike="noStrike">
                <a:solidFill>
                  <a:srgbClr val="03495c"/>
                </a:solidFill>
                <a:latin typeface="Arial"/>
              </a:rPr>
              <a:t>- острое инфекционное заболевание, возникающее после укуса зараженного животного, протекающее с тяжелым поражением нервной системы и заканчивающееся, как правило, смертельным исход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495c"/>
                </a:solidFill>
                <a:latin typeface="Arial"/>
              </a:rPr>
              <a:t>Бешенство является одним из наиболее опасных инфекционных заболева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9" name="Picture 2" descr=""/>
          <p:cNvPicPr/>
          <p:nvPr/>
        </p:nvPicPr>
        <p:blipFill>
          <a:blip r:embed="rId1"/>
          <a:stretch/>
        </p:blipFill>
        <p:spPr>
          <a:xfrm>
            <a:off x="4357800" y="1428840"/>
            <a:ext cx="38703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2743200" cy="51051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e6d"/>
                </a:solidFill>
                <a:latin typeface="Arial"/>
              </a:rPr>
              <a:t>Вирус бешенства имеет форму винтовочной пули, размеры от 90-170 до 110-200 нм, содержит однонитевую РН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1" name="Picture 2" descr=""/>
          <p:cNvPicPr/>
          <p:nvPr/>
        </p:nvPicPr>
        <p:blipFill>
          <a:blip r:embed="rId1"/>
          <a:stretch/>
        </p:blipFill>
        <p:spPr>
          <a:xfrm>
            <a:off x="4429080" y="1214280"/>
            <a:ext cx="3505320" cy="3929400"/>
          </a:xfrm>
          <a:prstGeom prst="rect">
            <a:avLst/>
          </a:prstGeom>
          <a:ln w="0">
            <a:noFill/>
          </a:ln>
        </p:spPr>
      </p:pic>
      <p:sp>
        <p:nvSpPr>
          <p:cNvPr id="1912" name="Прямоугольник 5"/>
          <p:cNvSpPr/>
          <p:nvPr/>
        </p:nvSpPr>
        <p:spPr>
          <a:xfrm>
            <a:off x="4500720" y="5143680"/>
            <a:ext cx="37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Электронная микрофотография </a:t>
            </a: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Вируса беше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3" name="Заголовок 1" descr=""/>
          <p:cNvPicPr/>
          <p:nvPr/>
        </p:nvPicPr>
        <p:blipFill>
          <a:blip r:embed="rId2"/>
          <a:stretch/>
        </p:blipFill>
        <p:spPr>
          <a:xfrm>
            <a:off x="622440" y="1731960"/>
            <a:ext cx="793116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4" name="Заголовок 1" descr=""/>
          <p:cNvPicPr/>
          <p:nvPr/>
        </p:nvPicPr>
        <p:blipFill>
          <a:blip r:embed="rId2"/>
          <a:stretch/>
        </p:blipFill>
        <p:spPr>
          <a:xfrm>
            <a:off x="676440" y="420840"/>
            <a:ext cx="8143560" cy="1474560"/>
          </a:xfrm>
          <a:prstGeom prst="rect">
            <a:avLst/>
          </a:prstGeom>
          <a:ln w="0">
            <a:noFill/>
          </a:ln>
        </p:spPr>
      </p:pic>
      <p:sp>
        <p:nvSpPr>
          <p:cNvPr id="1915" name="PlaceHolder 1"/>
          <p:cNvSpPr>
            <a:spLocks noGrp="1"/>
          </p:cNvSpPr>
          <p:nvPr>
            <p:ph type="subTitle"/>
          </p:nvPr>
        </p:nvSpPr>
        <p:spPr>
          <a:xfrm>
            <a:off x="571320" y="2000160"/>
            <a:ext cx="7854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рип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тичий грип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виной грип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Испанский грип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ВИЧ(СПИД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6" name="Заголовок 1" descr=""/>
          <p:cNvPicPr/>
          <p:nvPr/>
        </p:nvPicPr>
        <p:blipFill>
          <a:blip r:embed="rId2"/>
          <a:stretch/>
        </p:blipFill>
        <p:spPr>
          <a:xfrm>
            <a:off x="603360" y="-334800"/>
            <a:ext cx="7864200" cy="1420560"/>
          </a:xfrm>
          <a:prstGeom prst="rect">
            <a:avLst/>
          </a:prstGeom>
          <a:ln w="0">
            <a:noFill/>
          </a:ln>
        </p:spPr>
      </p:pic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571320" y="2000160"/>
            <a:ext cx="7854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8" name="Содержимое 2"/>
          <p:cNvSpPr/>
          <p:nvPr/>
        </p:nvSpPr>
        <p:spPr>
          <a:xfrm>
            <a:off x="457200" y="1071720"/>
            <a:ext cx="74674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мая сильная из известных пандемий, унесшая по самым скромным подсчетам более 20 миллионов жизней, произошла в 1918-1920 годах. Это печально известная "испанка", вызванная вирусом H1N1. От пандемии серьезно пострадало от 20 до 40% населения Земли, эпидемия гриппа охватила Испанию, Швейцарию, Португалию, Сербию, Грецию, Англию, Германию, Данию, Скандинавские страны, Северную Африку и другие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мерть от гриппа наступала крайне быстро - человек еще утром мог быть абсолютно здоров, к полудню он заболевал и умирал к ночи. Особенностью "испанки" было то, что она часто поражала молодых людей, так как обычно от гриппа в первую очередь страдают дети и пожилые лю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9" name="Заголовок 1" descr=""/>
          <p:cNvPicPr/>
          <p:nvPr/>
        </p:nvPicPr>
        <p:blipFill>
          <a:blip r:embed="rId2"/>
          <a:stretch/>
        </p:blipFill>
        <p:spPr>
          <a:xfrm>
            <a:off x="706320" y="231840"/>
            <a:ext cx="7785360" cy="11588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/>
          </p:nvPr>
        </p:nvSpPr>
        <p:spPr>
          <a:xfrm>
            <a:off x="530280" y="149976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Грипп птиц , классическая чума птиц — острая инфекционная вирусная болезнь птиц, характеризующаяся поражением органов пищеварения, дыхания, высокой летальностью. Антигенная вариабельность вируса гриппа птиц и наличие высоковирулентных штаммов позволяют отнести его к особо опасным болезням, способным причинить большой экономический ущерб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1" name="Рисунок 4" descr="птиций грипп.jpg"/>
          <p:cNvPicPr/>
          <p:nvPr/>
        </p:nvPicPr>
        <p:blipFill>
          <a:blip r:embed="rId3"/>
          <a:stretch/>
        </p:blipFill>
        <p:spPr>
          <a:xfrm>
            <a:off x="0" y="4141800"/>
            <a:ext cx="3871800" cy="2716200"/>
          </a:xfrm>
          <a:prstGeom prst="rect">
            <a:avLst/>
          </a:prstGeom>
          <a:ln w="0">
            <a:noFill/>
          </a:ln>
        </p:spPr>
      </p:pic>
      <p:pic>
        <p:nvPicPr>
          <p:cNvPr id="1922" name="Рисунок 5" descr="cf87106b8e305b02c6cc5e108b1b7740.jpg"/>
          <p:cNvPicPr/>
          <p:nvPr/>
        </p:nvPicPr>
        <p:blipFill>
          <a:blip r:embed="rId4"/>
          <a:stretch/>
        </p:blipFill>
        <p:spPr>
          <a:xfrm>
            <a:off x="5643720" y="4071960"/>
            <a:ext cx="2928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3" name="Заголовок 1" descr=""/>
          <p:cNvPicPr/>
          <p:nvPr/>
        </p:nvPicPr>
        <p:blipFill>
          <a:blip r:embed="rId2"/>
          <a:stretch/>
        </p:blipFill>
        <p:spPr>
          <a:xfrm>
            <a:off x="566640" y="158760"/>
            <a:ext cx="7785360" cy="1157400"/>
          </a:xfrm>
          <a:prstGeom prst="rect">
            <a:avLst/>
          </a:prstGeom>
          <a:ln w="0">
            <a:noFill/>
          </a:ln>
        </p:spPr>
      </p:pic>
      <p:sp>
        <p:nvSpPr>
          <p:cNvPr id="1924" name="PlaceHolder 1"/>
          <p:cNvSpPr>
            <a:spLocks noGrp="1"/>
          </p:cNvSpPr>
          <p:nvPr>
            <p:ph/>
          </p:nvPr>
        </p:nvSpPr>
        <p:spPr>
          <a:xfrm>
            <a:off x="530280" y="164268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Свиной грипп  — условное название заболевания людей и животных, вызываемого штаммами вируса гриппа. виде эпидемий и пандемий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5" name="Рисунок 3" descr="Gripp_b.jpg"/>
          <p:cNvPicPr/>
          <p:nvPr/>
        </p:nvPicPr>
        <p:blipFill>
          <a:blip r:embed="rId3"/>
          <a:stretch/>
        </p:blipFill>
        <p:spPr>
          <a:xfrm>
            <a:off x="2143080" y="2928960"/>
            <a:ext cx="5005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6" name="Заголовок 1" descr=""/>
          <p:cNvPicPr/>
          <p:nvPr/>
        </p:nvPicPr>
        <p:blipFill>
          <a:blip r:embed="rId2"/>
          <a:stretch/>
        </p:blipFill>
        <p:spPr>
          <a:xfrm>
            <a:off x="633240" y="158760"/>
            <a:ext cx="7785360" cy="1157400"/>
          </a:xfrm>
          <a:prstGeom prst="rect">
            <a:avLst/>
          </a:prstGeom>
          <a:ln w="0">
            <a:noFill/>
          </a:ln>
        </p:spPr>
      </p:pic>
      <p:sp>
        <p:nvSpPr>
          <p:cNvPr id="1927" name="PlaceHolder 1"/>
          <p:cNvSpPr>
            <a:spLocks noGrp="1"/>
          </p:cNvSpPr>
          <p:nvPr>
            <p:ph/>
          </p:nvPr>
        </p:nvSpPr>
        <p:spPr>
          <a:xfrm>
            <a:off x="530280" y="135720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Испанский грипп- был самой массовой пандемиейгриппа за всю историю 1918—1919 годах (18 месяцев) во всем мире от испанки умерло приблизительно 50-100 млн человек или 2,7-5,3 % населения Земл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0" name="Рисунок 3" descr="вич.gif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842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сегодня на уроке мы обобщим знания об особенностях строения и жизнедеятельности вирус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сформулируем выводы о значении вирусов в природе и жизни человек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проанализируем основные причины угрозы человечеству со стороны вирусных болезней и очертим пути решения данных пробле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научимся применять полученные знания для сохранения собственного здоровья и профилактики вирусных болезн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получим информацию о профессиях, которые требуют специальных биологических знаний: медсестры, врача лаборанта, вирусолога, эпидемиоло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1" name="Заголовок 1" descr=""/>
          <p:cNvPicPr/>
          <p:nvPr/>
        </p:nvPicPr>
        <p:blipFill>
          <a:blip r:embed="rId1"/>
          <a:stretch/>
        </p:blipFill>
        <p:spPr>
          <a:xfrm>
            <a:off x="755640" y="2219400"/>
            <a:ext cx="76024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TextBox 5"/>
          <p:cNvSpPr/>
          <p:nvPr/>
        </p:nvSpPr>
        <p:spPr>
          <a:xfrm>
            <a:off x="179280" y="907920"/>
            <a:ext cx="410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Verdana"/>
              </a:rPr>
              <a:t>ВИЧ–инфекц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медленно прогрессирующее вирусное заболевание, характеризующееся поражением иммунных клеток, терминальная стадия которого, приводит к крайней степени угнетения иммунной системы человека и именуется как </a:t>
            </a:r>
            <a:r>
              <a:rPr b="0" lang="en-US" sz="2000" spc="-1" strike="noStrike">
                <a:solidFill>
                  <a:srgbClr val="34352e"/>
                </a:solidFill>
                <a:latin typeface="Verdana"/>
              </a:rPr>
              <a:t>СПИ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синдром приобретенного иммунодефици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3" name="Рисунок 6" descr=""/>
          <p:cNvPicPr/>
          <p:nvPr/>
        </p:nvPicPr>
        <p:blipFill>
          <a:blip r:embed="rId1"/>
          <a:stretch/>
        </p:blipFill>
        <p:spPr>
          <a:xfrm>
            <a:off x="4859280" y="880920"/>
            <a:ext cx="33544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4" name="Рисунок 5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TextBox 1"/>
          <p:cNvSpPr/>
          <p:nvPr/>
        </p:nvSpPr>
        <p:spPr>
          <a:xfrm>
            <a:off x="755640" y="836640"/>
            <a:ext cx="6840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тадии за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ИЧ попадает в организм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лабляет иммунную сист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ражает клетки, борющиеся с инфекциями(Т-лимфоциты или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D4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рганизм не способен защищаться от инфек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звивается одно или несколько серьезн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Box 7"/>
          <p:cNvSpPr/>
          <p:nvPr/>
        </p:nvSpPr>
        <p:spPr>
          <a:xfrm>
            <a:off x="108000" y="4653000"/>
            <a:ext cx="90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0000"/>
                </a:solidFill>
                <a:latin typeface="Arial"/>
              </a:rPr>
              <a:t>Вирус может существовать в организ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0000"/>
                </a:solidFill>
                <a:latin typeface="Arial"/>
              </a:rPr>
              <a:t>человека в течение10-12 лет   бессимптомно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TextBox 1"/>
          <p:cNvSpPr/>
          <p:nvPr/>
        </p:nvSpPr>
        <p:spPr>
          <a:xfrm>
            <a:off x="417600" y="404640"/>
            <a:ext cx="7634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Заражение ВИЧ происход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и половых конта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и кормлении грудь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и переливании кр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и манипуляциях инструментами загрязненными кровью больных(хирургические инструменты, шприцы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зможно внутриутробное заражение плода от больной ма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TextBox 2"/>
          <p:cNvSpPr/>
          <p:nvPr/>
        </p:nvSpPr>
        <p:spPr>
          <a:xfrm>
            <a:off x="395280" y="3213000"/>
            <a:ext cx="794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ВИЧ НЕ ПЕРЕДАЕТС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е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укусы комаров и прочих насеком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зду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рукопожа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целу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су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деж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бщее пользование ванной, туалетом, плавательным бассейном и т. 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TextBox 1"/>
          <p:cNvSpPr/>
          <p:nvPr/>
        </p:nvSpPr>
        <p:spPr>
          <a:xfrm>
            <a:off x="552960" y="1700280"/>
            <a:ext cx="459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0000"/>
                </a:solidFill>
                <a:latin typeface="Arial"/>
              </a:rPr>
              <a:t>Содержание ВИ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в крови 96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в вагинальной жидкости 44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в сперме 40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в грудном молоке 2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0" name="Рисунок 2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224172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1" name="Заголовок 1" descr=""/>
          <p:cNvPicPr/>
          <p:nvPr/>
        </p:nvPicPr>
        <p:blipFill>
          <a:blip r:embed="rId1"/>
          <a:stretch/>
        </p:blipFill>
        <p:spPr>
          <a:xfrm>
            <a:off x="1395360" y="281160"/>
            <a:ext cx="6224760" cy="2206440"/>
          </a:xfrm>
          <a:prstGeom prst="rect">
            <a:avLst/>
          </a:prstGeom>
          <a:ln w="0">
            <a:noFill/>
          </a:ln>
        </p:spPr>
      </p:pic>
      <p:sp>
        <p:nvSpPr>
          <p:cNvPr id="1942" name="TextBox 2"/>
          <p:cNvSpPr/>
          <p:nvPr/>
        </p:nvSpPr>
        <p:spPr>
          <a:xfrm>
            <a:off x="755640" y="2492280"/>
            <a:ext cx="79200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наружение антител к вирусу с помощью иммунофермен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а-тестирование, которое можно пройти бесплатно в СПИД-цен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0000"/>
                </a:solidFill>
                <a:latin typeface="Arial"/>
              </a:rPr>
              <a:t>Лекарства от СПИДа пока нет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ют препараты, способные значительно замедлить развитие вир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TextBox 1"/>
          <p:cNvSpPr/>
          <p:nvPr/>
        </p:nvSpPr>
        <p:spPr>
          <a:xfrm>
            <a:off x="755640" y="620640"/>
            <a:ext cx="770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1981 по 2006 год от болезней, связанных с ВИЧ-инфекцией и СПИД умерли </a:t>
            </a: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25 миллионов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лько в 2006 году ВИЧ-инфекция стала причиной смерти около </a:t>
            </a: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2,9 миллиона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началу 2007 года во всем мире </a:t>
            </a: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около 40 миллионов челове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66 % населения Земли) являлись носителями В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1 ноября 2011 года зарегистрировано </a:t>
            </a: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14510случаев зараж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дилось 258 детей, из них с диагнозом ВИЧ – 83, в 2010 году – 7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2011 году от ВИЧ умерло </a:t>
            </a: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1543 челов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территории РФ состоят на учете с диагнозом ВИЧ более </a:t>
            </a: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600000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Родилось – 28207 человек, из них </a:t>
            </a:r>
            <a:r>
              <a:rPr b="0" lang="en-US" sz="2000" spc="-1" strike="noStrike">
                <a:solidFill>
                  <a:srgbClr val="ad0000"/>
                </a:solidFill>
                <a:latin typeface="Arial"/>
              </a:rPr>
              <a:t>5300 установленных с диагнозом В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4" name="Рисунок 1" descr=""/>
          <p:cNvPicPr/>
          <p:nvPr/>
        </p:nvPicPr>
        <p:blipFill>
          <a:blip r:embed="rId1"/>
          <a:stretch/>
        </p:blipFill>
        <p:spPr>
          <a:xfrm>
            <a:off x="-111240" y="-73080"/>
            <a:ext cx="9293400" cy="69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5" name="Рисунок 1" descr=""/>
          <p:cNvPicPr/>
          <p:nvPr/>
        </p:nvPicPr>
        <p:blipFill>
          <a:blip r:embed="rId1"/>
          <a:stretch/>
        </p:blipFill>
        <p:spPr>
          <a:xfrm>
            <a:off x="3152880" y="28440"/>
            <a:ext cx="5991120" cy="4337280"/>
          </a:xfrm>
          <a:prstGeom prst="rect">
            <a:avLst/>
          </a:prstGeom>
          <a:ln w="0">
            <a:noFill/>
          </a:ln>
        </p:spPr>
      </p:pic>
      <p:pic>
        <p:nvPicPr>
          <p:cNvPr id="1946" name="Рисунок 2" descr=""/>
          <p:cNvPicPr/>
          <p:nvPr/>
        </p:nvPicPr>
        <p:blipFill>
          <a:blip r:embed="rId2"/>
          <a:stretch/>
        </p:blipFill>
        <p:spPr>
          <a:xfrm>
            <a:off x="108000" y="4005360"/>
            <a:ext cx="3959280" cy="2759040"/>
          </a:xfrm>
          <a:prstGeom prst="rect">
            <a:avLst/>
          </a:prstGeom>
          <a:ln w="0">
            <a:noFill/>
          </a:ln>
        </p:spPr>
      </p:pic>
      <p:sp>
        <p:nvSpPr>
          <p:cNvPr id="1947" name="TextBox 3"/>
          <p:cNvSpPr/>
          <p:nvPr/>
        </p:nvSpPr>
        <p:spPr>
          <a:xfrm>
            <a:off x="250920" y="476280"/>
            <a:ext cx="273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Этот день служит напоминанием о необходимости остан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TextBox 4"/>
          <p:cNvSpPr/>
          <p:nvPr/>
        </p:nvSpPr>
        <p:spPr>
          <a:xfrm>
            <a:off x="4464000" y="4672080"/>
            <a:ext cx="39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лобальное распространение эпидемии ВИЧ/СП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9ac2c0"/>
                </a:solidFill>
                <a:latin typeface="Arial"/>
              </a:rPr>
              <a:t>Строение и разнообразие вирусов</a:t>
            </a: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TextBox 3"/>
          <p:cNvSpPr/>
          <p:nvPr/>
        </p:nvSpPr>
        <p:spPr>
          <a:xfrm>
            <a:off x="3000240" y="2565360"/>
            <a:ext cx="33721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0033"/>
                </a:solidFill>
                <a:uFillTx/>
                <a:latin typeface="Trebuchet MS"/>
                <a:hlinkClick r:id="rId1"/>
              </a:rPr>
              <a:t>Релакс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строения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"/>
          <p:cNvSpPr txBox="1"/>
          <p:nvPr/>
        </p:nvSpPr>
        <p:spPr>
          <a:xfrm>
            <a:off x="0" y="856800"/>
            <a:ext cx="914400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Более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0 видов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; объединены в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арство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меры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от 10 нм до 700 н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: палочковидные (ВТМ), пулевидные (бешенства), сферические (ВИЧ, полимиелит), нитевидные (гриппа), многогранников (герпе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Овал 3"/>
          <p:cNvSpPr/>
          <p:nvPr/>
        </p:nvSpPr>
        <p:spPr>
          <a:xfrm>
            <a:off x="3357720" y="3357720"/>
            <a:ext cx="2286000" cy="571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7" name="Прямая со стрелкой 5"/>
          <p:cNvCxnSpPr/>
          <p:nvPr/>
        </p:nvCxnSpPr>
        <p:spPr>
          <a:xfrm flipH="1">
            <a:off x="2428200" y="3643200"/>
            <a:ext cx="78660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48" name="Прямая со стрелкой 7"/>
          <p:cNvCxnSpPr/>
          <p:nvPr/>
        </p:nvCxnSpPr>
        <p:spPr>
          <a:xfrm>
            <a:off x="5715000" y="3643200"/>
            <a:ext cx="71496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49" name="Овал 8"/>
          <p:cNvSpPr/>
          <p:nvPr/>
        </p:nvSpPr>
        <p:spPr>
          <a:xfrm>
            <a:off x="214200" y="3929040"/>
            <a:ext cx="2857680" cy="571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ст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Овал 9"/>
          <p:cNvSpPr/>
          <p:nvPr/>
        </p:nvSpPr>
        <p:spPr>
          <a:xfrm>
            <a:off x="6072120" y="3857760"/>
            <a:ext cx="2857680" cy="571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ж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1" name="Прямая со стрелкой 11"/>
          <p:cNvCxnSpPr/>
          <p:nvPr/>
        </p:nvCxnSpPr>
        <p:spPr>
          <a:xfrm flipH="1">
            <a:off x="428400" y="4500720"/>
            <a:ext cx="35784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52" name="Прямая со стрелкой 13"/>
          <p:cNvCxnSpPr/>
          <p:nvPr/>
        </p:nvCxnSpPr>
        <p:spPr>
          <a:xfrm>
            <a:off x="2143080" y="4572000"/>
            <a:ext cx="2865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53" name="TextBox 14"/>
          <p:cNvSpPr/>
          <p:nvPr/>
        </p:nvSpPr>
        <p:spPr>
          <a:xfrm>
            <a:off x="0" y="5000760"/>
            <a:ext cx="121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НК или Р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Box 15"/>
          <p:cNvSpPr/>
          <p:nvPr/>
        </p:nvSpPr>
        <p:spPr>
          <a:xfrm>
            <a:off x="1714680" y="485784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пси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Box 22"/>
          <p:cNvSpPr/>
          <p:nvPr/>
        </p:nvSpPr>
        <p:spPr>
          <a:xfrm>
            <a:off x="4286160" y="4714920"/>
            <a:ext cx="12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НК или Р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Box 23"/>
          <p:cNvSpPr/>
          <p:nvPr/>
        </p:nvSpPr>
        <p:spPr>
          <a:xfrm>
            <a:off x="5500800" y="571500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пси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Box 27"/>
          <p:cNvSpPr/>
          <p:nvPr/>
        </p:nvSpPr>
        <p:spPr>
          <a:xfrm>
            <a:off x="6643800" y="485784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протеидная мембрана, углеводы и фермен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8" name="Прямая со стрелкой 16"/>
          <p:cNvCxnSpPr/>
          <p:nvPr/>
        </p:nvCxnSpPr>
        <p:spPr>
          <a:xfrm flipH="1">
            <a:off x="6071400" y="4500360"/>
            <a:ext cx="715320" cy="12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59" name="Прямая со стрелкой 18"/>
          <p:cNvCxnSpPr/>
          <p:nvPr/>
        </p:nvCxnSpPr>
        <p:spPr>
          <a:xfrm flipH="1">
            <a:off x="5143320" y="4357800"/>
            <a:ext cx="100080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60" name="Прямая со стрелкой 19"/>
          <p:cNvCxnSpPr/>
          <p:nvPr/>
        </p:nvCxnSpPr>
        <p:spPr>
          <a:xfrm>
            <a:off x="7642800" y="4500720"/>
            <a:ext cx="14364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"/>
          <p:cNvSpPr txBox="1"/>
          <p:nvPr/>
        </p:nvSpPr>
        <p:spPr>
          <a:xfrm>
            <a:off x="2857680" y="1599840"/>
            <a:ext cx="6286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псид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щает генетический материал вируса от действия ферментов и ультрафиолетового излучения, а также способствует осаждению вируса на клеточную мембран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 клетки вирусы не проявляют свойств жиз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русы способны воспроизводить себе подобных, обладают наследственностью и изменчивость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2" name="Picture 2" descr="C:\Documents and Settings\Мама\Рабочий стол\Мои документы\биология 10 класс\картинки\0500601.jpg"/>
          <p:cNvPicPr/>
          <p:nvPr/>
        </p:nvPicPr>
        <p:blipFill>
          <a:blip r:embed="rId2"/>
          <a:stretch/>
        </p:blipFill>
        <p:spPr>
          <a:xfrm>
            <a:off x="285840" y="1857240"/>
            <a:ext cx="2571840" cy="32148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863" name="Овал 4"/>
          <p:cNvSpPr/>
          <p:nvPr/>
        </p:nvSpPr>
        <p:spPr>
          <a:xfrm>
            <a:off x="3214800" y="285840"/>
            <a:ext cx="2643120" cy="571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4" name="Прямая со стрелкой 6"/>
          <p:cNvCxnSpPr/>
          <p:nvPr/>
        </p:nvCxnSpPr>
        <p:spPr>
          <a:xfrm flipH="1">
            <a:off x="2428560" y="571680"/>
            <a:ext cx="714960" cy="143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65" name="Прямая со стрелкой 8"/>
          <p:cNvCxnSpPr/>
          <p:nvPr/>
        </p:nvCxnSpPr>
        <p:spPr>
          <a:xfrm>
            <a:off x="5928840" y="571320"/>
            <a:ext cx="71532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66" name="Овал 9"/>
          <p:cNvSpPr/>
          <p:nvPr/>
        </p:nvSpPr>
        <p:spPr>
          <a:xfrm>
            <a:off x="0" y="785880"/>
            <a:ext cx="307188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-содер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Овал 10"/>
          <p:cNvSpPr/>
          <p:nvPr/>
        </p:nvSpPr>
        <p:spPr>
          <a:xfrm>
            <a:off x="5857920" y="857160"/>
            <a:ext cx="3071880" cy="714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НК-содер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1000"/>
                                        <p:tgtEl>
                                          <p:spTgt spid="1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631280" cy="10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Вирусы-возбудители болезней человек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9" name="Picture 3" descr="virusfasf324слайд 1"/>
          <p:cNvPicPr/>
          <p:nvPr/>
        </p:nvPicPr>
        <p:blipFill>
          <a:blip r:embed="rId1"/>
          <a:stretch/>
        </p:blipFill>
        <p:spPr>
          <a:xfrm>
            <a:off x="1332000" y="2155680"/>
            <a:ext cx="626436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Disney Simple"/>
              </a:rPr>
              <a:t>               </a:t>
            </a:r>
            <a:r>
              <a:rPr b="1" lang="ru-RU" sz="3200" spc="-1" strike="noStrike">
                <a:solidFill>
                  <a:srgbClr val="ffffff"/>
                </a:solidFill>
                <a:latin typeface="Disney Simple"/>
              </a:rPr>
              <a:t>ЦИТАМИГАЛОВИРУ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Disney Simple"/>
              </a:rPr>
              <a:t>Цитомегаловирусная инфекция-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широко распространенная 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ирусная инфекция, характеризующаяся многообразными проявлениями от бессимптомного течения до тяжелых форм с поражением внутренних органов и центральной нервной системы. Возбудитель (Cytomegalovirus hominis) относится к вирусам герпеса (семейство Herpesviridae). Резервуаром и источником инфекции является только человек.</a:t>
            </a:r>
            <a:br>
              <a:rPr sz="1800"/>
            </a:b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1" name="Picture 3" descr="Cytomegalovirus слайд 2!!!"/>
          <p:cNvPicPr/>
          <p:nvPr/>
        </p:nvPicPr>
        <p:blipFill>
          <a:blip r:embed="rId1"/>
          <a:stretch/>
        </p:blipFill>
        <p:spPr>
          <a:xfrm>
            <a:off x="250920" y="3284640"/>
            <a:ext cx="4557600" cy="3151080"/>
          </a:xfrm>
          <a:prstGeom prst="rect">
            <a:avLst/>
          </a:prstGeom>
          <a:ln w="0">
            <a:noFill/>
          </a:ln>
        </p:spPr>
      </p:pic>
      <p:pic>
        <p:nvPicPr>
          <p:cNvPr id="1872" name="Picture 4" descr="VIRUS1 слайд 2"/>
          <p:cNvPicPr/>
          <p:nvPr/>
        </p:nvPicPr>
        <p:blipFill>
          <a:blip r:embed="rId2"/>
          <a:stretch/>
        </p:blipFill>
        <p:spPr>
          <a:xfrm>
            <a:off x="5003640" y="3500280"/>
            <a:ext cx="3888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32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ИРУСНЫЕ ГЕПАТИ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5184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Гепатотропные вирусы в клетках печени  выполняют свою главную биологическую миссию – размножаются, чтобы потом попасть в кровь и, если повезет, в другой человеческий организ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ольшинство вирусов не убивают клетку печени, а используют ее как фабрику для воспроизводства себе подобных. Иммунная система человека запрограммирована на выявление таких инфицированных клеток и безжалостное их уничтожение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оэтому при вирусных гепатитах клетки иммунной повреждают гепатоци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5" name="Picture 4" descr="Fatty-Liver-Treatment слайд 4"/>
          <p:cNvPicPr/>
          <p:nvPr/>
        </p:nvPicPr>
        <p:blipFill>
          <a:blip r:embed="rId1"/>
          <a:stretch/>
        </p:blipFill>
        <p:spPr>
          <a:xfrm>
            <a:off x="5292720" y="1268280"/>
            <a:ext cx="3625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0:38:12Z</dcterms:created>
  <dc:creator>admin</dc:creator>
  <dc:description/>
  <dc:language>en-US</dc:language>
  <cp:lastModifiedBy>Илвия Попова</cp:lastModifiedBy>
  <dcterms:modified xsi:type="dcterms:W3CDTF">2012-10-15T21:25:33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2d000000000001024140</vt:lpwstr>
  </property>
</Properties>
</file>