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33.jpeg" ContentType="image/jpeg"/>
  <Override PartName="/ppt/media/image7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  <p:sldId id="282" r:id="rId65"/>
    <p:sldId id="283" r:id="rId66"/>
    <p:sldId id="284" r:id="rId67"/>
    <p:sldId id="285" r:id="rId68"/>
    <p:sldId id="286" r:id="rId69"/>
    <p:sldId id="287" r:id="rId70"/>
    <p:sldId id="288" r:id="rId71"/>
    <p:sldId id="289" r:id="rId72"/>
    <p:sldId id="290" r:id="rId73"/>
    <p:sldId id="291" r:id="rId74"/>
    <p:sldId id="292" r:id="rId75"/>
    <p:sldId id="293" r:id="rId76"/>
    <p:sldId id="294" r:id="rId77"/>
    <p:sldId id="295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slide" Target="slides/slide27.xml"/><Relationship Id="rId66" Type="http://schemas.openxmlformats.org/officeDocument/2006/relationships/slide" Target="slides/slide28.xml"/><Relationship Id="rId67" Type="http://schemas.openxmlformats.org/officeDocument/2006/relationships/slide" Target="slides/slide29.xml"/><Relationship Id="rId68" Type="http://schemas.openxmlformats.org/officeDocument/2006/relationships/slide" Target="slides/slide30.xml"/><Relationship Id="rId69" Type="http://schemas.openxmlformats.org/officeDocument/2006/relationships/slide" Target="slides/slide31.xml"/><Relationship Id="rId70" Type="http://schemas.openxmlformats.org/officeDocument/2006/relationships/slide" Target="slides/slide32.xml"/><Relationship Id="rId71" Type="http://schemas.openxmlformats.org/officeDocument/2006/relationships/slide" Target="slides/slide33.xml"/><Relationship Id="rId72" Type="http://schemas.openxmlformats.org/officeDocument/2006/relationships/slide" Target="slides/slide34.xml"/><Relationship Id="rId73" Type="http://schemas.openxmlformats.org/officeDocument/2006/relationships/slide" Target="slides/slide35.xml"/><Relationship Id="rId74" Type="http://schemas.openxmlformats.org/officeDocument/2006/relationships/slide" Target="slides/slide36.xml"/><Relationship Id="rId75" Type="http://schemas.openxmlformats.org/officeDocument/2006/relationships/slide" Target="slides/slide37.xml"/><Relationship Id="rId76" Type="http://schemas.openxmlformats.org/officeDocument/2006/relationships/slide" Target="slides/slide38.xml"/><Relationship Id="rId77" Type="http://schemas.openxmlformats.org/officeDocument/2006/relationships/slide" Target="slides/slide39.xml"/><Relationship Id="rId78" Type="http://schemas.openxmlformats.org/officeDocument/2006/relationships/slide" Target="slides/slide40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E94-0B4F-4201-90BB-5889F456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DC5-01E9-4E6B-B726-65C8935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4A996-B108-4067-B3A6-D4C14607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B8EAE-22ED-45CC-905A-9FA6F2B6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31961-35AD-47CF-8915-BFCE33EA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00C56-AD71-46C5-8DB8-4A27A9D0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63511-9CB7-4BBF-A7B1-82EFAC3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A87AF-7395-40EF-9AD6-C101EDD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B14A1-F752-4D26-9224-EBD502B2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0577C-C6F4-45BA-B432-9D173F66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DCF9D-CBEC-4314-B83A-0881DCE1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E5E47-E434-4D28-9CD0-961FFE5E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7D2-0696-43DB-9826-55A6D01B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B7C6-126E-439E-980C-D65A711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2893A-B66A-40C6-9AF1-1A132E1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86B86-3B1F-45AB-84A0-55709897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583B6-9BE4-4591-8A94-A9F5D62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574BD-7AC3-4A10-95CB-C190E24D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C6AB9-2BED-4329-88F1-20207BD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737F1-4D14-4DC5-83EE-146CFFF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9A795-6E42-4D4F-A6A9-1A76451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3C0FF-15A0-4FF9-86EA-D833B9F1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D70A3-9A35-404C-AF8F-FF20802D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096-99D0-48D4-B584-5B7A9650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EFE12-DAFD-4E18-9DB8-0842E469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8FD41-B7FC-49EB-B727-325B6BB3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22170-73F0-4665-817D-C901621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3C18F-EA99-4B78-9DFC-6816657F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C94BE-0CE0-40C9-8167-28D8250D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17F26-413A-402D-B459-3D7E1895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7CBE7-058A-4F66-956F-AAFEF8B6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F55E1-F69E-4B82-955A-37225FC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72B6A-7D21-44FC-A6B6-61A487E3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C675B-DCEF-428B-9A75-BFD59860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1F12-DDB3-4F98-AA8C-C881F76B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12B0E-2549-4521-A7E9-8CE183C1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5E324-B003-46DC-B6A0-C014851E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CD68B-2BBE-48A5-941D-F09F1DAB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1A50A-B49C-41CD-AE97-3D06A3B1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1DF43-3A83-4A16-85BD-C59946F9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2B4CA-75EB-4ECF-91C6-4BA0BB57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C834D-4382-4B82-B1B0-451A36B1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8E97E-18D1-4009-A69C-268D211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FCB61-EB62-4FD7-BC67-378A3957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351CB-4FDB-4773-84D4-89A85E8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A791-E27C-4021-AC2E-07957720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D790B-EE7C-46B7-89A5-710F0B53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60FFF-4B72-4C50-8A49-51AA261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FF86E-B850-4DAB-987C-1F58D653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63548-E762-4149-AACF-B9864279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15F0-50A8-4131-B505-AB92F665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CC27E-E8A9-478E-90BE-F07E5B29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C40B4-94C5-4DB2-BE12-2A42F821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8F91B-2974-420C-B793-7AB910E6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A05EE-B717-4A5C-A266-07BAD4B5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286C7-42E4-4266-B6C4-85130A1F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050-276F-4C93-BC74-A82CAF39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9621D-0C35-44CF-88C1-88F4625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2CE2F-AFED-40C4-8F25-8C384A39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1697D-67FA-4AAF-BC95-5386619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B837B-4EAF-4181-BFC7-7149D70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A0B59-823B-43B0-8DA6-6CBD9985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CE029-B608-44CA-AB67-4CE3E92A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F4BA6-C03B-4FAC-94F5-07CBE76F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176D7-7709-4358-8D2C-714D7A50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B8C6D-25EF-43C6-AEA9-76FEF22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7D4FC-F82A-4F6C-92F9-613A33B3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CFB8-F63A-4D25-9FBB-3868C963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CABC6-99E0-4480-9BAC-95E3EDE1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B05A0-EBF6-4716-9608-17EC3B4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F8D60-607F-40DC-905C-B2299417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EFAF1-7409-48AD-B55C-3D8B0C5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DFCEC-7458-49DD-8A96-EFCB05F6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F2473-BB9C-431A-941A-B9D0829E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488CD-C898-4802-B0A6-DA2DD290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D5440-0DB7-451D-8091-CC4B6812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837E7-C4EF-47D0-A084-11E86ECE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42027-E967-49BF-9BEC-473BFDD3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0201-7B8C-4694-8C7B-E2F7B1EC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484D9-E7FB-414C-9CB5-61610F1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872A5-EC1F-4206-967A-91FF097C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46031-E1B1-475C-B4EE-0F13EB0C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C6B3A-F355-4C66-870E-F090F6D8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C3571-0FD8-40D9-914E-302A2A4A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7CC42-BDA2-4880-8557-2A7EC3B7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5CBED-AFBE-4D19-8E5D-DEEF311A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8A95F-2359-4B07-A599-AB3F858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B323A-8E93-428A-80B9-6F38790E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9BCE0-EF37-4500-897E-530D1AB8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14E3-D52A-4FE1-8117-9F493AB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2A3C6-AEAE-4A3D-B49E-44541131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747CA-40E3-49C8-BEE1-225598B0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0CF54-A4C9-4085-8F1E-A945C336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9F218-CFAF-4BA6-B8E0-CF712EFB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67B49-4D12-4969-914B-95EB38C0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913564-1B57-40C2-A7DC-000C4AF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F8428-E4BB-4FF6-A791-0A9CB785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45148-B56E-4C38-8A36-A078F885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99A90-779B-41E8-9F6A-224B287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7770C-48AF-474A-9D76-E71A90A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6F42-3FD5-4FF6-A669-587C2BBF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90787-B327-4801-99D7-EC31947B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962FC-1AED-4738-859C-5DCDAA93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A890C-74AE-47A6-BB2B-217B5181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4AC9D-B875-4D14-BDE8-0D159C4A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3EF66-6333-477D-B54D-0E1C0C6A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3EA796-831E-4018-9637-028A0C4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48A41-8D75-4C14-96DB-4A35BDF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D2786-F4A1-4C70-9EC1-ECC34991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890F0-8173-4AE7-A678-EB9FBE9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9C0E6-EF95-43DC-837C-D539076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C90-733F-4AF1-A09E-28A63E4E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6F84-9A77-4EF4-88F0-F597A925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81EF4-08DC-47F8-BD14-E0D53EFD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2CF80A-897D-44CD-825F-34AF029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BA8FA-4A13-4D22-BE70-C3192099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6A9EB-EE1F-419E-8BC0-CCFB590A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28FB6-B934-458E-AE63-A6FC8140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FBC55-F310-43E8-9858-26DF4F4A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1BB08-6C24-42BE-B345-B4A96CBF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F9F55-C3D6-4FCF-929B-37976D80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4B4F3-634C-4B0D-9B7A-C22D3353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8BD9B-2229-4827-8162-B2B045F0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0B7E-1E67-41E1-8C16-75576C2F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D0DFEF-8267-4F24-A3D0-C4DCA1E7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3ECC02-A819-4DD5-A396-6D63081E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EEB2F-A87A-48BA-8AB5-C195B3A3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D5554-23B3-4F52-AD6E-F30B5DFB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6766F-3C26-43A6-911E-86F9E888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1896B-4066-45F1-A3B0-0506F927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C0243-62F2-4783-801D-89288067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81D57-6F7B-4600-9D1B-8C257997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5EFE6D-FCC9-4083-AF95-9373D965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98014-DA3E-4D51-8560-138BE1A4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0D82-62D9-43DA-8D9E-BA79FBF8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2AD59-4FB9-45A2-A93A-F7657473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AEF20-0E0E-45AF-A915-8499F298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3B4F6-0DF9-478A-8F6C-129B1DA5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0EE26-F6A4-4885-8E3A-7961EC5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5557BE-725B-4BDA-8181-41D2D7A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23089C-12B4-4429-A892-A280835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3A613-7D56-4271-954C-AC6CEAF4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30D60-C5D9-4C1A-AE23-847A49A7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F395F-82B8-4D28-BC9D-D5718A09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C2743-C94E-4F5A-8CD5-8F338C99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5317-F80C-4870-9472-2689E88A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6603D-D4C2-4156-9D55-3AC08A41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09799-FA0F-4B70-A6A7-4E4A347D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7242C-F0C4-43C2-8D6E-49263419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10069-2286-4434-AAF7-0393B52F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BDA08-26B1-4719-A6FC-3641E6D7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D28C9-D04A-430D-BFCB-AB12DF6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6C5C0-BF3D-4E1F-BA11-DC04ECC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916B2-B581-4862-8425-B295C83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DF247-C7F5-490A-849C-66E83F25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EAB9C-8B36-44CD-8DB8-4E809625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0682-CFFD-4D10-9D52-EE8D8946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AC82D-6B42-46D2-A786-8971F522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C3B2AC-549C-4361-93BC-2A870CA8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782A7-0D4B-4C25-9508-C2CA083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2C3E4-D201-46FC-839D-21B68F8F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E7F908-DAF5-4EE6-83AC-EB1C7F23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7317D-D5D1-49E1-9843-6005EA5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C7538-AAA9-4DD5-9564-E0133A80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F3BFE-09F0-44E8-9FFD-0073201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FD605-A997-4306-B2FE-A73A6FD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2789D-D870-411D-AE2E-1B0188B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514F-391E-4B8F-9F60-3352BB92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BC1867-E0C2-4D7D-B8E5-4BEF8B31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2FCE21-0FB9-403C-91E8-B79CB93F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2CABCF-0EF6-4D4B-91C4-BB226255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D6AB3-DC1C-4419-859A-DDB34006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DAF7E9-BB6B-442D-B9A1-0533D6FC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C8ECAB-09F0-4511-92FA-C8A1EFF5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3C906F-17F9-468F-AB51-3009F06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EC3241-60BF-424E-A26E-4D68768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DA70AF-9C23-4460-BE61-2AABB3C0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755548-7E28-4ACC-8433-32290A5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4AA9-E572-435F-89CA-C1BF2A0D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FBCDF-7F9D-4436-A4F5-CEC8DDC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176944-85CC-4A8D-AB5C-38BC28A9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BE89C0-4C71-4A49-9091-379509F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54E26-4717-4589-8A70-546C6F03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4AFA77-44DB-45C2-9984-A2B1C8EF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7424A-EC0B-46ED-995E-D2AEB1D7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6C4D58-4C67-4E7A-99C5-41224317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492729-BBAE-4B4D-9850-27F23509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FF27D2-6313-4435-BEA4-5454FEB2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137533-4349-4813-AD07-27A4C6D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F9A1-9983-4246-B410-EC5AC8F8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79B2D7-FDF9-4E49-849F-D3AC08D3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D9C1D-3FBE-4602-9E86-C0DD3EF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648ED6-7595-45D2-B968-6862FC79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24B41-D37B-4806-970D-3E80CE1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81175-E0D9-4362-A1BB-04C0DB06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FDE24F-F582-4084-B8D4-45EEE5DC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9E37E-EC43-413E-AE74-83F2EDBC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48E3C4-6794-425C-9C00-3464DF86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98756E-B589-4BFC-93F7-DB63CB2F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32FF2C-1253-477A-AB90-9E8833B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B8F1-425B-40E9-A24D-6B185472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C4A2D7-8A4B-43C4-9A69-CE633A92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630C6E-23F6-4E0D-8EAE-EA85130E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6DD877-72A9-4121-BB99-04F1E031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30B0C5-DB17-42E5-BB29-062BEE3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13554E-2A31-4072-B39E-8384DEFD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5A77BC-62EA-40A6-878F-4C04D6D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C039D9-84C7-4C38-B037-FBA5578C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EF4CDC-E06B-4EB1-8765-EA7DD7BF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B61830-CEF0-469F-A0D1-0E1CE5BA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7EBFF7-DEFC-4CD2-B62F-424DBA80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3B08-FB24-48AE-A6F6-54F2E80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7F8EAD-BBAB-47C3-B4CB-7A11EEB2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6F2D09-372A-4194-9FB5-F308431B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AE9B33-8951-41E2-B4DE-EED4B20A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0DEE01-A7BC-472D-9426-7DB6BEF3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BEC449-8489-4A8B-876B-3396D32B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968B7D-1810-4EBB-AAAB-4FC7089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052453-5F05-4570-9438-C64FECED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CE785F-2D76-42A5-97BF-F7EBCC8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9E850A-1991-4E58-9188-3B3284D9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758E2D-C2C7-473C-8290-33D549C4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A52-CB2C-4BF6-BE85-7AD90DE0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571F-838A-4D28-BAD4-0A9D5AD9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6CB7AE-5B2A-4CDE-853B-D24130A0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3E351A-67D8-4046-9017-863F158A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25F4DD-AA15-49C1-8115-A8F6BE10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310073-1DB7-4F56-BCE1-1A9C6E62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59E9D1-024A-4338-B13D-FB0C92CA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623E9E-2658-4F9B-B5D0-AF6E9F74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751872-7B5A-40B9-BDBC-0B80726B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D6A840-15A1-4D4E-8C46-CD3BECA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830690-DBED-4D30-9765-C81FE47A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5F6565-D470-45AB-8CC7-10E0FDD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C2C3-5148-404E-A35E-5E40CE0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B85E4E-5B42-4228-82DD-8D53F27D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8C9C7D-03C9-42D4-99CF-C0A01F6D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E9397A-5031-4FF6-A6C3-AFBAEAE9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DE503-9917-450D-A735-4787DF1D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345194-0B19-40F5-B4DC-10EB21BF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032D86-D2CB-41C8-9DB3-BF9601DB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36EA78-07FD-4733-9E7D-F9580850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3CBD32-6384-4764-93D2-A9BF3AD8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6F817C-43FA-42FD-8197-1674446A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C32AF0-17B7-4D81-A1DD-F6172474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EE56-28D0-420D-8DD0-36BBF69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F74BB4-8123-4F96-A9AF-38451B0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C55609-82CE-4898-9F13-C6FB2141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EC7E03-A299-4EE4-8327-B85F9FCB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BDF101-DEB5-43DB-A282-3B159263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DD0122-995A-42F9-BC6E-C5F679D9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BDAC2D-5B76-44F1-ABD5-272B32A3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CBF963-506F-48CE-AB51-6D5A8D8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D23A86-6D34-4472-BA33-8B01175B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9222A6-6B38-4B7C-BAEA-5F197A36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3423C1-75E9-4698-8473-D91BECCC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055E-CB45-40F0-8A05-A640D65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C098F0-426A-4A55-B6F5-692CBEC4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6EBA95-A8F2-45A5-9B7E-36A8D678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B7AE54-4BF2-405B-845D-779D847C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11B9B8-934D-4C19-8A19-4383184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68C453-1143-46D8-8D2D-79CB833D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2EF0B0-DDC4-4CAA-A97F-7F369701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19E6EB-0EF2-4E46-8517-07760EDA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250145-B417-467A-8BB1-BE136BDF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CE0EA5-B582-4D29-846C-120D5A6B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E0CB5C-A957-4EC1-846C-4B2B2AFE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D7355-1175-4800-9E08-C3EE339A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BF9173-C272-422D-9196-9B5C018F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6F4F04-FC12-421A-B39A-7B4B705A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A04306-8B14-456C-97B4-64B6297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DDAF49-886A-4CA3-BAB2-7BD0DBD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43064D-BA95-42D0-8CA3-3AF1807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14D8C6-F689-4972-AFD3-FC6200B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C15649-01F0-41B4-8795-C0D9E829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3F9855-1ECA-487B-985E-FCB38F54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FFA04F-21C3-47DB-A004-2AA719A3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1A68FB-2B7B-4414-8A32-6BD6DE31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9538-F118-4714-845C-43E9916A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C6E2F7-2B96-4D6A-8A8A-45930BF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214461-C975-4B78-AD17-86C2C328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FA8EDB-D6B6-471E-983B-3D17307B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C5736B-8F8F-4889-819B-FC18D591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326BF7-3370-4229-801B-2ACAC07A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5B3FC1-4407-4C11-94E3-BB07B94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3132CD-EDAC-4188-A5F0-09AA4F4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760B81-5581-497B-BB4A-BF0A7BB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74070A-F40B-4A4C-8F2C-B6682F1C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4F30C9-3056-462C-834A-6E003BD8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D791-294B-4719-AA5F-B702000E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507981-18B8-4F0A-A577-C32DEE94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542642-DC7F-4D46-9C2B-3C340659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19C105-8564-49A1-B74C-DA4626B4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3B1B1D-D539-4F48-9FC4-CD70B22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02DF90-F9AE-450D-B662-00E9E983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BFB0C9-80F4-48DB-A87E-4876FF2C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71E61D-D5EB-4C2C-8225-A30684F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25E747-0B23-4092-B83E-0E26DD36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A8324D-E9A0-4819-B67F-71F5864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569A22-BC7A-4149-9F8C-90510E22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D2E0-7038-494B-92D9-5198431A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189A3B-A640-45CB-8868-C773B8A4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E4DA8B-6FBD-44D3-8845-31821851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0ED3D3-4D84-4DAB-82F7-E8ECF7C4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ECB613-F37D-4F20-B99E-1DD88C0B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0C5B31-3ADE-46CA-B80E-FD175CC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121A76-A8A1-4444-8C8F-300035E8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0D0A08-55E4-4832-B7F3-B1471C15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17052A-DE63-4698-B84B-D14DC232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9AD5C9-98C8-4158-9F0B-09368FB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9E64A3-8D6D-4C84-B182-0EAF3E15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D8B3-61E4-4E0C-9641-715C9611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E35CBF-38D8-46F8-87E1-17E5D816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862B5B-BBB4-4E88-9365-5FE80D40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016FDA-08B4-48EB-B0F1-20040A72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1E85AA-2FFC-4C58-8D5F-793BEF3B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FA0ED4-CD6B-4F83-BE4B-C1F2A71C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4A9FFC-A151-48E0-8948-29A6CE08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F2CBD7-DCFC-4F5C-9E39-69F9111A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13FF7A-149D-467D-96E8-2A65FFD2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8EE962-B62F-43F6-81A4-A3E0709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986E88-1EDD-4340-B26C-B2320890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EC7F7-DBC0-4C7C-89C6-D130DDC1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4B5FFF-558E-44A6-9171-EA26B8CF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A70785-8958-41C6-A0CE-0DFAFDF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E7B64C-CA27-4F4B-BAAF-34F93F8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153A1B-3460-4EBB-BA76-314BA23D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BB631B-C685-42AA-A3A6-E5576B58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008B47-63FD-4C4B-A041-E22947DE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2A47D2-2A7B-48D8-B98E-B2B68D30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5977BE-E763-43A0-8339-DBBCCA57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931B55-9F46-42A4-8D67-E9442639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D47B99-FAC5-45C6-97BE-82660BD5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CF8-D09D-4D06-B515-0F69986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5927-6B9C-41F4-B414-AF3FA7D9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04FCF4-E0F9-4D99-BE94-FC6D4EDE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A6E558-E24B-4C6C-A192-D5F287B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A94695-1AA9-44E7-B527-46521C48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01B6A0-C226-439E-8FEA-11627F3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075B45-A2BE-4AC8-927E-68552073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27FF88-BEBD-4449-944A-DA15951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1317BC-A575-4752-8BF5-FF2DC73F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734947-5B7D-4BA0-B01F-BA9EE821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EC99BA-65BD-4B31-AC58-792264BF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8B2C0D-716F-44A2-B3B6-EC5C6E1A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0320-AFE7-49E4-A1FD-F5B37515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35F323-CB69-4915-9443-E254471F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B94A33-9944-4ABB-B2DE-42AA55F0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E58957-9854-4DD8-8A65-CACF6F2E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C28E3C-C3A7-4038-BC5B-00D9A979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DC7DE9-BA5B-4680-93F1-C2A940E6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9D861D-46AE-4541-89E4-BDF1D64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21CA0D-8FA6-44A2-8A0A-DCE76FE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32DC08-DAFB-41A0-9C5C-9CFEF7E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61EA38-AF97-4360-A988-6E32938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D4F55B-9A58-4DC2-A0B0-0AD4CDAA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2DD0-0122-4DEB-80AA-9125881E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9C3F81-2E84-4A46-81EF-73A8A495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85986B-604C-42CB-86C3-0DC219E3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0782DA-6859-412E-82F5-225B14F5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817FB7-9C28-44C4-8C2D-BCF25A1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08558B-DFC0-47FF-8A5E-43B71E7D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2F7695-9125-4E31-A721-039DC196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22BE13-6677-4177-9C3F-BA5AC87C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3AB422-B196-4C57-839A-3D7E89F0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0A021D-9D15-4C24-85D4-246584C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957836-C253-490F-87B8-EAABE30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52DE-751A-48FF-95C9-0FEE9AF4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650156-40EF-4809-A232-50296948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2898D3-07F3-44C7-894B-62BED2A3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8DEDC4-CDAB-4F9C-82B4-E17EA23C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BC5B21-720C-40C4-A05F-C0FCD9A4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D5F55B-108D-4E34-90D0-177DDCC2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B30EB6-F8E9-4E63-84B1-A31D58D6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4088A5-2C20-473F-9A53-27390BF7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58953D-AF9B-4EEB-AFBA-6F825ED2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F3A20B-B672-4195-8070-4D9F70A2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B3B094-B206-4B21-B279-143F2E96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A49F-AD47-4933-A36E-9E20CACE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05A725-B11F-42FB-9A97-8C033BD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04627C-F4C5-4782-9840-D70D4771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8E7D9B-B09E-4D05-8131-0C102E0F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9770D8-B0D1-49BB-BF64-F2DBCB82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3CE188-8D13-44FD-9BCE-E7BA743B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4320-95B9-488E-BE52-27A73DE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0B6F-C7B0-4070-BA81-F49BF832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232E-86B8-417F-B8B6-D4612A11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014B-DFE2-4DE9-BFEE-B21B7D75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7DEB2-1064-4845-9D15-443687FC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84F-366C-451F-8E8E-77898194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3DC9-D789-406E-A430-BE9A8CD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A5FB-2C04-499E-AE3D-C36F4E12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1EBD-2636-497B-B874-661CF42A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B8B0-ECC6-4384-9254-25CE6C5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8C94-A2C7-49DC-81E3-0B604E0E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C11C1-1952-4401-8B6C-13A0911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39717-253D-4460-9E18-48FEED1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22F76-9FBF-4068-BBEC-652BFB2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F03E-58ED-4EB4-9204-4BA49E07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3F04C-2A62-450E-A67E-FC2D0903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1FA-E5C9-4959-AB4A-F1860CB3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8D79-587D-42DA-983B-A4EC0943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6AEFF-7299-4562-8892-7495CAC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25C0-CB77-4E3B-A690-20409384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CDA0A-0FA1-4386-9363-C44C0B7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F96D-82FB-42D9-BC62-87BBD78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6C9E-C05B-478C-9327-7D2020D1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CBEE9-9D8A-4F4D-9252-5CF97C7E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B12A-A883-4BE7-8894-2FC01FA3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9467-4EBE-4DCF-BBF1-B64D403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5F60E-606F-4F5E-A6C3-883C95E9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09B-811E-40BE-B6F4-A6B7DA5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2B58-19A9-49CC-88B9-49F4E9CE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86F02-2804-4364-B145-349416F0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C2C9-AE61-4E63-A41E-FC617AA7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3919F-D3C1-46AC-A702-38512CC0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15F76-E356-4D1E-81FD-7470ECC9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FA67B-B8CF-4D36-92F6-11F3390E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AC3D-A5DD-4743-9A7D-B81D57C3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02449-F9E7-447B-9E60-FC38D8D9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C19E-6A00-44F7-B186-1370A92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2915B-F1B1-42B5-ACFB-452700C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DF8-983F-42D6-A9EA-46D0959B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A1898-A7F1-4849-9AF4-6FB2EC2D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3D97B-C4B3-48E9-B626-5B57EFEA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7B0B1-F476-4E87-905B-09F3183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0499-F33A-4FC9-A7C4-C1A38D92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E03DF-75FB-4738-92EF-C8888D84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6009-5DF8-45D3-A978-6BCA602A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4473F-61A3-454F-82E2-EA5C8210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84B5B-30A1-496D-BBEE-256461BF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DB08B-6FCD-4328-A1A9-331C0A75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93F2E-D5A8-42CE-B6CB-BDE9651D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0A7-B00C-4ED3-9683-C271AB0F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3852E-D4EF-4FE9-945F-E4EAB0D4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9C4EB-68A2-433B-9D85-2ECDD8B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623B3-BF53-471A-B458-0B77979E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95DE-E0EA-40D4-9FE4-5C2D621E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142C-4EFA-4FC6-A5BE-4B8D675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28D0-A1A0-49B2-835E-7B5CA98A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F0091-F57E-4594-BEB5-8A5B8F8A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A8473-D7D7-482D-9C4A-D145941B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848A2-9A83-4833-9DEF-43D32197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AC7E2-CCB5-4A83-86D2-A1C3CE8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808-458D-49B3-81C8-ED29FBC3C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9426-3D47-44ED-A3F9-92AD81CBE6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4F78-AB38-48B9-BA7D-AC7042F854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3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F172-5E95-4246-A15A-571BE522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8DF6-4219-4FD5-B7CB-A5165B9DBB2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4A99-C79A-443E-A9AC-A5056676458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1994-917B-4B4C-B261-2C05F842B0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2ECC-784A-49FF-9ABC-AA7E5E84B1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282-DF86-4DF0-A821-41D1380F03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9512-37CC-4737-B2C9-9FB770BB67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259-F49A-4339-B36F-26544B11A7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9781-9DC2-4FCF-8B98-CDDAD6BB8B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991-718E-4F5A-BD94-3DA32EAA42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6753-3C94-4559-AE94-B8CBDFFF91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B5BE-0FAD-42C5-85F2-42B477E7AC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66DF-FD1C-4C9A-BA5E-B10F86BB3C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2FB3-3D4B-457F-8CC8-A150782D61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B98A-B040-4C26-901D-4FDFE86CE1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1624-629A-4628-8C46-D25712365F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5D4-6655-4536-8F19-AEF199ADE1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0DBB-24D5-4EC8-A7D5-7C6B868D5F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695-A330-411F-9100-C9B5BDAE1D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7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8BC-2B83-471B-8D0A-613DB7B73A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8E5E-2B5F-44B9-92CF-82A473F3A8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E7AC-4ACC-41B3-9915-E85D9E236C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AEAF-0536-46FE-9E71-6925107DFB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E919-C7CC-4D5C-8C1E-7E9D9BE2A9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85C2-33AA-4870-9B46-05477EF753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E7A0-A6E0-4146-92F0-6A6928A469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79F2-B287-4802-B0A3-562A412559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6360-A938-4559-A7DA-DB7FC118D2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4D4A-4471-4012-AA5E-9D3B5020E4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9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C5F-78D7-4CEA-B9CD-C516027C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28ED-85CB-4D55-847F-48D65BCED0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BC03-FF37-4816-8E76-B8CE55A81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2A1-714C-4550-B495-0ACF75DA1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480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481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48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48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7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8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9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9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91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9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8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29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0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1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2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3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4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5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6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7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8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9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0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7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57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58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0" name="Group 113"/>
            <p:cNvGrpSpPr/>
            <p:nvPr/>
          </p:nvGrpSpPr>
          <p:grpSpPr>
            <a:xfrm>
              <a:off x="1800" y="2141280"/>
              <a:ext cx="5209920" cy="4680000"/>
              <a:chOff x="1800" y="2141280"/>
              <a:chExt cx="5209920" cy="4680000"/>
            </a:xfrm>
          </p:grpSpPr>
          <p:sp>
            <p:nvSpPr>
              <p:cNvPr id="59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Group 120"/>
              <p:cNvGrpSpPr/>
              <p:nvPr/>
            </p:nvGrpSpPr>
            <p:grpSpPr>
              <a:xfrm>
                <a:off x="4719240" y="2141280"/>
                <a:ext cx="492480" cy="493560"/>
                <a:chOff x="4719240" y="2141280"/>
                <a:chExt cx="492480" cy="493560"/>
              </a:xfrm>
            </p:grpSpPr>
            <p:sp>
              <p:nvSpPr>
                <p:cNvPr id="598" name="Oval 121"/>
                <p:cNvSpPr/>
                <p:nvPr/>
              </p:nvSpPr>
              <p:spPr>
                <a:xfrm rot="2828400">
                  <a:off x="4734720" y="2367360"/>
                  <a:ext cx="31572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2"/>
                <p:cNvSpPr/>
                <p:nvPr/>
              </p:nvSpPr>
              <p:spPr>
                <a:xfrm>
                  <a:off x="4833720" y="2263320"/>
                  <a:ext cx="25308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3"/>
                <p:cNvSpPr/>
                <p:nvPr/>
              </p:nvSpPr>
              <p:spPr>
                <a:xfrm>
                  <a:off x="4916160" y="2254320"/>
                  <a:ext cx="18180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124"/>
                <p:cNvSpPr/>
                <p:nvPr/>
              </p:nvSpPr>
              <p:spPr>
                <a:xfrm>
                  <a:off x="4980600" y="2148840"/>
                  <a:ext cx="22608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5"/>
                <p:cNvSpPr/>
                <p:nvPr/>
              </p:nvSpPr>
              <p:spPr>
                <a:xfrm>
                  <a:off x="5123520" y="2141280"/>
                  <a:ext cx="8820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153E-5A9C-4413-9F64-D24E0FC048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patit.com/b/impact.php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&#1088;&#1077;&#1083;&#1072;&#1082;&#1089;.mp4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4" name="WordArt 8"/>
          <p:cNvSpPr txBox="1"/>
          <p:nvPr/>
        </p:nvSpPr>
        <p:spPr>
          <a:xfrm>
            <a:off x="1332000" y="1628640"/>
            <a:ext cx="6335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РУСНЫЕ БОЛЕЗНИ -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5" name="WordArt 9"/>
          <p:cNvSpPr txBox="1"/>
          <p:nvPr/>
        </p:nvSpPr>
        <p:spPr>
          <a:xfrm>
            <a:off x="442800" y="3146400"/>
            <a:ext cx="85219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обальная опасность для человече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6" name="Picture 11" descr=""/>
          <p:cNvPicPr/>
          <p:nvPr/>
        </p:nvPicPr>
        <p:blipFill>
          <a:blip r:embed="rId2"/>
          <a:stretch/>
        </p:blipFill>
        <p:spPr>
          <a:xfrm>
            <a:off x="611280" y="397656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1837" name="Picture 12" descr=""/>
          <p:cNvPicPr/>
          <p:nvPr/>
        </p:nvPicPr>
        <p:blipFill>
          <a:blip r:embed="rId3"/>
          <a:stretch/>
        </p:blipFill>
        <p:spPr>
          <a:xfrm>
            <a:off x="5940360" y="4076640"/>
            <a:ext cx="25844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04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Disney Simple"/>
              </a:rPr>
              <a:t>Гепатит А является одной из самых распространенных инфекций человека. В странах с теплым климатом и плохими санитарными условиями гепатитом А болеет очень много людей. Известно, что в Средней Азии практически все дети переболевают гепатитом А. При употреблении зараженной вирусом гепатита А воды или пищевых продуктов (особенно плохо термически обработанных морепродуктов) вирусы проникают в кишечник, затем, всасываясь, с током крови попадают в печень и внедряются в ее клетки – гепатоци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Disney Simple"/>
              </a:rPr>
              <a:t>Вирусные частицы-вирионы размножаются в цитоплазме клеток печени. После выхода из клеток печени они попадают в желчные протоки и выделяются с желчью в кишечн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7" name="Picture 3" descr="Image259"/>
          <p:cNvPicPr/>
          <p:nvPr/>
        </p:nvPicPr>
        <p:blipFill>
          <a:blip r:embed="rId1"/>
          <a:stretch/>
        </p:blipFill>
        <p:spPr>
          <a:xfrm>
            <a:off x="5398920" y="260280"/>
            <a:ext cx="3745080" cy="403236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4" descr="HepatitisVirusWellcome cлайд 5"/>
          <p:cNvPicPr/>
          <p:nvPr/>
        </p:nvPicPr>
        <p:blipFill>
          <a:blip r:embed="rId2"/>
          <a:stretch/>
        </p:blipFill>
        <p:spPr>
          <a:xfrm>
            <a:off x="6156360" y="4508640"/>
            <a:ext cx="2087640" cy="213336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5" descr="hep-a5"/>
          <p:cNvPicPr/>
          <p:nvPr/>
        </p:nvPicPr>
        <p:blipFill>
          <a:blip r:embed="rId3"/>
          <a:stretch/>
        </p:blipFill>
        <p:spPr>
          <a:xfrm>
            <a:off x="1763640" y="4805280"/>
            <a:ext cx="36720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ирус гепатита В очень устойчив во внешней среде, обладает высокой инфекционностью. При сохранном иммунном ответе у переболевшего гепатитом В человека формируется стойкий пожизненный иммунитет.Во внешей среде вирус гепатита В может сохраняться около недели - даже в засохшем и незаметном пятне крови, на лезвии бритвы, конце игл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епати В поражает более 2 миллионов населения во всем мире, число инфицированных носителей вируса составляет 350 млн. Три четверти жителей Земли живет в регионах с высокой заболеваемостью.Ежегодно отмечается около 4 млн. случаев острого гепатита В, а от 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Comic Sans MS"/>
                <a:hlinkClick r:id="rId1"/>
              </a:rPr>
              <a:t>последствий хронического гепатита В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погибает 1 млн. Человек.Но в последние годы, благодаря широкому повсеместному проведению вакцинации от гепатита В наблюдается обнадеживающая тенденция к снижению заболеваемости этой инфекц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1" name="Picture 3" descr="Hepatitis-B слайд 6"/>
          <p:cNvPicPr/>
          <p:nvPr/>
        </p:nvPicPr>
        <p:blipFill>
          <a:blip r:embed="rId2"/>
          <a:stretch/>
        </p:blipFill>
        <p:spPr>
          <a:xfrm>
            <a:off x="468360" y="3645000"/>
            <a:ext cx="4032360" cy="294804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4" descr="Hep_B_Virus_2 ckfql 6"/>
          <p:cNvPicPr/>
          <p:nvPr/>
        </p:nvPicPr>
        <p:blipFill>
          <a:blip r:embed="rId3"/>
          <a:stretch/>
        </p:blipFill>
        <p:spPr>
          <a:xfrm>
            <a:off x="4932360" y="3429000"/>
            <a:ext cx="3887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/>
          </p:nvPr>
        </p:nvSpPr>
        <p:spPr>
          <a:xfrm>
            <a:off x="4211280" y="-360"/>
            <a:ext cx="4608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лавная особенность вируса гепатита С – это его генетическая изменчивость, выраженная способность к мутациям. Известно 6 основных 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генотипов 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ируса гепатита С. Однако, благодаря мутационной активности вируса, в организме человека могут присутствовать около четырех десятков подвидов HCV , правда, в рамках одного генотипа. Иммунная система человека просто не в состоянии контролировать выработку нужных антител - пока вырабатываются антитела на одни вирусы – уже образуются их потомки с иными антигенными свойств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спространенность гепатита С в развитых странах достигает 2%. Число людей, инфицированных вирусом гепатита С во всем мире достигает 500 млн. Официальная регистрация и учет заболевших и инфицированных гепатитом С начат гораздо позднее, чем при других вирусных гепатитах. Ранее инфекцию называли вирусным гепатитом "ни А, ни В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4" name="Picture 3" descr="cлайд 7jpg"/>
          <p:cNvPicPr/>
          <p:nvPr/>
        </p:nvPicPr>
        <p:blipFill>
          <a:blip r:embed="rId1"/>
          <a:stretch/>
        </p:blipFill>
        <p:spPr>
          <a:xfrm>
            <a:off x="395280" y="135000"/>
            <a:ext cx="3168720" cy="294156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4" descr="ckfql 7"/>
          <p:cNvPicPr/>
          <p:nvPr/>
        </p:nvPicPr>
        <p:blipFill>
          <a:blip r:embed="rId2"/>
          <a:stretch/>
        </p:blipFill>
        <p:spPr>
          <a:xfrm>
            <a:off x="468360" y="3284640"/>
            <a:ext cx="30607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6800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енингит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 – это воспаление оболочек головного или спинного мозга. Болезнь вызывается преимущественно бактериальной или вирусной инфекцией. Менингиту наиболее подвержены дети и подростки, а также пожилые люди. Вирусный менингит протекает намного легче, чем бактериальный. Обычно он не вызывает тяжелых симптом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ирусный менингит начинается остро, с высокой лихорадки и общей интоксации. Лихорадка может сопровождаться недомоганием, отсутствием аппетита, тошнотой и рвотой, болью в животе, поносом. Нередки легкие сонливость и оглушенность; более тяжелые расстройства - выраженная спутанность сознания, кома - нехарактерна и требуют быстрого повторного обследования. На 1-2-й день болезни появляется отчетливо выраженный менингеальный синдром - сильная упорная головная боль, повторная рвота, нередко отмечается вялость и сонливость, иногда возбуждение и беспокойство. Возможны жалобы на кашель, насморк, боли в горле и боли в животе. 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7" name="Picture 3" descr="bd25752769bfd1675e73a8fb7b99f2c9слайж 8"/>
          <p:cNvPicPr/>
          <p:nvPr/>
        </p:nvPicPr>
        <p:blipFill>
          <a:blip r:embed="rId1"/>
          <a:stretch/>
        </p:blipFill>
        <p:spPr>
          <a:xfrm>
            <a:off x="4716360" y="90792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4" descr="o_1666 слайд 8"/>
          <p:cNvPicPr/>
          <p:nvPr/>
        </p:nvPicPr>
        <p:blipFill>
          <a:blip r:embed="rId2"/>
          <a:stretch/>
        </p:blipFill>
        <p:spPr>
          <a:xfrm>
            <a:off x="6443640" y="333360"/>
            <a:ext cx="2484360" cy="3105000"/>
          </a:xfrm>
          <a:prstGeom prst="rect">
            <a:avLst/>
          </a:prstGeom>
          <a:ln w="0">
            <a:noFill/>
          </a:ln>
        </p:spPr>
      </p:pic>
      <p:pic>
        <p:nvPicPr>
          <p:cNvPr id="1889" name="Picture 5" descr="1213183857_n13-3слайд 9"/>
          <p:cNvPicPr/>
          <p:nvPr/>
        </p:nvPicPr>
        <p:blipFill>
          <a:blip r:embed="rId3"/>
          <a:stretch/>
        </p:blipFill>
        <p:spPr>
          <a:xfrm>
            <a:off x="5219640" y="3716280"/>
            <a:ext cx="3610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495c"/>
                </a:solidFill>
                <a:latin typeface="Arial"/>
              </a:rPr>
              <a:t>Острая респираторная вирусная инфекция (ОРВИ) —  группа вирусных заболеваний верхних дыхательных путей. ОРВИ является самым распространённым инфекционным заболеванием в развитых странах, в среднем за год взрослый болеет ОРВИ не реже 2—3 раз, ребёнок — 6—10 ра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1" name="Содержимое 6" descr="820138_3.jpg"/>
          <p:cNvPicPr/>
          <p:nvPr/>
        </p:nvPicPr>
        <p:blipFill>
          <a:blip r:embed="rId1"/>
          <a:stretch/>
        </p:blipFill>
        <p:spPr>
          <a:xfrm>
            <a:off x="4214880" y="1571760"/>
            <a:ext cx="35719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Возбудители ОРВ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вирусы парагрип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вирусы грип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аденовиру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риновиру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реовирусы и др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3" name="Содержимое 4" descr="01010301.jpg"/>
          <p:cNvPicPr/>
          <p:nvPr/>
        </p:nvPicPr>
        <p:blipFill>
          <a:blip r:embed="rId1"/>
          <a:stretch/>
        </p:blipFill>
        <p:spPr>
          <a:xfrm>
            <a:off x="3789360" y="2257560"/>
            <a:ext cx="2225520" cy="2433600"/>
          </a:xfrm>
          <a:prstGeom prst="rect">
            <a:avLst/>
          </a:prstGeom>
          <a:ln w="0">
            <a:noFill/>
          </a:ln>
        </p:spPr>
      </p:pic>
      <p:sp>
        <p:nvSpPr>
          <p:cNvPr id="1894" name="TextBox 6"/>
          <p:cNvSpPr/>
          <p:nvPr/>
        </p:nvSpPr>
        <p:spPr>
          <a:xfrm>
            <a:off x="3429000" y="507204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Вирус гриппа. Увеличение в 30 00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5" name="Picture 2" descr=""/>
          <p:cNvPicPr/>
          <p:nvPr/>
        </p:nvPicPr>
        <p:blipFill>
          <a:blip r:embed="rId2"/>
          <a:stretch/>
        </p:blipFill>
        <p:spPr>
          <a:xfrm>
            <a:off x="6143760" y="1000080"/>
            <a:ext cx="2712960" cy="2738520"/>
          </a:xfrm>
          <a:prstGeom prst="rect">
            <a:avLst/>
          </a:prstGeom>
          <a:ln w="0">
            <a:noFill/>
          </a:ln>
        </p:spPr>
      </p:pic>
      <p:sp>
        <p:nvSpPr>
          <p:cNvPr id="1896" name="Прямоугольник 7"/>
          <p:cNvSpPr/>
          <p:nvPr/>
        </p:nvSpPr>
        <p:spPr>
          <a:xfrm>
            <a:off x="6215040" y="371484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рус парагриппа (электронная микроскоп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/>
          </p:nvPr>
        </p:nvSpPr>
        <p:spPr>
          <a:xfrm>
            <a:off x="0" y="0"/>
            <a:ext cx="399888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рипп— острое инфекционное заболевание дыхательных путей, вызываемое вирусом грипп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 настоящее время выявлено более 2000 вариантов вируса гриппа, по сво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нтигенным свойствам подразделяются на тип А (подтипы А1 и А2), тип В и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8" name="Picture 2" descr=""/>
          <p:cNvPicPr/>
          <p:nvPr/>
        </p:nvPicPr>
        <p:blipFill>
          <a:blip r:embed="rId1"/>
          <a:stretch/>
        </p:blipFill>
        <p:spPr>
          <a:xfrm>
            <a:off x="4214880" y="1285920"/>
            <a:ext cx="40719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/>
          </p:nvPr>
        </p:nvSpPr>
        <p:spPr>
          <a:xfrm>
            <a:off x="571680" y="1000080"/>
            <a:ext cx="32860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 гриппа имеет сферическую структуру и размер 80-120 нанометров. Сердцевина вируса содержит одноцепочечную отрицательную цепь РНК, состоящую из 8 фрагментов, которые кодируют 10 вирусных белк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0" name="Picture 2" descr=""/>
          <p:cNvPicPr/>
          <p:nvPr/>
        </p:nvPicPr>
        <p:blipFill>
          <a:blip r:embed="rId1"/>
          <a:stretch/>
        </p:blipFill>
        <p:spPr>
          <a:xfrm>
            <a:off x="435780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1901" name="Прямоугольник 5"/>
          <p:cNvSpPr/>
          <p:nvPr/>
        </p:nvSpPr>
        <p:spPr>
          <a:xfrm>
            <a:off x="4485240" y="500076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Микрофотография вируса гри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30002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5964"/>
                </a:solidFill>
                <a:latin typeface="Arial"/>
              </a:rPr>
              <a:t>Герпес— вирусное заболевание с характерным высыпанием сгруппированных пузырьков на коже и слизистых оболоч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5964"/>
                </a:solidFill>
                <a:latin typeface="Arial"/>
              </a:rPr>
              <a:t>Вирусом герпеса инфицировано 95% людей земного шара. ВПГ оказывает разрушительное действие на иммунную систем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Picture 2" descr=""/>
          <p:cNvPicPr/>
          <p:nvPr/>
        </p:nvPicPr>
        <p:blipFill>
          <a:blip r:embed="rId1"/>
          <a:stretch/>
        </p:blipFill>
        <p:spPr>
          <a:xfrm>
            <a:off x="4071960" y="1571760"/>
            <a:ext cx="45435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/>
          </p:nvPr>
        </p:nvSpPr>
        <p:spPr>
          <a:xfrm>
            <a:off x="642960" y="157176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ее часто вирус пораж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жу, глаз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изистые оболочки ли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изистые оболочки половых орган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тральную нервную систем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адают вол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Picture 2" descr=""/>
          <p:cNvPicPr/>
          <p:nvPr/>
        </p:nvPicPr>
        <p:blipFill>
          <a:blip r:embed="rId1"/>
          <a:stretch/>
        </p:blipFill>
        <p:spPr>
          <a:xfrm>
            <a:off x="5143680" y="1714680"/>
            <a:ext cx="2695320" cy="2676240"/>
          </a:xfrm>
          <a:prstGeom prst="rect">
            <a:avLst/>
          </a:prstGeom>
          <a:ln w="0">
            <a:noFill/>
          </a:ln>
        </p:spPr>
      </p:pic>
      <p:sp>
        <p:nvSpPr>
          <p:cNvPr id="1906" name="TextBox 3"/>
          <p:cNvSpPr/>
          <p:nvPr/>
        </p:nvSpPr>
        <p:spPr>
          <a:xfrm>
            <a:off x="5072040" y="4429080"/>
            <a:ext cx="27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Так выглядит вирус герп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Темы сооб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Строение и разнообразие виру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Вирусы – возбудители болезней чело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Вирусные инфекции в истории челове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Вирус иммунодефицита чело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Методы диагностики вирусных болезней. Сообщение врача-лаборанта Бердянской городской больницы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Профилактика  вирусных болезней. Сообщение медицинской сестры ЗОШ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І-ІІ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т.№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 txBox="1"/>
          <p:nvPr/>
        </p:nvSpPr>
        <p:spPr>
          <a:xfrm>
            <a:off x="152280" y="775800"/>
            <a:ext cx="8562960" cy="5851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5395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b5395"/>
                </a:solidFill>
                <a:latin typeface="Arial"/>
              </a:rPr>
              <a:t>Вирус герпеса поражает клетку человека, разместившись в ее генном аппарате. ВПГ при делении клеток передается другим клеткам со всей наследственной информацией</a:t>
            </a:r>
            <a:r>
              <a:rPr b="1" lang="ru-RU" sz="2200" spc="-1" strike="noStrike">
                <a:solidFill>
                  <a:srgbClr val="0b5395"/>
                </a:solidFill>
                <a:latin typeface="Arial"/>
              </a:rPr>
              <a:t>. Заразившись герпесом человек никогда не избавляется от н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Пути передачи герпе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воздушно-капе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контакт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полов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996633"/>
                </a:solidFill>
                <a:latin typeface="Arial"/>
              </a:rPr>
              <a:t>Вирус герпеса (ВПГ) в неактивном состоянии может существовать на протяжении всей жизни. ВПГ обостряется лишь время от времени на фоне других заболеваний, при общем упадке сил, при неблагоприятной экологической обстановке, переохлаждении, переутомлени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/>
          </p:nvPr>
        </p:nvSpPr>
        <p:spPr>
          <a:xfrm>
            <a:off x="571680" y="1071720"/>
            <a:ext cx="3171600" cy="5176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495c"/>
                </a:solidFill>
                <a:latin typeface="Arial"/>
              </a:rPr>
              <a:t>Бешенство </a:t>
            </a:r>
            <a:r>
              <a:rPr b="0" lang="en-US" sz="2200" spc="-1" strike="noStrike">
                <a:solidFill>
                  <a:srgbClr val="03495c"/>
                </a:solidFill>
                <a:latin typeface="Arial"/>
              </a:rPr>
              <a:t>- острое инфекционное заболевание, возникающее после укуса зараженного животного, протекающее с тяжелым поражением нервной системы и заканчивающееся, как правило, смертельным исхо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495c"/>
                </a:solidFill>
                <a:latin typeface="Arial"/>
              </a:rPr>
              <a:t>Бешенство является одним из наиболее опасных инфекционных заболева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9" name="Picture 2" descr=""/>
          <p:cNvPicPr/>
          <p:nvPr/>
        </p:nvPicPr>
        <p:blipFill>
          <a:blip r:embed="rId1"/>
          <a:stretch/>
        </p:blipFill>
        <p:spPr>
          <a:xfrm>
            <a:off x="4357800" y="1428840"/>
            <a:ext cx="3870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2743200" cy="5105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e6d"/>
                </a:solidFill>
                <a:latin typeface="Arial"/>
              </a:rPr>
              <a:t>Вирус бешенства имеет форму винтовочной пули, размеры от 90-170 до 110-200 нм, содержит однонитевую РН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1" name="Picture 2" descr=""/>
          <p:cNvPicPr/>
          <p:nvPr/>
        </p:nvPicPr>
        <p:blipFill>
          <a:blip r:embed="rId1"/>
          <a:stretch/>
        </p:blipFill>
        <p:spPr>
          <a:xfrm>
            <a:off x="4429080" y="1214280"/>
            <a:ext cx="3505320" cy="3929400"/>
          </a:xfrm>
          <a:prstGeom prst="rect">
            <a:avLst/>
          </a:prstGeom>
          <a:ln w="0">
            <a:noFill/>
          </a:ln>
        </p:spPr>
      </p:pic>
      <p:sp>
        <p:nvSpPr>
          <p:cNvPr id="1912" name="Прямоугольник 5"/>
          <p:cNvSpPr/>
          <p:nvPr/>
        </p:nvSpPr>
        <p:spPr>
          <a:xfrm>
            <a:off x="4500720" y="5143680"/>
            <a:ext cx="37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Электронная микрофотография </a:t>
            </a: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Вируса беш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Заголовок 1" descr=""/>
          <p:cNvPicPr/>
          <p:nvPr/>
        </p:nvPicPr>
        <p:blipFill>
          <a:blip r:embed="rId2"/>
          <a:stretch/>
        </p:blipFill>
        <p:spPr>
          <a:xfrm>
            <a:off x="622440" y="1731960"/>
            <a:ext cx="79311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4" name="Заголовок 1" descr=""/>
          <p:cNvPicPr/>
          <p:nvPr/>
        </p:nvPicPr>
        <p:blipFill>
          <a:blip r:embed="rId2"/>
          <a:stretch/>
        </p:blipFill>
        <p:spPr>
          <a:xfrm>
            <a:off x="676440" y="420840"/>
            <a:ext cx="8143560" cy="1474560"/>
          </a:xfrm>
          <a:prstGeom prst="rect">
            <a:avLst/>
          </a:prstGeom>
          <a:ln w="0">
            <a:noFill/>
          </a:ln>
        </p:spPr>
      </p:pic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571320" y="2000160"/>
            <a:ext cx="7854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рип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тичий грип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иной грип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Испанский грип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ИЧ(СПИД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6" name="Заголовок 1" descr=""/>
          <p:cNvPicPr/>
          <p:nvPr/>
        </p:nvPicPr>
        <p:blipFill>
          <a:blip r:embed="rId2"/>
          <a:stretch/>
        </p:blipFill>
        <p:spPr>
          <a:xfrm>
            <a:off x="603360" y="-334800"/>
            <a:ext cx="7864200" cy="1420560"/>
          </a:xfrm>
          <a:prstGeom prst="rect">
            <a:avLst/>
          </a:prstGeom>
          <a:ln w="0">
            <a:noFill/>
          </a:ln>
        </p:spPr>
      </p:pic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571320" y="2000160"/>
            <a:ext cx="7854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8" name="Содержимое 2"/>
          <p:cNvSpPr/>
          <p:nvPr/>
        </p:nvSpPr>
        <p:spPr>
          <a:xfrm>
            <a:off x="457200" y="1071720"/>
            <a:ext cx="74674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ая сильная из известных пандемий, унесшая по самым скромным подсчетам более 20 миллионов жизней, произошла в 1918-1920 годах. Это печально известная "испанка", вызванная вирусом H1N1. От пандемии серьезно пострадало от 20 до 40% населения Земли, эпидемия гриппа охватила Испанию, Швейцарию, Португалию, Сербию, Грецию, Англию, Германию, Данию, Скандинавские страны, Северную Африку и другие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мерть от гриппа наступала крайне быстро - человек еще утром мог быть абсолютно здоров, к полудню он заболевал и умирал к ночи. Особенностью "испанки" было то, что она часто поражала молодых людей, так как обычно от гриппа в первую очередь страдают дети и пожилые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9" name="Заголовок 1" descr=""/>
          <p:cNvPicPr/>
          <p:nvPr/>
        </p:nvPicPr>
        <p:blipFill>
          <a:blip r:embed="rId2"/>
          <a:stretch/>
        </p:blipFill>
        <p:spPr>
          <a:xfrm>
            <a:off x="706320" y="23184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/>
          </p:nvPr>
        </p:nvSpPr>
        <p:spPr>
          <a:xfrm>
            <a:off x="530280" y="149976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рипп птиц , классическая чума птиц — острая инфекционная вирусная болезнь птиц, характеризующаяся поражением органов пищеварения, дыхания, высокой летальностью. Антигенная вариабельность вируса гриппа птиц и наличие высоковирулентных штаммов позволяют отнести его к особо опасным болезням, способным причинить большой экономический ущерб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1" name="Рисунок 4" descr="птиций грипп.jpg"/>
          <p:cNvPicPr/>
          <p:nvPr/>
        </p:nvPicPr>
        <p:blipFill>
          <a:blip r:embed="rId3"/>
          <a:stretch/>
        </p:blipFill>
        <p:spPr>
          <a:xfrm>
            <a:off x="0" y="4141800"/>
            <a:ext cx="3871800" cy="2716200"/>
          </a:xfrm>
          <a:prstGeom prst="rect">
            <a:avLst/>
          </a:prstGeom>
          <a:ln w="0">
            <a:noFill/>
          </a:ln>
        </p:spPr>
      </p:pic>
      <p:pic>
        <p:nvPicPr>
          <p:cNvPr id="1922" name="Рисунок 5" descr="cf87106b8e305b02c6cc5e108b1b7740.jpg"/>
          <p:cNvPicPr/>
          <p:nvPr/>
        </p:nvPicPr>
        <p:blipFill>
          <a:blip r:embed="rId4"/>
          <a:stretch/>
        </p:blipFill>
        <p:spPr>
          <a:xfrm>
            <a:off x="5643720" y="4071960"/>
            <a:ext cx="2928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3" name="Заголовок 1" descr=""/>
          <p:cNvPicPr/>
          <p:nvPr/>
        </p:nvPicPr>
        <p:blipFill>
          <a:blip r:embed="rId2"/>
          <a:stretch/>
        </p:blipFill>
        <p:spPr>
          <a:xfrm>
            <a:off x="566640" y="158760"/>
            <a:ext cx="7785360" cy="1157400"/>
          </a:xfrm>
          <a:prstGeom prst="rect">
            <a:avLst/>
          </a:prstGeom>
          <a:ln w="0">
            <a:noFill/>
          </a:ln>
        </p:spPr>
      </p:pic>
      <p:sp>
        <p:nvSpPr>
          <p:cNvPr id="1924" name="PlaceHolder 1"/>
          <p:cNvSpPr>
            <a:spLocks noGrp="1"/>
          </p:cNvSpPr>
          <p:nvPr>
            <p:ph/>
          </p:nvPr>
        </p:nvSpPr>
        <p:spPr>
          <a:xfrm>
            <a:off x="530280" y="16426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Свиной грипп  — условное название заболевания людей и животных, вызываемого штаммами вируса гриппа. виде эпидемий и пандемий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5" name="Рисунок 3" descr="Gripp_b.jpg"/>
          <p:cNvPicPr/>
          <p:nvPr/>
        </p:nvPicPr>
        <p:blipFill>
          <a:blip r:embed="rId3"/>
          <a:stretch/>
        </p:blipFill>
        <p:spPr>
          <a:xfrm>
            <a:off x="2143080" y="2928960"/>
            <a:ext cx="5005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Заголовок 1" descr=""/>
          <p:cNvPicPr/>
          <p:nvPr/>
        </p:nvPicPr>
        <p:blipFill>
          <a:blip r:embed="rId2"/>
          <a:stretch/>
        </p:blipFill>
        <p:spPr>
          <a:xfrm>
            <a:off x="633240" y="158760"/>
            <a:ext cx="7785360" cy="1157400"/>
          </a:xfrm>
          <a:prstGeom prst="rect">
            <a:avLst/>
          </a:prstGeom>
          <a:ln w="0">
            <a:noFill/>
          </a:ln>
        </p:spPr>
      </p:pic>
      <p:sp>
        <p:nvSpPr>
          <p:cNvPr id="1927" name="PlaceHolder 1"/>
          <p:cNvSpPr>
            <a:spLocks noGrp="1"/>
          </p:cNvSpPr>
          <p:nvPr>
            <p:ph/>
          </p:nvPr>
        </p:nvSpPr>
        <p:spPr>
          <a:xfrm>
            <a:off x="53028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спанский грипп- был самой массовой пандемиейгриппа за всю историю 1918—1919 годах (18 месяцев) во всем мире от испанки умерло приблизительно 50-100 млн человек или 2,7-5,3 % населения Земл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0" name="Рисунок 3" descr="вич.gif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84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сегодня на уроке мы обобщим знания об особенностях строения и жизнедеятельности вирус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сформулируем выводы о значении вирусов в природе и жизни челове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проанализируем основные причины угрозы человечеству со стороны вирусных болезней и очертим пути решения данных пробл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научимся применять полученные знания для сохранения собственного здоровья и профилактики вирусных болезн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получим информацию о профессиях, которые требуют специальных биологических знаний: медсестры, врача лаборанта, вирусолога, эпидемиоло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1" name="Заголовок 1" descr=""/>
          <p:cNvPicPr/>
          <p:nvPr/>
        </p:nvPicPr>
        <p:blipFill>
          <a:blip r:embed="rId1"/>
          <a:stretch/>
        </p:blipFill>
        <p:spPr>
          <a:xfrm>
            <a:off x="755640" y="2219400"/>
            <a:ext cx="76024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TextBox 5"/>
          <p:cNvSpPr/>
          <p:nvPr/>
        </p:nvSpPr>
        <p:spPr>
          <a:xfrm>
            <a:off x="179280" y="907920"/>
            <a:ext cx="410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Verdana"/>
              </a:rPr>
              <a:t>ВИЧ–инфекц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медленно прогрессирующее вирусное заболевание, характеризующееся поражением иммунных клеток, терминальная стадия которого, приводит к крайней степени угнетения иммунной системы человека и именуется как </a:t>
            </a:r>
            <a:r>
              <a:rPr b="0" lang="en-US" sz="2000" spc="-1" strike="noStrike">
                <a:solidFill>
                  <a:srgbClr val="34352e"/>
                </a:solidFill>
                <a:latin typeface="Verdana"/>
              </a:rPr>
              <a:t>СПИ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синдром приобретенного иммунодефици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3" name="Рисунок 6" descr=""/>
          <p:cNvPicPr/>
          <p:nvPr/>
        </p:nvPicPr>
        <p:blipFill>
          <a:blip r:embed="rId1"/>
          <a:stretch/>
        </p:blipFill>
        <p:spPr>
          <a:xfrm>
            <a:off x="4859280" y="880920"/>
            <a:ext cx="33544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4" name="Рисунок 5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TextBox 1"/>
          <p:cNvSpPr/>
          <p:nvPr/>
        </p:nvSpPr>
        <p:spPr>
          <a:xfrm>
            <a:off x="755640" y="836640"/>
            <a:ext cx="6840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адии за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ИЧ попадает в организм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лабляет иммунную сист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ражает клетки, борющиеся с инфекциями(Т-лимфоциты или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D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рганизм не способен защищаться от инфе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вивается одно или несколько серьез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7"/>
          <p:cNvSpPr/>
          <p:nvPr/>
        </p:nvSpPr>
        <p:spPr>
          <a:xfrm>
            <a:off x="108000" y="4653000"/>
            <a:ext cx="90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000"/>
                </a:solidFill>
                <a:latin typeface="Arial"/>
              </a:rPr>
              <a:t>Вирус может существовать в организ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000"/>
                </a:solidFill>
                <a:latin typeface="Arial"/>
              </a:rPr>
              <a:t>человека в течение10-12 лет   бессимптомно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TextBox 1"/>
          <p:cNvSpPr/>
          <p:nvPr/>
        </p:nvSpPr>
        <p:spPr>
          <a:xfrm>
            <a:off x="417600" y="404640"/>
            <a:ext cx="7634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Заражение ВИЧ происход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 половых конта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 кормлении груд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 переливании кр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 манипуляциях инструментами загрязненными кровью больных(хирургические инструменты, шприц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зможно внутриутробное заражение плода от больной ма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TextBox 2"/>
          <p:cNvSpPr/>
          <p:nvPr/>
        </p:nvSpPr>
        <p:spPr>
          <a:xfrm>
            <a:off x="395280" y="3213000"/>
            <a:ext cx="794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ВИЧ НЕ ПЕРЕДА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кусы комаров и прочих насеком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зд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укопожа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целу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су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деж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бщее пользование ванной, туалетом, плавательным бассейном и т.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TextBox 1"/>
          <p:cNvSpPr/>
          <p:nvPr/>
        </p:nvSpPr>
        <p:spPr>
          <a:xfrm>
            <a:off x="552960" y="1700280"/>
            <a:ext cx="45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0000"/>
                </a:solidFill>
                <a:latin typeface="Arial"/>
              </a:rPr>
              <a:t>Содержание ВИ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 крови 9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 вагинальной жидкости 44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 сперме 4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 грудном молоке 2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Рисунок 2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4172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1" name="Заголовок 1" descr=""/>
          <p:cNvPicPr/>
          <p:nvPr/>
        </p:nvPicPr>
        <p:blipFill>
          <a:blip r:embed="rId1"/>
          <a:stretch/>
        </p:blipFill>
        <p:spPr>
          <a:xfrm>
            <a:off x="1395360" y="281160"/>
            <a:ext cx="6224760" cy="2206440"/>
          </a:xfrm>
          <a:prstGeom prst="rect">
            <a:avLst/>
          </a:prstGeom>
          <a:ln w="0">
            <a:noFill/>
          </a:ln>
        </p:spPr>
      </p:pic>
      <p:sp>
        <p:nvSpPr>
          <p:cNvPr id="1942" name="TextBox 2"/>
          <p:cNvSpPr/>
          <p:nvPr/>
        </p:nvSpPr>
        <p:spPr>
          <a:xfrm>
            <a:off x="755640" y="2492280"/>
            <a:ext cx="7920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ие антител к вирусу с помощью иммунофермен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а-тестирование, которое можно пройти бесплатно в СПИД-цен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0000"/>
                </a:solidFill>
                <a:latin typeface="Arial"/>
              </a:rPr>
              <a:t>Лекарства от СПИДа пока не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препараты, способные значительно замедлить развитие вир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TextBox 1"/>
          <p:cNvSpPr/>
          <p:nvPr/>
        </p:nvSpPr>
        <p:spPr>
          <a:xfrm>
            <a:off x="755640" y="620640"/>
            <a:ext cx="770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981 по 2006 год от болезней, связанных с ВИЧ-инфекцией и СПИД умерли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25 миллионов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лько в 2006 году ВИЧ-инфекция стала причиной смерти около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2,9 миллиона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началу 2007 года во всем мире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около 40 миллионов челове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66 % населения Земли) являлись носителями 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1 ноября 2011 года зарегистрировано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14510случаев зараж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лось 258 детей, из них с диагнозом ВИЧ – 83, в 2010 году – 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011 году от ВИЧ умерло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1543 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территории РФ состоят на учете с диагнозом ВИЧ более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600000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Родилось – 28207 человек, из них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5300 установленных с диагнозом 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Рисунок 1" descr=""/>
          <p:cNvPicPr/>
          <p:nvPr/>
        </p:nvPicPr>
        <p:blipFill>
          <a:blip r:embed="rId1"/>
          <a:stretch/>
        </p:blipFill>
        <p:spPr>
          <a:xfrm>
            <a:off x="-111240" y="-73080"/>
            <a:ext cx="92934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5" name="Рисунок 1" descr=""/>
          <p:cNvPicPr/>
          <p:nvPr/>
        </p:nvPicPr>
        <p:blipFill>
          <a:blip r:embed="rId1"/>
          <a:stretch/>
        </p:blipFill>
        <p:spPr>
          <a:xfrm>
            <a:off x="3152880" y="28440"/>
            <a:ext cx="5991120" cy="4337280"/>
          </a:xfrm>
          <a:prstGeom prst="rect">
            <a:avLst/>
          </a:prstGeom>
          <a:ln w="0">
            <a:noFill/>
          </a:ln>
        </p:spPr>
      </p:pic>
      <p:pic>
        <p:nvPicPr>
          <p:cNvPr id="1946" name="Рисунок 2" descr=""/>
          <p:cNvPicPr/>
          <p:nvPr/>
        </p:nvPicPr>
        <p:blipFill>
          <a:blip r:embed="rId2"/>
          <a:stretch/>
        </p:blipFill>
        <p:spPr>
          <a:xfrm>
            <a:off x="108000" y="4005360"/>
            <a:ext cx="3959280" cy="2759040"/>
          </a:xfrm>
          <a:prstGeom prst="rect">
            <a:avLst/>
          </a:prstGeom>
          <a:ln w="0">
            <a:noFill/>
          </a:ln>
        </p:spPr>
      </p:pic>
      <p:sp>
        <p:nvSpPr>
          <p:cNvPr id="1947" name="TextBox 3"/>
          <p:cNvSpPr/>
          <p:nvPr/>
        </p:nvSpPr>
        <p:spPr>
          <a:xfrm>
            <a:off x="250920" y="476280"/>
            <a:ext cx="273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Этот день служит напоминанием о необходимости о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Box 4"/>
          <p:cNvSpPr/>
          <p:nvPr/>
        </p:nvSpPr>
        <p:spPr>
          <a:xfrm>
            <a:off x="4464000" y="467208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лобальное распространение эпидемии ВИЧ/СП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9ac2c0"/>
                </a:solidFill>
                <a:latin typeface="Arial"/>
              </a:rPr>
              <a:t>Строение и разнообразие вирусов</a:t>
            </a: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TextBox 3"/>
          <p:cNvSpPr/>
          <p:nvPr/>
        </p:nvSpPr>
        <p:spPr>
          <a:xfrm>
            <a:off x="3000240" y="2565360"/>
            <a:ext cx="3372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33"/>
                </a:solidFill>
                <a:uFillTx/>
                <a:latin typeface="Trebuchet MS"/>
                <a:hlinkClick r:id="rId1"/>
              </a:rPr>
              <a:t>Релакс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строени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0" y="856800"/>
            <a:ext cx="91440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Боле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0 видов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; объединены в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арство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еры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от 10 нм до 700 н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: палочковидные (ВТМ), пулевидные (бешенства), сферические (ВИЧ, полимиелит), нитевидные (гриппа), многогранников (герпе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Овал 3"/>
          <p:cNvSpPr/>
          <p:nvPr/>
        </p:nvSpPr>
        <p:spPr>
          <a:xfrm>
            <a:off x="3357720" y="3357720"/>
            <a:ext cx="2286000" cy="571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7" name="Прямая со стрелкой 5"/>
          <p:cNvCxnSpPr/>
          <p:nvPr/>
        </p:nvCxnSpPr>
        <p:spPr>
          <a:xfrm flipH="1">
            <a:off x="2428200" y="3643200"/>
            <a:ext cx="7866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48" name="Прямая со стрелкой 7"/>
          <p:cNvCxnSpPr/>
          <p:nvPr/>
        </p:nvCxnSpPr>
        <p:spPr>
          <a:xfrm>
            <a:off x="5715000" y="3643200"/>
            <a:ext cx="7149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49" name="Овал 8"/>
          <p:cNvSpPr/>
          <p:nvPr/>
        </p:nvSpPr>
        <p:spPr>
          <a:xfrm>
            <a:off x="214200" y="3929040"/>
            <a:ext cx="2857680" cy="5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Овал 9"/>
          <p:cNvSpPr/>
          <p:nvPr/>
        </p:nvSpPr>
        <p:spPr>
          <a:xfrm>
            <a:off x="6072120" y="3857760"/>
            <a:ext cx="2857680" cy="571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ж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1" name="Прямая со стрелкой 11"/>
          <p:cNvCxnSpPr/>
          <p:nvPr/>
        </p:nvCxnSpPr>
        <p:spPr>
          <a:xfrm flipH="1">
            <a:off x="428400" y="4500720"/>
            <a:ext cx="3578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52" name="Прямая со стрелкой 13"/>
          <p:cNvCxnSpPr/>
          <p:nvPr/>
        </p:nvCxnSpPr>
        <p:spPr>
          <a:xfrm>
            <a:off x="2143080" y="4572000"/>
            <a:ext cx="2865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3" name="TextBox 14"/>
          <p:cNvSpPr/>
          <p:nvPr/>
        </p:nvSpPr>
        <p:spPr>
          <a:xfrm>
            <a:off x="0" y="500076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НК или Р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15"/>
          <p:cNvSpPr/>
          <p:nvPr/>
        </p:nvSpPr>
        <p:spPr>
          <a:xfrm>
            <a:off x="1714680" y="48578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с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Box 22"/>
          <p:cNvSpPr/>
          <p:nvPr/>
        </p:nvSpPr>
        <p:spPr>
          <a:xfrm>
            <a:off x="4286160" y="471492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НК или Р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Box 23"/>
          <p:cNvSpPr/>
          <p:nvPr/>
        </p:nvSpPr>
        <p:spPr>
          <a:xfrm>
            <a:off x="5500800" y="571500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с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Box 27"/>
          <p:cNvSpPr/>
          <p:nvPr/>
        </p:nvSpPr>
        <p:spPr>
          <a:xfrm>
            <a:off x="6643800" y="485784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ротеидная мембрана, углеводы и фермен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8" name="Прямая со стрелкой 16"/>
          <p:cNvCxnSpPr/>
          <p:nvPr/>
        </p:nvCxnSpPr>
        <p:spPr>
          <a:xfrm flipH="1">
            <a:off x="6071400" y="4500360"/>
            <a:ext cx="715320" cy="12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59" name="Прямая со стрелкой 18"/>
          <p:cNvCxnSpPr/>
          <p:nvPr/>
        </p:nvCxnSpPr>
        <p:spPr>
          <a:xfrm flipH="1">
            <a:off x="5143320" y="4357800"/>
            <a:ext cx="10008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0" name="Прямая со стрелкой 19"/>
          <p:cNvCxnSpPr/>
          <p:nvPr/>
        </p:nvCxnSpPr>
        <p:spPr>
          <a:xfrm>
            <a:off x="7642800" y="4500720"/>
            <a:ext cx="14364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"/>
          <p:cNvSpPr txBox="1"/>
          <p:nvPr/>
        </p:nvSpPr>
        <p:spPr>
          <a:xfrm>
            <a:off x="2857680" y="1599840"/>
            <a:ext cx="6286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сид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щает генетический материал вируса от действия ферментов и ультрафиолетового излучения, а также способствует осаждению вируса на клеточную мембран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 клетки вирусы не проявляют свойств жиз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русы способны воспроизводить себе подобных, обладают наследственностью и изменчивост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C:\Documents and Settings\Мама\Рабочий стол\Мои документы\биология 10 класс\картинки\0500601.jpg"/>
          <p:cNvPicPr/>
          <p:nvPr/>
        </p:nvPicPr>
        <p:blipFill>
          <a:blip r:embed="rId2"/>
          <a:stretch/>
        </p:blipFill>
        <p:spPr>
          <a:xfrm>
            <a:off x="285840" y="1857240"/>
            <a:ext cx="2571840" cy="32148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863" name="Овал 4"/>
          <p:cNvSpPr/>
          <p:nvPr/>
        </p:nvSpPr>
        <p:spPr>
          <a:xfrm>
            <a:off x="3214800" y="285840"/>
            <a:ext cx="2643120" cy="571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4" name="Прямая со стрелкой 6"/>
          <p:cNvCxnSpPr/>
          <p:nvPr/>
        </p:nvCxnSpPr>
        <p:spPr>
          <a:xfrm flipH="1">
            <a:off x="2428560" y="571680"/>
            <a:ext cx="71496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5" name="Прямая со стрелкой 8"/>
          <p:cNvCxnSpPr/>
          <p:nvPr/>
        </p:nvCxnSpPr>
        <p:spPr>
          <a:xfrm>
            <a:off x="5928840" y="571320"/>
            <a:ext cx="71532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66" name="Овал 9"/>
          <p:cNvSpPr/>
          <p:nvPr/>
        </p:nvSpPr>
        <p:spPr>
          <a:xfrm>
            <a:off x="0" y="785880"/>
            <a:ext cx="307188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-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Овал 10"/>
          <p:cNvSpPr/>
          <p:nvPr/>
        </p:nvSpPr>
        <p:spPr>
          <a:xfrm>
            <a:off x="5857920" y="857160"/>
            <a:ext cx="3071880" cy="714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НК-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1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русы-возбудители болезней челове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9" name="Picture 3" descr="virusfasf324слайд 1"/>
          <p:cNvPicPr/>
          <p:nvPr/>
        </p:nvPicPr>
        <p:blipFill>
          <a:blip r:embed="rId1"/>
          <a:stretch/>
        </p:blipFill>
        <p:spPr>
          <a:xfrm>
            <a:off x="1332000" y="2155680"/>
            <a:ext cx="626436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Disney Simple"/>
              </a:rPr>
              <a:t>               </a:t>
            </a:r>
            <a:r>
              <a:rPr b="1" lang="ru-RU" sz="3200" spc="-1" strike="noStrike">
                <a:solidFill>
                  <a:srgbClr val="ffffff"/>
                </a:solidFill>
                <a:latin typeface="Disney Simple"/>
              </a:rPr>
              <a:t>ЦИТАМИГАЛОВИР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Disney Simple"/>
              </a:rPr>
              <a:t>Цитомегаловирусная инфекция-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широко распространенная 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ирусная инфекция, характеризующаяся многообразными проявлениями от бессимптомного течения до тяжелых форм с поражением внутренних органов и центральной нервной системы. Возбудитель (Cytomegalovirus hominis) относится к вирусам герпеса (семейство Herpesviridae). Резервуаром и источником инфекции является только человек.</a:t>
            </a:r>
            <a:br>
              <a:rPr sz="1800"/>
            </a:b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1" name="Picture 3" descr="Cytomegalovirus слайд 2!!!"/>
          <p:cNvPicPr/>
          <p:nvPr/>
        </p:nvPicPr>
        <p:blipFill>
          <a:blip r:embed="rId1"/>
          <a:stretch/>
        </p:blipFill>
        <p:spPr>
          <a:xfrm>
            <a:off x="250920" y="3284640"/>
            <a:ext cx="4557600" cy="315108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4" descr="VIRUS1 слайд 2"/>
          <p:cNvPicPr/>
          <p:nvPr/>
        </p:nvPicPr>
        <p:blipFill>
          <a:blip r:embed="rId2"/>
          <a:stretch/>
        </p:blipFill>
        <p:spPr>
          <a:xfrm>
            <a:off x="5003640" y="3500280"/>
            <a:ext cx="3888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РУСНЫЕ ГЕПАТИ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5184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Гепатотропные вирусы в клетках печени  выполняют свою главную биологическую миссию – размножаются, чтобы потом попасть в кровь и, если повезет, в другой человеческий орган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льшинство вирусов не убивают клетку печени, а используют ее как фабрику для воспроизводства себе подобных. Иммунная система человека запрограммирована на выявление таких инфицированных клеток и безжалостное их уничтожение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этому при вирусных гепатитах клетки иммунной повреждают гепатоци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5" name="Picture 4" descr="Fatty-Liver-Treatment слайд 4"/>
          <p:cNvPicPr/>
          <p:nvPr/>
        </p:nvPicPr>
        <p:blipFill>
          <a:blip r:embed="rId1"/>
          <a:stretch/>
        </p:blipFill>
        <p:spPr>
          <a:xfrm>
            <a:off x="5292720" y="1268280"/>
            <a:ext cx="3625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38:12Z</dcterms:created>
  <dc:creator>admin</dc:creator>
  <dc:description/>
  <dc:language>en-US</dc:language>
  <cp:lastModifiedBy>Илвия Попова</cp:lastModifiedBy>
  <dcterms:modified xsi:type="dcterms:W3CDTF">2012-10-15T21:25:33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d000000000001024140</vt:lpwstr>
  </property>
</Properties>
</file>