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DC5-8615-46D7-BCDA-DC13C370EA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2DCC-7357-43E6-AF58-2A6438F29F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BDD-D833-4E50-9A69-14FE3416B31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86A4-920B-4415-82C8-7A24EBBC62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3EA4-622E-46F4-9964-B88750E21757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DBC4-C15A-4B5E-B9DF-41D1CABBE6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8EF9-CED8-4375-BF90-BC416C8A6A66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E7D1-CF6F-43F6-9C5A-4B14C67EF9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C71C-CF03-4290-B370-1D525B4E6B8F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A4C-93F1-48FC-B5A1-D9BD26F037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FBD8-E17F-437C-95F1-4588A945B116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F5D7-6E34-4831-BA8D-878DDA797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BF1-3E17-4479-9DF9-6EB787A35B46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A8AD-A22E-4D22-923D-E89DE1C671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8F86-12A2-40F0-A359-17DA4625425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A7B-2AE8-4EFD-832C-0473C035D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30C-1FDE-4E5D-A512-9C2A25043C1D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69D-427D-4608-8BB5-417A9EA7C2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6E9C-9B8C-4B02-90A0-7AA9D49D2215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A8E-ED0D-4A33-837A-94B7F179FA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B3D7-F805-44A5-BF59-081AF9CE415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A11-E657-4322-8692-DA11DA6E68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819-A840-413D-A23B-8E4E4052D67F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936-B6D8-442A-BD06-55EA8AB880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E323-16D7-48BD-A26E-A9996FFEE01F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570D-3903-4F62-AE7C-4FF1C9A1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CB5C-5181-463F-8AA5-50196638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D025-F13F-4123-B0B4-B44E3BAE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34D4-C94E-4B6A-9063-C48858D8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51E5-93A5-4C56-BD38-8DA902EA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208-223A-4CE9-B0EA-87825F02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06F0-EBDD-4829-8CBB-221557B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71F7-11D5-4FF0-A072-8E8AA65E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4F43-F200-4F71-99F3-6646FD0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F19C-D928-46A4-9E06-CEDC148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59E-7F61-4939-AE72-B96590A3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FBEC-A87C-4F16-97BB-E72E43F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3FAA-69FE-4CA2-99CB-D886810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6AC7-0B2D-4374-A14A-541AE25E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52BD-9C24-4247-B7F2-9597DA80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3562-2DDA-463B-BA99-341C2A56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FD4-2378-4DCE-8481-94BDAAEA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D068-00AB-44EB-8BC6-2721523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740F-98E6-4311-A3F4-55FF400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4638-3540-4880-B26E-EEF2891C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EA57-1E5E-4571-9CB1-E048871C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D0C5-EFDD-485D-8040-E9DDF775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81C8-42D7-497A-BC11-EF69900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81D9-7E40-4AF4-A0FD-8B5D20D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915B-7B44-4BEF-8D46-5A3883A1B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CC8-AC31-486F-A7D5-7ABE5280F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AC75-7D6F-4393-A14D-90F2B5123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182-6F5E-4FBD-9F2C-9550D523B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_medicine/27816/&#1057;&#1077;&#1082;&#1088;&#1077;&#1094;&#1080;&#1103;" TargetMode="External"/><Relationship Id="rId2" Type="http://schemas.openxmlformats.org/officeDocument/2006/relationships/hyperlink" Target="http://dic.academic.ru/dic.nsf/enc_medicine/27816/&#1057;&#1077;&#1082;&#1088;&#1077;&#1094;&#1080;&#1103;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Эндокринная регуляция функций организма челове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762120"/>
            <a:ext cx="32767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09680"/>
            <a:ext cx="198108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2209680"/>
            <a:ext cx="220968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я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209680"/>
            <a:ext cx="213336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йрогорм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352680"/>
            <a:ext cx="167652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йствую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352680"/>
            <a:ext cx="175248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лияю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ел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нутрен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кр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3352680"/>
            <a:ext cx="167616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рвные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ипоталамус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у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улято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рм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560" y="16765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16765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771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читать стр.186-187 учеб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нкт «Взаимосвязь между нервной и эндокринной систем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олнить схему «Гипоталамо-гипофизарная систе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89000"/>
            <a:ext cx="1584360" cy="9363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бот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828800"/>
            <a:ext cx="20574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2590920"/>
            <a:ext cx="28191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25909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657600"/>
            <a:ext cx="281916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65760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49568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53341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03848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1792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771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ь заполнение схемы «Гипоталамо-гипофизарная сист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382840" cy="433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8800" y="2666880"/>
            <a:ext cx="720720" cy="9352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1828800"/>
            <a:ext cx="20574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2590920"/>
            <a:ext cx="28191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гетативная нер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25909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рогорм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3657600"/>
            <a:ext cx="281916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365760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449568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улято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53341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03848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ыделение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екр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83739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достато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3600" spc="-1" strike="noStrike">
                <a:solidFill>
                  <a:srgbClr val="de2804"/>
                </a:solidFill>
                <a:latin typeface="Times New Roman"/>
              </a:rPr>
              <a:t>гип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быточное – </a:t>
            </a:r>
            <a:r>
              <a:rPr b="0" i="1" lang="ru-RU" sz="3600" spc="-1" strike="noStrike">
                <a:solidFill>
                  <a:srgbClr val="de2804"/>
                </a:solidFill>
                <a:latin typeface="Times New Roman"/>
              </a:rPr>
              <a:t>гипер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ипофиз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олирует деятельность щитовидной  и половых желёз, регулирует рост и развитие организ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гигантизм и карликовость"/>
          <p:cNvPicPr/>
          <p:nvPr/>
        </p:nvPicPr>
        <p:blipFill>
          <a:blip r:embed="rId1"/>
          <a:stretch/>
        </p:blipFill>
        <p:spPr>
          <a:xfrm>
            <a:off x="990720" y="2514600"/>
            <a:ext cx="2130480" cy="3355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8640" y="26668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Гормон ро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(соматотроп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ea081e"/>
                </a:solidFill>
                <a:latin typeface="Times New Roman"/>
              </a:rPr>
              <a:t>карлико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иперфунк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ea081e"/>
                </a:solidFill>
                <a:latin typeface="Times New Roman"/>
              </a:rPr>
              <a:t>гиг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3834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74872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 гиперфункции  гормона роста  у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зрослог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еловек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увеличиваются размеры не всего тела, а только отдельных его частей –носа, подбородка, языка, рук,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никает заболе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313"/>
                </a:solidFill>
                <a:latin typeface="Times New Roman"/>
              </a:rPr>
              <a:t>акромегалия</a:t>
            </a:r>
            <a:r>
              <a:rPr b="1" i="1" lang="en-US" sz="2800" spc="-1" strike="noStrike">
                <a:solidFill>
                  <a:srgbClr val="f1131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акромегалия 2"/>
          <p:cNvPicPr/>
          <p:nvPr/>
        </p:nvPicPr>
        <p:blipFill>
          <a:blip r:embed="rId1"/>
          <a:stretch/>
        </p:blipFill>
        <p:spPr>
          <a:xfrm>
            <a:off x="5334120" y="2743200"/>
            <a:ext cx="2763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Эпи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 мелато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т ощущение суточного биологического 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угнетении деятельности эпифиза у детей вызывает преждевременное половое развитие и задержка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избытке мелатонина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беливание участков кожи (витили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едостатке мелатонина –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збыточная пигментация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740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изирует все виды обмена веществ во всех органах и системах, влияет на развитие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ормон 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тирок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микседема, кретинизм (в детском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возрас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гиперфункци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азедова боле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базедова болезнь 1"/>
          <p:cNvPicPr/>
          <p:nvPr/>
        </p:nvPicPr>
        <p:blipFill>
          <a:blip r:embed="rId1"/>
          <a:stretch/>
        </p:blipFill>
        <p:spPr>
          <a:xfrm>
            <a:off x="304920" y="2286000"/>
            <a:ext cx="2795400" cy="439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54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13006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 недостатке йода в организме развиваетс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эндемический зоб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увеличение размеров щитовидной желез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зоб"/>
          <p:cNvPicPr/>
          <p:nvPr/>
        </p:nvPicPr>
        <p:blipFill>
          <a:blip r:embed="rId1"/>
          <a:stretch/>
        </p:blipFill>
        <p:spPr>
          <a:xfrm>
            <a:off x="5105520" y="2514600"/>
            <a:ext cx="3643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 –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аратгор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перфункция –размягчение костей и разрушение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пофункция – Кальций излишне накапливается в костях, хрящах и связках, нарушая их функции. В крови количество Кальция уменьшается, что приводит к возбудимости нервной системы и мышц, у человека возникают су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ить строение и функции эндокринной системы человека, показать значение гуморальной регуля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дпочечники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срочну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билизацию ресурсов организма в экстремальных ситуациях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ают его работоспособность и выносливос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горм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адрена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норадрен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2667240" cy="1752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25" name=""/>
          <p:cNvSpPr/>
          <p:nvPr/>
        </p:nvSpPr>
        <p:spPr>
          <a:xfrm>
            <a:off x="5486400" y="5029200"/>
            <a:ext cx="2743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— к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— мозгов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6776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Тимус (вилочковая желез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ущая роль в развитии иммун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мон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имо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924360" y="256536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621200" y="43448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тим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360" y="373536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ращитови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гулирует обмен углеводов в орган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f13b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горм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нсули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снижает уровень глюкозы в кр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глюкаго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способствует превращению гликогена в глюкоз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а инсулина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ахарный диаб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поджелудочная"/>
          <p:cNvPicPr/>
          <p:nvPr/>
        </p:nvPicPr>
        <p:blipFill>
          <a:blip r:embed="rId1"/>
          <a:stretch/>
        </p:blipFill>
        <p:spPr>
          <a:xfrm>
            <a:off x="4572000" y="3068640"/>
            <a:ext cx="4205160" cy="283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58515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42472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ловые железы</a:t>
            </a:r>
            <a:br>
              <a:rPr sz="44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яют формирование организма по женскому или мужскому типу, регулируют развитие вторичных половых при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37335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Женские половые железы - яи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ы –</a:t>
            </a:r>
            <a:r>
              <a:rPr b="1" i="1" lang="en-US" sz="2800" spc="-1" strike="noStrike">
                <a:solidFill>
                  <a:srgbClr val="c832b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эстрог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66720" y="3504960"/>
            <a:ext cx="4557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ужские половые железы - я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ы –</a:t>
            </a:r>
            <a:r>
              <a:rPr b="1" i="1" lang="en-US" sz="2800" spc="-1" strike="noStrike">
                <a:solidFill>
                  <a:srgbClr val="c832b3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андрог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4733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533520"/>
            <a:ext cx="86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лайды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66, 67 заполните таблицу в тетр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28600" y="990720"/>
          <a:ext cx="8534520" cy="501336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жел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пиф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овид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щитовид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почеч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м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желудоч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в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65 – 67. Страшко С.В., Горяная Л.Г., Билык В.Г., Игнатенко С.А. Биология: Учебн. Для 9 кл. лбщеобращов. Учебн. Заведений. – К.: Грамота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тветить на вопросы для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онн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dic.academic.ru/dic.nsf/enc_medicine/27816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Секре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ловари и энциклопедии на Акаде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Organization Chart 6"/>
          <p:cNvGrpSpPr/>
          <p:nvPr/>
        </p:nvGrpSpPr>
        <p:grpSpPr>
          <a:xfrm>
            <a:off x="228600" y="609480"/>
            <a:ext cx="8640000" cy="3123360"/>
            <a:chOff x="228600" y="609480"/>
            <a:chExt cx="8640000" cy="3123360"/>
          </a:xfrm>
        </p:grpSpPr>
        <p:cxnSp>
          <p:nvCxnSpPr>
            <p:cNvPr id="118" name="_s94212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747760" y="658080"/>
              <a:ext cx="625320" cy="3024720"/>
            </a:xfrm>
            <a:prstGeom prst="bentConnector3">
              <a:avLst>
                <a:gd name="adj1" fmla="val 108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94213"/>
            <p:cNvCxnSpPr>
              <a:stCxn id="122" idx="0"/>
              <a:endCxn id="120" idx="2"/>
            </p:cNvCxnSpPr>
            <p:nvPr/>
          </p:nvCxnSpPr>
          <p:spPr>
            <a:xfrm flipV="1">
              <a:off x="4548240" y="1857960"/>
              <a:ext cx="396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94214"/>
            <p:cNvSpPr/>
            <p:nvPr/>
          </p:nvSpPr>
          <p:spPr>
            <a:xfrm>
              <a:off x="3252600" y="60948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300" spc="-1" strike="noStrike">
                  <a:solidFill>
                    <a:srgbClr val="000000"/>
                  </a:solidFill>
                  <a:latin typeface="Arial"/>
                </a:rPr>
                <a:t>Железы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94215"/>
            <p:cNvSpPr/>
            <p:nvPr/>
          </p:nvSpPr>
          <p:spPr>
            <a:xfrm>
              <a:off x="228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внешне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c82504"/>
                  </a:solidFill>
                  <a:latin typeface="Arial"/>
                </a:rPr>
                <a:t>экзо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ринные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94216"/>
            <p:cNvSpPr/>
            <p:nvPr/>
          </p:nvSpPr>
          <p:spPr>
            <a:xfrm>
              <a:off x="3252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внутренне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c82504"/>
                  </a:solidFill>
                  <a:latin typeface="Arial"/>
                </a:rPr>
                <a:t>эндо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ринные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94217"/>
            <p:cNvSpPr/>
            <p:nvPr/>
          </p:nvSpPr>
          <p:spPr>
            <a:xfrm>
              <a:off x="6276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смешанно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_s94218"/>
            <p:cNvCxnSpPr>
              <a:stCxn id="123" idx="0"/>
              <a:endCxn id="120" idx="2"/>
            </p:cNvCxnSpPr>
            <p:nvPr/>
          </p:nvCxnSpPr>
          <p:spPr>
            <a:xfrm flipH="1" flipV="1" rot="5400000">
              <a:off x="2724120" y="658440"/>
              <a:ext cx="625320" cy="3024720"/>
            </a:xfrm>
            <a:prstGeom prst="bentConnector3">
              <a:avLst>
                <a:gd name="adj1" fmla="val 10829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5" name=""/>
          <p:cNvSpPr/>
          <p:nvPr/>
        </p:nvSpPr>
        <p:spPr>
          <a:xfrm>
            <a:off x="457200" y="40384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962520"/>
            <a:ext cx="2514600" cy="19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ы, име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оки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реты 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в полост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962520"/>
            <a:ext cx="2590920" cy="19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езы, не име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во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токов 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деля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рабатыва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и горм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осредствен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кровь или лимф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62520"/>
            <a:ext cx="22860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временно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зокр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эндокри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кре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щества специфического действия, участвующие в регуляции различных процессов жизнедеятельности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рмен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энзимы)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лат. fermentum — дрожжи, закваска) — обычно белковые молекулы или молекулы РНК или их комплексы, ускоряющие (катализирующие) химические реакции в живых сист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греч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a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буждаю в действие) – биологически активные вещества, выделяемые железами 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95280" y="533520"/>
            <a:ext cx="312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16002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езы внешней секреци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(экзокринны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45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меют специальные протоки для выведения секрета на поверхность тела или в полость 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Слюнные железы"/>
          <p:cNvPicPr/>
          <p:nvPr/>
        </p:nvPicPr>
        <p:blipFill>
          <a:blip r:embed="rId1"/>
          <a:stretch/>
        </p:blipFill>
        <p:spPr>
          <a:xfrm>
            <a:off x="250920" y="2781360"/>
            <a:ext cx="4500360" cy="33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железы желудка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езы внутренней секреции          (эндокринны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848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 имеют специализированных выводных протоков, выделяют секреты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гормоны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непосредственно в кров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962520" y="259092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44880" y="4343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им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6400" y="3809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щитови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533520"/>
            <a:ext cx="8893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мешанной секре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18960"/>
            <a:ext cx="8353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ботают одновременно как железы внешней и внутренней сек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-8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f743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Поджелуд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43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-87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Половые желе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мен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Яи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железы смеш"/>
          <p:cNvPicPr/>
          <p:nvPr/>
        </p:nvPicPr>
        <p:blipFill>
          <a:blip r:embed="rId1"/>
          <a:stretch/>
        </p:blipFill>
        <p:spPr>
          <a:xfrm>
            <a:off x="380880" y="2438280"/>
            <a:ext cx="460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войства горм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905120"/>
            <a:ext cx="7561080" cy="664920"/>
          </a:xfrm>
          <a:prstGeom prst="roundRect">
            <a:avLst>
              <a:gd name="adj" fmla="val 1663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уют на органы, расположенные далеко от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666880"/>
            <a:ext cx="7561080" cy="571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уют только на живые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352680"/>
            <a:ext cx="7561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ие строго специфично: только на органы-миш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 на строго определенный вид обменны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114800"/>
            <a:ext cx="756108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ладают высокой биологической актив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876920"/>
            <a:ext cx="7561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азывают действие при низких концентр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22960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09040" y="508680"/>
            <a:ext cx="8125920" cy="96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ункции  горм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77336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рост и развити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852640"/>
            <a:ext cx="756108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адаптацию организма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м изменениям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8620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гомеост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952880"/>
            <a:ext cx="756108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ируют процессы обмена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l</cp:lastModifiedBy>
  <dcterms:modified xsi:type="dcterms:W3CDTF">2012-02-23T14:15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9000000000001024140</vt:lpwstr>
  </property>
  <property fmtid="{D5CDD505-2E9C-101B-9397-08002B2CF9AE}" pid="3" name="Version">
    <vt:r8>1</vt:r8>
  </property>
</Properties>
</file>