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5651-CF58-4E31-A329-4A3AFDF939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06C5-B54F-422E-AB2A-B99F68F0CC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8698-52A4-4CBE-85C5-E68FF2CAFF8C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9542-3C57-428E-B516-8BE12B6B55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DD98-8B45-4681-9ED0-E43174FA092F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97C1-9A8C-4226-BE78-037BABE98F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D7DE-B591-41B7-85DC-E40A075D8C5E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6A62-94FF-4407-87BD-474A0EFCF5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B7A3-49A1-4E48-9519-CB3FD10DB9BD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ACCB-89B5-43BE-BF09-309245EBC7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39DC-B60E-4309-9A80-979DFFACA240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0115-5869-4779-8B5E-5DA0C63E95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6636-FA18-4BA5-9829-18E16A68393C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E121-C7EB-4460-8C36-95AA5C9044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FD96-4390-4765-A39B-1BBFC66A2ADE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684C-105C-43FC-9742-AF64D94B3C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4225-09B1-4C5C-ADB8-92B2DF837935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6D09-4885-4FDA-AE37-13A3F9CE88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1CB9-E15A-4203-AE53-B3863456CD58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ECD2-E104-468F-A169-9A8D9532BE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7739-A672-4164-8E9E-C9896726DA29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8159-C1D9-492F-818A-67CC8324C7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134B-E451-4479-9F48-422889178A37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B51C-C339-4097-8341-5414562F35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4354-F6E1-42D9-9C0A-C1661236BF58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9B15-5DB6-46EE-8772-599C1C22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C8B8-5FA0-409C-8E1D-2DFA12E6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CEFCB-A1F7-483E-98C1-8BC2BA41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F0E3-7807-4C11-89E3-E3FD3BE6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A861-6DA3-4A17-8A3C-8479274D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B80E-AD6B-4684-8356-A11419AE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5983-7F10-41AE-86FB-0B14E59B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9A79-0776-4089-B14B-FD983F26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4724-F7A0-4D33-87A5-2A7C5168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2DBE-338B-4514-B343-F25B8A85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8C7A-F4D5-4F33-AE71-8809F8E5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F58C-DCDD-4731-86EE-593C5A93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4FC5-6079-49D1-AB2D-138DAE29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5512-DFA2-4BD0-A1CD-0484A9E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7645-1F3D-4F67-933D-E0E3B6FE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1069-3037-4B84-AC77-0B90B802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67E1-0181-4A2C-8D35-2BD4424F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CEDBD-41C4-4E38-B8B2-30CBDEE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F500-8B08-402C-A87F-79EE847B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AB74-46DF-4E04-AC2E-512E4DF6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2BC6-5BBB-4531-84C5-FAC95966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92A8-455A-47DC-97A3-5208F20C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3D131-C589-4920-AAC4-02C49A57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82BE-BFCC-47EF-A607-443A3834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0CEF-95D2-47A8-B070-0704CDBCD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7C84-C5AB-4C12-93E1-F2CA636583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D988-81C7-40A5-9F5A-9F43F707C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3F26-0C47-4402-AE0F-A7F8481D3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_medicine/27816/&#1057;&#1077;&#1082;&#1088;&#1077;&#1094;&#1080;&#1103;" TargetMode="External"/><Relationship Id="rId2" Type="http://schemas.openxmlformats.org/officeDocument/2006/relationships/hyperlink" Target="http://dic.academic.ru/dic.nsf/enc_medicine/27816/&#1057;&#1077;&#1082;&#1088;&#1077;&#1094;&#1080;&#1103;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Эндокринная регуляция функций организма человек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762120"/>
            <a:ext cx="32767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м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209680"/>
            <a:ext cx="198108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ффек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2209680"/>
            <a:ext cx="220968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я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2209680"/>
            <a:ext cx="213336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йрогорм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352680"/>
            <a:ext cx="1676520" cy="198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йствую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3352680"/>
            <a:ext cx="1752480" cy="198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лияю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еле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нутрен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екр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3352680"/>
            <a:ext cx="1676160" cy="198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з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рвные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ипоталамус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гул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гулято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рм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447560" y="167652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167652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6000" y="533520"/>
            <a:ext cx="64771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читать стр.186-187 учеб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ункт «Взаимосвязь между нервной и эндокринной систем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полнить схему «Гипоталамо-гипофизарная систе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89000"/>
            <a:ext cx="1584360" cy="93636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бот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1828800"/>
            <a:ext cx="205740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2590920"/>
            <a:ext cx="281916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25909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3657600"/>
            <a:ext cx="281916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365760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49568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53341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038480" y="22860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1792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0" y="533520"/>
            <a:ext cx="64771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ерь заполнение схемы «Гипоталамо-гипофизарная систе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382840" cy="4332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28800" y="2666880"/>
            <a:ext cx="720720" cy="9352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1828800"/>
            <a:ext cx="205740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2590920"/>
            <a:ext cx="281916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гетативная нер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25909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йрогорм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3657600"/>
            <a:ext cx="281916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365760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449568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улято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53341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038480" y="22860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ыделение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екр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491920"/>
            <a:ext cx="83739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достато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3600" spc="-1" strike="noStrike">
                <a:solidFill>
                  <a:srgbClr val="de2804"/>
                </a:solidFill>
                <a:latin typeface="Times New Roman"/>
              </a:rPr>
              <a:t>гип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быточное – </a:t>
            </a:r>
            <a:r>
              <a:rPr b="0" i="1" lang="ru-RU" sz="3600" spc="-1" strike="noStrike">
                <a:solidFill>
                  <a:srgbClr val="de2804"/>
                </a:solidFill>
                <a:latin typeface="Times New Roman"/>
              </a:rPr>
              <a:t>гипер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ипофиз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тролирует деятельность щитовидной  и половых желёз, регулирует рост и развитие организм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гигантизм и карликовость"/>
          <p:cNvPicPr/>
          <p:nvPr/>
        </p:nvPicPr>
        <p:blipFill>
          <a:blip r:embed="rId1"/>
          <a:stretch/>
        </p:blipFill>
        <p:spPr>
          <a:xfrm>
            <a:off x="990720" y="2514600"/>
            <a:ext cx="2130480" cy="33559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8640" y="26668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Гормон рос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(соматотроп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гипофунк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ea081e"/>
                </a:solidFill>
                <a:latin typeface="Times New Roman"/>
              </a:rPr>
              <a:t>карлико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гиперфунк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ea081e"/>
                </a:solidFill>
                <a:latin typeface="Times New Roman"/>
              </a:rPr>
              <a:t>гиг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38345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748720" cy="30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  гиперфункции  гормона роста  у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зрослог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еловек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увеличиваются размеры не всего тела, а только отдельных его частей –носа, подбородка, языка, рук, н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никает заболе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313"/>
                </a:solidFill>
                <a:latin typeface="Times New Roman"/>
              </a:rPr>
              <a:t>акромегалия</a:t>
            </a:r>
            <a:r>
              <a:rPr b="1" i="1" lang="en-US" sz="2800" spc="-1" strike="noStrike">
                <a:solidFill>
                  <a:srgbClr val="f1131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акромегалия 2"/>
          <p:cNvPicPr/>
          <p:nvPr/>
        </p:nvPicPr>
        <p:blipFill>
          <a:blip r:embed="rId1"/>
          <a:stretch/>
        </p:blipFill>
        <p:spPr>
          <a:xfrm>
            <a:off x="5334120" y="2743200"/>
            <a:ext cx="2763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Эпиф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мон мелато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т ощущение суточного биологического 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угнетении деятельности эпифиза у детей вызывает преждевременное половое развитие и задержка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избытке мелатонина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беливание участков кожи (витили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недостатке мелатонина –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збыточная пигментация к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740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изирует все виды обмена веществ во всех органах и системах, влияет на развитие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ормон –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тирок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гипофункци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микседема, кретинизм (в детском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возрас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гиперфункци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базедова боле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базедова болезнь 1"/>
          <p:cNvPicPr/>
          <p:nvPr/>
        </p:nvPicPr>
        <p:blipFill>
          <a:blip r:embed="rId1"/>
          <a:stretch/>
        </p:blipFill>
        <p:spPr>
          <a:xfrm>
            <a:off x="304920" y="2286000"/>
            <a:ext cx="2795400" cy="4392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54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13006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 недостатке йода в организме развивается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эндемический зоб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увеличение размеров щитовидной желез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зоб"/>
          <p:cNvPicPr/>
          <p:nvPr/>
        </p:nvPicPr>
        <p:blipFill>
          <a:blip r:embed="rId1"/>
          <a:stretch/>
        </p:blipFill>
        <p:spPr>
          <a:xfrm>
            <a:off x="5105520" y="2514600"/>
            <a:ext cx="3643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мон –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аратгорм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перфункция –размягчение костей и разрушение ске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пофункция – Кальций излишне накапливается в костях, хрящах и связках, нарушая их функции. В крови количество Кальция уменьшается, что приводит к возбудимости нервной системы и мышц, у человека возникают судо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учить строение и функции эндокринной системы человека, показать значение гуморальной регуля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дпочечники</a:t>
            </a:r>
            <a:br>
              <a:rPr sz="36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еспечивают срочну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билизацию ресурсов организма в экстремальных ситуациях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ышают его работоспособность и выносливос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е гормо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адренал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норадрен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2667240" cy="1752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25" name=""/>
          <p:cNvSpPr/>
          <p:nvPr/>
        </p:nvSpPr>
        <p:spPr>
          <a:xfrm>
            <a:off x="5486400" y="5029200"/>
            <a:ext cx="2743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— ко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— мозговое 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6776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Тимус (вилочковая желез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дущая роль в развитии иммун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мон -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имо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эндокринные железы"/>
          <p:cNvPicPr/>
          <p:nvPr/>
        </p:nvPicPr>
        <p:blipFill>
          <a:blip r:embed="rId1"/>
          <a:stretch/>
        </p:blipFill>
        <p:spPr>
          <a:xfrm>
            <a:off x="3924360" y="2565360"/>
            <a:ext cx="5040360" cy="3606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621200" y="43448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тим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360" y="3735360"/>
            <a:ext cx="191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ращитови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гулирует обмен углеводов в организ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f13b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е гормо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инсули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снижает уровень глюкозы в кр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глюкаго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способствует превращению гликогена в глюкоз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гипофункци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ормона инсулина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сахарный диаб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поджелудочная"/>
          <p:cNvPicPr/>
          <p:nvPr/>
        </p:nvPicPr>
        <p:blipFill>
          <a:blip r:embed="rId1"/>
          <a:stretch/>
        </p:blipFill>
        <p:spPr>
          <a:xfrm>
            <a:off x="4572000" y="3068640"/>
            <a:ext cx="4205160" cy="283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924680" y="380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58515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42472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оловые железы</a:t>
            </a:r>
            <a:br>
              <a:rPr sz="44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яют формирование организма по женскому или мужскому типу, регулируют развитие вторичных половых при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3428640"/>
            <a:ext cx="37335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Женские половые железы - яи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ормоны –</a:t>
            </a:r>
            <a:r>
              <a:rPr b="1" i="1" lang="en-US" sz="2800" spc="-1" strike="noStrike">
                <a:solidFill>
                  <a:srgbClr val="c832b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эстрог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66720" y="3504960"/>
            <a:ext cx="45579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ужские половые железы - я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ормоны –</a:t>
            </a:r>
            <a:r>
              <a:rPr b="1" i="1" lang="en-US" sz="2800" spc="-1" strike="noStrike">
                <a:solidFill>
                  <a:srgbClr val="c832b3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андрог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47334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533520"/>
            <a:ext cx="86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слайды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§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66, 67 заполните таблицу в тетр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28600" y="990720"/>
          <a:ext cx="8534520" cy="501336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жел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ер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о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оф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пиф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товид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щитовид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почеч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м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желудоч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вые жел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чита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§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65 – 67. Страшко С.В., Горяная Л.Г., Билык В.Г., Игнатенко С.А. Биология: Учебн. Для 9 кл. лбщеобращов. Учебн. Заведений. – К.: Грамота,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тветить на вопросы для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нформационн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dic.academic.ru/dic.nsf/enc_medicine/27816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Секре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ловари и энциклопедии на Академ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Organization Chart 6"/>
          <p:cNvGrpSpPr/>
          <p:nvPr/>
        </p:nvGrpSpPr>
        <p:grpSpPr>
          <a:xfrm>
            <a:off x="228600" y="609480"/>
            <a:ext cx="8640000" cy="3123360"/>
            <a:chOff x="228600" y="609480"/>
            <a:chExt cx="8640000" cy="3123360"/>
          </a:xfrm>
        </p:grpSpPr>
        <p:cxnSp>
          <p:nvCxnSpPr>
            <p:cNvPr id="118" name="_s94212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5747760" y="658080"/>
              <a:ext cx="625320" cy="3024720"/>
            </a:xfrm>
            <a:prstGeom prst="bentConnector3">
              <a:avLst>
                <a:gd name="adj1" fmla="val 108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94213"/>
            <p:cNvCxnSpPr>
              <a:stCxn id="122" idx="0"/>
              <a:endCxn id="120" idx="2"/>
            </p:cNvCxnSpPr>
            <p:nvPr/>
          </p:nvCxnSpPr>
          <p:spPr>
            <a:xfrm flipV="1">
              <a:off x="4548240" y="1857960"/>
              <a:ext cx="396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0" name="_s94214"/>
            <p:cNvSpPr/>
            <p:nvPr/>
          </p:nvSpPr>
          <p:spPr>
            <a:xfrm>
              <a:off x="3252600" y="60948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300" spc="-1" strike="noStrike">
                  <a:solidFill>
                    <a:srgbClr val="000000"/>
                  </a:solidFill>
                  <a:latin typeface="Arial"/>
                </a:rPr>
                <a:t>Железы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94215"/>
            <p:cNvSpPr/>
            <p:nvPr/>
          </p:nvSpPr>
          <p:spPr>
            <a:xfrm>
              <a:off x="228600" y="248364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внешней секреци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2500" spc="-1" strike="noStrike">
                  <a:solidFill>
                    <a:srgbClr val="c82504"/>
                  </a:solidFill>
                  <a:latin typeface="Arial"/>
                </a:rPr>
                <a:t>экзо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ринные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94216"/>
            <p:cNvSpPr/>
            <p:nvPr/>
          </p:nvSpPr>
          <p:spPr>
            <a:xfrm>
              <a:off x="3252600" y="248364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внутренней секреци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2500" spc="-1" strike="noStrike">
                  <a:solidFill>
                    <a:srgbClr val="c82504"/>
                  </a:solidFill>
                  <a:latin typeface="Arial"/>
                </a:rPr>
                <a:t>эндо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ринные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94217"/>
            <p:cNvSpPr/>
            <p:nvPr/>
          </p:nvSpPr>
          <p:spPr>
            <a:xfrm>
              <a:off x="6276600" y="248364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смешанной секреци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_s94218"/>
            <p:cNvCxnSpPr>
              <a:stCxn id="123" idx="0"/>
              <a:endCxn id="120" idx="2"/>
            </p:cNvCxnSpPr>
            <p:nvPr/>
          </p:nvCxnSpPr>
          <p:spPr>
            <a:xfrm flipH="1" flipV="1" rot="5400000">
              <a:off x="2724120" y="658440"/>
              <a:ext cx="625320" cy="3024720"/>
            </a:xfrm>
            <a:prstGeom prst="bentConnector3">
              <a:avLst>
                <a:gd name="adj1" fmla="val 10829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5" name=""/>
          <p:cNvSpPr/>
          <p:nvPr/>
        </p:nvSpPr>
        <p:spPr>
          <a:xfrm>
            <a:off x="457200" y="40384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962520"/>
            <a:ext cx="2514600" cy="19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езы, име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о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оки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креты 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хность 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в полости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962520"/>
            <a:ext cx="2590920" cy="19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елезы, не име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вод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токов 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деля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рабатываем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и горм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посредствен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кровь или лимф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962520"/>
            <a:ext cx="22860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временно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зокр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эндокри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кре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щества специфического действия, участвующие в регуляции различных процессов жизнедеятельности орган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рмен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энзимы)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лат. fermentum — дрожжи, закваска) — обычно белковые молекулы или молекулы РНК или их комплексы, ускоряющие (катализирующие) химические реакции в живых систе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рмо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греч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ma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буждаю в действие) – биологически активные вещества, выделяемые железами 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95280" y="533520"/>
            <a:ext cx="3124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16002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елезы внешней секреции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(экзокринны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45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меют специальные протоки для выведения секрета на поверхность тела или в полость 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Слюнные железы"/>
          <p:cNvPicPr/>
          <p:nvPr/>
        </p:nvPicPr>
        <p:blipFill>
          <a:blip r:embed="rId1"/>
          <a:stretch/>
        </p:blipFill>
        <p:spPr>
          <a:xfrm>
            <a:off x="250920" y="2781360"/>
            <a:ext cx="4500360" cy="3314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железы желудка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елезы внутренней секреции          (эндокринны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848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 имеют специализированных выводных протоков, выделяют секреты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гормоны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непосредственно в кров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эндокринные железы"/>
          <p:cNvPicPr/>
          <p:nvPr/>
        </p:nvPicPr>
        <p:blipFill>
          <a:blip r:embed="rId1"/>
          <a:stretch/>
        </p:blipFill>
        <p:spPr>
          <a:xfrm>
            <a:off x="3962520" y="2590920"/>
            <a:ext cx="5040360" cy="3606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44880" y="4343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им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6400" y="3809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щитови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533520"/>
            <a:ext cx="8893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мешанной секре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218960"/>
            <a:ext cx="8353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ботают одновременно как железы внешней и внутренней секр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659480" indent="-8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f743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Поджелуд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659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43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659480" indent="-87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Половые желе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мен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Яич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железы смеш"/>
          <p:cNvPicPr/>
          <p:nvPr/>
        </p:nvPicPr>
        <p:blipFill>
          <a:blip r:embed="rId1"/>
          <a:stretch/>
        </p:blipFill>
        <p:spPr>
          <a:xfrm>
            <a:off x="380880" y="2438280"/>
            <a:ext cx="460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войства горм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905120"/>
            <a:ext cx="7561080" cy="664920"/>
          </a:xfrm>
          <a:prstGeom prst="roundRect">
            <a:avLst>
              <a:gd name="adj" fmla="val 1663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уют на органы, расположенные далеко от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666880"/>
            <a:ext cx="7561080" cy="571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уют только на живые 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352680"/>
            <a:ext cx="7561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ие строго специфично: только на органы-миш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ли на строго определенный вид обменных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114800"/>
            <a:ext cx="756108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ладают высокой биологической актив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876920"/>
            <a:ext cx="756108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азывают действие при низких концентр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22960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09040" y="508680"/>
            <a:ext cx="8125920" cy="96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Функции  горм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1773360"/>
            <a:ext cx="756108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ивают рост и развити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2852640"/>
            <a:ext cx="7561080" cy="7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ивают адаптацию организма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оянным изменениям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86200"/>
            <a:ext cx="756108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ивают гомеост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952880"/>
            <a:ext cx="7561080" cy="7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ируют процессы обмена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il</cp:lastModifiedBy>
  <dcterms:modified xsi:type="dcterms:W3CDTF">2012-02-23T14:15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9000000000001024140</vt:lpwstr>
  </property>
  <property fmtid="{D5CDD505-2E9C-101B-9397-08002B2CF9AE}" pid="3" name="Version">
    <vt:r8>1</vt:r8>
  </property>
</Properties>
</file>