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558-E799-4A84-BFB2-8C2EEDC5DF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FFCC-DF6B-42CC-82D1-D581E77D02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492-8061-4593-A900-702B30D2CA6B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6CB1-0E36-4640-B070-B14EED4448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C388-98FF-41AC-AA46-12E0A50F08B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E798-D4C3-413D-A585-8E26966A4B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DC9C-5BCF-4FAF-AC0E-F3E937A39B88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571D-A678-40B9-97A7-D7A95A90CD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78D8-88F8-4A4B-AC0A-5AAB164449FC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9FFE-A9E0-4C10-81BC-6B37EF2617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F70F-826A-4C78-BE48-85E418EE445A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8791-10CC-4A7E-975A-537E1FF5CC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028E-A9C8-4C72-BBAC-4705D722B4D7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66A5-9C68-4CAF-9E89-7CB0CF51F1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BDF0-A465-423C-A2D7-A1FCDC5307F3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C201-C2A3-451B-B7EF-98A098C33A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BF50-3D15-4E63-855D-8319AB02F6A6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114F-8C58-422B-BF27-4EA5DB4667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5623-FD56-4C8B-A185-6E4F76E8E572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D207-E563-499F-BF80-496520F9B4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A67B-BDB6-4522-A21B-12D8F50C00FA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9886-883D-430A-868A-7EBAB65E40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5D05-C996-428A-A32B-9DFE6EF3B225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AB25-203B-449F-AB5A-D57C8151C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AA22-597D-4AB3-A021-85F5714C829B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3D48-EBCF-4352-99B1-A6EEAD4B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C9F9-1904-49D0-B37C-2C4030FE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8361-0F82-4E16-90C1-C1098FB4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B4C72-3A74-493A-A7C6-6578AC23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1610-83F2-4CBA-9133-B3ACEB95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A618-F9E3-4293-B3DB-B37AFA6A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F2FF-C18A-4138-9ED3-EA635EF3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6759-D635-4879-BA7F-ACFEA756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A873-91F1-4F0A-8BC2-541EFB00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606-D0EC-4263-AF5F-A03A211F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BC22-E89B-4D67-B60C-F7D4AC16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CCBF-F27B-449C-A91A-238BBDDC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8A87-8599-4026-9E26-9F831D23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A0A9-44C1-4556-B809-E89A5C2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5CD7-CFC4-47A9-8D14-C5F531C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8C56-B874-44E1-9DBA-9ABACB85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9CA7-06EE-4B22-9BF6-E65E6534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46BE-C073-48FF-A3A0-7D23CF98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A47F-5193-45E7-AB0D-074BA2D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BBAB-FF2C-4481-878A-10AB7DCB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CBEB-80D5-4BA5-BF01-E22A86F5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DF65-34AF-432D-B7E8-2F818A81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5805-1A7D-4EBB-9568-12178E6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700B-BBA8-40DA-B267-E7A26C64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F1DB-3A64-4B34-B857-90183635D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9EC8-6046-499D-8D20-677A20A8F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1411-A788-4DB9-827D-37ACB8B26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8633-F983-4DF2-A0F6-BBFC4BAA1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_medicine/27816/&#1057;&#1077;&#1082;&#1088;&#1077;&#1094;&#1080;&#1103;" TargetMode="External"/><Relationship Id="rId2" Type="http://schemas.openxmlformats.org/officeDocument/2006/relationships/hyperlink" Target="http://dic.academic.ru/dic.nsf/enc_medicine/27816/&#1057;&#1077;&#1082;&#1088;&#1077;&#1094;&#1080;&#1103;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Эндокринная регуляция функций организма челове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762120"/>
            <a:ext cx="32767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м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209680"/>
            <a:ext cx="198108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ффек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2209680"/>
            <a:ext cx="220968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я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2209680"/>
            <a:ext cx="213336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йрогорм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352680"/>
            <a:ext cx="167652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йствую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3352680"/>
            <a:ext cx="175248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лияю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еле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нутрен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екр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3352680"/>
            <a:ext cx="1676160" cy="198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з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рвные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ипоталамус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ул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улятор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рм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47560" y="167652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167652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0" y="533520"/>
            <a:ext cx="64771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читать стр.186-187 учеб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ункт «Взаимосвязь между нервной и эндокринной систем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олнить схему «Гипоталамо-гипофизарная систе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89000"/>
            <a:ext cx="1584360" cy="9363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бот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1828800"/>
            <a:ext cx="20574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2590920"/>
            <a:ext cx="281916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25909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3657600"/>
            <a:ext cx="281916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365760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49568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53341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038480" y="2286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1792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0" y="533520"/>
            <a:ext cx="64771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рь заполнение схемы «Гипоталамо-гипофизарная систе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382840" cy="433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28800" y="2666880"/>
            <a:ext cx="720720" cy="9352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1828800"/>
            <a:ext cx="20574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2590920"/>
            <a:ext cx="281916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гетативная нер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25909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йрогорм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3657600"/>
            <a:ext cx="281916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365760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4495680"/>
            <a:ext cx="205740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улято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5334120"/>
            <a:ext cx="205740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038480" y="2286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ыделение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екр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491920"/>
            <a:ext cx="83739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достато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3600" spc="-1" strike="noStrike">
                <a:solidFill>
                  <a:srgbClr val="de2804"/>
                </a:solidFill>
                <a:latin typeface="Times New Roman"/>
              </a:rPr>
              <a:t>гип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быточное – </a:t>
            </a:r>
            <a:r>
              <a:rPr b="0" i="1" lang="ru-RU" sz="3600" spc="-1" strike="noStrike">
                <a:solidFill>
                  <a:srgbClr val="de2804"/>
                </a:solidFill>
                <a:latin typeface="Times New Roman"/>
              </a:rPr>
              <a:t>гипер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ипофиз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олирует деятельность щитовидной  и половых желёз, регулирует рост и развитие организм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гигантизм и карликовость"/>
          <p:cNvPicPr/>
          <p:nvPr/>
        </p:nvPicPr>
        <p:blipFill>
          <a:blip r:embed="rId1"/>
          <a:stretch/>
        </p:blipFill>
        <p:spPr>
          <a:xfrm>
            <a:off x="990720" y="2514600"/>
            <a:ext cx="2130480" cy="33559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8640" y="2666880"/>
            <a:ext cx="5715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Гормон рос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(соматотроп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ипофунк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ea081e"/>
                </a:solidFill>
                <a:latin typeface="Times New Roman"/>
              </a:rPr>
              <a:t>карлико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гиперфункци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ea081e"/>
                </a:solidFill>
                <a:latin typeface="Times New Roman"/>
              </a:rPr>
              <a:t>гиг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38345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748720" cy="30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и  гиперфункции  гормона роста  у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зрослог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еловек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увеличиваются размеры не всего тела, а только отдельных его частей –носа, подбородка, языка, рук, н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никает заболе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313"/>
                </a:solidFill>
                <a:latin typeface="Times New Roman"/>
              </a:rPr>
              <a:t>акромегалия</a:t>
            </a:r>
            <a:r>
              <a:rPr b="1" i="1" lang="en-US" sz="2800" spc="-1" strike="noStrike">
                <a:solidFill>
                  <a:srgbClr val="f1131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акромегалия 2"/>
          <p:cNvPicPr/>
          <p:nvPr/>
        </p:nvPicPr>
        <p:blipFill>
          <a:blip r:embed="rId1"/>
          <a:stretch/>
        </p:blipFill>
        <p:spPr>
          <a:xfrm>
            <a:off x="5334120" y="2743200"/>
            <a:ext cx="2763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Эпиф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 мелато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т ощущение суточного биологического 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угнетении деятельности эпифиза у детей вызывает преждевременное половое развитие и задержка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избытке мелатонина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беливание участков кожи (витили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недостатке мелатонина –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збыточная пигментация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740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изирует все виды обмена веществ во всех органах и системах, влияет на развитие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ормон –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тирокс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гипофункци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микседема, кретинизм (в детском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возрас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гиперфункци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азедова боле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базедова болезнь 1"/>
          <p:cNvPicPr/>
          <p:nvPr/>
        </p:nvPicPr>
        <p:blipFill>
          <a:blip r:embed="rId1"/>
          <a:stretch/>
        </p:blipFill>
        <p:spPr>
          <a:xfrm>
            <a:off x="304920" y="2286000"/>
            <a:ext cx="2795400" cy="4392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54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13006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 недостатке йода в организме развивается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эндемический зоб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увеличение размеров щитовидной желез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зоб"/>
          <p:cNvPicPr/>
          <p:nvPr/>
        </p:nvPicPr>
        <p:blipFill>
          <a:blip r:embed="rId1"/>
          <a:stretch/>
        </p:blipFill>
        <p:spPr>
          <a:xfrm>
            <a:off x="5105520" y="2514600"/>
            <a:ext cx="3643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 –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аратгорм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перфункция –размягчение костей и разрушение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пофункция – Кальций излишне накапливается в костях, хрящах и связках, нарушая их функции. В крови количество Кальция уменьшается, что приводит к возбудимости нервной системы и мышц, у человека возникают судо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учить строение и функции эндокринной системы человека, показать значение гуморальной регуля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дпочечники</a:t>
            </a:r>
            <a:br>
              <a:rPr sz="36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еспечивают срочну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билизацию ресурсов организма в экстремальных ситуациях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ышают его работоспособность и выносливос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гормо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адренал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ea081e"/>
                </a:solidFill>
                <a:latin typeface="Times New Roman"/>
              </a:rPr>
              <a:t>норадрен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2667240" cy="1752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25" name=""/>
          <p:cNvSpPr/>
          <p:nvPr/>
        </p:nvSpPr>
        <p:spPr>
          <a:xfrm>
            <a:off x="5486400" y="5029200"/>
            <a:ext cx="2743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— к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— мозговое 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6776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Тимус (вилочковая желез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дущая роль в развитии иммун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мон -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имо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эндокринные железы"/>
          <p:cNvPicPr/>
          <p:nvPr/>
        </p:nvPicPr>
        <p:blipFill>
          <a:blip r:embed="rId1"/>
          <a:stretch/>
        </p:blipFill>
        <p:spPr>
          <a:xfrm>
            <a:off x="3924360" y="2565360"/>
            <a:ext cx="5040360" cy="3606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621200" y="43448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тим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360" y="3735360"/>
            <a:ext cx="191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ращитови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гулирует обмен углеводов в организ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5f13b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гормо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нсули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снижает уровень глюкозы в кр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глюкагон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способствует превращению гликогена в глюкоз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гипофункци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ормона инсулина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сахарный диаб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поджелудочная"/>
          <p:cNvPicPr/>
          <p:nvPr/>
        </p:nvPicPr>
        <p:blipFill>
          <a:blip r:embed="rId1"/>
          <a:stretch/>
        </p:blipFill>
        <p:spPr>
          <a:xfrm>
            <a:off x="4572000" y="3068640"/>
            <a:ext cx="4205160" cy="283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924680" y="380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58515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42472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ловые железы</a:t>
            </a:r>
            <a:br>
              <a:rPr sz="44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яют формирование организма по женскому или мужскому типу, регулируют развитие вторичных половых при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3428640"/>
            <a:ext cx="37335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Женские половые железы - яи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ормоны –</a:t>
            </a:r>
            <a:r>
              <a:rPr b="1" i="1" lang="en-US" sz="2800" spc="-1" strike="noStrike">
                <a:solidFill>
                  <a:srgbClr val="c832b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эстрог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66720" y="3504960"/>
            <a:ext cx="4557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ужские половые железы - я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ормоны –</a:t>
            </a:r>
            <a:r>
              <a:rPr b="1" i="1" lang="en-US" sz="2800" spc="-1" strike="noStrike">
                <a:solidFill>
                  <a:srgbClr val="c832b3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андрог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84872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47334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533520"/>
            <a:ext cx="86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слайды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66, 67 заполните таблицу в тетр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28600" y="990720"/>
          <a:ext cx="8534520" cy="501336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жел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ф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пиф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овид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щитовид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почеч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м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желудоч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вые жел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чита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§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65 – 67. Страшко С.В., Горяная Л.Г., Билык В.Г., Игнатенко С.А. Биология: Учебн. Для 9 кл. лбщеобращов. Учебн. Заведений. – К.: Грамота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тветить на вопросы для любозн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нформационн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dic.academic.ru/dic.nsf/enc_medicine/27816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Секре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ловари и энциклопедии на Акаде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Organization Chart 6"/>
          <p:cNvGrpSpPr/>
          <p:nvPr/>
        </p:nvGrpSpPr>
        <p:grpSpPr>
          <a:xfrm>
            <a:off x="228600" y="609480"/>
            <a:ext cx="8640000" cy="3123360"/>
            <a:chOff x="228600" y="609480"/>
            <a:chExt cx="8640000" cy="3123360"/>
          </a:xfrm>
        </p:grpSpPr>
        <p:cxnSp>
          <p:nvCxnSpPr>
            <p:cNvPr id="118" name="_s94212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5747760" y="658080"/>
              <a:ext cx="625320" cy="3024720"/>
            </a:xfrm>
            <a:prstGeom prst="bentConnector3">
              <a:avLst>
                <a:gd name="adj1" fmla="val 108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94213"/>
            <p:cNvCxnSpPr>
              <a:stCxn id="122" idx="0"/>
              <a:endCxn id="120" idx="2"/>
            </p:cNvCxnSpPr>
            <p:nvPr/>
          </p:nvCxnSpPr>
          <p:spPr>
            <a:xfrm flipV="1">
              <a:off x="4548240" y="1857960"/>
              <a:ext cx="396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94214"/>
            <p:cNvSpPr/>
            <p:nvPr/>
          </p:nvSpPr>
          <p:spPr>
            <a:xfrm>
              <a:off x="3252600" y="60948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300" spc="-1" strike="noStrike">
                  <a:solidFill>
                    <a:srgbClr val="000000"/>
                  </a:solidFill>
                  <a:latin typeface="Arial"/>
                </a:rPr>
                <a:t>Железы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94215"/>
            <p:cNvSpPr/>
            <p:nvPr/>
          </p:nvSpPr>
          <p:spPr>
            <a:xfrm>
              <a:off x="228600" y="248364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внешней секреци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500" spc="-1" strike="noStrike">
                  <a:solidFill>
                    <a:srgbClr val="c82504"/>
                  </a:solidFill>
                  <a:latin typeface="Arial"/>
                </a:rPr>
                <a:t>экзо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ринные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94216"/>
            <p:cNvSpPr/>
            <p:nvPr/>
          </p:nvSpPr>
          <p:spPr>
            <a:xfrm>
              <a:off x="3252600" y="248364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внутренней секреци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500" spc="-1" strike="noStrike">
                  <a:solidFill>
                    <a:srgbClr val="c82504"/>
                  </a:solidFill>
                  <a:latin typeface="Arial"/>
                </a:rPr>
                <a:t>эндо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кринные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94217"/>
            <p:cNvSpPr/>
            <p:nvPr/>
          </p:nvSpPr>
          <p:spPr>
            <a:xfrm>
              <a:off x="6276600" y="2483640"/>
              <a:ext cx="2592000" cy="1249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смешанной секреци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_s94218"/>
            <p:cNvCxnSpPr>
              <a:stCxn id="123" idx="0"/>
              <a:endCxn id="120" idx="2"/>
            </p:cNvCxnSpPr>
            <p:nvPr/>
          </p:nvCxnSpPr>
          <p:spPr>
            <a:xfrm flipH="1" flipV="1" rot="5400000">
              <a:off x="2724120" y="658440"/>
              <a:ext cx="625320" cy="3024720"/>
            </a:xfrm>
            <a:prstGeom prst="bentConnector3">
              <a:avLst>
                <a:gd name="adj1" fmla="val 10829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5" name=""/>
          <p:cNvSpPr/>
          <p:nvPr/>
        </p:nvSpPr>
        <p:spPr>
          <a:xfrm>
            <a:off x="457200" y="40384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962520"/>
            <a:ext cx="2514600" cy="19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ы, име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оки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 с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креты 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в полост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962520"/>
            <a:ext cx="2590920" cy="19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езы, не име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вод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токов 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деля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рабатываем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и горм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осредствен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кровь или лимф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962520"/>
            <a:ext cx="22860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временно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зокр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эндокри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кре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щества специфического действия, участвующие в регуляции различных процессов жизнедеятельности орга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рмен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энзимы)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лат. fermentum — дрожжи, закваска) — обычно белковые молекулы или молекулы РНК или их комплексы, ускоряющие (катализирующие) химические реакции в живых систе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рмо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греч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a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буждаю в действие) – биологически активные вещества, выделяемые железами 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95280" y="533520"/>
            <a:ext cx="3124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16002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елезы внешней секреци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(экзокринны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45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меют специальные протоки для выведения секрета на поверхность тела или в полость 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Слюнные железы"/>
          <p:cNvPicPr/>
          <p:nvPr/>
        </p:nvPicPr>
        <p:blipFill>
          <a:blip r:embed="rId1"/>
          <a:stretch/>
        </p:blipFill>
        <p:spPr>
          <a:xfrm>
            <a:off x="250920" y="2781360"/>
            <a:ext cx="4500360" cy="331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железы желудка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елезы внутренней секреции          (эндокринны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848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 имеют специализированных выводных протоков, выделяют секреты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гормоны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непосредственно в кров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эндокринные железы"/>
          <p:cNvPicPr/>
          <p:nvPr/>
        </p:nvPicPr>
        <p:blipFill>
          <a:blip r:embed="rId1"/>
          <a:stretch/>
        </p:blipFill>
        <p:spPr>
          <a:xfrm>
            <a:off x="3962520" y="2590920"/>
            <a:ext cx="5040360" cy="3606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44880" y="4343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им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6400" y="3809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щитови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533520"/>
            <a:ext cx="8893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мешанной секре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218960"/>
            <a:ext cx="8353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ботают одновременно как железы внешней и внутренней сек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659480" indent="-8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f743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Поджелуд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59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743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659480" indent="-87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f743c"/>
                </a:solidFill>
                <a:latin typeface="Times New Roman"/>
              </a:rPr>
              <a:t>Половые желе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мен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Яи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железы смеш"/>
          <p:cNvPicPr/>
          <p:nvPr/>
        </p:nvPicPr>
        <p:blipFill>
          <a:blip r:embed="rId1"/>
          <a:stretch/>
        </p:blipFill>
        <p:spPr>
          <a:xfrm>
            <a:off x="380880" y="2438280"/>
            <a:ext cx="460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войства горм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905120"/>
            <a:ext cx="7561080" cy="664920"/>
          </a:xfrm>
          <a:prstGeom prst="roundRect">
            <a:avLst>
              <a:gd name="adj" fmla="val 1663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уют на органы, расположенные далеко от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666880"/>
            <a:ext cx="7561080" cy="571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уют только на живые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352680"/>
            <a:ext cx="7561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ие строго специфично: только на органы-миш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ли на строго определенный вид обменных проце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114800"/>
            <a:ext cx="756108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ладают высокой биологической актив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876920"/>
            <a:ext cx="756108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азывают действие при низких концентр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22960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09040" y="508680"/>
            <a:ext cx="8125920" cy="96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Функции  горм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773360"/>
            <a:ext cx="756108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ивают рост и развити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2852640"/>
            <a:ext cx="7561080" cy="7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ивают адаптацию организма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м изменениям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86200"/>
            <a:ext cx="756108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ивают гомеост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952880"/>
            <a:ext cx="7561080" cy="7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ируют процессы обмена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l</cp:lastModifiedBy>
  <dcterms:modified xsi:type="dcterms:W3CDTF">2012-02-23T14:15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9000000000001024140</vt:lpwstr>
  </property>
  <property fmtid="{D5CDD505-2E9C-101B-9397-08002B2CF9AE}" pid="3" name="Version">
    <vt:r8>1</vt:r8>
  </property>
</Properties>
</file>