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30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09D-F39C-46F7-80C4-9C1AE67C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F6E-F16C-46D8-9517-DC16E7B4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B25E0F-CF26-47AC-8BC5-AB219C6D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1037FA-61BD-406C-8364-8F329060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3E89B-8B8C-4F32-999F-7D0F013E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64FDC8-A9BA-4D3D-B1E3-C4606FAD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5B0072-6602-43CE-819B-A40EF330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35D465-0C31-44AE-9C51-B56A375C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FD1E31-376C-4A24-9322-B80AEFAF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054F83-2819-4E43-8AF8-A924C688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C87E6B-B725-4785-B3AF-A505A23A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838-F8B7-4462-A42D-4C614291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D69-A223-4456-8D3B-CDBB8629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F991B-B92E-4EBD-AA8C-795C338E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16B9A-6B81-432B-9F32-BC218EFD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2009C-61A3-4A54-AF66-6B0DBA66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0C864-15A5-43D7-8FF3-E6AB8FCC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47EBA-E8E3-4973-BE2D-3D65A371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71878-C4FC-4A85-8155-B6939E1A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C6543-D901-48AD-9B6A-39BBD507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B0F-9078-45F2-BAAA-81587129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92C0A-E85F-4511-AB89-798C9A4A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0CC32-CDF1-48DF-87CE-DA5CE87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DE938-7FBA-437A-A458-5ADCFF09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A50FB-7754-4B85-94FB-B8FA997E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70C96-190C-4B0F-97A4-9EE783AE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E9A3-6AA3-41D1-A945-E0F51399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6513-9E7E-4C9E-8887-C005B479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9D360-5340-4855-9384-B71CEE3E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0C9A-6007-449B-AFCF-C3B19599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90B5A-5444-4CE4-AFF2-D29571A2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4C2-1671-4F05-BC94-7FAB763B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2D54-FCBF-465C-AA45-0BDA9567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08D7F-0E9F-4874-B2B5-39FE4B62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B6B8-2118-402B-A809-0FBE5579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B73C-2781-4C31-85C1-BF735CA2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305B-F90E-4161-A7A7-B1B17C0F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A381-BD27-4538-8125-361FA32A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3E3A-676E-4BFE-B435-41B75CC2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7C5820-126D-4159-B38B-7B1B60E6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D063E-3C17-4C23-8EE7-491C1240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29AE0E-5CC2-4786-A60F-7225E341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9DD-9B48-4137-B952-AA4C2940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BD580-0B08-419E-B18F-9783AFBD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D76E6E-E1C2-4C48-91CA-0C72C87D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ACB9D-EE9D-4418-82FA-44ED09F9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42E98-012F-4CAB-9698-CF9CCF1A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FD498-F9CB-4648-927D-D1E93E8A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A9E32-89DC-46AF-A320-B54FC801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58B15-347F-44C4-8F86-1E017276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CF8FB-7318-47D0-B34A-24504DDC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DB240-C179-45A6-B62C-AA3E8051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35758-88F1-4821-B2DA-B5D793E2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523-A49A-46E4-80EC-0503063F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1DB08-F751-464C-B0B3-0C6ACA59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91DB7-F177-4FFE-8B31-3BA3518B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CECE7-5364-41B9-8BE7-7AC39A66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1310-D62A-4B19-A0DD-BC63F336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5823A-52A4-482A-A0E5-49415DE7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75E57-8620-4159-9E2F-2AAD8339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2237C-4E6A-41D4-8151-87CBD68D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870C4-6504-47FA-8AA8-D4F7A7A0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31467-C502-4042-A341-9EFB736E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ACD48-0A27-49AD-9EC8-83B16B0C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BDF-BEB3-400F-93B7-4540541E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BF79B-D131-4CB1-A0B6-DDA90D1D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DF948-314B-4BEA-A64A-E0B74691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B1DAF-6586-49BF-9AC2-3F04AB22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F2B75-95BE-4F10-8F13-2F136D5E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03D66-0BFC-4467-9100-0CB2BB7F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9CEA3-1309-443C-B871-31ADD8B7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A9E35-A124-4E7F-A710-1D0CE142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2F777-9EE3-4C04-9E64-5A80D412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D81DE-67A1-4D49-9327-C9B832D6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B7122-276F-4A46-B957-B3BBE7D4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08F-D4DA-416A-8A34-82CB1658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7B8F2-AF63-429B-A1BC-88674FB4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68744-3D09-4A4F-B7F9-3CCB818B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EA709-8E17-4688-A478-B06D81F0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1D2FE-D33E-40B4-A15B-5BDADC05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5EB55-603F-4195-892A-B81F9EC4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870BA-D10F-4B80-8A2E-067D96FC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A826E-B616-409E-A1B5-B7790489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C1517-9A27-4C5A-9983-B880E288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E4E0B-4AF3-4CB3-8060-724B7ED9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CF174-0CF0-42ED-8428-1A73368B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B9D-B4F9-46AF-8FE7-BE30D971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52424-A961-4E18-811B-831CDA6D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1B57-580E-4D19-9377-D5516880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0E49D-C364-4B43-B0E0-53F607F9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F9442-F7A2-48B2-8575-3FEEEC21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1A9C2-4D19-4FD2-9872-F2BE3FEC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BEA44A-AF44-47E5-B763-C4DDF202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98968C-F288-4DF5-B081-41F24F86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6DB51D-630C-47E4-B22A-3C267962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4A8766-FD15-4BAB-8BA8-FAA100A5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504609-7511-46A7-BDCF-C06F2878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8C8-0A5F-4D1B-9668-233F3976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0CDBE1-2053-45BE-80D7-35BF608A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72763-6AE4-4EF9-93CD-8AB7B04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5BA7D5-0605-4870-BA89-09E2A879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C1AF40-E172-4D7D-82D7-9432E4A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AA3F2D-0B99-4CB0-88FE-43D9CBD0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B0D9A7-140A-4B2F-876B-2919BEF4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D008D5-51E3-4FE0-AF85-2A597508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C292A8-E9E1-4139-AB72-515C8CA8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77E84B-71AF-4902-8870-94C81D67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B56724-1810-4BC6-B100-C3B24376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2BCC-902D-4406-A5EA-EC91BA44AC8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B304-61B3-42F1-8ECA-A8EA96A83B5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2395-E87A-4118-B2BA-DEA480E6B96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B2F2-540F-40FF-9961-2D5DD1BEDE4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27A1-E137-4A02-946E-0EE1BCC3CFD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F471-E3E8-45D4-9E08-EE32700567C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87FA-5F69-428E-B0CD-60D84054B82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D0E5-E871-4609-9E6B-CCF5C134A16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4DF6-C0C6-40D7-8F28-EAD9F3A0CAE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274680" y="378000"/>
            <a:ext cx="8424720" cy="22428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160"/>
            <a:ext cx="6559560" cy="26096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352a"/>
                </a:solidFill>
                <a:latin typeface="Cambria"/>
              </a:rPr>
              <a:t>Авторская слайдопрезентация  к уроку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34352a"/>
                </a:solidFill>
                <a:latin typeface="Cambria"/>
              </a:rPr>
              <a:t>учитель Миргородская Е.В</a:t>
            </a:r>
            <a:r>
              <a:rPr b="0" lang="uk-UA" sz="2700" spc="-1" strike="noStrike">
                <a:solidFill>
                  <a:srgbClr val="45472b"/>
                </a:solidFill>
                <a:latin typeface="Cambri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Миргородские\Desktop\Урок\imagesCAE23CSB.jpg"/>
          <p:cNvPicPr/>
          <p:nvPr/>
        </p:nvPicPr>
        <p:blipFill>
          <a:blip r:embed="rId3"/>
          <a:stretch/>
        </p:blipFill>
        <p:spPr>
          <a:xfrm>
            <a:off x="571680" y="2428920"/>
            <a:ext cx="3857400" cy="3357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Миргородские\Desktop\Урок\imagesCAH5FA4W.jpg"/>
          <p:cNvPicPr/>
          <p:nvPr/>
        </p:nvPicPr>
        <p:blipFill>
          <a:blip r:embed="rId4"/>
          <a:stretch/>
        </p:blipFill>
        <p:spPr>
          <a:xfrm>
            <a:off x="5000760" y="2500200"/>
            <a:ext cx="3429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4610477348ec.jpg"/>
          <p:cNvPicPr/>
          <p:nvPr/>
        </p:nvPicPr>
        <p:blipFill>
          <a:blip r:embed="rId3"/>
          <a:stretch/>
        </p:blipFill>
        <p:spPr>
          <a:xfrm>
            <a:off x="2022480" y="1646280"/>
            <a:ext cx="509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614080" cy="1481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Миргородские\Desktop\Урок\images.jpg"/>
          <p:cNvPicPr/>
          <p:nvPr/>
        </p:nvPicPr>
        <p:blipFill>
          <a:blip r:embed="rId3"/>
          <a:stretch/>
        </p:blipFill>
        <p:spPr>
          <a:xfrm>
            <a:off x="2286000" y="1857240"/>
            <a:ext cx="485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8358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541000" cy="963720"/>
          </a:xfrm>
          <a:prstGeom prst="rect">
            <a:avLst/>
          </a:prstGeom>
          <a:ln w="0">
            <a:noFill/>
          </a:ln>
        </p:spPr>
      </p:pic>
      <p:pic>
        <p:nvPicPr>
          <p:cNvPr id="398" name="Содержимое 3" descr=""/>
          <p:cNvPicPr/>
          <p:nvPr/>
        </p:nvPicPr>
        <p:blipFill>
          <a:blip r:embed="rId3"/>
          <a:stretch/>
        </p:blipFill>
        <p:spPr>
          <a:xfrm>
            <a:off x="189000" y="974880"/>
            <a:ext cx="876600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1" name="Содержимое 5" descr="images.jpg"/>
          <p:cNvPicPr/>
          <p:nvPr/>
        </p:nvPicPr>
        <p:blipFill>
          <a:blip r:embed="rId4"/>
          <a:stretch/>
        </p:blipFill>
        <p:spPr>
          <a:xfrm>
            <a:off x="5072040" y="26431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2" descr="http://bio.1september.ru/2006/05/13.jpg"/>
          <p:cNvPicPr/>
          <p:nvPr/>
        </p:nvPicPr>
        <p:blipFill>
          <a:blip r:embed="rId5"/>
          <a:stretch/>
        </p:blipFill>
        <p:spPr>
          <a:xfrm>
            <a:off x="571680" y="2714760"/>
            <a:ext cx="3857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14360" y="249120"/>
            <a:ext cx="835812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Users\Миргородские\Desktop\imagesCA950EKB.jpg"/>
          <p:cNvPicPr/>
          <p:nvPr/>
        </p:nvPicPr>
        <p:blipFill>
          <a:blip r:embed="rId3"/>
          <a:stretch/>
        </p:blipFill>
        <p:spPr>
          <a:xfrm>
            <a:off x="2143080" y="185724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Users\Миргородские\Desktop\Урок\imagesCA34P3DM.jpg"/>
          <p:cNvPicPr/>
          <p:nvPr/>
        </p:nvPicPr>
        <p:blipFill>
          <a:blip r:embed="rId3"/>
          <a:stretch/>
        </p:blipFill>
        <p:spPr>
          <a:xfrm>
            <a:off x="714240" y="2357280"/>
            <a:ext cx="3643560" cy="3214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Миргородские\Documents\Мусор\3Belosarayka.jpg"/>
          <p:cNvPicPr/>
          <p:nvPr/>
        </p:nvPicPr>
        <p:blipFill>
          <a:blip r:embed="rId4"/>
          <a:stretch/>
        </p:blipFill>
        <p:spPr>
          <a:xfrm>
            <a:off x="4762440" y="2286000"/>
            <a:ext cx="3810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C:\Users\Миргородские\Desktop\Урок\imagesCAEA1BGO.jpg"/>
          <p:cNvPicPr/>
          <p:nvPr/>
        </p:nvPicPr>
        <p:blipFill>
          <a:blip r:embed="rId3"/>
          <a:stretch/>
        </p:blipFill>
        <p:spPr>
          <a:xfrm>
            <a:off x="571680" y="2428920"/>
            <a:ext cx="3643200" cy="300024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4" descr="78168029_Foto0431.jpg"/>
          <p:cNvPicPr/>
          <p:nvPr/>
        </p:nvPicPr>
        <p:blipFill>
          <a:blip r:embed="rId4"/>
          <a:stretch/>
        </p:blipFill>
        <p:spPr>
          <a:xfrm>
            <a:off x="4648320" y="23954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212760" y="249120"/>
            <a:ext cx="8894880" cy="1165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Миргородские\Desktop\Урок\imagesCAIYX5JP.jpg"/>
          <p:cNvPicPr/>
          <p:nvPr/>
        </p:nvPicPr>
        <p:blipFill>
          <a:blip r:embed="rId3"/>
          <a:stretch/>
        </p:blipFill>
        <p:spPr>
          <a:xfrm>
            <a:off x="500040" y="242892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Миргородские\Documents\Мусор\1253258257_hiop_ru_tn.jpg"/>
          <p:cNvPicPr/>
          <p:nvPr/>
        </p:nvPicPr>
        <p:blipFill>
          <a:blip r:embed="rId4"/>
          <a:stretch/>
        </p:blipFill>
        <p:spPr>
          <a:xfrm>
            <a:off x="4648320" y="2428920"/>
            <a:ext cx="4038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Миргородские\Desktop\Урок\imagesCADTDNPZ.jpg"/>
          <p:cNvPicPr/>
          <p:nvPr/>
        </p:nvPicPr>
        <p:blipFill>
          <a:blip r:embed="rId3"/>
          <a:stretch/>
        </p:blipFill>
        <p:spPr>
          <a:xfrm>
            <a:off x="357120" y="257184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4" descr="--_1_~1.JPG"/>
          <p:cNvPicPr/>
          <p:nvPr/>
        </p:nvPicPr>
        <p:blipFill>
          <a:blip r:embed="rId4"/>
          <a:stretch/>
        </p:blipFill>
        <p:spPr>
          <a:xfrm>
            <a:off x="4648320" y="2511360"/>
            <a:ext cx="40384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14:43Z</dcterms:created>
  <dc:creator>Миргородские</dc:creator>
  <dc:description/>
  <dc:language>en-US</dc:language>
  <cp:lastModifiedBy>Admin</cp:lastModifiedBy>
  <dcterms:modified xsi:type="dcterms:W3CDTF">2012-01-10T12:04:53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16000000000001024140</vt:lpwstr>
  </property>
</Properties>
</file>