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085-6B25-4071-BE07-E969C324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A66-BA81-4BBF-B71E-852D036F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5B5ECF-E172-4CDC-8197-63B97258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E3B0AC-F916-4668-83AF-CB2D57EF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75371E-4F04-423C-A793-D50CEDB3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80070-E5ED-4450-BC51-063572E3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803174-3A39-4978-B93A-FF8ED764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40DB6-E629-49AB-B65E-2A7DA52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FBB308-B0BF-418D-9840-0A551017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FAAB7-4C44-493F-A578-6E01FD25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A5AF4-D415-4500-A7B2-52AF648C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D00-78AF-4C23-9C27-D0DD9ED4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F7E-D906-4DFC-8BC9-B1AE4AFE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32BA6-D20F-4051-86E9-60F1D2AE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E3068-0A3C-4027-A778-5F04BC31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23089-871C-4514-907F-9DE5814C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20189-B30F-4BFB-8EE5-002E0C75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1CA0D-F601-47B3-A089-CB1B2AB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3625C-E471-464C-8891-1555EEE9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F87E-BE47-4B0D-81A9-53C8137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C7E-D004-4C63-BD14-5A0DD9A1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10E65-730D-4E9B-9088-F0218534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544FE-FF91-445B-A4D3-AB446D6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0C501-C8A4-4DF0-ACD2-4EB52E08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6AB1C-0B93-4CFE-B447-EEAFA6B0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B3C35-6E4C-46EE-8623-9A100BED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0CCB-E873-4EBF-A113-802933C0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19C46-0FE3-4EA5-90BF-A5E02DA5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4502-867C-4590-BC2D-E82B357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EA00-A8A7-40CF-A20F-14E03D5F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E193-3756-4CEF-86EC-BB9F6E58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62E-9D5D-4FF0-AEFE-13AA36E1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7EC9-E8C3-4C86-B73E-3E0AFA01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5FBF-D0E5-464A-9F4D-95745D9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C91E-8044-47C8-ADF6-37E1209F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7F86-549E-4C0C-AA24-5D12E78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21E7-A947-4D1F-A82F-E6F07002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AA26-81AC-49AD-B514-3094B6EF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CCC3-A425-4816-BF4D-A77E4BF1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58EC7-AEE4-4D2B-949A-B3EADA4F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EBFC0-2A67-4B15-9C85-E38B4245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3A167-3BDB-4139-B613-2464DC24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713-1051-422E-B324-1F559736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32C98-48D0-4685-8335-4B33DA5F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3E46F-7344-41D2-81CC-9D22A974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213F6-8BFD-4849-BB00-B45F3591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54F90-77D6-4A15-A752-ED1498E2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47402-58DB-4BB8-92D9-11ED1CE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BC30DC-81B9-4099-87DE-6CD9EAE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F45A4-3C82-4A85-AC3F-93AD06AD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143A8-6774-4937-977E-E6FD17BB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3B2E7-B749-4449-B63B-8DFB48B7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F295-3222-4560-913A-FA93E20E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F77-9B94-4E1F-89B9-4BDE83FB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F7CD9-C66C-4E7D-81EE-7C347816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4C50E-2DB5-446E-9165-222AFE04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AA8FE-A77D-4083-9280-561B8783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BE7F-D695-46CA-BF51-313DA117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2ACAB-CCDF-4679-83D1-2075584F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BE37-FF49-452C-A0FE-3C13E94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E04C-6B7C-452F-92A8-587D357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8D208-CC06-460C-9544-6EF36F34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6970-EF08-4433-8055-42BA1CD5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0ADA-5959-46FB-A341-879E9878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A1D-11E2-4317-8256-0C6D1C2B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5861-C5EA-457C-89DF-0525B16B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8A9BB-9C6E-448A-8521-06EBA389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1DE9-6425-4A91-A262-1BE0B561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382E9-8228-4A52-9FD0-79542374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918A-6D2F-47C9-B01F-5B9E1D20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05F54-5739-4910-B7F7-5A90A8A8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364B2-E5C9-4DEA-9BDB-B42F23E9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6B7C8-43E6-498C-9015-93A82328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FCFAD-8B9A-4FC1-AE23-46F6ED3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ECAB9-4668-4B91-BE19-6BD84E9D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E29-89A7-413A-9282-51EE4BF3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55D97-6A48-41BA-8075-4F52CD69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4DB3E-60E2-4F6E-AE16-CFFA18A4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C3F52-4238-4B8F-96B3-783AC6F1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D550A-7A88-484F-895D-F0AD3B47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D5DBE-0C15-4CB6-B32D-9430F9C9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9F024-E930-494C-9084-CB1E1E04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1158C-9362-4DDF-9D2A-1ED1A374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A4ACC-156B-4923-9D1B-BE27A3B9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6E265-C95A-4DF3-92E7-D085C81A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21C59-C7A5-4D53-8C99-634760C3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7A3-A61C-445A-8531-BD604226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3A1F2-F376-40CC-9D40-A470902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FE4D6-F2C7-4F49-A346-29387F97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7EC62-C5F5-4E5A-9F59-7AA727F6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F411-7364-4EEB-A768-DA90C543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EFB1-9AF2-4F51-A6A6-C52C9929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E8103-2305-4CA3-9819-A86F0C4A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6FFD2-6064-47D9-A533-0ECBBDB2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2FBA7-6AF8-41FC-9EF2-D80729A1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AB169-2637-45DB-B0A5-9269E53F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BE1AB1-A87D-4960-B5E8-6D046693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25F-F1E3-40B8-AE0E-B5216B5F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482641-A223-478B-A85B-FFF8B4EC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BDEA06-7909-4E89-A870-EF0A8AEC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A29DF3-E40F-4629-9D76-E58D278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FFD0C-D47E-417C-AC70-1C029C98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5966B4-A7BD-43F0-8910-79AC516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E214F7-68A0-4651-812D-4518FBBC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2905F-4B75-4B9F-B2D3-18FF7B8F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AC3FF2-2298-48A6-B1BB-E5A3A51D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EBAC8C-25B0-42DD-B6C3-DCD727AB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7FE220-AE1B-4B7F-BB58-05D124B1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A1DC-7989-44FD-9616-350EF8F0E07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C5C7-0B18-4FDE-A36C-2CE4AA169B1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E97F-4592-4ACF-986E-849CA505841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25A3-3960-4CF0-A893-29ADC2BFFAF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2D9D-4956-41E1-8DAE-341F497DB34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EE44-6572-4347-BAB5-1A7778DA177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29A9-7D71-4316-8CF4-8DD04B9C47E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764-C804-4FD7-AC71-5E5B029C3AA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7B7-DD85-4B49-949A-5540BFF9A1B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274680" y="378000"/>
            <a:ext cx="8424720" cy="2242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160"/>
            <a:ext cx="6559560" cy="26096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352a"/>
                </a:solidFill>
                <a:latin typeface="Cambria"/>
              </a:rPr>
              <a:t>Авторская слайдопрезентация  к уроку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34352a"/>
                </a:solidFill>
                <a:latin typeface="Cambria"/>
              </a:rPr>
              <a:t>учитель Миргородская Е.В</a:t>
            </a:r>
            <a:r>
              <a:rPr b="0" lang="uk-UA" sz="2700" spc="-1" strike="noStrike">
                <a:solidFill>
                  <a:srgbClr val="45472b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Миргородские\Desktop\Урок\imagesCAE23CSB.jpg"/>
          <p:cNvPicPr/>
          <p:nvPr/>
        </p:nvPicPr>
        <p:blipFill>
          <a:blip r:embed="rId3"/>
          <a:stretch/>
        </p:blipFill>
        <p:spPr>
          <a:xfrm>
            <a:off x="571680" y="2428920"/>
            <a:ext cx="3857400" cy="3357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Миргородские\Desktop\Урок\imagesCAH5FA4W.jpg"/>
          <p:cNvPicPr/>
          <p:nvPr/>
        </p:nvPicPr>
        <p:blipFill>
          <a:blip r:embed="rId4"/>
          <a:stretch/>
        </p:blipFill>
        <p:spPr>
          <a:xfrm>
            <a:off x="5000760" y="2500200"/>
            <a:ext cx="3429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4610477348ec.jpg"/>
          <p:cNvPicPr/>
          <p:nvPr/>
        </p:nvPicPr>
        <p:blipFill>
          <a:blip r:embed="rId3"/>
          <a:stretch/>
        </p:blipFill>
        <p:spPr>
          <a:xfrm>
            <a:off x="2022480" y="1646280"/>
            <a:ext cx="509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Миргородские\Desktop\Урок\images.jpg"/>
          <p:cNvPicPr/>
          <p:nvPr/>
        </p:nvPicPr>
        <p:blipFill>
          <a:blip r:embed="rId3"/>
          <a:stretch/>
        </p:blipFill>
        <p:spPr>
          <a:xfrm>
            <a:off x="2286000" y="1857240"/>
            <a:ext cx="485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8358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541000" cy="963720"/>
          </a:xfrm>
          <a:prstGeom prst="rect">
            <a:avLst/>
          </a:prstGeom>
          <a:ln w="0">
            <a:noFill/>
          </a:ln>
        </p:spPr>
      </p:pic>
      <p:pic>
        <p:nvPicPr>
          <p:cNvPr id="398" name="Содержимое 3" descr=""/>
          <p:cNvPicPr/>
          <p:nvPr/>
        </p:nvPicPr>
        <p:blipFill>
          <a:blip r:embed="rId3"/>
          <a:stretch/>
        </p:blipFill>
        <p:spPr>
          <a:xfrm>
            <a:off x="189000" y="974880"/>
            <a:ext cx="876600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5" descr="images.jpg"/>
          <p:cNvPicPr/>
          <p:nvPr/>
        </p:nvPicPr>
        <p:blipFill>
          <a:blip r:embed="rId4"/>
          <a:stretch/>
        </p:blipFill>
        <p:spPr>
          <a:xfrm>
            <a:off x="5072040" y="2643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2" descr="http://bio.1september.ru/2006/05/13.jpg"/>
          <p:cNvPicPr/>
          <p:nvPr/>
        </p:nvPicPr>
        <p:blipFill>
          <a:blip r:embed="rId5"/>
          <a:stretch/>
        </p:blipFill>
        <p:spPr>
          <a:xfrm>
            <a:off x="571680" y="2714760"/>
            <a:ext cx="3857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14360" y="249120"/>
            <a:ext cx="835812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Users\Миргородские\Desktop\imagesCA950EKB.jpg"/>
          <p:cNvPicPr/>
          <p:nvPr/>
        </p:nvPicPr>
        <p:blipFill>
          <a:blip r:embed="rId3"/>
          <a:stretch/>
        </p:blipFill>
        <p:spPr>
          <a:xfrm>
            <a:off x="2143080" y="185724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Users\Миргородские\Desktop\Урок\imagesCA34P3DM.jpg"/>
          <p:cNvPicPr/>
          <p:nvPr/>
        </p:nvPicPr>
        <p:blipFill>
          <a:blip r:embed="rId3"/>
          <a:stretch/>
        </p:blipFill>
        <p:spPr>
          <a:xfrm>
            <a:off x="714240" y="2357280"/>
            <a:ext cx="3643560" cy="3214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Миргородские\Documents\Мусор\3Belosarayka.jpg"/>
          <p:cNvPicPr/>
          <p:nvPr/>
        </p:nvPicPr>
        <p:blipFill>
          <a:blip r:embed="rId4"/>
          <a:stretch/>
        </p:blipFill>
        <p:spPr>
          <a:xfrm>
            <a:off x="4762440" y="2286000"/>
            <a:ext cx="3810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Users\Миргородские\Desktop\Урок\imagesCAEA1BGO.jpg"/>
          <p:cNvPicPr/>
          <p:nvPr/>
        </p:nvPicPr>
        <p:blipFill>
          <a:blip r:embed="rId3"/>
          <a:stretch/>
        </p:blipFill>
        <p:spPr>
          <a:xfrm>
            <a:off x="571680" y="2428920"/>
            <a:ext cx="3643200" cy="30002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78168029_Foto0431.jpg"/>
          <p:cNvPicPr/>
          <p:nvPr/>
        </p:nvPicPr>
        <p:blipFill>
          <a:blip r:embed="rId4"/>
          <a:stretch/>
        </p:blipFill>
        <p:spPr>
          <a:xfrm>
            <a:off x="4648320" y="23954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212760" y="249120"/>
            <a:ext cx="8894880" cy="1165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Миргородские\Desktop\Урок\imagesCAIYX5JP.jpg"/>
          <p:cNvPicPr/>
          <p:nvPr/>
        </p:nvPicPr>
        <p:blipFill>
          <a:blip r:embed="rId3"/>
          <a:stretch/>
        </p:blipFill>
        <p:spPr>
          <a:xfrm>
            <a:off x="500040" y="242892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Миргородские\Documents\Мусор\1253258257_hiop_ru_tn.jpg"/>
          <p:cNvPicPr/>
          <p:nvPr/>
        </p:nvPicPr>
        <p:blipFill>
          <a:blip r:embed="rId4"/>
          <a:stretch/>
        </p:blipFill>
        <p:spPr>
          <a:xfrm>
            <a:off x="4648320" y="2428920"/>
            <a:ext cx="4038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Миргородские\Desktop\Урок\imagesCADTDNPZ.jpg"/>
          <p:cNvPicPr/>
          <p:nvPr/>
        </p:nvPicPr>
        <p:blipFill>
          <a:blip r:embed="rId3"/>
          <a:stretch/>
        </p:blipFill>
        <p:spPr>
          <a:xfrm>
            <a:off x="357120" y="257184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4" descr="--_1_~1.JPG"/>
          <p:cNvPicPr/>
          <p:nvPr/>
        </p:nvPicPr>
        <p:blipFill>
          <a:blip r:embed="rId4"/>
          <a:stretch/>
        </p:blipFill>
        <p:spPr>
          <a:xfrm>
            <a:off x="4648320" y="2511360"/>
            <a:ext cx="40384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14:43Z</dcterms:created>
  <dc:creator>Миргородские</dc:creator>
  <dc:description/>
  <dc:language>en-US</dc:language>
  <cp:lastModifiedBy>Admin</cp:lastModifiedBy>
  <dcterms:modified xsi:type="dcterms:W3CDTF">2012-01-10T12:04:53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16000000000001024140</vt:lpwstr>
  </property>
</Properties>
</file>