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13.jpeg" ContentType="image/jpeg"/>
  <Override PartName="/ppt/media/image23.png" ContentType="image/png"/>
  <Override PartName="/ppt/media/image5.jpeg" ContentType="image/jpe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30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43EF-F52F-483B-A26F-A62E748E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B7F8-E3AA-47A8-B241-1ADA4117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02FA5B-BDC1-4257-B9EC-2E3BE9E8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CF8689-CEAC-4321-A093-29FD4F57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5A20E5-FFD3-49D8-8861-1DECD51A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3FE41F-7F1E-4774-A99F-707B49D4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ACB888-292D-4CD3-BE61-AACDB94D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4FE09F-E405-4DEC-9CCF-704CCD7D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13EF67-139C-4916-B962-1D4341B9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F7F278-E6C8-4E26-AB2D-462C33A1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CC67E4-B9F4-4A19-B6E2-108FC04D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0854-E59F-4B8E-B468-71482ECD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7EB8-9E29-4191-BC08-BBE16396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24E79-AFDA-4BF4-9B6A-4015D0F7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3F16F-471C-4726-A7A5-2DA54493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599F4-BF8A-4C9A-B242-8FA5F7E9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F328F-F6B1-46A5-8165-7B15C1DD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BC158-2ECE-4A5A-A1EC-46C1BE67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1AA3B-701A-4425-A409-00EEB988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2E29C-BFA8-49CF-966C-7961A5D9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DD57-F6DD-418A-9F61-F994BF6A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FD6A0-6DA3-400C-9FFF-9241E9D0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679DF-DBF6-42BC-8E47-C6720BDE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E9B67-5DC1-452F-BCA6-532455D2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FC4AD-04A4-45EC-AA69-5EC58BF3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9533E-FA00-4E48-9DA0-A968E61B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1004B-6DD6-4B72-BA59-314E4501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3DB23-812E-43F2-9B18-01351694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EE50C-5EBD-4C10-97A2-99196839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DA38C-9D31-4B3E-9850-764A592A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03CB5-770D-4F89-B38E-9FF29743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C359-1B2B-4B32-A852-0CA0C309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6567A-FB6E-4090-916A-FA324C8E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8ED61-D21D-44F2-A98C-51CC60F3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04F67-8491-47B0-9FBA-5FB0E69E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B31C0-AE8E-4A21-9072-D5EAE884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2ED80-2EC8-4F55-B79D-7AC0AEFC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9829F-B3B2-40FA-861A-E341F81C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DB14E-3BC9-4E69-B2E6-56286F7A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9605CB-4FCA-4B0C-90CC-01FD1092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DD59AE-684E-4639-8A1D-64FD1DC5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9B3DB6-60E8-459C-96D7-1F30FA39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C25B-D695-44A1-A524-435499B2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027FFF-E878-40BE-9A11-B805C1C3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228CC5-EA43-4E98-BFEA-DDF3FE2B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BFAD3E-141F-4F38-8BA8-E9285E50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1B5C15-B745-4CA2-BDFE-DEEB289E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E1E8F7-DDAD-4BDA-971D-A4BD22A0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BC9A98-232F-477A-908F-F62CBB53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1F4239-FED9-47EF-A3F4-01D35382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AFF55D-0535-45F2-A9F6-AC7794E2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F6610F-9447-4BF4-8E1C-2FD33484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88696-EACF-4F53-8A9B-97785068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3FDB-81EC-4F02-9BF2-5E01493E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5B2B7-8EBE-4DE9-8D41-D03A8AD2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E7588-608B-4E4B-84FD-0F73D76A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FC07E-8D60-4982-B359-11860BA5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08AE9-0CDE-4DC7-8BB2-0E37B341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050F8-16F2-4A34-9682-FB04C468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F5545-9A03-40C2-9E95-659BC673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E3D08-A6E5-4DF4-8208-5905FCDD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18419-F706-4FCA-9770-45477EC3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7CECD-03BA-44D3-882B-CDF346CD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DD51C-A3F9-4607-B819-0DF298EB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1603-CB6D-4049-AA08-6B208187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D2074-E6B5-4465-82C2-1022CE86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D6140-C733-4276-BC8D-1F7B6180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6F49C-A6FA-4F9F-80E9-2C4CEC8D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ED4AA-15DC-41E8-8B12-20D00164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3E6B5-FD33-46AC-A8E5-880E901E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2EA7B-8C20-4207-A199-4AF83F9D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97106-6B65-4968-AA6B-ACFBDC9E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8D231-ADC9-426E-B386-847907E6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3671D-9EA3-4423-AD58-F962AC9E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6901F-106B-4C11-B7F6-7FF5F4D3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06B-E175-4A51-96F0-9631D58E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3D397-987F-4A02-9520-CE99607F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466D8-DF2F-45FA-A12A-50FF719E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24B23-DF9B-4B38-964E-57C5077A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64F0B-2051-445E-B12F-38A111C7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F79F2-0C3D-4252-B23C-ED10F82E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26EC3-B6A1-45E4-ABB4-AF7458EB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15348-8534-4F45-9D87-EB877E5B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5AF95-E9B8-460F-A78F-3EC1B3C3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9E33C-95E5-4DC0-B895-DE7FDEF2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7852C-EE1D-4424-8774-A95F436D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0638-13F4-4562-AC95-AE319DA1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E26C9-2BE9-4283-ACB1-0007CA37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8078F-AF5D-44D4-95D8-F8161BA9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0CDE8-9FC5-4055-80CB-DD2868B7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F7057-D3D5-42C1-9215-3780DF695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BBAAE-3224-4259-93C5-E856C8D7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403E61-8E44-4486-8AF9-9A3F2FED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626ABB-7B0D-4E37-ADA7-F2D14AAC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B3DF43-9E19-4553-84DD-35B2C006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F72367-C3F2-4486-9007-ACE7C7CA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677A32-38C8-4B00-BD10-DF006FAE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0A03-2C0B-42C5-A3F2-990C9294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72DF88-4C04-49D1-A4DB-96C3799F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3D110D-58AE-4EAA-B833-13DE8528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C9D062-88A5-4F12-8FD5-8747EF1F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F7A13B-DF81-4786-B90E-265F1A3C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823DA9-B916-4866-887B-F6A88A41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930756-963D-4D3F-9FE4-3E9262E4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178CB0-BB95-4256-B84C-45711F9B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B8D837-C413-426A-A9C7-98885140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80D4AC-C853-424F-B05F-DC91EC64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9E2FE3-0562-4336-963C-0CF6258E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7D5B-9E0F-4AF2-9181-FF5ABD3524C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E49E-F3E1-4AB7-A552-F44A0147D57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8B62-EFC0-4645-8D2C-AA4139C5C7A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F724-1440-4C93-8FA6-72554CAFB88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559D-7A75-4850-B813-2EA91DD7012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F646-E1AE-45DA-9DB5-408FF10E425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C5A9-E4FA-4B54-8406-39CFA05128E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CB49-07EA-4A05-92D7-C3F761F1C8C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0F13-EFFC-4399-B268-4003E62A022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2"/>
          <a:stretch/>
        </p:blipFill>
        <p:spPr>
          <a:xfrm>
            <a:off x="274680" y="378000"/>
            <a:ext cx="8424720" cy="22428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160"/>
            <a:ext cx="6559560" cy="260964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352a"/>
                </a:solidFill>
                <a:latin typeface="Cambria"/>
              </a:rPr>
              <a:t>Авторская слайдопрезентация  к уроку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34352a"/>
                </a:solidFill>
                <a:latin typeface="Cambria"/>
              </a:rPr>
              <a:t>учитель Миргородская Е.В</a:t>
            </a:r>
            <a:r>
              <a:rPr b="0" lang="uk-UA" sz="2700" spc="-1" strike="noStrike">
                <a:solidFill>
                  <a:srgbClr val="45472b"/>
                </a:solidFill>
                <a:latin typeface="Cambria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C:\Users\Миргородские\Desktop\Урок\imagesCAE23CSB.jpg"/>
          <p:cNvPicPr/>
          <p:nvPr/>
        </p:nvPicPr>
        <p:blipFill>
          <a:blip r:embed="rId3"/>
          <a:stretch/>
        </p:blipFill>
        <p:spPr>
          <a:xfrm>
            <a:off x="571680" y="2428920"/>
            <a:ext cx="3857400" cy="33573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C:\Users\Миргородские\Desktop\Урок\imagesCAH5FA4W.jpg"/>
          <p:cNvPicPr/>
          <p:nvPr/>
        </p:nvPicPr>
        <p:blipFill>
          <a:blip r:embed="rId4"/>
          <a:stretch/>
        </p:blipFill>
        <p:spPr>
          <a:xfrm>
            <a:off x="5000760" y="2500200"/>
            <a:ext cx="3429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pic>
        <p:nvPicPr>
          <p:cNvPr id="421" name="Содержимое 3" descr="4610477348ec.jpg"/>
          <p:cNvPicPr/>
          <p:nvPr/>
        </p:nvPicPr>
        <p:blipFill>
          <a:blip r:embed="rId3"/>
          <a:stretch/>
        </p:blipFill>
        <p:spPr>
          <a:xfrm>
            <a:off x="2022480" y="1646280"/>
            <a:ext cx="5099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614080" cy="1481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Users\Миргородские\Desktop\Урок\images.jpg"/>
          <p:cNvPicPr/>
          <p:nvPr/>
        </p:nvPicPr>
        <p:blipFill>
          <a:blip r:embed="rId3"/>
          <a:stretch/>
        </p:blipFill>
        <p:spPr>
          <a:xfrm>
            <a:off x="2286000" y="1857240"/>
            <a:ext cx="4857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428760" y="500040"/>
            <a:ext cx="83581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1" descr=""/>
          <p:cNvPicPr/>
          <p:nvPr/>
        </p:nvPicPr>
        <p:blipFill>
          <a:blip r:embed="rId2"/>
          <a:stretch/>
        </p:blipFill>
        <p:spPr>
          <a:xfrm>
            <a:off x="450720" y="-19080"/>
            <a:ext cx="8541000" cy="963720"/>
          </a:xfrm>
          <a:prstGeom prst="rect">
            <a:avLst/>
          </a:prstGeom>
          <a:ln w="0">
            <a:noFill/>
          </a:ln>
        </p:spPr>
      </p:pic>
      <p:pic>
        <p:nvPicPr>
          <p:cNvPr id="398" name="Содержимое 3" descr=""/>
          <p:cNvPicPr/>
          <p:nvPr/>
        </p:nvPicPr>
        <p:blipFill>
          <a:blip r:embed="rId3"/>
          <a:stretch/>
        </p:blipFill>
        <p:spPr>
          <a:xfrm>
            <a:off x="189000" y="974880"/>
            <a:ext cx="8766000" cy="56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457200" y="164628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01" name="Содержимое 5" descr="images.jpg"/>
          <p:cNvPicPr/>
          <p:nvPr/>
        </p:nvPicPr>
        <p:blipFill>
          <a:blip r:embed="rId4"/>
          <a:stretch/>
        </p:blipFill>
        <p:spPr>
          <a:xfrm>
            <a:off x="5072040" y="2643120"/>
            <a:ext cx="3357720" cy="278604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2" descr="http://bio.1september.ru/2006/05/13.jpg"/>
          <p:cNvPicPr/>
          <p:nvPr/>
        </p:nvPicPr>
        <p:blipFill>
          <a:blip r:embed="rId5"/>
          <a:stretch/>
        </p:blipFill>
        <p:spPr>
          <a:xfrm>
            <a:off x="571680" y="2714760"/>
            <a:ext cx="38574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2"/>
          <a:stretch/>
        </p:blipFill>
        <p:spPr>
          <a:xfrm>
            <a:off x="414360" y="249120"/>
            <a:ext cx="8358120" cy="1158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C:\Users\Миргородские\Desktop\imagesCA950EKB.jpg"/>
          <p:cNvPicPr/>
          <p:nvPr/>
        </p:nvPicPr>
        <p:blipFill>
          <a:blip r:embed="rId3"/>
          <a:stretch/>
        </p:blipFill>
        <p:spPr>
          <a:xfrm>
            <a:off x="2143080" y="1857240"/>
            <a:ext cx="4572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C:\Users\Миргородские\Desktop\Урок\imagesCA34P3DM.jpg"/>
          <p:cNvPicPr/>
          <p:nvPr/>
        </p:nvPicPr>
        <p:blipFill>
          <a:blip r:embed="rId3"/>
          <a:stretch/>
        </p:blipFill>
        <p:spPr>
          <a:xfrm>
            <a:off x="714240" y="2357280"/>
            <a:ext cx="3643560" cy="32148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C:\Users\Миргородские\Documents\Мусор\3Belosarayka.jpg"/>
          <p:cNvPicPr/>
          <p:nvPr/>
        </p:nvPicPr>
        <p:blipFill>
          <a:blip r:embed="rId4"/>
          <a:stretch/>
        </p:blipFill>
        <p:spPr>
          <a:xfrm>
            <a:off x="4762440" y="2286000"/>
            <a:ext cx="38102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C:\Users\Миргородские\Desktop\Урок\imagesCAEA1BGO.jpg"/>
          <p:cNvPicPr/>
          <p:nvPr/>
        </p:nvPicPr>
        <p:blipFill>
          <a:blip r:embed="rId3"/>
          <a:stretch/>
        </p:blipFill>
        <p:spPr>
          <a:xfrm>
            <a:off x="571680" y="2428920"/>
            <a:ext cx="3643200" cy="3000240"/>
          </a:xfrm>
          <a:prstGeom prst="rect">
            <a:avLst/>
          </a:prstGeom>
          <a:ln w="0">
            <a:noFill/>
          </a:ln>
        </p:spPr>
      </p:pic>
      <p:pic>
        <p:nvPicPr>
          <p:cNvPr id="410" name="Содержимое 4" descr="78168029_Foto0431.jpg"/>
          <p:cNvPicPr/>
          <p:nvPr/>
        </p:nvPicPr>
        <p:blipFill>
          <a:blip r:embed="rId4"/>
          <a:stretch/>
        </p:blipFill>
        <p:spPr>
          <a:xfrm>
            <a:off x="4648320" y="23954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2"/>
          <a:stretch/>
        </p:blipFill>
        <p:spPr>
          <a:xfrm>
            <a:off x="212760" y="249120"/>
            <a:ext cx="8894880" cy="1165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C:\Users\Миргородские\Desktop\Урок\imagesCAIYX5JP.jpg"/>
          <p:cNvPicPr/>
          <p:nvPr/>
        </p:nvPicPr>
        <p:blipFill>
          <a:blip r:embed="rId3"/>
          <a:stretch/>
        </p:blipFill>
        <p:spPr>
          <a:xfrm>
            <a:off x="500040" y="2428920"/>
            <a:ext cx="3857760" cy="3286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C:\Users\Миргородские\Documents\Мусор\1253258257_hiop_ru_tn.jpg"/>
          <p:cNvPicPr/>
          <p:nvPr/>
        </p:nvPicPr>
        <p:blipFill>
          <a:blip r:embed="rId4"/>
          <a:stretch/>
        </p:blipFill>
        <p:spPr>
          <a:xfrm>
            <a:off x="4648320" y="2428920"/>
            <a:ext cx="40384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C:\Users\Миргородские\Desktop\Урок\imagesCADTDNPZ.jpg"/>
          <p:cNvPicPr/>
          <p:nvPr/>
        </p:nvPicPr>
        <p:blipFill>
          <a:blip r:embed="rId3"/>
          <a:stretch/>
        </p:blipFill>
        <p:spPr>
          <a:xfrm>
            <a:off x="357120" y="2571840"/>
            <a:ext cx="4071960" cy="2786040"/>
          </a:xfrm>
          <a:prstGeom prst="rect">
            <a:avLst/>
          </a:prstGeom>
          <a:ln w="0">
            <a:noFill/>
          </a:ln>
        </p:spPr>
      </p:pic>
      <p:pic>
        <p:nvPicPr>
          <p:cNvPr id="416" name="Содержимое 4" descr="--_1_~1.JPG"/>
          <p:cNvPicPr/>
          <p:nvPr/>
        </p:nvPicPr>
        <p:blipFill>
          <a:blip r:embed="rId4"/>
          <a:stretch/>
        </p:blipFill>
        <p:spPr>
          <a:xfrm>
            <a:off x="4648320" y="2511360"/>
            <a:ext cx="403848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1:14:43Z</dcterms:created>
  <dc:creator>Миргородские</dc:creator>
  <dc:description/>
  <dc:language>en-US</dc:language>
  <cp:lastModifiedBy>Admin</cp:lastModifiedBy>
  <dcterms:modified xsi:type="dcterms:W3CDTF">2012-01-10T12:04:53Z</dcterms:modified>
  <cp:revision>4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16000000000001024140</vt:lpwstr>
  </property>
</Properties>
</file>