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13.jpeg" ContentType="image/jpeg"/>
  <Override PartName="/ppt/media/image23.png" ContentType="image/png"/>
  <Override PartName="/ppt/media/image5.jpeg" ContentType="image/jpe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30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DB07-636A-4E64-AD40-55E9BA99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8782-2E3B-456A-BCA6-52C278AE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F24DA6-A883-49C3-9B86-543915DB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F79B3A-936C-42CB-82DB-48F443B8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0BB8CE-CF1F-459C-8348-176136B6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39886E-162F-48DE-96A3-BE27C9B9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1898DA-EF74-4A93-89FD-CABA2A8E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ABB491-2AC6-440A-AC87-6F5DBEB3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B2703C-9FF3-4FA8-94F1-A1164F98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04C83D-94BC-45BE-A178-A78837CB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75F546-2383-451C-8560-62C6337C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3779-9055-4D42-A49E-603E1795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8CF-1973-42CE-9CC6-BD048F3C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119F1-85FE-4115-A5B8-F0B311AD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19785-1438-46FC-9BD5-96BEBAB2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97158-A11E-471A-B2F1-052B603D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0E015-E1E9-4E76-B2B9-2551D276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FDAD2-DFBA-445F-8553-70F73AA3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EA509-6F58-4293-B47B-29952FCD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8348B-DDF4-4556-BBF3-DCFD93F4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272B-F177-4E6B-AAFD-2444EA81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3A816-970E-43B8-BBDA-797C4142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3C614-8250-43F4-AF53-74CE4FC0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8F62E-9E59-42D4-BB34-83FA4B90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0CF55-81AC-4E7E-B43A-329FE824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6DD54-976A-47BF-BFC8-A7CCDD37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2CC9B-AF72-4856-BB82-B469FCBD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5E118-AC6B-4872-BF32-0D06E4D9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CD136-BA3E-4B9A-A02D-55565835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9BC10-1F67-4983-8F61-3C3DD3B7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5453C-B8B0-46DE-914E-E278A9C8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2362-108E-4AC6-8763-139D2969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5B962-ECF4-40F0-AE5A-3AB00432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1CAE8-9504-4CCF-BA95-7F0599C0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030F8-2CD0-43FD-9902-9DCEC167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59399-2220-469F-B992-121F2956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E68A9-1285-4210-800F-1731ADDF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80456-EE9A-4B2E-81BA-46FCEA14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0D6EF-443F-4D32-9B1B-99232501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40965C-FFE2-4C3D-9B64-E2FC6024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086FC6-680D-4A56-86F5-EC1FEBF7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B90B0C-A6CD-406D-96BF-A759EDC2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FEEC-808B-4576-9B33-65A61EA0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C82C27-5B69-47D3-B5C7-332FBA90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E37F25-0B09-4747-8CC9-9141035E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571B11-948A-43AC-962E-0F8C2E6B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AEF34E-4D42-4942-8631-9F5D202A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AE6494-371E-43F4-8BB3-53F82BAD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6B6C6D-E08E-43F6-971D-7663001D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3439E2-5362-418F-8487-4C2978A6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93948D-D835-4CF1-88AC-0D598283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AE66C9-77C7-4F42-9703-AB619069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D680C-813E-4D79-89FE-166FAAEF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672B-8E3B-4C9D-8170-62ED06D2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AF609-8530-4AB4-92B9-68185AD2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2EDAD-1AF1-4896-B9CD-172DC321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8219E-738F-42CF-B536-A596CBEE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01431-8B9A-4C50-87B2-8FA8FFB1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055DC-DFBA-4684-8A02-128B8771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A7844-85A9-4512-BCA4-A15979D8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F1542-3588-4D44-A25A-231C6E2E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4FD91-0AF0-424C-8FB1-328AF106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863FA-DD0E-4CF3-A30D-C624EBF4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D08FE-9A9E-4878-A798-091DEEC8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5DD2-EA8D-489C-9BB8-398D9E26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A8C26-2250-4010-8CF2-FA6C34F4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C45DE-8F00-4236-BCFB-A1A1DAD0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AF24F-895A-43FE-9DB6-53F2946A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412DC-BEAF-4CCE-BEF7-013819B6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D9C99-3040-4E66-B1CB-13F1F18F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F6C74-5846-4003-B230-EA84B26A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C82FB-6E1C-4412-933F-72A36C51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43CA3-E4A6-4414-8911-BFE6306B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5F73F-C207-4B02-AFA4-39140920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BE5C7-7C3C-4603-83E4-B3802F07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D354-61E4-4199-9B72-8B552216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7199F-CB6F-4AC6-BA7C-CAD98635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B97D6-C5B0-4736-B5EA-A8EA7B17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11910-727A-42F2-B9D0-5DE8A456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97853-1E0F-4AA6-BC61-830B7645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1C3A8-94E5-4F24-8C89-1CCA80FE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D9189-56F3-4C5A-9891-D82833A8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5BF8C-EA43-4096-9D81-61347B00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498A5-166C-42D9-BE3A-956B8A5C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C93FE-5055-4996-90D7-A02EBA02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C3B8F-BAA8-409C-8F87-BE5B212F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D36A-3FE6-456A-862D-B40061C1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86EBE-A55A-4761-9FDF-5D096257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B71B5-6396-4743-8B95-A03BCEF5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0800E-46C0-42C8-9AD4-18487DF2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AC177-9A84-4895-BD4F-516B315B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46331-E59F-4983-B717-AB708A76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658832-A3C5-485E-9BA0-F23A868E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9DBC34-9D3B-4CB8-BE51-CFEC6D9C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F6D8A8-7150-4E20-97C7-F1FA6935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09ED4C-4F79-4B16-AFDB-BB76935B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929D3E-3B11-4273-8059-C2B5008B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14D6-C832-464A-A593-8D45E8F6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B693AE-0C28-4353-B2E7-4F81A49F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C82161-98F6-43C9-A43A-AB8E8D98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E4DE41-A877-4E36-A630-4693B856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8277C1-BD2C-48E7-8B57-4D1BDB34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30D02F-E502-4056-B4D9-E34AFF0C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910D3A-C16B-4BD0-B96E-38495F4D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3052A4-DA2D-4DA4-8660-A201BF2D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65F52F-E12C-48BE-AF73-66E91512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643EF6-F7B9-43BD-89B9-E7E6A643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435718-0417-4DAE-B04E-0791E346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5259-F663-4783-BBA9-E4F6D3587C4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590D-3FF3-44B1-8E1B-92244F8E90E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B48A-D956-460F-A389-1ADB0324C15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6AB3-F305-4966-8A09-EE7929FA2E1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94DF-D3FD-42AB-A7F0-C4A1F1261B3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E4D1-77E7-4B06-AE02-363969E1CDA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F851-6378-4D29-A0CA-B1A327F10D1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21A1-5635-498C-B4D2-74CE3791466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B9E8-E8AF-4653-9630-AF7D336E7A4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2"/>
          <a:stretch/>
        </p:blipFill>
        <p:spPr>
          <a:xfrm>
            <a:off x="274680" y="378000"/>
            <a:ext cx="8424720" cy="22428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160"/>
            <a:ext cx="6559560" cy="260964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352a"/>
                </a:solidFill>
                <a:latin typeface="Cambria"/>
              </a:rPr>
              <a:t>Авторская слайдопрезентация  к уроку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34352a"/>
                </a:solidFill>
                <a:latin typeface="Cambria"/>
              </a:rPr>
              <a:t>учитель Миргородская Е.В</a:t>
            </a:r>
            <a:r>
              <a:rPr b="0" lang="uk-UA" sz="2700" spc="-1" strike="noStrike">
                <a:solidFill>
                  <a:srgbClr val="45472b"/>
                </a:solidFill>
                <a:latin typeface="Cambria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C:\Users\Миргородские\Desktop\Урок\imagesCAE23CSB.jpg"/>
          <p:cNvPicPr/>
          <p:nvPr/>
        </p:nvPicPr>
        <p:blipFill>
          <a:blip r:embed="rId3"/>
          <a:stretch/>
        </p:blipFill>
        <p:spPr>
          <a:xfrm>
            <a:off x="571680" y="2428920"/>
            <a:ext cx="3857400" cy="33573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C:\Users\Миргородские\Desktop\Урок\imagesCAH5FA4W.jpg"/>
          <p:cNvPicPr/>
          <p:nvPr/>
        </p:nvPicPr>
        <p:blipFill>
          <a:blip r:embed="rId4"/>
          <a:stretch/>
        </p:blipFill>
        <p:spPr>
          <a:xfrm>
            <a:off x="5000760" y="2500200"/>
            <a:ext cx="3429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pic>
        <p:nvPicPr>
          <p:cNvPr id="421" name="Содержимое 3" descr="4610477348ec.jpg"/>
          <p:cNvPicPr/>
          <p:nvPr/>
        </p:nvPicPr>
        <p:blipFill>
          <a:blip r:embed="rId3"/>
          <a:stretch/>
        </p:blipFill>
        <p:spPr>
          <a:xfrm>
            <a:off x="2022480" y="1646280"/>
            <a:ext cx="5099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614080" cy="1481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Users\Миргородские\Desktop\Урок\images.jpg"/>
          <p:cNvPicPr/>
          <p:nvPr/>
        </p:nvPicPr>
        <p:blipFill>
          <a:blip r:embed="rId3"/>
          <a:stretch/>
        </p:blipFill>
        <p:spPr>
          <a:xfrm>
            <a:off x="2286000" y="1857240"/>
            <a:ext cx="4857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428760" y="500040"/>
            <a:ext cx="83581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1" descr=""/>
          <p:cNvPicPr/>
          <p:nvPr/>
        </p:nvPicPr>
        <p:blipFill>
          <a:blip r:embed="rId2"/>
          <a:stretch/>
        </p:blipFill>
        <p:spPr>
          <a:xfrm>
            <a:off x="450720" y="-19080"/>
            <a:ext cx="8541000" cy="963720"/>
          </a:xfrm>
          <a:prstGeom prst="rect">
            <a:avLst/>
          </a:prstGeom>
          <a:ln w="0">
            <a:noFill/>
          </a:ln>
        </p:spPr>
      </p:pic>
      <p:pic>
        <p:nvPicPr>
          <p:cNvPr id="398" name="Содержимое 3" descr=""/>
          <p:cNvPicPr/>
          <p:nvPr/>
        </p:nvPicPr>
        <p:blipFill>
          <a:blip r:embed="rId3"/>
          <a:stretch/>
        </p:blipFill>
        <p:spPr>
          <a:xfrm>
            <a:off x="189000" y="974880"/>
            <a:ext cx="8766000" cy="56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457200" y="164628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01" name="Содержимое 5" descr="images.jpg"/>
          <p:cNvPicPr/>
          <p:nvPr/>
        </p:nvPicPr>
        <p:blipFill>
          <a:blip r:embed="rId4"/>
          <a:stretch/>
        </p:blipFill>
        <p:spPr>
          <a:xfrm>
            <a:off x="5072040" y="2643120"/>
            <a:ext cx="3357720" cy="278604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2" descr="http://bio.1september.ru/2006/05/13.jpg"/>
          <p:cNvPicPr/>
          <p:nvPr/>
        </p:nvPicPr>
        <p:blipFill>
          <a:blip r:embed="rId5"/>
          <a:stretch/>
        </p:blipFill>
        <p:spPr>
          <a:xfrm>
            <a:off x="571680" y="2714760"/>
            <a:ext cx="38574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2"/>
          <a:stretch/>
        </p:blipFill>
        <p:spPr>
          <a:xfrm>
            <a:off x="414360" y="249120"/>
            <a:ext cx="8358120" cy="115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C:\Users\Миргородские\Desktop\imagesCA950EKB.jpg"/>
          <p:cNvPicPr/>
          <p:nvPr/>
        </p:nvPicPr>
        <p:blipFill>
          <a:blip r:embed="rId3"/>
          <a:stretch/>
        </p:blipFill>
        <p:spPr>
          <a:xfrm>
            <a:off x="2143080" y="1857240"/>
            <a:ext cx="4572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C:\Users\Миргородские\Desktop\Урок\imagesCA34P3DM.jpg"/>
          <p:cNvPicPr/>
          <p:nvPr/>
        </p:nvPicPr>
        <p:blipFill>
          <a:blip r:embed="rId3"/>
          <a:stretch/>
        </p:blipFill>
        <p:spPr>
          <a:xfrm>
            <a:off x="714240" y="2357280"/>
            <a:ext cx="3643560" cy="32148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C:\Users\Миргородские\Documents\Мусор\3Belosarayka.jpg"/>
          <p:cNvPicPr/>
          <p:nvPr/>
        </p:nvPicPr>
        <p:blipFill>
          <a:blip r:embed="rId4"/>
          <a:stretch/>
        </p:blipFill>
        <p:spPr>
          <a:xfrm>
            <a:off x="4762440" y="2286000"/>
            <a:ext cx="38102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C:\Users\Миргородские\Desktop\Урок\imagesCAEA1BGO.jpg"/>
          <p:cNvPicPr/>
          <p:nvPr/>
        </p:nvPicPr>
        <p:blipFill>
          <a:blip r:embed="rId3"/>
          <a:stretch/>
        </p:blipFill>
        <p:spPr>
          <a:xfrm>
            <a:off x="571680" y="2428920"/>
            <a:ext cx="3643200" cy="3000240"/>
          </a:xfrm>
          <a:prstGeom prst="rect">
            <a:avLst/>
          </a:prstGeom>
          <a:ln w="0">
            <a:noFill/>
          </a:ln>
        </p:spPr>
      </p:pic>
      <p:pic>
        <p:nvPicPr>
          <p:cNvPr id="410" name="Содержимое 4" descr="78168029_Foto0431.jpg"/>
          <p:cNvPicPr/>
          <p:nvPr/>
        </p:nvPicPr>
        <p:blipFill>
          <a:blip r:embed="rId4"/>
          <a:stretch/>
        </p:blipFill>
        <p:spPr>
          <a:xfrm>
            <a:off x="4648320" y="23954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2"/>
          <a:stretch/>
        </p:blipFill>
        <p:spPr>
          <a:xfrm>
            <a:off x="212760" y="249120"/>
            <a:ext cx="8894880" cy="1165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C:\Users\Миргородские\Desktop\Урок\imagesCAIYX5JP.jpg"/>
          <p:cNvPicPr/>
          <p:nvPr/>
        </p:nvPicPr>
        <p:blipFill>
          <a:blip r:embed="rId3"/>
          <a:stretch/>
        </p:blipFill>
        <p:spPr>
          <a:xfrm>
            <a:off x="500040" y="2428920"/>
            <a:ext cx="3857760" cy="3286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C:\Users\Миргородские\Documents\Мусор\1253258257_hiop_ru_tn.jpg"/>
          <p:cNvPicPr/>
          <p:nvPr/>
        </p:nvPicPr>
        <p:blipFill>
          <a:blip r:embed="rId4"/>
          <a:stretch/>
        </p:blipFill>
        <p:spPr>
          <a:xfrm>
            <a:off x="4648320" y="2428920"/>
            <a:ext cx="40384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C:\Users\Миргородские\Desktop\Урок\imagesCADTDNPZ.jpg"/>
          <p:cNvPicPr/>
          <p:nvPr/>
        </p:nvPicPr>
        <p:blipFill>
          <a:blip r:embed="rId3"/>
          <a:stretch/>
        </p:blipFill>
        <p:spPr>
          <a:xfrm>
            <a:off x="357120" y="2571840"/>
            <a:ext cx="4071960" cy="2786040"/>
          </a:xfrm>
          <a:prstGeom prst="rect">
            <a:avLst/>
          </a:prstGeom>
          <a:ln w="0">
            <a:noFill/>
          </a:ln>
        </p:spPr>
      </p:pic>
      <p:pic>
        <p:nvPicPr>
          <p:cNvPr id="416" name="Содержимое 4" descr="--_1_~1.JPG"/>
          <p:cNvPicPr/>
          <p:nvPr/>
        </p:nvPicPr>
        <p:blipFill>
          <a:blip r:embed="rId4"/>
          <a:stretch/>
        </p:blipFill>
        <p:spPr>
          <a:xfrm>
            <a:off x="4648320" y="2511360"/>
            <a:ext cx="403848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1:14:43Z</dcterms:created>
  <dc:creator>Миргородские</dc:creator>
  <dc:description/>
  <dc:language>en-US</dc:language>
  <cp:lastModifiedBy>Admin</cp:lastModifiedBy>
  <dcterms:modified xsi:type="dcterms:W3CDTF">2012-01-10T12:04:53Z</dcterms:modified>
  <cp:revision>4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16000000000001024140</vt:lpwstr>
  </property>
</Properties>
</file>