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13.jpeg" ContentType="image/jpeg"/>
  <Override PartName="/ppt/media/image23.png" ContentType="image/png"/>
  <Override PartName="/ppt/media/image5.jpeg" ContentType="image/jpeg"/>
  <Override PartName="/ppt/media/image6.png" ContentType="image/png"/>
  <Override PartName="/ppt/media/image31.png" ContentType="image/png"/>
  <Override PartName="/ppt/media/image21.jpeg" ContentType="image/jpeg"/>
  <Override PartName="/ppt/media/image29.png" ContentType="image/png"/>
  <Override PartName="/ppt/media/image1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30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20.png" ContentType="image/png"/>
  <Override PartName="/ppt/media/image2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FD35-C197-432E-9339-D6FB6E958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9CFA-E600-4D83-BDDE-C937ACFC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78A5A2-3A9E-4B41-B030-72DC78FC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35B92F-6E59-48E7-A19F-CDEF982A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0E863F-0F31-408A-A03F-83D8A840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9919A7-B040-43A2-95D8-21BAD6A8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59535D-FE71-462A-9570-82ADD88E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BFCB28-8504-4868-A48A-98D26189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45AFA2-45E2-445C-94D5-6652B636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00A30F-E98D-498B-AD09-C6B2C505C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849682-EED4-4C99-A0BF-2938FFAE6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4319-04B8-436A-BB7E-DCBC3098A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9557-868A-4C22-9CC0-2F2091FA3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96FC8-22CD-4E9B-982C-32B64DD62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F7283-80C7-44E4-9695-0CCEED47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22FEF-4882-4D84-865D-145CC5DC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26E62-7B49-4F1E-8EBD-8DA1E2B5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B38C59-654A-4756-B237-E19B1915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11066F-18FC-4125-A087-114480E0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9D284-0E1C-4232-AE52-D3D4C7EC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EEB0-0FDE-46AC-9689-14A134DB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0D807-8C3B-4D99-BDC6-74C7E652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76DD8-A252-40ED-8168-542542ED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07052-C15C-4677-85D2-C73CC5CD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287009-9D4E-4D55-B6AC-BFA2963DC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D8CD8-4A2F-456D-BC2A-C91CE2963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3B352-64EE-44B0-ACBD-6FA9B989E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C9FB4-CC23-4F49-8AE4-AA46E457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2F07B-D0B2-4465-BBE3-A7BBFFB0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E7A80-FE60-434B-8161-EDDC1391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13E0B-A635-4E2F-895D-166A0509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7BD2-4B48-453B-9DEB-CCFCD34E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44CF8-51A1-4C7B-A825-532EA3BF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C1D7D-B664-45B5-BD9E-91E395B1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D2FA6-B817-45AC-B573-A1EF68D4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ED6E1-9AF7-4CA9-8E58-67DB81A7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E1F05-6F55-47AA-92FA-1A6E6A9D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C6285-BA7C-4709-B51B-D0596B5E7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C504E-B6B8-405E-84A0-5401946C0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B68AA7-7186-44AF-ACCF-CDCA5ECF4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ADF90D-6DD3-4C48-93B1-06C55D19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282909-BE22-493F-95DC-6440E921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F4F3-E23A-42DE-BA14-9514C15A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D5FF54-9853-40AE-B514-1DFB7009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48CAE4-3C2B-4EBC-B579-F2989419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A2526B-F0C4-4515-8D9D-709276B8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74118C-2349-4459-BD2C-96F14129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528BB8-172E-4F05-8F2A-A3E09057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3DF80C-E825-49D9-8FFF-FAAF1D76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F2483F-D4C2-4656-B551-E6B03AF2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FC2A55-4BC0-4E0E-BA45-CB2202E48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ACD85C-8456-457F-A8B7-242ADC75F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3F914-8C38-4F59-8EF0-B0B1DBD78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69EE-E834-4A55-B1ED-D0119006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884FD-C947-4AC2-892C-167E090E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B354C-38D6-4FE0-B554-B7C6B46F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03089-8C79-48B4-9E32-55E6401B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557A0-C487-4A95-B1AB-47403DB4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3F004-F0F9-4332-8F33-F3132250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37BC5-D476-4389-AFE3-2FFB35E9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8DD4B-D7ED-4598-BE60-198DE1D9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9A28C-2393-4567-BFFD-B41C99D1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38D42-0AB7-484B-9C27-D9F1E5F4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8263D-02AB-41A1-979C-B1146451A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C220-4A42-4AE9-958C-24FFA0E6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5DEFE-E33C-4482-B38C-A5E2B42DA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667FA-BC3C-45FA-ADA3-586EDF635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3DDEA-98E4-4B82-96C9-4AC05AF6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D4867-B54E-4245-A815-CACA273C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C6AD4-9345-4A47-A0B4-4F77DF39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90AEE-EC9F-4E9A-9305-13112E57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E2856-EDE9-475D-A7DB-EC3478A3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1883C-CE61-4512-80D3-E9D89824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D043D-0C95-4709-9404-375A7240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CC822-B67E-47BC-8B27-7BF044B1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F04D-B0D0-4C6B-A379-9F10DCEF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BC845-B6B1-4161-8E6B-5103628F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B03E4-5DEA-44A1-8B11-37D46CB89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2247E-999B-4B00-A7BD-0CF706F6A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CFFF6-53C4-40FC-AB96-31242A7CD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1C1FF-3FEE-4D19-A49C-DF530790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16844-06DC-44F2-B345-B80D7096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DA11D-53C5-4319-A14E-B1B417B1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066C7-5CE6-4BD6-9CCA-A4A1A3A1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86B20-8D35-4DF9-8555-4F670282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0B1A4-C8E2-484B-B174-71999814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4D96-C1DD-43CA-9EA3-6A496A20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0D218-3452-4247-884A-0E746771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29308-1BD0-4205-A3FF-F34A1307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ADDBE-6462-48E4-913F-039FB355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1C424-1AEF-4505-A619-49C2D3BB5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493C3-42EA-4D47-91D7-B2EA57DE7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68650C-4302-4FA2-882A-C1F786827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6FD3CC-675B-4084-AB89-13969D2B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FB1230-BDFF-446A-AA69-508A2B3A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908F6B-2903-43BC-B0A3-62D826C0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F47BF0-F688-410C-A014-677CAB7A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197C-63D3-4236-A61C-6432326A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92FEC9-1F22-4EBE-8348-16B57A17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E53223-9BDF-4D47-A44B-61AEC7C2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B534CB-D1E8-4686-B3AF-296ED6C3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388EA9-9B1C-4DCE-A4DA-8FA3D6D3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07FCFC-48CE-44DA-915B-CE627139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425D49-1FEC-4B5C-8999-15D30D7BD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E4AF6B-0CA7-417E-BDA8-8FE611599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FD1069-6C21-4EE6-9C79-8AB94FB98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41E5C2-7F61-4BD2-A949-1975DFBB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CBDF6F-2DA4-468B-A29A-30D932BA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5CC1-5F0F-4846-8F5E-B6D8D8B814C7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DC17-81C7-4CFE-A40D-1C1879BE39B7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91" name="Прямоугольник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E5B2-3B89-479E-87AE-C0C864268C2C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6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80A6-371D-434A-9991-07359672BFEF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178" name="Прямоугольник 9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063B-8845-46FF-8B24-44128058DCE8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23" name="Прямоугольник 9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Прямоугольник 10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6DAB-D91B-47D9-8AFB-11BAAE2F3A47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69" name="Прямоугольник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50F6-C956-4144-80AE-C6B916A3F338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926E-2A50-475F-A8BD-941EACBD89DB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1EB3-785F-44EE-9BDD-BD15D6B5BC63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2"/>
          <a:stretch/>
        </p:blipFill>
        <p:spPr>
          <a:xfrm>
            <a:off x="274680" y="378000"/>
            <a:ext cx="8424720" cy="22428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160"/>
            <a:ext cx="6559560" cy="260964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4352a"/>
                </a:solidFill>
                <a:latin typeface="Cambria"/>
              </a:rPr>
              <a:t>Авторская слайдопрезентация  к уроку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34352a"/>
                </a:solidFill>
                <a:latin typeface="Cambria"/>
              </a:rPr>
              <a:t>учитель Миргородская Е.В</a:t>
            </a:r>
            <a:r>
              <a:rPr b="0" lang="uk-UA" sz="2700" spc="-1" strike="noStrike">
                <a:solidFill>
                  <a:srgbClr val="45472b"/>
                </a:solidFill>
                <a:latin typeface="Cambria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2"/>
          <a:stretch/>
        </p:blipFill>
        <p:spPr>
          <a:xfrm>
            <a:off x="450720" y="-73080"/>
            <a:ext cx="8242560" cy="14810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C:\Users\Миргородские\Desktop\Урок\imagesCAE23CSB.jpg"/>
          <p:cNvPicPr/>
          <p:nvPr/>
        </p:nvPicPr>
        <p:blipFill>
          <a:blip r:embed="rId3"/>
          <a:stretch/>
        </p:blipFill>
        <p:spPr>
          <a:xfrm>
            <a:off x="571680" y="2428920"/>
            <a:ext cx="3857400" cy="33573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" descr="C:\Users\Миргородские\Desktop\Урок\imagesCAH5FA4W.jpg"/>
          <p:cNvPicPr/>
          <p:nvPr/>
        </p:nvPicPr>
        <p:blipFill>
          <a:blip r:embed="rId4"/>
          <a:stretch/>
        </p:blipFill>
        <p:spPr>
          <a:xfrm>
            <a:off x="5000760" y="2500200"/>
            <a:ext cx="34290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2"/>
          <a:stretch/>
        </p:blipFill>
        <p:spPr>
          <a:xfrm>
            <a:off x="450720" y="-73080"/>
            <a:ext cx="8242560" cy="1481040"/>
          </a:xfrm>
          <a:prstGeom prst="rect">
            <a:avLst/>
          </a:prstGeom>
          <a:ln w="0">
            <a:noFill/>
          </a:ln>
        </p:spPr>
      </p:pic>
      <p:pic>
        <p:nvPicPr>
          <p:cNvPr id="421" name="Содержимое 3" descr="4610477348ec.jpg"/>
          <p:cNvPicPr/>
          <p:nvPr/>
        </p:nvPicPr>
        <p:blipFill>
          <a:blip r:embed="rId3"/>
          <a:stretch/>
        </p:blipFill>
        <p:spPr>
          <a:xfrm>
            <a:off x="2022480" y="1646280"/>
            <a:ext cx="5099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2"/>
          <a:stretch/>
        </p:blipFill>
        <p:spPr>
          <a:xfrm>
            <a:off x="450720" y="-73080"/>
            <a:ext cx="8614080" cy="14810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Users\Миргородские\Desktop\Урок\images.jpg"/>
          <p:cNvPicPr/>
          <p:nvPr/>
        </p:nvPicPr>
        <p:blipFill>
          <a:blip r:embed="rId3"/>
          <a:stretch/>
        </p:blipFill>
        <p:spPr>
          <a:xfrm>
            <a:off x="2286000" y="1857240"/>
            <a:ext cx="4857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"/>
          <p:cNvPicPr/>
          <p:nvPr/>
        </p:nvPicPr>
        <p:blipFill>
          <a:blip r:embed="rId2"/>
          <a:stretch/>
        </p:blipFill>
        <p:spPr>
          <a:xfrm>
            <a:off x="428760" y="500040"/>
            <a:ext cx="83581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Заголовок 1" descr=""/>
          <p:cNvPicPr/>
          <p:nvPr/>
        </p:nvPicPr>
        <p:blipFill>
          <a:blip r:embed="rId2"/>
          <a:stretch/>
        </p:blipFill>
        <p:spPr>
          <a:xfrm>
            <a:off x="450720" y="-19080"/>
            <a:ext cx="8541000" cy="963720"/>
          </a:xfrm>
          <a:prstGeom prst="rect">
            <a:avLst/>
          </a:prstGeom>
          <a:ln w="0">
            <a:noFill/>
          </a:ln>
        </p:spPr>
      </p:pic>
      <p:pic>
        <p:nvPicPr>
          <p:cNvPr id="398" name="Содержимое 3" descr=""/>
          <p:cNvPicPr/>
          <p:nvPr/>
        </p:nvPicPr>
        <p:blipFill>
          <a:blip r:embed="rId3"/>
          <a:stretch/>
        </p:blipFill>
        <p:spPr>
          <a:xfrm>
            <a:off x="189000" y="974880"/>
            <a:ext cx="8766000" cy="56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2"/>
          <a:stretch/>
        </p:blipFill>
        <p:spPr>
          <a:xfrm>
            <a:off x="450720" y="-73080"/>
            <a:ext cx="8242560" cy="148104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3"/>
          <a:stretch/>
        </p:blipFill>
        <p:spPr>
          <a:xfrm>
            <a:off x="457200" y="164628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401" name="Содержимое 5" descr="images.jpg"/>
          <p:cNvPicPr/>
          <p:nvPr/>
        </p:nvPicPr>
        <p:blipFill>
          <a:blip r:embed="rId4"/>
          <a:stretch/>
        </p:blipFill>
        <p:spPr>
          <a:xfrm>
            <a:off x="5072040" y="2643120"/>
            <a:ext cx="3357720" cy="2786040"/>
          </a:xfrm>
          <a:prstGeom prst="rect">
            <a:avLst/>
          </a:prstGeom>
          <a:ln w="0">
            <a:noFill/>
          </a:ln>
        </p:spPr>
      </p:pic>
      <p:pic>
        <p:nvPicPr>
          <p:cNvPr id="402" name="Рисунок 2" descr="http://bio.1september.ru/2006/05/13.jpg"/>
          <p:cNvPicPr/>
          <p:nvPr/>
        </p:nvPicPr>
        <p:blipFill>
          <a:blip r:embed="rId5"/>
          <a:stretch/>
        </p:blipFill>
        <p:spPr>
          <a:xfrm>
            <a:off x="571680" y="2714760"/>
            <a:ext cx="38574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2"/>
          <a:stretch/>
        </p:blipFill>
        <p:spPr>
          <a:xfrm>
            <a:off x="414360" y="249120"/>
            <a:ext cx="8358120" cy="11588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C:\Users\Миргородские\Desktop\imagesCA950EKB.jpg"/>
          <p:cNvPicPr/>
          <p:nvPr/>
        </p:nvPicPr>
        <p:blipFill>
          <a:blip r:embed="rId3"/>
          <a:stretch/>
        </p:blipFill>
        <p:spPr>
          <a:xfrm>
            <a:off x="2143080" y="1857240"/>
            <a:ext cx="4572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C:\Users\Миргородские\Desktop\Урок\imagesCA34P3DM.jpg"/>
          <p:cNvPicPr/>
          <p:nvPr/>
        </p:nvPicPr>
        <p:blipFill>
          <a:blip r:embed="rId3"/>
          <a:stretch/>
        </p:blipFill>
        <p:spPr>
          <a:xfrm>
            <a:off x="714240" y="2357280"/>
            <a:ext cx="3643560" cy="32148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" descr="C:\Users\Миргородские\Documents\Мусор\3Belosarayka.jpg"/>
          <p:cNvPicPr/>
          <p:nvPr/>
        </p:nvPicPr>
        <p:blipFill>
          <a:blip r:embed="rId4"/>
          <a:stretch/>
        </p:blipFill>
        <p:spPr>
          <a:xfrm>
            <a:off x="4762440" y="2286000"/>
            <a:ext cx="38102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" descr="C:\Users\Миргородские\Desktop\Урок\imagesCAEA1BGO.jpg"/>
          <p:cNvPicPr/>
          <p:nvPr/>
        </p:nvPicPr>
        <p:blipFill>
          <a:blip r:embed="rId3"/>
          <a:stretch/>
        </p:blipFill>
        <p:spPr>
          <a:xfrm>
            <a:off x="571680" y="2428920"/>
            <a:ext cx="3643200" cy="3000240"/>
          </a:xfrm>
          <a:prstGeom prst="rect">
            <a:avLst/>
          </a:prstGeom>
          <a:ln w="0">
            <a:noFill/>
          </a:ln>
        </p:spPr>
      </p:pic>
      <p:pic>
        <p:nvPicPr>
          <p:cNvPr id="410" name="Содержимое 4" descr="78168029_Foto0431.jpg"/>
          <p:cNvPicPr/>
          <p:nvPr/>
        </p:nvPicPr>
        <p:blipFill>
          <a:blip r:embed="rId4"/>
          <a:stretch/>
        </p:blipFill>
        <p:spPr>
          <a:xfrm>
            <a:off x="4648320" y="23954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2"/>
          <a:stretch/>
        </p:blipFill>
        <p:spPr>
          <a:xfrm>
            <a:off x="212760" y="249120"/>
            <a:ext cx="8894880" cy="11653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" descr="C:\Users\Миргородские\Desktop\Урок\imagesCAIYX5JP.jpg"/>
          <p:cNvPicPr/>
          <p:nvPr/>
        </p:nvPicPr>
        <p:blipFill>
          <a:blip r:embed="rId3"/>
          <a:stretch/>
        </p:blipFill>
        <p:spPr>
          <a:xfrm>
            <a:off x="500040" y="2428920"/>
            <a:ext cx="3857760" cy="32860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" descr="C:\Users\Миргородские\Documents\Мусор\1253258257_hiop_ru_tn.jpg"/>
          <p:cNvPicPr/>
          <p:nvPr/>
        </p:nvPicPr>
        <p:blipFill>
          <a:blip r:embed="rId4"/>
          <a:stretch/>
        </p:blipFill>
        <p:spPr>
          <a:xfrm>
            <a:off x="4648320" y="2428920"/>
            <a:ext cx="40384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2"/>
          <a:stretch/>
        </p:blipFill>
        <p:spPr>
          <a:xfrm>
            <a:off x="450720" y="-73080"/>
            <a:ext cx="8242560" cy="14810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" descr="C:\Users\Миргородские\Desktop\Урок\imagesCADTDNPZ.jpg"/>
          <p:cNvPicPr/>
          <p:nvPr/>
        </p:nvPicPr>
        <p:blipFill>
          <a:blip r:embed="rId3"/>
          <a:stretch/>
        </p:blipFill>
        <p:spPr>
          <a:xfrm>
            <a:off x="357120" y="2571840"/>
            <a:ext cx="4071960" cy="2786040"/>
          </a:xfrm>
          <a:prstGeom prst="rect">
            <a:avLst/>
          </a:prstGeom>
          <a:ln w="0">
            <a:noFill/>
          </a:ln>
        </p:spPr>
      </p:pic>
      <p:pic>
        <p:nvPicPr>
          <p:cNvPr id="416" name="Содержимое 4" descr="--_1_~1.JPG"/>
          <p:cNvPicPr/>
          <p:nvPr/>
        </p:nvPicPr>
        <p:blipFill>
          <a:blip r:embed="rId4"/>
          <a:stretch/>
        </p:blipFill>
        <p:spPr>
          <a:xfrm>
            <a:off x="4648320" y="2511360"/>
            <a:ext cx="403848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11:14:43Z</dcterms:created>
  <dc:creator>Миргородские</dc:creator>
  <dc:description/>
  <dc:language>en-US</dc:language>
  <cp:lastModifiedBy>Admin</cp:lastModifiedBy>
  <dcterms:modified xsi:type="dcterms:W3CDTF">2012-01-10T12:04:53Z</dcterms:modified>
  <cp:revision>4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016000000000001024140</vt:lpwstr>
  </property>
</Properties>
</file>