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486-4013-4B7A-85FA-6818B22E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C42-877B-4AD3-920D-9E298B38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BC07B-FC3C-45B1-A49C-86072682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66B6E-B433-4867-A4C8-FFFF60C2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82EA4-C789-41D4-922A-CBFE9CF5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6037C-1AC7-4F56-83E9-F0A37E97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C2A2D-1653-48FA-8C4D-60AEFC0D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DB455-8571-4D6B-8233-F68A2EF3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DE0E9-677C-4A38-BB44-BC1138C1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79092-E1CA-4B5F-B7AA-DC84F479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CC9C4-0A30-41B9-B9DD-8B2EDC46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787FE-900C-4782-AC3E-B57BFC3E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7724-0FE6-4F99-974A-B18E373E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CDEF0-6DA4-462B-BCD5-5BB49BE3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A2D97-5CE7-489E-BA78-9F349459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8E4AA-03AF-4AED-A8CF-D57623F8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F512B-DF28-42F9-AB59-4246A599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AB1BC-4C5C-4204-A7AA-6E92CF8D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BF5E8-13A7-4030-AB77-17B64094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12A9C-FFFB-4603-8388-5E981FF5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D86E5-CDE1-42FC-B186-093FC2CD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BDC9D-9EB8-4891-BBAF-FCE0D13A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9EF5F-D7CC-41B2-A97D-FB0BD90C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AFE2-0369-42E7-848C-FA324B8D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35B26-4C0B-40C5-B2C7-46802087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08E79-EB2B-4878-A39B-59A1D40A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C9D19-BDF3-48FA-AAA1-427FB7D7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B082A-944F-44C4-897F-701107BC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4AEE8-EB3E-4C80-8765-AC05A5EE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5E297-C8CF-425B-B669-E569FEED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D7F7F-435B-4A94-84BC-60EE301C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D176E-47B3-447D-96A9-9ABDC5D6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BD23C-A2C0-4C77-A59E-EC25B015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18E23-A9A1-4598-9529-C4A66259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E1D0-ECAC-4A80-8FC8-46B1AF07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81884-1F33-44C4-8E5F-5749FFA8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8E3B6-CF63-414E-961B-7676A192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696EB-69B2-4914-A7AA-FB5F7F1C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A12B1-D769-4769-895D-87963C7A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CA36B-F250-44AC-A141-A240F32E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C5D9F-ABC8-4E0D-824F-6F5B68E3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078AE-69C0-4915-8B6F-C6CC74F0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2AAD6-5461-4E77-8C37-02B20A0A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D0A67-CB0E-4334-B368-4212D5C1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8C08B-278F-4E77-B724-DF93FA8A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12E2-94A0-4334-9AEB-D2FA4E11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DECD8-991E-4D67-A1F8-F2CF6986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A4500-E3C3-4034-85B3-12623E58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89A59-3413-4BBF-9CD7-05D5B0A7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F4E3B-E1DD-4E82-9521-C85C82CB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51992-0112-4CF9-82B4-268F5B5A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44F4-FFDC-43D2-91F8-C6E9B3CE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A96E-1124-479E-AD2C-B64B816D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189C-0BA5-4F54-A34A-2FF6143B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F3E1-07D1-4956-A7C4-05176CD8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20FE-0158-4948-9A82-12254967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C3F-C8CE-4B91-865F-057B405B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D63C-42A0-4579-B41C-C5F31503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4B29-9B20-44F2-93AF-F0994FA5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7D39-01F5-4428-8BF3-E3981559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AFB9-B4FF-4B21-B856-94309BC2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9531-DC92-4C97-B9BF-587EA5EE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39119-75C6-43DF-9649-82A1DAE5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AA617-F429-4E3E-86C4-E77343AF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8A1E5-31B0-4609-938F-CF2981F8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B767C-44DB-4FEA-B78E-AA48910C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8FD00-F38D-42BC-87BC-E0AE55E8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786B-2AB4-4F8B-B588-21A97E60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A9CDA-5066-48DA-8958-0EE99156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57659-664E-43D5-AADC-C7D674A2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9763B-4D87-4FC1-BBB3-6524B03A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3A581-E615-4B8C-9510-C3B8DC3A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F2434-C400-47E4-8EC9-38311296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42C4F-4BFE-4008-9B07-641E8DA6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CD064-8BFD-4D37-9421-ABAF51A5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60D63-B8D9-4E65-8309-1F0DD1A3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5B807-0722-4F9A-B3CE-6A2E17CD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F5545-407A-4502-B7CB-550941CA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211-CC6D-4543-BD33-DB10213D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887CF-8BFE-4888-953B-200EEBF1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D70AE-D652-4D93-8E01-E9152681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26870-0DD5-45A9-ABD7-D0F50B1C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9C2E1-771A-4654-9A52-810FC6A5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A24CE-4612-4DB6-ACC0-A7289C4B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CB4E3-70B9-49A5-A93D-47D100BF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F0F39-9CBD-4087-8E16-B4E3AB97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9D2F4-B8C1-45BD-A61F-FCC7EF51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0E170-9D84-4B6C-AE1C-24A7EFBA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EF1F8-15D6-4CDD-BF29-FC4AB634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8C0-E0D1-4BBD-A0C5-528DC63E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14675-A24B-47A2-AB4E-39A9C6CF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583F3-82BB-48FD-9A4F-63493D4C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E8048-61E7-40A5-8628-09D1053F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D52CD-B3F8-4615-BDEA-F6FC5423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351B0-3AF0-4977-A7D8-6329D077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8777F-1EE3-4F66-AFAC-B1258F8E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5473B-D9D6-4A35-B320-AAEA78A7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0CFE3-3B63-4FBD-9788-9B8C916B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01206-B76A-4CF9-9541-09C38ECD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E1357-64DB-4111-9C1B-B26041B9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481E-A65F-4E6D-8E17-678B2B6A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C9AB2-5488-472B-8A34-34D9FD7F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11ABD-1EF4-4FAD-AEEE-BD6C6E0C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EB991-93B8-4B4D-8915-C4F277D4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CC56D-E0AB-4DCD-B30C-36469564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38517-1396-4D9E-BD4F-3DF79890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39132-F34E-4155-B246-425951D2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EB850-E9E8-4139-86AD-E831FD0C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42719-1299-4B95-8F96-80BAA495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EB908-3B61-4EB8-BC72-46482104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B7DB5-E367-4204-B0A6-8E88AEFB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09C-18D8-45F0-8E99-9D000294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11A2A-6310-4FB1-B0EF-492D4DA9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48EAA-95F9-476B-963F-10CD618D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FC007-A668-418D-98D7-90C9C3A0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BA603-8D28-459B-B24D-5F4CEE1B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89F96-EA72-487A-805D-1C3AD841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9BA6F-0978-4C0E-94A0-DD134E22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A6F30-06E7-4ABA-959A-4448F886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27686-322E-4836-8274-A002EC2E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63C3F-C40B-4D8C-9D74-B68B05CD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E46D7-968E-4461-8488-F62DC002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B2B3-82D1-4BB1-9D61-23C06878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69698-D50D-44B1-B1C3-5E072AC8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23568-ED3F-4B65-89C9-41788114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3B3B0-926E-4409-A789-A8C04778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39BB0-2FEC-4274-BF7A-22C1AE78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C72C6-CA6B-4623-88BE-6FAA842A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DB50F-CD1A-44E3-B8BE-1A2BCD60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587E3-D002-493A-944B-16873AB3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6C24A-E3A5-4899-A829-F87CA192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80A63-25A1-48B2-8019-8F71A91E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D72A0-3104-4FBA-9173-52D69DF1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C0F-DCB1-45F0-BA56-3759DC71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9AA65-86E0-4D6B-BFE8-C2E535B5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E94FF-55D5-477A-9AE9-C9858414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FA9D9-502A-435B-8A3E-FBA227CF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6627A-8F13-428A-8B21-9A102A0C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672C0-4AFA-426B-941E-DA27389F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42B7E-8541-45C0-A11A-394BBB97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3CFBE-256E-4AF0-A9E2-536F622E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4027C-A15D-48AB-94D3-712E17A0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47AC3-9487-4479-876A-A32A55A3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71E3B-4B8D-4D23-A946-E47342E3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malves\AppData\Local\Microsoft\Windows\Temporary Internet Files\Content.IE5\55ZM5Y71\MPj04277260000[1].jpg"/>
          <p:cNvPicPr/>
          <p:nvPr/>
        </p:nvPicPr>
        <p:blipFill>
          <a:blip r:embed="rId2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C7C9-8B2D-4A7A-809A-E8759C18475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C:\Users\malves\AppData\Local\Microsoft\Windows\Temporary Internet Files\Content.IE5\55ZM5Y71\MPj04277260000[1].jpg"/>
          <p:cNvPicPr/>
          <p:nvPr/>
        </p:nvPicPr>
        <p:blipFill>
          <a:blip r:embed="rId2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8DCD-DA5F-44BE-B798-31611E56D5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3" descr="C:\Users\malves\AppData\Local\Microsoft\Windows\Temporary Internet Files\Content.IE5\55ZM5Y71\MPj04277260000[1].jpg"/>
          <p:cNvPicPr/>
          <p:nvPr/>
        </p:nvPicPr>
        <p:blipFill>
          <a:blip r:embed="rId2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C066-F9B4-464C-8F24-270945F185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C:\Users\malves\AppData\Local\Microsoft\Windows\Temporary Internet Files\Content.IE5\55ZM5Y71\MPj04277260000[1].jpg"/>
          <p:cNvPicPr/>
          <p:nvPr/>
        </p:nvPicPr>
        <p:blipFill>
          <a:blip r:embed="rId2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2AB2-D0F4-4C54-AC9A-3BC3AF35C30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malves\AppData\Local\Microsoft\Windows\Temporary Internet Files\Content.IE5\55ZM5Y71\MPj04277260000[1].jpg"/>
          <p:cNvPicPr/>
          <p:nvPr/>
        </p:nvPicPr>
        <p:blipFill>
          <a:blip r:embed="rId2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8C2B-B945-4505-8F81-2033FA6A5A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:\Users\malves\AppData\Local\Microsoft\Windows\Temporary Internet Files\Content.IE5\55ZM5Y71\MPj04277260000[1].jpg"/>
          <p:cNvPicPr/>
          <p:nvPr/>
        </p:nvPicPr>
        <p:blipFill>
          <a:blip r:embed="rId2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E734-2560-4C0B-BAFB-8773CE7FE2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C:\Users\malves\AppData\Local\Microsoft\Windows\Temporary Internet Files\Content.IE5\55ZM5Y71\MPj04277260000[1].jpg"/>
          <p:cNvPicPr/>
          <p:nvPr/>
        </p:nvPicPr>
        <p:blipFill>
          <a:blip r:embed="rId2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E6E8-B592-498D-89D9-78DE3CC03B4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C:\Users\malves\AppData\Local\Microsoft\Windows\Temporary Internet Files\Content.IE5\55ZM5Y71\MPj04277260000[1].jpg"/>
          <p:cNvPicPr/>
          <p:nvPr/>
        </p:nvPicPr>
        <p:blipFill>
          <a:blip r:embed="rId2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8310-2FD4-4EDC-901E-C697DC2814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C:\Users\malves\AppData\Local\Microsoft\Windows\Temporary Internet Files\Content.IE5\55ZM5Y71\MPj04277260000[1].jpg"/>
          <p:cNvPicPr/>
          <p:nvPr/>
        </p:nvPicPr>
        <p:blipFill>
          <a:blip r:embed="rId2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6DC9-4CFA-4452-A216-626E4B6133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C:\Users\malves\AppData\Local\Microsoft\Windows\Temporary Internet Files\Content.IE5\55ZM5Y71\MPj04277260000[1].jpg"/>
          <p:cNvPicPr/>
          <p:nvPr/>
        </p:nvPicPr>
        <p:blipFill>
          <a:blip r:embed="rId2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8952-2BE9-4179-89A3-586AACCEF0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C:\Users\malves\AppData\Local\Microsoft\Windows\Temporary Internet Files\Content.IE5\55ZM5Y71\MPj04277260000[1].jpg"/>
          <p:cNvPicPr/>
          <p:nvPr/>
        </p:nvPicPr>
        <p:blipFill>
          <a:blip r:embed="rId2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3C57-3907-4BB5-BACD-2FE14AED1B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C:\Users\malves\AppData\Local\Microsoft\Windows\Temporary Internet Files\Content.IE5\55ZM5Y71\MPj04277260000[1].jpg"/>
          <p:cNvPicPr/>
          <p:nvPr/>
        </p:nvPicPr>
        <p:blipFill>
          <a:blip r:embed="rId2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F698-F9A1-4037-A0C0-25B5E10D05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292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рок систематизации и обобщения изученного материала в 7 класс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 использованием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нтерактивных технологи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 теме: «Размножение и развитие растений»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читель биологии ОШ № 2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вягина Людмила Клавдиевн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.Краматорск Донецкая обла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2743200" y="2642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2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wipe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пространение плодов и семя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6059520" y="1125360"/>
            <a:ext cx="3084480" cy="26816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"/>
          <p:cNvPicPr/>
          <p:nvPr/>
        </p:nvPicPr>
        <p:blipFill>
          <a:blip r:embed="rId2"/>
          <a:stretch/>
        </p:blipFill>
        <p:spPr>
          <a:xfrm>
            <a:off x="3780000" y="3781440"/>
            <a:ext cx="3809880" cy="3076560"/>
          </a:xfrm>
          <a:prstGeom prst="rect">
            <a:avLst/>
          </a:prstGeom>
          <a:ln w="0">
            <a:noFill/>
          </a:ln>
        </p:spPr>
      </p:pic>
      <p:pic>
        <p:nvPicPr>
          <p:cNvPr id="528" name="Содержимое 3" descr="ветром.jpg"/>
          <p:cNvPicPr/>
          <p:nvPr/>
        </p:nvPicPr>
        <p:blipFill>
          <a:blip r:embed="rId3">
            <a:alphaModFix amt="91000"/>
          </a:blip>
          <a:stretch/>
        </p:blipFill>
        <p:spPr>
          <a:xfrm>
            <a:off x="1763640" y="1341360"/>
            <a:ext cx="4038840" cy="2560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4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203640" y="333000"/>
            <a:ext cx="8229600" cy="1143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 по уро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187280" y="2332080"/>
            <a:ext cx="8229600" cy="452592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стения могут размножаться вегетативным и генеративным способами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егетативный способ: усы, черенки, глазки и т.д.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Генеративный способ: цветки, плоды, семена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wipe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19280" y="1557000"/>
            <a:ext cx="8229600" cy="1143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лан осмысления изученного материала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619280" y="1557360"/>
            <a:ext cx="8229600" cy="452592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егетативное размножение Растений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троение цветка. 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пыление и оплодотворение у растений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емя и плод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спространение плодов и семян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708360" y="188640"/>
            <a:ext cx="8229600" cy="1143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492360" y="2332080"/>
            <a:ext cx="8229600" cy="452592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оздать собственную 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езентацию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 растениях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идумать   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тихотворение о цветах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wipe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8229600" cy="1143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роение цветочно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генеративной) поч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Содержимое 3" descr="поцки цв.jpg"/>
          <p:cNvPicPr/>
          <p:nvPr/>
        </p:nvPicPr>
        <p:blipFill>
          <a:blip r:embed="rId1">
            <a:alphaModFix amt="91000"/>
          </a:blip>
          <a:stretch/>
        </p:blipFill>
        <p:spPr>
          <a:xfrm>
            <a:off x="3203640" y="1484280"/>
            <a:ext cx="5756040" cy="521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59280" y="259920"/>
            <a:ext cx="8229600" cy="1143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гетативно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множение раст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Содержимое 3" descr="вегет.gif"/>
          <p:cNvPicPr/>
          <p:nvPr/>
        </p:nvPicPr>
        <p:blipFill>
          <a:blip r:embed="rId1">
            <a:alphaModFix amt="91000"/>
          </a:blip>
          <a:stretch/>
        </p:blipFill>
        <p:spPr>
          <a:xfrm>
            <a:off x="2700360" y="1382760"/>
            <a:ext cx="6443640" cy="547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8229600" cy="1143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258920" y="1628640"/>
            <a:ext cx="8229600" cy="478152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При чрезмерном разрастании листьев и ветвей томатов в парниках часть листьев удаляют. Очень часто такую процедуру проводят многократно, особенно ближе к концу лета. С какой целью человек осуществляет эту травмирующую растения операцию?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Почему растения, цветущие в ночное время суток, обычно имеют либо крупные ярко окрашенные венчики цветков (часто белой или желтой окраски), либо обладают сильным ароматом? 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             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8229600" cy="1143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оение цвет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Содержимое 3" descr="цветок3.jpg"/>
          <p:cNvPicPr/>
          <p:nvPr/>
        </p:nvPicPr>
        <p:blipFill>
          <a:blip r:embed="rId1">
            <a:alphaModFix amt="91000"/>
          </a:blip>
          <a:stretch/>
        </p:blipFill>
        <p:spPr>
          <a:xfrm>
            <a:off x="2987640" y="1628640"/>
            <a:ext cx="615636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229600" cy="1143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лассификация плод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4039920" cy="63972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ухие плоды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520" name="Содержимое 3" descr="расселение семян.gif"/>
          <p:cNvPicPr/>
          <p:nvPr/>
        </p:nvPicPr>
        <p:blipFill>
          <a:blip r:embed="rId1">
            <a:alphaModFix amt="91000"/>
          </a:blip>
          <a:stretch/>
        </p:blipFill>
        <p:spPr>
          <a:xfrm>
            <a:off x="1098720" y="2174760"/>
            <a:ext cx="3544560" cy="46674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очные плоды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522" name="Содержимое 7" descr="фрукты.jpeg"/>
          <p:cNvPicPr/>
          <p:nvPr/>
        </p:nvPicPr>
        <p:blipFill>
          <a:blip r:embed="rId2">
            <a:alphaModFix amt="91000"/>
          </a:blip>
          <a:stretch/>
        </p:blipFill>
        <p:spPr>
          <a:xfrm>
            <a:off x="4761000" y="2525760"/>
            <a:ext cx="4383000" cy="4071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635280" y="259920"/>
            <a:ext cx="8229600" cy="1143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гад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979640" y="1628640"/>
            <a:ext cx="6913440" cy="4104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7f7f7f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Я на розу так похож,                                                                 С колпачком на голове,</a:t>
            </a: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Разве что не так хорош.                                                           Будто в путь готовый,</a:t>
            </a: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Но зато мои плоды                                                                    Он скрывается в листве</a:t>
            </a: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Всем пригодны для еды.                                                          Дуба золотого.</a:t>
            </a: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              </a:t>
            </a: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Он совсем не хрупкий.                                                              Подмигнёт тебе украдкой</a:t>
            </a: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Спрятался в скорлупке                                                              Из травы фонарик сладкий.</a:t>
            </a: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Заглянешь в середину -                                                             </a:t>
            </a: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Увидишь сердцевину.</a:t>
            </a: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Из плодов он твёрже всех,</a:t>
            </a: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Называется ….                                                                     Синий мундир,</a:t>
            </a: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Жёлтая подкладка, </a:t>
            </a: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А в середине – сладко.</a:t>
            </a: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7f7f7f"/>
                </a:solidFill>
                <a:latin typeface="Calibri"/>
              </a:rPr>
              <a:t>                                                                                                  </a:t>
            </a:r>
            <a:endParaRPr b="0" lang="en-US" sz="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wipe dir="d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18:46:39Z</dcterms:created>
  <dc:creator>Admin</dc:creator>
  <dc:description/>
  <dc:language>en-US</dc:language>
  <cp:lastModifiedBy>Admin</cp:lastModifiedBy>
  <dcterms:modified xsi:type="dcterms:W3CDTF">2011-11-02T09:00:50Z</dcterms:modified>
  <cp:revision>12</cp:revision>
  <dc:subject/>
  <dc:title>Урок систематизации и обобщения изученного материала в 7 классе  с использованием  интерактивных технологий  по теме: «Размножение и развитие растений». Учитель биологии ОШ № 2  Звягина Людмила Клавдиевна г.Краматорск Донецкая обла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e000000000001024140</vt:lpwstr>
  </property>
  <property fmtid="{D5CDD505-2E9C-101B-9397-08002B2CF9AE}" pid="3" name="_TemplateID">
    <vt:lpwstr>TC300063971049</vt:lpwstr>
  </property>
</Properties>
</file>