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DCC-78CD-428D-AB48-019687B7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BC5-BCA7-48E6-9522-4B42B4AC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D4D-6FFB-49EE-A496-5880FBD3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62D-5532-40BF-B181-9A16A3A9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149-60BF-4AA2-884D-D4FACA9B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FF0-69E6-4BC5-84E7-16CAEBB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CA6-6869-4C69-9181-606E1291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137-F548-45C0-835F-FE32C5AD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AA6-F259-43D0-915E-7961D3F0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29E-6496-4286-BBC3-2D0FBD9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C02-E02A-42A8-84F9-883F234F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03A-4767-47C3-8E83-77F4F5F3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184C-9374-4332-ADE0-FE6CC2928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ый ур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 теме «Древний Егип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_20c30_e444682a_L.jpe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7c517624212bf900cfb027e6b64bf845-800x516.jpg"/>
          <p:cNvPicPr/>
          <p:nvPr/>
        </p:nvPicPr>
        <p:blipFill>
          <a:blip r:embed="rId1"/>
          <a:srcRect l="0" t="0" r="-22" b="0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528.jpg"/>
          <p:cNvPicPr/>
          <p:nvPr/>
        </p:nvPicPr>
        <p:blipFill>
          <a:blip r:embed="rId1"/>
          <a:srcRect l="0" t="0" r="0" b="-32"/>
          <a:stretch/>
        </p:blipFill>
        <p:spPr>
          <a:xfrm>
            <a:off x="1792440" y="333360"/>
            <a:ext cx="5486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a255-Cairo-3p-43.jpg"/>
          <p:cNvPicPr/>
          <p:nvPr/>
        </p:nvPicPr>
        <p:blipFill>
          <a:blip r:embed="rId1"/>
          <a:srcRect l="2740" t="0" r="2740" b="0"/>
          <a:stretch/>
        </p:blipFill>
        <p:spPr>
          <a:xfrm>
            <a:off x="395280" y="333360"/>
            <a:ext cx="84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2fe23cc22d9e566607cba7d168dedfd7.media.350x204.gif"/>
          <p:cNvPicPr/>
          <p:nvPr/>
        </p:nvPicPr>
        <p:blipFill>
          <a:blip r:embed="rId1"/>
          <a:srcRect l="0" t="0" r="0" b="-151"/>
          <a:stretch/>
        </p:blipFill>
        <p:spPr>
          <a:xfrm>
            <a:off x="539640" y="1413000"/>
            <a:ext cx="8209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ты встаешь и восходишь на востоке – гонишь мрак, то вся земля торжеств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лучей твоих оживают цветы и растения на пол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тицы взлетают из гнезд и поют тебе хвал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яние твое проникает в глубины вод, а на поверхности реки плещутся рыб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ди просыпаются, поднимают руки к тебе и принимаются за рабо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ли, руки вверх, потянули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стями рук делаем “фонарик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 стороны, изображаем взмахи крыль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тянуть руки перед собой, кистями изображаем плеск ры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верх, потянулись, опустили руки, сели на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blondie.ru-392847.jpg"/>
          <p:cNvPicPr/>
          <p:nvPr/>
        </p:nvPicPr>
        <p:blipFill>
          <a:blip r:embed="rId1"/>
          <a:srcRect l="0" t="0" r="0" b="29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8:38:46Z</dcterms:created>
  <dc:creator>Maxs</dc:creator>
  <dc:description/>
  <dc:language>en-US</dc:language>
  <cp:lastModifiedBy>Admin</cp:lastModifiedBy>
  <dcterms:modified xsi:type="dcterms:W3CDTF">2014-03-26T07:14:39Z</dcterms:modified>
  <cp:revision>5</cp:revision>
  <dc:subject/>
  <dc:title>Итоговый урок  по теме «Древний Егип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4000000000001024140</vt:lpwstr>
  </property>
</Properties>
</file>