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F714-27A3-48C0-926D-0F9579A51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732A-38B3-455A-80CB-D99053DF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8445-9A86-4209-978A-FB89BC949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3470-F42F-4F3E-867A-9A9B861B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F0B3-4193-40CE-9448-7DC0D6EE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B875-422E-4D6C-9F62-672AB164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6BD0-7502-4180-AA1B-DD610C32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BABC-8544-4AF6-AF42-FFC13D86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BAA4-B049-4CD3-8892-AF8B3E32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6D8A-7B82-4047-97DF-605D397C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85E2-4957-4A16-B48A-000CF106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A6EA-B304-4F1C-A398-D2DD2C7B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ECBD-F42B-4F2B-AEA2-1B417AC853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тоговый урок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по теме «Древний Египет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3" descr="0_20c30_e444682a_L.jpe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6" descr="7c517624212bf900cfb027e6b64bf845-800x516.jpg"/>
          <p:cNvPicPr/>
          <p:nvPr/>
        </p:nvPicPr>
        <p:blipFill>
          <a:blip r:embed="rId1"/>
          <a:srcRect l="0" t="0" r="-22" b="0"/>
          <a:stretch/>
        </p:blipFill>
        <p:spPr>
          <a:xfrm>
            <a:off x="468360" y="333360"/>
            <a:ext cx="82072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7" descr="528.jpg"/>
          <p:cNvPicPr/>
          <p:nvPr/>
        </p:nvPicPr>
        <p:blipFill>
          <a:blip r:embed="rId1"/>
          <a:srcRect l="0" t="0" r="0" b="-32"/>
          <a:stretch/>
        </p:blipFill>
        <p:spPr>
          <a:xfrm>
            <a:off x="1792440" y="333360"/>
            <a:ext cx="54864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4" descr="a255-Cairo-3p-43.jpg"/>
          <p:cNvPicPr/>
          <p:nvPr/>
        </p:nvPicPr>
        <p:blipFill>
          <a:blip r:embed="rId1"/>
          <a:srcRect l="2740" t="0" r="2740" b="0"/>
          <a:stretch/>
        </p:blipFill>
        <p:spPr>
          <a:xfrm>
            <a:off x="395280" y="333360"/>
            <a:ext cx="84978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8" descr="2fe23cc22d9e566607cba7d168dedfd7.media.350x204.gif"/>
          <p:cNvPicPr/>
          <p:nvPr/>
        </p:nvPicPr>
        <p:blipFill>
          <a:blip r:embed="rId1"/>
          <a:srcRect l="0" t="0" r="0" b="-151"/>
          <a:stretch/>
        </p:blipFill>
        <p:spPr>
          <a:xfrm>
            <a:off x="539640" y="1413000"/>
            <a:ext cx="820908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гда ты встаешь и восходишь на востоке – гонишь мрак, то вся земля торжествуе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т лучей твоих оживают цветы и растения на поля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тицы взлетают из гнезд и поют тебе хвал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ияние твое проникает в глубины вод, а на поверхности реки плещутся рыб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юди просыпаются, поднимают руки к тебе и принимаются за работ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тали, руки вверх, потянулис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истями рук делаем “фонарики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уки в стороны, изображаем взмахи крылье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тянуть руки перед собой, кистями изображаем плеск рыб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уки вверх, потянулись, опустили руки, сели на мест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7" descr="blondie.ru-392847.jpg"/>
          <p:cNvPicPr/>
          <p:nvPr/>
        </p:nvPicPr>
        <p:blipFill>
          <a:blip r:embed="rId1"/>
          <a:srcRect l="0" t="0" r="0" b="29"/>
          <a:stretch/>
        </p:blipFill>
        <p:spPr>
          <a:xfrm>
            <a:off x="395280" y="404640"/>
            <a:ext cx="83534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4T18:38:46Z</dcterms:created>
  <dc:creator>Maxs</dc:creator>
  <dc:description/>
  <dc:language>en-US</dc:language>
  <cp:lastModifiedBy>Admin</cp:lastModifiedBy>
  <dcterms:modified xsi:type="dcterms:W3CDTF">2014-03-26T07:14:39Z</dcterms:modified>
  <cp:revision>5</cp:revision>
  <dc:subject/>
  <dc:title>Итоговый урок  по теме «Древний Египет»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a04000000000001024140</vt:lpwstr>
  </property>
</Properties>
</file>