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57F4-1121-477F-8A50-DF10FBA3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E56-4051-4DA3-9DF7-6B01BA0D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942-9A3E-42A7-B202-46AD0B17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0F0-BFC7-476F-B7F8-AE0A6CC5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843-3643-4D25-B469-3F66B0F4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DC6-D762-432B-BAC9-A4C5B8EA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4B8-EDBA-4FC4-B05A-50C9F8FE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972-4CF7-4F43-B6F3-9D46D460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26A-46D0-4C4E-BAC8-BBCE6EEC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65F-F463-4AEA-81E8-2F8C4280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269-80B0-41FD-8929-2F51995E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7DD-A1C1-4694-95D9-727C8E13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07E1-2732-454B-9968-E65E09A11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тоговый урок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по теме «Древний Египет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0_20c30_e444682a_L.jpe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7c517624212bf900cfb027e6b64bf845-800x516.jpg"/>
          <p:cNvPicPr/>
          <p:nvPr/>
        </p:nvPicPr>
        <p:blipFill>
          <a:blip r:embed="rId1"/>
          <a:srcRect l="0" t="0" r="-22" b="0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7" descr="528.jpg"/>
          <p:cNvPicPr/>
          <p:nvPr/>
        </p:nvPicPr>
        <p:blipFill>
          <a:blip r:embed="rId1"/>
          <a:srcRect l="0" t="0" r="0" b="-32"/>
          <a:stretch/>
        </p:blipFill>
        <p:spPr>
          <a:xfrm>
            <a:off x="1792440" y="333360"/>
            <a:ext cx="54864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a255-Cairo-3p-43.jpg"/>
          <p:cNvPicPr/>
          <p:nvPr/>
        </p:nvPicPr>
        <p:blipFill>
          <a:blip r:embed="rId1"/>
          <a:srcRect l="2740" t="0" r="2740" b="0"/>
          <a:stretch/>
        </p:blipFill>
        <p:spPr>
          <a:xfrm>
            <a:off x="395280" y="333360"/>
            <a:ext cx="8497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8" descr="2fe23cc22d9e566607cba7d168dedfd7.media.350x204.gif"/>
          <p:cNvPicPr/>
          <p:nvPr/>
        </p:nvPicPr>
        <p:blipFill>
          <a:blip r:embed="rId1"/>
          <a:srcRect l="0" t="0" r="0" b="-151"/>
          <a:stretch/>
        </p:blipFill>
        <p:spPr>
          <a:xfrm>
            <a:off x="539640" y="1413000"/>
            <a:ext cx="82090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гда ты встаешь и восходишь на востоке – гонишь мрак, то вся земля торжеству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 лучей твоих оживают цветы и растения на поля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тицы взлетают из гнезд и поют тебе хвал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яние твое проникает в глубины вод, а на поверхности реки плещутся рыб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юди просыпаются, поднимают руки к тебе и принимаются за рабо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али, руки вверх, потянулис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истями рук делаем “фонарики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и в стороны, изображаем взмахи крылье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тянуть руки перед собой, кистями изображаем плеск рыб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и вверх, потянулись, опустили руки, сели на мест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7" descr="blondie.ru-392847.jpg"/>
          <p:cNvPicPr/>
          <p:nvPr/>
        </p:nvPicPr>
        <p:blipFill>
          <a:blip r:embed="rId1"/>
          <a:srcRect l="0" t="0" r="0" b="29"/>
          <a:stretch/>
        </p:blipFill>
        <p:spPr>
          <a:xfrm>
            <a:off x="395280" y="40464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8:38:46Z</dcterms:created>
  <dc:creator>Maxs</dc:creator>
  <dc:description/>
  <dc:language>en-US</dc:language>
  <cp:lastModifiedBy>Admin</cp:lastModifiedBy>
  <dcterms:modified xsi:type="dcterms:W3CDTF">2014-03-26T07:14:39Z</dcterms:modified>
  <cp:revision>5</cp:revision>
  <dc:subject/>
  <dc:title>Итоговый урок  по теме «Древний Египет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4000000000001024140</vt:lpwstr>
  </property>
</Properties>
</file>