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A8A-F513-4293-9B8B-23F8DCDB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0927-A0DA-47D0-9A31-B2FE2447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F1B-CC94-4883-AD9E-AD5FA7E7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4CA-1F7E-432B-BFCD-14E50A97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98F-EC93-4B11-B1F3-AF6363AA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310-48BE-4566-B62F-020FB282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5FB-409D-4C3A-BB8F-D21860FD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965B-88F6-45D3-84F6-A6F694AC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E94-BF1A-427E-9E61-210007A2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0A34-216D-48E0-ACA7-A5740E45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4C55-FF0F-4814-B4EC-C0A1E122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164-A093-45F2-9F1F-1F034665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C4C9-E572-4017-998E-68D4731459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тоговый урок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по теме «Древний Египет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0_20c30_e444682a_L.jpe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7c517624212bf900cfb027e6b64bf845-800x516.jpg"/>
          <p:cNvPicPr/>
          <p:nvPr/>
        </p:nvPicPr>
        <p:blipFill>
          <a:blip r:embed="rId1"/>
          <a:srcRect l="0" t="0" r="-22" b="0"/>
          <a:stretch/>
        </p:blipFill>
        <p:spPr>
          <a:xfrm>
            <a:off x="468360" y="33336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7" descr="528.jpg"/>
          <p:cNvPicPr/>
          <p:nvPr/>
        </p:nvPicPr>
        <p:blipFill>
          <a:blip r:embed="rId1"/>
          <a:srcRect l="0" t="0" r="0" b="-32"/>
          <a:stretch/>
        </p:blipFill>
        <p:spPr>
          <a:xfrm>
            <a:off x="1792440" y="333360"/>
            <a:ext cx="54864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a255-Cairo-3p-43.jpg"/>
          <p:cNvPicPr/>
          <p:nvPr/>
        </p:nvPicPr>
        <p:blipFill>
          <a:blip r:embed="rId1"/>
          <a:srcRect l="2740" t="0" r="2740" b="0"/>
          <a:stretch/>
        </p:blipFill>
        <p:spPr>
          <a:xfrm>
            <a:off x="395280" y="333360"/>
            <a:ext cx="8497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8" descr="2fe23cc22d9e566607cba7d168dedfd7.media.350x204.gif"/>
          <p:cNvPicPr/>
          <p:nvPr/>
        </p:nvPicPr>
        <p:blipFill>
          <a:blip r:embed="rId1"/>
          <a:srcRect l="0" t="0" r="0" b="-151"/>
          <a:stretch/>
        </p:blipFill>
        <p:spPr>
          <a:xfrm>
            <a:off x="539640" y="1413000"/>
            <a:ext cx="82090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гда ты встаешь и восходишь на востоке – гонишь мрак, то вся земля торжеству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 лучей твоих оживают цветы и растения на поля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тицы взлетают из гнезд и поют тебе хвал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яние твое проникает в глубины вод, а на поверхности реки плещутся рыб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юди просыпаются, поднимают руки к тебе и принимаются за рабо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тали, руки вверх, потянулис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истями рук делаем “фонарики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и в стороны, изображаем взмахи крылье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тянуть руки перед собой, кистями изображаем плеск рыб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и вверх, потянулись, опустили руки, сели на мест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7" descr="blondie.ru-392847.jpg"/>
          <p:cNvPicPr/>
          <p:nvPr/>
        </p:nvPicPr>
        <p:blipFill>
          <a:blip r:embed="rId1"/>
          <a:srcRect l="0" t="0" r="0" b="29"/>
          <a:stretch/>
        </p:blipFill>
        <p:spPr>
          <a:xfrm>
            <a:off x="395280" y="40464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8:38:46Z</dcterms:created>
  <dc:creator>Maxs</dc:creator>
  <dc:description/>
  <dc:language>en-US</dc:language>
  <cp:lastModifiedBy>Admin</cp:lastModifiedBy>
  <dcterms:modified xsi:type="dcterms:W3CDTF">2014-03-26T07:14:39Z</dcterms:modified>
  <cp:revision>5</cp:revision>
  <dc:subject/>
  <dc:title>Итоговый урок  по теме «Древний Египет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4000000000001024140</vt:lpwstr>
  </property>
</Properties>
</file>