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EFB-C410-4ABE-97B0-B0ADFBAD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26E-AD7A-41C4-A102-4D086CBF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DAD-CAED-4FFA-B725-F922EC59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10B-53A1-405D-8182-96313568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F8FD7-71DE-40BC-A1FF-AD217747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6FA98-8323-4FA2-8F8D-F0648784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BCE32-9669-42FE-9D60-FB2DABAB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9F75C-5B29-4526-B371-031DFB0A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2198D-E5CA-4AB6-A834-12167C6B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6AE85-32E7-4B4D-91A2-E835DEF6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B820D-428E-4512-B42B-828415EF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0D0-4855-4044-BA7D-E4EB15F4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7B08C-CADD-4B57-BA9D-2870DA4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0C517-A03C-4B77-815B-2BDACB6E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519F3-D964-4002-AA04-61B15170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BCB13-A85C-47C4-B3EB-1193C470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4B209-5F2E-48A6-8956-EC074E01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A58F-6CC1-4285-8572-79B25C32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DF94B-CEDA-47BF-8AF6-9CAEE1E5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F3DA-5434-4924-8F53-BFBD07AD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3146-3C3A-407E-AB4B-8BB74894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98DC-34D5-43AD-AC54-0DBAFCC1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AE8-53C1-49A6-BAC7-04FF0C85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06FD-6FBF-4874-80AF-3C238A75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F728-99B3-4EBE-A0EE-7201541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7904-935E-4D2B-844D-E6BD6F9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7F7E-3F6A-467D-874B-7CF6161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F686-F2D2-450D-81A2-DD9DE1CC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53A7-A230-4675-8004-6AFEED67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1A95-6A14-464A-9FA9-CAB0B17F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1C985-2E85-492E-9020-EA6354C6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25C2AB-253C-4F32-83C7-B499D98E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8D891-C89A-4EA3-8461-4DD47354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EE5-4976-4F80-A3AE-D1BD77C6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AE17A-FC90-43DD-AE54-7A150553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84870B-9107-4D9E-A604-F74D365E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C37E5-2530-404A-9FA3-67E2122A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03878-5444-4669-8075-F703F66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06A10-AF36-4147-A88E-E5E18682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4D5AB-1C4A-4FE9-B5D4-D1DB7FB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259ECF-6C16-4325-BC5D-67D451A5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9D843C-BB6E-431A-87E4-FF6D74B7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E3D6E5-9CF9-49C1-B0BA-CE748376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F63EF-1610-4384-8A07-EA97BFAE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C8F-85DD-416B-A797-B465937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E01F1-E55A-412F-B00F-F89A87F7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A0915-2C15-4ACF-B3AD-19335A71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F5848-20A2-4EDF-8984-CFCF3403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C7812-D5D8-4BED-98B2-8597BD4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4CC98-6103-4B17-87A6-9AFC0EAF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C2F2D-68A9-40BD-86EA-67DB0272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8E6BA-D1BD-4D72-9EFD-B1DA7C70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C108B-13F7-46B5-BE1A-F23FE42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5938B-E051-4DB4-A004-CFB2C944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13993-8555-4975-A934-A8C42FF6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88A-D170-4719-90D2-36D97612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AA05F-E343-4990-BDE7-C8B12794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08763-EA44-45E5-ADCE-DC5527C4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5C094-44D1-4940-B765-83E802DD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F4A1C-A062-4D53-BBF1-07252BC8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DFBD3-7ABA-477E-B423-8A3E1120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BA4C3-6995-4114-966E-AEA649D0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D75EF-FF2C-4033-9871-CB43B322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1636E-F988-46D5-A933-845782C6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82DC0-4B10-4531-A75A-0958A014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C48E9-7483-49F7-8D80-260089D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BBF-2669-4C8E-AD87-E08B8B8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6C99B-5ECB-4B0F-B373-E7EDDD97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1A7DC3-D445-4DC1-B106-301EEBBF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97B57-F936-4305-97DF-50835CBA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F26-472E-449B-BFEC-ACA51642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3E2-D057-44B0-A004-A40E8ED6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CD11-B48F-4FE2-88A4-575BD15DA7D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2BE1-7E80-4F16-982B-9109CBF0E03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A7EE-3544-40FB-9895-B8DCDF95EC6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17EB-9F88-4067-8B82-A626177B252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8371-8E2F-4192-8392-36556C3C738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265-A9E3-4671-94A7-4C3DA5D3031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-212760" y="-585720"/>
            <a:ext cx="9045720" cy="29210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857920" y="2928600"/>
            <a:ext cx="29145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катег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ВК «Лицей №10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уськова Ольг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иколае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357120" y="2500200"/>
            <a:ext cx="5348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426960" y="146160"/>
            <a:ext cx="8339040" cy="12380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"/>
          <p:cNvSpPr/>
          <p:nvPr/>
        </p:nvSpPr>
        <p:spPr>
          <a:xfrm>
            <a:off x="428760" y="4366800"/>
            <a:ext cx="84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вои дни Великая Персия закончила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в 331г. до н. э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в битве при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Гавгамелах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когда персы потерпели сокрушительное поражение от молодого македонского царя –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Александр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3"/>
          <a:stretch/>
        </p:blipFill>
        <p:spPr>
          <a:xfrm>
            <a:off x="785880" y="1214280"/>
            <a:ext cx="757224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назывались племена, захватившие власть в Вавилоне в </a:t>
            </a:r>
            <a:r>
              <a:rPr b="1" lang="en-US" sz="3600" spc="-1" strike="noStrike">
                <a:solidFill>
                  <a:srgbClr val="ffffff"/>
                </a:solidFill>
                <a:latin typeface="Harrington"/>
                <a:ea typeface="Arial Unicode MS"/>
              </a:rPr>
              <a:t>VII</a:t>
            </a: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в. до н.э.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каком году Набопаласар захватил вавилонский престол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и каком царе Нововавилонское царство достигает своего наивысшего развития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каком году Нововавилонское царство прекратило своё существование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ем был завоёван Вавилон в                </a:t>
            </a:r>
            <a:r>
              <a:rPr b="1" lang="en-US" sz="3600" spc="-1" strike="noStrike">
                <a:solidFill>
                  <a:srgbClr val="ffffff"/>
                </a:solidFill>
                <a:latin typeface="Harrington"/>
                <a:ea typeface="Arial Unicode MS"/>
              </a:rPr>
              <a:t>VI</a:t>
            </a: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в. до н. э.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Скругленная прямоугольная выноска 8"/>
          <p:cNvSpPr/>
          <p:nvPr/>
        </p:nvSpPr>
        <p:spPr>
          <a:xfrm>
            <a:off x="7643880" y="571680"/>
            <a:ext cx="1500120" cy="714240"/>
          </a:xfrm>
          <a:prstGeom prst="wedgeRoundRectCallout">
            <a:avLst>
              <a:gd name="adj1" fmla="val -53550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халде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Скругленная прямоугольная выноска 9"/>
          <p:cNvSpPr/>
          <p:nvPr/>
        </p:nvSpPr>
        <p:spPr>
          <a:xfrm>
            <a:off x="6143760" y="1857240"/>
            <a:ext cx="2428920" cy="642960"/>
          </a:xfrm>
          <a:prstGeom prst="wedgeRoundRectCallout">
            <a:avLst>
              <a:gd name="adj1" fmla="val -81629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625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 г. до н.э</a:t>
            </a: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Скругленная прямоугольная выноска 10"/>
          <p:cNvSpPr/>
          <p:nvPr/>
        </p:nvSpPr>
        <p:spPr>
          <a:xfrm>
            <a:off x="3857760" y="3500280"/>
            <a:ext cx="2571480" cy="714600"/>
          </a:xfrm>
          <a:prstGeom prst="wedgeRoundRectCallout">
            <a:avLst>
              <a:gd name="adj1" fmla="val -81629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nstantia"/>
              </a:rPr>
              <a:t>Навуходоносор 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Скругленная прямоугольная выноска 11"/>
          <p:cNvSpPr/>
          <p:nvPr/>
        </p:nvSpPr>
        <p:spPr>
          <a:xfrm>
            <a:off x="7715160" y="4643280"/>
            <a:ext cx="1643040" cy="785880"/>
          </a:xfrm>
          <a:prstGeom prst="wedgeRoundRectCallout">
            <a:avLst>
              <a:gd name="adj1" fmla="val -55842"/>
              <a:gd name="adj2" fmla="val -17675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в </a:t>
            </a: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539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 г. до н.э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Скругленная прямоугольная выноска 12"/>
          <p:cNvSpPr/>
          <p:nvPr/>
        </p:nvSpPr>
        <p:spPr>
          <a:xfrm>
            <a:off x="5572080" y="5929200"/>
            <a:ext cx="2143080" cy="785880"/>
          </a:xfrm>
          <a:prstGeom prst="wedgeRoundRectCallout">
            <a:avLst>
              <a:gd name="adj1" fmla="val -147268"/>
              <a:gd name="adj2" fmla="val -27523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персам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353880" y="128520"/>
            <a:ext cx="8240760" cy="10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2143080" y="1285920"/>
          <a:ext cx="5286600" cy="3429000"/>
        </p:xfrm>
        <a:graphic>
          <a:graphicData uri="http://schemas.openxmlformats.org/drawingml/2006/table">
            <a:tbl>
              <a:tblPr/>
              <a:tblGrid>
                <a:gridCol w="1752480"/>
                <a:gridCol w="1781280"/>
                <a:gridCol w="17528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Б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ДЕ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З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М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ХЦ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ЩШЬ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Ы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Ю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63" name="Лента лицом вниз 6"/>
          <p:cNvSpPr/>
          <p:nvPr/>
        </p:nvSpPr>
        <p:spPr>
          <a:xfrm>
            <a:off x="428760" y="4857840"/>
            <a:ext cx="8501040" cy="150012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24984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1d77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 u="sng">
                <a:solidFill>
                  <a:srgbClr val="8e58b6"/>
                </a:solidFill>
                <a:uFillTx/>
                <a:latin typeface="Constantia"/>
              </a:rPr>
              <a:t>5 2 5 6 3 9</a:t>
            </a:r>
            <a:endParaRPr b="0" lang="en-US" sz="6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-225360"/>
            <a:ext cx="8242560" cy="22003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"/>
          <p:cNvSpPr/>
          <p:nvPr/>
        </p:nvSpPr>
        <p:spPr>
          <a:xfrm>
            <a:off x="357120" y="1686600"/>
            <a:ext cx="4214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  <a:ea typeface="Calibri"/>
              </a:rPr>
              <a:t>Великая держава перс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  <a:ea typeface="Calibri"/>
              </a:rPr>
              <a:t>Твои бесчисленные войска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Сокровища всех благоверце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Чиновники всегда средь злата</a:t>
            </a: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Как ты могла так пасть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Теперь лишь дахмы нам напомня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О том, что боле не вернуть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Не встать из умерших в невол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Народам бросившим свой пут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3"/>
          <a:srcRect l="0" t="0" r="311" b="-405"/>
          <a:stretch/>
        </p:blipFill>
        <p:spPr>
          <a:xfrm>
            <a:off x="4714920" y="2643120"/>
            <a:ext cx="3900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2"/>
          <a:stretch/>
        </p:blipFill>
        <p:spPr>
          <a:xfrm>
            <a:off x="-55440" y="-208080"/>
            <a:ext cx="8577000" cy="19274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214200" y="946440"/>
            <a:ext cx="842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очему такое сильное и могущественное государство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как Персия,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не смогло выдержать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спытаний времени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 кануло влета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357120" y="321480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450720" y="79200"/>
            <a:ext cx="8242560" cy="157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285840" y="1785960"/>
          <a:ext cx="8434440" cy="4572000"/>
        </p:xfrm>
        <a:graphic>
          <a:graphicData uri="http://schemas.openxmlformats.org/drawingml/2006/table">
            <a:tbl>
              <a:tblPr/>
              <a:tblGrid>
                <a:gridCol w="4216320"/>
                <a:gridCol w="4218120"/>
              </a:tblGrid>
              <a:tr h="1428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Природные усло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Виды хозяйственн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Прямоугольник 3"/>
          <p:cNvSpPr/>
          <p:nvPr/>
        </p:nvSpPr>
        <p:spPr>
          <a:xfrm>
            <a:off x="571680" y="3214800"/>
            <a:ext cx="3429000" cy="5000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357120" y="3714840"/>
            <a:ext cx="4214880" cy="100008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Жаркий засушливый клима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285840" y="4786200"/>
            <a:ext cx="4143240" cy="5000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плодородная зем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214200" y="5286240"/>
            <a:ext cx="4214880" cy="10004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горь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4500720" y="3286080"/>
            <a:ext cx="4286160" cy="64296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емледелие, рыболовств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Прямоугольник 9"/>
          <p:cNvSpPr/>
          <p:nvPr/>
        </p:nvSpPr>
        <p:spPr>
          <a:xfrm>
            <a:off x="4500720" y="4000680"/>
            <a:ext cx="4357440" cy="85716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месло, торгов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Прямоугольник 10"/>
          <p:cNvSpPr/>
          <p:nvPr/>
        </p:nvSpPr>
        <p:spPr>
          <a:xfrm>
            <a:off x="4786200" y="4786200"/>
            <a:ext cx="3786480" cy="85752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отовод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493560" y="-133200"/>
            <a:ext cx="8242560" cy="157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428760" y="1571760"/>
          <a:ext cx="8286480" cy="5000400"/>
        </p:xfrm>
        <a:graphic>
          <a:graphicData uri="http://schemas.openxmlformats.org/drawingml/2006/table">
            <a:tbl>
              <a:tblPr/>
              <a:tblGrid>
                <a:gridCol w="3143160"/>
                <a:gridCol w="514332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Завоева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ир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8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мбиз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Скругленный прямоугольник 3"/>
          <p:cNvSpPr/>
          <p:nvPr/>
        </p:nvSpPr>
        <p:spPr>
          <a:xfrm>
            <a:off x="3571920" y="1928880"/>
            <a:ext cx="5143320" cy="164304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78846a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Лидия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ововавилонское цар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арф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Арм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Скругленный прямоугольник 4"/>
          <p:cNvSpPr/>
          <p:nvPr/>
        </p:nvSpPr>
        <p:spPr>
          <a:xfrm>
            <a:off x="3714840" y="4000680"/>
            <a:ext cx="4572000" cy="235728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78846a">
                <a:alpha val="3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Сирия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Иерусалим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Египе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3"/>
          <a:stretch/>
        </p:blipFill>
        <p:spPr>
          <a:xfrm>
            <a:off x="500040" y="4957920"/>
            <a:ext cx="2643120" cy="1471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4"/>
          <a:stretch/>
        </p:blipFill>
        <p:spPr>
          <a:xfrm>
            <a:off x="6786720" y="3643200"/>
            <a:ext cx="19285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2"/>
          <a:srcRect l="0" t="0" r="0" b="-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Овал 3"/>
          <p:cNvSpPr/>
          <p:nvPr/>
        </p:nvSpPr>
        <p:spPr>
          <a:xfrm rot="2403600">
            <a:off x="880560" y="2611440"/>
            <a:ext cx="1227240" cy="9288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Ли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Овал 4"/>
          <p:cNvSpPr/>
          <p:nvPr/>
        </p:nvSpPr>
        <p:spPr>
          <a:xfrm rot="19045200">
            <a:off x="3024360" y="3627000"/>
            <a:ext cx="960120" cy="15001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Вавилон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Овал 5"/>
          <p:cNvSpPr/>
          <p:nvPr/>
        </p:nvSpPr>
        <p:spPr>
          <a:xfrm rot="1863000">
            <a:off x="4044600" y="3664080"/>
            <a:ext cx="2498760" cy="1884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арф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1928880" y="2428920"/>
            <a:ext cx="2000160" cy="1071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Армени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Овал 7"/>
          <p:cNvSpPr/>
          <p:nvPr/>
        </p:nvSpPr>
        <p:spPr>
          <a:xfrm rot="4191600">
            <a:off x="-365400" y="4641840"/>
            <a:ext cx="3116520" cy="113508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Египет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Овал 8"/>
          <p:cNvSpPr/>
          <p:nvPr/>
        </p:nvSpPr>
        <p:spPr>
          <a:xfrm rot="20398200">
            <a:off x="1325520" y="3932280"/>
            <a:ext cx="1579680" cy="96660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 Black"/>
              </a:rPr>
              <a:t>Иерусалим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Овал 9"/>
          <p:cNvSpPr/>
          <p:nvPr/>
        </p:nvSpPr>
        <p:spPr>
          <a:xfrm rot="775200">
            <a:off x="2003040" y="3412800"/>
            <a:ext cx="1220760" cy="80316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Сир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49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3"/>
          <a:stretch/>
        </p:blipFill>
        <p:spPr>
          <a:xfrm>
            <a:off x="428760" y="1357200"/>
            <a:ext cx="3127320" cy="51436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"/>
          <p:cNvSpPr/>
          <p:nvPr/>
        </p:nvSpPr>
        <p:spPr>
          <a:xfrm>
            <a:off x="3571920" y="1428840"/>
            <a:ext cx="514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(522 – 486 гг. до н.э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3643200" y="2143080"/>
            <a:ext cx="5072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«… Я – </a:t>
            </a:r>
            <a:r>
              <a:rPr b="1" i="1" lang="ru-RU" sz="4000" spc="-1" strike="noStrike">
                <a:solidFill>
                  <a:srgbClr val="ff0000"/>
                </a:solidFill>
                <a:latin typeface="Constantia"/>
              </a:rPr>
              <a:t>Дарий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, царь великий, царь царей, царь многоплеменных стран, царь этой земли великой ….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7:54:39Z</dcterms:created>
  <dc:creator>777</dc:creator>
  <dc:description/>
  <dc:language>en-US</dc:language>
  <cp:lastModifiedBy>Admin</cp:lastModifiedBy>
  <dcterms:modified xsi:type="dcterms:W3CDTF">2013-12-25T07:59:46Z</dcterms:modified>
  <cp:revision>88</cp:revision>
  <dc:subject/>
  <dc:title>Перс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20000000000001024140</vt:lpwstr>
  </property>
</Properties>
</file>