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8B3-1529-407F-9AE9-380144CC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26E-C88F-4771-BDF9-9A5326E7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CB5-4227-43F2-98D2-9C7A55ED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474-99C8-4C94-9743-258CFD0B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C50D-930E-444D-B033-AB63ACA6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9D28-525C-4363-90A6-F6A31A8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D7E62-312D-44E6-BC98-9BBE2365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3DB2-8D2D-4258-82E1-19E07C08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B12B9-6085-4087-BBF1-B260FC21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2D40B-EC4A-418C-A6D1-3397FFBC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0E87C-6E3C-4745-BB1E-C342FAB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2A0-6401-4DDE-A844-F7501339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7291C-1A22-4681-B98B-352D702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E1546-726A-4599-A013-AC02105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99AC6-4D1C-4B2A-AD91-112B330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4A19-97BA-4731-9860-167DFF66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3AEBB-0C7E-48E9-9DD5-CDE1B4AF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BD10-2923-4FB9-AB5C-AC18EC74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67D2-552E-4A3B-B756-8B1A7498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0CDA-631B-45C1-9E45-5CB6E7BF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A915-F834-4B2F-9A85-F15B716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56ED-5A84-412E-99CB-BE4D8611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2B7-A6B1-444D-A28D-4982583F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FE67-3FFF-491A-B6EE-790A8FF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79C7-FE3F-4C3B-A327-7ECFD4B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20C7-4EAB-483F-B96A-3826330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E7FD-FD93-447D-9649-449FE9F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93AA-E5C1-48BB-8DC9-84B68443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AB33-1D7D-440D-8BF4-32F143F4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4282-42DC-4F8E-9EEE-8101E682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61549-B171-4AF2-B935-8CF8A89E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BC969-0C1A-42E1-AA0B-84A54467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A14C49-70E8-477C-8B99-F87B6F4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80B-0794-4BFF-9AB2-1C8F022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2B850-783E-4F21-B9D0-FE0CCBC4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974E4-7A81-4CC6-A01F-56CF3DB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62D02-5DA3-4488-BF42-31D0C745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DDF0C-9153-4F0A-B63D-3E236D5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DA4B0-747A-4BB3-8FD4-242F202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FDFC5-1BDB-4128-822C-CEDADC0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CCCA4-1A4C-4A6E-9ECD-5EFFC7F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AC474-3F0F-4D06-82BB-C125EF9E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1B15A-D2BE-4E0B-BB04-52CBA286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AA8A8-8B2A-41E5-B195-F779D9A6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4CC-296B-4BE1-8F53-D5814324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023F7-AEE2-4124-86B4-E39499F2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EF6D0-B18B-4185-B672-D320266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4762D-5C2A-41AB-B966-6D36216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4EAB7-7206-48AB-AAAF-406C71E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155EF-789B-4090-8C20-49AD1B5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1A646-15CD-42E4-BF77-601A975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86B54-5E00-4259-9E0A-12D49CC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5E0CC-5CD6-48B2-A3CE-C658E13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E5F7E-3EDB-4F0A-B426-EB64546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494C5-1877-497C-B8C5-F7A50D97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4C1-B66D-4D15-B2A5-A1D3CEE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30945-E917-4F72-9216-56551374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4ED6A-3744-4A34-BDA1-7C197B8E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A7F10-BEF3-41D4-AE41-5ACB31D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2872F-20B7-409F-8B64-60135CA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87EA0-AEAF-428F-A4C4-EE05C21A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123F5-AAEC-4536-80F0-81978832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E7D24-5B86-4575-A42C-2C141A1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E5A47-CD1F-4314-BCC7-2A945CD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6372E-B427-4B5C-9409-439758B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E8E92-2147-4B62-A3BF-241EE35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238-3231-41E9-AC75-7EC1124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2EB06-7E6B-4D18-9745-34B3D55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ED081-209F-4555-A110-89C2085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6BD38-01F0-4D04-9664-3E3A9EA7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E16-0311-40E9-80B4-6EAC76A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4CE-6F57-405E-8470-AA037B17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012C-F119-43DF-9A5C-2327695CF2E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D34D-FD8C-4AD5-81F1-0C9A6E083E0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DBA3-F073-4368-B3F3-E396F68695A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2B0B-54E9-4169-B8AC-8AA95315EC0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B35-7388-43FB-9947-E6A251CEE57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31C-6BCD-4ADB-A992-FF0AE75C72E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-212760" y="-585720"/>
            <a:ext cx="9045720" cy="2921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857920" y="2928600"/>
            <a:ext cx="291456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категор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ВК «Лицей №10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уськова Ольг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колае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53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339040" cy="12380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428760" y="4366800"/>
            <a:ext cx="84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вои дни Великая Персия закончила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в 331г. до н. э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в битве при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Гавгамелах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когда персы потерпели сокрушительное поражение от молодого македонского царя –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Александр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3"/>
          <a:stretch/>
        </p:blipFill>
        <p:spPr>
          <a:xfrm>
            <a:off x="785880" y="1214280"/>
            <a:ext cx="757224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назывались племена, захватившие власть в Вавилоне в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абопаласар захватил вавилонский престол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и каком царе Нововавилонское царство достигает своего наивысшего развития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аком году Нововавилонское царство прекратило своё существование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68000" indent="-4680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ем был завоёван Вавилон в                </a:t>
            </a:r>
            <a:r>
              <a:rPr b="1" lang="en-US" sz="3600" spc="-1" strike="noStrike">
                <a:solidFill>
                  <a:srgbClr val="ffffff"/>
                </a:solidFill>
                <a:latin typeface="Harrington"/>
                <a:ea typeface="Arial Unicode MS"/>
              </a:rPr>
              <a:t>VI</a:t>
            </a:r>
            <a:r>
              <a:rPr b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в. до н. э.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Скругленная прямоугольная выноска 8"/>
          <p:cNvSpPr/>
          <p:nvPr/>
        </p:nvSpPr>
        <p:spPr>
          <a:xfrm>
            <a:off x="7643880" y="571680"/>
            <a:ext cx="1500120" cy="714240"/>
          </a:xfrm>
          <a:prstGeom prst="wedgeRoundRectCallout">
            <a:avLst>
              <a:gd name="adj1" fmla="val -53550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халде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Скругленная прямоугольная выноска 9"/>
          <p:cNvSpPr/>
          <p:nvPr/>
        </p:nvSpPr>
        <p:spPr>
          <a:xfrm>
            <a:off x="6143760" y="1857240"/>
            <a:ext cx="2428920" cy="64296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Arial Black"/>
              </a:rPr>
              <a:t>625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r>
              <a:rPr b="0" i="1" lang="ru-RU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Скругленная прямоугольная выноска 10"/>
          <p:cNvSpPr/>
          <p:nvPr/>
        </p:nvSpPr>
        <p:spPr>
          <a:xfrm>
            <a:off x="3857760" y="3500280"/>
            <a:ext cx="2571480" cy="714600"/>
          </a:xfrm>
          <a:prstGeom prst="wedgeRoundRectCallout">
            <a:avLst>
              <a:gd name="adj1" fmla="val -81629"/>
              <a:gd name="adj2" fmla="val -16268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nstantia"/>
              </a:rPr>
              <a:t>Навуходоносор 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Скругленная прямоугольная выноска 11"/>
          <p:cNvSpPr/>
          <p:nvPr/>
        </p:nvSpPr>
        <p:spPr>
          <a:xfrm>
            <a:off x="7715160" y="4643280"/>
            <a:ext cx="1643040" cy="785880"/>
          </a:xfrm>
          <a:prstGeom prst="wedgeRoundRectCallout">
            <a:avLst>
              <a:gd name="adj1" fmla="val -55842"/>
              <a:gd name="adj2" fmla="val -17675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в </a:t>
            </a: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539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г. до н.э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Скругленная прямоугольная выноска 12"/>
          <p:cNvSpPr/>
          <p:nvPr/>
        </p:nvSpPr>
        <p:spPr>
          <a:xfrm>
            <a:off x="5572080" y="5929200"/>
            <a:ext cx="2143080" cy="785880"/>
          </a:xfrm>
          <a:prstGeom prst="wedgeRoundRectCallout">
            <a:avLst>
              <a:gd name="adj1" fmla="val -147268"/>
              <a:gd name="adj2" fmla="val -27523"/>
              <a:gd name="adj3" fmla="val 16667"/>
            </a:avLst>
          </a:prstGeom>
          <a:solidFill>
            <a:srgbClr val="fffff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персам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2"/>
          <a:stretch/>
        </p:blipFill>
        <p:spPr>
          <a:xfrm>
            <a:off x="353880" y="128520"/>
            <a:ext cx="824076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2143080" y="1285920"/>
          <a:ext cx="5286600" cy="3429000"/>
        </p:xfrm>
        <a:graphic>
          <a:graphicData uri="http://schemas.openxmlformats.org/drawingml/2006/table">
            <a:tbl>
              <a:tblPr/>
              <a:tblGrid>
                <a:gridCol w="1752480"/>
                <a:gridCol w="1781280"/>
                <a:gridCol w="17528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Б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ДЕ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З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00"/>
                      </a:solidFill>
                    </a:lnL>
                    <a:lnR w="5760">
                      <a:solidFill>
                        <a:srgbClr val="008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М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cc99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ff0066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ХЦ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ШЬ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cc99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Ю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ff0066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63" name="Лента лицом вниз 6"/>
          <p:cNvSpPr/>
          <p:nvPr/>
        </p:nvSpPr>
        <p:spPr>
          <a:xfrm>
            <a:off x="428760" y="4857840"/>
            <a:ext cx="8501040" cy="1500120"/>
          </a:xfrm>
          <a:custGeom>
            <a:avLst/>
            <a:gdLst>
              <a:gd name="textAreaLeft" fmla="*/ 2125080 w 8501040"/>
              <a:gd name="textAreaRight" fmla="*/ 6375960 w 8501040"/>
              <a:gd name="textAreaTop" fmla="*/ 24984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1d77f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 u="sng">
                <a:solidFill>
                  <a:srgbClr val="8e58b6"/>
                </a:solidFill>
                <a:uFillTx/>
                <a:latin typeface="Constantia"/>
              </a:rPr>
              <a:t>5 2 5 6 3 9</a:t>
            </a:r>
            <a:endParaRPr b="0" lang="en-US" sz="6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2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22003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357120" y="168660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Великая держава перс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  <a:ea typeface="Calibri"/>
              </a:rPr>
              <a:t>Твои бесчисленные войск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Сокровища всех благоверце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Чиновники всегда средь злата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Как ты могла так пасть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Теперь лишь дахмы нам напомня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О том, что боле не вернуть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е встать из умерших в нево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Book Antiqua"/>
              </a:rPr>
              <a:t>Народам бросившим свой пу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3"/>
          <a:srcRect l="0" t="0" r="311" b="-405"/>
          <a:stretch/>
        </p:blipFill>
        <p:spPr>
          <a:xfrm>
            <a:off x="4714920" y="2643120"/>
            <a:ext cx="3900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2"/>
          <a:stretch/>
        </p:blipFill>
        <p:spPr>
          <a:xfrm>
            <a:off x="-55440" y="-208080"/>
            <a:ext cx="8577000" cy="19274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214200" y="946440"/>
            <a:ext cx="842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очему такое сильное и могущественное государ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как Перс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е смогло выдержать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спытаний времени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и кануло влета?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450720" y="79200"/>
            <a:ext cx="8242560" cy="157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85840" y="1785960"/>
          <a:ext cx="8434440" cy="4572000"/>
        </p:xfrm>
        <a:graphic>
          <a:graphicData uri="http://schemas.openxmlformats.org/drawingml/2006/table">
            <a:tbl>
              <a:tblPr/>
              <a:tblGrid>
                <a:gridCol w="4216320"/>
                <a:gridCol w="421812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иродные усло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Виды хозяйственно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Прямоугольник 3"/>
          <p:cNvSpPr/>
          <p:nvPr/>
        </p:nvSpPr>
        <p:spPr>
          <a:xfrm>
            <a:off x="571680" y="3214800"/>
            <a:ext cx="342900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7120" y="3714840"/>
            <a:ext cx="4214880" cy="100008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Жаркий засушливый клима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85840" y="4786200"/>
            <a:ext cx="4143240" cy="5000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плодородная зем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214200" y="5286240"/>
            <a:ext cx="4214880" cy="100044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гор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500720" y="3286080"/>
            <a:ext cx="4286160" cy="6429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емледелие, рыболовств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Прямоугольник 9"/>
          <p:cNvSpPr/>
          <p:nvPr/>
        </p:nvSpPr>
        <p:spPr>
          <a:xfrm>
            <a:off x="4500720" y="4000680"/>
            <a:ext cx="4357440" cy="85716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емесло, торгов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4786200" y="4786200"/>
            <a:ext cx="3786480" cy="857520"/>
          </a:xfrm>
          <a:prstGeom prst="rect">
            <a:avLst/>
          </a:prstGeom>
          <a:noFill/>
          <a:ln w="38160">
            <a:solidFill>
              <a:srgbClr val="78846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отовод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493560" y="-133200"/>
            <a:ext cx="8242560" cy="15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428760" y="1571760"/>
          <a:ext cx="8286480" cy="5000400"/>
        </p:xfrm>
        <a:graphic>
          <a:graphicData uri="http://schemas.openxmlformats.org/drawingml/2006/table">
            <a:tbl>
              <a:tblPr/>
              <a:tblGrid>
                <a:gridCol w="3143160"/>
                <a:gridCol w="51433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 Black"/>
                          <a:ea typeface="Calibri"/>
                        </a:rPr>
                        <a:t>Завоева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р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мбиз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Скругленный прямоугольник 3"/>
          <p:cNvSpPr/>
          <p:nvPr/>
        </p:nvSpPr>
        <p:spPr>
          <a:xfrm>
            <a:off x="3571920" y="1928880"/>
            <a:ext cx="5143320" cy="1643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Лидия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ововавилонское царств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арф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м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Скругленный прямоугольник 4"/>
          <p:cNvSpPr/>
          <p:nvPr/>
        </p:nvSpPr>
        <p:spPr>
          <a:xfrm>
            <a:off x="3714840" y="4000680"/>
            <a:ext cx="4572000" cy="235728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78846a">
                <a:alpha val="3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Сирия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Иерусалим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Египе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3"/>
          <a:stretch/>
        </p:blipFill>
        <p:spPr>
          <a:xfrm>
            <a:off x="500040" y="4957920"/>
            <a:ext cx="2643120" cy="1471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4"/>
          <a:stretch/>
        </p:blipFill>
        <p:spPr>
          <a:xfrm>
            <a:off x="6786720" y="3643200"/>
            <a:ext cx="19285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rcRect l="0" t="0" r="0" b="-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Овал 3"/>
          <p:cNvSpPr/>
          <p:nvPr/>
        </p:nvSpPr>
        <p:spPr>
          <a:xfrm rot="2403600">
            <a:off x="880560" y="2611440"/>
            <a:ext cx="1227240" cy="9288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Ли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Овал 4"/>
          <p:cNvSpPr/>
          <p:nvPr/>
        </p:nvSpPr>
        <p:spPr>
          <a:xfrm rot="19045200">
            <a:off x="3024360" y="3627000"/>
            <a:ext cx="960120" cy="15001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Вавилон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Овал 5"/>
          <p:cNvSpPr/>
          <p:nvPr/>
        </p:nvSpPr>
        <p:spPr>
          <a:xfrm rot="1863000">
            <a:off x="4044600" y="3664080"/>
            <a:ext cx="2498760" cy="1884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арфия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1928880" y="2428920"/>
            <a:ext cx="2000160" cy="10713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Армени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Овал 7"/>
          <p:cNvSpPr/>
          <p:nvPr/>
        </p:nvSpPr>
        <p:spPr>
          <a:xfrm rot="4191600">
            <a:off x="-365400" y="4641840"/>
            <a:ext cx="3116520" cy="113508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Египет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Овал 8"/>
          <p:cNvSpPr/>
          <p:nvPr/>
        </p:nvSpPr>
        <p:spPr>
          <a:xfrm rot="20398200">
            <a:off x="1325520" y="3932280"/>
            <a:ext cx="1579680" cy="96660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Black"/>
              </a:rPr>
              <a:t>Иерусалим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Овал 9"/>
          <p:cNvSpPr/>
          <p:nvPr/>
        </p:nvSpPr>
        <p:spPr>
          <a:xfrm rot="775200">
            <a:off x="2003040" y="3412800"/>
            <a:ext cx="1220760" cy="803160"/>
          </a:xfrm>
          <a:prstGeom prst="ellipse">
            <a:avLst/>
          </a:prstGeom>
          <a:solidFill>
            <a:srgbClr val="b55475"/>
          </a:solidFill>
          <a:ln w="38160">
            <a:solidFill>
              <a:srgbClr val="b55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Сир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49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28760" y="1357200"/>
            <a:ext cx="3127320" cy="51436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71920" y="1428840"/>
            <a:ext cx="514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(522 – 486 гг. до н.э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643200" y="2143080"/>
            <a:ext cx="5072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«… Я – </a:t>
            </a:r>
            <a:r>
              <a:rPr b="1" i="1" lang="ru-RU" sz="4000" spc="-1" strike="noStrike">
                <a:solidFill>
                  <a:srgbClr val="ff0000"/>
                </a:solidFill>
                <a:latin typeface="Constantia"/>
              </a:rPr>
              <a:t>Дарий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, царь великий, царь царей, царь многоплеменных стран, царь этой земли великой ….»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54:39Z</dcterms:created>
  <dc:creator>777</dc:creator>
  <dc:description/>
  <dc:language>en-US</dc:language>
  <cp:lastModifiedBy>Admin</cp:lastModifiedBy>
  <dcterms:modified xsi:type="dcterms:W3CDTF">2013-12-25T07:59:46Z</dcterms:modified>
  <cp:revision>88</cp:revision>
  <dc:subject/>
  <dc:title>Пер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20000000000001024140</vt:lpwstr>
  </property>
</Properties>
</file>