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116-EA75-4A0E-A0E0-31A44E7F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6FD-739F-46C8-9A00-349BD19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549-084D-4242-BDE4-DF9AB357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32D-D347-4BEB-BF95-3CB847E9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56362-A986-43CD-801D-A07BE334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F900F-0A42-4E45-B360-D6F914B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48B07-D77C-47EA-8102-18D38DD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8963C-8799-44D4-AA28-3002322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D7258-D1FA-4BE3-8CAD-F382CE9F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CA72-434D-4729-BFC5-7FDB029D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A6686-90BB-4E24-A89D-80DFD8E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A61-2AD8-490C-AB19-BE7CCD7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5F6E9-C74E-4240-B4E9-7D46719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3A47-B3D1-4123-8CAA-77949FF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C84D-B57A-4329-AD54-66B3C5A3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4D478-233D-41CB-B698-FABA13F0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DB6A2-0CD7-46D7-BEED-5D5C2CBB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D9A9-FBF8-4B0D-8266-276CEC35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8467-F529-48ED-9F3A-5A28A89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F89B-3B5B-443E-9A82-5195EE3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DE82-01D3-4128-8244-3F71AAE2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B78D-50A8-4505-9D08-18C0643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A3F-E39F-4B82-832D-26AF4F8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1F36-30F8-4AF9-80A6-B502BF07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B027-53AE-4C22-A528-58E857A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8409-E0D9-41F8-83DC-428CA9F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DA40-8AE2-49D0-A293-BA70B93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D9F3-2BFC-4AB4-B9F4-A16C3AD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B7CD-5CEC-42DF-B179-FB12DD49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ED5F-C54C-4281-835E-DE95FE1B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8A88F-0A76-4926-AFAD-19F6D00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17FDD-7A46-4565-A563-AB3408DF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B3172-0DD1-4EC1-8168-E961359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41A-E17C-4E0D-A40E-3F781BDF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795B4-7335-4CB8-89EF-EB188A0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D9C02-F88D-4E5F-A5D3-1707381C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AB60C-1DD9-4E06-99C5-806FC96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5E1CB-0AE1-43FB-BB06-6D5C273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B7378-D542-491C-B26C-2046DE6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BFD92-2F35-4A04-AF37-DD5B415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ADD3E-C59F-47A9-8BA7-D764EE8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F22B3-E5B7-42F1-BBEB-E4E550E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0771F-6799-4C2B-857D-226C9672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6D669-0A0B-467A-9169-F145657C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5B3-18B5-4C46-9A4D-3E10B4EC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24423-1A8C-4010-9DA0-D095BBC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C6B0F-6751-48B8-B94A-1EAF196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E5543-E8BF-4AEB-B361-E1D5CEB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B433C-A1CC-4053-88A5-3426EB66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8BFD0-6A26-47CB-B743-5F5542B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21EEC-7241-4CA9-A986-7BAF3415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D56DF-72B4-4E19-829B-5689DAE8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946F5-A349-4318-870B-A52C876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2B61C-1976-4739-8BE4-28CAFF5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4E883-6F39-43BF-AC33-7177F453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E51-BD9C-4E59-9DE0-EFC30ECC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1DDFD-CE6E-41BD-88AC-715B998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4DC1B-D6D2-4A08-AEB3-3FAD384B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AEDCE-A0C3-46DF-B8BD-1AD59C1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2126B-3EC7-4ED2-82E7-48C88965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51EDD-7339-434C-A6AA-47113F5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7AFF2-6519-422E-B550-9290968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8DF7E-D0B1-4351-829D-B072DE6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9E290-F598-41FC-9154-1D560F1D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0B76A-B462-453B-85E9-3401F2E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3D853-22CF-479F-B7C1-52F86DD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3BF-3772-415A-BFBA-F0E59EE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7134D-809C-441B-9204-3550868F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7488A-5608-42B7-B90C-FA348D9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22740-4ADE-49CA-AF6E-CB9ACFBE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D31-EF67-46D1-8569-F1E87379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687-3306-4311-B204-4223EE8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942-E813-4B9D-ACF3-97E738F9D1A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8B0-7A13-4BE2-A27F-79E73C0E238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7263-D6E6-4FC8-BCE3-9F11C7A5687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36A7-C51F-4EBA-BD04-BA0EBF6A7F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99E-D8BF-4B6F-8E2D-3C7B649BD0E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2C2-1A7E-425F-A28D-65DB2C395DF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-212760" y="-585720"/>
            <a:ext cx="9045720" cy="2921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857920" y="2928600"/>
            <a:ext cx="29145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ВК «Лицей №10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уськова Ольг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кола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53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339040" cy="12380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428760" y="4366800"/>
            <a:ext cx="84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вои дни Великая Персия закончила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в 331г. до н. э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 битве при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Гавгамела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когда персы потерпели сокрушительное поражение от молодого македонского царя –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Александр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785880" y="1214280"/>
            <a:ext cx="75722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назывались племена, захватившие власть в Вавилоне в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абопаласар захватил вавилонский престол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и каком царе Нововавилонское царство достигает своего наивысшего развития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ововавилонское царство прекратило своё существование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ем был завоёван Вавилон в               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 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Скругленная прямоугольная выноска 8"/>
          <p:cNvSpPr/>
          <p:nvPr/>
        </p:nvSpPr>
        <p:spPr>
          <a:xfrm>
            <a:off x="7643880" y="571680"/>
            <a:ext cx="1500120" cy="714240"/>
          </a:xfrm>
          <a:prstGeom prst="wedgeRoundRectCallout">
            <a:avLst>
              <a:gd name="adj1" fmla="val -53550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халде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143760" y="1857240"/>
            <a:ext cx="2428920" cy="64296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625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Скругленная прямоугольная выноска 10"/>
          <p:cNvSpPr/>
          <p:nvPr/>
        </p:nvSpPr>
        <p:spPr>
          <a:xfrm>
            <a:off x="3857760" y="3500280"/>
            <a:ext cx="2571480" cy="71460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nstantia"/>
              </a:rPr>
              <a:t>Навуходоносор 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Скругленная прямоугольная выноска 11"/>
          <p:cNvSpPr/>
          <p:nvPr/>
        </p:nvSpPr>
        <p:spPr>
          <a:xfrm>
            <a:off x="7715160" y="4643280"/>
            <a:ext cx="1643040" cy="785880"/>
          </a:xfrm>
          <a:prstGeom prst="wedgeRoundRectCallout">
            <a:avLst>
              <a:gd name="adj1" fmla="val -55842"/>
              <a:gd name="adj2" fmla="val -17675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539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Скругленная прямоугольная выноска 12"/>
          <p:cNvSpPr/>
          <p:nvPr/>
        </p:nvSpPr>
        <p:spPr>
          <a:xfrm>
            <a:off x="5572080" y="5929200"/>
            <a:ext cx="2143080" cy="785880"/>
          </a:xfrm>
          <a:prstGeom prst="wedgeRoundRectCallout">
            <a:avLst>
              <a:gd name="adj1" fmla="val -147268"/>
              <a:gd name="adj2" fmla="val -27523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перса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353880" y="128520"/>
            <a:ext cx="824076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2143080" y="1285920"/>
          <a:ext cx="5286600" cy="3429000"/>
        </p:xfrm>
        <a:graphic>
          <a:graphicData uri="http://schemas.openxmlformats.org/drawingml/2006/table">
            <a:tbl>
              <a:tblPr/>
              <a:tblGrid>
                <a:gridCol w="1752480"/>
                <a:gridCol w="1781280"/>
                <a:gridCol w="17528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ДЕ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М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ХЦ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ШЬ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63" name="Лента лицом вниз 6"/>
          <p:cNvSpPr/>
          <p:nvPr/>
        </p:nvSpPr>
        <p:spPr>
          <a:xfrm>
            <a:off x="428760" y="4857840"/>
            <a:ext cx="8501040" cy="150012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1d77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 u="sng">
                <a:solidFill>
                  <a:srgbClr val="8e58b6"/>
                </a:solidFill>
                <a:uFillTx/>
                <a:latin typeface="Constantia"/>
              </a:rPr>
              <a:t>5 2 5 6 3 9</a:t>
            </a:r>
            <a:endParaRPr b="0" lang="en-US" sz="6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22003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357120" y="168660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Великая держава перс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Твои бесчисленные войск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Сокровища всех благоверце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Чиновники всегда средь злата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Как ты могла так пасть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Теперь лишь дахмы нам напомня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О том, что боле не вернуть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е встать из умерших в нево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ародам бросившим свой пу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3"/>
          <a:srcRect l="0" t="0" r="311" b="-405"/>
          <a:stretch/>
        </p:blipFill>
        <p:spPr>
          <a:xfrm>
            <a:off x="4714920" y="2643120"/>
            <a:ext cx="390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2"/>
          <a:stretch/>
        </p:blipFill>
        <p:spPr>
          <a:xfrm>
            <a:off x="-55440" y="-208080"/>
            <a:ext cx="8577000" cy="1927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14200" y="946440"/>
            <a:ext cx="842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очему такое сильное и могущественное государ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как Перс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е смогло выдержать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ытаний времени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 кануло вле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57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85840" y="1785960"/>
          <a:ext cx="8434440" cy="4572000"/>
        </p:xfrm>
        <a:graphic>
          <a:graphicData uri="http://schemas.openxmlformats.org/drawingml/2006/table">
            <a:tbl>
              <a:tblPr/>
              <a:tblGrid>
                <a:gridCol w="4216320"/>
                <a:gridCol w="421812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иродные усло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Виды хозяйствен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Прямоугольник 3"/>
          <p:cNvSpPr/>
          <p:nvPr/>
        </p:nvSpPr>
        <p:spPr>
          <a:xfrm>
            <a:off x="571680" y="3214800"/>
            <a:ext cx="342900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7120" y="3714840"/>
            <a:ext cx="4214880" cy="100008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Жаркий засушливый клима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85840" y="4786200"/>
            <a:ext cx="414324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лодородная зем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14200" y="5286240"/>
            <a:ext cx="4214880" cy="10004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гор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500720" y="3286080"/>
            <a:ext cx="4286160" cy="6429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емледелие, рыболовст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4500720" y="4000680"/>
            <a:ext cx="4357440" cy="8571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есло, торгов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4786200" y="4786200"/>
            <a:ext cx="3786480" cy="85752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от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493560" y="-133200"/>
            <a:ext cx="82425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428760" y="1571760"/>
          <a:ext cx="8286480" cy="5000400"/>
        </p:xfrm>
        <a:graphic>
          <a:graphicData uri="http://schemas.openxmlformats.org/drawingml/2006/table">
            <a:tbl>
              <a:tblPr/>
              <a:tblGrid>
                <a:gridCol w="3143160"/>
                <a:gridCol w="51433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Завоев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р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мбиз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Скругленный прямоугольник 3"/>
          <p:cNvSpPr/>
          <p:nvPr/>
        </p:nvSpPr>
        <p:spPr>
          <a:xfrm>
            <a:off x="3571920" y="1928880"/>
            <a:ext cx="5143320" cy="1643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Лид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ововавилонское цар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рф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м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3714840" y="4000680"/>
            <a:ext cx="4572000" cy="235728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3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ири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Иерусалим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Египе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3"/>
          <a:stretch/>
        </p:blipFill>
        <p:spPr>
          <a:xfrm>
            <a:off x="500040" y="4957920"/>
            <a:ext cx="2643120" cy="1471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6786720" y="3643200"/>
            <a:ext cx="1928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rcRect l="0" t="0" r="0" b="-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Овал 3"/>
          <p:cNvSpPr/>
          <p:nvPr/>
        </p:nvSpPr>
        <p:spPr>
          <a:xfrm rot="2403600">
            <a:off x="880560" y="2611440"/>
            <a:ext cx="1227240" cy="928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Ли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Овал 4"/>
          <p:cNvSpPr/>
          <p:nvPr/>
        </p:nvSpPr>
        <p:spPr>
          <a:xfrm rot="19045200">
            <a:off x="3024360" y="3627000"/>
            <a:ext cx="960120" cy="1500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Вавилон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Овал 5"/>
          <p:cNvSpPr/>
          <p:nvPr/>
        </p:nvSpPr>
        <p:spPr>
          <a:xfrm rot="1863000">
            <a:off x="4044600" y="3664080"/>
            <a:ext cx="2498760" cy="1884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арф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1928880" y="2428920"/>
            <a:ext cx="2000160" cy="1071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Овал 7"/>
          <p:cNvSpPr/>
          <p:nvPr/>
        </p:nvSpPr>
        <p:spPr>
          <a:xfrm rot="4191600">
            <a:off x="-365400" y="4641840"/>
            <a:ext cx="3116520" cy="113508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Египет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Овал 8"/>
          <p:cNvSpPr/>
          <p:nvPr/>
        </p:nvSpPr>
        <p:spPr>
          <a:xfrm rot="20398200">
            <a:off x="1325520" y="3932280"/>
            <a:ext cx="1579680" cy="96660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Black"/>
              </a:rPr>
              <a:t>Иерусалим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Овал 9"/>
          <p:cNvSpPr/>
          <p:nvPr/>
        </p:nvSpPr>
        <p:spPr>
          <a:xfrm rot="775200">
            <a:off x="2003040" y="3412800"/>
            <a:ext cx="1220760" cy="80316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ир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49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28760" y="1357200"/>
            <a:ext cx="3127320" cy="5143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71920" y="142884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(522 – 486 гг. до н.э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643200" y="2143080"/>
            <a:ext cx="5072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… Я – </a:t>
            </a:r>
            <a:r>
              <a:rPr b="1" i="1" lang="ru-RU" sz="4000" spc="-1" strike="noStrike">
                <a:solidFill>
                  <a:srgbClr val="ff0000"/>
                </a:solidFill>
                <a:latin typeface="Constantia"/>
              </a:rPr>
              <a:t>Дарий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, царь великий, царь царей, царь многоплеменных стран, царь этой земли великой ….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54:39Z</dcterms:created>
  <dc:creator>777</dc:creator>
  <dc:description/>
  <dc:language>en-US</dc:language>
  <cp:lastModifiedBy>Admin</cp:lastModifiedBy>
  <dcterms:modified xsi:type="dcterms:W3CDTF">2013-12-25T07:59:46Z</dcterms:modified>
  <cp:revision>88</cp:revision>
  <dc:subject/>
  <dc:title>Пер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20000000000001024140</vt:lpwstr>
  </property>
</Properties>
</file>