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48AE-2208-40F3-A632-39F73705C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AD40-F863-4FCE-A33A-93191A35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037C-8736-4977-98A4-6BF4D6396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76DE-5CF3-418F-A7A5-95BF885AD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580DE-C955-4600-900D-3CDF16CD9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94995-C616-4E69-9251-20F67E9E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C480A-2D9D-480D-A14A-9D4B9EA7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34F38-1B1D-4D36-8F74-8D2A4368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3A556-87E4-497E-8D5C-2550BE67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868C2-AC2A-46AB-885D-252C64D8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FD0CC-4F84-4D28-8BB0-4D1E0FC2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FE11-FD16-4C4B-B76D-B07C1E1E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939D8-4305-4EB4-A01C-80E618D2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7178C-257A-4467-8A60-C2AC6C29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6A013-EE81-47B8-81F1-7E5DCF49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897D3-1825-4634-8EBC-A4CCBCA45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99D04-A863-4A5A-9962-1AB67DC77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92B6A-6CE7-4831-B513-8A323519B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CC01F-FFA6-4CBE-A25E-3AB3BB25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18BEB-6329-4C32-B0CB-63590B13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0F543-2732-4F09-8AB1-F339540A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85A09-6CCE-464B-96AB-9D5A12D0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1001-F0C7-4115-A258-41575D98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34EE2-5A6E-49DC-A82E-95FE31D3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648B8-AC2B-4E4C-B660-47615AD9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B72A2-0A3B-4334-88FB-58609AFE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A5B6C-C0E3-452C-A25E-3AF48C14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AFFAB-3647-4644-804A-558846B9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7C17F-AA83-44E4-AF92-BDC219242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AC309-C5D7-4306-BBBA-16746C748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A374D7-5837-4982-A8F6-D34777079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FF714F-959E-4ED3-994A-F4AC783F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9F1019-CC38-4F4E-B3EE-2E9394C0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470C-EB0B-4BA4-A6A4-A95E2535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C33DF7-72D7-43AB-86A4-DC52B3A4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6A63D5-FABC-4D86-98F6-DE917273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05565F-D5C2-40BE-A835-DB10CCE7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D1734E-3856-4416-BD7E-60AC4FE6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24BF7E-D864-4C2E-9E41-48D1C7A8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AE57A3-F280-4304-8DAC-F89280A2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BD182D-9D3A-4D73-97BB-56BA8A70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3504CE-CB4E-409C-8A03-9B21CB5F6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9CFE1E-5B91-48E2-83E3-47A9236C1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28936B-D8CD-49DC-BEAE-751311061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5D24-A44B-430C-B26D-BC6511B1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3B7FDA-B466-4E13-9A40-B1BEEDF3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F6C9F1-1236-4592-9C15-E85C48E6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1A3612-1A2E-478D-91AD-1B6B1F05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A521EB-B110-4869-84DB-5B9685D0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703811-320E-4B17-8638-EF59CCA4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F4C3B5-A6C3-4F3F-9D6A-7E497EBC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F59CB5-4F08-4497-A682-235A1109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EEBEDA-5BED-4D15-8880-41E2630D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AAD824-311B-4950-B2EA-5FBF2B40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14BC74-BA5A-4326-A66C-4C5E7CD59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7935-AB86-4C39-B1CF-265528C6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F1DD21-A6FF-4946-824A-C6A87C80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7D181C-E3E6-4216-A95D-19555D7D9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36FFCA-CBA8-40A7-A69A-2C959B67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614351-7D4F-4934-B97C-70AA8C1D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055C63-97DA-44F0-8EFC-097C90B1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8888EC-A1DF-4C7B-95EF-5F5834B2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88C41C-72A0-4C6F-B979-7885CF66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1F8E14-D003-49E9-A32A-89F84D87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6364CB-4FF7-40C2-9A90-81B30B5F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DB1264-CFF1-4514-94F5-0D8B592E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94AF-637A-4999-B1E0-47AFBF4F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BC2C9A-BD9F-4AA8-B0BF-6DF02AF8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158D97-928F-44A3-86A4-3BD1F11D1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AAAD5C-9B74-41AA-879F-3452829BF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B4A5-BB7A-4759-A701-33E2EA42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CA53-48AB-49D8-8A63-C7FF5BDE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137B-7D4F-4D20-B417-593EBBE0DAB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42D3-BAC2-4A41-BDC4-035BF9CB0B3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5A6E-A1B5-4BCB-81C6-AC184A191FD5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103C-E8E0-408D-871E-40DB07EDF4D2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84DC-B461-41C2-8160-79588497F81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E0F2-CD08-4ADE-A136-536F01733F1A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2"/>
          <a:stretch/>
        </p:blipFill>
        <p:spPr>
          <a:xfrm>
            <a:off x="-212760" y="-585720"/>
            <a:ext cx="9045720" cy="292104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5857920" y="2928600"/>
            <a:ext cx="291456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Учитель истори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категори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УВК «Лицей №10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Гуськова Ольга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Николаевн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4" name="Picture 3" descr=""/>
          <p:cNvPicPr/>
          <p:nvPr/>
        </p:nvPicPr>
        <p:blipFill>
          <a:blip r:embed="rId3"/>
          <a:stretch/>
        </p:blipFill>
        <p:spPr>
          <a:xfrm>
            <a:off x="357120" y="2500200"/>
            <a:ext cx="53485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2"/>
          <a:stretch/>
        </p:blipFill>
        <p:spPr>
          <a:xfrm>
            <a:off x="426960" y="146160"/>
            <a:ext cx="8339040" cy="123804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1"/>
          <p:cNvSpPr/>
          <p:nvPr/>
        </p:nvSpPr>
        <p:spPr>
          <a:xfrm>
            <a:off x="428760" y="4366800"/>
            <a:ext cx="8429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вои дни Великая Персия закончила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в 331г. до н. э.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в битве при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Гавгамелах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когда персы потерпели сокрушительное поражение от молодого македонского царя –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Александр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3"/>
          <a:stretch/>
        </p:blipFill>
        <p:spPr>
          <a:xfrm>
            <a:off x="785880" y="1214280"/>
            <a:ext cx="7572240" cy="31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68000" indent="-468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Как назывались племена, захватившие власть в Вавилоне в </a:t>
            </a:r>
            <a:r>
              <a:rPr b="1" lang="en-US" sz="3600" spc="-1" strike="noStrike">
                <a:solidFill>
                  <a:srgbClr val="ffffff"/>
                </a:solidFill>
                <a:latin typeface="Harrington"/>
                <a:ea typeface="Arial Unicode MS"/>
              </a:rPr>
              <a:t>VII</a:t>
            </a:r>
            <a:r>
              <a:rPr b="1" lang="ru-RU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в. до н.э.?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468000" indent="-468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В каком году Набопаласар захватил вавилонский престол?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468000" indent="-468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При каком царе Нововавилонское царство достигает своего наивысшего развития?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468000" indent="-468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В каком году Нововавилонское царство прекратило своё существование?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468000" indent="-468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Кем был завоёван Вавилон в                </a:t>
            </a:r>
            <a:r>
              <a:rPr b="1" lang="en-US" sz="3600" spc="-1" strike="noStrike">
                <a:solidFill>
                  <a:srgbClr val="ffffff"/>
                </a:solidFill>
                <a:latin typeface="Harrington"/>
                <a:ea typeface="Arial Unicode MS"/>
              </a:rPr>
              <a:t>VI</a:t>
            </a:r>
            <a:r>
              <a:rPr b="1" lang="ru-RU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в. до н. э.?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Скругленная прямоугольная выноска 8"/>
          <p:cNvSpPr/>
          <p:nvPr/>
        </p:nvSpPr>
        <p:spPr>
          <a:xfrm>
            <a:off x="7643880" y="571680"/>
            <a:ext cx="1500120" cy="714240"/>
          </a:xfrm>
          <a:prstGeom prst="wedgeRoundRectCallout">
            <a:avLst>
              <a:gd name="adj1" fmla="val -53550"/>
              <a:gd name="adj2" fmla="val -16268"/>
              <a:gd name="adj3" fmla="val 16667"/>
            </a:avLst>
          </a:prstGeom>
          <a:solidFill>
            <a:srgbClr val="ffff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халде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Скругленная прямоугольная выноска 9"/>
          <p:cNvSpPr/>
          <p:nvPr/>
        </p:nvSpPr>
        <p:spPr>
          <a:xfrm>
            <a:off x="6143760" y="1857240"/>
            <a:ext cx="2428920" cy="642960"/>
          </a:xfrm>
          <a:prstGeom prst="wedgeRoundRectCallout">
            <a:avLst>
              <a:gd name="adj1" fmla="val -81629"/>
              <a:gd name="adj2" fmla="val -16268"/>
              <a:gd name="adj3" fmla="val 16667"/>
            </a:avLst>
          </a:prstGeom>
          <a:solidFill>
            <a:srgbClr val="ffff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nstantia"/>
              </a:rPr>
              <a:t>в </a:t>
            </a:r>
            <a:r>
              <a:rPr b="1" i="1" lang="ru-RU" sz="2400" spc="-1" strike="noStrike">
                <a:solidFill>
                  <a:srgbClr val="ff0000"/>
                </a:solidFill>
                <a:latin typeface="Arial Black"/>
              </a:rPr>
              <a:t>625</a:t>
            </a:r>
            <a:r>
              <a:rPr b="1" i="1" lang="ru-RU" sz="2400" spc="-1" strike="noStrike">
                <a:solidFill>
                  <a:srgbClr val="ff0000"/>
                </a:solidFill>
                <a:latin typeface="Constantia"/>
              </a:rPr>
              <a:t> г. до н.э</a:t>
            </a:r>
            <a:r>
              <a:rPr b="0" i="1" lang="ru-RU" sz="24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8" name="Скругленная прямоугольная выноска 10"/>
          <p:cNvSpPr/>
          <p:nvPr/>
        </p:nvSpPr>
        <p:spPr>
          <a:xfrm>
            <a:off x="3857760" y="3500280"/>
            <a:ext cx="2571480" cy="714600"/>
          </a:xfrm>
          <a:prstGeom prst="wedgeRoundRectCallout">
            <a:avLst>
              <a:gd name="adj1" fmla="val -81629"/>
              <a:gd name="adj2" fmla="val -16268"/>
              <a:gd name="adj3" fmla="val 16667"/>
            </a:avLst>
          </a:prstGeom>
          <a:solidFill>
            <a:srgbClr val="ffff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onstantia"/>
              </a:rPr>
              <a:t>Навуходоносор </a:t>
            </a:r>
            <a:r>
              <a:rPr b="1" i="1" lang="en-US" sz="1800" spc="-1" strike="noStrike">
                <a:solidFill>
                  <a:srgbClr val="ff0000"/>
                </a:solidFill>
                <a:latin typeface="Constantia"/>
              </a:rPr>
              <a:t>II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Скругленная прямоугольная выноска 11"/>
          <p:cNvSpPr/>
          <p:nvPr/>
        </p:nvSpPr>
        <p:spPr>
          <a:xfrm>
            <a:off x="7715160" y="4643280"/>
            <a:ext cx="1643040" cy="785880"/>
          </a:xfrm>
          <a:prstGeom prst="wedgeRoundRectCallout">
            <a:avLst>
              <a:gd name="adj1" fmla="val -55842"/>
              <a:gd name="adj2" fmla="val -17675"/>
              <a:gd name="adj3" fmla="val 16667"/>
            </a:avLst>
          </a:prstGeom>
          <a:solidFill>
            <a:srgbClr val="ffff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в </a:t>
            </a:r>
            <a:r>
              <a:rPr b="1" i="1" lang="ru-RU" sz="2800" spc="-1" strike="noStrike">
                <a:solidFill>
                  <a:srgbClr val="ff0000"/>
                </a:solidFill>
                <a:latin typeface="Arial Black"/>
              </a:rPr>
              <a:t>539</a:t>
            </a: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 г. до н.э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0" name="Скругленная прямоугольная выноска 12"/>
          <p:cNvSpPr/>
          <p:nvPr/>
        </p:nvSpPr>
        <p:spPr>
          <a:xfrm>
            <a:off x="5572080" y="5929200"/>
            <a:ext cx="2143080" cy="785880"/>
          </a:xfrm>
          <a:prstGeom prst="wedgeRoundRectCallout">
            <a:avLst>
              <a:gd name="adj1" fmla="val -147268"/>
              <a:gd name="adj2" fmla="val -27523"/>
              <a:gd name="adj3" fmla="val 16667"/>
            </a:avLst>
          </a:prstGeom>
          <a:solidFill>
            <a:srgbClr val="ffff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персам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2" descr=""/>
          <p:cNvPicPr/>
          <p:nvPr/>
        </p:nvPicPr>
        <p:blipFill>
          <a:blip r:embed="rId2"/>
          <a:stretch/>
        </p:blipFill>
        <p:spPr>
          <a:xfrm>
            <a:off x="353880" y="128520"/>
            <a:ext cx="8240760" cy="104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2" name=""/>
          <p:cNvGraphicFramePr/>
          <p:nvPr/>
        </p:nvGraphicFramePr>
        <p:xfrm>
          <a:off x="2143080" y="1285920"/>
          <a:ext cx="5286600" cy="3429000"/>
        </p:xfrm>
        <a:graphic>
          <a:graphicData uri="http://schemas.openxmlformats.org/drawingml/2006/table">
            <a:tbl>
              <a:tblPr/>
              <a:tblGrid>
                <a:gridCol w="1752480"/>
                <a:gridCol w="1781280"/>
                <a:gridCol w="1752840"/>
              </a:tblGrid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Б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ДЕЁ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ЖЗИ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12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ЛМ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П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17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ХЦ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ЩШЬЪ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Ы</a:t>
                      </a: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ЭЮ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63" name="Лента лицом вниз 6"/>
          <p:cNvSpPr/>
          <p:nvPr/>
        </p:nvSpPr>
        <p:spPr>
          <a:xfrm>
            <a:off x="428760" y="4857840"/>
            <a:ext cx="8501040" cy="1500120"/>
          </a:xfrm>
          <a:custGeom>
            <a:avLst/>
            <a:gdLst>
              <a:gd name="textAreaLeft" fmla="*/ 2125080 w 8501040"/>
              <a:gd name="textAreaRight" fmla="*/ 6375960 w 8501040"/>
              <a:gd name="textAreaTop" fmla="*/ 249840 h 1500120"/>
              <a:gd name="textAreaBottom" fmla="*/ 150048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f1d77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700" spc="-1" strike="noStrike" u="sng">
                <a:solidFill>
                  <a:srgbClr val="8e58b6"/>
                </a:solidFill>
                <a:uFillTx/>
                <a:latin typeface="Constantia"/>
              </a:rPr>
              <a:t>5 2 5 6 3 9</a:t>
            </a:r>
            <a:endParaRPr b="0" lang="en-US" sz="67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2" descr=""/>
          <p:cNvPicPr/>
          <p:nvPr/>
        </p:nvPicPr>
        <p:blipFill>
          <a:blip r:embed="rId2"/>
          <a:stretch/>
        </p:blipFill>
        <p:spPr>
          <a:xfrm>
            <a:off x="450720" y="-225360"/>
            <a:ext cx="8242560" cy="220032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1"/>
          <p:cNvSpPr/>
          <p:nvPr/>
        </p:nvSpPr>
        <p:spPr>
          <a:xfrm>
            <a:off x="357120" y="1686600"/>
            <a:ext cx="42148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Book Antiqua"/>
                <a:ea typeface="Calibri"/>
              </a:rPr>
              <a:t>Великая держава персов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Book Antiqua"/>
                <a:ea typeface="Calibri"/>
              </a:rPr>
              <a:t>Твои бесчисленные войска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Book Antiqua"/>
              </a:rPr>
              <a:t>Сокровища всех благоверцев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Book Antiqua"/>
              </a:rPr>
              <a:t>Чиновники всегда средь злата</a:t>
            </a: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Book Antiqua"/>
              </a:rPr>
              <a:t>Как ты могла так пасть?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Book Antiqua"/>
              </a:rPr>
              <a:t>Теперь лишь дахмы нам напомнят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Book Antiqua"/>
              </a:rPr>
              <a:t>О том, что боле не вернуть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Book Antiqua"/>
              </a:rPr>
              <a:t>Не встать из умерших в невол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Book Antiqua"/>
              </a:rPr>
              <a:t>Народам бросившим свой путь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3"/>
          <a:srcRect l="0" t="0" r="311" b="-405"/>
          <a:stretch/>
        </p:blipFill>
        <p:spPr>
          <a:xfrm>
            <a:off x="4714920" y="2643120"/>
            <a:ext cx="39006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Заголовок 1" descr=""/>
          <p:cNvPicPr/>
          <p:nvPr/>
        </p:nvPicPr>
        <p:blipFill>
          <a:blip r:embed="rId2"/>
          <a:stretch/>
        </p:blipFill>
        <p:spPr>
          <a:xfrm>
            <a:off x="-55440" y="-208080"/>
            <a:ext cx="8577000" cy="192744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1"/>
          <p:cNvSpPr/>
          <p:nvPr/>
        </p:nvSpPr>
        <p:spPr>
          <a:xfrm>
            <a:off x="214200" y="946440"/>
            <a:ext cx="842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Почему такое сильное и могущественное государство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как Персия,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не смогло выдержать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испытаний времени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и кануло влета?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3"/>
          <a:stretch/>
        </p:blipFill>
        <p:spPr>
          <a:xfrm>
            <a:off x="357120" y="3214800"/>
            <a:ext cx="335772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1" descr=""/>
          <p:cNvPicPr/>
          <p:nvPr/>
        </p:nvPicPr>
        <p:blipFill>
          <a:blip r:embed="rId2"/>
          <a:stretch/>
        </p:blipFill>
        <p:spPr>
          <a:xfrm>
            <a:off x="450720" y="79200"/>
            <a:ext cx="8242560" cy="157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1" name=""/>
          <p:cNvGraphicFramePr/>
          <p:nvPr/>
        </p:nvGraphicFramePr>
        <p:xfrm>
          <a:off x="285840" y="1785960"/>
          <a:ext cx="8434440" cy="4572000"/>
        </p:xfrm>
        <a:graphic>
          <a:graphicData uri="http://schemas.openxmlformats.org/drawingml/2006/table">
            <a:tbl>
              <a:tblPr/>
              <a:tblGrid>
                <a:gridCol w="4216320"/>
                <a:gridCol w="4218120"/>
              </a:tblGrid>
              <a:tr h="14288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Природные услов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Виды хозяйственной деятельн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31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Прямоугольник 3"/>
          <p:cNvSpPr/>
          <p:nvPr/>
        </p:nvSpPr>
        <p:spPr>
          <a:xfrm>
            <a:off x="571680" y="3214800"/>
            <a:ext cx="3429000" cy="500040"/>
          </a:xfrm>
          <a:prstGeom prst="rect">
            <a:avLst/>
          </a:prstGeom>
          <a:noFill/>
          <a:ln w="38160">
            <a:solidFill>
              <a:srgbClr val="78846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Реки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Прямоугольник 4"/>
          <p:cNvSpPr/>
          <p:nvPr/>
        </p:nvSpPr>
        <p:spPr>
          <a:xfrm>
            <a:off x="357120" y="3714840"/>
            <a:ext cx="4214880" cy="1000080"/>
          </a:xfrm>
          <a:prstGeom prst="rect">
            <a:avLst/>
          </a:prstGeom>
          <a:noFill/>
          <a:ln w="38160">
            <a:solidFill>
              <a:srgbClr val="78846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Жаркий засушливый климат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4" name="Прямоугольник 6"/>
          <p:cNvSpPr/>
          <p:nvPr/>
        </p:nvSpPr>
        <p:spPr>
          <a:xfrm>
            <a:off x="285840" y="4786200"/>
            <a:ext cx="4143240" cy="500040"/>
          </a:xfrm>
          <a:prstGeom prst="rect">
            <a:avLst/>
          </a:prstGeom>
          <a:noFill/>
          <a:ln w="38160">
            <a:solidFill>
              <a:srgbClr val="78846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Неплодородная земл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5" name="Прямоугольник 7"/>
          <p:cNvSpPr/>
          <p:nvPr/>
        </p:nvSpPr>
        <p:spPr>
          <a:xfrm>
            <a:off x="214200" y="5286240"/>
            <a:ext cx="4214880" cy="1000440"/>
          </a:xfrm>
          <a:prstGeom prst="rect">
            <a:avLst/>
          </a:prstGeom>
          <a:noFill/>
          <a:ln w="38160">
            <a:solidFill>
              <a:srgbClr val="78846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горь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Прямоугольник 8"/>
          <p:cNvSpPr/>
          <p:nvPr/>
        </p:nvSpPr>
        <p:spPr>
          <a:xfrm>
            <a:off x="4500720" y="3286080"/>
            <a:ext cx="4286160" cy="642960"/>
          </a:xfrm>
          <a:prstGeom prst="rect">
            <a:avLst/>
          </a:prstGeom>
          <a:noFill/>
          <a:ln w="38160">
            <a:solidFill>
              <a:srgbClr val="78846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Земледелие, рыболовство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Прямоугольник 9"/>
          <p:cNvSpPr/>
          <p:nvPr/>
        </p:nvSpPr>
        <p:spPr>
          <a:xfrm>
            <a:off x="4500720" y="4000680"/>
            <a:ext cx="4357440" cy="857160"/>
          </a:xfrm>
          <a:prstGeom prst="rect">
            <a:avLst/>
          </a:prstGeom>
          <a:noFill/>
          <a:ln w="38160">
            <a:solidFill>
              <a:srgbClr val="78846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Ремесло, торговл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8" name="Прямоугольник 10"/>
          <p:cNvSpPr/>
          <p:nvPr/>
        </p:nvSpPr>
        <p:spPr>
          <a:xfrm>
            <a:off x="4786200" y="4786200"/>
            <a:ext cx="3786480" cy="857520"/>
          </a:xfrm>
          <a:prstGeom prst="rect">
            <a:avLst/>
          </a:prstGeom>
          <a:noFill/>
          <a:ln w="38160">
            <a:solidFill>
              <a:srgbClr val="78846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котоводство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Заголовок 1" descr=""/>
          <p:cNvPicPr/>
          <p:nvPr/>
        </p:nvPicPr>
        <p:blipFill>
          <a:blip r:embed="rId2"/>
          <a:stretch/>
        </p:blipFill>
        <p:spPr>
          <a:xfrm>
            <a:off x="493560" y="-133200"/>
            <a:ext cx="8242560" cy="157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0" name=""/>
          <p:cNvGraphicFramePr/>
          <p:nvPr/>
        </p:nvGraphicFramePr>
        <p:xfrm>
          <a:off x="428760" y="1571760"/>
          <a:ext cx="8286480" cy="5000400"/>
        </p:xfrm>
        <a:graphic>
          <a:graphicData uri="http://schemas.openxmlformats.org/drawingml/2006/table">
            <a:tbl>
              <a:tblPr/>
              <a:tblGrid>
                <a:gridCol w="3143160"/>
                <a:gridCol w="5143320"/>
              </a:tblGrid>
              <a:tr h="4878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Правит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Завоеван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ир 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I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82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мбиз 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I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Скругленный прямоугольник 3"/>
          <p:cNvSpPr/>
          <p:nvPr/>
        </p:nvSpPr>
        <p:spPr>
          <a:xfrm>
            <a:off x="3571920" y="1928880"/>
            <a:ext cx="5143320" cy="1643040"/>
          </a:xfrm>
          <a:prstGeom prst="roundRect">
            <a:avLst>
              <a:gd name="adj" fmla="val 16667"/>
            </a:avLst>
          </a:prstGeom>
          <a:noFill/>
          <a:ln w="0">
            <a:solidFill>
              <a:srgbClr val="78846a">
                <a:alpha val="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Лидия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Нововавилонское царство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Парфи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Армени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Скругленный прямоугольник 4"/>
          <p:cNvSpPr/>
          <p:nvPr/>
        </p:nvSpPr>
        <p:spPr>
          <a:xfrm>
            <a:off x="3714840" y="4000680"/>
            <a:ext cx="4572000" cy="2357280"/>
          </a:xfrm>
          <a:prstGeom prst="roundRect">
            <a:avLst>
              <a:gd name="adj" fmla="val 16667"/>
            </a:avLst>
          </a:prstGeom>
          <a:noFill/>
          <a:ln w="0">
            <a:solidFill>
              <a:srgbClr val="78846a">
                <a:alpha val="3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Сирия,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Иерусалим,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Египет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3" name="Picture 1" descr=""/>
          <p:cNvPicPr/>
          <p:nvPr/>
        </p:nvPicPr>
        <p:blipFill>
          <a:blip r:embed="rId3"/>
          <a:stretch/>
        </p:blipFill>
        <p:spPr>
          <a:xfrm>
            <a:off x="500040" y="4957920"/>
            <a:ext cx="2643120" cy="14713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4"/>
          <a:stretch/>
        </p:blipFill>
        <p:spPr>
          <a:xfrm>
            <a:off x="6786720" y="3643200"/>
            <a:ext cx="192852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"/>
          <p:cNvPicPr/>
          <p:nvPr/>
        </p:nvPicPr>
        <p:blipFill>
          <a:blip r:embed="rId2"/>
          <a:srcRect l="0" t="0" r="0" b="-9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Овал 3"/>
          <p:cNvSpPr/>
          <p:nvPr/>
        </p:nvSpPr>
        <p:spPr>
          <a:xfrm rot="2403600">
            <a:off x="880560" y="2611440"/>
            <a:ext cx="1227240" cy="9288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Лидия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Овал 4"/>
          <p:cNvSpPr/>
          <p:nvPr/>
        </p:nvSpPr>
        <p:spPr>
          <a:xfrm rot="19045200">
            <a:off x="3024360" y="3627000"/>
            <a:ext cx="960120" cy="15001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Вавилон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Овал 5"/>
          <p:cNvSpPr/>
          <p:nvPr/>
        </p:nvSpPr>
        <p:spPr>
          <a:xfrm rot="1863000">
            <a:off x="4044600" y="3664080"/>
            <a:ext cx="2498760" cy="18842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арфия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Овал 6"/>
          <p:cNvSpPr/>
          <p:nvPr/>
        </p:nvSpPr>
        <p:spPr>
          <a:xfrm>
            <a:off x="1928880" y="2428920"/>
            <a:ext cx="2000160" cy="107136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Армения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Овал 7"/>
          <p:cNvSpPr/>
          <p:nvPr/>
        </p:nvSpPr>
        <p:spPr>
          <a:xfrm rot="4191600">
            <a:off x="-365400" y="4641840"/>
            <a:ext cx="3116520" cy="1135080"/>
          </a:xfrm>
          <a:prstGeom prst="ellipse">
            <a:avLst/>
          </a:prstGeom>
          <a:solidFill>
            <a:srgbClr val="b55475"/>
          </a:solidFill>
          <a:ln w="38160">
            <a:solidFill>
              <a:srgbClr val="b55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Египет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Овал 8"/>
          <p:cNvSpPr/>
          <p:nvPr/>
        </p:nvSpPr>
        <p:spPr>
          <a:xfrm rot="20398200">
            <a:off x="1325520" y="3932280"/>
            <a:ext cx="1579680" cy="966600"/>
          </a:xfrm>
          <a:prstGeom prst="ellipse">
            <a:avLst/>
          </a:prstGeom>
          <a:solidFill>
            <a:srgbClr val="b55475"/>
          </a:solidFill>
          <a:ln w="38160">
            <a:solidFill>
              <a:srgbClr val="b55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 Black"/>
              </a:rPr>
              <a:t>Иерусалим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Овал 9"/>
          <p:cNvSpPr/>
          <p:nvPr/>
        </p:nvSpPr>
        <p:spPr>
          <a:xfrm rot="775200">
            <a:off x="2003040" y="3412800"/>
            <a:ext cx="1220760" cy="803160"/>
          </a:xfrm>
          <a:prstGeom prst="ellipse">
            <a:avLst/>
          </a:prstGeom>
          <a:solidFill>
            <a:srgbClr val="b55475"/>
          </a:solidFill>
          <a:ln w="38160">
            <a:solidFill>
              <a:srgbClr val="b55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Сирия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Заголовок 1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492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" descr=""/>
          <p:cNvPicPr/>
          <p:nvPr/>
        </p:nvPicPr>
        <p:blipFill>
          <a:blip r:embed="rId3"/>
          <a:stretch/>
        </p:blipFill>
        <p:spPr>
          <a:xfrm>
            <a:off x="428760" y="1357200"/>
            <a:ext cx="3127320" cy="5143680"/>
          </a:xfrm>
          <a:prstGeom prst="rect">
            <a:avLst/>
          </a:prstGeom>
          <a:ln w="0">
            <a:noFill/>
          </a:ln>
        </p:spPr>
      </p:pic>
      <p:sp>
        <p:nvSpPr>
          <p:cNvPr id="295" name="TextBox 3"/>
          <p:cNvSpPr/>
          <p:nvPr/>
        </p:nvSpPr>
        <p:spPr>
          <a:xfrm>
            <a:off x="3571920" y="1428840"/>
            <a:ext cx="5143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nstantia"/>
              </a:rPr>
              <a:t>(522 – 486 гг. до н.э)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" name="TextBox 4"/>
          <p:cNvSpPr/>
          <p:nvPr/>
        </p:nvSpPr>
        <p:spPr>
          <a:xfrm>
            <a:off x="3643200" y="2143080"/>
            <a:ext cx="50720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«… Я – </a:t>
            </a:r>
            <a:r>
              <a:rPr b="1" i="1" lang="ru-RU" sz="4000" spc="-1" strike="noStrike">
                <a:solidFill>
                  <a:srgbClr val="ff0000"/>
                </a:solidFill>
                <a:latin typeface="Constantia"/>
              </a:rPr>
              <a:t>Дарий</a:t>
            </a: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, царь великий, царь царей, царь многоплеменных стран, царь этой земли великой ….»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4T17:54:39Z</dcterms:created>
  <dc:creator>777</dc:creator>
  <dc:description/>
  <dc:language>en-US</dc:language>
  <cp:lastModifiedBy>Admin</cp:lastModifiedBy>
  <dcterms:modified xsi:type="dcterms:W3CDTF">2013-12-25T07:59:46Z</dcterms:modified>
  <cp:revision>88</cp:revision>
  <dc:subject/>
  <dc:title>Перс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e20000000000001024140</vt:lpwstr>
  </property>
</Properties>
</file>