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D446-7766-476C-98F2-997AF849E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5D4-A1D9-4380-B59A-378C58AF4C7E}" type="slidenum">
              <a:rPr b="1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5F1-FAA6-4197-9428-D0514B87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B61-11D7-41BF-9EBB-5DD8F12B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55F-BD7D-4DE2-93ED-01B9E92B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3C1-8400-470A-B6E1-3B09FC25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5D6-D6B9-46B0-9E5F-2936E2D2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73D-E664-4DEA-8758-44D105A9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6C7-2244-4F6C-A959-7E342886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80C-9CE2-4DF3-B007-F4E391AF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C91-749E-4E6A-8E62-45CBB8B4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FDD-0A4E-4F78-AA76-B5B7BF1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6B6-ECD2-4C76-A9D7-9DF9168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58A-0E2F-4AD4-8E90-0174EE9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F26-B3AD-4A98-8A5F-A058D33D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 Б клас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мирная  и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419360"/>
            <a:ext cx="5410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истории ДГГ №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ктория  Борисовна  Ши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возвращение воина из похода"/>
          <p:cNvPicPr/>
          <p:nvPr/>
        </p:nvPicPr>
        <p:blipFill>
          <a:blip r:embed="rId2"/>
          <a:stretch/>
        </p:blipFill>
        <p:spPr>
          <a:xfrm>
            <a:off x="304920" y="4876920"/>
            <a:ext cx="2209680" cy="172404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123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ВОБОЖДЕНИЕ  ГРЕЦИИ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итва при Платеях –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79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50292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286000"/>
            <a:ext cx="2907000" cy="379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39000"/>
            <a:ext cx="8712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лководец - Пав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31640" y="1989000"/>
          <a:ext cx="8425080" cy="4354560"/>
        </p:xfrm>
        <a:graphic>
          <a:graphicData uri="http://schemas.openxmlformats.org/drawingml/2006/table">
            <a:tbl>
              <a:tblPr/>
              <a:tblGrid>
                <a:gridCol w="1352880"/>
                <a:gridCol w="2633400"/>
                <a:gridCol w="2278080"/>
                <a:gridCol w="21607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9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арафонская б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ильти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у Фермоп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Лео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ражение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аламинское с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Фемисток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79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при Плате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ав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 txBox="1"/>
          <p:nvPr/>
        </p:nvSpPr>
        <p:spPr>
          <a:xfrm>
            <a:off x="971640" y="404640"/>
            <a:ext cx="7489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оверь таблиц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2362320"/>
            <a:ext cx="7696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доблесть и мужество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объединение сил в борьбе с персами (создание сою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талант греческих страте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реимущества греческ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5280" y="209520"/>
            <a:ext cx="8918640" cy="9907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0880" y="4572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Book Antiqua"/>
              </a:rPr>
              <a:t>Почему маленькая Греция смогла одержать победу над  Персидской держа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430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ричины победы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араграф 30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ть контурную ка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фильм «300 спартан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шнее  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р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СТОРИЧЕСКАЯ 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был самым могущественным царем Персидской держа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лся совет знати в Афи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ется город-государство в Древней Гре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каком полисе Греции одновременно правили два правителя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отменил в Афинах долговое рабств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значает греческое слово «демократия» 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ение узкого круга аристократов 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занятия  жителей Афи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основное занятие спартанцев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Греко-персидски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ый  вопрос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очему небольшая по территории Греция смогла одержать победу над огромным Персидским государством?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 изучения 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.Причины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.Ход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. Итоги Греко-персидских войн и их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4.Значение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ологическ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371600"/>
          <a:ext cx="7848000" cy="4897440"/>
        </p:xfrm>
        <a:graphic>
          <a:graphicData uri="http://schemas.openxmlformats.org/drawingml/2006/table">
            <a:tbl>
              <a:tblPr/>
              <a:tblGrid>
                <a:gridCol w="973800"/>
                <a:gridCol w="2291040"/>
                <a:gridCol w="2291760"/>
                <a:gridCol w="22914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53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32448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5892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nstantia"/>
              </a:rPr>
              <a:t>Фермопильское 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048120"/>
            <a:ext cx="304920" cy="380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ермопильское сражение копия"/>
          <p:cNvPicPr/>
          <p:nvPr/>
        </p:nvPicPr>
        <p:blipFill>
          <a:blip r:embed="rId3"/>
          <a:stretch/>
        </p:blipFill>
        <p:spPr>
          <a:xfrm>
            <a:off x="3657600" y="2438280"/>
            <a:ext cx="49593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16240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3425760"/>
            <a:ext cx="5410080" cy="3432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410080" y="3962520"/>
            <a:ext cx="3124440" cy="2654280"/>
          </a:xfrm>
          <a:prstGeom prst="rect">
            <a:avLst/>
          </a:prstGeom>
          <a:solidFill>
            <a:srgbClr val="ff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О путник , поведай спартанцам о нашей кон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ерны законам своим, мы здесь костьми полег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100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943600" y="114300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ерва стояло твердо войско персов; когда же скучились суда в проливе, дать помощи друг другу не могли и медными носами поражали своих же- все тогда они погиб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Эсх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152280" y="3311640"/>
            <a:ext cx="5715000" cy="3390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АЛАМИН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Пользователь1</cp:lastModifiedBy>
  <dcterms:modified xsi:type="dcterms:W3CDTF">2013-03-13T22:04:4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0000000000001024140</vt:lpwstr>
  </property>
  <property fmtid="{D5CDD505-2E9C-101B-9397-08002B2CF9AE}" pid="3" name="Version">
    <vt:r8>1</vt:r8>
  </property>
</Properties>
</file>