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6CFB-67EA-4F23-BF6C-3543B6B0F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3095-18C7-482A-A200-17CBBB184758}" type="slidenum">
              <a:rPr b="1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EF80-3C2A-4882-A341-B8C86E45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BB3-EDFC-411F-BC1C-3060B971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4AF-2777-44ED-99C9-8C1FD5D5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2DCB-FCDF-458C-997E-2F14D468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7CD-7A76-4A62-A131-110BF46A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A4A-417D-48FC-B361-FAD20155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02F-DFD6-44C6-8A32-3C78D94E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15F-2806-4D5B-A508-846C40BA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2B7-AFCF-4604-85CE-509D053F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1C6-EC99-4DB7-8EB7-B12561F6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6628-AD3C-466D-ACA5-CE15327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42A-DBA7-4633-B86F-05302519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08A1-8B61-4C5C-9C34-BCBF18B97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095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- Б клас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семирная  и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419360"/>
            <a:ext cx="54100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итель истории ДГГ №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ктория  Борисовна  Ши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возвращение воина из похода"/>
          <p:cNvPicPr/>
          <p:nvPr/>
        </p:nvPicPr>
        <p:blipFill>
          <a:blip r:embed="rId2"/>
          <a:stretch/>
        </p:blipFill>
        <p:spPr>
          <a:xfrm>
            <a:off x="304920" y="4876920"/>
            <a:ext cx="2209680" cy="1724040"/>
          </a:xfrm>
          <a:prstGeom prst="rect">
            <a:avLst/>
          </a:prstGeom>
          <a:ln w="9360">
            <a:solidFill>
              <a:srgbClr val="0000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71236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СВОБОЖДЕНИЕ  ГРЕЦИИ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Битва при Платеях –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479 г. до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5029200" cy="426744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2286000"/>
            <a:ext cx="2907000" cy="379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039000"/>
            <a:ext cx="87123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лководец - Павс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31640" y="1989000"/>
          <a:ext cx="8425080" cy="4354560"/>
        </p:xfrm>
        <a:graphic>
          <a:graphicData uri="http://schemas.openxmlformats.org/drawingml/2006/table">
            <a:tbl>
              <a:tblPr/>
              <a:tblGrid>
                <a:gridCol w="1352880"/>
                <a:gridCol w="2633400"/>
                <a:gridCol w="2278080"/>
                <a:gridCol w="2160720"/>
              </a:tblGrid>
              <a:tr h="56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9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арафонская би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Мильтиа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у Фермоп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Леони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ражение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80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Саламинское сра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Фемисток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79 г. до н.э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Битва при Платея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авса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Победа гре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 txBox="1"/>
          <p:nvPr/>
        </p:nvSpPr>
        <p:spPr>
          <a:xfrm>
            <a:off x="971640" y="404640"/>
            <a:ext cx="7489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оверь таблицу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066680" y="2362320"/>
            <a:ext cx="76964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доблесть и мужество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объединение сил в борьбе с персами (создание сою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талант греческих страте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преимущества греческого фл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25280" y="209520"/>
            <a:ext cx="8918640" cy="990720"/>
          </a:xfrm>
          <a:prstGeom prst="rect">
            <a:avLst/>
          </a:prstGeom>
          <a:solidFill>
            <a:srgbClr val="a5b7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0880" y="45720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Book Antiqua"/>
              </a:rPr>
              <a:t>Почему маленькая Греция смогла одержать победу над  Персидской держа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1430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Book Antiqua"/>
              </a:rPr>
              <a:t>Причины победы гре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араграф 30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лнить контурную ка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мотреть фильм «300 спартанце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омашнее  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Картогра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8686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ИСТОРИЧЕСКАЯ  РАЗМ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был самым могущественным царем Персидской держав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лся совет знати в Афина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к называется город-государство в Древней Греци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каком полисе Греции одновременно правили два правителя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отменил в Афинах долговое рабство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значает греческое слово «демократия» 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вление узкого круга аристократов 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занятия  жителей Афи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зовите основное занятие спартанцев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2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10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Тема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Греко-персидски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блемный  вопрос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Почему небольшая по территории Греция смогла одержать победу над огромным Персидским государством?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н изучения  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1.Причины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.Ход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3. Итоги Греко-персидских войн и их послед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4.Значение Греко-персидских вой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25905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ронологическая таб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3520" y="1371600"/>
          <a:ext cx="7848000" cy="4897440"/>
        </p:xfrm>
        <a:graphic>
          <a:graphicData uri="http://schemas.openxmlformats.org/drawingml/2006/table">
            <a:tbl>
              <a:tblPr/>
              <a:tblGrid>
                <a:gridCol w="973800"/>
                <a:gridCol w="2291040"/>
                <a:gridCol w="2291760"/>
                <a:gridCol w="2291400"/>
              </a:tblGrid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15364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632448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1258920" y="5493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onstantia"/>
              </a:rPr>
              <a:t>Фермопильское  с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048120"/>
            <a:ext cx="304920" cy="3808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фермопильское сражение копия"/>
          <p:cNvPicPr/>
          <p:nvPr/>
        </p:nvPicPr>
        <p:blipFill>
          <a:blip r:embed="rId3"/>
          <a:stretch/>
        </p:blipFill>
        <p:spPr>
          <a:xfrm>
            <a:off x="3657600" y="2438280"/>
            <a:ext cx="49593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1828800" y="228600"/>
            <a:ext cx="5162400" cy="350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0" y="3425760"/>
            <a:ext cx="5410080" cy="3432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5410080" y="3962520"/>
            <a:ext cx="3124440" cy="2654280"/>
          </a:xfrm>
          <a:prstGeom prst="rect">
            <a:avLst/>
          </a:prstGeom>
          <a:solidFill>
            <a:srgbClr val="ffc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«О путник , поведай спартанцам о нашей кончи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ерны законам своим, мы здесь костьми полег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54100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5943600" y="114300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Сперва стояло твердо войско персов; когда же скучились суда в проливе, дать помощи друг другу не могли и медными носами поражали своих же- все тогда они погибл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Эсх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152280" y="3311640"/>
            <a:ext cx="5715000" cy="3390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САЛАМИНСКАЯ  БИ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Пользователь1</cp:lastModifiedBy>
  <dcterms:modified xsi:type="dcterms:W3CDTF">2013-03-13T22:04:4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0000000000001024140</vt:lpwstr>
  </property>
  <property fmtid="{D5CDD505-2E9C-101B-9397-08002B2CF9AE}" pid="3" name="Version">
    <vt:r8>1</vt:r8>
  </property>
</Properties>
</file>