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7DF2-3C11-4B57-9FE5-6418CE5B3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8B97-6172-442A-A48C-ACEE0055C34B}" type="slidenum">
              <a:rPr b="1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2F9-8D9F-40A0-98BC-92C11694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7E5-FDE5-44DF-8109-A9F669ED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744-01E7-457E-83F1-0CBD0155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AB7-8196-45F1-8F4D-0689228C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369-5DE5-4A9C-A3F1-E0CEA7C9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5FE-199C-4E8D-8F1D-A0B7E7B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D04-9C63-4153-AAED-0B3A1B5F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2FE-A5A3-4FD5-B022-ED6C17F7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517-7CE3-441C-9534-DE5E41F5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A8B-9D21-47A7-9235-03D6658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456-337B-4294-B065-AB6147B1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9D5-ECF0-4E99-8E1B-45DDCA04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7A15-DC64-424D-911B-3DACB6CFC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44792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- Б клас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емирная  исто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4419360"/>
            <a:ext cx="5410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истории ДГГ №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ктория  Борисовна  Ши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возвращение воина из похода"/>
          <p:cNvPicPr/>
          <p:nvPr/>
        </p:nvPicPr>
        <p:blipFill>
          <a:blip r:embed="rId2"/>
          <a:stretch/>
        </p:blipFill>
        <p:spPr>
          <a:xfrm>
            <a:off x="304920" y="4876920"/>
            <a:ext cx="2209680" cy="1724040"/>
          </a:xfrm>
          <a:prstGeom prst="rect">
            <a:avLst/>
          </a:prstGeom>
          <a:ln w="9360">
            <a:solidFill>
              <a:srgbClr val="0000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123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ВОБОЖДЕНИЕ  ГРЕЦИИ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итва при Платеях –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79 г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752480"/>
            <a:ext cx="5029200" cy="426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286000"/>
            <a:ext cx="2907000" cy="379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39000"/>
            <a:ext cx="8712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лководец - Пав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31640" y="1989000"/>
          <a:ext cx="8425080" cy="4354560"/>
        </p:xfrm>
        <a:graphic>
          <a:graphicData uri="http://schemas.openxmlformats.org/drawingml/2006/table">
            <a:tbl>
              <a:tblPr/>
              <a:tblGrid>
                <a:gridCol w="1352880"/>
                <a:gridCol w="2633400"/>
                <a:gridCol w="2278080"/>
                <a:gridCol w="21607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9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арафонская б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ильти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у Фермоп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Леон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ражение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аламинское с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Фемисток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79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при Плате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ав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 txBox="1"/>
          <p:nvPr/>
        </p:nvSpPr>
        <p:spPr>
          <a:xfrm>
            <a:off x="971640" y="404640"/>
            <a:ext cx="7489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оверь таблиц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66680" y="2362320"/>
            <a:ext cx="7696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доблесть и мужество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объединение сил в борьбе с персами (создание сою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талант греческих страте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преимущества греческ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25280" y="209520"/>
            <a:ext cx="8918640" cy="99072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80880" y="4572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Book Antiqua"/>
              </a:rPr>
              <a:t>Почему маленькая Греция смогла одержать победу над  Персидской держа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43000" y="1600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Причины победы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араграф 30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ть контурную ка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фильм «300 спартан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ашнее  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Кар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8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ИСТОРИЧЕСКАЯ 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был самым могущественным царем Персидской держа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лся совет знати в Афин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ется город-государство в Древней Гре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каком полисе Греции одновременно правили два правителя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отменил в Афинах долговое рабство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значает греческое слово «демократия» 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ение узкого круга аристократов 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занятия  жителей Афи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основное занятие спартанцев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2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Тема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Греко-персидски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блемный  вопрос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Почему небольшая по территории Греция смогла одержать победу над огромным Персидским государством?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 изучения 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.Причины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.Ход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. Итоги Греко-персидских войн и их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4.Значение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259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ологическая таб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371600"/>
          <a:ext cx="7848000" cy="4897440"/>
        </p:xfrm>
        <a:graphic>
          <a:graphicData uri="http://schemas.openxmlformats.org/drawingml/2006/table">
            <a:tbl>
              <a:tblPr/>
              <a:tblGrid>
                <a:gridCol w="973800"/>
                <a:gridCol w="2291040"/>
                <a:gridCol w="2291760"/>
                <a:gridCol w="22914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53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632448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25892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nstantia"/>
              </a:rPr>
              <a:t>Фермопильское 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048120"/>
            <a:ext cx="304920" cy="3808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ермопильское сражение копия"/>
          <p:cNvPicPr/>
          <p:nvPr/>
        </p:nvPicPr>
        <p:blipFill>
          <a:blip r:embed="rId3"/>
          <a:stretch/>
        </p:blipFill>
        <p:spPr>
          <a:xfrm>
            <a:off x="3657600" y="2438280"/>
            <a:ext cx="49593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16240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3425760"/>
            <a:ext cx="5410080" cy="3432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410080" y="3962520"/>
            <a:ext cx="3124440" cy="2654280"/>
          </a:xfrm>
          <a:prstGeom prst="rect">
            <a:avLst/>
          </a:prstGeom>
          <a:solidFill>
            <a:srgbClr val="ffc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О путник , поведай спартанцам о нашей конч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ерны законам своим, мы здесь костьми полег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4100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943600" y="114300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перва стояло твердо войско персов; когда же скучились суда в проливе, дать помощи друг другу не могли и медными носами поражали своих же- все тогда они погиб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Эсх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152280" y="3311640"/>
            <a:ext cx="5715000" cy="3390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АЛАМИНСКАЯ 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Пользователь1</cp:lastModifiedBy>
  <dcterms:modified xsi:type="dcterms:W3CDTF">2013-03-13T22:04:4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0000000000001024140</vt:lpwstr>
  </property>
  <property fmtid="{D5CDD505-2E9C-101B-9397-08002B2CF9AE}" pid="3" name="Version">
    <vt:r8>1</vt:r8>
  </property>
</Properties>
</file>