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0FD-C0F2-4CF4-9239-D65165A79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CCC-AFB6-4524-B8AF-DD12090090EE}" type="slidenum">
              <a:rPr b="1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3E7-76E2-4457-BF1F-33730B57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9F7-2FCF-4F34-8AC2-EE9E5545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956-FD49-45D4-887C-721CEA10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D7B-1C3C-4076-AE92-E7E6B15D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F2F-05F4-455A-A2AF-44C6A016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6CD-A581-4D71-AFFE-AFDFF327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800-F4C1-4129-BDA0-705F190F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A01-623F-470D-873A-4A7E0ADF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718-A1E3-4C91-B359-6ECAF85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A0D-3020-4569-A1B0-0033605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B2D-095D-428D-9807-9E33612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C19-2EBF-409B-9EA2-DF44E4F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F3E-53F0-4FBB-9572-774CE09E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 Б клас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мирная  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419360"/>
            <a:ext cx="5410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истории ДГГ №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ктория  Борисовна  Ши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возвращение воина из похода"/>
          <p:cNvPicPr/>
          <p:nvPr/>
        </p:nvPicPr>
        <p:blipFill>
          <a:blip r:embed="rId2"/>
          <a:stretch/>
        </p:blipFill>
        <p:spPr>
          <a:xfrm>
            <a:off x="304920" y="4876920"/>
            <a:ext cx="2209680" cy="17240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123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ВОБОЖДЕНИЕ  ГРЕЦИИ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итва при Платеях –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79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50292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286000"/>
            <a:ext cx="2907000" cy="37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39000"/>
            <a:ext cx="871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ководец - Пав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31640" y="1989000"/>
          <a:ext cx="8425080" cy="4354560"/>
        </p:xfrm>
        <a:graphic>
          <a:graphicData uri="http://schemas.openxmlformats.org/drawingml/2006/table">
            <a:tbl>
              <a:tblPr/>
              <a:tblGrid>
                <a:gridCol w="1352880"/>
                <a:gridCol w="2633400"/>
                <a:gridCol w="2278080"/>
                <a:gridCol w="21607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9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арафон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ильти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у Фермоп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Лео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ражение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аламинское с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емисто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79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при Плате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в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971640" y="404640"/>
            <a:ext cx="7489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оверь таблиц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236232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0880" y="4572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араграф 30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ть контурную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фильм «300 спартан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шнее  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р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СТОРИЧЕСКАЯ 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был самым могущественным царем Персидской держа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лся совет знати в Афи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ется город-государство в Древней Гре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аком полисе Греции одновременно правили два правителя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отменил в Афинах долговое рабств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значает греческое слово «демократия» 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ение узкого круга аристократов 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занятия  жителей Афи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основное занятие спартанцев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Греко-персидски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ый  вопрос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чему небольшая по территории Греция смогла одержать победу над огромным Персидским государством?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 изучения 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.Причины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.Ход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. Итоги Греко-персидских войн и их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4.Значение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ологическ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371600"/>
          <a:ext cx="7848000" cy="4897440"/>
        </p:xfrm>
        <a:graphic>
          <a:graphicData uri="http://schemas.openxmlformats.org/drawingml/2006/table">
            <a:tbl>
              <a:tblPr/>
              <a:tblGrid>
                <a:gridCol w="973800"/>
                <a:gridCol w="2291040"/>
                <a:gridCol w="2291760"/>
                <a:gridCol w="22914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53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5892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nstantia"/>
              </a:rPr>
              <a:t>Фермопильское 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30492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ермопильское сражение копия"/>
          <p:cNvPicPr/>
          <p:nvPr/>
        </p:nvPicPr>
        <p:blipFill>
          <a:blip r:embed="rId3"/>
          <a:stretch/>
        </p:blipFill>
        <p:spPr>
          <a:xfrm>
            <a:off x="3657600" y="2438280"/>
            <a:ext cx="49593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16240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3425760"/>
            <a:ext cx="5410080" cy="3432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410080" y="3962520"/>
            <a:ext cx="3124440" cy="2654280"/>
          </a:xfrm>
          <a:prstGeom prst="rect">
            <a:avLst/>
          </a:prstGeom>
          <a:solidFill>
            <a:srgbClr val="ff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О путник , поведай спартанцам о нашей кон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ерны законам своим, мы здесь костьми полег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100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943600" y="114300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ерва стояло твердо войско персов; когда же скучились суда в проливе, дать помощи друг другу не могли и медными носами поражали своих же- все тогда они погиб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Эсх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152280" y="3311640"/>
            <a:ext cx="5715000" cy="339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АЛАМИН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Пользователь1</cp:lastModifiedBy>
  <dcterms:modified xsi:type="dcterms:W3CDTF">2013-03-13T22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0000000000001024140</vt:lpwstr>
  </property>
  <property fmtid="{D5CDD505-2E9C-101B-9397-08002B2CF9AE}" pid="3" name="Version">
    <vt:r8>1</vt:r8>
  </property>
</Properties>
</file>