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739A-AB6C-492C-9229-35472F2A62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6BE6-DB52-4011-9E0C-713A82DBAA3C}" type="slidenum">
              <a:rPr b="1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7D39-D670-4074-8AFC-9AC3C219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A1C-679F-485B-B928-279E8A66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CBF-D0D9-4FD1-AED5-6181D2AB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DE5C-F36E-43D3-B333-91F3733C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765-B262-4643-93A6-B76416EB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FB1-C73E-4613-92BC-D80E03DD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09C-8249-4447-ACDC-50545A50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343-07FB-443C-B590-C3C8F29A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A3D-ACC3-480B-99D3-982AEB40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E6C-AE0D-469C-8B92-4674AF55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274F-96B4-4DF6-B599-5EBA566D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6F6-5A82-4746-AD9F-BD735CEF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03EE-23EA-49B4-BC09-A8C6BB02C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1447920"/>
            <a:ext cx="6095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- Б клас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семирная  истор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920" y="4419360"/>
            <a:ext cx="54100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итель истории ДГГ №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ктория  Борисовна  Ши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возвращение воина из похода"/>
          <p:cNvPicPr/>
          <p:nvPr/>
        </p:nvPicPr>
        <p:blipFill>
          <a:blip r:embed="rId2"/>
          <a:stretch/>
        </p:blipFill>
        <p:spPr>
          <a:xfrm>
            <a:off x="304920" y="4876920"/>
            <a:ext cx="2209680" cy="1724040"/>
          </a:xfrm>
          <a:prstGeom prst="rect">
            <a:avLst/>
          </a:prstGeom>
          <a:ln w="9360">
            <a:solidFill>
              <a:srgbClr val="0000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71236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СВОБОЖДЕНИЕ  ГРЕЦИИ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Битва при Платеях –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79 г. до н.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752480"/>
            <a:ext cx="5029200" cy="426744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2286000"/>
            <a:ext cx="2907000" cy="379404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039000"/>
            <a:ext cx="8712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лководец - Павс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31640" y="1989000"/>
          <a:ext cx="8425080" cy="4354560"/>
        </p:xfrm>
        <a:graphic>
          <a:graphicData uri="http://schemas.openxmlformats.org/drawingml/2006/table">
            <a:tbl>
              <a:tblPr/>
              <a:tblGrid>
                <a:gridCol w="1352880"/>
                <a:gridCol w="2633400"/>
                <a:gridCol w="2278080"/>
                <a:gridCol w="216072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С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лковод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90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Марафонская би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Мильти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беда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80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Битва у Фермопи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Леон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ражение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80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Саламинское сра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Фемисток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беда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79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Битва при Платея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авс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беда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77" name=""/>
          <p:cNvSpPr txBox="1"/>
          <p:nvPr/>
        </p:nvSpPr>
        <p:spPr>
          <a:xfrm>
            <a:off x="971640" y="404640"/>
            <a:ext cx="7489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оверь таблиц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066680" y="2362320"/>
            <a:ext cx="76964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доблесть и мужество гре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объединение сил в борьбе с персами (создание сою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талант греческих страте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преимущества греческого ф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25280" y="209520"/>
            <a:ext cx="8918640" cy="990720"/>
          </a:xfrm>
          <a:prstGeom prst="rect">
            <a:avLst/>
          </a:prstGeom>
          <a:solidFill>
            <a:srgbClr val="a5b7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80880" y="45720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c"/>
                </a:solidFill>
                <a:latin typeface="Book Antiqua"/>
              </a:rPr>
              <a:t>Почему маленькая Греция смогла одержать победу над  Персидской держав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143000" y="16002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Причины победы гре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параграф 30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лнить контурную кар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еть фильм «300 спартанце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1066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машнее  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Картогра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8686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ИСТОРИЧЕСКАЯ 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то был самым могущественным царем Персидской держав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назывался совет знати в Афина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называется город-государство в Древней Грец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каком полисе Греции одновременно правили два правителя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то отменил в Афинах долговое рабство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означает греческое слово «демократия» ?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правление узкого круга аристократов 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овите занятия  жителей Афин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овите основное занятие спартанцев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6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2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1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Тема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Греко-персидские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блемный  вопрос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Почему небольшая по территории Греция смогла одержать победу над огромным Персидским государством?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лан изучения  т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1.Причины Греко-персидских во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.Ход Греко-персидских во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3. Итоги Греко-персидских войн и их послед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4.Значение Греко-персидских во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304920" y="4952880"/>
            <a:ext cx="25905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онологическая таб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3520" y="1371600"/>
          <a:ext cx="7848000" cy="4897440"/>
        </p:xfrm>
        <a:graphic>
          <a:graphicData uri="http://schemas.openxmlformats.org/drawingml/2006/table">
            <a:tbl>
              <a:tblPr/>
              <a:tblGrid>
                <a:gridCol w="973800"/>
                <a:gridCol w="2291040"/>
                <a:gridCol w="2291760"/>
                <a:gridCol w="2291400"/>
              </a:tblGrid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ковод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15364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632448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1258920" y="549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nstantia"/>
              </a:rPr>
              <a:t>Фермопильское  с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048120"/>
            <a:ext cx="304920" cy="3808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фермопильское сражение копия"/>
          <p:cNvPicPr/>
          <p:nvPr/>
        </p:nvPicPr>
        <p:blipFill>
          <a:blip r:embed="rId3"/>
          <a:stretch/>
        </p:blipFill>
        <p:spPr>
          <a:xfrm>
            <a:off x="3657600" y="2438280"/>
            <a:ext cx="49593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828800" y="228600"/>
            <a:ext cx="5162400" cy="350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0" y="3425760"/>
            <a:ext cx="5410080" cy="3432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5410080" y="3962520"/>
            <a:ext cx="3124440" cy="2654280"/>
          </a:xfrm>
          <a:prstGeom prst="rect">
            <a:avLst/>
          </a:prstGeom>
          <a:solidFill>
            <a:srgbClr val="ffc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О путник , поведай спартанцам о нашей кончи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верны законам своим, мы здесь костьми полегл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541008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5943600" y="1143000"/>
            <a:ext cx="30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Сперва стояло твердо войско персов; когда же скучились суда в проливе, дать помощи друг другу не могли и медными носами поражали своих же- все тогда они погибл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Эсх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3"/>
          <a:stretch/>
        </p:blipFill>
        <p:spPr>
          <a:xfrm>
            <a:off x="152280" y="3311640"/>
            <a:ext cx="5715000" cy="33908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АЛАМИНСКАЯ  БИ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Пользователь1</cp:lastModifiedBy>
  <dcterms:modified xsi:type="dcterms:W3CDTF">2013-03-13T22:04:49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10000000000001024140</vt:lpwstr>
  </property>
  <property fmtid="{D5CDD505-2E9C-101B-9397-08002B2CF9AE}" pid="3" name="Version">
    <vt:r8>1</vt:r8>
  </property>
</Properties>
</file>