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2FA-3799-42F9-AE49-322A6F49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3BE-91C9-4A3F-B76C-F18B5888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EBA-4F3E-45F7-8910-10785E15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F70-8273-4C37-B76C-1C8D66E0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40E-D3CD-4EA7-BF46-4A559561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2AB-EF6D-4B7B-95FB-E015A5A6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289-DC16-4C32-8C60-B59C2C09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D4F-6085-4EB5-8856-85A92EAC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77F-F2B6-47A4-B331-5DCB1F1C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AB1-DCE0-4055-83F4-A8A3073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2FD-2AEE-4C53-8EF1-515D6D3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DA0-9CE0-425B-BD02-B2649151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D336-216D-4F5C-8209-038775ACC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к – суд «Стал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2360" y="3212640"/>
            <a:ext cx="3343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ькова О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agesCA1ALNMZ"/>
          <p:cNvPicPr/>
          <p:nvPr/>
        </p:nvPicPr>
        <p:blipFill>
          <a:blip r:embed="rId1"/>
          <a:stretch/>
        </p:blipFill>
        <p:spPr>
          <a:xfrm>
            <a:off x="0" y="2492280"/>
            <a:ext cx="4932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емографические потери сельского населения в следствии коллективиз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898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аловой сбор сельскохозяйственных культур в период коллективизаци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8854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головье скота за период коллектив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489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Индустриализа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индустриализация_0001.wmv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т физического объёма валовой продукции промышленности СССР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1928 – 1932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341360"/>
          <a:ext cx="9144000" cy="5256360"/>
        </p:xfrm>
        <a:graphic>
          <a:graphicData uri="http://schemas.openxmlformats.org/drawingml/2006/table">
            <a:tbl>
              <a:tblPr/>
              <a:tblGrid>
                <a:gridCol w="4830840"/>
                <a:gridCol w="1047600"/>
                <a:gridCol w="1311480"/>
                <a:gridCol w="195408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дук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28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32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32 к 1928 (%)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я пятиле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угун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8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ал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7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кат чёрных металлов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9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гол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1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фт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4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лектроэнергия, млрд кВт·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0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талинские репрессии 30-х годов.wmv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501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линские реп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50px-Kuznetsov_prigovor"/>
          <p:cNvPicPr/>
          <p:nvPr/>
        </p:nvPicPr>
        <p:blipFill>
          <a:blip r:embed="rId1"/>
          <a:stretch/>
        </p:blipFill>
        <p:spPr>
          <a:xfrm>
            <a:off x="0" y="1052640"/>
            <a:ext cx="249696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450PX-~1"/>
          <p:cNvPicPr/>
          <p:nvPr/>
        </p:nvPicPr>
        <p:blipFill>
          <a:blip r:embed="rId2"/>
          <a:stretch/>
        </p:blipFill>
        <p:spPr>
          <a:xfrm>
            <a:off x="6858000" y="1052640"/>
            <a:ext cx="2286000" cy="30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__1_~1"/>
          <p:cNvPicPr/>
          <p:nvPr/>
        </p:nvPicPr>
        <p:blipFill>
          <a:blip r:embed="rId3"/>
          <a:srcRect l="0" t="0" r="-67" b="83"/>
          <a:stretch/>
        </p:blipFill>
        <p:spPr>
          <a:xfrm>
            <a:off x="1042920" y="2349360"/>
            <a:ext cx="2522520" cy="367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Delovrachey1"/>
          <p:cNvPicPr/>
          <p:nvPr/>
        </p:nvPicPr>
        <p:blipFill>
          <a:blip r:embed="rId4"/>
          <a:stretch/>
        </p:blipFill>
        <p:spPr>
          <a:xfrm>
            <a:off x="3780000" y="1197000"/>
            <a:ext cx="2290680" cy="331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xecute_346_Stalins_resolution"/>
          <p:cNvPicPr/>
          <p:nvPr/>
        </p:nvPicPr>
        <p:blipFill>
          <a:blip r:embed="rId5"/>
          <a:srcRect l="0" t="0" r="-25" b="102"/>
          <a:stretch/>
        </p:blipFill>
        <p:spPr>
          <a:xfrm>
            <a:off x="5292720" y="2276640"/>
            <a:ext cx="2714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ложительные и отрицательные черты сталинского режим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Diagram 5"/>
          <p:cNvGrpSpPr/>
          <p:nvPr/>
        </p:nvGrpSpPr>
        <p:grpSpPr>
          <a:xfrm>
            <a:off x="2633760" y="1708200"/>
            <a:ext cx="3878280" cy="3503520"/>
            <a:chOff x="2633760" y="1708200"/>
            <a:chExt cx="3878280" cy="3503520"/>
          </a:xfrm>
        </p:grpSpPr>
        <p:sp>
          <p:nvSpPr>
            <p:cNvPr id="96" name="_s1028"/>
            <p:cNvSpPr/>
            <p:nvPr/>
          </p:nvSpPr>
          <p:spPr>
            <a:xfrm flipH="1">
              <a:off x="3636720" y="413208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9"/>
            <p:cNvSpPr/>
            <p:nvPr/>
          </p:nvSpPr>
          <p:spPr>
            <a:xfrm>
              <a:off x="2633760" y="413388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0"/>
            <p:cNvSpPr/>
            <p:nvPr/>
          </p:nvSpPr>
          <p:spPr>
            <a:xfrm>
              <a:off x="5037120" y="413208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1"/>
            <p:cNvSpPr/>
            <p:nvPr/>
          </p:nvSpPr>
          <p:spPr>
            <a:xfrm>
              <a:off x="5433840" y="4133880"/>
              <a:ext cx="107820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 flipV="1">
              <a:off x="4572000" y="278424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033800" y="170820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4"/>
            <p:cNvSpPr/>
            <p:nvPr/>
          </p:nvSpPr>
          <p:spPr>
            <a:xfrm>
              <a:off x="4033800" y="332568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ТАЛИ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.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15" descr="imagesCA0AFQDZ"/>
          <p:cNvPicPr/>
          <p:nvPr/>
        </p:nvPicPr>
        <p:blipFill>
          <a:blip r:embed="rId1"/>
          <a:stretch/>
        </p:blipFill>
        <p:spPr>
          <a:xfrm>
            <a:off x="0" y="1484280"/>
            <a:ext cx="3708360" cy="244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imagesCA7VLX9Q"/>
          <p:cNvPicPr/>
          <p:nvPr/>
        </p:nvPicPr>
        <p:blipFill>
          <a:blip r:embed="rId2"/>
          <a:stretch/>
        </p:blipFill>
        <p:spPr>
          <a:xfrm>
            <a:off x="5219640" y="1341360"/>
            <a:ext cx="3708360" cy="257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imagesCAQG9QFC"/>
          <p:cNvPicPr/>
          <p:nvPr/>
        </p:nvPicPr>
        <p:blipFill>
          <a:blip r:embed="rId3"/>
          <a:stretch/>
        </p:blipFill>
        <p:spPr>
          <a:xfrm>
            <a:off x="3780000" y="4546440"/>
            <a:ext cx="1600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lackadder ITC"/>
              </a:rPr>
              <a:t>«Явление Сталина весьма сложно и касается не только коммунистического движения и тогдашних внешних и внутренних возможностей Советского Союза. Тут поднимаются проблемы отношений идеи и человека, вождя и движения, значения мифов в жизни человека. Сталин принадлежит прошлому, а споры о нём и его методах управления страной продолжаются и по сегодняшний д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илован Джила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ages"/>
          <p:cNvPicPr/>
          <p:nvPr/>
        </p:nvPicPr>
        <p:blipFill>
          <a:blip r:embed="rId1"/>
          <a:stretch/>
        </p:blipFill>
        <p:spPr>
          <a:xfrm>
            <a:off x="0" y="3357720"/>
            <a:ext cx="306216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untitled"/>
          <p:cNvPicPr/>
          <p:nvPr/>
        </p:nvPicPr>
        <p:blipFill>
          <a:blip r:embed="rId2"/>
          <a:stretch/>
        </p:blipFill>
        <p:spPr>
          <a:xfrm>
            <a:off x="5076720" y="4076640"/>
            <a:ext cx="2768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«Мі візьмемо усе найкраще в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Пронесемо нащадкам крізь ві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І щоб вони сказали 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«Спасибі» за держ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Яку побудув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Ми змог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t1.gstatic.com/images?q=tbn:ANd9GcR9nLJIKo1FhOPxupGefZvQd9wuEJtqyffyWX_RzMyE75EMEXg-xw"/>
          <p:cNvPicPr/>
          <p:nvPr/>
        </p:nvPicPr>
        <p:blipFill>
          <a:blip r:embed="rId1"/>
          <a:stretch/>
        </p:blipFill>
        <p:spPr>
          <a:xfrm>
            <a:off x="0" y="0"/>
            <a:ext cx="1438200" cy="145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://t1.gstatic.com/images?q=tbn:ANd9GcTEiBSCfUVp56XkoayGlOsinJ7QQNsXQDiBq2hedACQefG4tArqvg"/>
          <p:cNvPicPr/>
          <p:nvPr/>
        </p:nvPicPr>
        <p:blipFill>
          <a:blip r:embed="rId2"/>
          <a:stretch/>
        </p:blipFill>
        <p:spPr>
          <a:xfrm>
            <a:off x="5148360" y="3860640"/>
            <a:ext cx="3846240" cy="266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t1.gstatic.com/images?q=tbn:ANd9GcT76FY2RM_YD9Ka9YTJHugEEjcxdcOWPlylmRn4yXJeJSztwx3O0w"/>
          <p:cNvPicPr/>
          <p:nvPr/>
        </p:nvPicPr>
        <p:blipFill>
          <a:blip r:embed="rId3"/>
          <a:stretch/>
        </p:blipFill>
        <p:spPr>
          <a:xfrm>
            <a:off x="5364000" y="115920"/>
            <a:ext cx="35607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В. И. Ленин умер  в … год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овым главой советского государства стал … 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 каком съезде был провозглашён курс на индустриализацию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зовите годы первой пятилетки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 каком съезде был провозглашён курс на кооперацию сел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остановление ЦК ВКП (б) « Про ликвидацию кулацких хозяйств» была принят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Закон известный как  «Закон о пяти колосках» был принят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чало пропаганды, о внесение на «чёрную доску» приходится н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Голодомор украинского народ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Судебный процесс, который вошёл в историю, как «Шахтинское дело» проходил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Судебный процесс над участниками СВУ проходил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ринятие новой Конституции СССР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5651640" y="-114480"/>
            <a:ext cx="2592360" cy="447840"/>
          </a:xfrm>
          <a:prstGeom prst="borderCallout1">
            <a:avLst>
              <a:gd name="adj1" fmla="val 18750"/>
              <a:gd name="adj2" fmla="val -8333"/>
              <a:gd name="adj3" fmla="val 75532"/>
              <a:gd name="adj4" fmla="val -41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1924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8101080" y="290520"/>
            <a:ext cx="14223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0023"/>
              <a:gd name="adj5" fmla="val 78365"/>
              <a:gd name="adj6" fmla="val -55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7385040" y="866880"/>
            <a:ext cx="17589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100722"/>
              <a:gd name="adj5" fmla="val 121634"/>
              <a:gd name="adj6" fmla="val -200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6303960" y="1413000"/>
            <a:ext cx="284004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5092"/>
              <a:gd name="adj5" fmla="val 71541"/>
              <a:gd name="adj6" fmla="val -28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8/29 – 1932/33г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067280" y="2205000"/>
            <a:ext cx="215568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55152"/>
              <a:gd name="adj5" fmla="val 31731"/>
              <a:gd name="adj6" fmla="val -108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ъ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6300720" y="2781360"/>
            <a:ext cx="207000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44555"/>
              <a:gd name="adj5" fmla="val 71259"/>
              <a:gd name="adj6" fmla="val -86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января  1930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3708360" y="3500280"/>
            <a:ext cx="179568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93"/>
              <a:gd name="adj5" fmla="val 65384"/>
              <a:gd name="adj6" fmla="val -92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января 1932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4427640" y="4221000"/>
            <a:ext cx="1800000" cy="417600"/>
          </a:xfrm>
          <a:prstGeom prst="borderCallout2">
            <a:avLst>
              <a:gd name="adj1" fmla="val 18750"/>
              <a:gd name="adj2" fmla="val -8333"/>
              <a:gd name="adj3" fmla="val 27375"/>
              <a:gd name="adj4" fmla="val -43472"/>
              <a:gd name="adj5" fmla="val 58175"/>
              <a:gd name="adj6" fmla="val -84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1932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6372360" y="5229360"/>
            <a:ext cx="27716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1648"/>
              <a:gd name="adj5" fmla="val 69712"/>
              <a:gd name="adj6" fmla="val -41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 мая – 5 июня 1928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7145280" y="5589720"/>
            <a:ext cx="199872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23194"/>
              <a:gd name="adj5" fmla="val 89722"/>
              <a:gd name="adj6" fmla="val -43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е 1930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7020000" y="6051600"/>
            <a:ext cx="178272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8078"/>
              <a:gd name="adj5" fmla="val 46245"/>
              <a:gd name="adj6" fmla="val -32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е 1937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6804000" y="4508640"/>
            <a:ext cx="2340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8833"/>
              <a:gd name="adj5" fmla="val 100000"/>
              <a:gd name="adj6" fmla="val -55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2 – 1933г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 использован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quote.org/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reatstalin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ib.ru/PXESY/RADZINSKIJ/stalin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alen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2000.net.u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stmat.inf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rusizn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3280" y="259920"/>
            <a:ext cx="4176720" cy="63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«И дана была ему власть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над всяким и народом,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и языком и племенем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Отк.13.: 7 – 1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– суд 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agesCAWBIAB5"/>
          <p:cNvPicPr/>
          <p:nvPr/>
        </p:nvPicPr>
        <p:blipFill>
          <a:blip r:embed="rId1"/>
          <a:stretch/>
        </p:blipFill>
        <p:spPr>
          <a:xfrm>
            <a:off x="900000" y="1628640"/>
            <a:ext cx="6985080" cy="494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magesCAS5DFZI"/>
          <p:cNvPicPr/>
          <p:nvPr/>
        </p:nvPicPr>
        <p:blipFill>
          <a:blip r:embed="rId2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е и отрицательные черты сталинского режим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1600200"/>
          <a:ext cx="8291520" cy="4924440"/>
        </p:xfrm>
        <a:graphic>
          <a:graphicData uri="http://schemas.openxmlformats.org/drawingml/2006/table">
            <a:tbl>
              <a:tblPr/>
              <a:tblGrid>
                <a:gridCol w="4143240"/>
                <a:gridCol w="41482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ель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о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жугашвили Иосиф Виссарионови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. И. О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жугашвили Иосиф Виссарионови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артийных кругах более известен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ЛИН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ранее известный также под партийной кличк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ата и год 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 (21) декабря 187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и, Тифлисская губерния, Российская импе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прожи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 Москва,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работ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еволюционер, советский политический, государственный, военный и партийный деятель. Деятель международного коммунистического и рабочего движения, теоретик и пропагандист марксизма-ленинизма, фактический руководитель Союза Советских Социалистических Республик с конца 20-х до своей смерти 5 марта 1953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46"/>
          <a:stretch/>
        </p:blipFill>
        <p:spPr>
          <a:xfrm>
            <a:off x="395280" y="141300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lackadder ITC"/>
              </a:rPr>
              <a:t>Троцкий Лев Давыдович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. И. 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оцкий Лев Давыдов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та и год рож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ноября 187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о рож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ло Береславка Кировоград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1896г. начал Вести революционную пропаганду в Николаеве, позже за революционную пропаганду был арестован, бежал за границу. С 1918г – 1924г. Был наркомом по иностранным, военным и морским делам. В 1927г. За свои оппозиционные взгляды был разжалован и отправлен в ссыл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CABKBD4S"/>
          <p:cNvPicPr/>
          <p:nvPr/>
        </p:nvPicPr>
        <p:blipFill>
          <a:blip r:embed="rId1"/>
          <a:stretch/>
        </p:blipFill>
        <p:spPr>
          <a:xfrm>
            <a:off x="250920" y="1125360"/>
            <a:ext cx="374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Уинстон Леонард Спенсер-Чергмлл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лся 30 ноября 187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одовом имении герцогов Мальборо Дворце Бленхей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319640" y="3429000"/>
            <a:ext cx="482436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Большим счастьем  было для 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 годы тяжелейших испыт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у возглавил г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поколебимый полководец Сталин"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magesCALT1SKG"/>
          <p:cNvPicPr/>
          <p:nvPr/>
        </p:nvPicPr>
        <p:blipFill>
          <a:blip r:embed="rId1"/>
          <a:stretch/>
        </p:blipFill>
        <p:spPr>
          <a:xfrm>
            <a:off x="250920" y="1916280"/>
            <a:ext cx="428472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ничтожим кулака как класс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«В наше село прибыла бригада проводить коллективизацию и пошла крупная борьба. Много людей не хотят пока идти в коллектив. Кто выскажется против коллектива, то у нас таких бросали в бывший погреб попа. Агроном Чернышевский сказал, кто не пойдёт в коллектив, то ми тому поотбиваем руки и ноги».</a:t>
            </a:r>
            <a:r>
              <a:rPr b="1" lang="ru-RU" sz="20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письмо крестья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с. Большая Буши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Немиров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Винницк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Г. Яре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в редакцию газ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«Советское сел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5 февраля 193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Documents and Settings\Администратор\Рабочий стол\Сталин\picture1_c107779.jpg"/>
          <p:cNvPicPr/>
          <p:nvPr/>
        </p:nvPicPr>
        <p:blipFill>
          <a:blip r:embed="rId1"/>
          <a:stretch/>
        </p:blipFill>
        <p:spPr>
          <a:xfrm>
            <a:off x="826920" y="3716280"/>
            <a:ext cx="41482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8:18:42Z</dcterms:created>
  <dc:creator>Admin</dc:creator>
  <dc:description/>
  <dc:language>en-US</dc:language>
  <cp:lastModifiedBy>Admin</cp:lastModifiedBy>
  <dcterms:modified xsi:type="dcterms:W3CDTF">2012-09-09T05:53:01Z</dcterms:modified>
  <cp:revision>117</cp:revision>
  <dc:subject/>
  <dc:title>Урок – суд «Сталин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8000000000001024140</vt:lpwstr>
  </property>
</Properties>
</file>