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E15-2F3F-4D31-AC6C-A9115493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222-3EA9-469E-9A5C-C91556EB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44C-E613-438A-AD71-0D1C7FD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42-0D34-4620-B9A0-91890A58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E27-0315-46CB-9EC5-95EC7F98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7772-CD21-4BED-9B80-E910F5E4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F2A-5832-4F3B-9E74-E023FB48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F7F-6538-4A0C-9D8C-580296F9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F9F-397A-4540-B351-EB3CAE8F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1A8D-BA43-45BF-A040-A0854CBD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41E-3DCD-46BC-AF37-878937A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7973-33DC-41A2-BACC-BC96484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6D49-5E6C-4B67-9AC5-5C193E62D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рок – суд «Стал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92360" y="3212640"/>
            <a:ext cx="3343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ськова О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magesCA1ALNMZ"/>
          <p:cNvPicPr/>
          <p:nvPr/>
        </p:nvPicPr>
        <p:blipFill>
          <a:blip r:embed="rId1"/>
          <a:stretch/>
        </p:blipFill>
        <p:spPr>
          <a:xfrm>
            <a:off x="0" y="2492280"/>
            <a:ext cx="4932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емографические потери сельского населения в следствии коллективиз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48980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Валовой сбор сельскохозяйственных культур в период коллективизации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8854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головье скота за период коллектив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4898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Индустриализац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индустриализация_0001.wmv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6944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т физического объёма валовой продукции промышленности СССР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1928 – 1932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drawingml/2006/table">
            <a:tbl>
              <a:tblPr/>
              <a:tblGrid>
                <a:gridCol w="4830840"/>
                <a:gridCol w="1047600"/>
                <a:gridCol w="1311480"/>
                <a:gridCol w="19540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дукц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28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32 к 1928 (%)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-я пяти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Чугун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8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а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7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кат чёрных металлов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9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Угол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5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4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1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фть, млн. 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1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4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Электроэнергия, млрд кВт·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70 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талинские репрессии 30-х годов.wmv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8501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талинские репре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250px-Kuznetsov_prigovor"/>
          <p:cNvPicPr/>
          <p:nvPr/>
        </p:nvPicPr>
        <p:blipFill>
          <a:blip r:embed="rId1"/>
          <a:stretch/>
        </p:blipFill>
        <p:spPr>
          <a:xfrm>
            <a:off x="0" y="1052640"/>
            <a:ext cx="2496960" cy="381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450PX-~1"/>
          <p:cNvPicPr/>
          <p:nvPr/>
        </p:nvPicPr>
        <p:blipFill>
          <a:blip r:embed="rId2"/>
          <a:stretch/>
        </p:blipFill>
        <p:spPr>
          <a:xfrm>
            <a:off x="6858000" y="1052640"/>
            <a:ext cx="2286000" cy="3043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__1_~1"/>
          <p:cNvPicPr/>
          <p:nvPr/>
        </p:nvPicPr>
        <p:blipFill>
          <a:blip r:embed="rId3"/>
          <a:srcRect l="0" t="0" r="-67" b="83"/>
          <a:stretch/>
        </p:blipFill>
        <p:spPr>
          <a:xfrm>
            <a:off x="1042920" y="2349360"/>
            <a:ext cx="2522520" cy="367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Delovrachey1"/>
          <p:cNvPicPr/>
          <p:nvPr/>
        </p:nvPicPr>
        <p:blipFill>
          <a:blip r:embed="rId4"/>
          <a:stretch/>
        </p:blipFill>
        <p:spPr>
          <a:xfrm>
            <a:off x="3780000" y="1197000"/>
            <a:ext cx="2290680" cy="331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Execute_346_Stalins_resolution"/>
          <p:cNvPicPr/>
          <p:nvPr/>
        </p:nvPicPr>
        <p:blipFill>
          <a:blip r:embed="rId5"/>
          <a:srcRect l="0" t="0" r="-25" b="102"/>
          <a:stretch/>
        </p:blipFill>
        <p:spPr>
          <a:xfrm>
            <a:off x="5292720" y="2276640"/>
            <a:ext cx="2714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Diagram 5"/>
          <p:cNvGrpSpPr/>
          <p:nvPr/>
        </p:nvGrpSpPr>
        <p:grpSpPr>
          <a:xfrm>
            <a:off x="2633760" y="1708200"/>
            <a:ext cx="3878280" cy="3503520"/>
            <a:chOff x="2633760" y="1708200"/>
            <a:chExt cx="3878280" cy="3503520"/>
          </a:xfrm>
        </p:grpSpPr>
        <p:sp>
          <p:nvSpPr>
            <p:cNvPr id="96" name="_s1028"/>
            <p:cNvSpPr/>
            <p:nvPr/>
          </p:nvSpPr>
          <p:spPr>
            <a:xfrm flipH="1">
              <a:off x="3636720" y="413208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29"/>
            <p:cNvSpPr/>
            <p:nvPr/>
          </p:nvSpPr>
          <p:spPr>
            <a:xfrm>
              <a:off x="2633760" y="41338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0"/>
            <p:cNvSpPr/>
            <p:nvPr/>
          </p:nvSpPr>
          <p:spPr>
            <a:xfrm>
              <a:off x="5037120" y="413208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1"/>
            <p:cNvSpPr/>
            <p:nvPr/>
          </p:nvSpPr>
          <p:spPr>
            <a:xfrm>
              <a:off x="5433840" y="4133880"/>
              <a:ext cx="107820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4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ТАЛИ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.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Picture 15" descr="imagesCA0AFQDZ"/>
          <p:cNvPicPr/>
          <p:nvPr/>
        </p:nvPicPr>
        <p:blipFill>
          <a:blip r:embed="rId1"/>
          <a:stretch/>
        </p:blipFill>
        <p:spPr>
          <a:xfrm>
            <a:off x="0" y="1484280"/>
            <a:ext cx="3708360" cy="2444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imagesCA7VLX9Q"/>
          <p:cNvPicPr/>
          <p:nvPr/>
        </p:nvPicPr>
        <p:blipFill>
          <a:blip r:embed="rId2"/>
          <a:stretch/>
        </p:blipFill>
        <p:spPr>
          <a:xfrm>
            <a:off x="5219640" y="1341360"/>
            <a:ext cx="3708360" cy="257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imagesCAQG9QFC"/>
          <p:cNvPicPr/>
          <p:nvPr/>
        </p:nvPicPr>
        <p:blipFill>
          <a:blip r:embed="rId3"/>
          <a:stretch/>
        </p:blipFill>
        <p:spPr>
          <a:xfrm>
            <a:off x="3780000" y="4546440"/>
            <a:ext cx="16002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«Явление Сталина весьма сложно и касается не только коммунистического движения и тогдашних внешних и внутренних возможностей Советского Союза. Тут поднимаются проблемы отношений идеи и человека, вождя и движения, значения мифов в жизни человека. Сталин принадлежит прошлому, а споры о нём и его методах управления страной продолжаются и по сегодняшний ден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илован Джилас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images"/>
          <p:cNvPicPr/>
          <p:nvPr/>
        </p:nvPicPr>
        <p:blipFill>
          <a:blip r:embed="rId1"/>
          <a:stretch/>
        </p:blipFill>
        <p:spPr>
          <a:xfrm>
            <a:off x="0" y="3357720"/>
            <a:ext cx="3062160" cy="3500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untitled"/>
          <p:cNvPicPr/>
          <p:nvPr/>
        </p:nvPicPr>
        <p:blipFill>
          <a:blip r:embed="rId2"/>
          <a:stretch/>
        </p:blipFill>
        <p:spPr>
          <a:xfrm>
            <a:off x="5076720" y="4076640"/>
            <a:ext cx="2768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53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Мі візьмемо усе найкраще в себ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Пронесемо нащадкам крізь ві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І щоб вони сказали н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«Спасибі» за держав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Яку побудува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ff"/>
                </a:solidFill>
                <a:latin typeface="Arial Black"/>
              </a:rPr>
              <a:t>Ми змог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http://t1.gstatic.com/images?q=tbn:ANd9GcR9nLJIKo1FhOPxupGefZvQd9wuEJtqyffyWX_RzMyE75EMEXg-xw"/>
          <p:cNvPicPr/>
          <p:nvPr/>
        </p:nvPicPr>
        <p:blipFill>
          <a:blip r:embed="rId1"/>
          <a:stretch/>
        </p:blipFill>
        <p:spPr>
          <a:xfrm>
            <a:off x="0" y="0"/>
            <a:ext cx="1438200" cy="1457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ttp://t1.gstatic.com/images?q=tbn:ANd9GcTEiBSCfUVp56XkoayGlOsinJ7QQNsXQDiBq2hedACQefG4tArqvg"/>
          <p:cNvPicPr/>
          <p:nvPr/>
        </p:nvPicPr>
        <p:blipFill>
          <a:blip r:embed="rId2"/>
          <a:stretch/>
        </p:blipFill>
        <p:spPr>
          <a:xfrm>
            <a:off x="5148360" y="3860640"/>
            <a:ext cx="3846240" cy="266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http://t1.gstatic.com/images?q=tbn:ANd9GcT76FY2RM_YD9Ka9YTJHugEEjcxdcOWPlylmRn4yXJeJSztwx3O0w"/>
          <p:cNvPicPr/>
          <p:nvPr/>
        </p:nvPicPr>
        <p:blipFill>
          <a:blip r:embed="rId3"/>
          <a:stretch/>
        </p:blipFill>
        <p:spPr>
          <a:xfrm>
            <a:off x="5364000" y="115920"/>
            <a:ext cx="35607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В. И. Ленин умер  в … год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овым главой советского государства стал … 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индустриализацию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зовите годы первой пятилетки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 каком съезде был провозглашён курс на кооперацию сел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остановление ЦК ВКП (б) « Про ликвидацию кулацких хозяйств» была принят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Закон известный как  «Закон о пяти колосках» был принят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Начало пропаганды, о внесение на «чёрную доску» приходится н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Голодомор украинского народа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, который вошёл в историю, как «Шахтинское дело»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Судебный процесс над участниками СВУ проходил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Times New Roman"/>
              </a:rPr>
              <a:t>Принятие новой Конституции СССР в …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5651640" y="-114480"/>
            <a:ext cx="2592360" cy="447840"/>
          </a:xfrm>
          <a:prstGeom prst="borderCallout1">
            <a:avLst>
              <a:gd name="adj1" fmla="val 18750"/>
              <a:gd name="adj2" fmla="val -8333"/>
              <a:gd name="adj3" fmla="val 75532"/>
              <a:gd name="adj4" fmla="val -410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24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8101080" y="290520"/>
            <a:ext cx="14223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0023"/>
              <a:gd name="adj5" fmla="val 78365"/>
              <a:gd name="adj6" fmla="val -556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7385040" y="866880"/>
            <a:ext cx="175896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100722"/>
              <a:gd name="adj5" fmla="val 121634"/>
              <a:gd name="adj6" fmla="val -20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V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6303960" y="1413000"/>
            <a:ext cx="284004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5092"/>
              <a:gd name="adj5" fmla="val 71541"/>
              <a:gd name="adj6" fmla="val -280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28/29 – 1932/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"/>
          <p:cNvSpPr/>
          <p:nvPr/>
        </p:nvSpPr>
        <p:spPr>
          <a:xfrm>
            <a:off x="4067280" y="2205000"/>
            <a:ext cx="215568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55152"/>
              <a:gd name="adj5" fmla="val 31731"/>
              <a:gd name="adj6" fmla="val -108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ъез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300720" y="2781360"/>
            <a:ext cx="2070000" cy="403200"/>
          </a:xfrm>
          <a:prstGeom prst="borderCallout2">
            <a:avLst>
              <a:gd name="adj1" fmla="val 18750"/>
              <a:gd name="adj2" fmla="val -8333"/>
              <a:gd name="adj3" fmla="val 28347"/>
              <a:gd name="adj4" fmla="val -44555"/>
              <a:gd name="adj5" fmla="val 71259"/>
              <a:gd name="adj6" fmla="val -869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января 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"/>
          <p:cNvSpPr/>
          <p:nvPr/>
        </p:nvSpPr>
        <p:spPr>
          <a:xfrm>
            <a:off x="3708360" y="3500280"/>
            <a:ext cx="1795680" cy="33048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93"/>
              <a:gd name="adj5" fmla="val 65384"/>
              <a:gd name="adj6" fmla="val -92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января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>
            <a:off x="4427640" y="4221000"/>
            <a:ext cx="1800000" cy="417600"/>
          </a:xfrm>
          <a:prstGeom prst="borderCallout2">
            <a:avLst>
              <a:gd name="adj1" fmla="val 18750"/>
              <a:gd name="adj2" fmla="val -8333"/>
              <a:gd name="adj3" fmla="val 27375"/>
              <a:gd name="adj4" fmla="val -43472"/>
              <a:gd name="adj5" fmla="val 58175"/>
              <a:gd name="adj6" fmla="val -843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ь 1932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6372360" y="5229360"/>
            <a:ext cx="27716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1648"/>
              <a:gd name="adj5" fmla="val 69712"/>
              <a:gd name="adj6" fmla="val -412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 мая – 5 июня 1928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6"/>
          <p:cNvSpPr/>
          <p:nvPr/>
        </p:nvSpPr>
        <p:spPr>
          <a:xfrm>
            <a:off x="7145280" y="5589720"/>
            <a:ext cx="199872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23194"/>
              <a:gd name="adj5" fmla="val 89722"/>
              <a:gd name="adj6" fmla="val -43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е 1930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7020000" y="6051600"/>
            <a:ext cx="178272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18078"/>
              <a:gd name="adj5" fmla="val 46245"/>
              <a:gd name="adj6" fmla="val -32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нваре 1937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8"/>
          <p:cNvSpPr/>
          <p:nvPr/>
        </p:nvSpPr>
        <p:spPr>
          <a:xfrm>
            <a:off x="6804000" y="4508640"/>
            <a:ext cx="2340000" cy="360360"/>
          </a:xfrm>
          <a:prstGeom prst="borderCallout2">
            <a:avLst>
              <a:gd name="adj1" fmla="val 18750"/>
              <a:gd name="adj2" fmla="val -8333"/>
              <a:gd name="adj3" fmla="val 31717"/>
              <a:gd name="adj4" fmla="val -28833"/>
              <a:gd name="adj5" fmla="val 100000"/>
              <a:gd name="adj6" fmla="val -553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32 – 1933г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исок  использованн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ru.wikiquote.org/wik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greatstali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ib.ru/PXESY/RADZINSKIJ/stalin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calend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2000.net.u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tmat.inf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rusizn.ru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3280" y="259920"/>
            <a:ext cx="417672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«И дана была ему власть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13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над всяким и народом, 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300" spc="-1" strike="noStrike">
                <a:solidFill>
                  <a:srgbClr val="ffffff"/>
                </a:solidFill>
                <a:latin typeface="Times New Roman"/>
              </a:rPr>
              <a:t>и языком и племенем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 Отк.13.: 7 – 15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4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– суд 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agesCAWBIAB5"/>
          <p:cNvPicPr/>
          <p:nvPr/>
        </p:nvPicPr>
        <p:blipFill>
          <a:blip r:embed="rId1"/>
          <a:stretch/>
        </p:blipFill>
        <p:spPr>
          <a:xfrm>
            <a:off x="900000" y="1628640"/>
            <a:ext cx="6985080" cy="4945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imagesCAS5DFZI"/>
          <p:cNvPicPr/>
          <p:nvPr/>
        </p:nvPicPr>
        <p:blipFill>
          <a:blip r:embed="rId2"/>
          <a:stretch/>
        </p:blipFill>
        <p:spPr>
          <a:xfrm>
            <a:off x="0" y="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оложительные и отрицательные черты сталинского режима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95280" y="1600200"/>
          <a:ext cx="8291520" cy="4924440"/>
        </p:xfrm>
        <a:graphic>
          <a:graphicData uri="http://schemas.openxmlformats.org/drawingml/2006/table">
            <a:tbl>
              <a:tblPr/>
              <a:tblGrid>
                <a:gridCol w="4143240"/>
                <a:gridCol w="4148280"/>
              </a:tblGrid>
              <a:tr h="109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ожи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рицательные чер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Джугашвили Иосиф Виссарионови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Ф. И. О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жугашвили Иосиф Виссарионович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артийных кругах более известен ка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ЛИН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ранее известный также под партийной кличк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Дата и год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 (21) декабря 187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ожде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ри, Тифлисская губерния, Российская импе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прожив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. Москва, ССС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Место работы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еволюционер, советский политический, государственный, военный и партийный деятель. Деятель международного коммунистического и рабочего движения, теоретик и пропагандист марксизма-ленинизма, фактический руководитель Союза Советских Социалистических Республик с конца 20-х до своей смерти 5 марта 1953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0" b="46"/>
          <a:stretch/>
        </p:blipFill>
        <p:spPr>
          <a:xfrm>
            <a:off x="395280" y="1413000"/>
            <a:ext cx="374328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Blackadder ITC"/>
              </a:rPr>
              <a:t>Троцкий Лев Давыдович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11280" y="1599840"/>
            <a:ext cx="4475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Ф. И. 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оцкий Лев Давыд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ата и год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7 ноября 1879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есто рожд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ло Береславка Кировоград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1896г. начал Вести революционную пропаганду в Николаеве, позже за революционную пропаганду был арестован, бежал за границу. С 1918г – 1924г. Был наркомом по иностранным, военным и морским делам. В 1927г. За свои оппозиционные взгляды был разжалован и отправлен в ссыл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imagesCABKBD4S"/>
          <p:cNvPicPr/>
          <p:nvPr/>
        </p:nvPicPr>
        <p:blipFill>
          <a:blip r:embed="rId1"/>
          <a:stretch/>
        </p:blipFill>
        <p:spPr>
          <a:xfrm>
            <a:off x="250920" y="1125360"/>
            <a:ext cx="37447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lackadder ITC"/>
              </a:rPr>
              <a:t>Уинстон Леонард Спенсер-Чергмлл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186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дился 30 ноября 1874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родовом имении герцогов Мальборо Дворце Бленхей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4319640" y="3429000"/>
            <a:ext cx="4824360" cy="31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Большим счастьем  было для  Росс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годы тяжелейших испыт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ну возглавил г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епоколебимый полководец Сталин"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magesCALT1SKG"/>
          <p:cNvPicPr/>
          <p:nvPr/>
        </p:nvPicPr>
        <p:blipFill>
          <a:blip r:embed="rId1"/>
          <a:stretch/>
        </p:blipFill>
        <p:spPr>
          <a:xfrm>
            <a:off x="250920" y="1916280"/>
            <a:ext cx="4284720" cy="41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ничтожим кулака как класс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Blackadder ITC"/>
              </a:rPr>
              <a:t>«В наше село прибыла бригада проводить коллективизацию и пошла крупная борьба. Много людей не хотят пока идти в коллектив. Кто выскажется против коллектива, то у нас таких бросали в бывший погреб попа. Агроном Чернышевский сказал, кто не пойдёт в коллектив, то ми тому поотбиваем руки и ноги».</a:t>
            </a:r>
            <a:r>
              <a:rPr b="1" lang="ru-RU" sz="2000" spc="-1" strike="noStrike">
                <a:solidFill>
                  <a:srgbClr val="ffffff"/>
                </a:solidFill>
                <a:latin typeface="Blackadder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письмо крестья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с. Большая Буши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Немировского рай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инницкого ок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Г. Яре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в редакцию газ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«Советское село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nastasiaScript"/>
              </a:rPr>
              <a:t>5 февраля 193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Documents and Settings\Администратор\Рабочий стол\Сталин\picture1_c107779.jpg"/>
          <p:cNvPicPr/>
          <p:nvPr/>
        </p:nvPicPr>
        <p:blipFill>
          <a:blip r:embed="rId1"/>
          <a:stretch/>
        </p:blipFill>
        <p:spPr>
          <a:xfrm>
            <a:off x="826920" y="3716280"/>
            <a:ext cx="414828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1T18:18:42Z</dcterms:created>
  <dc:creator>Admin</dc:creator>
  <dc:description/>
  <dc:language>en-US</dc:language>
  <cp:lastModifiedBy>Admin</cp:lastModifiedBy>
  <dcterms:modified xsi:type="dcterms:W3CDTF">2012-09-09T05:53:01Z</dcterms:modified>
  <cp:revision>117</cp:revision>
  <dc:subject/>
  <dc:title>Урок – суд «Стал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8000000000001024140</vt:lpwstr>
  </property>
</Properties>
</file>