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1.wmf" ContentType="image/x-wmf"/>
  <Override PartName="/ppt/media/image17.jpeg" ContentType="image/jpeg"/>
  <Override PartName="/ppt/media/image8.jpeg" ContentType="image/jpeg"/>
  <Override PartName="/ppt/media/image10.wmf" ContentType="image/x-wmf"/>
  <Override PartName="/ppt/media/image4.jpeg" ContentType="image/jpeg"/>
  <Override PartName="/ppt/media/image25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9.wmf" ContentType="image/x-wmf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25AD-240C-4405-9A95-21A146D20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0B28-6B27-459C-B633-1140DE14F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E53A-483E-41FA-9BAE-64231545C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DE68-8B42-4BED-AF15-BD683FE5B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7653-EEAC-43DB-BAB8-38639D411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37D3-14BE-4794-8BF5-8D04B1E9D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FD50-63AE-4BE8-BF71-C051B04E7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C2B0-2C99-4D62-A0E7-F455BC5C0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A03A-8AE6-4F4C-98E5-F91D69F8A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0892-BE2F-4DAA-AC6A-48924E6F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D088-2F87-4B06-AD97-954C5B0F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24A4-CF9E-47B1-8B8B-F5CD6726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E640B-E240-4A84-AA10-3D1CF94737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рок – суд «Сталин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292360" y="3212640"/>
            <a:ext cx="33433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уськова О.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тег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imagesCA1ALNMZ"/>
          <p:cNvPicPr/>
          <p:nvPr/>
        </p:nvPicPr>
        <p:blipFill>
          <a:blip r:embed="rId1"/>
          <a:stretch/>
        </p:blipFill>
        <p:spPr>
          <a:xfrm>
            <a:off x="0" y="2492280"/>
            <a:ext cx="493236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Демографические потери сельского населения в следствии коллективизац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489800" cy="52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Валовой сбор сельскохозяйственных культур в период коллективизации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88544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оголовье скота за период коллективиз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1042920" y="1844640"/>
            <a:ext cx="748980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«Индустриализац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индустриализация_0001.wmv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769440" cy="54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0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ост физического объёма валовой продукции промышленности СССР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1928 – 1932 г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0" y="1341360"/>
          <a:ext cx="9144000" cy="5256360"/>
        </p:xfrm>
        <a:graphic>
          <a:graphicData uri="http://schemas.openxmlformats.org/drawingml/2006/table">
            <a:tbl>
              <a:tblPr/>
              <a:tblGrid>
                <a:gridCol w="4830840"/>
                <a:gridCol w="1047600"/>
                <a:gridCol w="1311480"/>
                <a:gridCol w="1954080"/>
              </a:tblGrid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родукци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928г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932г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932 к 1928 (%)</a:t>
                      </a:r>
                      <a:br>
                        <a:rPr sz="2400"/>
                      </a:b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-я пятилет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Чугун, млн. 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88 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таль, млн. 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37 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рокат чёрных металлов, млн. 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29 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Уголь, млн. 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5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4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81 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Нефть, млн. 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1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1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84 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Электроэнергия, млрд кВт·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3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70 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сталинские репрессии 30-х годов.wmv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7850160" cy="62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талинские репре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250px-Kuznetsov_prigovor"/>
          <p:cNvPicPr/>
          <p:nvPr/>
        </p:nvPicPr>
        <p:blipFill>
          <a:blip r:embed="rId1"/>
          <a:stretch/>
        </p:blipFill>
        <p:spPr>
          <a:xfrm>
            <a:off x="0" y="1052640"/>
            <a:ext cx="2496960" cy="3816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450PX-~1"/>
          <p:cNvPicPr/>
          <p:nvPr/>
        </p:nvPicPr>
        <p:blipFill>
          <a:blip r:embed="rId2"/>
          <a:stretch/>
        </p:blipFill>
        <p:spPr>
          <a:xfrm>
            <a:off x="6858000" y="1052640"/>
            <a:ext cx="2286000" cy="3043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__1_~1"/>
          <p:cNvPicPr/>
          <p:nvPr/>
        </p:nvPicPr>
        <p:blipFill>
          <a:blip r:embed="rId3"/>
          <a:srcRect l="0" t="0" r="-67" b="83"/>
          <a:stretch/>
        </p:blipFill>
        <p:spPr>
          <a:xfrm>
            <a:off x="1042920" y="2349360"/>
            <a:ext cx="2522520" cy="3672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Delovrachey1"/>
          <p:cNvPicPr/>
          <p:nvPr/>
        </p:nvPicPr>
        <p:blipFill>
          <a:blip r:embed="rId4"/>
          <a:stretch/>
        </p:blipFill>
        <p:spPr>
          <a:xfrm>
            <a:off x="3780000" y="1197000"/>
            <a:ext cx="2290680" cy="3311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Execute_346_Stalins_resolution"/>
          <p:cNvPicPr/>
          <p:nvPr/>
        </p:nvPicPr>
        <p:blipFill>
          <a:blip r:embed="rId5"/>
          <a:srcRect l="0" t="0" r="-25" b="102"/>
          <a:stretch/>
        </p:blipFill>
        <p:spPr>
          <a:xfrm>
            <a:off x="5292720" y="2276640"/>
            <a:ext cx="271476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Положительные и отрицательные черты сталинского режима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Diagram 5"/>
          <p:cNvGrpSpPr/>
          <p:nvPr/>
        </p:nvGrpSpPr>
        <p:grpSpPr>
          <a:xfrm>
            <a:off x="2633760" y="1708200"/>
            <a:ext cx="3878280" cy="3503520"/>
            <a:chOff x="2633760" y="1708200"/>
            <a:chExt cx="3878280" cy="3503520"/>
          </a:xfrm>
        </p:grpSpPr>
        <p:sp>
          <p:nvSpPr>
            <p:cNvPr id="96" name="_s1028"/>
            <p:cNvSpPr/>
            <p:nvPr/>
          </p:nvSpPr>
          <p:spPr>
            <a:xfrm flipH="1">
              <a:off x="3636720" y="4132080"/>
              <a:ext cx="469800" cy="27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029"/>
            <p:cNvSpPr/>
            <p:nvPr/>
          </p:nvSpPr>
          <p:spPr>
            <a:xfrm>
              <a:off x="2633760" y="4133880"/>
              <a:ext cx="1077840" cy="1077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030"/>
            <p:cNvSpPr/>
            <p:nvPr/>
          </p:nvSpPr>
          <p:spPr>
            <a:xfrm>
              <a:off x="5037120" y="4132080"/>
              <a:ext cx="468360" cy="27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031"/>
            <p:cNvSpPr/>
            <p:nvPr/>
          </p:nvSpPr>
          <p:spPr>
            <a:xfrm>
              <a:off x="5433840" y="4133880"/>
              <a:ext cx="1078200" cy="1077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032"/>
            <p:cNvSpPr/>
            <p:nvPr/>
          </p:nvSpPr>
          <p:spPr>
            <a:xfrm flipV="1">
              <a:off x="4572000" y="2784240"/>
              <a:ext cx="0" cy="54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1033"/>
            <p:cNvSpPr/>
            <p:nvPr/>
          </p:nvSpPr>
          <p:spPr>
            <a:xfrm>
              <a:off x="4033800" y="1708200"/>
              <a:ext cx="1077840" cy="1077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1034"/>
            <p:cNvSpPr/>
            <p:nvPr/>
          </p:nvSpPr>
          <p:spPr>
            <a:xfrm>
              <a:off x="4033800" y="3325680"/>
              <a:ext cx="1077840" cy="1077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СТАЛИ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.В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3" name="Picture 15" descr="imagesCA0AFQDZ"/>
          <p:cNvPicPr/>
          <p:nvPr/>
        </p:nvPicPr>
        <p:blipFill>
          <a:blip r:embed="rId1"/>
          <a:stretch/>
        </p:blipFill>
        <p:spPr>
          <a:xfrm>
            <a:off x="0" y="1484280"/>
            <a:ext cx="3708360" cy="2444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6" descr="imagesCA7VLX9Q"/>
          <p:cNvPicPr/>
          <p:nvPr/>
        </p:nvPicPr>
        <p:blipFill>
          <a:blip r:embed="rId2"/>
          <a:stretch/>
        </p:blipFill>
        <p:spPr>
          <a:xfrm>
            <a:off x="5219640" y="1341360"/>
            <a:ext cx="3708360" cy="2578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8" descr="imagesCAQG9QFC"/>
          <p:cNvPicPr/>
          <p:nvPr/>
        </p:nvPicPr>
        <p:blipFill>
          <a:blip r:embed="rId3"/>
          <a:stretch/>
        </p:blipFill>
        <p:spPr>
          <a:xfrm>
            <a:off x="3780000" y="4546440"/>
            <a:ext cx="160020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539640" y="-360"/>
            <a:ext cx="822960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Blackadder ITC"/>
              </a:rPr>
              <a:t>«Явление Сталина весьма сложно и касается не только коммунистического движения и тогдашних внешних и внутренних возможностей Советского Союза. Тут поднимаются проблемы отношений идеи и человека, вождя и движения, значения мифов в жизни человека. Сталин принадлежит прошлому, а споры о нём и его методах управления страной продолжаются и по сегодняшний ден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(Милован Джилас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images"/>
          <p:cNvPicPr/>
          <p:nvPr/>
        </p:nvPicPr>
        <p:blipFill>
          <a:blip r:embed="rId1"/>
          <a:stretch/>
        </p:blipFill>
        <p:spPr>
          <a:xfrm>
            <a:off x="0" y="3357720"/>
            <a:ext cx="3062160" cy="3500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untitled"/>
          <p:cNvPicPr/>
          <p:nvPr/>
        </p:nvPicPr>
        <p:blipFill>
          <a:blip r:embed="rId2"/>
          <a:stretch/>
        </p:blipFill>
        <p:spPr>
          <a:xfrm>
            <a:off x="5076720" y="4076640"/>
            <a:ext cx="276876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1341360"/>
            <a:ext cx="536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Arial Black"/>
              </a:rPr>
              <a:t>«Мі візьмемо усе найкраще в с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Arial Black"/>
              </a:rPr>
              <a:t>Пронесемо нащадкам крізь ві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Arial Black"/>
              </a:rPr>
              <a:t>І щоб вони сказали на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Arial Black"/>
              </a:rPr>
              <a:t>«Спасибі» за держа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Arial Black"/>
              </a:rPr>
              <a:t>Яку побудува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Arial Black"/>
              </a:rPr>
              <a:t>Ми змогл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http://t1.gstatic.com/images?q=tbn:ANd9GcR9nLJIKo1FhOPxupGefZvQd9wuEJtqyffyWX_RzMyE75EMEXg-xw"/>
          <p:cNvPicPr/>
          <p:nvPr/>
        </p:nvPicPr>
        <p:blipFill>
          <a:blip r:embed="rId1"/>
          <a:stretch/>
        </p:blipFill>
        <p:spPr>
          <a:xfrm>
            <a:off x="0" y="0"/>
            <a:ext cx="1438200" cy="1457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http://t1.gstatic.com/images?q=tbn:ANd9GcTEiBSCfUVp56XkoayGlOsinJ7QQNsXQDiBq2hedACQefG4tArqvg"/>
          <p:cNvPicPr/>
          <p:nvPr/>
        </p:nvPicPr>
        <p:blipFill>
          <a:blip r:embed="rId2"/>
          <a:stretch/>
        </p:blipFill>
        <p:spPr>
          <a:xfrm>
            <a:off x="5148360" y="3860640"/>
            <a:ext cx="3846240" cy="2664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http://t1.gstatic.com/images?q=tbn:ANd9GcT76FY2RM_YD9Ka9YTJHugEEjcxdcOWPlylmRn4yXJeJSztwx3O0w"/>
          <p:cNvPicPr/>
          <p:nvPr/>
        </p:nvPicPr>
        <p:blipFill>
          <a:blip r:embed="rId3"/>
          <a:stretch/>
        </p:blipFill>
        <p:spPr>
          <a:xfrm>
            <a:off x="5364000" y="115920"/>
            <a:ext cx="3560760" cy="26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Times New Roman"/>
              </a:rPr>
              <a:t>В. И. Ленин умер  в … году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Times New Roman"/>
              </a:rPr>
              <a:t>Новым главой советского государства стал … 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Times New Roman"/>
              </a:rPr>
              <a:t>На каком съезде был провозглашён курс на индустриализацию …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Times New Roman"/>
              </a:rPr>
              <a:t>Назовите годы первой пятилетки …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Times New Roman"/>
              </a:rPr>
              <a:t>На каком съезде был провозглашён курс на кооперацию села …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Times New Roman"/>
              </a:rPr>
              <a:t>Постановление ЦК ВКП (б) « Про ликвидацию кулацких хозяйств» была принята …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Times New Roman"/>
              </a:rPr>
              <a:t>Закон известный как  «Закон о пяти колосках» был принят в …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Times New Roman"/>
              </a:rPr>
              <a:t>Начало пропаганды, о внесение на «чёрную доску» приходится на …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Times New Roman"/>
              </a:rPr>
              <a:t>Голодомор украинского народа …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Times New Roman"/>
              </a:rPr>
              <a:t>Судебный процесс, который вошёл в историю, как «Шахтинское дело» проходил в …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Times New Roman"/>
              </a:rPr>
              <a:t>Судебный процесс над участниками СВУ проходил в …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Times New Roman"/>
              </a:rPr>
              <a:t>Принятие новой Конституции СССР в …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5651640" y="-114480"/>
            <a:ext cx="2592360" cy="447840"/>
          </a:xfrm>
          <a:prstGeom prst="borderCallout1">
            <a:avLst>
              <a:gd name="adj1" fmla="val 18750"/>
              <a:gd name="adj2" fmla="val -8333"/>
              <a:gd name="adj3" fmla="val 75532"/>
              <a:gd name="adj4" fmla="val -4102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нварь 1924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8"/>
          <p:cNvSpPr/>
          <p:nvPr/>
        </p:nvSpPr>
        <p:spPr>
          <a:xfrm>
            <a:off x="8101080" y="290520"/>
            <a:ext cx="1422360" cy="330120"/>
          </a:xfrm>
          <a:prstGeom prst="borderCallout2">
            <a:avLst>
              <a:gd name="adj1" fmla="val 18750"/>
              <a:gd name="adj2" fmla="val -8333"/>
              <a:gd name="adj3" fmla="val 34615"/>
              <a:gd name="adj4" fmla="val -30023"/>
              <a:gd name="adj5" fmla="val 78365"/>
              <a:gd name="adj6" fmla="val -556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ли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9"/>
          <p:cNvSpPr/>
          <p:nvPr/>
        </p:nvSpPr>
        <p:spPr>
          <a:xfrm>
            <a:off x="7385040" y="866880"/>
            <a:ext cx="1758960" cy="330120"/>
          </a:xfrm>
          <a:prstGeom prst="borderCallout2">
            <a:avLst>
              <a:gd name="adj1" fmla="val 18750"/>
              <a:gd name="adj2" fmla="val -8333"/>
              <a:gd name="adj3" fmla="val 34615"/>
              <a:gd name="adj4" fmla="val -100722"/>
              <a:gd name="adj5" fmla="val 121634"/>
              <a:gd name="adj6" fmla="val -20090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IV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ъезд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0"/>
          <p:cNvSpPr/>
          <p:nvPr/>
        </p:nvSpPr>
        <p:spPr>
          <a:xfrm>
            <a:off x="6303960" y="1413000"/>
            <a:ext cx="2840040" cy="401400"/>
          </a:xfrm>
          <a:prstGeom prst="borderCallout2">
            <a:avLst>
              <a:gd name="adj1" fmla="val 18750"/>
              <a:gd name="adj2" fmla="val -8333"/>
              <a:gd name="adj3" fmla="val 28458"/>
              <a:gd name="adj4" fmla="val -15092"/>
              <a:gd name="adj5" fmla="val 71541"/>
              <a:gd name="adj6" fmla="val -2800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28/29 – 1932/33г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1"/>
          <p:cNvSpPr/>
          <p:nvPr/>
        </p:nvSpPr>
        <p:spPr>
          <a:xfrm>
            <a:off x="4067280" y="2205000"/>
            <a:ext cx="2155680" cy="330120"/>
          </a:xfrm>
          <a:prstGeom prst="borderCallout2">
            <a:avLst>
              <a:gd name="adj1" fmla="val 18750"/>
              <a:gd name="adj2" fmla="val -8333"/>
              <a:gd name="adj3" fmla="val 34615"/>
              <a:gd name="adj4" fmla="val -55152"/>
              <a:gd name="adj5" fmla="val 31731"/>
              <a:gd name="adj6" fmla="val -1087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ъезд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2"/>
          <p:cNvSpPr/>
          <p:nvPr/>
        </p:nvSpPr>
        <p:spPr>
          <a:xfrm>
            <a:off x="6300720" y="2781360"/>
            <a:ext cx="2070000" cy="403200"/>
          </a:xfrm>
          <a:prstGeom prst="borderCallout2">
            <a:avLst>
              <a:gd name="adj1" fmla="val 18750"/>
              <a:gd name="adj2" fmla="val -8333"/>
              <a:gd name="adj3" fmla="val 28347"/>
              <a:gd name="adj4" fmla="val -44555"/>
              <a:gd name="adj5" fmla="val 71259"/>
              <a:gd name="adj6" fmla="val -869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0 января  1930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3"/>
          <p:cNvSpPr/>
          <p:nvPr/>
        </p:nvSpPr>
        <p:spPr>
          <a:xfrm>
            <a:off x="3708360" y="3500280"/>
            <a:ext cx="1795680" cy="330480"/>
          </a:xfrm>
          <a:prstGeom prst="borderCallout2">
            <a:avLst>
              <a:gd name="adj1" fmla="val 18750"/>
              <a:gd name="adj2" fmla="val -8333"/>
              <a:gd name="adj3" fmla="val 34615"/>
              <a:gd name="adj4" fmla="val -47393"/>
              <a:gd name="adj5" fmla="val 65384"/>
              <a:gd name="adj6" fmla="val -923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 января 1932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4"/>
          <p:cNvSpPr/>
          <p:nvPr/>
        </p:nvSpPr>
        <p:spPr>
          <a:xfrm>
            <a:off x="4427640" y="4221000"/>
            <a:ext cx="1800000" cy="417600"/>
          </a:xfrm>
          <a:prstGeom prst="borderCallout2">
            <a:avLst>
              <a:gd name="adj1" fmla="val 18750"/>
              <a:gd name="adj2" fmla="val -8333"/>
              <a:gd name="adj3" fmla="val 27375"/>
              <a:gd name="adj4" fmla="val -43472"/>
              <a:gd name="adj5" fmla="val 58175"/>
              <a:gd name="adj6" fmla="val -843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нварь 1932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5"/>
          <p:cNvSpPr/>
          <p:nvPr/>
        </p:nvSpPr>
        <p:spPr>
          <a:xfrm>
            <a:off x="6372360" y="5229360"/>
            <a:ext cx="2771640" cy="330120"/>
          </a:xfrm>
          <a:prstGeom prst="borderCallout2">
            <a:avLst>
              <a:gd name="adj1" fmla="val 18750"/>
              <a:gd name="adj2" fmla="val -8333"/>
              <a:gd name="adj3" fmla="val 34615"/>
              <a:gd name="adj4" fmla="val -21648"/>
              <a:gd name="adj5" fmla="val 69712"/>
              <a:gd name="adj6" fmla="val -412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 мая – 5 июня 1928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6"/>
          <p:cNvSpPr/>
          <p:nvPr/>
        </p:nvSpPr>
        <p:spPr>
          <a:xfrm>
            <a:off x="7145280" y="5589720"/>
            <a:ext cx="1998720" cy="401400"/>
          </a:xfrm>
          <a:prstGeom prst="borderCallout2">
            <a:avLst>
              <a:gd name="adj1" fmla="val 18750"/>
              <a:gd name="adj2" fmla="val -8333"/>
              <a:gd name="adj3" fmla="val 28458"/>
              <a:gd name="adj4" fmla="val -23194"/>
              <a:gd name="adj5" fmla="val 89722"/>
              <a:gd name="adj6" fmla="val -43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преле 1930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7"/>
          <p:cNvSpPr/>
          <p:nvPr/>
        </p:nvSpPr>
        <p:spPr>
          <a:xfrm>
            <a:off x="7020000" y="6051600"/>
            <a:ext cx="1782720" cy="401760"/>
          </a:xfrm>
          <a:prstGeom prst="borderCallout2">
            <a:avLst>
              <a:gd name="adj1" fmla="val 18750"/>
              <a:gd name="adj2" fmla="val -8333"/>
              <a:gd name="adj3" fmla="val 28458"/>
              <a:gd name="adj4" fmla="val -18078"/>
              <a:gd name="adj5" fmla="val 46245"/>
              <a:gd name="adj6" fmla="val -323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нваре 1937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8"/>
          <p:cNvSpPr/>
          <p:nvPr/>
        </p:nvSpPr>
        <p:spPr>
          <a:xfrm>
            <a:off x="6804000" y="4508640"/>
            <a:ext cx="2340000" cy="360360"/>
          </a:xfrm>
          <a:prstGeom prst="borderCallout2">
            <a:avLst>
              <a:gd name="adj1" fmla="val 18750"/>
              <a:gd name="adj2" fmla="val -8333"/>
              <a:gd name="adj3" fmla="val 31717"/>
              <a:gd name="adj4" fmla="val -28833"/>
              <a:gd name="adj5" fmla="val 100000"/>
              <a:gd name="adj6" fmla="val -553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32 – 1933г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писок  использованной литера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ru.wikiquote.org/wiki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greatstalin.ru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lib.ru/PXESY/RADZINSKIJ/stalin.t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calend.ru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2000.net.ua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istmat.info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rusizn.ru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643280" y="259920"/>
            <a:ext cx="4176720" cy="636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r">
              <a:lnSpc>
                <a:spcPct val="90000"/>
              </a:lnSpc>
              <a:spcBef>
                <a:spcPts val="13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300" spc="-1" strike="noStrike">
                <a:solidFill>
                  <a:srgbClr val="ffffff"/>
                </a:solidFill>
                <a:latin typeface="Times New Roman"/>
              </a:rPr>
              <a:t>«И дана была ему власть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>
              <a:lnSpc>
                <a:spcPct val="90000"/>
              </a:lnSpc>
              <a:spcBef>
                <a:spcPts val="13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5300" spc="-1" strike="noStrike">
                <a:solidFill>
                  <a:srgbClr val="ffffff"/>
                </a:solidFill>
                <a:latin typeface="Times New Roman"/>
              </a:rPr>
              <a:t>над всяким и народом, 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300" spc="-1" strike="noStrike">
                <a:solidFill>
                  <a:srgbClr val="ffffff"/>
                </a:solidFill>
                <a:latin typeface="Times New Roman"/>
              </a:rPr>
              <a:t>и языком и племенем»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 Отк.13.: 7 – 15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48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19280" y="274320"/>
            <a:ext cx="526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рок – суд 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imagesCAWBIAB5"/>
          <p:cNvPicPr/>
          <p:nvPr/>
        </p:nvPicPr>
        <p:blipFill>
          <a:blip r:embed="rId1"/>
          <a:stretch/>
        </p:blipFill>
        <p:spPr>
          <a:xfrm>
            <a:off x="900000" y="1628640"/>
            <a:ext cx="6985080" cy="4945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imagesCAS5DFZI"/>
          <p:cNvPicPr/>
          <p:nvPr/>
        </p:nvPicPr>
        <p:blipFill>
          <a:blip r:embed="rId2"/>
          <a:stretch/>
        </p:blipFill>
        <p:spPr>
          <a:xfrm>
            <a:off x="0" y="0"/>
            <a:ext cx="22860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«Положительные и отрицательные черты сталинского режима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95280" y="1600200"/>
          <a:ext cx="8291520" cy="4924440"/>
        </p:xfrm>
        <a:graphic>
          <a:graphicData uri="http://schemas.openxmlformats.org/drawingml/2006/table">
            <a:tbl>
              <a:tblPr/>
              <a:tblGrid>
                <a:gridCol w="4143240"/>
                <a:gridCol w="4148280"/>
              </a:tblGrid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ложительные чер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рицательные чер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2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вод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Джугашвили Иосиф Виссарионович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330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Ф. И. О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Джугашвили Иосиф Виссарионович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партийных кругах более известен как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АЛИН,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ранее известный также под партийной кличкой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Б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Дата и год рождения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9 (21) декабря 1879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Место рождения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ори, Тифлисская губерния, Российская импер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Место проживания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. Москва, ССС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Место работы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ссийский революционер, советский политический, государственный, военный и партийный деятель. Деятель международного коммунистического и рабочего движения, теоретик и пропагандист марксизма-ленинизма, фактический руководитель Союза Советских Социалистических Республик с конца 20-х до своей смерти 5 марта 1953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rcRect l="0" t="0" r="0" b="46"/>
          <a:stretch/>
        </p:blipFill>
        <p:spPr>
          <a:xfrm>
            <a:off x="395280" y="1413000"/>
            <a:ext cx="374328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Blackadder ITC"/>
              </a:rPr>
              <a:t>Троцкий Лев Давыдович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211280" y="1599840"/>
            <a:ext cx="4475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Ф. И. 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роцкий Лев Давыдович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Дата и год рожд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7 ноября 1879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есто рожд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ло Береславка Кировоградской обл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 1896г. начал Вести революционную пропаганду в Николаеве, позже за революционную пропаганду был арестован, бежал за границу. С 1918г – 1924г. Был наркомом по иностранным, военным и морским делам. В 1927г. За свои оппозиционные взгляды был разжалован и отправлен в ссыл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imagesCABKBD4S"/>
          <p:cNvPicPr/>
          <p:nvPr/>
        </p:nvPicPr>
        <p:blipFill>
          <a:blip r:embed="rId1"/>
          <a:stretch/>
        </p:blipFill>
        <p:spPr>
          <a:xfrm>
            <a:off x="250920" y="1125360"/>
            <a:ext cx="374472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lackadder ITC"/>
              </a:rPr>
              <a:t>Уинстон Леонард Спенсер-Чергмлль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00720" y="1600200"/>
            <a:ext cx="418608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одился 30 ноября 1874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родовом имении герцогов Мальборо Дворце Бленхей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4319640" y="3429000"/>
            <a:ext cx="4824360" cy="31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"Большим счастьем  было для  Росс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в годы тяжелейших испыта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ану возглавил г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непоколебимый полководец Сталин"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imagesCALT1SKG"/>
          <p:cNvPicPr/>
          <p:nvPr/>
        </p:nvPicPr>
        <p:blipFill>
          <a:blip r:embed="rId1"/>
          <a:stretch/>
        </p:blipFill>
        <p:spPr>
          <a:xfrm>
            <a:off x="250920" y="1916280"/>
            <a:ext cx="4284720" cy="41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Уничтожим кулака как класс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218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Blackadder ITC"/>
              </a:rPr>
              <a:t>«В наше село прибыла бригада проводить коллективизацию и пошла крупная борьба. Много людей не хотят пока идти в коллектив. Кто выскажется против коллектива, то у нас таких бросали в бывший погреб попа. Агроном Чернышевский сказал, кто не пойдёт в коллектив, то ми тому поотбиваем руки и ноги».</a:t>
            </a:r>
            <a:r>
              <a:rPr b="1" lang="ru-RU" sz="2000" spc="-1" strike="noStrike">
                <a:solidFill>
                  <a:srgbClr val="ffffff"/>
                </a:solidFill>
                <a:latin typeface="Blackadder IT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nastasiaScript"/>
              </a:rPr>
              <a:t>письмо крестьян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nastasiaScript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AnastasiaScript"/>
              </a:rPr>
              <a:t>с. Большая Бушин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nastasiaScript"/>
              </a:rPr>
              <a:t>Немировского райо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nastasiaScript"/>
              </a:rPr>
              <a:t>Винницкого окру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nastasiaScript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AnastasiaScript"/>
              </a:rPr>
              <a:t>Г. Яремен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nastasiaScript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AnastasiaScript"/>
              </a:rPr>
              <a:t>в редакцию газе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nastasiaScript"/>
              </a:rPr>
              <a:t>«Советское село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nastasiaScript"/>
              </a:rPr>
              <a:t>5 февраля 1930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C:\Documents and Settings\Администратор\Рабочий стол\Сталин\picture1_c107779.jpg"/>
          <p:cNvPicPr/>
          <p:nvPr/>
        </p:nvPicPr>
        <p:blipFill>
          <a:blip r:embed="rId1"/>
          <a:stretch/>
        </p:blipFill>
        <p:spPr>
          <a:xfrm>
            <a:off x="826920" y="3716280"/>
            <a:ext cx="4148280" cy="29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1T18:18:42Z</dcterms:created>
  <dc:creator>Admin</dc:creator>
  <dc:description/>
  <dc:language>en-US</dc:language>
  <cp:lastModifiedBy>Admin</cp:lastModifiedBy>
  <dcterms:modified xsi:type="dcterms:W3CDTF">2012-09-09T05:53:01Z</dcterms:modified>
  <cp:revision>117</cp:revision>
  <dc:subject/>
  <dc:title>Урок – суд «Сталин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008000000000001024140</vt:lpwstr>
  </property>
</Properties>
</file>