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9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CC27-1F68-4401-84AC-440DB281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1C12-C7DD-423C-B670-BFA8A1D1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3CAE-ACD5-4CA0-A1A3-CEEB452F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B34-8FFB-4BA8-81A1-7132AE0A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E8E6-031D-4750-8A53-439005C4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048-2DB6-4ED9-8384-34690A37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A76A-7106-46C2-A3D6-65CA11E5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D99-0B9D-4834-9557-2D3C8187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9EC-3124-4EF3-90B5-CCCA101F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684F-70C8-4505-A23F-A40A2D3F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E2A-0DCB-4450-8E55-F46315A1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862-1E18-43F3-AD85-AC910CE5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2348-BD8B-40E3-83A4-F32FD5544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рок – суд «Стали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92360" y="3212640"/>
            <a:ext cx="3343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ськова О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magesCA1ALNMZ"/>
          <p:cNvPicPr/>
          <p:nvPr/>
        </p:nvPicPr>
        <p:blipFill>
          <a:blip r:embed="rId1"/>
          <a:stretch/>
        </p:blipFill>
        <p:spPr>
          <a:xfrm>
            <a:off x="0" y="2492280"/>
            <a:ext cx="49323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Демографические потери сельского населения в следствии коллективиз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48980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аловой сбор сельскохозяйственных культур в период коллективизации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8854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головье скота за период коллектив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4898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Индустриализац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индустриализация_0001.wmv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6944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т физического объёма валовой продукции промышленности СССР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1928 – 1932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341360"/>
          <a:ext cx="9144000" cy="5256360"/>
        </p:xfrm>
        <a:graphic>
          <a:graphicData uri="http://schemas.openxmlformats.org/drawingml/2006/table">
            <a:tbl>
              <a:tblPr/>
              <a:tblGrid>
                <a:gridCol w="4830840"/>
                <a:gridCol w="1047600"/>
                <a:gridCol w="1311480"/>
                <a:gridCol w="195408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дукц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28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32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32 к 1928 (%)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я пятиле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Чугун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8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аль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7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кат чёрных металлов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9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Уголь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1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фть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4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Электроэнергия, млрд кВт·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0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талинские репрессии 30-х годов.wmv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8501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алинские репр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250px-Kuznetsov_prigovor"/>
          <p:cNvPicPr/>
          <p:nvPr/>
        </p:nvPicPr>
        <p:blipFill>
          <a:blip r:embed="rId1"/>
          <a:stretch/>
        </p:blipFill>
        <p:spPr>
          <a:xfrm>
            <a:off x="0" y="1052640"/>
            <a:ext cx="2496960" cy="381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450PX-~1"/>
          <p:cNvPicPr/>
          <p:nvPr/>
        </p:nvPicPr>
        <p:blipFill>
          <a:blip r:embed="rId2"/>
          <a:stretch/>
        </p:blipFill>
        <p:spPr>
          <a:xfrm>
            <a:off x="6858000" y="1052640"/>
            <a:ext cx="2286000" cy="304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__1_~1"/>
          <p:cNvPicPr/>
          <p:nvPr/>
        </p:nvPicPr>
        <p:blipFill>
          <a:blip r:embed="rId3"/>
          <a:srcRect l="0" t="0" r="-67" b="83"/>
          <a:stretch/>
        </p:blipFill>
        <p:spPr>
          <a:xfrm>
            <a:off x="1042920" y="2349360"/>
            <a:ext cx="2522520" cy="367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Delovrachey1"/>
          <p:cNvPicPr/>
          <p:nvPr/>
        </p:nvPicPr>
        <p:blipFill>
          <a:blip r:embed="rId4"/>
          <a:stretch/>
        </p:blipFill>
        <p:spPr>
          <a:xfrm>
            <a:off x="3780000" y="1197000"/>
            <a:ext cx="2290680" cy="331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Execute_346_Stalins_resolution"/>
          <p:cNvPicPr/>
          <p:nvPr/>
        </p:nvPicPr>
        <p:blipFill>
          <a:blip r:embed="rId5"/>
          <a:srcRect l="0" t="0" r="-25" b="102"/>
          <a:stretch/>
        </p:blipFill>
        <p:spPr>
          <a:xfrm>
            <a:off x="5292720" y="2276640"/>
            <a:ext cx="2714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оложительные и отрицательные черты сталинского режима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Diagram 5"/>
          <p:cNvGrpSpPr/>
          <p:nvPr/>
        </p:nvGrpSpPr>
        <p:grpSpPr>
          <a:xfrm>
            <a:off x="2633760" y="1708200"/>
            <a:ext cx="3878280" cy="3503520"/>
            <a:chOff x="2633760" y="1708200"/>
            <a:chExt cx="3878280" cy="3503520"/>
          </a:xfrm>
        </p:grpSpPr>
        <p:sp>
          <p:nvSpPr>
            <p:cNvPr id="96" name="_s1028"/>
            <p:cNvSpPr/>
            <p:nvPr/>
          </p:nvSpPr>
          <p:spPr>
            <a:xfrm flipH="1">
              <a:off x="3636720" y="413208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29"/>
            <p:cNvSpPr/>
            <p:nvPr/>
          </p:nvSpPr>
          <p:spPr>
            <a:xfrm>
              <a:off x="2633760" y="4133880"/>
              <a:ext cx="1077840" cy="1077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0"/>
            <p:cNvSpPr/>
            <p:nvPr/>
          </p:nvSpPr>
          <p:spPr>
            <a:xfrm>
              <a:off x="5037120" y="413208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1"/>
            <p:cNvSpPr/>
            <p:nvPr/>
          </p:nvSpPr>
          <p:spPr>
            <a:xfrm>
              <a:off x="5433840" y="4133880"/>
              <a:ext cx="1078200" cy="1077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2"/>
            <p:cNvSpPr/>
            <p:nvPr/>
          </p:nvSpPr>
          <p:spPr>
            <a:xfrm flipV="1">
              <a:off x="4572000" y="278424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4033800" y="1708200"/>
              <a:ext cx="1077840" cy="1077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4"/>
            <p:cNvSpPr/>
            <p:nvPr/>
          </p:nvSpPr>
          <p:spPr>
            <a:xfrm>
              <a:off x="4033800" y="3325680"/>
              <a:ext cx="1077840" cy="1077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ТАЛИ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.В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15" descr="imagesCA0AFQDZ"/>
          <p:cNvPicPr/>
          <p:nvPr/>
        </p:nvPicPr>
        <p:blipFill>
          <a:blip r:embed="rId1"/>
          <a:stretch/>
        </p:blipFill>
        <p:spPr>
          <a:xfrm>
            <a:off x="0" y="1484280"/>
            <a:ext cx="3708360" cy="2444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imagesCA7VLX9Q"/>
          <p:cNvPicPr/>
          <p:nvPr/>
        </p:nvPicPr>
        <p:blipFill>
          <a:blip r:embed="rId2"/>
          <a:stretch/>
        </p:blipFill>
        <p:spPr>
          <a:xfrm>
            <a:off x="5219640" y="1341360"/>
            <a:ext cx="3708360" cy="2578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imagesCAQG9QFC"/>
          <p:cNvPicPr/>
          <p:nvPr/>
        </p:nvPicPr>
        <p:blipFill>
          <a:blip r:embed="rId3"/>
          <a:stretch/>
        </p:blipFill>
        <p:spPr>
          <a:xfrm>
            <a:off x="3780000" y="4546440"/>
            <a:ext cx="16002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2296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lackadder ITC"/>
              </a:rPr>
              <a:t>«Явление Сталина весьма сложно и касается не только коммунистического движения и тогдашних внешних и внутренних возможностей Советского Союза. Тут поднимаются проблемы отношений идеи и человека, вождя и движения, значения мифов в жизни человека. Сталин принадлежит прошлому, а споры о нём и его методах управления страной продолжаются и по сегодняшний де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Милован Джилас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images"/>
          <p:cNvPicPr/>
          <p:nvPr/>
        </p:nvPicPr>
        <p:blipFill>
          <a:blip r:embed="rId1"/>
          <a:stretch/>
        </p:blipFill>
        <p:spPr>
          <a:xfrm>
            <a:off x="0" y="3357720"/>
            <a:ext cx="3062160" cy="350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untitled"/>
          <p:cNvPicPr/>
          <p:nvPr/>
        </p:nvPicPr>
        <p:blipFill>
          <a:blip r:embed="rId2"/>
          <a:stretch/>
        </p:blipFill>
        <p:spPr>
          <a:xfrm>
            <a:off x="5076720" y="4076640"/>
            <a:ext cx="2768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«Мі візьмемо усе найкраще в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Пронесемо нащадкам крізь ві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І щоб вони сказали н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«Спасибі» за держ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Яку побудува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Ми змог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http://t1.gstatic.com/images?q=tbn:ANd9GcR9nLJIKo1FhOPxupGefZvQd9wuEJtqyffyWX_RzMyE75EMEXg-xw"/>
          <p:cNvPicPr/>
          <p:nvPr/>
        </p:nvPicPr>
        <p:blipFill>
          <a:blip r:embed="rId1"/>
          <a:stretch/>
        </p:blipFill>
        <p:spPr>
          <a:xfrm>
            <a:off x="0" y="0"/>
            <a:ext cx="1438200" cy="1457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http://t1.gstatic.com/images?q=tbn:ANd9GcTEiBSCfUVp56XkoayGlOsinJ7QQNsXQDiBq2hedACQefG4tArqvg"/>
          <p:cNvPicPr/>
          <p:nvPr/>
        </p:nvPicPr>
        <p:blipFill>
          <a:blip r:embed="rId2"/>
          <a:stretch/>
        </p:blipFill>
        <p:spPr>
          <a:xfrm>
            <a:off x="5148360" y="3860640"/>
            <a:ext cx="3846240" cy="266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http://t1.gstatic.com/images?q=tbn:ANd9GcT76FY2RM_YD9Ka9YTJHugEEjcxdcOWPlylmRn4yXJeJSztwx3O0w"/>
          <p:cNvPicPr/>
          <p:nvPr/>
        </p:nvPicPr>
        <p:blipFill>
          <a:blip r:embed="rId3"/>
          <a:stretch/>
        </p:blipFill>
        <p:spPr>
          <a:xfrm>
            <a:off x="5364000" y="115920"/>
            <a:ext cx="35607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В. И. Ленин умер  в … году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овым главой советского государства стал … 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а каком съезде был провозглашён курс на индустриализацию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азовите годы первой пятилетки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а каком съезде был провозглашён курс на кооперацию села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Постановление ЦК ВКП (б) « Про ликвидацию кулацких хозяйств» была принята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Закон известный как  «Закон о пяти колосках» был принят в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ачало пропаганды, о внесение на «чёрную доску» приходится на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Голодомор украинского народа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Судебный процесс, который вошёл в историю, как «Шахтинское дело» проходил в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Судебный процесс над участниками СВУ проходил в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Принятие новой Конституции СССР в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5651640" y="-114480"/>
            <a:ext cx="2592360" cy="447840"/>
          </a:xfrm>
          <a:prstGeom prst="borderCallout1">
            <a:avLst>
              <a:gd name="adj1" fmla="val 18750"/>
              <a:gd name="adj2" fmla="val -8333"/>
              <a:gd name="adj3" fmla="val 75532"/>
              <a:gd name="adj4" fmla="val -41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нварь 1924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8101080" y="290520"/>
            <a:ext cx="142236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0023"/>
              <a:gd name="adj5" fmla="val 78365"/>
              <a:gd name="adj6" fmla="val -55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7385040" y="866880"/>
            <a:ext cx="175896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100722"/>
              <a:gd name="adj5" fmla="val 121634"/>
              <a:gd name="adj6" fmla="val -200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ез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6303960" y="1413000"/>
            <a:ext cx="284004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15092"/>
              <a:gd name="adj5" fmla="val 71541"/>
              <a:gd name="adj6" fmla="val -28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28/29 – 1932/33г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4067280" y="2205000"/>
            <a:ext cx="215568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55152"/>
              <a:gd name="adj5" fmla="val 31731"/>
              <a:gd name="adj6" fmla="val -108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ъез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6300720" y="2781360"/>
            <a:ext cx="2070000" cy="403200"/>
          </a:xfrm>
          <a:prstGeom prst="borderCallout2">
            <a:avLst>
              <a:gd name="adj1" fmla="val 18750"/>
              <a:gd name="adj2" fmla="val -8333"/>
              <a:gd name="adj3" fmla="val 28347"/>
              <a:gd name="adj4" fmla="val -44555"/>
              <a:gd name="adj5" fmla="val 71259"/>
              <a:gd name="adj6" fmla="val -86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 января  1930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3708360" y="3500280"/>
            <a:ext cx="1795680" cy="33048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7393"/>
              <a:gd name="adj5" fmla="val 65384"/>
              <a:gd name="adj6" fmla="val -92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января 1932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4427640" y="4221000"/>
            <a:ext cx="1800000" cy="417600"/>
          </a:xfrm>
          <a:prstGeom prst="borderCallout2">
            <a:avLst>
              <a:gd name="adj1" fmla="val 18750"/>
              <a:gd name="adj2" fmla="val -8333"/>
              <a:gd name="adj3" fmla="val 27375"/>
              <a:gd name="adj4" fmla="val -43472"/>
              <a:gd name="adj5" fmla="val 58175"/>
              <a:gd name="adj6" fmla="val -84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нварь 1932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6372360" y="5229360"/>
            <a:ext cx="277164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21648"/>
              <a:gd name="adj5" fmla="val 69712"/>
              <a:gd name="adj6" fmla="val -41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 мая – 5 июня 1928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/>
          <p:cNvSpPr/>
          <p:nvPr/>
        </p:nvSpPr>
        <p:spPr>
          <a:xfrm>
            <a:off x="7145280" y="5589720"/>
            <a:ext cx="199872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23194"/>
              <a:gd name="adj5" fmla="val 89722"/>
              <a:gd name="adj6" fmla="val -43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е 1930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7020000" y="6051600"/>
            <a:ext cx="178272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18078"/>
              <a:gd name="adj5" fmla="val 46245"/>
              <a:gd name="adj6" fmla="val -32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нваре 1937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6804000" y="4508640"/>
            <a:ext cx="23400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28833"/>
              <a:gd name="adj5" fmla="val 100000"/>
              <a:gd name="adj6" fmla="val -55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32 – 1933г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исок  использованн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ru.wikiquote.org/wik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greatstalin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lib.ru/PXESY/RADZINSKIJ/stalin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alend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2000.net.u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istmat.inf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rusizn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43280" y="259920"/>
            <a:ext cx="4176720" cy="63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>
              <a:lnSpc>
                <a:spcPct val="90000"/>
              </a:lnSpc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ffffff"/>
                </a:solidFill>
                <a:latin typeface="Times New Roman"/>
              </a:rPr>
              <a:t>«И дана была ему власть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300" spc="-1" strike="noStrike">
                <a:solidFill>
                  <a:srgbClr val="ffffff"/>
                </a:solidFill>
                <a:latin typeface="Times New Roman"/>
              </a:rPr>
              <a:t>над всяким и народом, 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ffffff"/>
                </a:solidFill>
                <a:latin typeface="Times New Roman"/>
              </a:rPr>
              <a:t>и языком и племенем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 Отк.13.: 7 – 1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4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– суд 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magesCAWBIAB5"/>
          <p:cNvPicPr/>
          <p:nvPr/>
        </p:nvPicPr>
        <p:blipFill>
          <a:blip r:embed="rId1"/>
          <a:stretch/>
        </p:blipFill>
        <p:spPr>
          <a:xfrm>
            <a:off x="900000" y="1628640"/>
            <a:ext cx="6985080" cy="494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imagesCAS5DFZI"/>
          <p:cNvPicPr/>
          <p:nvPr/>
        </p:nvPicPr>
        <p:blipFill>
          <a:blip r:embed="rId2"/>
          <a:stretch/>
        </p:blipFill>
        <p:spPr>
          <a:xfrm>
            <a:off x="0" y="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Положительные и отрицательные черты сталинского режима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1600200"/>
          <a:ext cx="8291520" cy="4924440"/>
        </p:xfrm>
        <a:graphic>
          <a:graphicData uri="http://schemas.openxmlformats.org/drawingml/2006/table">
            <a:tbl>
              <a:tblPr/>
              <a:tblGrid>
                <a:gridCol w="4143240"/>
                <a:gridCol w="414828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жительные чер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ицательные чер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од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Джугашвили Иосиф Виссарионович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33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Ф. И. О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жугашвили Иосиф Виссарионович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артийных кругах более известен ка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ЛИН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ранее известный также под партийной кличко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ата и год рожде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9 (21) декабря 187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есто рожде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и, Тифлисская губерния, Российская импе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есто прожи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. Москва, СС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есто работы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йский революционер, советский политический, государственный, военный и партийный деятель. Деятель международного коммунистического и рабочего движения, теоретик и пропагандист марксизма-ленинизма, фактический руководитель Союза Советских Социалистических Республик с конца 20-х до своей смерти 5 марта 1953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0" b="46"/>
          <a:stretch/>
        </p:blipFill>
        <p:spPr>
          <a:xfrm>
            <a:off x="395280" y="1413000"/>
            <a:ext cx="374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Blackadder ITC"/>
              </a:rPr>
              <a:t>Троцкий Лев Давыдович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475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. И. 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оцкий Лев Давыдови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ата и год рожд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 ноября 187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сто рожд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ло Береславка Кировоград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1896г. начал Вести революционную пропаганду в Николаеве, позже за революционную пропаганду был арестован, бежал за границу. С 1918г – 1924г. Был наркомом по иностранным, военным и морским делам. В 1927г. За свои оппозиционные взгляды был разжалован и отправлен в ссыл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magesCABKBD4S"/>
          <p:cNvPicPr/>
          <p:nvPr/>
        </p:nvPicPr>
        <p:blipFill>
          <a:blip r:embed="rId1"/>
          <a:stretch/>
        </p:blipFill>
        <p:spPr>
          <a:xfrm>
            <a:off x="250920" y="1125360"/>
            <a:ext cx="3744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lackadder ITC"/>
              </a:rPr>
              <a:t>Уинстон Леонард Спенсер-Чергмлл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ился 30 ноября 1874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одовом имении герцогов Мальборо Дворце Бленхей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319640" y="3429000"/>
            <a:ext cx="482436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Большим счастьем  было для  Росс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в годы тяжелейших испыт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у возглавил г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епоколебимый полководец Сталин"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magesCALT1SKG"/>
          <p:cNvPicPr/>
          <p:nvPr/>
        </p:nvPicPr>
        <p:blipFill>
          <a:blip r:embed="rId1"/>
          <a:stretch/>
        </p:blipFill>
        <p:spPr>
          <a:xfrm>
            <a:off x="250920" y="1916280"/>
            <a:ext cx="428472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ничтожим кулака как класс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«В наше село прибыла бригада проводить коллективизацию и пошла крупная борьба. Много людей не хотят пока идти в коллектив. Кто выскажется против коллектива, то у нас таких бросали в бывший погреб попа. Агроном Чернышевский сказал, кто не пойдёт в коллектив, то ми тому поотбиваем руки и ноги».</a:t>
            </a:r>
            <a:r>
              <a:rPr b="1" lang="ru-RU" sz="2000" spc="-1" strike="noStrike">
                <a:solidFill>
                  <a:srgbClr val="ffffff"/>
                </a:solidFill>
                <a:latin typeface="Blackadder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письмо крестья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с. Большая Бушин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Немиров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Винницкого ок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Г. Ярем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в редакцию газ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«Советское сел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5 февраля 1930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Documents and Settings\Администратор\Рабочий стол\Сталин\picture1_c107779.jpg"/>
          <p:cNvPicPr/>
          <p:nvPr/>
        </p:nvPicPr>
        <p:blipFill>
          <a:blip r:embed="rId1"/>
          <a:stretch/>
        </p:blipFill>
        <p:spPr>
          <a:xfrm>
            <a:off x="826920" y="3716280"/>
            <a:ext cx="414828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1T18:18:42Z</dcterms:created>
  <dc:creator>Admin</dc:creator>
  <dc:description/>
  <dc:language>en-US</dc:language>
  <cp:lastModifiedBy>Admin</cp:lastModifiedBy>
  <dcterms:modified xsi:type="dcterms:W3CDTF">2012-09-09T05:53:01Z</dcterms:modified>
  <cp:revision>117</cp:revision>
  <dc:subject/>
  <dc:title>Урок – суд «Сталин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8000000000001024140</vt:lpwstr>
  </property>
</Properties>
</file>