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8E48-6B36-4C47-ABE7-377AED06C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F270-FFC0-4CB4-8C54-2FA33EC30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7165-122E-4071-8464-6F0CB70FB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8C6F-A0C9-433E-9204-81E565C37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5E3A0-E404-4815-A38A-6D43687D7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D1836-E250-496C-AD24-1E83E0BC8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9A3B8-BBF3-48EA-9E2C-2A435270B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B73EC-6767-45E6-AD22-00D252B76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1418F-703A-4D42-967F-58F4FFE74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92728-B2BF-4AD8-A1B7-1B9C35867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C5D0C-9C45-440B-8D72-EDD7D60D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9A0D-E0D1-4B46-A12C-5F8EB2263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58DF3-0D69-4448-B75F-89D750F1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966C1-CA18-4CE4-BD5B-E155CD39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59754-81D6-45AF-B207-76C8A0E85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46225-1790-4EEE-960C-077BDB890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E9E7A-B0C5-4808-93F4-D77F74097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A1DF9-2773-438A-9A38-AF2CB69BD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48FE9-160A-484B-AC16-F2427A8C3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57DE4-BB99-477B-8191-578080901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0CD0F-F1BF-4591-848D-327761F32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D8C2A-28E0-4D52-AA3A-44D5C5743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336D-9010-489C-BA16-F77A716A2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83118-C1F1-4548-B31B-470959F30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EE719-481E-4338-B444-148657CD1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6C80E-7DF9-4424-9142-8823EFC3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F4453-DEBA-4192-8736-179AAA9E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E4C8C-0950-4A04-85DC-5043C5865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CC373-2A73-4F15-9745-ED77B7663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FB93B-AFD6-4052-AD79-BE7D06387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D793C-232F-47AC-8867-16211015E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20D2D-3953-4FE8-B984-8EFC6E482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13B48-38D8-4126-976E-19F4A349E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1CF2-F7D2-475E-A496-A0821D699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73663-55D8-4C37-9BA6-E0AAD9049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3F8D6-2024-459D-8089-BBCDFD383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A00D4-C3EE-4402-B913-AFC024742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75847-6F61-470D-B485-17934EC9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23021-AA97-4D58-BF44-2B1F635A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982F1-5878-4AE8-B6D2-EA7C2A46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B82F6-B571-43EC-81CA-09E56A572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2B26C-D573-4E5E-BEB3-410565D9A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D8153-4CF3-48CE-B623-E623F9808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C520-7D4F-4D5A-9B99-6724F0F0C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00AC-AD16-41A9-8B99-0ED64FBF4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32DC-C604-4FDE-9E8E-41EA6E9A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C1DC-F963-4A60-9038-88069D66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AA0E-7E78-4B52-8BB7-D6DB017E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C5AB4-721B-42A2-9FC1-84AF66A86C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3791C-FEEF-4E67-8163-46A124F1A9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83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773A6-F57F-4883-96C3-C16A0869AF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128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ftr" idx="11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5B34C-FD37-40AF-9D31-B854C3C70C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50920" y="220500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Тема: «Символ политики – королева Виктория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24000" y="33336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Применение парового двигател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rcRect l="0" t="0" r="0" b="45"/>
          <a:stretch/>
        </p:blipFill>
        <p:spPr>
          <a:xfrm>
            <a:off x="611280" y="1557360"/>
            <a:ext cx="3960720" cy="22320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4643280" y="1557360"/>
            <a:ext cx="3959280" cy="2232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1979640" y="3860640"/>
            <a:ext cx="509436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33336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Великобритания 50-60е гг. 19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4720" y="1773360"/>
            <a:ext cx="4730040" cy="764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Мастерская мир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93080" y="3213000"/>
            <a:ext cx="4938480" cy="764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Мировой извозчи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349080" y="4653000"/>
            <a:ext cx="4466160" cy="764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Мировой банки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324000" y="33336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Колониальные владения Англ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842472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50920" y="7776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Королева Виктория – символ полити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3262320" cy="43214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070160" y="1628640"/>
            <a:ext cx="466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Умение твердо стоять на своем реше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068360" y="2133720"/>
            <a:ext cx="138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Интеллек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068720" y="263700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Хитр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067280" y="314172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Умение проявлять в себе мужские каче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069080" y="393372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Чест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69440" y="4437000"/>
            <a:ext cx="20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Ответствен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069440" y="4941720"/>
            <a:ext cx="19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Самооблад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140360" y="544500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Дисципл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539640" y="333360"/>
            <a:ext cx="56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Проблемное зад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2060640"/>
            <a:ext cx="792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думайте, имелись ли условия для успешного развития капиталистического производства и факторы, способствующие расцвету Англ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 примере королевы Виктории выделите качества, необходимые женщине-политику в современных условия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3024360" cy="21607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5003640" y="1557360"/>
            <a:ext cx="2881440" cy="21589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539640" y="33336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Символика Великобритан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4360" y="4221000"/>
            <a:ext cx="34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нгличане называют свой флаг - Юнион Джек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716360" y="4149720"/>
            <a:ext cx="3853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ев на короне - символ мощи государства. Внизу на ленте щита надпись: God and my right ("Бог и мое право"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33336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Королева Виктор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00000" y="1413000"/>
            <a:ext cx="3095640" cy="40320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859280" y="1341360"/>
            <a:ext cx="2879640" cy="41036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044360" y="542448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Детств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149440" y="5424480"/>
            <a:ext cx="8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Юност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97080" y="5734080"/>
            <a:ext cx="46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ата рождения: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4 мая 1819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333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Коронация королевы Виктор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3728880" cy="44643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825840" y="6164640"/>
            <a:ext cx="77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оронация в Букингемском дворце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8 июня 183г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3780000" y="1700280"/>
            <a:ext cx="5364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115920"/>
            <a:ext cx="86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Премьер-министры Викторианского период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2846520" cy="42195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74120" y="5661000"/>
            <a:ext cx="42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енджамин Дизраэль (1868-1880гг.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4859280" y="1413000"/>
            <a:ext cx="3170160" cy="41767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4938120" y="5661000"/>
            <a:ext cx="373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ильям Гладстон (1868-1874гг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-181080" y="333360"/>
            <a:ext cx="889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Ведущие отрасли промышленно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73040" y="1409760"/>
            <a:ext cx="8185320" cy="3243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7" name=""/>
          <p:cNvGraphicFramePr/>
          <p:nvPr/>
        </p:nvGraphicFramePr>
        <p:xfrm>
          <a:off x="1187280" y="4724280"/>
          <a:ext cx="6410520" cy="1516320"/>
        </p:xfrm>
        <a:graphic>
          <a:graphicData uri="http://schemas.openxmlformats.org/drawingml/2006/table">
            <a:tbl>
              <a:tblPr/>
              <a:tblGrid>
                <a:gridCol w="4270680"/>
                <a:gridCol w="1069920"/>
                <a:gridCol w="106992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854г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864г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ыплавка чугуна, мнл.тон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обыча угля, мнл.тон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Ж/д строительство, мнл.мил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личество текстильных фабрик, мл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539640" y="33336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Промышленные цент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547640" y="1484280"/>
            <a:ext cx="4940640" cy="4608720"/>
          </a:xfrm>
          <a:prstGeom prst="rect">
            <a:avLst/>
          </a:prstGeom>
          <a:ln w="0">
            <a:noFill/>
          </a:ln>
        </p:spPr>
      </p:pic>
      <p:grpSp>
        <p:nvGrpSpPr>
          <p:cNvPr id="200" name=""/>
          <p:cNvGrpSpPr/>
          <p:nvPr/>
        </p:nvGrpSpPr>
        <p:grpSpPr>
          <a:xfrm>
            <a:off x="755640" y="3789360"/>
            <a:ext cx="2087640" cy="647640"/>
            <a:chOff x="755640" y="3789360"/>
            <a:chExt cx="2087640" cy="647640"/>
          </a:xfrm>
        </p:grpSpPr>
        <p:sp>
          <p:nvSpPr>
            <p:cNvPr id="201" name=""/>
            <p:cNvSpPr/>
            <p:nvPr/>
          </p:nvSpPr>
          <p:spPr>
            <a:xfrm>
              <a:off x="755640" y="3789360"/>
              <a:ext cx="2087640" cy="647640"/>
            </a:xfrm>
            <a:prstGeom prst="wedgeRectCallout">
              <a:avLst>
                <a:gd name="adj1" fmla="val 120342"/>
                <a:gd name="adj2" fmla="val 99018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58160" y="3860640"/>
              <a:ext cx="206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Уэльс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- угольны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5651640" y="3213000"/>
            <a:ext cx="3047400" cy="647640"/>
            <a:chOff x="5651640" y="3213000"/>
            <a:chExt cx="3047400" cy="647640"/>
          </a:xfrm>
        </p:grpSpPr>
        <p:sp>
          <p:nvSpPr>
            <p:cNvPr id="204" name=""/>
            <p:cNvSpPr/>
            <p:nvPr/>
          </p:nvSpPr>
          <p:spPr>
            <a:xfrm>
              <a:off x="5651640" y="3213000"/>
              <a:ext cx="2952720" cy="647640"/>
            </a:xfrm>
            <a:prstGeom prst="wedgeRectCallout">
              <a:avLst>
                <a:gd name="adj1" fmla="val -79194"/>
                <a:gd name="adj2" fmla="val 166666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799600" y="3357720"/>
              <a:ext cx="289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Бирмингем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металлург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724360" y="2060640"/>
            <a:ext cx="2448000" cy="647640"/>
            <a:chOff x="5724360" y="2060640"/>
            <a:chExt cx="2448000" cy="647640"/>
          </a:xfrm>
        </p:grpSpPr>
        <p:sp>
          <p:nvSpPr>
            <p:cNvPr id="207" name=""/>
            <p:cNvSpPr/>
            <p:nvPr/>
          </p:nvSpPr>
          <p:spPr>
            <a:xfrm>
              <a:off x="5724360" y="2060640"/>
              <a:ext cx="2448000" cy="647640"/>
            </a:xfrm>
            <a:prstGeom prst="wedgeRectCallout">
              <a:avLst>
                <a:gd name="adj1" fmla="val -121597"/>
                <a:gd name="adj2" fmla="val 16862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97080" y="2133720"/>
              <a:ext cx="232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Ланкашир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текстил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-325440" y="333360"/>
            <a:ext cx="91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Выставка изделий промышленно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rcRect l="0" t="0" r="56" b="-52"/>
          <a:stretch/>
        </p:blipFill>
        <p:spPr>
          <a:xfrm>
            <a:off x="0" y="1700280"/>
            <a:ext cx="4788000" cy="41767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4932360" y="1700280"/>
            <a:ext cx="4211640" cy="41767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-720" y="5950080"/>
            <a:ext cx="8850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крытие всемирной выставки 1851г. в Хрустальном дворц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5T12:54:42Z</dcterms:created>
  <dc:creator>Admin</dc:creator>
  <dc:description/>
  <dc:language>en-US</dc:language>
  <cp:lastModifiedBy>Admin</cp:lastModifiedBy>
  <dcterms:modified xsi:type="dcterms:W3CDTF">2012-01-19T18:27:29Z</dcterms:modified>
  <cp:revision>1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a000000000001024140</vt:lpwstr>
  </property>
</Properties>
</file>