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E49-2E9F-40DA-B118-EE7D5681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856-B6BF-41B7-ABF8-D7B6C962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7FE-4F3A-4AB7-BCF1-BDC1325D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53F-B5D8-4C21-A328-A475D43B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08A0-20A6-433F-B3B7-51EF2E93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407F-BCD5-43A3-A921-0251670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94E-64B9-4911-9205-FA7AE4D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0076-00C8-4B6A-829F-07DB97E9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5D90-45F8-4A25-9A8E-94F3E0A3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8DF2-BB0C-4261-B471-8FA8A979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F4D6-1A12-477E-AB17-AF0E585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0F0-DD19-49F8-9F17-C73AEA66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DB42-275F-4572-B869-A247863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7769-999B-40FF-A9CD-6988EF6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EF8A-E35D-441B-B9D3-EB0C1C64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3BED-7CBB-49DB-9CB6-9CABCAAB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FE86-0602-4162-84CC-D382D3D4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115F-C3E5-4559-BEB8-4AC40547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075C-F477-4CF0-88F0-C57D5C9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86E2-DAEA-49B3-BF13-F8C40D2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D9BB-AE9F-47D8-9A13-A66E8930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0CA3-8297-40F2-ACB0-C586980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21E-EFB7-4D94-888D-A1B9ED9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1831-15BE-45A2-83B0-384BE78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2F25-1DEA-438D-8693-980B05B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AE4A-679D-4521-8669-092F703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B7E2-EA06-41B5-9DFD-0FE17C9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ED91-16A2-42A4-892F-75C8A16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C386-F05C-4646-9063-091FB38C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8C47-B747-4033-95B2-5C582FA2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9A43-0FE6-4F43-BBCE-376D7589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5AAE-045C-42C8-BEC5-170C2AB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BC91-BCEA-4B8C-9C17-CDA9F03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F8B-6873-418D-87F7-0C32A90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7ECB-16E9-4BA8-BAEB-F243DCBC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62A7-B384-421A-A7F5-9BFED12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ABB4-C5B4-4EF3-9010-A086AD7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3926-372A-476F-BA72-9D4DA85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E831-229C-4D8F-B026-36ABDF1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79AC-969C-404E-B8C1-386E9FA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F411-C3B7-4273-86FD-496A34C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51CD-6B5A-430A-A91A-048FA3D4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4EF8-3A5A-4BB3-853A-EFB7EB86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269-E611-49AE-B203-B36BDEDB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B29-3943-44AE-A9E5-F68652F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7C3-B53D-4FC2-A2DC-1E6D0F14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60F-67C5-4555-AD44-E4BC1AD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24B-0EB6-4921-BAB4-FEBE9744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B57-1301-44F9-80BF-E6AF66976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E09F-330E-40B8-8762-CBF6B29BB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AF3B-8ECC-415B-B64C-85EAE4B06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F3CB-03F8-4819-9A6A-D660A7C21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220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ема: «Символ политики – королева Виктор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именение парового двиг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611280" y="1557360"/>
            <a:ext cx="3960720" cy="223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95928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50943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обритания 50-60е гг. 19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720" y="1773360"/>
            <a:ext cx="473004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стерская ми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3080" y="3213000"/>
            <a:ext cx="493848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ровой извозч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9080" y="4653000"/>
            <a:ext cx="446616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ровой банки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лониальные владения Англ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777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лева Виктория – символ поли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62320" cy="4321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70160" y="162864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Умение твердо стоять на своем реш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8360" y="213372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Интелл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8720" y="2637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Хитр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31417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Умение проявлять в себе мужские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9080" y="3933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с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69440" y="44370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9440" y="494172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Самообл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360" y="544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сцип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333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блемно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06064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умайте, имелись ли условия для успешного развития капиталистического производства и факторы, способствующие расцвету Анг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примере королевы Виктории выделите качества, необходимые женщине-политику в современных услов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02436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881440" cy="215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9640" y="33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волика Великобрит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22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чане называют свой флаг - Юнион Дж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149720"/>
            <a:ext cx="38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в на короне - символ мощи государства. Внизу на ленте щита надпись: God and my right ("Бог и мое право"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3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лева Викт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3095640" cy="40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879640" cy="4103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4360" y="54244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9440" y="54244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Ю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57340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та рождения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 мая 1819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нация королевы Вик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728880" cy="446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25840" y="6164640"/>
            <a:ext cx="77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онация в Букингемском дворц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 июня 183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3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159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емьер-министры Викторианского пери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46520" cy="421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4120" y="566100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джамин Дизраэль (1868-1880г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17016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38120" y="56610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ильям Гладстон (1868-1874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81080" y="3333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дущие отрасли промышл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73040" y="1409760"/>
            <a:ext cx="8185320" cy="32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187280" y="4724280"/>
          <a:ext cx="6410520" cy="1516320"/>
        </p:xfrm>
        <a:graphic>
          <a:graphicData uri="http://schemas.openxmlformats.org/drawingml/2006/table">
            <a:tbl>
              <a:tblPr/>
              <a:tblGrid>
                <a:gridCol w="4270680"/>
                <a:gridCol w="1069920"/>
                <a:gridCol w="1069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54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64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плавка чугуна, мнл.то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быча угля, мнл.то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/д строительство, мнл.ми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личество текстильных фабрик, мл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мышленные цент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4940640" cy="4608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755640" y="3789360"/>
            <a:ext cx="2087640" cy="647640"/>
            <a:chOff x="755640" y="3789360"/>
            <a:chExt cx="2087640" cy="647640"/>
          </a:xfrm>
        </p:grpSpPr>
        <p:sp>
          <p:nvSpPr>
            <p:cNvPr id="201" name=""/>
            <p:cNvSpPr/>
            <p:nvPr/>
          </p:nvSpPr>
          <p:spPr>
            <a:xfrm>
              <a:off x="755640" y="3789360"/>
              <a:ext cx="2087640" cy="647640"/>
            </a:xfrm>
            <a:prstGeom prst="wedgeRectCallout">
              <a:avLst>
                <a:gd name="adj1" fmla="val 120342"/>
                <a:gd name="adj2" fmla="val 99018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8160" y="3860640"/>
              <a:ext cx="20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эльс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- уго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51640" y="3213000"/>
            <a:ext cx="3047400" cy="647640"/>
            <a:chOff x="5651640" y="3213000"/>
            <a:chExt cx="3047400" cy="647640"/>
          </a:xfrm>
        </p:grpSpPr>
        <p:sp>
          <p:nvSpPr>
            <p:cNvPr id="204" name=""/>
            <p:cNvSpPr/>
            <p:nvPr/>
          </p:nvSpPr>
          <p:spPr>
            <a:xfrm>
              <a:off x="5651640" y="3213000"/>
              <a:ext cx="2952720" cy="647640"/>
            </a:xfrm>
            <a:prstGeom prst="wedgeRectCallout">
              <a:avLst>
                <a:gd name="adj1" fmla="val -79194"/>
                <a:gd name="adj2" fmla="val 166666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9600" y="3357720"/>
              <a:ext cx="289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ирмингем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металлург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24360" y="2060640"/>
            <a:ext cx="2448000" cy="647640"/>
            <a:chOff x="5724360" y="2060640"/>
            <a:chExt cx="2448000" cy="647640"/>
          </a:xfrm>
        </p:grpSpPr>
        <p:sp>
          <p:nvSpPr>
            <p:cNvPr id="207" name=""/>
            <p:cNvSpPr/>
            <p:nvPr/>
          </p:nvSpPr>
          <p:spPr>
            <a:xfrm>
              <a:off x="5724360" y="2060640"/>
              <a:ext cx="2448000" cy="647640"/>
            </a:xfrm>
            <a:prstGeom prst="wedgeRectCallout">
              <a:avLst>
                <a:gd name="adj1" fmla="val -121597"/>
                <a:gd name="adj2" fmla="val 16862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7080" y="213372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Ланкашир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тексти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25440" y="33336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ыставка изделий промышл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56" b="-52"/>
          <a:stretch/>
        </p:blipFill>
        <p:spPr>
          <a:xfrm>
            <a:off x="0" y="1700280"/>
            <a:ext cx="4788000" cy="417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211640" cy="4176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-720" y="5950080"/>
            <a:ext cx="885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ие всемирной выставки 1851г. в Хрустальном дво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54:42Z</dcterms:created>
  <dc:creator>Admin</dc:creator>
  <dc:description/>
  <dc:language>en-US</dc:language>
  <cp:lastModifiedBy>Admin</cp:lastModifiedBy>
  <dcterms:modified xsi:type="dcterms:W3CDTF">2012-01-19T18:27:29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4140</vt:lpwstr>
  </property>
</Properties>
</file>