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8CB-FCE2-46E9-8C75-3C8381AC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909D-124B-4FE4-813B-218017C7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3E5-7E0E-45EE-88D3-3BD83B69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B23-381F-45A6-82EB-FB444A59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0C83-2AC1-40B1-9CDE-BAC8D668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1DF3-1003-4898-9D0B-3704298F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5E55-A921-4FE9-92A0-CD16A838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651C-F553-4E42-B92A-4539A8AE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B507-B311-4FB0-BD7E-AD57728F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6F49-18F8-4A6E-BD40-48DF75CA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0FAC-917B-4B4F-BB1A-6991965E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8D6B-257B-4A83-BEAC-8ADC1925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2FAB-7489-4B75-9B12-6C210C9F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7AEC-4A49-4131-9ABA-AFC95C1A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03A4-D7EB-4BB7-B89B-D8720502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011F-FCE2-43BB-8735-3E5395D9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ABB2-6565-47D6-9A8C-02872097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22B42-78E9-468E-B99D-7FABE41F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4695B-71B7-4ACC-A81C-FEA2C1B7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A6896-E670-4DB3-B57C-F0BBAA15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3CC2B-FE56-4AF7-8B40-7D166115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287AF-AEB1-44D1-9474-0EE10E2E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6D3-56AD-408A-B7FA-2FB6E6D5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6ACED-B26E-4FA7-A032-D15B8DF3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7DEC-D02B-45E2-B0B6-83CDEC81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0FFA6-88FD-44BD-A614-1CE63488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56D30-F48E-4A89-A915-A0B39D91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D2A81-B4B4-44B6-A0F6-F8615BA3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AADDF-0928-4735-9E0C-BB6FF519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6771D-7419-49BE-AA73-41BDC0CE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FB96A-989C-4073-B6A3-A1240897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8804C-51C6-40FF-9B1E-D9987A08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66E16-DB14-4557-A2E3-23A29A2D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F794-2B55-4FCD-9DFF-FA5A557F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013C8-83D0-42A5-978B-01BB4F0A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BAB6F-DDEB-4927-8847-CFF8CE48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95366-5BB7-4336-A4BE-677661BC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46013-EF5D-4E10-BE40-694C35DB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8BD55-ACF7-4F78-86C4-4B84D323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69A15-B898-497F-9C86-66E30BF3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EE379-5B78-472B-97EF-733F41CB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4AA68-D3B7-41FE-B44C-9FC6DBFA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590C0-ABF9-4E04-8913-B1AC94D5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576-AF0C-4629-A594-789869C8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CB2-16B5-48FE-95A6-DE79B0AC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EB4-546E-499B-AF6D-1CEA0FBD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F7D-8463-43AB-B74B-8786EBF8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3638-32E6-4BBC-A13D-531C4309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620A-0220-49E8-B222-3413B7322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691E-41BD-4A0F-9CDD-6AF5B56D3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3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B533-DE81-41BF-9D0A-2D79658C2E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28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78EB-8C26-4072-BB9F-BFAA25F21A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50920" y="2205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Тема: «Символ политики – королева Виктори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24000" y="333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рименение парового двигател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0" t="0" r="0" b="45"/>
          <a:stretch/>
        </p:blipFill>
        <p:spPr>
          <a:xfrm>
            <a:off x="611280" y="1557360"/>
            <a:ext cx="3960720" cy="2232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3959280" cy="2232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979640" y="3860640"/>
            <a:ext cx="509436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333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еликобритания 50-60е гг. 19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720" y="1773360"/>
            <a:ext cx="4730040" cy="76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астерская ми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3080" y="3213000"/>
            <a:ext cx="4938480" cy="76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ировой извозч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49080" y="4653000"/>
            <a:ext cx="4466160" cy="76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ировой банки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24000" y="333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олониальные владения Англ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50920" y="777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оролева Виктория – символ поли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262320" cy="4321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070160" y="1628640"/>
            <a:ext cx="46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Умение твердо стоять на своем реш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68360" y="213372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Интелл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8720" y="26370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Хитр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67280" y="314172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Умение проявлять в себе мужские ка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69080" y="39337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Чест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69440" y="443700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69440" y="494172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Самооблад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0360" y="5445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исцип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9640" y="33336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роблемно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06064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умайте, имелись ли условия для успешного развития капиталистического производства и факторы, способствующие расцвету Англ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примере королевы Виктории выделите качества, необходимые женщине-политику в современных услови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3024360" cy="2160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2881440" cy="2158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39640" y="333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Символика Великобритан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4221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гличане называют свой флаг - Юнион Дже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4149720"/>
            <a:ext cx="385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в на короне - символ мощи государства. Внизу на ленте щита надпись: God and my right ("Бог и мое право"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333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оролева Викто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3095640" cy="4032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859280" y="1341360"/>
            <a:ext cx="2879640" cy="4103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44360" y="542448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ет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9440" y="542448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Ю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7080" y="573408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ата рождения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4 мая 1819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оронация королевы Виктор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728880" cy="4464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25840" y="6164640"/>
            <a:ext cx="77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ронация в Букингемском дворц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8 июня 183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536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11592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ремьер-министры Викторианского пери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2846520" cy="4219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74120" y="5661000"/>
            <a:ext cx="42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нджамин Дизраэль (1868-1880гг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170160" cy="4176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938120" y="5661000"/>
            <a:ext cx="37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ильям Гладстон (1868-1874г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-181080" y="333360"/>
            <a:ext cx="88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едущие отрасли промышлен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73040" y="1409760"/>
            <a:ext cx="8185320" cy="324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1187280" y="4724280"/>
          <a:ext cx="6410520" cy="1516320"/>
        </p:xfrm>
        <a:graphic>
          <a:graphicData uri="http://schemas.openxmlformats.org/drawingml/2006/table">
            <a:tbl>
              <a:tblPr/>
              <a:tblGrid>
                <a:gridCol w="4270680"/>
                <a:gridCol w="1069920"/>
                <a:gridCol w="10699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54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64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ыплавка чугуна, мнл.тон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быча угля, мнл.тон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Ж/д строительство, мнл.ми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личество текстильных фабрик, мл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9640" y="333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ромышленные цент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4940640" cy="460872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755640" y="3789360"/>
            <a:ext cx="2087640" cy="647640"/>
            <a:chOff x="755640" y="3789360"/>
            <a:chExt cx="2087640" cy="647640"/>
          </a:xfrm>
        </p:grpSpPr>
        <p:sp>
          <p:nvSpPr>
            <p:cNvPr id="201" name=""/>
            <p:cNvSpPr/>
            <p:nvPr/>
          </p:nvSpPr>
          <p:spPr>
            <a:xfrm>
              <a:off x="755640" y="3789360"/>
              <a:ext cx="2087640" cy="647640"/>
            </a:xfrm>
            <a:prstGeom prst="wedgeRectCallout">
              <a:avLst>
                <a:gd name="adj1" fmla="val 120342"/>
                <a:gd name="adj2" fmla="val 99018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8160" y="3860640"/>
              <a:ext cx="206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Уэльс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- уголь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651640" y="3213000"/>
            <a:ext cx="3047400" cy="647640"/>
            <a:chOff x="5651640" y="3213000"/>
            <a:chExt cx="3047400" cy="647640"/>
          </a:xfrm>
        </p:grpSpPr>
        <p:sp>
          <p:nvSpPr>
            <p:cNvPr id="204" name=""/>
            <p:cNvSpPr/>
            <p:nvPr/>
          </p:nvSpPr>
          <p:spPr>
            <a:xfrm>
              <a:off x="5651640" y="3213000"/>
              <a:ext cx="2952720" cy="647640"/>
            </a:xfrm>
            <a:prstGeom prst="wedgeRectCallout">
              <a:avLst>
                <a:gd name="adj1" fmla="val -79194"/>
                <a:gd name="adj2" fmla="val 166666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9600" y="3357720"/>
              <a:ext cx="289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Бирмингем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металлург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724360" y="2060640"/>
            <a:ext cx="2448000" cy="647640"/>
            <a:chOff x="5724360" y="2060640"/>
            <a:chExt cx="2448000" cy="647640"/>
          </a:xfrm>
        </p:grpSpPr>
        <p:sp>
          <p:nvSpPr>
            <p:cNvPr id="207" name=""/>
            <p:cNvSpPr/>
            <p:nvPr/>
          </p:nvSpPr>
          <p:spPr>
            <a:xfrm>
              <a:off x="5724360" y="2060640"/>
              <a:ext cx="2448000" cy="647640"/>
            </a:xfrm>
            <a:prstGeom prst="wedgeRectCallout">
              <a:avLst>
                <a:gd name="adj1" fmla="val -121597"/>
                <a:gd name="adj2" fmla="val 16862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97080" y="2133720"/>
              <a:ext cx="23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Ланкашир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текстил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325440" y="333360"/>
            <a:ext cx="91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ыставка изделий промышлен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0" t="0" r="56" b="-52"/>
          <a:stretch/>
        </p:blipFill>
        <p:spPr>
          <a:xfrm>
            <a:off x="0" y="1700280"/>
            <a:ext cx="4788000" cy="4176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4211640" cy="4176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-720" y="5950080"/>
            <a:ext cx="885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ие всемирной выставки 1851г. в Хрустальном двор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2:54:42Z</dcterms:created>
  <dc:creator>Admin</dc:creator>
  <dc:description/>
  <dc:language>en-US</dc:language>
  <cp:lastModifiedBy>Admin</cp:lastModifiedBy>
  <dcterms:modified xsi:type="dcterms:W3CDTF">2012-01-19T18:27:29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a000000000001024140</vt:lpwstr>
  </property>
</Properties>
</file>