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E6D-8F61-49F3-9F34-DFBA8CDA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CA33-4A17-4266-895D-56F2BAE2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F423-F473-4ADB-B4F9-9D3E50B4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8DB9-94CD-450F-8CA1-8E43CB98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C51A-3EB2-4788-9CDC-ADD80D76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DBD3-AEEF-4966-BB34-E2CFF1DC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4818-260C-47A1-92F3-12571F52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0E48-9BB5-440A-842A-E863DBBD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F672-BB25-4760-B81D-97290A6C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B0DC-6DAD-4294-8182-604D5F3A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8E4D-DB80-4513-BDF4-B4A507B1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D41E-36CD-4135-93D1-40B314D4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F940-11FE-4F7B-B65C-29CA3614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E5F9-4CE6-4B88-9DB9-B7170CC2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024C-2F2A-498E-B380-B3C7A6F7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6934-C9E0-4837-B21A-CBE6BB852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1957-DFA2-481C-9B4A-2E681389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1CD8-D762-4847-8608-02FC85BB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6B6D-CECC-45A4-8AF7-C7AB5E33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F8C0-B09A-4C92-B861-6EB547C7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0452-D0F2-4D93-8ED4-E79AF671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233C-B2BE-4555-B854-D220DFFB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6FA9-1A67-4CCA-B922-1B772BA3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C13F-6DC7-4D6E-8AD1-F18169E7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71C8-ACA2-439F-A849-C0DA020678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41A8-8205-4C20-B653-0DB3A2E386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ochemuha.ru/wp-content/uploads/2011/04/Atticheskaya-vaza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ritton.disted.camosun.bc.ca/goldslide/school_athens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140000" y="5516280"/>
            <a:ext cx="4824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рок истории в 6 класс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дготовил учитель истории Котенко Н.К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90792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Особенности воспитания в греческих полис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4221000"/>
            <a:ext cx="3492360" cy="2637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443640" y="2349360"/>
            <a:ext cx="2276640" cy="3211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995640" y="2349360"/>
            <a:ext cx="25718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0" r="0" b="16"/>
          <a:stretch/>
        </p:blipFill>
        <p:spPr>
          <a:xfrm>
            <a:off x="971640" y="1916280"/>
            <a:ext cx="6840360" cy="452412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539640" y="5300640"/>
            <a:ext cx="82296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18900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финского воспитания и здоровый образ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Аттическая ваз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89000"/>
            <a:ext cx="5648400" cy="393372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0" y="4229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 7 до 18 лет афинские юноши посещали частные школы, где учились читать и писать; там преподавали также искусства, науки и законодательство. На картинке выше на аттической вазе (около 480 года до Р. Хр.) изображены двое юношей, обучающихся чтению и игре на лире. Справа сидит педагог (по-гречески "проводник мальчиков") - старый раб, который привел их в школ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504960" y="5184360"/>
            <a:ext cx="380844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Афинская школа. Рафа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Картинка 1 из 21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476280"/>
            <a:ext cx="5905440" cy="437688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2600" y="525132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ормирование здорового образа жизни в Афин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5041800" cy="203688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rcRect l="5259" t="0" r="2735" b="0"/>
          <a:stretch/>
        </p:blipFill>
        <p:spPr>
          <a:xfrm>
            <a:off x="5796000" y="260280"/>
            <a:ext cx="2663640" cy="491508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3"/>
          <a:srcRect l="0" t="0" r="34" b="73"/>
          <a:stretch/>
        </p:blipFill>
        <p:spPr>
          <a:xfrm>
            <a:off x="250920" y="3068640"/>
            <a:ext cx="5041800" cy="185580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Мозговой штур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 общего и различного в системе воспитания Спарты и Афин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ОБЩЕ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РАЗЛИЧНО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92360" y="333360"/>
            <a:ext cx="6913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лимпийские игры и их влияние на формирование здорового образа жизн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4824360" cy="3899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435640" y="2565360"/>
            <a:ext cx="3600360" cy="3743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2519280" cy="4114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1679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187280" y="260280"/>
            <a:ext cx="1872000" cy="1562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924360" y="1844640"/>
            <a:ext cx="2504880" cy="2478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3995640" y="465300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6804000" y="1916280"/>
            <a:ext cx="234000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Мозговой штур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 Вы думаете, зачем греки соревновалис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Я считаю, что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684360" y="836640"/>
          <a:ext cx="311040" cy="212760"/>
        </p:xfrm>
        <a:graphic>
          <a:graphicData uri="http://schemas.openxmlformats.org/drawingml/2006/table">
            <a:tbl>
              <a:tblPr/>
              <a:tblGrid>
                <a:gridCol w="31104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5148360" y="260280"/>
            <a:ext cx="388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Кто определял участь ребёнка в Спар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981000"/>
            <a:ext cx="37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На праздниках богини Артемиды, какие испытания  приходилось выдержать юнош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1773360"/>
            <a:ext cx="362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Сколько лет было мальчикам когда их забирали у родителе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43280" y="8182080"/>
          <a:ext cx="2243160" cy="7466040"/>
        </p:xfrm>
        <a:graphic>
          <a:graphicData uri="http://schemas.openxmlformats.org/drawingml/2006/table">
            <a:tbl>
              <a:tblPr/>
              <a:tblGrid>
                <a:gridCol w="216000"/>
                <a:gridCol w="334080"/>
                <a:gridCol w="423360"/>
                <a:gridCol w="423360"/>
                <a:gridCol w="423360"/>
                <a:gridCol w="423000"/>
              </a:tblGrid>
              <a:tr h="709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. Кого привлекли для обучения детей мудрости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5219640" y="2492280"/>
            <a:ext cx="360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Что было главной стимулирующей силой при воспитании молодёж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92720" y="3284640"/>
            <a:ext cx="345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Кто был автором системы воспитания в Спар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92720" y="4097160"/>
            <a:ext cx="331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Чьи произведения были образцом для воспитания молодежи Афи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00720" y="530064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92720" y="4869000"/>
            <a:ext cx="385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Кто обязательно принимал участие в воспитании детей в Афин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71640" y="836640"/>
          <a:ext cx="2539800" cy="244440"/>
        </p:xfrm>
        <a:graphic>
          <a:graphicData uri="http://schemas.openxmlformats.org/drawingml/2006/table">
            <a:tbl>
              <a:tblPr/>
              <a:tblGrid>
                <a:gridCol w="253800"/>
                <a:gridCol w="25380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4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219640" y="1484280"/>
          <a:ext cx="3167280" cy="252360"/>
        </p:xfrm>
        <a:graphic>
          <a:graphicData uri="http://schemas.openxmlformats.org/drawingml/2006/table">
            <a:tbl>
              <a:tblPr/>
              <a:tblGrid>
                <a:gridCol w="318600"/>
                <a:gridCol w="320040"/>
                <a:gridCol w="318600"/>
                <a:gridCol w="316800"/>
                <a:gridCol w="318600"/>
                <a:gridCol w="318600"/>
                <a:gridCol w="406440"/>
                <a:gridCol w="318600"/>
                <a:gridCol w="317160"/>
                <a:gridCol w="216000"/>
              </a:tblGrid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292720" y="2205000"/>
          <a:ext cx="1541520" cy="243000"/>
        </p:xfrm>
        <a:graphic>
          <a:graphicData uri="http://schemas.openxmlformats.org/drawingml/2006/table">
            <a:tbl>
              <a:tblPr/>
              <a:tblGrid>
                <a:gridCol w="384120"/>
                <a:gridCol w="387360"/>
                <a:gridCol w="385920"/>
                <a:gridCol w="38412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971640" y="836640"/>
          <a:ext cx="271440" cy="971640"/>
        </p:xfrm>
        <a:graphic>
          <a:graphicData uri="http://schemas.openxmlformats.org/drawingml/2006/table">
            <a:tbl>
              <a:tblPr/>
              <a:tblGrid>
                <a:gridCol w="2714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187280" y="2060640"/>
          <a:ext cx="3048120" cy="244440"/>
        </p:xfrm>
        <a:graphic>
          <a:graphicData uri="http://schemas.openxmlformats.org/drawingml/2006/table">
            <a:tbl>
              <a:tblPr/>
              <a:tblGrid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4160"/>
                <a:gridCol w="253800"/>
                <a:gridCol w="254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580000" y="2924280"/>
          <a:ext cx="3048120" cy="244440"/>
        </p:xfrm>
        <a:graphic>
          <a:graphicData uri="http://schemas.openxmlformats.org/drawingml/2006/table">
            <a:tbl>
              <a:tblPr/>
              <a:tblGrid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4160"/>
                <a:gridCol w="253800"/>
                <a:gridCol w="254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148360" y="620640"/>
          <a:ext cx="2539800" cy="244440"/>
        </p:xfrm>
        <a:graphic>
          <a:graphicData uri="http://schemas.openxmlformats.org/drawingml/2006/table">
            <a:tbl>
              <a:tblPr/>
              <a:tblGrid>
                <a:gridCol w="253800"/>
                <a:gridCol w="254160"/>
                <a:gridCol w="253800"/>
                <a:gridCol w="254160"/>
                <a:gridCol w="254160"/>
                <a:gridCol w="253800"/>
                <a:gridCol w="254160"/>
                <a:gridCol w="237960"/>
                <a:gridCol w="270000"/>
                <a:gridCol w="2538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3708360" y="1773360"/>
          <a:ext cx="287280" cy="1549440"/>
        </p:xfrm>
        <a:graphic>
          <a:graphicData uri="http://schemas.openxmlformats.org/drawingml/2006/table">
            <a:tbl>
              <a:tblPr/>
              <a:tblGrid>
                <a:gridCol w="287280"/>
              </a:tblGrid>
              <a:tr h="28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5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435640" y="3716280"/>
          <a:ext cx="1728720" cy="24444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9080"/>
                <a:gridCol w="2872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08360" y="3068640"/>
          <a:ext cx="1655640" cy="289080"/>
        </p:xfrm>
        <a:graphic>
          <a:graphicData uri="http://schemas.openxmlformats.org/drawingml/2006/table">
            <a:tbl>
              <a:tblPr/>
              <a:tblGrid>
                <a:gridCol w="287280"/>
                <a:gridCol w="216000"/>
                <a:gridCol w="241200"/>
                <a:gridCol w="301680"/>
                <a:gridCol w="304920"/>
                <a:gridCol w="304560"/>
              </a:tblGrid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364000" y="4581360"/>
          <a:ext cx="1523880" cy="244440"/>
        </p:xfrm>
        <a:graphic>
          <a:graphicData uri="http://schemas.openxmlformats.org/drawingml/2006/table">
            <a:tbl>
              <a:tblPr/>
              <a:tblGrid>
                <a:gridCol w="254160"/>
                <a:gridCol w="253800"/>
                <a:gridCol w="254160"/>
                <a:gridCol w="253800"/>
                <a:gridCol w="254160"/>
                <a:gridCol w="2538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5435640" y="5373720"/>
          <a:ext cx="1778040" cy="244440"/>
        </p:xfrm>
        <a:graphic>
          <a:graphicData uri="http://schemas.openxmlformats.org/drawingml/2006/table">
            <a:tbl>
              <a:tblPr/>
              <a:tblGrid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908000" y="1341360"/>
          <a:ext cx="287640" cy="2286000"/>
        </p:xfrm>
        <a:graphic>
          <a:graphicData uri="http://schemas.openxmlformats.org/drawingml/2006/table">
            <a:tbl>
              <a:tblPr/>
              <a:tblGrid>
                <a:gridCol w="2876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8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77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547640" y="2852640"/>
          <a:ext cx="2016360" cy="243000"/>
        </p:xfrm>
        <a:graphic>
          <a:graphicData uri="http://schemas.openxmlformats.org/drawingml/2006/table">
            <a:tbl>
              <a:tblPr/>
              <a:tblGrid>
                <a:gridCol w="360360"/>
                <a:gridCol w="287640"/>
                <a:gridCol w="288720"/>
                <a:gridCol w="216000"/>
                <a:gridCol w="358920"/>
                <a:gridCol w="222120"/>
                <a:gridCol w="2826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547640" y="1341360"/>
          <a:ext cx="254160" cy="212760"/>
        </p:xfrm>
        <a:graphic>
          <a:graphicData uri="http://schemas.openxmlformats.org/drawingml/2006/table">
            <a:tbl>
              <a:tblPr/>
              <a:tblGrid>
                <a:gridCol w="25416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971640" y="620640"/>
          <a:ext cx="253800" cy="212760"/>
        </p:xfrm>
        <a:graphic>
          <a:graphicData uri="http://schemas.openxmlformats.org/drawingml/2006/table">
            <a:tbl>
              <a:tblPr/>
              <a:tblGrid>
                <a:gridCol w="25380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900000" y="2060640"/>
          <a:ext cx="254160" cy="212760"/>
        </p:xfrm>
        <a:graphic>
          <a:graphicData uri="http://schemas.openxmlformats.org/drawingml/2006/table">
            <a:tbl>
              <a:tblPr/>
              <a:tblGrid>
                <a:gridCol w="25416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780000" y="1557360"/>
          <a:ext cx="215640" cy="212760"/>
        </p:xfrm>
        <a:graphic>
          <a:graphicData uri="http://schemas.openxmlformats.org/drawingml/2006/table">
            <a:tbl>
              <a:tblPr/>
              <a:tblGrid>
                <a:gridCol w="21564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492360" y="3338640"/>
          <a:ext cx="358560" cy="234360"/>
        </p:xfrm>
        <a:graphic>
          <a:graphicData uri="http://schemas.openxmlformats.org/drawingml/2006/table">
            <a:tbl>
              <a:tblPr/>
              <a:tblGrid>
                <a:gridCol w="358560"/>
              </a:tblGrid>
              <a:tr h="234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1332000" y="2997360"/>
          <a:ext cx="253800" cy="212400"/>
        </p:xfrm>
        <a:graphic>
          <a:graphicData uri="http://schemas.openxmlformats.org/drawingml/2006/table">
            <a:tbl>
              <a:tblPr/>
              <a:tblGrid>
                <a:gridCol w="25380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pic>
        <p:nvPicPr>
          <p:cNvPr id="177" name="Picture 1" descr="immortals-image"/>
          <p:cNvPicPr/>
          <p:nvPr/>
        </p:nvPicPr>
        <p:blipFill>
          <a:blip r:embed="rId1"/>
          <a:stretch/>
        </p:blipFill>
        <p:spPr>
          <a:xfrm>
            <a:off x="0" y="4221000"/>
            <a:ext cx="2600280" cy="2637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1908000" y="189000"/>
            <a:ext cx="2735280" cy="36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567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россвор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Творческое задание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авьте сенка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Олимпийские игр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Спартанское воспитани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Афинское воспитан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529560"/>
            <a:ext cx="7993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Обучающи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изучить быт и традиции спартиатов и афинян; охарактеризовать особенности воспитания граждан в различных полисах древней Греции; сформировать у  учащихся представления о древних Олимпийских играх; познакомить учащихся с историческими источниками, позволяющими получить необходимую информацию; обеспечивать необходимой информацией для формирования стратегий и технологий, позволяющих сохранять и укреплять здоров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Развивающи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родолжить формирование умений анализировать исторические факты, обобщать отдельные события и формулировать несложные выводы, логически мыслить, высказывать свою точку зрения; формулировать эмоционально-оценочные суждения; развивать умения работать с дополнительным историческим материалом, формирование культуры здоровья через содержание учебного матери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Воспитательны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воспитание гражданственности, интереса к истории древнего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708360" y="115920"/>
            <a:ext cx="2592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Це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Эвристическая бесед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чему мы сегодня коснулись вопросов воспитания в полисах Древней Греци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82600" y="692280"/>
            <a:ext cx="77724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анный этап урока проводится с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спользованием ИКТ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презентация). Используются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формы групповой работы и опережающего обучени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; интерактивные методы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мозговой штурм, метод противоречивых проблем, дискуссия,  игровые методы, эвристическая беседа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чащиеся самостоятельно готовят задания в группах.  Каждая группа получила зада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группа «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собенности спартанского воспитания и здоровый образ жизн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группа  «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собенности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афинского воспитания и здоровый образ жизн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группа «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лимпийские игры и их влияние на формирование здорового образа жизн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7850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Особенности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спартанского воспитания и здоровый образ жизн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6360" y="2386080"/>
            <a:ext cx="612000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Картинка 6 из 104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4046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0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269080" y="2276640"/>
            <a:ext cx="443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Картинка 7 из 107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0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ДИСКУСС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63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читаете ли Вы спартанское воспитание образцовы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а, я считаю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т, я не считаю, потому что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7:09:08Z</dcterms:created>
  <dc:creator>SERGEY</dc:creator>
  <dc:description/>
  <dc:language>en-US</dc:language>
  <cp:lastModifiedBy>ктось</cp:lastModifiedBy>
  <dcterms:modified xsi:type="dcterms:W3CDTF">2012-03-04T06:07:25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f000000000001024140</vt:lpwstr>
  </property>
</Properties>
</file>