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5DD9-D34A-4506-9519-A5DC4D7CF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9297-1412-4A9D-A34C-170819713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14D1-C5F3-4D9B-ABBD-2552180FB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07D5-F161-4427-B504-A0F0DB6CF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F979E-8DAC-45C2-825F-CED6667BE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B1B92-48B8-4549-BC9C-AB3937CB0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A9062-84B8-4F79-9B0D-9A1E519F7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C8195-D3B6-4F80-B677-C81527F4F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BCCE9-4DFC-4E46-969C-CB45EDEE3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342A6-CD7F-43AD-8E5E-C13404D72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16D7C-9086-4537-BDE3-B6F3097B1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6E17-AFC5-496A-85C6-1EC25B05D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FC685-BD0D-4209-9EAD-68EEF9FCB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C9194-A76E-4909-9B45-EB61F63DE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A7C08-9A98-4FD7-8CD5-9CD814A1E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DB363-B629-4180-84B8-DD9C11578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F1954-EA72-4946-82B7-026CF6DA4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4A10-C2E2-4934-B648-689123D23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72FF-82FE-46A1-ACAF-0E1E39A41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B709-17E6-4D34-AAE7-B28DA048D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F3E4-2950-49BD-848E-23DB81577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7910-EA63-4589-A40A-F3D7BAF1D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F63C-4659-4A78-8CD9-ED2C7B925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DBF8-0712-421A-BA15-71F08FF86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D7882-F583-440F-8F97-5149C56C4C3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69A07-D086-4424-B291-71520BA3995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pochemuha.ru/wp-content/uploads/2011/04/Atticheskaya-vaza.jp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britton.disted.camosun.bc.ca/goldslide/school_athens.jpg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140000" y="5516280"/>
            <a:ext cx="48243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Урок истории в 6 класс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Подготовил учитель истории Котенко Н.К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1042920" y="907920"/>
            <a:ext cx="741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Особенности воспитания в греческих полиса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4221000"/>
            <a:ext cx="3492360" cy="26370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6443640" y="2349360"/>
            <a:ext cx="2276640" cy="32115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3995640" y="2349360"/>
            <a:ext cx="257184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rcRect l="0" t="0" r="0" b="16"/>
          <a:stretch/>
        </p:blipFill>
        <p:spPr>
          <a:xfrm>
            <a:off x="971640" y="1916280"/>
            <a:ext cx="6840360" cy="4524120"/>
          </a:xfrm>
          <a:prstGeom prst="rect">
            <a:avLst/>
          </a:prstGeom>
          <a:ln w="76320">
            <a:solidFill>
              <a:srgbClr val="996633"/>
            </a:solidFill>
            <a:miter/>
          </a:ln>
        </p:spPr>
      </p:pic>
      <p:sp>
        <p:nvSpPr>
          <p:cNvPr id="123" name=""/>
          <p:cNvSpPr/>
          <p:nvPr/>
        </p:nvSpPr>
        <p:spPr>
          <a:xfrm>
            <a:off x="539640" y="5300640"/>
            <a:ext cx="822960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39640" y="189000"/>
            <a:ext cx="860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Особенности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афинского воспитания и здоровый образ жизн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Аттическая ваза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92360" y="189000"/>
            <a:ext cx="5648400" cy="3933720"/>
          </a:xfrm>
          <a:prstGeom prst="rect">
            <a:avLst/>
          </a:prstGeom>
          <a:ln w="76320">
            <a:solidFill>
              <a:srgbClr val="996633"/>
            </a:solidFill>
            <a:miter/>
          </a:ln>
        </p:spPr>
      </p:pic>
      <p:sp>
        <p:nvSpPr>
          <p:cNvPr id="126" name=""/>
          <p:cNvSpPr/>
          <p:nvPr/>
        </p:nvSpPr>
        <p:spPr>
          <a:xfrm>
            <a:off x="0" y="422928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С 7 до 18 лет афинские юноши посещали частные школы, где учились читать и писать; там преподавали также искусства, науки и законодательство. На картинке выше на аттической вазе (около 480 года до Р. Хр.) изображены двое юношей, обучающихся чтению и игре на лире. Справа сидит педагог (по-гречески "проводник мальчиков") - старый раб, который привел их в школ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504960" y="5184360"/>
            <a:ext cx="380844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Афинская школа. Рафаел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8" name="" descr="Картинка 1 из 217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63640" y="476280"/>
            <a:ext cx="5905440" cy="4376880"/>
          </a:xfrm>
          <a:prstGeom prst="rect">
            <a:avLst/>
          </a:prstGeom>
          <a:ln w="76320">
            <a:solidFill>
              <a:srgbClr val="9966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182600" y="5251320"/>
            <a:ext cx="7772400" cy="8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Формирование здорового образа жизни в Афинах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5041800" cy="2036880"/>
          </a:xfrm>
          <a:prstGeom prst="rect">
            <a:avLst/>
          </a:prstGeom>
          <a:ln w="76320">
            <a:solidFill>
              <a:srgbClr val="996633"/>
            </a:solidFill>
            <a:miter/>
          </a:ln>
        </p:spPr>
      </p:pic>
      <p:pic>
        <p:nvPicPr>
          <p:cNvPr id="131" name="" descr=""/>
          <p:cNvPicPr/>
          <p:nvPr/>
        </p:nvPicPr>
        <p:blipFill>
          <a:blip r:embed="rId2"/>
          <a:srcRect l="5259" t="0" r="2735" b="0"/>
          <a:stretch/>
        </p:blipFill>
        <p:spPr>
          <a:xfrm>
            <a:off x="5796000" y="260280"/>
            <a:ext cx="2663640" cy="4915080"/>
          </a:xfrm>
          <a:prstGeom prst="rect">
            <a:avLst/>
          </a:prstGeom>
          <a:ln w="76320">
            <a:solidFill>
              <a:srgbClr val="996633"/>
            </a:solidFill>
            <a:miter/>
          </a:ln>
        </p:spPr>
      </p:pic>
      <p:pic>
        <p:nvPicPr>
          <p:cNvPr id="132" name="" descr=""/>
          <p:cNvPicPr/>
          <p:nvPr/>
        </p:nvPicPr>
        <p:blipFill>
          <a:blip r:embed="rId3"/>
          <a:srcRect l="0" t="0" r="34" b="73"/>
          <a:stretch/>
        </p:blipFill>
        <p:spPr>
          <a:xfrm>
            <a:off x="250920" y="3068640"/>
            <a:ext cx="5041800" cy="1855800"/>
          </a:xfrm>
          <a:prstGeom prst="rect">
            <a:avLst/>
          </a:prstGeom>
          <a:ln w="76320">
            <a:solidFill>
              <a:srgbClr val="9966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Мозговой штурм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Что общего и различного в системе воспитания Спарты и Афин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ОБЩЕ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РАЗЛИЧНО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692360" y="333360"/>
            <a:ext cx="691344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Олимпийские игры и их влияние на формирование здорового образа жизни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24000" y="2492280"/>
            <a:ext cx="4824360" cy="38991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5435640" y="2565360"/>
            <a:ext cx="3600360" cy="37432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4360" y="2060640"/>
            <a:ext cx="2519280" cy="41148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308720" y="0"/>
            <a:ext cx="1835280" cy="16794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1187280" y="260280"/>
            <a:ext cx="1872000" cy="15620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3924360" y="1844640"/>
            <a:ext cx="2504880" cy="24782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5"/>
          <a:stretch/>
        </p:blipFill>
        <p:spPr>
          <a:xfrm>
            <a:off x="3995640" y="4653000"/>
            <a:ext cx="2340000" cy="17557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6"/>
          <a:stretch/>
        </p:blipFill>
        <p:spPr>
          <a:xfrm>
            <a:off x="6804000" y="1916280"/>
            <a:ext cx="2340000" cy="42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Мозговой штурм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Как Вы думаете, зачем греки соревновались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Я считаю, что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7" name=""/>
          <p:cNvGraphicFramePr/>
          <p:nvPr/>
        </p:nvGraphicFramePr>
        <p:xfrm>
          <a:off x="684360" y="836640"/>
          <a:ext cx="311040" cy="212760"/>
        </p:xfrm>
        <a:graphic>
          <a:graphicData uri="http://schemas.openxmlformats.org/drawingml/2006/table">
            <a:tbl>
              <a:tblPr/>
              <a:tblGrid>
                <a:gridCol w="311040"/>
              </a:tblGrid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48" name=""/>
          <p:cNvSpPr/>
          <p:nvPr/>
        </p:nvSpPr>
        <p:spPr>
          <a:xfrm>
            <a:off x="5148360" y="260280"/>
            <a:ext cx="3881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Кто определял участь ребёнка в Спарт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148360" y="981000"/>
            <a:ext cx="3744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На праздниках богини Артемиды, какие испытания  приходилось выдержать юнош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219640" y="1773360"/>
            <a:ext cx="3622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Сколько лет было мальчикам когда их забирали у родителей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4643280" y="8182080"/>
          <a:ext cx="2243160" cy="7466040"/>
        </p:xfrm>
        <a:graphic>
          <a:graphicData uri="http://schemas.openxmlformats.org/drawingml/2006/table">
            <a:tbl>
              <a:tblPr/>
              <a:tblGrid>
                <a:gridCol w="216000"/>
                <a:gridCol w="334080"/>
                <a:gridCol w="423360"/>
                <a:gridCol w="423360"/>
                <a:gridCol w="423360"/>
                <a:gridCol w="423000"/>
              </a:tblGrid>
              <a:tr h="7097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. Кого привлекли для обучения детей мудрости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 gridSpan="6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52" name=""/>
          <p:cNvSpPr/>
          <p:nvPr/>
        </p:nvSpPr>
        <p:spPr>
          <a:xfrm>
            <a:off x="5219640" y="2492280"/>
            <a:ext cx="3602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Что было главной стимулирующей силой при воспитании молодёж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292720" y="3284640"/>
            <a:ext cx="3454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Кто был автором системы воспитания в Спарт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292720" y="4097160"/>
            <a:ext cx="3311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 Чьи произведения были образцом для воспитания молодежи Афин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400720" y="5300640"/>
            <a:ext cx="374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292720" y="4869000"/>
            <a:ext cx="3851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 Кто обязательно принимал участие в воспитании детей в Афинах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971640" y="836640"/>
          <a:ext cx="2539800" cy="244440"/>
        </p:xfrm>
        <a:graphic>
          <a:graphicData uri="http://schemas.openxmlformats.org/drawingml/2006/table">
            <a:tbl>
              <a:tblPr/>
              <a:tblGrid>
                <a:gridCol w="253800"/>
                <a:gridCol w="253800"/>
                <a:gridCol w="254160"/>
                <a:gridCol w="253800"/>
                <a:gridCol w="254160"/>
                <a:gridCol w="253800"/>
                <a:gridCol w="254160"/>
                <a:gridCol w="253800"/>
                <a:gridCol w="254160"/>
                <a:gridCol w="254160"/>
              </a:tblGrid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5219640" y="1484280"/>
          <a:ext cx="3167280" cy="252360"/>
        </p:xfrm>
        <a:graphic>
          <a:graphicData uri="http://schemas.openxmlformats.org/drawingml/2006/table">
            <a:tbl>
              <a:tblPr/>
              <a:tblGrid>
                <a:gridCol w="318600"/>
                <a:gridCol w="320040"/>
                <a:gridCol w="318600"/>
                <a:gridCol w="316800"/>
                <a:gridCol w="318600"/>
                <a:gridCol w="318600"/>
                <a:gridCol w="406440"/>
                <a:gridCol w="318600"/>
                <a:gridCol w="317160"/>
                <a:gridCol w="216000"/>
              </a:tblGrid>
              <a:tr h="252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б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ч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5292720" y="2205000"/>
          <a:ext cx="1541520" cy="243000"/>
        </p:xfrm>
        <a:graphic>
          <a:graphicData uri="http://schemas.openxmlformats.org/drawingml/2006/table">
            <a:tbl>
              <a:tblPr/>
              <a:tblGrid>
                <a:gridCol w="384120"/>
                <a:gridCol w="387360"/>
                <a:gridCol w="385920"/>
                <a:gridCol w="384120"/>
              </a:tblGrid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971640" y="836640"/>
          <a:ext cx="271440" cy="971640"/>
        </p:xfrm>
        <a:graphic>
          <a:graphicData uri="http://schemas.openxmlformats.org/drawingml/2006/table">
            <a:tbl>
              <a:tblPr/>
              <a:tblGrid>
                <a:gridCol w="271440"/>
              </a:tblGrid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1" name=""/>
          <p:cNvGraphicFramePr/>
          <p:nvPr/>
        </p:nvGraphicFramePr>
        <p:xfrm>
          <a:off x="1187280" y="2060640"/>
          <a:ext cx="3048120" cy="244440"/>
        </p:xfrm>
        <a:graphic>
          <a:graphicData uri="http://schemas.openxmlformats.org/drawingml/2006/table">
            <a:tbl>
              <a:tblPr/>
              <a:tblGrid>
                <a:gridCol w="254160"/>
                <a:gridCol w="253800"/>
                <a:gridCol w="254160"/>
                <a:gridCol w="253800"/>
                <a:gridCol w="254160"/>
                <a:gridCol w="253800"/>
                <a:gridCol w="254160"/>
                <a:gridCol w="253800"/>
                <a:gridCol w="254160"/>
                <a:gridCol w="254160"/>
                <a:gridCol w="253800"/>
                <a:gridCol w="254160"/>
              </a:tblGrid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2" name=""/>
          <p:cNvGraphicFramePr/>
          <p:nvPr/>
        </p:nvGraphicFramePr>
        <p:xfrm>
          <a:off x="5580000" y="2924280"/>
          <a:ext cx="3048120" cy="244440"/>
        </p:xfrm>
        <a:graphic>
          <a:graphicData uri="http://schemas.openxmlformats.org/drawingml/2006/table">
            <a:tbl>
              <a:tblPr/>
              <a:tblGrid>
                <a:gridCol w="254160"/>
                <a:gridCol w="253800"/>
                <a:gridCol w="254160"/>
                <a:gridCol w="253800"/>
                <a:gridCol w="254160"/>
                <a:gridCol w="253800"/>
                <a:gridCol w="254160"/>
                <a:gridCol w="253800"/>
                <a:gridCol w="254160"/>
                <a:gridCol w="254160"/>
                <a:gridCol w="253800"/>
                <a:gridCol w="254160"/>
              </a:tblGrid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3" name=""/>
          <p:cNvGraphicFramePr/>
          <p:nvPr/>
        </p:nvGraphicFramePr>
        <p:xfrm>
          <a:off x="5148360" y="620640"/>
          <a:ext cx="2539800" cy="244440"/>
        </p:xfrm>
        <a:graphic>
          <a:graphicData uri="http://schemas.openxmlformats.org/drawingml/2006/table">
            <a:tbl>
              <a:tblPr/>
              <a:tblGrid>
                <a:gridCol w="253800"/>
                <a:gridCol w="254160"/>
                <a:gridCol w="253800"/>
                <a:gridCol w="254160"/>
                <a:gridCol w="254160"/>
                <a:gridCol w="253800"/>
                <a:gridCol w="254160"/>
                <a:gridCol w="237960"/>
                <a:gridCol w="270000"/>
                <a:gridCol w="253800"/>
              </a:tblGrid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ш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4" name=""/>
          <p:cNvGraphicFramePr/>
          <p:nvPr/>
        </p:nvGraphicFramePr>
        <p:xfrm>
          <a:off x="3708360" y="1773360"/>
          <a:ext cx="287280" cy="1549440"/>
        </p:xfrm>
        <a:graphic>
          <a:graphicData uri="http://schemas.openxmlformats.org/drawingml/2006/table">
            <a:tbl>
              <a:tblPr/>
              <a:tblGrid>
                <a:gridCol w="287280"/>
              </a:tblGrid>
              <a:tr h="286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54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5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55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52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г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5435640" y="3716280"/>
          <a:ext cx="1728720" cy="244440"/>
        </p:xfrm>
        <a:graphic>
          <a:graphicData uri="http://schemas.openxmlformats.org/drawingml/2006/table">
            <a:tbl>
              <a:tblPr/>
              <a:tblGrid>
                <a:gridCol w="288720"/>
                <a:gridCol w="287640"/>
                <a:gridCol w="288720"/>
                <a:gridCol w="287280"/>
                <a:gridCol w="289080"/>
                <a:gridCol w="287280"/>
              </a:tblGrid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г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08360" y="3068640"/>
          <a:ext cx="1655640" cy="289080"/>
        </p:xfrm>
        <a:graphic>
          <a:graphicData uri="http://schemas.openxmlformats.org/drawingml/2006/table">
            <a:tbl>
              <a:tblPr/>
              <a:tblGrid>
                <a:gridCol w="287280"/>
                <a:gridCol w="216000"/>
                <a:gridCol w="241200"/>
                <a:gridCol w="301680"/>
                <a:gridCol w="304920"/>
                <a:gridCol w="304560"/>
              </a:tblGrid>
              <a:tr h="289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7" name=""/>
          <p:cNvGraphicFramePr/>
          <p:nvPr/>
        </p:nvGraphicFramePr>
        <p:xfrm>
          <a:off x="5364000" y="4581360"/>
          <a:ext cx="1523880" cy="244440"/>
        </p:xfrm>
        <a:graphic>
          <a:graphicData uri="http://schemas.openxmlformats.org/drawingml/2006/table">
            <a:tbl>
              <a:tblPr/>
              <a:tblGrid>
                <a:gridCol w="254160"/>
                <a:gridCol w="253800"/>
                <a:gridCol w="254160"/>
                <a:gridCol w="253800"/>
                <a:gridCol w="254160"/>
                <a:gridCol w="253800"/>
              </a:tblGrid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г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5435640" y="5373720"/>
          <a:ext cx="1778040" cy="244440"/>
        </p:xfrm>
        <a:graphic>
          <a:graphicData uri="http://schemas.openxmlformats.org/drawingml/2006/table">
            <a:tbl>
              <a:tblPr/>
              <a:tblGrid>
                <a:gridCol w="254160"/>
                <a:gridCol w="253800"/>
                <a:gridCol w="254160"/>
                <a:gridCol w="253800"/>
                <a:gridCol w="254160"/>
                <a:gridCol w="253800"/>
                <a:gridCol w="254160"/>
              </a:tblGrid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9" name=""/>
          <p:cNvGraphicFramePr/>
          <p:nvPr/>
        </p:nvGraphicFramePr>
        <p:xfrm>
          <a:off x="1908000" y="1341360"/>
          <a:ext cx="287640" cy="2286000"/>
        </p:xfrm>
        <a:graphic>
          <a:graphicData uri="http://schemas.openxmlformats.org/drawingml/2006/table">
            <a:tbl>
              <a:tblPr/>
              <a:tblGrid>
                <a:gridCol w="287640"/>
              </a:tblGrid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85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77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1547640" y="2852640"/>
          <a:ext cx="2016360" cy="243000"/>
        </p:xfrm>
        <a:graphic>
          <a:graphicData uri="http://schemas.openxmlformats.org/drawingml/2006/table">
            <a:tbl>
              <a:tblPr/>
              <a:tblGrid>
                <a:gridCol w="360360"/>
                <a:gridCol w="287640"/>
                <a:gridCol w="288720"/>
                <a:gridCol w="216000"/>
                <a:gridCol w="358920"/>
                <a:gridCol w="222120"/>
                <a:gridCol w="282600"/>
              </a:tblGrid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1" name=""/>
          <p:cNvGraphicFramePr/>
          <p:nvPr/>
        </p:nvGraphicFramePr>
        <p:xfrm>
          <a:off x="1547640" y="1341360"/>
          <a:ext cx="254160" cy="212760"/>
        </p:xfrm>
        <a:graphic>
          <a:graphicData uri="http://schemas.openxmlformats.org/drawingml/2006/table">
            <a:tbl>
              <a:tblPr/>
              <a:tblGrid>
                <a:gridCol w="254160"/>
              </a:tblGrid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971640" y="620640"/>
          <a:ext cx="253800" cy="212760"/>
        </p:xfrm>
        <a:graphic>
          <a:graphicData uri="http://schemas.openxmlformats.org/drawingml/2006/table">
            <a:tbl>
              <a:tblPr/>
              <a:tblGrid>
                <a:gridCol w="253800"/>
              </a:tblGrid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900000" y="2060640"/>
          <a:ext cx="254160" cy="212760"/>
        </p:xfrm>
        <a:graphic>
          <a:graphicData uri="http://schemas.openxmlformats.org/drawingml/2006/table">
            <a:tbl>
              <a:tblPr/>
              <a:tblGrid>
                <a:gridCol w="254160"/>
              </a:tblGrid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3780000" y="1557360"/>
          <a:ext cx="215640" cy="212760"/>
        </p:xfrm>
        <a:graphic>
          <a:graphicData uri="http://schemas.openxmlformats.org/drawingml/2006/table">
            <a:tbl>
              <a:tblPr/>
              <a:tblGrid>
                <a:gridCol w="215640"/>
              </a:tblGrid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3492360" y="3338640"/>
          <a:ext cx="358560" cy="234360"/>
        </p:xfrm>
        <a:graphic>
          <a:graphicData uri="http://schemas.openxmlformats.org/drawingml/2006/table">
            <a:tbl>
              <a:tblPr/>
              <a:tblGrid>
                <a:gridCol w="358560"/>
              </a:tblGrid>
              <a:tr h="234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6" name=""/>
          <p:cNvGraphicFramePr/>
          <p:nvPr/>
        </p:nvGraphicFramePr>
        <p:xfrm>
          <a:off x="1332000" y="2997360"/>
          <a:ext cx="253800" cy="212400"/>
        </p:xfrm>
        <a:graphic>
          <a:graphicData uri="http://schemas.openxmlformats.org/drawingml/2006/table">
            <a:tbl>
              <a:tblPr/>
              <a:tblGrid>
                <a:gridCol w="253800"/>
              </a:tblGrid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pic>
        <p:nvPicPr>
          <p:cNvPr id="177" name="Picture 1" descr="immortals-image"/>
          <p:cNvPicPr/>
          <p:nvPr/>
        </p:nvPicPr>
        <p:blipFill>
          <a:blip r:embed="rId1"/>
          <a:stretch/>
        </p:blipFill>
        <p:spPr>
          <a:xfrm>
            <a:off x="0" y="4221000"/>
            <a:ext cx="2600280" cy="263700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 txBox="1"/>
          <p:nvPr/>
        </p:nvSpPr>
        <p:spPr>
          <a:xfrm>
            <a:off x="1908000" y="189000"/>
            <a:ext cx="2735280" cy="360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305671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Кроссвор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Творческое задание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оставьте сенкан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1. Олимпийские игры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2. Спартанское воспитание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3. Афинское воспитание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.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971640" y="529560"/>
            <a:ext cx="799308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Обучающие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изучить быт и традиции спартиатов и афинян; охарактеризовать особенности воспитания граждан в различных полисах древней Греции; сформировать у  учащихся представления о древних Олимпийских играх; познакомить учащихся с историческими источниками, позволяющими получить необходимую информацию; обеспечивать необходимой информацией для формирования стратегий и технологий, позволяющих сохранять и укреплять здоровь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Развивающие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продолжить формирование умений анализировать исторические факты, обобщать отдельные события и формулировать несложные выводы, логически мыслить, высказывать свою точку зрения; формулировать эмоционально-оценочные суждения; развивать умения работать с дополнительным историческим материалом, формирование культуры здоровья через содержание учебного материал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Воспитательные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воспитание гражданственности, интереса к истории древнего ми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708360" y="115920"/>
            <a:ext cx="25923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Цел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Эвристическая бесед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очему мы сегодня коснулись вопросов воспитания в полисах Древней Греции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182600" y="692280"/>
            <a:ext cx="77724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Данный этап урока проводится с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использованием ИКТ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презентация). Используются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формы групповой работы и опережающего обучения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; интерактивные методы: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мозговой штурм, метод противоречивых проблем, дискуссия,  игровые методы, эвристическая беседа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Учащиеся самостоятельно готовят задания в группах.  Каждая группа получила задание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группа «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Особенности спартанского воспитания и здоровый образ жизн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 группа  «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Особенности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афинского воспитания и здоровый образ жизн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группа «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Олимпийские игры и их влияние на формирование здорового образа жизни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42560" y="476280"/>
            <a:ext cx="7785000" cy="13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Особенности</a:t>
            </a: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спартанского воспитания и здоровый образ жизни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476360" y="2386080"/>
            <a:ext cx="6120000" cy="3606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1" name="" descr="Картинка 6 из 104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0" y="40464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20000">
    <p:push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2269080" y="2276640"/>
            <a:ext cx="4435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КОНЕЦ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10000">
    <p:push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9" name="" descr="Картинка 7 из 107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20000">
    <p:push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ДИСКУССИ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50560" y="1989000"/>
            <a:ext cx="863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Считаете ли Вы спартанское воспитание образцовым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Да, я считаю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ет, я не считаю, потому что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6T17:09:08Z</dcterms:created>
  <dc:creator>SERGEY</dc:creator>
  <dc:description/>
  <dc:language>en-US</dc:language>
  <cp:lastModifiedBy>ктось</cp:lastModifiedBy>
  <dcterms:modified xsi:type="dcterms:W3CDTF">2012-03-04T06:07:25Z</dcterms:modified>
  <cp:revision>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20f000000000001024140</vt:lpwstr>
  </property>
</Properties>
</file>