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1A95-8237-4BA1-9BF0-D4271C69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FD98-35F8-4A38-A74F-E8EC6485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E181-4A8B-4535-9471-57E64137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BA10-EE94-4074-888E-2F3C1A9B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4ACE-803B-4906-B676-9C7C0DEA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48B3-6525-47C2-AC67-10C9942E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DDEC-1321-499D-8084-98199498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BBBA-09E0-4DA2-B8A8-CBDFC6A7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03EC-6C0A-4E32-B2AF-D27A9337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193E-5902-4420-823D-37DE9F34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AB37-4AC5-422C-9D4D-ACEDCAAA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750D-898F-46EC-80A9-ACC9369D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20C8-1D10-48FB-B3C3-ED2F9368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0A66-61A5-4215-8D64-1E20BF12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08D2-19CD-46D2-B38C-73F9622B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5A4F-F75F-4078-B916-417B0019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C689-B414-4E9C-976E-B87ABA80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FD60-436E-4FAE-A879-238BE1B0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EE79-2509-43DD-9338-5B76735D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A0DF-96ED-454B-9F6E-59E08C96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2DA-40E0-494C-94CE-856C4366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8387-BB40-4CC9-B3CB-66F34DBF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288E-B995-4A14-AD60-7638C367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D61-B6A7-4572-AC3E-D55F709D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2BF2-2C7B-4CE7-87F8-5075FB16CE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0649-D31D-4731-BC32-BF5BAF1AEB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chemuha.ru/wp-content/uploads/2011/04/Atticheskaya-vaza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ritton.disted.camosun.bc.ca/goldslide/school_athens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140000" y="5516280"/>
            <a:ext cx="4824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рок истории в 6 класс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дготовил учитель истории Котенко Н.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90792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Особенности воспитания в греческих полис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4221000"/>
            <a:ext cx="3492360" cy="2637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443640" y="2349360"/>
            <a:ext cx="2276640" cy="3211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95640" y="2349360"/>
            <a:ext cx="25718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0" b="16"/>
          <a:stretch/>
        </p:blipFill>
        <p:spPr>
          <a:xfrm>
            <a:off x="971640" y="1916280"/>
            <a:ext cx="6840360" cy="452412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539640" y="5300640"/>
            <a:ext cx="82296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8900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финского воспитания и здоровый образ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Аттическая ваз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89000"/>
            <a:ext cx="5648400" cy="393372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0" y="4229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 7 до 18 лет афинские юноши посещали частные школы, где учились читать и писать; там преподавали также искусства, науки и законодательство. На картинке выше на аттической вазе (около 480 года до Р. Хр.) изображены двое юношей, обучающихся чтению и игре на лире. Справа сидит педагог (по-гречески "проводник мальчиков") - старый раб, который привел их в школ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504960" y="5184360"/>
            <a:ext cx="38084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Афинская школа. Рафа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Картинка 1 из 21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476280"/>
            <a:ext cx="5905440" cy="43768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2600" y="525132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ормирование здорового образа жизни в Афин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5041800" cy="20368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rcRect l="5259" t="0" r="2735" b="0"/>
          <a:stretch/>
        </p:blipFill>
        <p:spPr>
          <a:xfrm>
            <a:off x="5796000" y="260280"/>
            <a:ext cx="2663640" cy="49150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0" t="0" r="34" b="73"/>
          <a:stretch/>
        </p:blipFill>
        <p:spPr>
          <a:xfrm>
            <a:off x="250920" y="3068640"/>
            <a:ext cx="5041800" cy="185580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Мозговой штур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 общего и различного в системе воспитания Спарты и Афин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ОБЩЕ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РАЗЛИЧНО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92360" y="333360"/>
            <a:ext cx="6913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лимпийские игры и их влияние на формирование здорового образа жиз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4824360" cy="3899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435640" y="2565360"/>
            <a:ext cx="3600360" cy="3743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2519280" cy="4114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679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187280" y="260280"/>
            <a:ext cx="1872000" cy="1562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924360" y="1844640"/>
            <a:ext cx="2504880" cy="2478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3995640" y="465300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6804000" y="1916280"/>
            <a:ext cx="2340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Мозговой штур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 Вы думаете, зачем греки соревновалис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Я считаю, что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84360" y="836640"/>
          <a:ext cx="311040" cy="212760"/>
        </p:xfrm>
        <a:graphic>
          <a:graphicData uri="http://schemas.openxmlformats.org/drawingml/2006/table">
            <a:tbl>
              <a:tblPr/>
              <a:tblGrid>
                <a:gridCol w="31104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5148360" y="260280"/>
            <a:ext cx="388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Кто определял участь ребёнка в Спар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981000"/>
            <a:ext cx="37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На праздниках богини Артемиды, какие испытания  приходилось выдержать юнош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773360"/>
            <a:ext cx="362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Сколько лет было мальчикам когда их забирали у родител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43280" y="8182080"/>
          <a:ext cx="2243160" cy="7466040"/>
        </p:xfrm>
        <a:graphic>
          <a:graphicData uri="http://schemas.openxmlformats.org/drawingml/2006/table">
            <a:tbl>
              <a:tblPr/>
              <a:tblGrid>
                <a:gridCol w="216000"/>
                <a:gridCol w="334080"/>
                <a:gridCol w="423360"/>
                <a:gridCol w="423360"/>
                <a:gridCol w="423360"/>
                <a:gridCol w="423000"/>
              </a:tblGrid>
              <a:tr h="709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. Кого привлекли для обучения детей мудрости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5219640" y="2492280"/>
            <a:ext cx="360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Что было главной стимулирующей силой при воспитании молодёж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3284640"/>
            <a:ext cx="345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Кто был автором системы воспитания в Спар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92720" y="4097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Чьи произведения были образцом для воспитания молодежи Афи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00720" y="530064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4869000"/>
            <a:ext cx="385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Кто обязательно принимал участие в воспитании детей в Афин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71640" y="836640"/>
          <a:ext cx="2539800" cy="244440"/>
        </p:xfrm>
        <a:graphic>
          <a:graphicData uri="http://schemas.openxmlformats.org/drawingml/2006/table">
            <a:tbl>
              <a:tblPr/>
              <a:tblGrid>
                <a:gridCol w="253800"/>
                <a:gridCol w="25380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219640" y="1484280"/>
          <a:ext cx="3167280" cy="252360"/>
        </p:xfrm>
        <a:graphic>
          <a:graphicData uri="http://schemas.openxmlformats.org/drawingml/2006/table">
            <a:tbl>
              <a:tblPr/>
              <a:tblGrid>
                <a:gridCol w="318600"/>
                <a:gridCol w="320040"/>
                <a:gridCol w="318600"/>
                <a:gridCol w="316800"/>
                <a:gridCol w="318600"/>
                <a:gridCol w="318600"/>
                <a:gridCol w="406440"/>
                <a:gridCol w="318600"/>
                <a:gridCol w="317160"/>
                <a:gridCol w="216000"/>
              </a:tblGrid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292720" y="2205000"/>
          <a:ext cx="1541520" cy="243000"/>
        </p:xfrm>
        <a:graphic>
          <a:graphicData uri="http://schemas.openxmlformats.org/drawingml/2006/table">
            <a:tbl>
              <a:tblPr/>
              <a:tblGrid>
                <a:gridCol w="384120"/>
                <a:gridCol w="387360"/>
                <a:gridCol w="385920"/>
                <a:gridCol w="38412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971640" y="836640"/>
          <a:ext cx="271440" cy="971640"/>
        </p:xfrm>
        <a:graphic>
          <a:graphicData uri="http://schemas.openxmlformats.org/drawingml/2006/table">
            <a:tbl>
              <a:tblPr/>
              <a:tblGrid>
                <a:gridCol w="2714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187280" y="2060640"/>
          <a:ext cx="304812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  <a:gridCol w="25380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580000" y="2924280"/>
          <a:ext cx="304812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  <a:gridCol w="25380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148360" y="620640"/>
          <a:ext cx="2539800" cy="244440"/>
        </p:xfrm>
        <a:graphic>
          <a:graphicData uri="http://schemas.openxmlformats.org/drawingml/2006/table">
            <a:tbl>
              <a:tblPr/>
              <a:tblGrid>
                <a:gridCol w="253800"/>
                <a:gridCol w="254160"/>
                <a:gridCol w="253800"/>
                <a:gridCol w="254160"/>
                <a:gridCol w="254160"/>
                <a:gridCol w="253800"/>
                <a:gridCol w="254160"/>
                <a:gridCol w="237960"/>
                <a:gridCol w="270000"/>
                <a:gridCol w="2538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3708360" y="1773360"/>
          <a:ext cx="287280" cy="1549440"/>
        </p:xfrm>
        <a:graphic>
          <a:graphicData uri="http://schemas.openxmlformats.org/drawingml/2006/table">
            <a:tbl>
              <a:tblPr/>
              <a:tblGrid>
                <a:gridCol w="287280"/>
              </a:tblGrid>
              <a:tr h="28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435640" y="3716280"/>
          <a:ext cx="1728720" cy="2444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9080"/>
                <a:gridCol w="2872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08360" y="3068640"/>
          <a:ext cx="1655640" cy="289080"/>
        </p:xfrm>
        <a:graphic>
          <a:graphicData uri="http://schemas.openxmlformats.org/drawingml/2006/table">
            <a:tbl>
              <a:tblPr/>
              <a:tblGrid>
                <a:gridCol w="287280"/>
                <a:gridCol w="216000"/>
                <a:gridCol w="241200"/>
                <a:gridCol w="301680"/>
                <a:gridCol w="304920"/>
                <a:gridCol w="304560"/>
              </a:tblGrid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364000" y="4581360"/>
          <a:ext cx="152388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435640" y="5373720"/>
          <a:ext cx="177804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908000" y="1341360"/>
          <a:ext cx="287640" cy="2286000"/>
        </p:xfrm>
        <a:graphic>
          <a:graphicData uri="http://schemas.openxmlformats.org/drawingml/2006/table">
            <a:tbl>
              <a:tblPr/>
              <a:tblGrid>
                <a:gridCol w="2876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7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547640" y="2852640"/>
          <a:ext cx="2016360" cy="243000"/>
        </p:xfrm>
        <a:graphic>
          <a:graphicData uri="http://schemas.openxmlformats.org/drawingml/2006/table">
            <a:tbl>
              <a:tblPr/>
              <a:tblGrid>
                <a:gridCol w="360360"/>
                <a:gridCol w="287640"/>
                <a:gridCol w="288720"/>
                <a:gridCol w="216000"/>
                <a:gridCol w="358920"/>
                <a:gridCol w="222120"/>
                <a:gridCol w="2826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547640" y="1341360"/>
          <a:ext cx="254160" cy="212760"/>
        </p:xfrm>
        <a:graphic>
          <a:graphicData uri="http://schemas.openxmlformats.org/drawingml/2006/table">
            <a:tbl>
              <a:tblPr/>
              <a:tblGrid>
                <a:gridCol w="25416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971640" y="620640"/>
          <a:ext cx="253800" cy="212760"/>
        </p:xfrm>
        <a:graphic>
          <a:graphicData uri="http://schemas.openxmlformats.org/drawingml/2006/table">
            <a:tbl>
              <a:tblPr/>
              <a:tblGrid>
                <a:gridCol w="25380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900000" y="2060640"/>
          <a:ext cx="254160" cy="212760"/>
        </p:xfrm>
        <a:graphic>
          <a:graphicData uri="http://schemas.openxmlformats.org/drawingml/2006/table">
            <a:tbl>
              <a:tblPr/>
              <a:tblGrid>
                <a:gridCol w="25416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780000" y="1557360"/>
          <a:ext cx="215640" cy="212760"/>
        </p:xfrm>
        <a:graphic>
          <a:graphicData uri="http://schemas.openxmlformats.org/drawingml/2006/table">
            <a:tbl>
              <a:tblPr/>
              <a:tblGrid>
                <a:gridCol w="21564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492360" y="3338640"/>
          <a:ext cx="358560" cy="234360"/>
        </p:xfrm>
        <a:graphic>
          <a:graphicData uri="http://schemas.openxmlformats.org/drawingml/2006/table">
            <a:tbl>
              <a:tblPr/>
              <a:tblGrid>
                <a:gridCol w="358560"/>
              </a:tblGrid>
              <a:tr h="23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332000" y="2997360"/>
          <a:ext cx="253800" cy="212400"/>
        </p:xfrm>
        <a:graphic>
          <a:graphicData uri="http://schemas.openxmlformats.org/drawingml/2006/table">
            <a:tbl>
              <a:tblPr/>
              <a:tblGrid>
                <a:gridCol w="25380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1" descr="immortals-image"/>
          <p:cNvPicPr/>
          <p:nvPr/>
        </p:nvPicPr>
        <p:blipFill>
          <a:blip r:embed="rId1"/>
          <a:stretch/>
        </p:blipFill>
        <p:spPr>
          <a:xfrm>
            <a:off x="0" y="4221000"/>
            <a:ext cx="2600280" cy="2637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908000" y="189000"/>
            <a:ext cx="2735280" cy="3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56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россвор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Творческое задание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авьте сенка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Олимпийские игр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Спартанское воспит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Афинское воспита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529560"/>
            <a:ext cx="7993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Обучающи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изучить быт и традиции спартиатов и афинян; охарактеризовать особенности воспитания граждан в различных полисах древней Греции; сформировать у  учащихся представления о древних Олимпийских играх; познакомить учащихся с историческими источниками, позволяющими получить необходимую информацию; обеспечивать необходимой информацией для формирования стратегий и технологий, позволяющих сохранять и укреплять здоров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Развивающи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родолжить формирование умений анализировать исторические факты, обобщать отдельные события и формулировать несложные выводы, логически мыслить, высказывать свою точку зрения; формулировать эмоционально-оценочные суждения; развивать умения работать с дополнительным историческим материалом, формирование культуры здоровья через содержание учебного матери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Воспитательны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оспитание гражданственности, интереса к истории древнего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08360" y="115920"/>
            <a:ext cx="2592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Ц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Эвристическая бесед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чему мы сегодня коснулись вопросов воспитания в полисах Древней Греци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82600" y="692280"/>
            <a:ext cx="7772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нный этап урока проводится с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спользованием ИК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презентация). Используются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формы групповой работы и опережающего обучени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; интерактивные методы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мозговой штурм, метод противоречивых проблем, дискуссия,  игровые методы, эвристическая беседа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ащиеся самостоятельно готовят задания в группах.  Каждая группа получила зада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группа «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собенности спартанского воспитания и здоровый образ жизн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группа  «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собенности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афинского воспитания и здоровый образ жизн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группа «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лимпийские игры и их влияние на формирование здорового образа жизн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7850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Особенности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спартанского воспитания и здоровый образ жизн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6360" y="2386080"/>
            <a:ext cx="612000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Картинка 6 из 10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4046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0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269080" y="2276640"/>
            <a:ext cx="443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Картинка 7 из 107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0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ИСКУСС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6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читаете ли Вы спартанское воспитание образцовы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а, я считаю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т, я не считаю, потому что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7:09:08Z</dcterms:created>
  <dc:creator>SERGEY</dc:creator>
  <dc:description/>
  <dc:language>en-US</dc:language>
  <cp:lastModifiedBy>ктось</cp:lastModifiedBy>
  <dcterms:modified xsi:type="dcterms:W3CDTF">2012-03-04T06:07:25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f000000000001024140</vt:lpwstr>
  </property>
</Properties>
</file>