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49A9-0C4E-4D61-ADDE-B1CDA361E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40F3-E066-4245-8BA3-3D97639C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0C03-0BEF-4C18-86B6-F3839CE70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AE94-CCE5-47E1-88EF-1C4CA94D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2B8D-AEDC-43FF-872F-07CF6466D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92B7-9008-482F-985B-461ABF13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303D-4156-48F0-A05C-F9C58885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85BB-6894-4A55-941C-87468E75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A64A-3199-440F-87B0-6FB77673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62DE-8D3D-45AB-96B9-81132DC3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8A87-E844-4B44-A7EB-A01EC855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0F53-617A-4252-A7CF-45325AA5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0D82-0401-4851-AB24-C8063978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9106-1FFA-4CD3-B64C-9F31970A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DF12-5893-45CA-983E-FF1AD960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A36E-FEEA-4861-AEA9-3A3D33250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BBAA-CC88-41EA-AC82-05B8B4B5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E438-2240-473F-B5E0-027D07A1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F5E3-BFD7-4445-BB09-2BB1BF66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7106-DD76-4E50-9364-7AA2CB88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5B77-CE6B-4B19-86C6-519ACBD8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5256-2AF4-4745-9723-537ED3B9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FD1C-B670-45CD-BD92-11E3127D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6D05-707D-4923-A299-FD029C2B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36E3-AF3C-403D-B58C-FA9F6DB636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7C68-3B3C-481C-9E72-F2A70C1CE2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ochemuha.ru/wp-content/uploads/2011/04/Atticheskaya-vaza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ritton.disted.camosun.bc.ca/goldslide/school_athens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140000" y="5516280"/>
            <a:ext cx="4824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Урок истории в 6 класс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дготовил учитель истории Котенко Н.К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90792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Особенности воспитания в греческих полис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4221000"/>
            <a:ext cx="3492360" cy="2637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443640" y="2349360"/>
            <a:ext cx="2276640" cy="3211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995640" y="2349360"/>
            <a:ext cx="25718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0" t="0" r="0" b="16"/>
          <a:stretch/>
        </p:blipFill>
        <p:spPr>
          <a:xfrm>
            <a:off x="971640" y="1916280"/>
            <a:ext cx="6840360" cy="452412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539640" y="5300640"/>
            <a:ext cx="822960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18900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финского воспитания и здоровый образ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Аттическая ваз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89000"/>
            <a:ext cx="5648400" cy="393372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0" y="4229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 7 до 18 лет афинские юноши посещали частные школы, где учились читать и писать; там преподавали также искусства, науки и законодательство. На картинке выше на аттической вазе (около 480 года до Р. Хр.) изображены двое юношей, обучающихся чтению и игре на лире. Справа сидит педагог (по-гречески "проводник мальчиков") - старый раб, который привел их в школ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504960" y="5184360"/>
            <a:ext cx="380844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Афинская школа. Рафа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Картинка 1 из 217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476280"/>
            <a:ext cx="5905440" cy="437688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82600" y="525132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Формирование здорового образа жизни в Афин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5041800" cy="203688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2"/>
          <a:srcRect l="5259" t="0" r="2735" b="0"/>
          <a:stretch/>
        </p:blipFill>
        <p:spPr>
          <a:xfrm>
            <a:off x="5796000" y="260280"/>
            <a:ext cx="2663640" cy="491508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3"/>
          <a:srcRect l="0" t="0" r="34" b="73"/>
          <a:stretch/>
        </p:blipFill>
        <p:spPr>
          <a:xfrm>
            <a:off x="250920" y="3068640"/>
            <a:ext cx="5041800" cy="185580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Мозговой штур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 общего и различного в системе воспитания Спарты и Афин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ОБЩЕ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РАЗЛИЧНО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92360" y="333360"/>
            <a:ext cx="69134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лимпийские игры и их влияние на формирование здорового образа жизн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4824360" cy="3899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435640" y="2565360"/>
            <a:ext cx="3600360" cy="3743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2519280" cy="41148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308720" y="0"/>
            <a:ext cx="1835280" cy="1679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187280" y="260280"/>
            <a:ext cx="1872000" cy="1562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924360" y="1844640"/>
            <a:ext cx="2504880" cy="24782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3995640" y="465300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6804000" y="1916280"/>
            <a:ext cx="234000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Мозговой штур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 Вы думаете, зачем греки соревновалис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Я считаю, что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684360" y="836640"/>
          <a:ext cx="311040" cy="212760"/>
        </p:xfrm>
        <a:graphic>
          <a:graphicData uri="http://schemas.openxmlformats.org/drawingml/2006/table">
            <a:tbl>
              <a:tblPr/>
              <a:tblGrid>
                <a:gridCol w="31104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5148360" y="260280"/>
            <a:ext cx="388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Кто определял участь ребёнка в Спар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48360" y="981000"/>
            <a:ext cx="37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На праздниках богини Артемиды, какие испытания  приходилось выдержать юнош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19640" y="1773360"/>
            <a:ext cx="362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Сколько лет было мальчикам когда их забирали у родителе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643280" y="8182080"/>
          <a:ext cx="2243160" cy="7466040"/>
        </p:xfrm>
        <a:graphic>
          <a:graphicData uri="http://schemas.openxmlformats.org/drawingml/2006/table">
            <a:tbl>
              <a:tblPr/>
              <a:tblGrid>
                <a:gridCol w="216000"/>
                <a:gridCol w="334080"/>
                <a:gridCol w="423360"/>
                <a:gridCol w="423360"/>
                <a:gridCol w="423360"/>
                <a:gridCol w="423000"/>
              </a:tblGrid>
              <a:tr h="7097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. Кого привлекли для обучения детей мудрости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5219640" y="2492280"/>
            <a:ext cx="360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Что было главной стимулирующей силой при воспитании молодёж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92720" y="3284640"/>
            <a:ext cx="345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Кто был автором системы воспитания в Спар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92720" y="4097160"/>
            <a:ext cx="331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Чьи произведения были образцом для воспитания молодежи Афи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00720" y="5300640"/>
            <a:ext cx="37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92720" y="4869000"/>
            <a:ext cx="385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Кто обязательно принимал участие в воспитании детей в Афина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71640" y="836640"/>
          <a:ext cx="2539800" cy="244440"/>
        </p:xfrm>
        <a:graphic>
          <a:graphicData uri="http://schemas.openxmlformats.org/drawingml/2006/table">
            <a:tbl>
              <a:tblPr/>
              <a:tblGrid>
                <a:gridCol w="253800"/>
                <a:gridCol w="253800"/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41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5219640" y="1484280"/>
          <a:ext cx="3167280" cy="252360"/>
        </p:xfrm>
        <a:graphic>
          <a:graphicData uri="http://schemas.openxmlformats.org/drawingml/2006/table">
            <a:tbl>
              <a:tblPr/>
              <a:tblGrid>
                <a:gridCol w="318600"/>
                <a:gridCol w="320040"/>
                <a:gridCol w="318600"/>
                <a:gridCol w="316800"/>
                <a:gridCol w="318600"/>
                <a:gridCol w="318600"/>
                <a:gridCol w="406440"/>
                <a:gridCol w="318600"/>
                <a:gridCol w="317160"/>
                <a:gridCol w="216000"/>
              </a:tblGrid>
              <a:tr h="25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292720" y="2205000"/>
          <a:ext cx="1541520" cy="243000"/>
        </p:xfrm>
        <a:graphic>
          <a:graphicData uri="http://schemas.openxmlformats.org/drawingml/2006/table">
            <a:tbl>
              <a:tblPr/>
              <a:tblGrid>
                <a:gridCol w="384120"/>
                <a:gridCol w="387360"/>
                <a:gridCol w="385920"/>
                <a:gridCol w="38412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971640" y="836640"/>
          <a:ext cx="271440" cy="971640"/>
        </p:xfrm>
        <a:graphic>
          <a:graphicData uri="http://schemas.openxmlformats.org/drawingml/2006/table">
            <a:tbl>
              <a:tblPr/>
              <a:tblGrid>
                <a:gridCol w="27144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1187280" y="2060640"/>
          <a:ext cx="3048120" cy="244440"/>
        </p:xfrm>
        <a:graphic>
          <a:graphicData uri="http://schemas.openxmlformats.org/drawingml/2006/table">
            <a:tbl>
              <a:tblPr/>
              <a:tblGrid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4160"/>
                <a:gridCol w="253800"/>
                <a:gridCol w="2541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5580000" y="2924280"/>
          <a:ext cx="3048120" cy="244440"/>
        </p:xfrm>
        <a:graphic>
          <a:graphicData uri="http://schemas.openxmlformats.org/drawingml/2006/table">
            <a:tbl>
              <a:tblPr/>
              <a:tblGrid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4160"/>
                <a:gridCol w="253800"/>
                <a:gridCol w="2541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148360" y="620640"/>
          <a:ext cx="2539800" cy="244440"/>
        </p:xfrm>
        <a:graphic>
          <a:graphicData uri="http://schemas.openxmlformats.org/drawingml/2006/table">
            <a:tbl>
              <a:tblPr/>
              <a:tblGrid>
                <a:gridCol w="253800"/>
                <a:gridCol w="254160"/>
                <a:gridCol w="253800"/>
                <a:gridCol w="254160"/>
                <a:gridCol w="254160"/>
                <a:gridCol w="253800"/>
                <a:gridCol w="254160"/>
                <a:gridCol w="237960"/>
                <a:gridCol w="270000"/>
                <a:gridCol w="2538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3708360" y="1773360"/>
          <a:ext cx="287280" cy="1549440"/>
        </p:xfrm>
        <a:graphic>
          <a:graphicData uri="http://schemas.openxmlformats.org/drawingml/2006/table">
            <a:tbl>
              <a:tblPr/>
              <a:tblGrid>
                <a:gridCol w="287280"/>
              </a:tblGrid>
              <a:tr h="28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5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5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55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5435640" y="3716280"/>
          <a:ext cx="1728720" cy="24444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9080"/>
                <a:gridCol w="28728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08360" y="3068640"/>
          <a:ext cx="1655640" cy="289080"/>
        </p:xfrm>
        <a:graphic>
          <a:graphicData uri="http://schemas.openxmlformats.org/drawingml/2006/table">
            <a:tbl>
              <a:tblPr/>
              <a:tblGrid>
                <a:gridCol w="287280"/>
                <a:gridCol w="216000"/>
                <a:gridCol w="241200"/>
                <a:gridCol w="301680"/>
                <a:gridCol w="304920"/>
                <a:gridCol w="304560"/>
              </a:tblGrid>
              <a:tr h="28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364000" y="4581360"/>
          <a:ext cx="1523880" cy="244440"/>
        </p:xfrm>
        <a:graphic>
          <a:graphicData uri="http://schemas.openxmlformats.org/drawingml/2006/table">
            <a:tbl>
              <a:tblPr/>
              <a:tblGrid>
                <a:gridCol w="254160"/>
                <a:gridCol w="253800"/>
                <a:gridCol w="254160"/>
                <a:gridCol w="253800"/>
                <a:gridCol w="254160"/>
                <a:gridCol w="2538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5435640" y="5373720"/>
          <a:ext cx="1778040" cy="244440"/>
        </p:xfrm>
        <a:graphic>
          <a:graphicData uri="http://schemas.openxmlformats.org/drawingml/2006/table">
            <a:tbl>
              <a:tblPr/>
              <a:tblGrid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908000" y="1341360"/>
          <a:ext cx="287640" cy="2286000"/>
        </p:xfrm>
        <a:graphic>
          <a:graphicData uri="http://schemas.openxmlformats.org/drawingml/2006/table">
            <a:tbl>
              <a:tblPr/>
              <a:tblGrid>
                <a:gridCol w="28764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8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77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547640" y="2852640"/>
          <a:ext cx="2016360" cy="243000"/>
        </p:xfrm>
        <a:graphic>
          <a:graphicData uri="http://schemas.openxmlformats.org/drawingml/2006/table">
            <a:tbl>
              <a:tblPr/>
              <a:tblGrid>
                <a:gridCol w="360360"/>
                <a:gridCol w="287640"/>
                <a:gridCol w="288720"/>
                <a:gridCol w="216000"/>
                <a:gridCol w="358920"/>
                <a:gridCol w="222120"/>
                <a:gridCol w="2826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547640" y="1341360"/>
          <a:ext cx="254160" cy="212760"/>
        </p:xfrm>
        <a:graphic>
          <a:graphicData uri="http://schemas.openxmlformats.org/drawingml/2006/table">
            <a:tbl>
              <a:tblPr/>
              <a:tblGrid>
                <a:gridCol w="25416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971640" y="620640"/>
          <a:ext cx="253800" cy="212760"/>
        </p:xfrm>
        <a:graphic>
          <a:graphicData uri="http://schemas.openxmlformats.org/drawingml/2006/table">
            <a:tbl>
              <a:tblPr/>
              <a:tblGrid>
                <a:gridCol w="25380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900000" y="2060640"/>
          <a:ext cx="254160" cy="212760"/>
        </p:xfrm>
        <a:graphic>
          <a:graphicData uri="http://schemas.openxmlformats.org/drawingml/2006/table">
            <a:tbl>
              <a:tblPr/>
              <a:tblGrid>
                <a:gridCol w="25416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780000" y="1557360"/>
          <a:ext cx="215640" cy="212760"/>
        </p:xfrm>
        <a:graphic>
          <a:graphicData uri="http://schemas.openxmlformats.org/drawingml/2006/table">
            <a:tbl>
              <a:tblPr/>
              <a:tblGrid>
                <a:gridCol w="21564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3492360" y="3338640"/>
          <a:ext cx="358560" cy="234360"/>
        </p:xfrm>
        <a:graphic>
          <a:graphicData uri="http://schemas.openxmlformats.org/drawingml/2006/table">
            <a:tbl>
              <a:tblPr/>
              <a:tblGrid>
                <a:gridCol w="358560"/>
              </a:tblGrid>
              <a:tr h="234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1332000" y="2997360"/>
          <a:ext cx="253800" cy="212400"/>
        </p:xfrm>
        <a:graphic>
          <a:graphicData uri="http://schemas.openxmlformats.org/drawingml/2006/table">
            <a:tbl>
              <a:tblPr/>
              <a:tblGrid>
                <a:gridCol w="25380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pic>
        <p:nvPicPr>
          <p:cNvPr id="177" name="Picture 1" descr="immortals-image"/>
          <p:cNvPicPr/>
          <p:nvPr/>
        </p:nvPicPr>
        <p:blipFill>
          <a:blip r:embed="rId1"/>
          <a:stretch/>
        </p:blipFill>
        <p:spPr>
          <a:xfrm>
            <a:off x="0" y="4221000"/>
            <a:ext cx="2600280" cy="2637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1908000" y="189000"/>
            <a:ext cx="2735280" cy="36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567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россвор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Творческое задание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ставьте сенка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 Олимпийские игр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Спартанское воспитани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. Афинское воспитани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529560"/>
            <a:ext cx="79930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Обучающие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изучить быт и традиции спартиатов и афинян; охарактеризовать особенности воспитания граждан в различных полисах древней Греции; сформировать у  учащихся представления о древних Олимпийских играх; познакомить учащихся с историческими источниками, позволяющими получить необходимую информацию; обеспечивать необходимой информацией для формирования стратегий и технологий, позволяющих сохранять и укреплять здоров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Развивающие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родолжить формирование умений анализировать исторические факты, обобщать отдельные события и формулировать несложные выводы, логически мыслить, высказывать свою точку зрения; формулировать эмоционально-оценочные суждения; развивать умения работать с дополнительным историческим материалом, формирование культуры здоровья через содержание учебного матери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Воспитательные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воспитание гражданственности, интереса к истории древнего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708360" y="115920"/>
            <a:ext cx="2592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Це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Эвристическая бесед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чему мы сегодня коснулись вопросов воспитания в полисах Древней Греци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182600" y="692280"/>
            <a:ext cx="77724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анный этап урока проводится с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использованием ИКТ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презентация). Используются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формы групповой работы и опережающего обучени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; интерактивные методы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мозговой штурм, метод противоречивых проблем, дискуссия,  игровые методы, эвристическая беседа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чащиеся самостоятельно готовят задания в группах.  Каждая группа получила зада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группа «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собенности спартанского воспитания и здоровый образ жизн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группа  «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собенности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афинского воспитания и здоровый образ жизн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группа «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лимпийские игры и их влияние на формирование здорового образа жизн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476280"/>
            <a:ext cx="778500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Особенности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спартанского воспитания и здоровый образ жизн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6360" y="2386080"/>
            <a:ext cx="6120000" cy="36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" descr="Картинка 6 из 104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0" y="4046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0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269080" y="2276640"/>
            <a:ext cx="443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" descr="Картинка 7 из 107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0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ДИСКУСС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63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читаете ли Вы спартанское воспитание образцовым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а, я считаю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т, я не считаю, потому что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17:09:08Z</dcterms:created>
  <dc:creator>SERGEY</dc:creator>
  <dc:description/>
  <dc:language>en-US</dc:language>
  <cp:lastModifiedBy>ктось</cp:lastModifiedBy>
  <dcterms:modified xsi:type="dcterms:W3CDTF">2012-03-04T06:07:25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f000000000001024140</vt:lpwstr>
  </property>
</Properties>
</file>