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E5C-E13E-48FB-A3EB-33EBD40F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4E9-026A-40C6-9D60-6ACEE1A4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AB1-A1E7-4D63-BF38-E6D7013C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5C8-0FC4-4B4B-B3EE-1D96B45A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AC39-4BB8-4152-89AD-A7C4322C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C224-62FD-4068-AF3F-49C563D0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4D1D-C734-45B5-B629-86489950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4F60-1205-4B61-AEFC-6488E890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585C-EEFF-430E-B775-907C8CD3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71A7-ADE9-471F-937B-4E408147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97DE-1EE7-4C27-B0C9-A50BC5AC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ED7-31A7-4E1A-82BB-792C6055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FDEB-443F-4A34-93CF-7556DFA5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4AD4-0701-4753-93FB-C7649163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1536-1EAE-4CA8-A702-DDE5D91C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3E38-7B56-4D6F-BF71-AA544863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8E9C-BE6D-4B39-8917-3B86F32C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C73-445A-4710-8600-D5A7BF1E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655-2A59-4056-BDF7-7B0700BD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80E-9181-4A3A-B4E5-3059989B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02F-B6D1-4F5A-B3A3-C3133016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DF1-4FBD-46A3-8EB0-09B83710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F2F-4DCB-44D8-B89F-7A1B0D68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A56-343D-43A2-9CC8-0CEFA8F3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5B46-BBC0-47E8-9CD7-F3E3544182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0A0C-58A7-4412-8F6A-DB109ADDC3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chemuha.ru/wp-content/uploads/2011/04/Atticheskaya-vaz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ritton.disted.camosun.bc.ca/goldslide/school_athen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40000" y="5516280"/>
            <a:ext cx="482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рок истории в 6 класс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дготовил учитель истории Котенко Н.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90792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собенности воспитания в греческих полис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221000"/>
            <a:ext cx="3492360" cy="263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43640" y="2349360"/>
            <a:ext cx="2276640" cy="3211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95640" y="2349360"/>
            <a:ext cx="25718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0" b="16"/>
          <a:stretch/>
        </p:blipFill>
        <p:spPr>
          <a:xfrm>
            <a:off x="971640" y="1916280"/>
            <a:ext cx="6840360" cy="45241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39640" y="5300640"/>
            <a:ext cx="8229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8900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финского воспитания и здоровый образ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Аттическая ва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5648400" cy="39337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0" y="4229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7 до 18 лет афинские юноши посещали частные школы, где учились читать и писать; там преподавали также искусства, науки и законодательство. На картинке выше на аттической вазе (около 480 года до Р. Хр.) изображены двое юношей, обучающихся чтению и игре на лире. Справа сидит педагог (по-гречески "проводник мальчиков") - старый раб, который привел их в школ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504960" y="5184360"/>
            <a:ext cx="38084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Афинская школа. Рафа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Картинка 1 из 21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476280"/>
            <a:ext cx="5905440" cy="43768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2600" y="525132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ирование здорового образа жизни в Афин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5041800" cy="20368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5259" t="0" r="2735" b="0"/>
          <a:stretch/>
        </p:blipFill>
        <p:spPr>
          <a:xfrm>
            <a:off x="5796000" y="260280"/>
            <a:ext cx="2663640" cy="49150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0" t="0" r="34" b="73"/>
          <a:stretch/>
        </p:blipFill>
        <p:spPr>
          <a:xfrm>
            <a:off x="250920" y="3068640"/>
            <a:ext cx="5041800" cy="185580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общего и различного в системе воспитания Спарты и Афин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БЩЕ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РАЗЛИЧН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92360" y="333360"/>
            <a:ext cx="6913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лимпийские игры и их влияние на формирование здорового образа жиз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824360" cy="389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3600360" cy="37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51928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679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187280" y="260280"/>
            <a:ext cx="1872000" cy="1562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924360" y="1844640"/>
            <a:ext cx="2504880" cy="247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995640" y="465300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804000" y="1916280"/>
            <a:ext cx="2340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Вы думаете, зачем греки соревновалис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Я считаю, ч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84360" y="836640"/>
          <a:ext cx="311040" cy="212760"/>
        </p:xfrm>
        <a:graphic>
          <a:graphicData uri="http://schemas.openxmlformats.org/drawingml/2006/table">
            <a:tbl>
              <a:tblPr/>
              <a:tblGrid>
                <a:gridCol w="3110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148360" y="260280"/>
            <a:ext cx="388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Кто определял участь ребёнка в Сп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981000"/>
            <a:ext cx="37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На праздниках богини Артемиды, какие испытания  приходилось выдержать юнош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73360"/>
            <a:ext cx="362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Сколько лет было мальчикам когда их забирали у родител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43280" y="8182080"/>
          <a:ext cx="2243160" cy="7466040"/>
        </p:xfrm>
        <a:graphic>
          <a:graphicData uri="http://schemas.openxmlformats.org/drawingml/2006/table">
            <a:tbl>
              <a:tblPr/>
              <a:tblGrid>
                <a:gridCol w="216000"/>
                <a:gridCol w="334080"/>
                <a:gridCol w="423360"/>
                <a:gridCol w="423360"/>
                <a:gridCol w="423360"/>
                <a:gridCol w="423000"/>
              </a:tblGrid>
              <a:tr h="709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. Кого привлекли для обучения детей мудрости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5219640" y="2492280"/>
            <a:ext cx="360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Что было главной стимулирующей силой при воспитании молодёж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3284640"/>
            <a:ext cx="345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Кто был автором системы воспитания в Сп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4097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Чьи произведения были образцом для воспитания молодежи Афи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00720" y="5300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869000"/>
            <a:ext cx="385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Кто обязательно принимал участие в воспитании детей в Афи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71640" y="836640"/>
          <a:ext cx="2539800" cy="244440"/>
        </p:xfrm>
        <a:graphic>
          <a:graphicData uri="http://schemas.openxmlformats.org/drawingml/2006/table">
            <a:tbl>
              <a:tblPr/>
              <a:tblGrid>
                <a:gridCol w="25380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219640" y="1484280"/>
          <a:ext cx="3167280" cy="252360"/>
        </p:xfrm>
        <a:graphic>
          <a:graphicData uri="http://schemas.openxmlformats.org/drawingml/2006/table">
            <a:tbl>
              <a:tblPr/>
              <a:tblGrid>
                <a:gridCol w="318600"/>
                <a:gridCol w="320040"/>
                <a:gridCol w="318600"/>
                <a:gridCol w="316800"/>
                <a:gridCol w="318600"/>
                <a:gridCol w="318600"/>
                <a:gridCol w="406440"/>
                <a:gridCol w="318600"/>
                <a:gridCol w="317160"/>
                <a:gridCol w="216000"/>
              </a:tblGrid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292720" y="2205000"/>
          <a:ext cx="1541520" cy="24300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5920"/>
                <a:gridCol w="3841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971640" y="836640"/>
          <a:ext cx="271440" cy="971640"/>
        </p:xfrm>
        <a:graphic>
          <a:graphicData uri="http://schemas.openxmlformats.org/drawingml/2006/table">
            <a:tbl>
              <a:tblPr/>
              <a:tblGrid>
                <a:gridCol w="2714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187280" y="2060640"/>
          <a:ext cx="304812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580000" y="2924280"/>
          <a:ext cx="304812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148360" y="620640"/>
          <a:ext cx="2539800" cy="244440"/>
        </p:xfrm>
        <a:graphic>
          <a:graphicData uri="http://schemas.openxmlformats.org/drawingml/2006/table">
            <a:tbl>
              <a:tblPr/>
              <a:tblGrid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  <a:gridCol w="237960"/>
                <a:gridCol w="270000"/>
                <a:gridCol w="253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708360" y="1773360"/>
          <a:ext cx="287280" cy="15494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28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435640" y="3716280"/>
          <a:ext cx="1728720" cy="2444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9080"/>
                <a:gridCol w="2872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08360" y="3068640"/>
          <a:ext cx="1655640" cy="289080"/>
        </p:xfrm>
        <a:graphic>
          <a:graphicData uri="http://schemas.openxmlformats.org/drawingml/2006/table">
            <a:tbl>
              <a:tblPr/>
              <a:tblGrid>
                <a:gridCol w="287280"/>
                <a:gridCol w="216000"/>
                <a:gridCol w="241200"/>
                <a:gridCol w="301680"/>
                <a:gridCol w="304920"/>
                <a:gridCol w="304560"/>
              </a:tblGrid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364000" y="4581360"/>
          <a:ext cx="152388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435640" y="5373720"/>
          <a:ext cx="177804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908000" y="1341360"/>
          <a:ext cx="287640" cy="2286000"/>
        </p:xfrm>
        <a:graphic>
          <a:graphicData uri="http://schemas.openxmlformats.org/drawingml/2006/table">
            <a:tbl>
              <a:tblPr/>
              <a:tblGrid>
                <a:gridCol w="2876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547640" y="2852640"/>
          <a:ext cx="2016360" cy="243000"/>
        </p:xfrm>
        <a:graphic>
          <a:graphicData uri="http://schemas.openxmlformats.org/drawingml/2006/table">
            <a:tbl>
              <a:tblPr/>
              <a:tblGrid>
                <a:gridCol w="360360"/>
                <a:gridCol w="287640"/>
                <a:gridCol w="288720"/>
                <a:gridCol w="216000"/>
                <a:gridCol w="358920"/>
                <a:gridCol w="222120"/>
                <a:gridCol w="2826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547640" y="1341360"/>
          <a:ext cx="254160" cy="2127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971640" y="620640"/>
          <a:ext cx="253800" cy="212760"/>
        </p:xfrm>
        <a:graphic>
          <a:graphicData uri="http://schemas.openxmlformats.org/drawingml/2006/table">
            <a:tbl>
              <a:tblPr/>
              <a:tblGrid>
                <a:gridCol w="25380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900000" y="2060640"/>
          <a:ext cx="254160" cy="2127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780000" y="1557360"/>
          <a:ext cx="215640" cy="212760"/>
        </p:xfrm>
        <a:graphic>
          <a:graphicData uri="http://schemas.openxmlformats.org/drawingml/2006/table">
            <a:tbl>
              <a:tblPr/>
              <a:tblGrid>
                <a:gridCol w="2156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92360" y="3338640"/>
          <a:ext cx="358560" cy="234360"/>
        </p:xfrm>
        <a:graphic>
          <a:graphicData uri="http://schemas.openxmlformats.org/drawingml/2006/table">
            <a:tbl>
              <a:tblPr/>
              <a:tblGrid>
                <a:gridCol w="358560"/>
              </a:tblGrid>
              <a:tr h="23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332000" y="2997360"/>
          <a:ext cx="253800" cy="212400"/>
        </p:xfrm>
        <a:graphic>
          <a:graphicData uri="http://schemas.openxmlformats.org/drawingml/2006/table">
            <a:tbl>
              <a:tblPr/>
              <a:tblGrid>
                <a:gridCol w="25380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1" descr="immortals-image"/>
          <p:cNvPicPr/>
          <p:nvPr/>
        </p:nvPicPr>
        <p:blipFill>
          <a:blip r:embed="rId1"/>
          <a:stretch/>
        </p:blipFill>
        <p:spPr>
          <a:xfrm>
            <a:off x="0" y="4221000"/>
            <a:ext cx="2600280" cy="2637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908000" y="189000"/>
            <a:ext cx="273528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6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оссво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Творческое задание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авьте сенк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Олимпийские игр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партанское воспит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Афинское воспита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529560"/>
            <a:ext cx="7993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Обучающи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изучить быт и традиции спартиатов и афинян; охарактеризовать особенности воспитания граждан в различных полисах древней Греции; сформировать у  учащихся представления о древних Олимпийских играх; познакомить учащихся с историческими источниками, позволяющими получить необходимую информацию; обеспечивать необходимой информацией для формирования стратегий и технологий, позволяющих сохранять и укреплять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Развивающи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одолжить формирование умений анализировать исторические факты, обобщать отдельные события и формулировать несложные выводы, логически мыслить, высказывать свою точку зрения; формулировать эмоционально-оценочные суждения; развивать умения работать с дополнительным историческим материалом, формирование культуры здоровья через содержание учебного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Воспитательны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спитание гражданственности, интереса к истории древне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08360" y="115920"/>
            <a:ext cx="259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Эвристическая бесе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чему мы сегодня коснулись вопросов воспитания в полисах Древней Грец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нный этап урока проводится с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спользованием ИК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презентация). Используются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ормы групповой работы и опережающего обуче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; интерактивные методы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озговой штурм, метод противоречивых проблем, дискуссия,  игровые методы, эвристическая беседа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ащиеся самостоятельно готовят задания в группах.  Каждая группа получила 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группа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собенности спартанского воспитания и 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группа  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финского воспитания и 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группа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лимпийские игры и их влияние на формирование здорового образа жизн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7850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партанского воспитания и здоровый образ жизн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2386080"/>
            <a:ext cx="612000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Картинка 6 из 10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269080" y="2276640"/>
            <a:ext cx="44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Картинка 7 из 107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ИСКУС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6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читаете ли Вы спартанское воспитание образцов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а, я считаю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т, я не считаю, потому ч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7:09:08Z</dcterms:created>
  <dc:creator>SERGEY</dc:creator>
  <dc:description/>
  <dc:language>en-US</dc:language>
  <cp:lastModifiedBy>ктось</cp:lastModifiedBy>
  <dcterms:modified xsi:type="dcterms:W3CDTF">2012-03-04T06:07:2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f000000000001024140</vt:lpwstr>
  </property>
</Properties>
</file>