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7.jpeg" ContentType="image/jpeg"/>
  <Override PartName="/ppt/media/image20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png" ContentType="image/png"/>
  <Override PartName="/ppt/media/image15.png" ContentType="image/png"/>
  <Override PartName="/ppt/media/image14.jpeg" ContentType="image/jpeg"/>
  <Override PartName="/ppt/media/image2.png" ContentType="image/png"/>
  <Override PartName="/ppt/media/image9.jpeg" ContentType="image/jpeg"/>
  <Override PartName="/ppt/media/image22.jpeg" ContentType="image/jpeg"/>
  <Override PartName="/ppt/media/image1.jpeg" ContentType="image/jpeg"/>
  <Override PartName="/ppt/media/image3.png" ContentType="image/png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7638-E0B9-4E6F-AA8E-60D1E6D36E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D2B3-2E8C-4BAB-9F23-5A76173E2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2E64F-9303-4748-81C5-C086B0918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07A8-3B32-450F-9502-C524594C1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1466D-1E27-4122-AB19-2DE5706F5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06DDF0-1425-47C8-BDC8-2B5684F3C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9E5D-884F-4A47-98F3-D039D3FCD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4CB8F-AA85-4CAB-9F84-C024644593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57679-02B8-4D28-A8F6-24340B8B6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36F8D0-AFEF-4CFC-8781-9852F3606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F02C1-7798-4281-A9DA-385584352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45BDF-19E8-4F6B-B6EB-8C2C6E673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82E34-826A-42B7-B632-BD0216358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247E6-8FED-44AE-89D4-9DC56E005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B2D95-81DE-4438-B56B-77F8D3A01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F1500D-C154-45FF-911C-4EBDA591E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E2CD7-FA10-42C6-92A0-3BB05A056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1AB6F-7AF0-428C-838B-D8854DB85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64488-5655-49EC-B9AA-31DF4AAE2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6C5B0-8A46-4D15-86BF-F447B915A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3971-C0E1-47DD-9491-68D7FC58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BC868-7543-452C-9890-FAFF701D2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67FC-AC49-4AAD-BEEA-DA8CD461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DCA7-C956-4166-8E2E-17C668294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638379-1C02-4FDE-8EB9-375BE4BFE2D6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4F382-72BA-446B-9A4F-45991E69DAED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1133640" y="244440"/>
            <a:ext cx="6771960" cy="98748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96524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После революции 1848-1849гг. Италия оставалась раздробленной (+/-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5080" y="1534680"/>
            <a:ext cx="3713040" cy="196524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Центром объединения Италии в это время становится Рим (+/-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00040" y="3928680"/>
            <a:ext cx="3997440" cy="219708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Основой  развития промышленности Северной Италии являлось производство шелка (+/-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714560" y="3928680"/>
            <a:ext cx="3686040" cy="219708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Милан в это время являлся одним из центров ж/д строительства (+/-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4" dur="2000" fill="hold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" dur="20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" dur="2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0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5400720" cy="622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Рисунок 3" descr="514px-DBP_150._Geburtstag_Otto_von_Bismarck_20_Pfennig_1965.jpg"/>
          <p:cNvPicPr/>
          <p:nvPr/>
        </p:nvPicPr>
        <p:blipFill>
          <a:blip r:embed="rId2"/>
          <a:stretch/>
        </p:blipFill>
        <p:spPr>
          <a:xfrm>
            <a:off x="714240" y="571680"/>
            <a:ext cx="492948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4971960" cy="63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Рисунок 2" descr="Bismarck1836.jpg"/>
          <p:cNvPicPr/>
          <p:nvPr/>
        </p:nvPicPr>
        <p:blipFill>
          <a:blip r:embed="rId2"/>
          <a:stretch/>
        </p:blipFill>
        <p:spPr>
          <a:xfrm>
            <a:off x="500040" y="357120"/>
            <a:ext cx="4857840" cy="64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115040" cy="62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Рисунок 2" descr="685px-Бисмарк_с_супругой.jpg"/>
          <p:cNvPicPr/>
          <p:nvPr/>
        </p:nvPicPr>
        <p:blipFill>
          <a:blip r:embed="rId2"/>
          <a:stretch/>
        </p:blipFill>
        <p:spPr>
          <a:xfrm>
            <a:off x="571680" y="428760"/>
            <a:ext cx="6929280" cy="606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42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-829080"/>
            <a:ext cx="8229600" cy="6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357120" y="285840"/>
            <a:ext cx="4138560" cy="62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648320" y="285480"/>
            <a:ext cx="4209840" cy="635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imes New Roman"/>
              </a:rPr>
              <a:t>Бисмарк: "Стена каменная. Мой лоб — не железный. Чего ради я буду биться об неё?"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7" name="Picture 2" descr="C:\Documents and Settings\Admin\Рабочий стол\432px-Бисмарк_-реалист.jpg"/>
          <p:cNvPicPr/>
          <p:nvPr/>
        </p:nvPicPr>
        <p:blipFill>
          <a:blip r:embed="rId2"/>
          <a:stretch/>
        </p:blipFill>
        <p:spPr>
          <a:xfrm>
            <a:off x="357120" y="285840"/>
            <a:ext cx="4572000" cy="63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2"/>
          <a:stretch/>
        </p:blipFill>
        <p:spPr>
          <a:xfrm>
            <a:off x="334800" y="566640"/>
            <a:ext cx="8528040" cy="193212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subTitle"/>
          </p:nvPr>
        </p:nvSpPr>
        <p:spPr>
          <a:xfrm>
            <a:off x="428400" y="2500200"/>
            <a:ext cx="8358120" cy="41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0" name="Picture 2" descr="C:\Documents and Settings\Admin\Рабочий стол\800px-German_Headquarters_in_Versailles._1870_.jpg"/>
          <p:cNvPicPr/>
          <p:nvPr/>
        </p:nvPicPr>
        <p:blipFill>
          <a:blip r:embed="rId3"/>
          <a:stretch/>
        </p:blipFill>
        <p:spPr>
          <a:xfrm>
            <a:off x="1428840" y="2428920"/>
            <a:ext cx="600084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2" dur="2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7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Заголовок 1" descr=""/>
          <p:cNvPicPr/>
          <p:nvPr/>
        </p:nvPicPr>
        <p:blipFill>
          <a:blip r:embed="rId2"/>
          <a:stretch/>
        </p:blipFill>
        <p:spPr>
          <a:xfrm>
            <a:off x="371520" y="212760"/>
            <a:ext cx="4767120" cy="12445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456840" y="1571400"/>
            <a:ext cx="354348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857840" y="272520"/>
            <a:ext cx="382896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Учись так, как будто тебе предстоит жить вечно; живи так, как будто тебе предстоит умереть завтра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marL="531000" indent="-398520"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Picture 2" descr=""/>
          <p:cNvPicPr/>
          <p:nvPr/>
        </p:nvPicPr>
        <p:blipFill>
          <a:blip r:embed="rId3"/>
          <a:stretch/>
        </p:blipFill>
        <p:spPr>
          <a:xfrm>
            <a:off x="500040" y="157176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78" dur="2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3" dur="500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Заголовок 1" descr=""/>
          <p:cNvPicPr/>
          <p:nvPr/>
        </p:nvPicPr>
        <p:blipFill>
          <a:blip r:embed="rId2"/>
          <a:stretch/>
        </p:blipFill>
        <p:spPr>
          <a:xfrm>
            <a:off x="371520" y="268200"/>
            <a:ext cx="3865680" cy="117000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071600" y="272520"/>
            <a:ext cx="461484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Стоит только посадить Германию в седло, а уж поскакать она сумеет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3"/>
          <a:stretch/>
        </p:blipFill>
        <p:spPr>
          <a:xfrm>
            <a:off x="500040" y="1500120"/>
            <a:ext cx="344808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49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9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Заголовок 1" descr=""/>
          <p:cNvPicPr/>
          <p:nvPr/>
        </p:nvPicPr>
        <p:blipFill>
          <a:blip r:embed="rId2"/>
          <a:stretch/>
        </p:blipFill>
        <p:spPr>
          <a:xfrm>
            <a:off x="353880" y="268200"/>
            <a:ext cx="3589560" cy="117000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929040" y="272520"/>
            <a:ext cx="4757760" cy="58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Революцию подготавливают гении, осуществляют фанатики, а плодами ее пользуются проходимцы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2" name="Picture 2" descr=""/>
          <p:cNvPicPr/>
          <p:nvPr/>
        </p:nvPicPr>
        <p:blipFill>
          <a:blip r:embed="rId3"/>
          <a:stretch/>
        </p:blipFill>
        <p:spPr>
          <a:xfrm>
            <a:off x="357120" y="1500120"/>
            <a:ext cx="34290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10" dur="2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5" dur="500"/>
                                        <p:tgtEl>
                                          <p:spTgt spid="1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63600"/>
            <a:ext cx="3008160" cy="116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2200" spc="-1" strike="noStrike">
              <a:solidFill>
                <a:srgbClr val="c3d5b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57120" y="3214440"/>
            <a:ext cx="4500720" cy="29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Times New Roman"/>
              </a:rPr>
              <a:t>Карикатура на бисмаркскую политику «культуркампф»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5214960" y="285480"/>
            <a:ext cx="3471840" cy="584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Берегитесь всегда строить воздушные замки, потому что хотя эти постройки легче всех других возводятся, но тяжелее всего разрушаются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6" name="Picture 2" descr=""/>
          <p:cNvPicPr/>
          <p:nvPr/>
        </p:nvPicPr>
        <p:blipFill>
          <a:blip r:embed="rId2"/>
          <a:stretch/>
        </p:blipFill>
        <p:spPr>
          <a:xfrm>
            <a:off x="357120" y="285840"/>
            <a:ext cx="4552920" cy="28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2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26" dur="2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1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4340520" cy="117000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57200" y="1523880"/>
            <a:ext cx="300816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5000400" y="272520"/>
            <a:ext cx="3686040" cy="601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Times New Roman"/>
              </a:rPr>
              <a:t>Никогда столько не лгут, как во время войны, после охоты и до выборов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11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3"/>
          <a:stretch/>
        </p:blipFill>
        <p:spPr>
          <a:xfrm>
            <a:off x="500040" y="1500120"/>
            <a:ext cx="4384800" cy="478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8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42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7" dur="5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-57168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57120" y="356760"/>
            <a:ext cx="3968640" cy="207180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Правящей династией Пьемонта являлас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Бурбо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Савой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Каролинг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3280" y="928800"/>
            <a:ext cx="4042080" cy="207144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6. К.Кавур являлся премьер-министром Пьемонта с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А) 185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Б) 183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) 187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85840" y="2928600"/>
            <a:ext cx="4039920" cy="335772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7. Представителем  республиканских демократов  Италии являл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К.Каву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 Д.Мадзи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Д. Гаррибаль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642920" y="3499920"/>
            <a:ext cx="4186440" cy="335772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8. «Итальянское национальное общество » являлось центральной организацией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умеренных демокр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республиканских демокр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монахис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0040" y="571680"/>
            <a:ext cx="3643200" cy="59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800" spc="-1" strike="noStrike">
              <a:solidFill>
                <a:srgbClr val="b1c19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642920" y="642960"/>
            <a:ext cx="4071960" cy="585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Отто Эдуард Леопольд фон Бисмарк-Шёнхаузен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7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0" lang="en-US" sz="4000" spc="-1" strike="noStrike">
                <a:solidFill>
                  <a:srgbClr val="ffffff"/>
                </a:solidFill>
                <a:latin typeface="Book Antiqua"/>
              </a:rPr>
              <a:t> 1 </a:t>
            </a:r>
            <a:r>
              <a:rPr b="0" lang="ru-RU" sz="4000" spc="-1" strike="noStrike">
                <a:solidFill>
                  <a:srgbClr val="ffffff"/>
                </a:solidFill>
                <a:latin typeface="Times New Roman"/>
              </a:rPr>
              <a:t>апреля 1815 — 30 июля 1898 года)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2"/>
          <a:stretch/>
        </p:blipFill>
        <p:spPr>
          <a:xfrm>
            <a:off x="428760" y="571680"/>
            <a:ext cx="3643200" cy="59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3" dur="2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57" dur="2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61" dur="2000" fill="hold"/>
                                        <p:tgtEl>
                                          <p:spTgt spid="1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-1214280"/>
            <a:ext cx="8229600" cy="14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4040280" cy="192888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Как назывались отряды, подчинявшиеся Горрибальд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4560" y="214200"/>
            <a:ext cx="4041720" cy="185760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. Почему Кавур не поддержал восстание в Палермо в апреле  1860г.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28760" y="4500360"/>
            <a:ext cx="4039920" cy="199548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1. Когда состоялся референдум о переходе Южной Италии под власть Савойской династии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857480" y="2928960"/>
            <a:ext cx="4041720" cy="220968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2.Какая война в конечном итоге способствовала созданию Объединенного  итальянского королевства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2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2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2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Заголовок 1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6235920"/>
          </a:xfrm>
          <a:prstGeom prst="rect">
            <a:avLst/>
          </a:prstGeom>
          <a:ln w="0">
            <a:noFill/>
          </a:ln>
        </p:spPr>
      </p:pic>
    </p:spTree>
  </p:cSld>
  <p:transition>
    <p:newsflash/>
  </p:transition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6840" y="1534680"/>
            <a:ext cx="4040280" cy="196524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. После революции 1848-1849гг. Италия оставалась раздробленной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/-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5080" y="1534680"/>
            <a:ext cx="3713040" cy="196524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2. Центром объединения Италии в это время становится Рим (+/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500040" y="3928680"/>
            <a:ext cx="3997440" cy="219708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3. Основой  развития промышленности Северной Италии являлось производство шелка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/-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714560" y="3928680"/>
            <a:ext cx="3686040" cy="219708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4. Милан в это время являлся одним из центров ж/д строительства (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+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/-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2" name="Заголовок 6" descr=""/>
          <p:cNvPicPr/>
          <p:nvPr/>
        </p:nvPicPr>
        <p:blipFill>
          <a:blip r:embed="rId2"/>
          <a:stretch/>
        </p:blipFill>
        <p:spPr>
          <a:xfrm>
            <a:off x="450720" y="268200"/>
            <a:ext cx="8242560" cy="1152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571680"/>
            <a:ext cx="82296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57120" y="356760"/>
            <a:ext cx="3968640" cy="207180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5.Правящей династией Пьемонта являлась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Бурбоны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) Савойска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Каролинг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43280" y="928800"/>
            <a:ext cx="4042080" cy="207144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6. К.Кавур являлся премьер-министром Пьемонта с 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0000"/>
                </a:solidFill>
                <a:latin typeface="Times New Roman"/>
              </a:rPr>
              <a:t>А) 185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Б) 1830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В) 1876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285840" y="2928600"/>
            <a:ext cx="4039920" cy="335772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7. Представителем  республиканских демократов  Италии являлс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А) К.Кавур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Б) Д.Мадзин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Д. Гаррибальд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642920" y="3499920"/>
            <a:ext cx="4186440" cy="335772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8. 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«Итальянское национальное общество » являлось центральной организацией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А) умеренных демокр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Б)республиканских демокра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) монархистов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3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8" dur="5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3" dur="5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8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8" dur="500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8" dur="5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3" dur="5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3" dur="5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3" dur="500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-1214280"/>
            <a:ext cx="8229600" cy="148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56760" y="1857240"/>
            <a:ext cx="4040280" cy="192888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9. Как назывались отряды, подчинявшиеся Горрибальди?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 «красная тысяча»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714560" y="214200"/>
            <a:ext cx="4041720" cy="185760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0. Почему Кавур не поддержал восстание в Палермо в апреле  1860г.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Он был крупным землевладельце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28760" y="4500360"/>
            <a:ext cx="4039920" cy="199548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11. Когда состоялся референдум о переходе Южной Италии под власть Савойской династии? 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</a:rPr>
              <a:t>187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857480" y="2928960"/>
            <a:ext cx="4041720" cy="2209680"/>
          </a:xfrm>
          <a:prstGeom prst="rect">
            <a:avLst/>
          </a:prstGeom>
          <a:solidFill>
            <a:srgbClr val="ff94bf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</a:rPr>
              <a:t>12.Какая война в конечном итоге способствовала созданию Объединенного  итальянского королевства? 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</a:rPr>
              <a:t>Франко-прусская 1870-1871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0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5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0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7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0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5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5" dur="5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22280" y="1213920"/>
            <a:ext cx="8229600" cy="19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3321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Прямоугольник 3" descr=""/>
          <p:cNvPicPr/>
          <p:nvPr/>
        </p:nvPicPr>
        <p:blipFill>
          <a:blip r:embed="rId2"/>
          <a:stretch/>
        </p:blipFill>
        <p:spPr>
          <a:xfrm>
            <a:off x="-36360" y="974880"/>
            <a:ext cx="9051840" cy="5565600"/>
          </a:xfrm>
          <a:prstGeom prst="rect">
            <a:avLst/>
          </a:prstGeom>
          <a:ln w="0">
            <a:noFill/>
          </a:ln>
        </p:spPr>
      </p:pic>
    </p:spTree>
  </p:cSld>
  <p:transition spd="slow">
    <p:comb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Заголовок 1" descr=""/>
          <p:cNvPicPr/>
          <p:nvPr/>
        </p:nvPicPr>
        <p:blipFill>
          <a:blip r:embed="rId2"/>
          <a:stretch/>
        </p:blipFill>
        <p:spPr>
          <a:xfrm>
            <a:off x="-36360" y="244440"/>
            <a:ext cx="7412040" cy="112068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356760" y="1357200"/>
            <a:ext cx="7086600" cy="514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308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0012"/>
                </a:solidFill>
                <a:latin typeface="Times New Roman"/>
              </a:rPr>
              <a:t>Раскрыть особенности объединительного процесса в Германии, проанализировать его последствия;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0012"/>
                </a:solidFill>
                <a:latin typeface="Times New Roman"/>
              </a:rPr>
              <a:t>Охарактеризовать  личность Отто фон Бисмарка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0012"/>
                </a:solidFill>
                <a:latin typeface="Times New Roman"/>
              </a:rPr>
              <a:t>Сформировать  умение прослеживать  причинно-следственные связи, работать с исторической картой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73080">
              <a:spcBef>
                <a:spcPts val="601"/>
              </a:spcBef>
              <a:buClr>
                <a:srgbClr val="f9f9f9"/>
              </a:buClr>
              <a:buSzPct val="6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d0012"/>
                </a:solidFill>
                <a:latin typeface="Times New Roman"/>
              </a:rPr>
              <a:t>На основе конкретного материала  развивать личностное отношение к отдельным историческим событиям, процессам, деятелям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wheel spokes="2"/>
  </p:transition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01" dur="2000" fill="hold"/>
                                        <p:tgtEl>
                                          <p:spTgt spid="1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6" dur="5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1" dur="5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6" dur="5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3T17:52:58Z</dcterms:created>
  <dc:creator>Admin</dc:creator>
  <dc:description/>
  <dc:language>en-US</dc:language>
  <cp:lastModifiedBy>Admin</cp:lastModifiedBy>
  <dcterms:modified xsi:type="dcterms:W3CDTF">2011-10-27T07:52:56Z</dcterms:modified>
  <cp:revision>33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c21000000000001024140</vt:lpwstr>
  </property>
</Properties>
</file>