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5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22.jpeg" ContentType="image/jpeg"/>
  <Override PartName="/ppt/media/image4.gif" ContentType="image/gif"/>
  <Override PartName="/ppt/media/image33.jpeg" ContentType="image/jpeg"/>
  <Override PartName="/ppt/media/image27.jpeg" ContentType="image/jpeg"/>
  <Override PartName="/ppt/media/image6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8.jpeg" ContentType="image/jpeg"/>
  <Override PartName="/ppt/media/image47.jpeg" ContentType="image/jpeg"/>
  <Override PartName="/ppt/media/image52.jpeg" ContentType="image/jpeg"/>
  <Override PartName="/ppt/media/image37.jpeg" ContentType="image/jpeg"/>
  <Override PartName="/ppt/media/image12.jpeg" ContentType="image/jpeg"/>
  <Override PartName="/ppt/media/image50.gif" ContentType="image/gif"/>
  <Override PartName="/ppt/media/image53.wmf" ContentType="image/x-wmf"/>
  <Override PartName="/ppt/media/image54.jpeg" ContentType="image/jpeg"/>
  <Override PartName="/ppt/media/image49.jpeg" ContentType="image/jpeg"/>
  <Override PartName="/ppt/media/image34.jpeg" ContentType="image/jpeg"/>
  <Override PartName="/ppt/media/image2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51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C0B1-F018-47DE-A676-9A76C3ED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6F3D-6C16-450C-A844-6B7F43E6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84D0-AE80-4501-A1B8-5B3CA271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04D5-0435-41DE-A726-BA01A326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F82F-FEC7-4FE8-93AA-B76FE9FA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35D2-C506-47FE-AD74-3E7794BC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CC36-6A6F-4342-82DC-ADC741DB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7721-EC4D-439C-AC4C-C1FB6943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55BC-2A28-4AF9-8B2D-E24F8DC9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557A-EDBA-4EFE-A6B1-688ED1FB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AB08-4958-4F62-8942-A4EC97CD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0FC3-92CC-480B-A9C0-77DE34F6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083B-47AE-4530-AD76-E2937CD01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4.jpeg"/><Relationship Id="rId8" Type="http://schemas.openxmlformats.org/officeDocument/2006/relationships/image" Target="../media/image24.jpeg"/><Relationship Id="rId9" Type="http://schemas.openxmlformats.org/officeDocument/2006/relationships/image" Target="../media/image24.jpeg"/><Relationship Id="rId10" Type="http://schemas.openxmlformats.org/officeDocument/2006/relationships/image" Target="../media/image24.jpeg"/><Relationship Id="rId11" Type="http://schemas.openxmlformats.org/officeDocument/2006/relationships/image" Target="../media/image29.gif"/><Relationship Id="rId1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6.xml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6.gif"/><Relationship Id="rId8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image" Target="../media/image48.jpeg"/><Relationship Id="rId1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49.jpeg"/><Relationship Id="rId6" Type="http://schemas.openxmlformats.org/officeDocument/2006/relationships/image" Target="../media/image24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0.gif"/><Relationship Id="rId6" Type="http://schemas.openxmlformats.org/officeDocument/2006/relationships/image" Target="../media/image50.gif"/><Relationship Id="rId7" Type="http://schemas.openxmlformats.org/officeDocument/2006/relationships/image" Target="../media/image50.gif"/><Relationship Id="rId8" Type="http://schemas.openxmlformats.org/officeDocument/2006/relationships/image" Target="../media/image50.gif"/><Relationship Id="rId9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hyperlink" Target="http://www.serzh.ru/spb-db/gbk.pl" TargetMode="External"/><Relationship Id="rId6" Type="http://schemas.openxmlformats.org/officeDocument/2006/relationships/image" Target="../media/image51.gif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3.wmf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4.jpeg"/><Relationship Id="rId16" Type="http://schemas.openxmlformats.org/officeDocument/2006/relationships/image" Target="../media/image24.jpeg"/><Relationship Id="rId17" Type="http://schemas.openxmlformats.org/officeDocument/2006/relationships/image" Target="../media/image24.jpe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image" Target="../media/image22.jpeg"/><Relationship Id="rId21" Type="http://schemas.openxmlformats.org/officeDocument/2006/relationships/image" Target="../media/image22.jpeg"/><Relationship Id="rId2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2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image" Target="../media/image22.jpeg"/><Relationship Id="rId15" Type="http://schemas.openxmlformats.org/officeDocument/2006/relationships/image" Target="../media/image22.jpeg"/><Relationship Id="rId16" Type="http://schemas.openxmlformats.org/officeDocument/2006/relationships/image" Target="../media/image22.jpeg"/><Relationship Id="rId17" Type="http://schemas.openxmlformats.org/officeDocument/2006/relationships/image" Target="../media/image22.jpeg"/><Relationship Id="rId18" Type="http://schemas.openxmlformats.org/officeDocument/2006/relationships/image" Target="../media/image22.jpeg"/><Relationship Id="rId1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632720" cy="762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5400000">
            <a:off x="533340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16200000">
            <a:off x="-304776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55640" y="765000"/>
            <a:ext cx="7704000" cy="532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116000" y="1197000"/>
            <a:ext cx="6769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ультура</a:t>
            </a:r>
            <a:endParaRPr b="0" i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слама</a:t>
            </a:r>
            <a:endParaRPr b="0" i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4581360"/>
            <a:ext cx="6264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Презентация к тем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«Арабский халифат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7 класс, всемирная 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6551640" cy="762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 rot="16200000">
            <a:off x="-2197440" y="3897720"/>
            <a:ext cx="5157720" cy="762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 rot="20540400">
            <a:off x="-6120" y="436680"/>
            <a:ext cx="20512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Мавзоле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62000"/>
              </a:gradFill>
              <a:latin typeface="Impact"/>
              <a:ea typeface="Impact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4643280" y="692280"/>
            <a:ext cx="4165920" cy="3136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755640" y="3392640"/>
            <a:ext cx="3887640" cy="2703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2916360" y="836640"/>
            <a:ext cx="22478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Мавзолей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Гур-Эми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332000" y="2565360"/>
            <a:ext cx="21160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адж-Махал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6227640" y="2997360"/>
            <a:ext cx="1959120" cy="3429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4400" spc="-1" strike="noStrike">
                <a:solidFill>
                  <a:srgbClr val="a50021"/>
                </a:solidFill>
                <a:latin typeface="Agency FB"/>
              </a:rPr>
              <a:t>Дворец Чихил Сутун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75640" cy="762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 rot="16200000">
            <a:off x="-2665080" y="3430080"/>
            <a:ext cx="6093000" cy="762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4067280" y="1557360"/>
            <a:ext cx="4608360" cy="451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826920" y="1484280"/>
            <a:ext cx="4032360" cy="4537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cc99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Дворец получил свое наз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из-за 20 колонного перистил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отражающего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в заводи п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Заложенный в конце 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Шаха Абба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дворец окончательно был заверш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во второй половине XVII в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и служил местом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аудиенции иностранных пос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Внутри дворца настенная росп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времен предыдущих династ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позволяющая суд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об архитектурном искусств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период их рас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u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6624720" cy="762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 rot="16200000">
            <a:off x="-2197440" y="3897720"/>
            <a:ext cx="5157720" cy="762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 rot="20540400">
            <a:off x="-6120" y="436680"/>
            <a:ext cx="20512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Арабес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62000"/>
              </a:gradFill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836640"/>
            <a:ext cx="4895640" cy="1584360"/>
          </a:xfrm>
          <a:prstGeom prst="wedgeRoundRectCallout">
            <a:avLst>
              <a:gd name="adj1" fmla="val -61120"/>
              <a:gd name="adj2" fmla="val 9217"/>
              <a:gd name="adj3" fmla="val 16667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орма орнаментального искус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сложный линейно-геометрический узор, построенный на математически точном сочетании многоугольников и многолучевых звез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900000" y="4632480"/>
            <a:ext cx="2159280" cy="1395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5867280" y="3762360"/>
            <a:ext cx="2725920" cy="2325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826920" y="2421000"/>
            <a:ext cx="2880000" cy="2082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6237360" y="765000"/>
            <a:ext cx="2327040" cy="2735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3780000" y="2924280"/>
            <a:ext cx="1904760" cy="28573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5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Арабская каллиграфия является важнейшим видом     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искусства ислама, это своего рода символ ислама, 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отражающий его многогранность и в то же время- 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единую форму, его гармонию, красоту и силу. В 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эстетических принципах каллиграфии проявляются 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культурные ценности исламского мир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Основные каллиграфические стили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куфическ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диван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сх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та'ли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рик'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сул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6624720" cy="762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 rot="16200000">
            <a:off x="-2233440" y="3862080"/>
            <a:ext cx="5229360" cy="762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 rot="20540400">
            <a:off x="0" y="333000"/>
            <a:ext cx="20509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Каллиграф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62000"/>
              </a:gradFill>
              <a:latin typeface="Impact"/>
              <a:ea typeface="Impact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6227640" y="3852720"/>
            <a:ext cx="2341800" cy="2238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6624720" cy="762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 rot="16200000">
            <a:off x="-2197440" y="3897720"/>
            <a:ext cx="5157720" cy="762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 rot="19728000">
            <a:off x="0" y="691920"/>
            <a:ext cx="2143080" cy="485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755640" y="3949560"/>
            <a:ext cx="2664000" cy="21304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5580000" y="3687840"/>
            <a:ext cx="2989440" cy="2392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1979640" y="765000"/>
            <a:ext cx="2808360" cy="2246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3708360" y="3357720"/>
            <a:ext cx="1692360" cy="13539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0"/>
          <a:stretch/>
        </p:blipFill>
        <p:spPr>
          <a:xfrm>
            <a:off x="5003640" y="692280"/>
            <a:ext cx="2808360" cy="22460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356000" y="5661000"/>
            <a:ext cx="649440" cy="360360"/>
          </a:xfrm>
          <a:custGeom>
            <a:avLst/>
            <a:gdLst>
              <a:gd name="textAreaLeft" fmla="*/ 23040 w 649440"/>
              <a:gd name="textAreaRight" fmla="*/ 626400 w 649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910" h="21600">
                <a:moveTo>
                  <a:pt x="0" y="0"/>
                </a:moveTo>
                <a:lnTo>
                  <a:pt x="38910" y="0"/>
                </a:lnTo>
                <a:lnTo>
                  <a:pt x="38910" y="21600"/>
                </a:lnTo>
                <a:lnTo>
                  <a:pt x="0" y="21600"/>
                </a:lnTo>
                <a:close/>
              </a:path>
              <a:path fill="lightenLess" w="38910" h="21600">
                <a:moveTo>
                  <a:pt x="0" y="0"/>
                </a:moveTo>
                <a:lnTo>
                  <a:pt x="38910" y="0"/>
                </a:lnTo>
                <a:lnTo>
                  <a:pt x="37510" y="1400"/>
                </a:lnTo>
                <a:lnTo>
                  <a:pt x="1400" y="1400"/>
                </a:lnTo>
                <a:close/>
              </a:path>
              <a:path fill="darken" w="38910" h="21600">
                <a:moveTo>
                  <a:pt x="38910" y="0"/>
                </a:moveTo>
                <a:lnTo>
                  <a:pt x="38910" y="21600"/>
                </a:lnTo>
                <a:lnTo>
                  <a:pt x="37510" y="20200"/>
                </a:lnTo>
                <a:lnTo>
                  <a:pt x="37510" y="1400"/>
                </a:lnTo>
                <a:close/>
              </a:path>
              <a:path fill="darkenLess" w="38910" h="21600">
                <a:moveTo>
                  <a:pt x="38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10" y="20200"/>
                </a:lnTo>
                <a:close/>
              </a:path>
              <a:path fill="lighten" w="38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10" h="21600">
                <a:moveTo>
                  <a:pt x="12449" y="10800"/>
                </a:moveTo>
                <a:lnTo>
                  <a:pt x="26462" y="3794"/>
                </a:lnTo>
                <a:lnTo>
                  <a:pt x="26462" y="17806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u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000"/>
                            </p:stCondLst>
                            <p:childTnLst>
                              <p:par>
                                <p:cTn id="2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6696000" cy="762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 rot="16200000">
            <a:off x="-2125440" y="3970080"/>
            <a:ext cx="5013360" cy="762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 rot="19042200">
            <a:off x="0" y="691920"/>
            <a:ext cx="2143080" cy="485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611280" y="3805200"/>
            <a:ext cx="3024000" cy="2419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4859280" y="765000"/>
            <a:ext cx="2664000" cy="2130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3780000" y="3068640"/>
            <a:ext cx="2017440" cy="16146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5867280" y="3932280"/>
            <a:ext cx="2846520" cy="2278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0"/>
          <a:stretch/>
        </p:blipFill>
        <p:spPr>
          <a:xfrm>
            <a:off x="2050920" y="765000"/>
            <a:ext cx="2665440" cy="2132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427640" y="573408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10800"/>
                </a:moveTo>
                <a:lnTo>
                  <a:pt x="23227" y="3794"/>
                </a:lnTo>
                <a:lnTo>
                  <a:pt x="23227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u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5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6624720" cy="7621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 rot="16200000">
            <a:off x="-2233440" y="3862080"/>
            <a:ext cx="5229360" cy="7621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 rot="20540400">
            <a:off x="0" y="333000"/>
            <a:ext cx="20509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поэз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62000"/>
              </a:gradFill>
              <a:latin typeface="Impact"/>
              <a:ea typeface="Impact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1619280" y="836640"/>
            <a:ext cx="1262160" cy="1440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rot="5400000">
            <a:off x="413640" y="2547000"/>
            <a:ext cx="3852720" cy="3311280"/>
          </a:xfrm>
          <a:prstGeom prst="leftArrowCallout">
            <a:avLst>
              <a:gd name="adj1" fmla="val 21456"/>
              <a:gd name="adj2" fmla="val 25000"/>
              <a:gd name="adj3" fmla="val 12556"/>
              <a:gd name="adj4" fmla="val 85087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мар Хайям (1048-1123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емирно известный класс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идско-таджикской поэз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ёный, математик, астрон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эт и филосо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е имя - Гияс ад-Д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буль Фатх Омар иб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брахим Хайям Нишапу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4572000" y="-890640"/>
            <a:ext cx="2303280" cy="51832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завидуй тому, кто силен и бога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 рассветом всегда наступает зак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этой жизнью короткою, равною вздох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щайся как с данной тебе напрок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4788000" y="2349360"/>
            <a:ext cx="3168360" cy="4464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достойно – стремиться к тарелке люб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ловно жадная муха, рискуя со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учше пусть у Хайяма ни крошки не буд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м подлец его будет кормить на у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219640" y="2781360"/>
            <a:ext cx="23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РУБАИ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 advTm="10000">
    <p:strips dir="ru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8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1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6407280" cy="762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 rot="16200000">
            <a:off x="-1980720" y="4114440"/>
            <a:ext cx="4724280" cy="762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 rot="20540400">
            <a:off x="95040" y="317160"/>
            <a:ext cx="20509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Творческа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62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мастерска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62000"/>
              </a:gradFill>
              <a:latin typeface="Impact"/>
              <a:ea typeface="Impac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340000" y="1052640"/>
            <a:ext cx="3619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Рубаи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Омара Хайяма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187280" y="2852640"/>
            <a:ext cx="692496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333399"/>
                    </a:gs>
                  </a:gsLst>
                  <a:lin ang="5400000"/>
                </a:gradFill>
                <a:latin typeface="Arial"/>
              </a:rPr>
              <a:t>Чтоб мудро жить, знать надобно немало,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3333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333399"/>
                    </a:gs>
                  </a:gsLst>
                  <a:lin ang="5400000"/>
                </a:gradFill>
                <a:latin typeface="Arial"/>
              </a:rPr>
              <a:t>Два важных правила запомни для начала: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3333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258920" y="3860640"/>
            <a:ext cx="6467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8000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"/>
              </a:rPr>
              <a:t>Ты лучше голодай, чем что попало есть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800000"/>
                  </a:gs>
                  <a:gs pos="100000">
                    <a:srgbClr val="ff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8000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"/>
              </a:rPr>
              <a:t>И лучше будь один, чем вместе с кем попало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800000"/>
                  </a:gs>
                  <a:gs pos="100000">
                    <a:srgbClr val="ff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755640" y="4653000"/>
            <a:ext cx="2017800" cy="13716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1835280" y="4797360"/>
            <a:ext cx="2017440" cy="13716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>
            <a:off x="755640" y="5084640"/>
            <a:ext cx="2017800" cy="1371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8"/>
          <a:stretch/>
        </p:blipFill>
        <p:spPr>
          <a:xfrm>
            <a:off x="3348000" y="4941720"/>
            <a:ext cx="2017800" cy="1371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838836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Ибн-Сина писал также стихи. Вот одно из его четверостиший</a:t>
            </a:r>
            <a:br>
              <a:rPr sz="2400"/>
            </a:b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 (рубаи):</a:t>
            </a:r>
            <a:br>
              <a:rPr sz="2400"/>
            </a:br>
            <a:br>
              <a:rPr sz="2400"/>
            </a:b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От праха черного и до небесных тел</a:t>
            </a:r>
            <a:br>
              <a:rPr sz="2000"/>
            </a:b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Я тайны разгадал мудрейших слов и дел.</a:t>
            </a:r>
            <a:br>
              <a:rPr sz="2000"/>
            </a:b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оварства я избег, распутал все узлы,</a:t>
            </a:r>
            <a:br>
              <a:rPr sz="2000"/>
            </a:b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Лишь узел смерти я распутать не сум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6624720" cy="7621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 rot="5400000">
            <a:off x="5409000" y="3123360"/>
            <a:ext cx="6858000" cy="6112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 rot="16200000">
            <a:off x="-2233440" y="3862080"/>
            <a:ext cx="522936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1116000" y="1052640"/>
            <a:ext cx="705636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бн-Сина 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ениальный философ и врач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3" name="" descr="Гостевая книга">
            <a:hlinkClick r:id="rId5"/>
          </p:cNvPr>
          <p:cNvPicPr/>
          <p:nvPr/>
        </p:nvPicPr>
        <p:blipFill>
          <a:blip r:embed="rId6"/>
          <a:stretch/>
        </p:blipFill>
        <p:spPr>
          <a:xfrm rot="21155400">
            <a:off x="5940360" y="4508640"/>
            <a:ext cx="3203640" cy="21351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050920" cy="1916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920000" cy="63374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Я не хочу обносить стенами свой дом или заколачивать свои окна. Я хочу, чтобы дух культуры различных стран как можно свободнее веял повсюду: не надо лишь, чтобы он сбил меня с ног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гор Р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i="1" lang="en-US" sz="2400" spc="-1" strike="noStrike">
                <a:solidFill>
                  <a:srgbClr val="990000"/>
                </a:solidFill>
                <a:latin typeface="Agency FB"/>
              </a:rPr>
              <a:t>Культура Арабского халифата, вобравшая достижения античности и стран Востока, оказала значительное влияние на культурное развитие Евро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75640" cy="762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 rot="16200000">
            <a:off x="-2665080" y="3430080"/>
            <a:ext cx="609300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356000" y="573408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5980" y="10800"/>
                </a:moveTo>
                <a:lnTo>
                  <a:pt x="26485" y="3794"/>
                </a:lnTo>
                <a:lnTo>
                  <a:pt x="26485" y="17806"/>
                </a:lnTo>
                <a:close/>
              </a:path>
              <a:path fill="darken" w="38958" h="21600">
                <a:moveTo>
                  <a:pt x="12472" y="3794"/>
                </a:moveTo>
                <a:lnTo>
                  <a:pt x="14135" y="3794"/>
                </a:lnTo>
                <a:lnTo>
                  <a:pt x="14135" y="17806"/>
                </a:lnTo>
                <a:lnTo>
                  <a:pt x="12472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84440" y="1349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916360" y="765000"/>
            <a:ext cx="4824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ывод: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6948360" y="5157720"/>
            <a:ext cx="2195640" cy="1700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521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549360"/>
            <a:ext cx="8062920" cy="568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6560" y="907920"/>
            <a:ext cx="694548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Цели изу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культуры исла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Знакомство с культурой исл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Развитие умений анализировать и оценивать факты, высказывать мнения о причинах возникновения ислама и влияние культуры Арабского халифата на развитие Западной Евро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Воспитание компетентного зрителя и слушателя, подготовленного к общению с произведениями искусства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75640" cy="762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 rot="16200000">
            <a:off x="-2701440" y="3393720"/>
            <a:ext cx="6165720" cy="762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6372360" y="0"/>
            <a:ext cx="2771640" cy="18446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0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Архитектура ислама унаследовала достижения цивилиз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632720" cy="47847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Месопотамии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63300"/>
                </a:solidFill>
                <a:latin typeface="Arial"/>
              </a:rPr>
              <a:t>- кирпичная кладка и поливные израз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Египт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663300"/>
                </a:solidFill>
                <a:latin typeface="Arial"/>
              </a:rPr>
              <a:t>- </a:t>
            </a:r>
            <a:r>
              <a:rPr b="0" i="1" lang="en-US" sz="2800" spc="-1" strike="noStrike">
                <a:solidFill>
                  <a:srgbClr val="663300"/>
                </a:solidFill>
                <a:latin typeface="Arial"/>
              </a:rPr>
              <a:t>колонные зал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Византи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63300"/>
                </a:solidFill>
                <a:latin typeface="Arial"/>
              </a:rPr>
              <a:t>– искусство мраморной облицовки и моза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632720" cy="762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 rot="5400000">
            <a:off x="533340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 rot="16200000">
            <a:off x="-304776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300720" y="2708280"/>
            <a:ext cx="1297080" cy="1573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4859280" y="4653000"/>
            <a:ext cx="1728720" cy="1295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4427640" y="2205000"/>
            <a:ext cx="1800000" cy="771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632720" cy="762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5400000">
            <a:off x="533340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6200000">
            <a:off x="-304776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755640" y="725400"/>
            <a:ext cx="7704000" cy="5345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838836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a50021"/>
                </a:solidFill>
                <a:latin typeface="Arial"/>
              </a:rPr>
              <a:t>Типы зданий:</a:t>
            </a:r>
            <a:br>
              <a:rPr sz="4000"/>
            </a:b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мечети</a:t>
            </a:r>
            <a:br>
              <a:rPr sz="4400"/>
            </a:b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минареты</a:t>
            </a:r>
            <a:br>
              <a:rPr sz="4400"/>
            </a:b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медресе</a:t>
            </a:r>
            <a:br>
              <a:rPr sz="4400"/>
            </a:b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        </a:t>
            </a: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караван –сараи</a:t>
            </a:r>
            <a:br>
              <a:rPr sz="4400"/>
            </a:b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               </a:t>
            </a: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мавзолеи</a:t>
            </a:r>
            <a:br>
              <a:rPr sz="4400"/>
            </a:b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              </a:t>
            </a: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663300"/>
                </a:solidFill>
                <a:latin typeface="Arial"/>
              </a:rPr>
              <a:t>роскошные дворцы</a:t>
            </a:r>
            <a:br>
              <a:rPr sz="4000"/>
            </a:b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              </a:t>
            </a: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крытые ры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92000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 rot="16200000">
            <a:off x="-304776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0" y="4005360"/>
            <a:ext cx="3132000" cy="2852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5435640" y="0"/>
            <a:ext cx="3708360" cy="3168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836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843280" y="0"/>
            <a:ext cx="5545080" cy="76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 rot="5400000">
            <a:off x="533340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 rot="16200000">
            <a:off x="-2233440" y="3862080"/>
            <a:ext cx="5229360" cy="762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-2124000" y="-171360"/>
            <a:ext cx="4753080" cy="897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e701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          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e701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Мечет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340000" y="335772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есто дл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вершен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клоно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1116000" y="907920"/>
            <a:ext cx="3168720" cy="2382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084720" y="476280"/>
            <a:ext cx="2575080" cy="3398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395280" y="405936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4716360" y="4149720"/>
            <a:ext cx="3672000" cy="2016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987640" y="5877000"/>
            <a:ext cx="2376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четь Имама</a:t>
            </a:r>
            <a:endParaRPr b="0" lang="en-US" sz="2400" spc="1" strike="noStrike">
              <a:ln w="19080">
                <a:solidFill>
                  <a:srgbClr val="00008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859280" y="692280"/>
            <a:ext cx="1781280" cy="11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100000">
                      <a:srgbClr val="d6b19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ольшая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100000">
                    <a:srgbClr val="d6b19c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100000">
                      <a:srgbClr val="d6b19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ятничная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100000">
                    <a:srgbClr val="d6b19c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100000">
                      <a:srgbClr val="d6b19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четь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100000">
                    <a:srgbClr val="d6b19c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 rot="20812200">
            <a:off x="3635280" y="2421000"/>
            <a:ext cx="2089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70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0000"/>
                    </a:gs>
                  </a:gsLst>
                  <a:lin ang="6186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ечеть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0000"/>
                  </a:gs>
                </a:gsLst>
                <a:lin ang="6186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0000"/>
                    </a:gs>
                  </a:gsLst>
                  <a:lin ang="6186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иби Ханум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0000"/>
                  </a:gs>
                </a:gsLst>
                <a:lin ang="6186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strips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5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63272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 rot="5400000">
            <a:off x="533340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 rot="16200000">
            <a:off x="-304776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84360" y="765000"/>
            <a:ext cx="7704000" cy="532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684360" y="765000"/>
            <a:ext cx="3311280" cy="2203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6588000" y="692280"/>
            <a:ext cx="1822680" cy="2736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900000" y="3284640"/>
            <a:ext cx="1968480" cy="2952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3635280" y="3429000"/>
            <a:ext cx="4249800" cy="2840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00000" y="189000"/>
            <a:ext cx="6913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утреннее убранство</a:t>
            </a:r>
            <a:endParaRPr b="0" lang="en-US" sz="24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1341360"/>
            <a:ext cx="1657440" cy="2160720"/>
          </a:xfrm>
          <a:prstGeom prst="downArrowCallout">
            <a:avLst>
              <a:gd name="adj1" fmla="val 20113"/>
              <a:gd name="adj2" fmla="val 50000"/>
              <a:gd name="adj3" fmla="val 35923"/>
              <a:gd name="adj4" fmla="val 66667"/>
            </a:avLst>
          </a:prstGeom>
          <a:gradFill rotWithShape="0">
            <a:gsLst>
              <a:gs pos="0">
                <a:srgbClr val="ffffff"/>
              </a:gs>
              <a:gs pos="50000">
                <a:srgbClr val="ff996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ИХРАБ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лтар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и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6264360" cy="762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 rot="5400000">
            <a:off x="533340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 rot="16200000">
            <a:off x="-2233440" y="3862080"/>
            <a:ext cx="5229360" cy="762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392720" y="3586320"/>
            <a:ext cx="4751280" cy="3271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 rot="20667600">
            <a:off x="178920" y="333360"/>
            <a:ext cx="1827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9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330000"/>
                </a:gradFill>
                <a:latin typeface="Impact"/>
              </a:rPr>
              <a:t>Минар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330000"/>
              </a:gradFill>
              <a:latin typeface="Impact"/>
              <a:ea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386160" y="692280"/>
            <a:ext cx="2482920" cy="3384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6300720" y="2205000"/>
            <a:ext cx="2016360" cy="13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лавная мечеть Стамбула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ултан-Ахмед-джами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(Голубая мечеть)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651640" y="981000"/>
            <a:ext cx="1224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инарет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0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ль-Мальвия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0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(Сирия)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0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3"/>
          <a:stretch/>
        </p:blipFill>
        <p:spPr>
          <a:xfrm>
            <a:off x="684360" y="2421000"/>
            <a:ext cx="2655720" cy="3703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2627280" y="5157720"/>
            <a:ext cx="14605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Минар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Кутб Мина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(Индия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172040" y="2908440"/>
            <a:ext cx="799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     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1743120" y="815760"/>
            <a:ext cx="1122120" cy="1224000"/>
          </a:xfrm>
          <a:prstGeom prst="wedgeRoundRectCallout">
            <a:avLst>
              <a:gd name="adj1" fmla="val 10439"/>
              <a:gd name="adj2" fmla="val 138541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9966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АЯ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500"/>
                            </p:stCondLst>
                            <p:childTnLst>
                              <p:par>
                                <p:cTn id="1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6624720" cy="762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 rot="16200000">
            <a:off x="-2197440" y="3897720"/>
            <a:ext cx="5157720" cy="762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 rot="20029800">
            <a:off x="-6120" y="436320"/>
            <a:ext cx="20512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972000"/>
                </a:gradFill>
                <a:latin typeface="Impact"/>
              </a:rPr>
              <a:t>Медрес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972000"/>
              </a:gradFill>
              <a:latin typeface="Impact"/>
              <a:ea typeface="Impact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755640" y="2997360"/>
            <a:ext cx="4176720" cy="3139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4932360" y="765000"/>
            <a:ext cx="3660840" cy="3538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5292720" y="4292640"/>
            <a:ext cx="32400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едресе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ахор Баг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(Иран, г.Исфахан)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332000" y="1413000"/>
            <a:ext cx="24192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едресе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лугбека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(Самарканд)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10000">
    <p:strips dir="ru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6:30:37Z</dcterms:created>
  <dc:creator>User</dc:creator>
  <dc:description/>
  <dc:language>en-US</dc:language>
  <cp:lastModifiedBy>WinXPtv</cp:lastModifiedBy>
  <dcterms:modified xsi:type="dcterms:W3CDTF">2009-10-27T05:16:17Z</dcterms:modified>
  <cp:revision>6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a000000000001024140</vt:lpwstr>
  </property>
  <property fmtid="{D5CDD505-2E9C-101B-9397-08002B2CF9AE}" pid="3" name="Version">
    <vt:r8>9</vt:r8>
  </property>
</Properties>
</file>