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8.jpeg" ContentType="image/jpeg"/>
  <Override PartName="/ppt/media/image47.jpeg" ContentType="image/jpeg"/>
  <Override PartName="/ppt/media/image52.jpeg" ContentType="image/jpeg"/>
  <Override PartName="/ppt/media/image37.jpeg" ContentType="image/jpeg"/>
  <Override PartName="/ppt/media/image12.jpeg" ContentType="image/jpeg"/>
  <Override PartName="/ppt/media/image50.gif" ContentType="image/gif"/>
  <Override PartName="/ppt/media/image53.wmf" ContentType="image/x-wmf"/>
  <Override PartName="/ppt/media/image54.jpeg" ContentType="image/jpeg"/>
  <Override PartName="/ppt/media/image49.jpeg" ContentType="image/jpeg"/>
  <Override PartName="/ppt/media/image34.jpeg" ContentType="image/jpeg"/>
  <Override PartName="/ppt/media/image2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E6B-B4E5-4D25-9EF0-7EF365C6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08A-2647-4678-8DAB-2BAB191C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160-37DE-4E6A-BAD2-217637B1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37F-5F60-43D5-9F0F-FA9C2E04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4BC-B8DB-4864-94F9-C7F620FA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33F-219B-49F4-9BB3-BDEA255A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AD4-1EF4-496D-B342-20619BBE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A44-D39C-4DAF-AD25-7783BA96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FD8-D1F7-4548-99C2-9E1C5749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E9E-4DAF-4800-AE39-A387562F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3F8-790A-4F97-97C7-713DC87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741-C97A-433D-A001-ED9A371C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1A4D-CE2C-4064-B3DD-960C78A5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9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0.gif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hyperlink" Target="http://www.serzh.ru/spb-db/gbk.pl" TargetMode="External"/><Relationship Id="rId6" Type="http://schemas.openxmlformats.org/officeDocument/2006/relationships/image" Target="../media/image51.gif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3.wmf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55640" y="765000"/>
            <a:ext cx="7704000" cy="532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116000" y="1197000"/>
            <a:ext cx="676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ультур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лам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581360"/>
            <a:ext cx="626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резентация к тем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«Арабский халифат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7 класс, всемирная 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55164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взол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643280" y="692280"/>
            <a:ext cx="4165920" cy="3136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55640" y="3392640"/>
            <a:ext cx="3887640" cy="270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916360" y="836640"/>
            <a:ext cx="2247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Мавзоле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Гур-Э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32000" y="2565360"/>
            <a:ext cx="2116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адж-Махал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227640" y="2997360"/>
            <a:ext cx="195912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4400" spc="-1" strike="noStrike">
                <a:solidFill>
                  <a:srgbClr val="a50021"/>
                </a:solidFill>
                <a:latin typeface="Agency FB"/>
              </a:rPr>
              <a:t>Дворец Чихил Сутун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4608360" cy="451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1484280"/>
            <a:ext cx="4032360" cy="4537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получил свое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з-за 20 колонного перисти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тража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 заводи п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Заложенный в конце 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Шаха Абба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окончательно был заверш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о второй половине XVII 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 служил местом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аудиенции иностранных пос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нутри дворца настенная рос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ремен предыдущих динас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озволяющая су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б архитектурном искусств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ериод их рас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Арабес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836640"/>
            <a:ext cx="4895640" cy="1584360"/>
          </a:xfrm>
          <a:prstGeom prst="wedgeRoundRectCallout">
            <a:avLst>
              <a:gd name="adj1" fmla="val -61120"/>
              <a:gd name="adj2" fmla="val 9217"/>
              <a:gd name="adj3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а орнаментального искус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ложный линейно-геометрический узор, построенный на математически точном сочетании многоугольников и многолучевых зв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900000" y="4632480"/>
            <a:ext cx="2159280" cy="1395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867280" y="3762360"/>
            <a:ext cx="2725920" cy="2325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826920" y="2421000"/>
            <a:ext cx="2880000" cy="2082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6237360" y="765000"/>
            <a:ext cx="2327040" cy="2735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3780000" y="2924280"/>
            <a:ext cx="1904760" cy="285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Арабская каллиграфия является важнейшим видом    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искусства ислама, это своего рода символ ислама,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отражающий его многогранность и в то же время-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единую форму, его гармонию, красоту и силу. В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эстетических принципах каллиграфии проявляются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культурные ценности исламского ми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сновные каллиграфические стили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уф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дива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с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та'л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рик'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сул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Каллиграф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227640" y="3852720"/>
            <a:ext cx="2341800" cy="223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 rot="197280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55640" y="394956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580000" y="3687840"/>
            <a:ext cx="2989440" cy="2392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1979640" y="765000"/>
            <a:ext cx="2808360" cy="2246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3708360" y="3357720"/>
            <a:ext cx="1692360" cy="135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5003640" y="692280"/>
            <a:ext cx="2808360" cy="2246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356000" y="5661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10800"/>
                </a:moveTo>
                <a:lnTo>
                  <a:pt x="26462" y="3794"/>
                </a:lnTo>
                <a:lnTo>
                  <a:pt x="26462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6696000" cy="762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 rot="16200000">
            <a:off x="-2125440" y="3970080"/>
            <a:ext cx="501336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 rot="190422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11280" y="3805200"/>
            <a:ext cx="3024000" cy="2419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859280" y="76500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3780000" y="3068640"/>
            <a:ext cx="2017440" cy="1614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67280" y="3932280"/>
            <a:ext cx="2846520" cy="227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2050920" y="765000"/>
            <a:ext cx="2665440" cy="2132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427640" y="5734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поэ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19280" y="836640"/>
            <a:ext cx="1262160" cy="1440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5400000">
            <a:off x="413640" y="2547000"/>
            <a:ext cx="3852720" cy="3311280"/>
          </a:xfrm>
          <a:prstGeom prst="leftArrowCallout">
            <a:avLst>
              <a:gd name="adj1" fmla="val 21456"/>
              <a:gd name="adj2" fmla="val 25000"/>
              <a:gd name="adj3" fmla="val 12556"/>
              <a:gd name="adj4" fmla="val 8508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мар Хайям (1048-1123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мирно известный класс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идско-таджикской поэз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й, математик, астро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 и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- Гияс ад-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уль Фатх Омар иб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брахим Хайям Нишапу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572000" y="-890640"/>
            <a:ext cx="2303280" cy="518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завидуй тому, кто силен и бог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рассветом всегда наступает за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этой жизнью короткою, равною вздох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щайся как с данной тебе напро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4788000" y="2349360"/>
            <a:ext cx="3168360" cy="4464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достойно – стремиться к тарелке лю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овно жадная муха, рискуя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ше пусть у Хайяма ни крошки не буд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подлец его будет кормить на у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219640" y="278136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УБА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407280" cy="762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 rot="16200000">
            <a:off x="-1980720" y="4114440"/>
            <a:ext cx="472428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 rot="20540400">
            <a:off x="95040" y="317160"/>
            <a:ext cx="20509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Творче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стер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40000" y="1052640"/>
            <a:ext cx="361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Руба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мара Хайям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7280" y="2852640"/>
            <a:ext cx="69249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Чтоб мудро жить, знать надобно немало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Два важных правила запомни для начала: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58920" y="3860640"/>
            <a:ext cx="646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Ты лучше голодай, чем что попало есть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И лучше будь один, чем вместе с кем попало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55640" y="465300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1835280" y="4797360"/>
            <a:ext cx="201744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3348000" y="4941720"/>
            <a:ext cx="201780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Ибн-Сина писал также стихи. Вот одно из его четверостиший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(рубаи):</a:t>
            </a: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От праха черного и до небесных тел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Я тайны разгадал мудрейших слов и дел.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оварства я избег, распутал все узлы,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Лишь узел смерти я распутать не сум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 rot="5400000">
            <a:off x="5409000" y="3123360"/>
            <a:ext cx="6858000" cy="611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16000" y="1052640"/>
            <a:ext cx="7056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бн-Сина 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ениальный философ и врач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3" name="" descr="Гостевая книга">
            <a:hlinkClick r:id="rId5"/>
          </p:cNvPr>
          <p:cNvPicPr/>
          <p:nvPr/>
        </p:nvPicPr>
        <p:blipFill>
          <a:blip r:embed="rId6"/>
          <a:stretch/>
        </p:blipFill>
        <p:spPr>
          <a:xfrm rot="21155400">
            <a:off x="5940360" y="450864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50920" cy="1916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920000" cy="6337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Я не хочу обносить стенами свой дом или заколачивать свои окна. Я хочу, чтобы дух культуры различных стран как можно свободнее веял повсюду: не надо лишь, чтобы он сбил меня с но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гор Р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2400" spc="-1" strike="noStrike">
                <a:solidFill>
                  <a:srgbClr val="990000"/>
                </a:solidFill>
                <a:latin typeface="Agency FB"/>
              </a:rPr>
              <a:t>Культура Арабского халифата, вобравшая достижения античности и стран Востока, оказала значительное влияние на культурное развитие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356000" y="573408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5980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14135" y="3794"/>
                </a:lnTo>
                <a:lnTo>
                  <a:pt x="14135" y="17806"/>
                </a:lnTo>
                <a:lnTo>
                  <a:pt x="12472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4440" y="1349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916360" y="765000"/>
            <a:ext cx="482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2195640" cy="1700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2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8062920" cy="568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560" y="907920"/>
            <a:ext cx="69454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Цели из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культуры исла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Знакомство с культурой исл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Развитие умений анализировать и оценивать факты, высказывать мнения о причинах возникновения ислама и влияние культуры Арабского халифата на развитие Западн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Воспитание компетентного зрителя и слушателя, подготовленного к общению с произведениями искусства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6200000">
            <a:off x="-2701440" y="3393720"/>
            <a:ext cx="61657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372360" y="0"/>
            <a:ext cx="2771640" cy="184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0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Архитектура ислама унаследовала достижения цивил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632720" cy="4784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Месопотамии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- кирпичная кладка и поливные израз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Егип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колонные зал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Визант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– искусство мраморной облицовки и моза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29708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4427640" y="2205000"/>
            <a:ext cx="1800000" cy="77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55640" y="725400"/>
            <a:ext cx="7704000" cy="5345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Типы зданий: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чет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инареты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дресе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араван –сара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авзоле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роскошные дворцы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рытые ры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400536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435640" y="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554508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-2124000" y="-171360"/>
            <a:ext cx="4753080" cy="897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     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Мече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335772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сто дл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ерш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кло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116000" y="907920"/>
            <a:ext cx="3168720" cy="238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84720" y="476280"/>
            <a:ext cx="2575080" cy="3398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95280" y="4059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4716360" y="4149720"/>
            <a:ext cx="3672000" cy="201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987640" y="5877000"/>
            <a:ext cx="237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четь Имама</a:t>
            </a:r>
            <a:endParaRPr b="0" lang="en-US" sz="2400" spc="1" strike="noStrike">
              <a:ln w="19080">
                <a:solidFill>
                  <a:srgbClr val="00008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59280" y="692280"/>
            <a:ext cx="178128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ничн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четь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20812200">
            <a:off x="3635280" y="2421000"/>
            <a:ext cx="2089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7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четь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иби Ханум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84360" y="765000"/>
            <a:ext cx="7704000" cy="532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84360" y="765000"/>
            <a:ext cx="3311280" cy="220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588000" y="692280"/>
            <a:ext cx="1822680" cy="273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900000" y="328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635280" y="3429000"/>
            <a:ext cx="4249800" cy="2840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0000" y="189000"/>
            <a:ext cx="6913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ее убранство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341360"/>
            <a:ext cx="1657440" cy="2160720"/>
          </a:xfrm>
          <a:prstGeom prst="downArrowCallout">
            <a:avLst>
              <a:gd name="adj1" fmla="val 20113"/>
              <a:gd name="adj2" fmla="val 50000"/>
              <a:gd name="adj3" fmla="val 35923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ИХРАБ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лта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26436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392720" y="3586320"/>
            <a:ext cx="4751280" cy="3271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20667600">
            <a:off x="178920" y="333360"/>
            <a:ext cx="1827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330000"/>
                </a:gradFill>
                <a:latin typeface="Impact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330000"/>
              </a:gradFill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386160" y="692280"/>
            <a:ext cx="2482920" cy="338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300720" y="2205000"/>
            <a:ext cx="201636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лавная мечеть Стамбу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ултан-Ахмед-джам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Голубая мечеть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51640" y="981000"/>
            <a:ext cx="122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инарет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ь-Мальви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Сирия)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684360" y="2421000"/>
            <a:ext cx="2655720" cy="37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627280" y="5157720"/>
            <a:ext cx="1460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Кутб Мина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(Инд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72040" y="2908440"/>
            <a:ext cx="799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743120" y="815760"/>
            <a:ext cx="1122120" cy="1224000"/>
          </a:xfrm>
          <a:prstGeom prst="wedgeRoundRectCallout">
            <a:avLst>
              <a:gd name="adj1" fmla="val 10439"/>
              <a:gd name="adj2" fmla="val 13854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20029800">
            <a:off x="-6120" y="43632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972000"/>
                </a:gradFill>
                <a:latin typeface="Impact"/>
              </a:rPr>
              <a:t>Медрес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972000"/>
              </a:gradFill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55640" y="2997360"/>
            <a:ext cx="4176720" cy="3139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932360" y="765000"/>
            <a:ext cx="3660840" cy="3538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4292640"/>
            <a:ext cx="3240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хор Баг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Иран, г.Исфахан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32000" y="1413000"/>
            <a:ext cx="24192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лугбек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Самарканд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6:30:37Z</dcterms:created>
  <dc:creator>User</dc:creator>
  <dc:description/>
  <dc:language>en-US</dc:language>
  <cp:lastModifiedBy>WinXPtv</cp:lastModifiedBy>
  <dcterms:modified xsi:type="dcterms:W3CDTF">2009-10-27T05:16:17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  <property fmtid="{D5CDD505-2E9C-101B-9397-08002B2CF9AE}" pid="3" name="Version">
    <vt:r8>9</vt:r8>
  </property>
</Properties>
</file>