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3EE-4860-4B19-9884-85FDD234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17D-1ED4-41AA-B67E-E2B1813F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A03-39B7-48BB-B33B-67DD46A0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D05-7607-4998-A51D-76713114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9841-E2E8-45F4-BE1E-0D8B4676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78D9-2C61-41D5-BE14-E3505650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30C5-BA9D-4F7B-B137-AAAF1021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9C82-BB71-40C1-8A28-38D95F02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4E40-FE6E-4042-B070-BFC5939D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8244-117B-417B-8C88-3EA9AA38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E666-F0E3-4E9C-BC76-EFC36DB4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91E-6D95-4819-B00F-4944A1B1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CE87-CC32-4BBC-A980-B254293D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3BAB-C5E1-4ADE-A36D-0F123094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3C2C-64FB-4C39-9254-083D925D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775C-304E-4A28-A6BB-7F28F28E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2C5B-6A2B-4C1B-B735-D4124856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670-2414-48F8-9D66-F98168F8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7D7-E1C9-4BA7-8B1B-1534E80D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450-D193-4644-A0A6-66A5294D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9F0-0953-4B96-982A-22BA5892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8DC-B76E-4E2C-9EAB-CAC0E4A7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6DD-B2E5-454B-9BBD-B157B1E8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122-CB46-41C6-A7EE-C337FD64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F806-CDE2-4C9F-B336-F010C4302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5672-E015-4514-B7C5-14E556867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Закрепление знани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4. Иван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был женат на племяннице византийского императо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2590920"/>
            <a:ext cx="5410080" cy="1143000"/>
          </a:xfrm>
          <a:custGeom>
            <a:avLst/>
            <a:gdLst>
              <a:gd name="textAreaLeft" fmla="*/ 73800 w 5410080"/>
              <a:gd name="textAreaRight" fmla="*/ 5336280 w 5410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2212" h="21600">
                <a:moveTo>
                  <a:pt x="0" y="0"/>
                </a:moveTo>
                <a:lnTo>
                  <a:pt x="102212" y="0"/>
                </a:lnTo>
                <a:lnTo>
                  <a:pt x="102212" y="21600"/>
                </a:lnTo>
                <a:lnTo>
                  <a:pt x="0" y="21600"/>
                </a:lnTo>
                <a:close/>
              </a:path>
              <a:path fill="lightenLess" w="102212" h="21600">
                <a:moveTo>
                  <a:pt x="0" y="0"/>
                </a:moveTo>
                <a:lnTo>
                  <a:pt x="102212" y="0"/>
                </a:lnTo>
                <a:lnTo>
                  <a:pt x="100812" y="1400"/>
                </a:lnTo>
                <a:lnTo>
                  <a:pt x="1400" y="1400"/>
                </a:lnTo>
                <a:close/>
              </a:path>
              <a:path fill="darken" w="102212" h="21600">
                <a:moveTo>
                  <a:pt x="102212" y="0"/>
                </a:moveTo>
                <a:lnTo>
                  <a:pt x="102212" y="21600"/>
                </a:lnTo>
                <a:lnTo>
                  <a:pt x="100812" y="20200"/>
                </a:lnTo>
                <a:lnTo>
                  <a:pt x="100812" y="1400"/>
                </a:lnTo>
                <a:close/>
              </a:path>
              <a:path fill="darkenLess" w="102212" h="21600">
                <a:moveTo>
                  <a:pt x="10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12" y="20200"/>
                </a:lnTo>
                <a:close/>
              </a:path>
              <a:path fill="lighten" w="10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1905120" y="4724280"/>
            <a:ext cx="5410080" cy="1143000"/>
          </a:xfrm>
          <a:custGeom>
            <a:avLst/>
            <a:gdLst>
              <a:gd name="textAreaLeft" fmla="*/ 73800 w 5410080"/>
              <a:gd name="textAreaRight" fmla="*/ 5336280 w 5410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2212" h="21600">
                <a:moveTo>
                  <a:pt x="0" y="0"/>
                </a:moveTo>
                <a:lnTo>
                  <a:pt x="102212" y="0"/>
                </a:lnTo>
                <a:lnTo>
                  <a:pt x="102212" y="21600"/>
                </a:lnTo>
                <a:lnTo>
                  <a:pt x="0" y="21600"/>
                </a:lnTo>
                <a:close/>
              </a:path>
              <a:path fill="lightenLess" w="102212" h="21600">
                <a:moveTo>
                  <a:pt x="0" y="0"/>
                </a:moveTo>
                <a:lnTo>
                  <a:pt x="102212" y="0"/>
                </a:lnTo>
                <a:lnTo>
                  <a:pt x="100812" y="1400"/>
                </a:lnTo>
                <a:lnTo>
                  <a:pt x="1400" y="1400"/>
                </a:lnTo>
                <a:close/>
              </a:path>
              <a:path fill="darken" w="102212" h="21600">
                <a:moveTo>
                  <a:pt x="102212" y="0"/>
                </a:moveTo>
                <a:lnTo>
                  <a:pt x="102212" y="21600"/>
                </a:lnTo>
                <a:lnTo>
                  <a:pt x="100812" y="20200"/>
                </a:lnTo>
                <a:lnTo>
                  <a:pt x="100812" y="1400"/>
                </a:lnTo>
                <a:close/>
              </a:path>
              <a:path fill="darkenLess" w="102212" h="21600">
                <a:moveTo>
                  <a:pt x="10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12" y="20200"/>
                </a:lnTo>
                <a:close/>
              </a:path>
              <a:path fill="lighten" w="10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н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5. Битва на р. Угре состоялась в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2860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1474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1480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2438280" y="5181480"/>
            <a:ext cx="4267440" cy="106704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64" h="21600">
                <a:moveTo>
                  <a:pt x="0" y="0"/>
                </a:moveTo>
                <a:lnTo>
                  <a:pt x="86364" y="0"/>
                </a:lnTo>
                <a:lnTo>
                  <a:pt x="86364" y="21600"/>
                </a:lnTo>
                <a:lnTo>
                  <a:pt x="0" y="21600"/>
                </a:lnTo>
                <a:close/>
              </a:path>
              <a:path fill="lightenLess" w="86364" h="21600">
                <a:moveTo>
                  <a:pt x="0" y="0"/>
                </a:moveTo>
                <a:lnTo>
                  <a:pt x="86364" y="0"/>
                </a:lnTo>
                <a:lnTo>
                  <a:pt x="84964" y="1400"/>
                </a:lnTo>
                <a:lnTo>
                  <a:pt x="1400" y="1400"/>
                </a:lnTo>
                <a:close/>
              </a:path>
              <a:path fill="darken" w="86364" h="21600">
                <a:moveTo>
                  <a:pt x="86364" y="0"/>
                </a:moveTo>
                <a:lnTo>
                  <a:pt x="86364" y="21600"/>
                </a:lnTo>
                <a:lnTo>
                  <a:pt x="84964" y="20200"/>
                </a:lnTo>
                <a:lnTo>
                  <a:pt x="84964" y="1400"/>
                </a:lnTo>
                <a:close/>
              </a:path>
              <a:path fill="darkenLess" w="86364" h="21600">
                <a:moveTo>
                  <a:pt x="8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4" y="20200"/>
                </a:lnTo>
                <a:close/>
              </a:path>
              <a:path fill="lighten" w="8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147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6. Считается, что «стояние на р. Угре» закончилось побед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2895480"/>
            <a:ext cx="4267080" cy="106704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56" h="21600">
                <a:moveTo>
                  <a:pt x="0" y="0"/>
                </a:moveTo>
                <a:lnTo>
                  <a:pt x="86356" y="0"/>
                </a:lnTo>
                <a:lnTo>
                  <a:pt x="86356" y="21600"/>
                </a:lnTo>
                <a:lnTo>
                  <a:pt x="0" y="21600"/>
                </a:lnTo>
                <a:close/>
              </a:path>
              <a:path fill="lightenLess" w="86356" h="21600">
                <a:moveTo>
                  <a:pt x="0" y="0"/>
                </a:moveTo>
                <a:lnTo>
                  <a:pt x="86356" y="0"/>
                </a:lnTo>
                <a:lnTo>
                  <a:pt x="84956" y="1400"/>
                </a:lnTo>
                <a:lnTo>
                  <a:pt x="1400" y="1400"/>
                </a:lnTo>
                <a:close/>
              </a:path>
              <a:path fill="darken" w="86356" h="21600">
                <a:moveTo>
                  <a:pt x="86356" y="0"/>
                </a:moveTo>
                <a:lnTo>
                  <a:pt x="86356" y="21600"/>
                </a:lnTo>
                <a:lnTo>
                  <a:pt x="84956" y="20200"/>
                </a:lnTo>
                <a:lnTo>
                  <a:pt x="84956" y="1400"/>
                </a:lnTo>
                <a:close/>
              </a:path>
              <a:path fill="darkenLess" w="86356" h="21600">
                <a:moveTo>
                  <a:pt x="86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6" y="20200"/>
                </a:lnTo>
                <a:close/>
              </a:path>
              <a:path fill="lighten" w="86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Ива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2438280" y="4800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Монголо-татар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1.Иван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правил с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533520" y="2971800"/>
            <a:ext cx="3200400" cy="1066680"/>
          </a:xfrm>
          <a:custGeom>
            <a:avLst/>
            <a:gdLst>
              <a:gd name="textAreaLeft" fmla="*/ 69120 w 3200400"/>
              <a:gd name="textAreaRight" fmla="*/ 3131280 w 3200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4793" h="21600">
                <a:moveTo>
                  <a:pt x="0" y="0"/>
                </a:moveTo>
                <a:lnTo>
                  <a:pt x="64793" y="0"/>
                </a:lnTo>
                <a:lnTo>
                  <a:pt x="64793" y="21600"/>
                </a:lnTo>
                <a:lnTo>
                  <a:pt x="0" y="21600"/>
                </a:lnTo>
                <a:close/>
              </a:path>
              <a:path fill="lightenLess" w="64793" h="21600">
                <a:moveTo>
                  <a:pt x="0" y="0"/>
                </a:moveTo>
                <a:lnTo>
                  <a:pt x="64793" y="0"/>
                </a:lnTo>
                <a:lnTo>
                  <a:pt x="63393" y="1400"/>
                </a:lnTo>
                <a:lnTo>
                  <a:pt x="1400" y="1400"/>
                </a:lnTo>
                <a:close/>
              </a:path>
              <a:path fill="darken" w="64793" h="21600">
                <a:moveTo>
                  <a:pt x="64793" y="0"/>
                </a:moveTo>
                <a:lnTo>
                  <a:pt x="64793" y="21600"/>
                </a:lnTo>
                <a:lnTo>
                  <a:pt x="63393" y="20200"/>
                </a:lnTo>
                <a:lnTo>
                  <a:pt x="63393" y="1400"/>
                </a:lnTo>
                <a:close/>
              </a:path>
              <a:path fill="darkenLess" w="64793" h="21600">
                <a:moveTo>
                  <a:pt x="64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3" y="20200"/>
                </a:lnTo>
                <a:close/>
              </a:path>
              <a:path fill="lighten" w="64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1462 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5029200" y="2971800"/>
            <a:ext cx="3124080" cy="106668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3248" h="21600">
                <a:moveTo>
                  <a:pt x="0" y="0"/>
                </a:moveTo>
                <a:lnTo>
                  <a:pt x="63248" y="0"/>
                </a:lnTo>
                <a:lnTo>
                  <a:pt x="63248" y="21600"/>
                </a:lnTo>
                <a:lnTo>
                  <a:pt x="0" y="21600"/>
                </a:lnTo>
                <a:close/>
              </a:path>
              <a:path fill="lightenLess" w="63248" h="21600">
                <a:moveTo>
                  <a:pt x="0" y="0"/>
                </a:moveTo>
                <a:lnTo>
                  <a:pt x="63248" y="0"/>
                </a:lnTo>
                <a:lnTo>
                  <a:pt x="61848" y="1400"/>
                </a:lnTo>
                <a:lnTo>
                  <a:pt x="1400" y="1400"/>
                </a:lnTo>
                <a:close/>
              </a:path>
              <a:path fill="darken" w="63248" h="21600">
                <a:moveTo>
                  <a:pt x="63248" y="0"/>
                </a:moveTo>
                <a:lnTo>
                  <a:pt x="63248" y="21600"/>
                </a:lnTo>
                <a:lnTo>
                  <a:pt x="61848" y="20200"/>
                </a:lnTo>
                <a:lnTo>
                  <a:pt x="61848" y="1400"/>
                </a:lnTo>
                <a:close/>
              </a:path>
              <a:path fill="darkenLess" w="63248" h="21600">
                <a:moveTo>
                  <a:pt x="6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48" y="20200"/>
                </a:lnTo>
                <a:close/>
              </a:path>
              <a:path fill="lighten" w="6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Б) 1463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724280"/>
            <a:ext cx="3124080" cy="106704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3226" h="21600">
                <a:moveTo>
                  <a:pt x="0" y="0"/>
                </a:moveTo>
                <a:lnTo>
                  <a:pt x="63226" y="0"/>
                </a:lnTo>
                <a:lnTo>
                  <a:pt x="63226" y="21600"/>
                </a:lnTo>
                <a:lnTo>
                  <a:pt x="0" y="21600"/>
                </a:lnTo>
                <a:close/>
              </a:path>
              <a:path fill="lightenLess" w="63226" h="21600">
                <a:moveTo>
                  <a:pt x="0" y="0"/>
                </a:moveTo>
                <a:lnTo>
                  <a:pt x="63226" y="0"/>
                </a:lnTo>
                <a:lnTo>
                  <a:pt x="61827" y="1400"/>
                </a:lnTo>
                <a:lnTo>
                  <a:pt x="1400" y="1400"/>
                </a:lnTo>
                <a:close/>
              </a:path>
              <a:path fill="darken" w="63226" h="21600">
                <a:moveTo>
                  <a:pt x="63226" y="0"/>
                </a:moveTo>
                <a:lnTo>
                  <a:pt x="63226" y="21600"/>
                </a:lnTo>
                <a:lnTo>
                  <a:pt x="61827" y="20200"/>
                </a:lnTo>
                <a:lnTo>
                  <a:pt x="61827" y="1400"/>
                </a:lnTo>
                <a:close/>
              </a:path>
              <a:path fill="darkenLess" w="63226" h="21600">
                <a:moveTo>
                  <a:pt x="6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27" y="20200"/>
                </a:lnTo>
                <a:close/>
              </a:path>
              <a:path fill="lighten" w="6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75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5105520" y="4800600"/>
            <a:ext cx="3124080" cy="106668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3248" h="21600">
                <a:moveTo>
                  <a:pt x="0" y="0"/>
                </a:moveTo>
                <a:lnTo>
                  <a:pt x="63248" y="0"/>
                </a:lnTo>
                <a:lnTo>
                  <a:pt x="63248" y="21600"/>
                </a:lnTo>
                <a:lnTo>
                  <a:pt x="0" y="21600"/>
                </a:lnTo>
                <a:close/>
              </a:path>
              <a:path fill="lightenLess" w="63248" h="21600">
                <a:moveTo>
                  <a:pt x="0" y="0"/>
                </a:moveTo>
                <a:lnTo>
                  <a:pt x="63248" y="0"/>
                </a:lnTo>
                <a:lnTo>
                  <a:pt x="61848" y="1400"/>
                </a:lnTo>
                <a:lnTo>
                  <a:pt x="1400" y="1400"/>
                </a:lnTo>
                <a:close/>
              </a:path>
              <a:path fill="darken" w="63248" h="21600">
                <a:moveTo>
                  <a:pt x="63248" y="0"/>
                </a:moveTo>
                <a:lnTo>
                  <a:pt x="63248" y="21600"/>
                </a:lnTo>
                <a:lnTo>
                  <a:pt x="61848" y="20200"/>
                </a:lnTo>
                <a:lnTo>
                  <a:pt x="61848" y="1400"/>
                </a:lnTo>
                <a:close/>
              </a:path>
              <a:path fill="darkenLess" w="63248" h="21600">
                <a:moveTo>
                  <a:pt x="6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48" y="20200"/>
                </a:lnTo>
                <a:close/>
              </a:path>
              <a:path fill="lighten" w="6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64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7. В результате войны с каким государством Ивану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удалось присоединить Вязьму, Брянск и Путивль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2666880" y="350532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Польша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4876920" y="5334120"/>
            <a:ext cx="4267080" cy="106668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Литва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304920" y="5334120"/>
            <a:ext cx="4267080" cy="106668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Швеция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8. Иван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умер 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2438280" y="22860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1503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2438280" y="3657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1502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5181480"/>
            <a:ext cx="4267440" cy="106704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64" h="21600">
                <a:moveTo>
                  <a:pt x="0" y="0"/>
                </a:moveTo>
                <a:lnTo>
                  <a:pt x="86364" y="0"/>
                </a:lnTo>
                <a:lnTo>
                  <a:pt x="86364" y="21600"/>
                </a:lnTo>
                <a:lnTo>
                  <a:pt x="0" y="21600"/>
                </a:lnTo>
                <a:close/>
              </a:path>
              <a:path fill="lightenLess" w="86364" h="21600">
                <a:moveTo>
                  <a:pt x="0" y="0"/>
                </a:moveTo>
                <a:lnTo>
                  <a:pt x="86364" y="0"/>
                </a:lnTo>
                <a:lnTo>
                  <a:pt x="84964" y="1400"/>
                </a:lnTo>
                <a:lnTo>
                  <a:pt x="1400" y="1400"/>
                </a:lnTo>
                <a:close/>
              </a:path>
              <a:path fill="darken" w="86364" h="21600">
                <a:moveTo>
                  <a:pt x="86364" y="0"/>
                </a:moveTo>
                <a:lnTo>
                  <a:pt x="86364" y="21600"/>
                </a:lnTo>
                <a:lnTo>
                  <a:pt x="84964" y="20200"/>
                </a:lnTo>
                <a:lnTo>
                  <a:pt x="84964" y="1400"/>
                </a:lnTo>
                <a:close/>
              </a:path>
              <a:path fill="darkenLess" w="86364" h="21600">
                <a:moveTo>
                  <a:pt x="8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4" y="20200"/>
                </a:lnTo>
                <a:close/>
              </a:path>
              <a:path fill="lighten" w="8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150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2676600" cy="223812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1752480" y="2362320"/>
            <a:ext cx="5105520" cy="2057400"/>
          </a:xfrm>
          <a:custGeom>
            <a:avLst/>
            <a:gdLst>
              <a:gd name="textAreaLeft" fmla="*/ 133200 w 5105520"/>
              <a:gd name="textAreaRight" fmla="*/ 4972320 w 51055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53596" h="21600">
                <a:moveTo>
                  <a:pt x="0" y="0"/>
                </a:moveTo>
                <a:lnTo>
                  <a:pt x="53596" y="0"/>
                </a:lnTo>
                <a:lnTo>
                  <a:pt x="53596" y="21600"/>
                </a:lnTo>
                <a:lnTo>
                  <a:pt x="0" y="21600"/>
                </a:lnTo>
                <a:close/>
              </a:path>
              <a:path fill="lightenLess" w="53596" h="21600">
                <a:moveTo>
                  <a:pt x="0" y="0"/>
                </a:moveTo>
                <a:lnTo>
                  <a:pt x="53596" y="0"/>
                </a:lnTo>
                <a:lnTo>
                  <a:pt x="52196" y="1400"/>
                </a:lnTo>
                <a:lnTo>
                  <a:pt x="1400" y="1400"/>
                </a:lnTo>
                <a:close/>
              </a:path>
              <a:path fill="darken" w="53596" h="21600">
                <a:moveTo>
                  <a:pt x="53596" y="0"/>
                </a:moveTo>
                <a:lnTo>
                  <a:pt x="53596" y="21600"/>
                </a:lnTo>
                <a:lnTo>
                  <a:pt x="52196" y="20200"/>
                </a:lnTo>
                <a:lnTo>
                  <a:pt x="52196" y="1400"/>
                </a:lnTo>
                <a:close/>
              </a:path>
              <a:path fill="darkenLess" w="53596" h="21600">
                <a:moveTo>
                  <a:pt x="53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96" y="20200"/>
                </a:lnTo>
                <a:close/>
              </a:path>
              <a:path fill="lighten" w="53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br>
              <a:rPr sz="4400"/>
            </a:b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ПОЗДРАВЛЯЮ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2. В каком году Иван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присоединил Новгоро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048120"/>
            <a:ext cx="3352680" cy="1066680"/>
          </a:xfrm>
          <a:custGeom>
            <a:avLst/>
            <a:gdLst>
              <a:gd name="textAreaLeft" fmla="*/ 69120 w 3352680"/>
              <a:gd name="textAreaRight" fmla="*/ 3283560 w 3352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7875" h="21600">
                <a:moveTo>
                  <a:pt x="0" y="0"/>
                </a:moveTo>
                <a:lnTo>
                  <a:pt x="67875" y="0"/>
                </a:lnTo>
                <a:lnTo>
                  <a:pt x="67875" y="21600"/>
                </a:lnTo>
                <a:lnTo>
                  <a:pt x="0" y="21600"/>
                </a:lnTo>
                <a:close/>
              </a:path>
              <a:path fill="lightenLess" w="67875" h="21600">
                <a:moveTo>
                  <a:pt x="0" y="0"/>
                </a:moveTo>
                <a:lnTo>
                  <a:pt x="67875" y="0"/>
                </a:lnTo>
                <a:lnTo>
                  <a:pt x="66475" y="1400"/>
                </a:lnTo>
                <a:lnTo>
                  <a:pt x="1400" y="1400"/>
                </a:lnTo>
                <a:close/>
              </a:path>
              <a:path fill="darken" w="67875" h="21600">
                <a:moveTo>
                  <a:pt x="67875" y="0"/>
                </a:moveTo>
                <a:lnTo>
                  <a:pt x="67875" y="21600"/>
                </a:lnTo>
                <a:lnTo>
                  <a:pt x="66475" y="20200"/>
                </a:lnTo>
                <a:lnTo>
                  <a:pt x="66475" y="1400"/>
                </a:lnTo>
                <a:close/>
              </a:path>
              <a:path fill="darkenLess" w="67875" h="21600">
                <a:moveTo>
                  <a:pt x="67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5" y="20200"/>
                </a:lnTo>
                <a:close/>
              </a:path>
              <a:path fill="lighten" w="67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1479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5029200" y="3048120"/>
            <a:ext cx="3276720" cy="1066680"/>
          </a:xfrm>
          <a:custGeom>
            <a:avLst/>
            <a:gdLst>
              <a:gd name="textAreaLeft" fmla="*/ 69120 w 3276720"/>
              <a:gd name="textAreaRight" fmla="*/ 3207600 w 32767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6338" h="21600">
                <a:moveTo>
                  <a:pt x="0" y="0"/>
                </a:moveTo>
                <a:lnTo>
                  <a:pt x="66338" y="0"/>
                </a:lnTo>
                <a:lnTo>
                  <a:pt x="66338" y="21600"/>
                </a:lnTo>
                <a:lnTo>
                  <a:pt x="0" y="21600"/>
                </a:lnTo>
                <a:close/>
              </a:path>
              <a:path fill="lightenLess" w="66338" h="21600">
                <a:moveTo>
                  <a:pt x="0" y="0"/>
                </a:moveTo>
                <a:lnTo>
                  <a:pt x="66338" y="0"/>
                </a:lnTo>
                <a:lnTo>
                  <a:pt x="64938" y="1400"/>
                </a:lnTo>
                <a:lnTo>
                  <a:pt x="1400" y="1400"/>
                </a:lnTo>
                <a:close/>
              </a:path>
              <a:path fill="darken" w="66338" h="21600">
                <a:moveTo>
                  <a:pt x="66338" y="0"/>
                </a:moveTo>
                <a:lnTo>
                  <a:pt x="66338" y="21600"/>
                </a:lnTo>
                <a:lnTo>
                  <a:pt x="64938" y="20200"/>
                </a:lnTo>
                <a:lnTo>
                  <a:pt x="64938" y="1400"/>
                </a:lnTo>
                <a:close/>
              </a:path>
              <a:path fill="darkenLess" w="66338" h="21600">
                <a:moveTo>
                  <a:pt x="66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938" y="20200"/>
                </a:lnTo>
                <a:close/>
              </a:path>
              <a:path fill="lighten" w="66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146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990720" y="4800600"/>
            <a:ext cx="3276360" cy="1066680"/>
          </a:xfrm>
          <a:custGeom>
            <a:avLst/>
            <a:gdLst>
              <a:gd name="textAreaLeft" fmla="*/ 69120 w 3276360"/>
              <a:gd name="textAreaRight" fmla="*/ 3207240 w 32763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6330" h="21600">
                <a:moveTo>
                  <a:pt x="0" y="0"/>
                </a:moveTo>
                <a:lnTo>
                  <a:pt x="66330" y="0"/>
                </a:lnTo>
                <a:lnTo>
                  <a:pt x="66330" y="21600"/>
                </a:lnTo>
                <a:lnTo>
                  <a:pt x="0" y="21600"/>
                </a:lnTo>
                <a:close/>
              </a:path>
              <a:path fill="lightenLess" w="66330" h="21600">
                <a:moveTo>
                  <a:pt x="0" y="0"/>
                </a:moveTo>
                <a:lnTo>
                  <a:pt x="66330" y="0"/>
                </a:lnTo>
                <a:lnTo>
                  <a:pt x="64930" y="1400"/>
                </a:lnTo>
                <a:lnTo>
                  <a:pt x="1400" y="1400"/>
                </a:lnTo>
                <a:close/>
              </a:path>
              <a:path fill="darken" w="66330" h="21600">
                <a:moveTo>
                  <a:pt x="66330" y="0"/>
                </a:moveTo>
                <a:lnTo>
                  <a:pt x="66330" y="21600"/>
                </a:lnTo>
                <a:lnTo>
                  <a:pt x="64930" y="20200"/>
                </a:lnTo>
                <a:lnTo>
                  <a:pt x="64930" y="1400"/>
                </a:lnTo>
                <a:close/>
              </a:path>
              <a:path fill="darkenLess" w="66330" h="21600">
                <a:moveTo>
                  <a:pt x="66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930" y="20200"/>
                </a:lnTo>
                <a:close/>
              </a:path>
              <a:path fill="lighten" w="66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1478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800600"/>
            <a:ext cx="3200400" cy="1066680"/>
          </a:xfrm>
          <a:custGeom>
            <a:avLst/>
            <a:gdLst>
              <a:gd name="textAreaLeft" fmla="*/ 69120 w 3200400"/>
              <a:gd name="textAreaRight" fmla="*/ 3131280 w 3200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4793" h="21600">
                <a:moveTo>
                  <a:pt x="0" y="0"/>
                </a:moveTo>
                <a:lnTo>
                  <a:pt x="64793" y="0"/>
                </a:lnTo>
                <a:lnTo>
                  <a:pt x="64793" y="21600"/>
                </a:lnTo>
                <a:lnTo>
                  <a:pt x="0" y="21600"/>
                </a:lnTo>
                <a:close/>
              </a:path>
              <a:path fill="lightenLess" w="64793" h="21600">
                <a:moveTo>
                  <a:pt x="0" y="0"/>
                </a:moveTo>
                <a:lnTo>
                  <a:pt x="64793" y="0"/>
                </a:lnTo>
                <a:lnTo>
                  <a:pt x="63393" y="1400"/>
                </a:lnTo>
                <a:lnTo>
                  <a:pt x="1400" y="1400"/>
                </a:lnTo>
                <a:close/>
              </a:path>
              <a:path fill="darken" w="64793" h="21600">
                <a:moveTo>
                  <a:pt x="64793" y="0"/>
                </a:moveTo>
                <a:lnTo>
                  <a:pt x="64793" y="21600"/>
                </a:lnTo>
                <a:lnTo>
                  <a:pt x="63393" y="20200"/>
                </a:lnTo>
                <a:lnTo>
                  <a:pt x="63393" y="1400"/>
                </a:lnTo>
                <a:close/>
              </a:path>
              <a:path fill="darkenLess" w="64793" h="21600">
                <a:moveTo>
                  <a:pt x="64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3" y="20200"/>
                </a:lnTo>
                <a:close/>
              </a:path>
              <a:path fill="lighten" w="64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)146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. Сборник законов, изданный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ваном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называл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914400" y="4114800"/>
            <a:ext cx="3657600" cy="1143000"/>
          </a:xfrm>
          <a:custGeom>
            <a:avLst/>
            <a:gdLst>
              <a:gd name="textAreaLeft" fmla="*/ 73800 w 3657600"/>
              <a:gd name="textAreaRight" fmla="*/ 3583800 w 3657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9105" h="21600">
                <a:moveTo>
                  <a:pt x="0" y="0"/>
                </a:moveTo>
                <a:lnTo>
                  <a:pt x="69105" y="0"/>
                </a:lnTo>
                <a:lnTo>
                  <a:pt x="69105" y="21600"/>
                </a:lnTo>
                <a:lnTo>
                  <a:pt x="0" y="21600"/>
                </a:lnTo>
                <a:close/>
              </a:path>
              <a:path fill="lightenLess" w="69105" h="21600">
                <a:moveTo>
                  <a:pt x="0" y="0"/>
                </a:moveTo>
                <a:lnTo>
                  <a:pt x="69105" y="0"/>
                </a:lnTo>
                <a:lnTo>
                  <a:pt x="67705" y="1400"/>
                </a:lnTo>
                <a:lnTo>
                  <a:pt x="1400" y="1400"/>
                </a:lnTo>
                <a:close/>
              </a:path>
              <a:path fill="darken" w="69105" h="21600">
                <a:moveTo>
                  <a:pt x="69105" y="0"/>
                </a:moveTo>
                <a:lnTo>
                  <a:pt x="69105" y="21600"/>
                </a:lnTo>
                <a:lnTo>
                  <a:pt x="67705" y="20200"/>
                </a:lnTo>
                <a:lnTo>
                  <a:pt x="67705" y="1400"/>
                </a:lnTo>
                <a:close/>
              </a:path>
              <a:path fill="darkenLess" w="69105" h="21600">
                <a:moveTo>
                  <a:pt x="69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5" y="20200"/>
                </a:lnTo>
                <a:close/>
              </a:path>
              <a:path fill="lighten" w="69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)Русская прав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5029200" y="4114800"/>
            <a:ext cx="3657600" cy="1143000"/>
          </a:xfrm>
          <a:custGeom>
            <a:avLst/>
            <a:gdLst>
              <a:gd name="textAreaLeft" fmla="*/ 73800 w 3657600"/>
              <a:gd name="textAreaRight" fmla="*/ 3583800 w 3657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9105" h="21600">
                <a:moveTo>
                  <a:pt x="0" y="0"/>
                </a:moveTo>
                <a:lnTo>
                  <a:pt x="69105" y="0"/>
                </a:lnTo>
                <a:lnTo>
                  <a:pt x="69105" y="21600"/>
                </a:lnTo>
                <a:lnTo>
                  <a:pt x="0" y="21600"/>
                </a:lnTo>
                <a:close/>
              </a:path>
              <a:path fill="lightenLess" w="69105" h="21600">
                <a:moveTo>
                  <a:pt x="0" y="0"/>
                </a:moveTo>
                <a:lnTo>
                  <a:pt x="69105" y="0"/>
                </a:lnTo>
                <a:lnTo>
                  <a:pt x="67705" y="1400"/>
                </a:lnTo>
                <a:lnTo>
                  <a:pt x="1400" y="1400"/>
                </a:lnTo>
                <a:close/>
              </a:path>
              <a:path fill="darken" w="69105" h="21600">
                <a:moveTo>
                  <a:pt x="69105" y="0"/>
                </a:moveTo>
                <a:lnTo>
                  <a:pt x="69105" y="21600"/>
                </a:lnTo>
                <a:lnTo>
                  <a:pt x="67705" y="20200"/>
                </a:lnTo>
                <a:lnTo>
                  <a:pt x="67705" y="1400"/>
                </a:lnTo>
                <a:close/>
              </a:path>
              <a:path fill="darkenLess" w="69105" h="21600">
                <a:moveTo>
                  <a:pt x="69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5" y="20200"/>
                </a:lnTo>
                <a:close/>
              </a:path>
              <a:path fill="lighten" w="69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Б)Судебни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04T14:24:25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  <property fmtid="{D5CDD505-2E9C-101B-9397-08002B2CF9AE}" pid="3" name="Version">
    <vt:r8>1</vt:r8>
  </property>
</Properties>
</file>