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EBF9-2F3D-4D2D-B709-062FC105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62EA-9D9D-44F2-9C0E-CD893A42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02B5-591A-4813-91B0-27D86035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C1D4-6355-4D4C-B8E6-01F84329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CE89-30BC-4CED-9BA3-42D4552F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EC41-8E1C-4709-9C09-AABF1CD7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F978-2A5B-41D7-8836-FFFE81E9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7B5C-B4AA-443B-86B9-0328A35C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2E84-F51A-42DD-B9C3-69B9978B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8F3F-3523-46BA-A91F-8BDEAC6C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10ED-F9D1-4A75-8CD7-2456E846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4971-71E4-4D14-8A58-444B0994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E409-0B4A-46C2-93EF-463F2882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9DD2-4C11-4C01-B12A-4D142F3A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FD2C-DFF0-4FDE-9F09-D1276D89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CA4F-95F6-4E08-94F9-7EA5D69A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D83E-C23B-4AC4-9553-95731E62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C5FE-464E-4CB4-93BC-94026ADE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12E-0A10-40B5-84AF-E38AAE29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0264-E654-4479-B9F7-FBAC0284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DDA5-B595-4685-A4A4-CD2C9902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C4F2-01C7-4752-9A80-E66D1491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766F-BFED-484E-889E-EA87EA50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6618-436E-43DA-B056-8E7EAB4F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0F51-F49E-4EE8-8904-BF4717E749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F91F-01FD-4346-8B15-8D916D07AF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ccecff"/>
                </a:solidFill>
                <a:latin typeface="Arial"/>
              </a:rPr>
              <a:t>Закрепление знаний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Тест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4. Иван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был женат на племяннице византийского император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2590920"/>
            <a:ext cx="5410080" cy="1143000"/>
          </a:xfrm>
          <a:custGeom>
            <a:avLst/>
            <a:gdLst>
              <a:gd name="textAreaLeft" fmla="*/ 73800 w 5410080"/>
              <a:gd name="textAreaRight" fmla="*/ 5336280 w 54100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2212" h="21600">
                <a:moveTo>
                  <a:pt x="0" y="0"/>
                </a:moveTo>
                <a:lnTo>
                  <a:pt x="102212" y="0"/>
                </a:lnTo>
                <a:lnTo>
                  <a:pt x="102212" y="21600"/>
                </a:lnTo>
                <a:lnTo>
                  <a:pt x="0" y="21600"/>
                </a:lnTo>
                <a:close/>
              </a:path>
              <a:path fill="lightenLess" w="102212" h="21600">
                <a:moveTo>
                  <a:pt x="0" y="0"/>
                </a:moveTo>
                <a:lnTo>
                  <a:pt x="102212" y="0"/>
                </a:lnTo>
                <a:lnTo>
                  <a:pt x="100812" y="1400"/>
                </a:lnTo>
                <a:lnTo>
                  <a:pt x="1400" y="1400"/>
                </a:lnTo>
                <a:close/>
              </a:path>
              <a:path fill="darken" w="102212" h="21600">
                <a:moveTo>
                  <a:pt x="102212" y="0"/>
                </a:moveTo>
                <a:lnTo>
                  <a:pt x="102212" y="21600"/>
                </a:lnTo>
                <a:lnTo>
                  <a:pt x="100812" y="20200"/>
                </a:lnTo>
                <a:lnTo>
                  <a:pt x="100812" y="1400"/>
                </a:lnTo>
                <a:close/>
              </a:path>
              <a:path fill="darkenLess" w="102212" h="21600">
                <a:moveTo>
                  <a:pt x="102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12" y="20200"/>
                </a:lnTo>
                <a:close/>
              </a:path>
              <a:path fill="lighten" w="102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да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>
            <a:hlinkClick r:id="rId1" action="ppaction://hlinksldjump"/>
          </p:cNvPr>
          <p:cNvSpPr/>
          <p:nvPr/>
        </p:nvSpPr>
        <p:spPr>
          <a:xfrm>
            <a:off x="1905120" y="4724280"/>
            <a:ext cx="5410080" cy="1143000"/>
          </a:xfrm>
          <a:custGeom>
            <a:avLst/>
            <a:gdLst>
              <a:gd name="textAreaLeft" fmla="*/ 73800 w 5410080"/>
              <a:gd name="textAreaRight" fmla="*/ 5336280 w 54100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2212" h="21600">
                <a:moveTo>
                  <a:pt x="0" y="0"/>
                </a:moveTo>
                <a:lnTo>
                  <a:pt x="102212" y="0"/>
                </a:lnTo>
                <a:lnTo>
                  <a:pt x="102212" y="21600"/>
                </a:lnTo>
                <a:lnTo>
                  <a:pt x="0" y="21600"/>
                </a:lnTo>
                <a:close/>
              </a:path>
              <a:path fill="lightenLess" w="102212" h="21600">
                <a:moveTo>
                  <a:pt x="0" y="0"/>
                </a:moveTo>
                <a:lnTo>
                  <a:pt x="102212" y="0"/>
                </a:lnTo>
                <a:lnTo>
                  <a:pt x="100812" y="1400"/>
                </a:lnTo>
                <a:lnTo>
                  <a:pt x="1400" y="1400"/>
                </a:lnTo>
                <a:close/>
              </a:path>
              <a:path fill="darken" w="102212" h="21600">
                <a:moveTo>
                  <a:pt x="102212" y="0"/>
                </a:moveTo>
                <a:lnTo>
                  <a:pt x="102212" y="21600"/>
                </a:lnTo>
                <a:lnTo>
                  <a:pt x="100812" y="20200"/>
                </a:lnTo>
                <a:lnTo>
                  <a:pt x="100812" y="1400"/>
                </a:lnTo>
                <a:close/>
              </a:path>
              <a:path fill="darkenLess" w="102212" h="21600">
                <a:moveTo>
                  <a:pt x="102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12" y="20200"/>
                </a:lnTo>
                <a:close/>
              </a:path>
              <a:path fill="lighten" w="102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не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2438280" y="4495680"/>
            <a:ext cx="4419720" cy="1067040"/>
          </a:xfrm>
          <a:custGeom>
            <a:avLst/>
            <a:gdLst>
              <a:gd name="textAreaLeft" fmla="*/ 69120 w 4419720"/>
              <a:gd name="textAreaRight" fmla="*/ 4350600 w 44197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9445" h="21600">
                <a:moveTo>
                  <a:pt x="0" y="0"/>
                </a:moveTo>
                <a:lnTo>
                  <a:pt x="89445" y="0"/>
                </a:lnTo>
                <a:lnTo>
                  <a:pt x="89445" y="21600"/>
                </a:lnTo>
                <a:lnTo>
                  <a:pt x="0" y="21600"/>
                </a:lnTo>
                <a:close/>
              </a:path>
              <a:path fill="lightenLess" w="89445" h="21600">
                <a:moveTo>
                  <a:pt x="0" y="0"/>
                </a:moveTo>
                <a:lnTo>
                  <a:pt x="89445" y="0"/>
                </a:lnTo>
                <a:lnTo>
                  <a:pt x="88045" y="1400"/>
                </a:lnTo>
                <a:lnTo>
                  <a:pt x="1400" y="1400"/>
                </a:lnTo>
                <a:close/>
              </a:path>
              <a:path fill="darken" w="89445" h="21600">
                <a:moveTo>
                  <a:pt x="89445" y="0"/>
                </a:moveTo>
                <a:lnTo>
                  <a:pt x="89445" y="21600"/>
                </a:lnTo>
                <a:lnTo>
                  <a:pt x="88045" y="20200"/>
                </a:lnTo>
                <a:lnTo>
                  <a:pt x="88045" y="1400"/>
                </a:lnTo>
                <a:close/>
              </a:path>
              <a:path fill="darkenLess" w="89445" h="21600">
                <a:moveTo>
                  <a:pt x="89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45" y="20200"/>
                </a:lnTo>
                <a:close/>
              </a:path>
              <a:path fill="lighten" w="89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йти к следующему вопр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5. Битва на р. Угре состоялась в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2286000"/>
            <a:ext cx="4267440" cy="106668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93" h="21600">
                <a:moveTo>
                  <a:pt x="0" y="0"/>
                </a:moveTo>
                <a:lnTo>
                  <a:pt x="86393" y="0"/>
                </a:lnTo>
                <a:lnTo>
                  <a:pt x="86393" y="21600"/>
                </a:lnTo>
                <a:lnTo>
                  <a:pt x="0" y="21600"/>
                </a:lnTo>
                <a:close/>
              </a:path>
              <a:path fill="lightenLess" w="86393" h="21600">
                <a:moveTo>
                  <a:pt x="0" y="0"/>
                </a:moveTo>
                <a:lnTo>
                  <a:pt x="86393" y="0"/>
                </a:lnTo>
                <a:lnTo>
                  <a:pt x="84993" y="1400"/>
                </a:lnTo>
                <a:lnTo>
                  <a:pt x="1400" y="1400"/>
                </a:lnTo>
                <a:close/>
              </a:path>
              <a:path fill="darken" w="86393" h="21600">
                <a:moveTo>
                  <a:pt x="86393" y="0"/>
                </a:moveTo>
                <a:lnTo>
                  <a:pt x="86393" y="21600"/>
                </a:lnTo>
                <a:lnTo>
                  <a:pt x="84993" y="20200"/>
                </a:lnTo>
                <a:lnTo>
                  <a:pt x="84993" y="1400"/>
                </a:lnTo>
                <a:close/>
              </a:path>
              <a:path fill="darkenLess" w="86393" h="21600">
                <a:moveTo>
                  <a:pt x="86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3" y="20200"/>
                </a:lnTo>
                <a:close/>
              </a:path>
              <a:path fill="lighten" w="86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1474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3657600"/>
            <a:ext cx="4267440" cy="106668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93" h="21600">
                <a:moveTo>
                  <a:pt x="0" y="0"/>
                </a:moveTo>
                <a:lnTo>
                  <a:pt x="86393" y="0"/>
                </a:lnTo>
                <a:lnTo>
                  <a:pt x="86393" y="21600"/>
                </a:lnTo>
                <a:lnTo>
                  <a:pt x="0" y="21600"/>
                </a:lnTo>
                <a:close/>
              </a:path>
              <a:path fill="lightenLess" w="86393" h="21600">
                <a:moveTo>
                  <a:pt x="0" y="0"/>
                </a:moveTo>
                <a:lnTo>
                  <a:pt x="86393" y="0"/>
                </a:lnTo>
                <a:lnTo>
                  <a:pt x="84993" y="1400"/>
                </a:lnTo>
                <a:lnTo>
                  <a:pt x="1400" y="1400"/>
                </a:lnTo>
                <a:close/>
              </a:path>
              <a:path fill="darken" w="86393" h="21600">
                <a:moveTo>
                  <a:pt x="86393" y="0"/>
                </a:moveTo>
                <a:lnTo>
                  <a:pt x="86393" y="21600"/>
                </a:lnTo>
                <a:lnTo>
                  <a:pt x="84993" y="20200"/>
                </a:lnTo>
                <a:lnTo>
                  <a:pt x="84993" y="1400"/>
                </a:lnTo>
                <a:close/>
              </a:path>
              <a:path fill="darkenLess" w="86393" h="21600">
                <a:moveTo>
                  <a:pt x="86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3" y="20200"/>
                </a:lnTo>
                <a:close/>
              </a:path>
              <a:path fill="lighten" w="86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 1480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2438280" y="5181480"/>
            <a:ext cx="4267440" cy="106704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6364" h="21600">
                <a:moveTo>
                  <a:pt x="0" y="0"/>
                </a:moveTo>
                <a:lnTo>
                  <a:pt x="86364" y="0"/>
                </a:lnTo>
                <a:lnTo>
                  <a:pt x="86364" y="21600"/>
                </a:lnTo>
                <a:lnTo>
                  <a:pt x="0" y="21600"/>
                </a:lnTo>
                <a:close/>
              </a:path>
              <a:path fill="lightenLess" w="86364" h="21600">
                <a:moveTo>
                  <a:pt x="0" y="0"/>
                </a:moveTo>
                <a:lnTo>
                  <a:pt x="86364" y="0"/>
                </a:lnTo>
                <a:lnTo>
                  <a:pt x="84964" y="1400"/>
                </a:lnTo>
                <a:lnTo>
                  <a:pt x="1400" y="1400"/>
                </a:lnTo>
                <a:close/>
              </a:path>
              <a:path fill="darken" w="86364" h="21600">
                <a:moveTo>
                  <a:pt x="86364" y="0"/>
                </a:moveTo>
                <a:lnTo>
                  <a:pt x="86364" y="21600"/>
                </a:lnTo>
                <a:lnTo>
                  <a:pt x="84964" y="20200"/>
                </a:lnTo>
                <a:lnTo>
                  <a:pt x="84964" y="1400"/>
                </a:lnTo>
                <a:close/>
              </a:path>
              <a:path fill="darkenLess" w="86364" h="21600">
                <a:moveTo>
                  <a:pt x="86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64" y="20200"/>
                </a:lnTo>
                <a:close/>
              </a:path>
              <a:path fill="lighten" w="86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)1475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>
            <a:hlinkClick r:id="rId1" action="ppaction://hlinksldjump"/>
          </p:cNvPr>
          <p:cNvSpPr/>
          <p:nvPr/>
        </p:nvSpPr>
        <p:spPr>
          <a:xfrm>
            <a:off x="2438280" y="4495680"/>
            <a:ext cx="4419720" cy="1067040"/>
          </a:xfrm>
          <a:custGeom>
            <a:avLst/>
            <a:gdLst>
              <a:gd name="textAreaLeft" fmla="*/ 69120 w 4419720"/>
              <a:gd name="textAreaRight" fmla="*/ 4350600 w 44197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9445" h="21600">
                <a:moveTo>
                  <a:pt x="0" y="0"/>
                </a:moveTo>
                <a:lnTo>
                  <a:pt x="89445" y="0"/>
                </a:lnTo>
                <a:lnTo>
                  <a:pt x="89445" y="21600"/>
                </a:lnTo>
                <a:lnTo>
                  <a:pt x="0" y="21600"/>
                </a:lnTo>
                <a:close/>
              </a:path>
              <a:path fill="lightenLess" w="89445" h="21600">
                <a:moveTo>
                  <a:pt x="0" y="0"/>
                </a:moveTo>
                <a:lnTo>
                  <a:pt x="89445" y="0"/>
                </a:lnTo>
                <a:lnTo>
                  <a:pt x="88045" y="1400"/>
                </a:lnTo>
                <a:lnTo>
                  <a:pt x="1400" y="1400"/>
                </a:lnTo>
                <a:close/>
              </a:path>
              <a:path fill="darken" w="89445" h="21600">
                <a:moveTo>
                  <a:pt x="89445" y="0"/>
                </a:moveTo>
                <a:lnTo>
                  <a:pt x="89445" y="21600"/>
                </a:lnTo>
                <a:lnTo>
                  <a:pt x="88045" y="20200"/>
                </a:lnTo>
                <a:lnTo>
                  <a:pt x="88045" y="1400"/>
                </a:lnTo>
                <a:close/>
              </a:path>
              <a:path fill="darkenLess" w="89445" h="21600">
                <a:moveTo>
                  <a:pt x="89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45" y="20200"/>
                </a:lnTo>
                <a:close/>
              </a:path>
              <a:path fill="lighten" w="89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йти к следующему вопр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6. Считается, что «стояние на р. Угре» закончилось победо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62320" y="2895480"/>
            <a:ext cx="4267080" cy="1067040"/>
          </a:xfrm>
          <a:custGeom>
            <a:avLst/>
            <a:gdLst>
              <a:gd name="textAreaLeft" fmla="*/ 69120 w 4267080"/>
              <a:gd name="textAreaRight" fmla="*/ 4197960 w 42670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6356" h="21600">
                <a:moveTo>
                  <a:pt x="0" y="0"/>
                </a:moveTo>
                <a:lnTo>
                  <a:pt x="86356" y="0"/>
                </a:lnTo>
                <a:lnTo>
                  <a:pt x="86356" y="21600"/>
                </a:lnTo>
                <a:lnTo>
                  <a:pt x="0" y="21600"/>
                </a:lnTo>
                <a:close/>
              </a:path>
              <a:path fill="lightenLess" w="86356" h="21600">
                <a:moveTo>
                  <a:pt x="0" y="0"/>
                </a:moveTo>
                <a:lnTo>
                  <a:pt x="86356" y="0"/>
                </a:lnTo>
                <a:lnTo>
                  <a:pt x="84956" y="1400"/>
                </a:lnTo>
                <a:lnTo>
                  <a:pt x="1400" y="1400"/>
                </a:lnTo>
                <a:close/>
              </a:path>
              <a:path fill="darken" w="86356" h="21600">
                <a:moveTo>
                  <a:pt x="86356" y="0"/>
                </a:moveTo>
                <a:lnTo>
                  <a:pt x="86356" y="21600"/>
                </a:lnTo>
                <a:lnTo>
                  <a:pt x="84956" y="20200"/>
                </a:lnTo>
                <a:lnTo>
                  <a:pt x="84956" y="1400"/>
                </a:lnTo>
                <a:close/>
              </a:path>
              <a:path fill="darkenLess" w="86356" h="21600">
                <a:moveTo>
                  <a:pt x="86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6" y="20200"/>
                </a:lnTo>
                <a:close/>
              </a:path>
              <a:path fill="lighten" w="86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Иван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2438280" y="4800600"/>
            <a:ext cx="4267440" cy="106668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93" h="21600">
                <a:moveTo>
                  <a:pt x="0" y="0"/>
                </a:moveTo>
                <a:lnTo>
                  <a:pt x="86393" y="0"/>
                </a:lnTo>
                <a:lnTo>
                  <a:pt x="86393" y="21600"/>
                </a:lnTo>
                <a:lnTo>
                  <a:pt x="0" y="21600"/>
                </a:lnTo>
                <a:close/>
              </a:path>
              <a:path fill="lightenLess" w="86393" h="21600">
                <a:moveTo>
                  <a:pt x="0" y="0"/>
                </a:moveTo>
                <a:lnTo>
                  <a:pt x="86393" y="0"/>
                </a:lnTo>
                <a:lnTo>
                  <a:pt x="84993" y="1400"/>
                </a:lnTo>
                <a:lnTo>
                  <a:pt x="1400" y="1400"/>
                </a:lnTo>
                <a:close/>
              </a:path>
              <a:path fill="darken" w="86393" h="21600">
                <a:moveTo>
                  <a:pt x="86393" y="0"/>
                </a:moveTo>
                <a:lnTo>
                  <a:pt x="86393" y="21600"/>
                </a:lnTo>
                <a:lnTo>
                  <a:pt x="84993" y="20200"/>
                </a:lnTo>
                <a:lnTo>
                  <a:pt x="84993" y="1400"/>
                </a:lnTo>
                <a:close/>
              </a:path>
              <a:path fill="darkenLess" w="86393" h="21600">
                <a:moveTo>
                  <a:pt x="86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3" y="20200"/>
                </a:lnTo>
                <a:close/>
              </a:path>
              <a:path fill="lighten" w="86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Монголо-татар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">
            <a:hlinkClick r:id="rId1" action="ppaction://hlinksldjump"/>
          </p:cNvPr>
          <p:cNvSpPr/>
          <p:nvPr/>
        </p:nvSpPr>
        <p:spPr>
          <a:xfrm>
            <a:off x="2438280" y="4495680"/>
            <a:ext cx="4419720" cy="1067040"/>
          </a:xfrm>
          <a:custGeom>
            <a:avLst/>
            <a:gdLst>
              <a:gd name="textAreaLeft" fmla="*/ 69120 w 4419720"/>
              <a:gd name="textAreaRight" fmla="*/ 4350600 w 44197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9445" h="21600">
                <a:moveTo>
                  <a:pt x="0" y="0"/>
                </a:moveTo>
                <a:lnTo>
                  <a:pt x="89445" y="0"/>
                </a:lnTo>
                <a:lnTo>
                  <a:pt x="89445" y="21600"/>
                </a:lnTo>
                <a:lnTo>
                  <a:pt x="0" y="21600"/>
                </a:lnTo>
                <a:close/>
              </a:path>
              <a:path fill="lightenLess" w="89445" h="21600">
                <a:moveTo>
                  <a:pt x="0" y="0"/>
                </a:moveTo>
                <a:lnTo>
                  <a:pt x="89445" y="0"/>
                </a:lnTo>
                <a:lnTo>
                  <a:pt x="88045" y="1400"/>
                </a:lnTo>
                <a:lnTo>
                  <a:pt x="1400" y="1400"/>
                </a:lnTo>
                <a:close/>
              </a:path>
              <a:path fill="darken" w="89445" h="21600">
                <a:moveTo>
                  <a:pt x="89445" y="0"/>
                </a:moveTo>
                <a:lnTo>
                  <a:pt x="89445" y="21600"/>
                </a:lnTo>
                <a:lnTo>
                  <a:pt x="88045" y="20200"/>
                </a:lnTo>
                <a:lnTo>
                  <a:pt x="88045" y="1400"/>
                </a:lnTo>
                <a:close/>
              </a:path>
              <a:path fill="darkenLess" w="89445" h="21600">
                <a:moveTo>
                  <a:pt x="89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45" y="20200"/>
                </a:lnTo>
                <a:close/>
              </a:path>
              <a:path fill="lighten" w="89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йти к следующему вопр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1.Иван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правил с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533520" y="2971800"/>
            <a:ext cx="3200400" cy="1066680"/>
          </a:xfrm>
          <a:custGeom>
            <a:avLst/>
            <a:gdLst>
              <a:gd name="textAreaLeft" fmla="*/ 69120 w 3200400"/>
              <a:gd name="textAreaRight" fmla="*/ 3131280 w 32004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4793" h="21600">
                <a:moveTo>
                  <a:pt x="0" y="0"/>
                </a:moveTo>
                <a:lnTo>
                  <a:pt x="64793" y="0"/>
                </a:lnTo>
                <a:lnTo>
                  <a:pt x="64793" y="21600"/>
                </a:lnTo>
                <a:lnTo>
                  <a:pt x="0" y="21600"/>
                </a:lnTo>
                <a:close/>
              </a:path>
              <a:path fill="lightenLess" w="64793" h="21600">
                <a:moveTo>
                  <a:pt x="0" y="0"/>
                </a:moveTo>
                <a:lnTo>
                  <a:pt x="64793" y="0"/>
                </a:lnTo>
                <a:lnTo>
                  <a:pt x="63393" y="1400"/>
                </a:lnTo>
                <a:lnTo>
                  <a:pt x="1400" y="1400"/>
                </a:lnTo>
                <a:close/>
              </a:path>
              <a:path fill="darken" w="64793" h="21600">
                <a:moveTo>
                  <a:pt x="64793" y="0"/>
                </a:moveTo>
                <a:lnTo>
                  <a:pt x="64793" y="21600"/>
                </a:lnTo>
                <a:lnTo>
                  <a:pt x="63393" y="20200"/>
                </a:lnTo>
                <a:lnTo>
                  <a:pt x="63393" y="1400"/>
                </a:lnTo>
                <a:close/>
              </a:path>
              <a:path fill="darkenLess" w="64793" h="21600">
                <a:moveTo>
                  <a:pt x="647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3" y="20200"/>
                </a:lnTo>
                <a:close/>
              </a:path>
              <a:path fill="lighten" w="647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1462 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5029200" y="2971800"/>
            <a:ext cx="3124080" cy="1066680"/>
          </a:xfrm>
          <a:custGeom>
            <a:avLst/>
            <a:gdLst>
              <a:gd name="textAreaLeft" fmla="*/ 69120 w 3124080"/>
              <a:gd name="textAreaRight" fmla="*/ 3054960 w 31240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3248" h="21600">
                <a:moveTo>
                  <a:pt x="0" y="0"/>
                </a:moveTo>
                <a:lnTo>
                  <a:pt x="63248" y="0"/>
                </a:lnTo>
                <a:lnTo>
                  <a:pt x="63248" y="21600"/>
                </a:lnTo>
                <a:lnTo>
                  <a:pt x="0" y="21600"/>
                </a:lnTo>
                <a:close/>
              </a:path>
              <a:path fill="lightenLess" w="63248" h="21600">
                <a:moveTo>
                  <a:pt x="0" y="0"/>
                </a:moveTo>
                <a:lnTo>
                  <a:pt x="63248" y="0"/>
                </a:lnTo>
                <a:lnTo>
                  <a:pt x="61848" y="1400"/>
                </a:lnTo>
                <a:lnTo>
                  <a:pt x="1400" y="1400"/>
                </a:lnTo>
                <a:close/>
              </a:path>
              <a:path fill="darken" w="63248" h="21600">
                <a:moveTo>
                  <a:pt x="63248" y="0"/>
                </a:moveTo>
                <a:lnTo>
                  <a:pt x="63248" y="21600"/>
                </a:lnTo>
                <a:lnTo>
                  <a:pt x="61848" y="20200"/>
                </a:lnTo>
                <a:lnTo>
                  <a:pt x="61848" y="1400"/>
                </a:lnTo>
                <a:close/>
              </a:path>
              <a:path fill="darkenLess" w="63248" h="21600">
                <a:moveTo>
                  <a:pt x="63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848" y="20200"/>
                </a:lnTo>
                <a:close/>
              </a:path>
              <a:path fill="lighten" w="63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Б) 1463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4724280"/>
            <a:ext cx="3124080" cy="1067040"/>
          </a:xfrm>
          <a:custGeom>
            <a:avLst/>
            <a:gdLst>
              <a:gd name="textAreaLeft" fmla="*/ 69120 w 3124080"/>
              <a:gd name="textAreaRight" fmla="*/ 3054960 w 31240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63226" h="21600">
                <a:moveTo>
                  <a:pt x="0" y="0"/>
                </a:moveTo>
                <a:lnTo>
                  <a:pt x="63226" y="0"/>
                </a:lnTo>
                <a:lnTo>
                  <a:pt x="63226" y="21600"/>
                </a:lnTo>
                <a:lnTo>
                  <a:pt x="0" y="21600"/>
                </a:lnTo>
                <a:close/>
              </a:path>
              <a:path fill="lightenLess" w="63226" h="21600">
                <a:moveTo>
                  <a:pt x="0" y="0"/>
                </a:moveTo>
                <a:lnTo>
                  <a:pt x="63226" y="0"/>
                </a:lnTo>
                <a:lnTo>
                  <a:pt x="61827" y="1400"/>
                </a:lnTo>
                <a:lnTo>
                  <a:pt x="1400" y="1400"/>
                </a:lnTo>
                <a:close/>
              </a:path>
              <a:path fill="darken" w="63226" h="21600">
                <a:moveTo>
                  <a:pt x="63226" y="0"/>
                </a:moveTo>
                <a:lnTo>
                  <a:pt x="63226" y="21600"/>
                </a:lnTo>
                <a:lnTo>
                  <a:pt x="61827" y="20200"/>
                </a:lnTo>
                <a:lnTo>
                  <a:pt x="61827" y="1400"/>
                </a:lnTo>
                <a:close/>
              </a:path>
              <a:path fill="darkenLess" w="63226" h="21600">
                <a:moveTo>
                  <a:pt x="63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827" y="20200"/>
                </a:lnTo>
                <a:close/>
              </a:path>
              <a:path fill="lighten" w="63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75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5105520" y="4800600"/>
            <a:ext cx="3124080" cy="1066680"/>
          </a:xfrm>
          <a:custGeom>
            <a:avLst/>
            <a:gdLst>
              <a:gd name="textAreaLeft" fmla="*/ 69120 w 3124080"/>
              <a:gd name="textAreaRight" fmla="*/ 3054960 w 31240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3248" h="21600">
                <a:moveTo>
                  <a:pt x="0" y="0"/>
                </a:moveTo>
                <a:lnTo>
                  <a:pt x="63248" y="0"/>
                </a:lnTo>
                <a:lnTo>
                  <a:pt x="63248" y="21600"/>
                </a:lnTo>
                <a:lnTo>
                  <a:pt x="0" y="21600"/>
                </a:lnTo>
                <a:close/>
              </a:path>
              <a:path fill="lightenLess" w="63248" h="21600">
                <a:moveTo>
                  <a:pt x="0" y="0"/>
                </a:moveTo>
                <a:lnTo>
                  <a:pt x="63248" y="0"/>
                </a:lnTo>
                <a:lnTo>
                  <a:pt x="61848" y="1400"/>
                </a:lnTo>
                <a:lnTo>
                  <a:pt x="1400" y="1400"/>
                </a:lnTo>
                <a:close/>
              </a:path>
              <a:path fill="darken" w="63248" h="21600">
                <a:moveTo>
                  <a:pt x="63248" y="0"/>
                </a:moveTo>
                <a:lnTo>
                  <a:pt x="63248" y="21600"/>
                </a:lnTo>
                <a:lnTo>
                  <a:pt x="61848" y="20200"/>
                </a:lnTo>
                <a:lnTo>
                  <a:pt x="61848" y="1400"/>
                </a:lnTo>
                <a:close/>
              </a:path>
              <a:path fill="darkenLess" w="63248" h="21600">
                <a:moveTo>
                  <a:pt x="63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848" y="20200"/>
                </a:lnTo>
                <a:close/>
              </a:path>
              <a:path fill="lighten" w="63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64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7. В результате войны с каким государством Ивану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удалось присоединить Вязьму, Брянск и Путивль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>
            <a:hlinkClick r:id="rId1" action="ppaction://hlinksldjump"/>
          </p:cNvPr>
          <p:cNvSpPr/>
          <p:nvPr/>
        </p:nvSpPr>
        <p:spPr>
          <a:xfrm>
            <a:off x="2666880" y="3505320"/>
            <a:ext cx="4267440" cy="106668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93" h="21600">
                <a:moveTo>
                  <a:pt x="0" y="0"/>
                </a:moveTo>
                <a:lnTo>
                  <a:pt x="86393" y="0"/>
                </a:lnTo>
                <a:lnTo>
                  <a:pt x="86393" y="21600"/>
                </a:lnTo>
                <a:lnTo>
                  <a:pt x="0" y="21600"/>
                </a:lnTo>
                <a:close/>
              </a:path>
              <a:path fill="lightenLess" w="86393" h="21600">
                <a:moveTo>
                  <a:pt x="0" y="0"/>
                </a:moveTo>
                <a:lnTo>
                  <a:pt x="86393" y="0"/>
                </a:lnTo>
                <a:lnTo>
                  <a:pt x="84993" y="1400"/>
                </a:lnTo>
                <a:lnTo>
                  <a:pt x="1400" y="1400"/>
                </a:lnTo>
                <a:close/>
              </a:path>
              <a:path fill="darken" w="86393" h="21600">
                <a:moveTo>
                  <a:pt x="86393" y="0"/>
                </a:moveTo>
                <a:lnTo>
                  <a:pt x="86393" y="21600"/>
                </a:lnTo>
                <a:lnTo>
                  <a:pt x="84993" y="20200"/>
                </a:lnTo>
                <a:lnTo>
                  <a:pt x="84993" y="1400"/>
                </a:lnTo>
                <a:close/>
              </a:path>
              <a:path fill="darkenLess" w="86393" h="21600">
                <a:moveTo>
                  <a:pt x="86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3" y="20200"/>
                </a:lnTo>
                <a:close/>
              </a:path>
              <a:path fill="lighten" w="86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Польша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>
            <a:hlinkClick r:id="rId2" action="ppaction://hlinksldjump"/>
          </p:cNvPr>
          <p:cNvSpPr/>
          <p:nvPr/>
        </p:nvSpPr>
        <p:spPr>
          <a:xfrm>
            <a:off x="4876920" y="5334120"/>
            <a:ext cx="4267080" cy="1066680"/>
          </a:xfrm>
          <a:custGeom>
            <a:avLst/>
            <a:gdLst>
              <a:gd name="textAreaLeft" fmla="*/ 69120 w 4267080"/>
              <a:gd name="textAreaRight" fmla="*/ 4197960 w 42670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85" h="21600">
                <a:moveTo>
                  <a:pt x="0" y="0"/>
                </a:moveTo>
                <a:lnTo>
                  <a:pt x="86385" y="0"/>
                </a:lnTo>
                <a:lnTo>
                  <a:pt x="86385" y="21600"/>
                </a:lnTo>
                <a:lnTo>
                  <a:pt x="0" y="21600"/>
                </a:lnTo>
                <a:close/>
              </a:path>
              <a:path fill="lightenLess" w="86385" h="21600">
                <a:moveTo>
                  <a:pt x="0" y="0"/>
                </a:moveTo>
                <a:lnTo>
                  <a:pt x="86385" y="0"/>
                </a:lnTo>
                <a:lnTo>
                  <a:pt x="84985" y="1400"/>
                </a:lnTo>
                <a:lnTo>
                  <a:pt x="1400" y="1400"/>
                </a:lnTo>
                <a:close/>
              </a:path>
              <a:path fill="darken" w="86385" h="21600">
                <a:moveTo>
                  <a:pt x="86385" y="0"/>
                </a:moveTo>
                <a:lnTo>
                  <a:pt x="86385" y="21600"/>
                </a:lnTo>
                <a:lnTo>
                  <a:pt x="84985" y="20200"/>
                </a:lnTo>
                <a:lnTo>
                  <a:pt x="84985" y="1400"/>
                </a:lnTo>
                <a:close/>
              </a:path>
              <a:path fill="darkenLess" w="86385" h="21600">
                <a:moveTo>
                  <a:pt x="86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5" y="20200"/>
                </a:lnTo>
                <a:close/>
              </a:path>
              <a:path fill="lighten" w="86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Литва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>
            <a:hlinkClick r:id="rId3" action="ppaction://hlinksldjump"/>
          </p:cNvPr>
          <p:cNvSpPr/>
          <p:nvPr/>
        </p:nvSpPr>
        <p:spPr>
          <a:xfrm>
            <a:off x="304920" y="5334120"/>
            <a:ext cx="4267080" cy="1066680"/>
          </a:xfrm>
          <a:custGeom>
            <a:avLst/>
            <a:gdLst>
              <a:gd name="textAreaLeft" fmla="*/ 69120 w 4267080"/>
              <a:gd name="textAreaRight" fmla="*/ 4197960 w 42670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85" h="21600">
                <a:moveTo>
                  <a:pt x="0" y="0"/>
                </a:moveTo>
                <a:lnTo>
                  <a:pt x="86385" y="0"/>
                </a:lnTo>
                <a:lnTo>
                  <a:pt x="86385" y="21600"/>
                </a:lnTo>
                <a:lnTo>
                  <a:pt x="0" y="21600"/>
                </a:lnTo>
                <a:close/>
              </a:path>
              <a:path fill="lightenLess" w="86385" h="21600">
                <a:moveTo>
                  <a:pt x="0" y="0"/>
                </a:moveTo>
                <a:lnTo>
                  <a:pt x="86385" y="0"/>
                </a:lnTo>
                <a:lnTo>
                  <a:pt x="84985" y="1400"/>
                </a:lnTo>
                <a:lnTo>
                  <a:pt x="1400" y="1400"/>
                </a:lnTo>
                <a:close/>
              </a:path>
              <a:path fill="darken" w="86385" h="21600">
                <a:moveTo>
                  <a:pt x="86385" y="0"/>
                </a:moveTo>
                <a:lnTo>
                  <a:pt x="86385" y="21600"/>
                </a:lnTo>
                <a:lnTo>
                  <a:pt x="84985" y="20200"/>
                </a:lnTo>
                <a:lnTo>
                  <a:pt x="84985" y="1400"/>
                </a:lnTo>
                <a:close/>
              </a:path>
              <a:path fill="darkenLess" w="86385" h="21600">
                <a:moveTo>
                  <a:pt x="86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5" y="20200"/>
                </a:lnTo>
                <a:close/>
              </a:path>
              <a:path fill="lighten" w="86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)Швеция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8. Иван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умер 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2438280" y="2286000"/>
            <a:ext cx="4267440" cy="106668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93" h="21600">
                <a:moveTo>
                  <a:pt x="0" y="0"/>
                </a:moveTo>
                <a:lnTo>
                  <a:pt x="86393" y="0"/>
                </a:lnTo>
                <a:lnTo>
                  <a:pt x="86393" y="21600"/>
                </a:lnTo>
                <a:lnTo>
                  <a:pt x="0" y="21600"/>
                </a:lnTo>
                <a:close/>
              </a:path>
              <a:path fill="lightenLess" w="86393" h="21600">
                <a:moveTo>
                  <a:pt x="0" y="0"/>
                </a:moveTo>
                <a:lnTo>
                  <a:pt x="86393" y="0"/>
                </a:lnTo>
                <a:lnTo>
                  <a:pt x="84993" y="1400"/>
                </a:lnTo>
                <a:lnTo>
                  <a:pt x="1400" y="1400"/>
                </a:lnTo>
                <a:close/>
              </a:path>
              <a:path fill="darken" w="86393" h="21600">
                <a:moveTo>
                  <a:pt x="86393" y="0"/>
                </a:moveTo>
                <a:lnTo>
                  <a:pt x="86393" y="21600"/>
                </a:lnTo>
                <a:lnTo>
                  <a:pt x="84993" y="20200"/>
                </a:lnTo>
                <a:lnTo>
                  <a:pt x="84993" y="1400"/>
                </a:lnTo>
                <a:close/>
              </a:path>
              <a:path fill="darkenLess" w="86393" h="21600">
                <a:moveTo>
                  <a:pt x="86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3" y="20200"/>
                </a:lnTo>
                <a:close/>
              </a:path>
              <a:path fill="lighten" w="86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1503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>
            <a:hlinkClick r:id="rId2" action="ppaction://hlinksldjump"/>
          </p:cNvPr>
          <p:cNvSpPr/>
          <p:nvPr/>
        </p:nvSpPr>
        <p:spPr>
          <a:xfrm>
            <a:off x="2438280" y="3657600"/>
            <a:ext cx="4267440" cy="106668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93" h="21600">
                <a:moveTo>
                  <a:pt x="0" y="0"/>
                </a:moveTo>
                <a:lnTo>
                  <a:pt x="86393" y="0"/>
                </a:lnTo>
                <a:lnTo>
                  <a:pt x="86393" y="21600"/>
                </a:lnTo>
                <a:lnTo>
                  <a:pt x="0" y="21600"/>
                </a:lnTo>
                <a:close/>
              </a:path>
              <a:path fill="lightenLess" w="86393" h="21600">
                <a:moveTo>
                  <a:pt x="0" y="0"/>
                </a:moveTo>
                <a:lnTo>
                  <a:pt x="86393" y="0"/>
                </a:lnTo>
                <a:lnTo>
                  <a:pt x="84993" y="1400"/>
                </a:lnTo>
                <a:lnTo>
                  <a:pt x="1400" y="1400"/>
                </a:lnTo>
                <a:close/>
              </a:path>
              <a:path fill="darken" w="86393" h="21600">
                <a:moveTo>
                  <a:pt x="86393" y="0"/>
                </a:moveTo>
                <a:lnTo>
                  <a:pt x="86393" y="21600"/>
                </a:lnTo>
                <a:lnTo>
                  <a:pt x="84993" y="20200"/>
                </a:lnTo>
                <a:lnTo>
                  <a:pt x="84993" y="1400"/>
                </a:lnTo>
                <a:close/>
              </a:path>
              <a:path fill="darkenLess" w="86393" h="21600">
                <a:moveTo>
                  <a:pt x="86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3" y="20200"/>
                </a:lnTo>
                <a:close/>
              </a:path>
              <a:path fill="lighten" w="86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1502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38280" y="5181480"/>
            <a:ext cx="4267440" cy="106704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6364" h="21600">
                <a:moveTo>
                  <a:pt x="0" y="0"/>
                </a:moveTo>
                <a:lnTo>
                  <a:pt x="86364" y="0"/>
                </a:lnTo>
                <a:lnTo>
                  <a:pt x="86364" y="21600"/>
                </a:lnTo>
                <a:lnTo>
                  <a:pt x="0" y="21600"/>
                </a:lnTo>
                <a:close/>
              </a:path>
              <a:path fill="lightenLess" w="86364" h="21600">
                <a:moveTo>
                  <a:pt x="0" y="0"/>
                </a:moveTo>
                <a:lnTo>
                  <a:pt x="86364" y="0"/>
                </a:lnTo>
                <a:lnTo>
                  <a:pt x="84964" y="1400"/>
                </a:lnTo>
                <a:lnTo>
                  <a:pt x="1400" y="1400"/>
                </a:lnTo>
                <a:close/>
              </a:path>
              <a:path fill="darken" w="86364" h="21600">
                <a:moveTo>
                  <a:pt x="86364" y="0"/>
                </a:moveTo>
                <a:lnTo>
                  <a:pt x="86364" y="21600"/>
                </a:lnTo>
                <a:lnTo>
                  <a:pt x="84964" y="20200"/>
                </a:lnTo>
                <a:lnTo>
                  <a:pt x="84964" y="1400"/>
                </a:lnTo>
                <a:close/>
              </a:path>
              <a:path fill="darkenLess" w="86364" h="21600">
                <a:moveTo>
                  <a:pt x="86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64" y="20200"/>
                </a:lnTo>
                <a:close/>
              </a:path>
              <a:path fill="lighten" w="86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)1505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2438280" y="4495680"/>
            <a:ext cx="4419720" cy="1067040"/>
          </a:xfrm>
          <a:custGeom>
            <a:avLst/>
            <a:gdLst>
              <a:gd name="textAreaLeft" fmla="*/ 69120 w 4419720"/>
              <a:gd name="textAreaRight" fmla="*/ 4350600 w 44197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9445" h="21600">
                <a:moveTo>
                  <a:pt x="0" y="0"/>
                </a:moveTo>
                <a:lnTo>
                  <a:pt x="89445" y="0"/>
                </a:lnTo>
                <a:lnTo>
                  <a:pt x="89445" y="21600"/>
                </a:lnTo>
                <a:lnTo>
                  <a:pt x="0" y="21600"/>
                </a:lnTo>
                <a:close/>
              </a:path>
              <a:path fill="lightenLess" w="89445" h="21600">
                <a:moveTo>
                  <a:pt x="0" y="0"/>
                </a:moveTo>
                <a:lnTo>
                  <a:pt x="89445" y="0"/>
                </a:lnTo>
                <a:lnTo>
                  <a:pt x="88045" y="1400"/>
                </a:lnTo>
                <a:lnTo>
                  <a:pt x="1400" y="1400"/>
                </a:lnTo>
                <a:close/>
              </a:path>
              <a:path fill="darken" w="89445" h="21600">
                <a:moveTo>
                  <a:pt x="89445" y="0"/>
                </a:moveTo>
                <a:lnTo>
                  <a:pt x="89445" y="21600"/>
                </a:lnTo>
                <a:lnTo>
                  <a:pt x="88045" y="20200"/>
                </a:lnTo>
                <a:lnTo>
                  <a:pt x="88045" y="1400"/>
                </a:lnTo>
                <a:close/>
              </a:path>
              <a:path fill="darkenLess" w="89445" h="21600">
                <a:moveTo>
                  <a:pt x="89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45" y="20200"/>
                </a:lnTo>
                <a:close/>
              </a:path>
              <a:path fill="lighten" w="89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йти к следующему вопр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457200" y="4419720"/>
            <a:ext cx="2676600" cy="2238120"/>
          </a:xfrm>
          <a:prstGeom prst="rect">
            <a:avLst/>
          </a:prstGeom>
          <a:ln w="0">
            <a:noFill/>
          </a:ln>
        </p:spPr>
      </p:pic>
      <p:sp>
        <p:nvSpPr>
          <p:cNvPr id="288" name="">
            <a:hlinkClick r:id="rId3" action="ppaction://hlinksldjump"/>
          </p:cNvPr>
          <p:cNvSpPr/>
          <p:nvPr/>
        </p:nvSpPr>
        <p:spPr>
          <a:xfrm>
            <a:off x="1752480" y="2362320"/>
            <a:ext cx="5105520" cy="2057400"/>
          </a:xfrm>
          <a:custGeom>
            <a:avLst/>
            <a:gdLst>
              <a:gd name="textAreaLeft" fmla="*/ 133200 w 5105520"/>
              <a:gd name="textAreaRight" fmla="*/ 4972320 w 510552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53596" h="21600">
                <a:moveTo>
                  <a:pt x="0" y="0"/>
                </a:moveTo>
                <a:lnTo>
                  <a:pt x="53596" y="0"/>
                </a:lnTo>
                <a:lnTo>
                  <a:pt x="53596" y="21600"/>
                </a:lnTo>
                <a:lnTo>
                  <a:pt x="0" y="21600"/>
                </a:lnTo>
                <a:close/>
              </a:path>
              <a:path fill="lightenLess" w="53596" h="21600">
                <a:moveTo>
                  <a:pt x="0" y="0"/>
                </a:moveTo>
                <a:lnTo>
                  <a:pt x="53596" y="0"/>
                </a:lnTo>
                <a:lnTo>
                  <a:pt x="52196" y="1400"/>
                </a:lnTo>
                <a:lnTo>
                  <a:pt x="1400" y="1400"/>
                </a:lnTo>
                <a:close/>
              </a:path>
              <a:path fill="darken" w="53596" h="21600">
                <a:moveTo>
                  <a:pt x="53596" y="0"/>
                </a:moveTo>
                <a:lnTo>
                  <a:pt x="53596" y="21600"/>
                </a:lnTo>
                <a:lnTo>
                  <a:pt x="52196" y="20200"/>
                </a:lnTo>
                <a:lnTo>
                  <a:pt x="52196" y="1400"/>
                </a:lnTo>
                <a:close/>
              </a:path>
              <a:path fill="darkenLess" w="53596" h="21600">
                <a:moveTo>
                  <a:pt x="53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196" y="20200"/>
                </a:lnTo>
                <a:close/>
              </a:path>
              <a:path fill="lighten" w="53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br>
              <a:rPr sz="4400"/>
            </a:b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ПОЗДРАВЛЯЮ 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2438280" y="4495680"/>
            <a:ext cx="4419720" cy="1067040"/>
          </a:xfrm>
          <a:custGeom>
            <a:avLst/>
            <a:gdLst>
              <a:gd name="textAreaLeft" fmla="*/ 69120 w 4419720"/>
              <a:gd name="textAreaRight" fmla="*/ 4350600 w 44197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9445" h="21600">
                <a:moveTo>
                  <a:pt x="0" y="0"/>
                </a:moveTo>
                <a:lnTo>
                  <a:pt x="89445" y="0"/>
                </a:lnTo>
                <a:lnTo>
                  <a:pt x="89445" y="21600"/>
                </a:lnTo>
                <a:lnTo>
                  <a:pt x="0" y="21600"/>
                </a:lnTo>
                <a:close/>
              </a:path>
              <a:path fill="lightenLess" w="89445" h="21600">
                <a:moveTo>
                  <a:pt x="0" y="0"/>
                </a:moveTo>
                <a:lnTo>
                  <a:pt x="89445" y="0"/>
                </a:lnTo>
                <a:lnTo>
                  <a:pt x="88045" y="1400"/>
                </a:lnTo>
                <a:lnTo>
                  <a:pt x="1400" y="1400"/>
                </a:lnTo>
                <a:close/>
              </a:path>
              <a:path fill="darken" w="89445" h="21600">
                <a:moveTo>
                  <a:pt x="89445" y="0"/>
                </a:moveTo>
                <a:lnTo>
                  <a:pt x="89445" y="21600"/>
                </a:lnTo>
                <a:lnTo>
                  <a:pt x="88045" y="20200"/>
                </a:lnTo>
                <a:lnTo>
                  <a:pt x="88045" y="1400"/>
                </a:lnTo>
                <a:close/>
              </a:path>
              <a:path fill="darkenLess" w="89445" h="21600">
                <a:moveTo>
                  <a:pt x="89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45" y="20200"/>
                </a:lnTo>
                <a:close/>
              </a:path>
              <a:path fill="lighten" w="89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йти к следующему вопр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2. В каком году Иван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присоединил Новгород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048120"/>
            <a:ext cx="3352680" cy="1066680"/>
          </a:xfrm>
          <a:custGeom>
            <a:avLst/>
            <a:gdLst>
              <a:gd name="textAreaLeft" fmla="*/ 69120 w 3352680"/>
              <a:gd name="textAreaRight" fmla="*/ 3283560 w 3352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7875" h="21600">
                <a:moveTo>
                  <a:pt x="0" y="0"/>
                </a:moveTo>
                <a:lnTo>
                  <a:pt x="67875" y="0"/>
                </a:lnTo>
                <a:lnTo>
                  <a:pt x="67875" y="21600"/>
                </a:lnTo>
                <a:lnTo>
                  <a:pt x="0" y="21600"/>
                </a:lnTo>
                <a:close/>
              </a:path>
              <a:path fill="lightenLess" w="67875" h="21600">
                <a:moveTo>
                  <a:pt x="0" y="0"/>
                </a:moveTo>
                <a:lnTo>
                  <a:pt x="67875" y="0"/>
                </a:lnTo>
                <a:lnTo>
                  <a:pt x="66475" y="1400"/>
                </a:lnTo>
                <a:lnTo>
                  <a:pt x="1400" y="1400"/>
                </a:lnTo>
                <a:close/>
              </a:path>
              <a:path fill="darken" w="67875" h="21600">
                <a:moveTo>
                  <a:pt x="67875" y="0"/>
                </a:moveTo>
                <a:lnTo>
                  <a:pt x="67875" y="21600"/>
                </a:lnTo>
                <a:lnTo>
                  <a:pt x="66475" y="20200"/>
                </a:lnTo>
                <a:lnTo>
                  <a:pt x="66475" y="1400"/>
                </a:lnTo>
                <a:close/>
              </a:path>
              <a:path fill="darkenLess" w="67875" h="21600">
                <a:moveTo>
                  <a:pt x="67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75" y="20200"/>
                </a:lnTo>
                <a:close/>
              </a:path>
              <a:path fill="lighten" w="67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1479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5029200" y="3048120"/>
            <a:ext cx="3276720" cy="1066680"/>
          </a:xfrm>
          <a:custGeom>
            <a:avLst/>
            <a:gdLst>
              <a:gd name="textAreaLeft" fmla="*/ 69120 w 3276720"/>
              <a:gd name="textAreaRight" fmla="*/ 3207600 w 32767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6338" h="21600">
                <a:moveTo>
                  <a:pt x="0" y="0"/>
                </a:moveTo>
                <a:lnTo>
                  <a:pt x="66338" y="0"/>
                </a:lnTo>
                <a:lnTo>
                  <a:pt x="66338" y="21600"/>
                </a:lnTo>
                <a:lnTo>
                  <a:pt x="0" y="21600"/>
                </a:lnTo>
                <a:close/>
              </a:path>
              <a:path fill="lightenLess" w="66338" h="21600">
                <a:moveTo>
                  <a:pt x="0" y="0"/>
                </a:moveTo>
                <a:lnTo>
                  <a:pt x="66338" y="0"/>
                </a:lnTo>
                <a:lnTo>
                  <a:pt x="64938" y="1400"/>
                </a:lnTo>
                <a:lnTo>
                  <a:pt x="1400" y="1400"/>
                </a:lnTo>
                <a:close/>
              </a:path>
              <a:path fill="darken" w="66338" h="21600">
                <a:moveTo>
                  <a:pt x="66338" y="0"/>
                </a:moveTo>
                <a:lnTo>
                  <a:pt x="66338" y="21600"/>
                </a:lnTo>
                <a:lnTo>
                  <a:pt x="64938" y="20200"/>
                </a:lnTo>
                <a:lnTo>
                  <a:pt x="64938" y="1400"/>
                </a:lnTo>
                <a:close/>
              </a:path>
              <a:path fill="darkenLess" w="66338" h="21600">
                <a:moveTo>
                  <a:pt x="66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938" y="20200"/>
                </a:lnTo>
                <a:close/>
              </a:path>
              <a:path fill="lighten" w="66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1463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>
            <a:hlinkClick r:id="rId2" action="ppaction://hlinksldjump"/>
          </p:cNvPr>
          <p:cNvSpPr/>
          <p:nvPr/>
        </p:nvSpPr>
        <p:spPr>
          <a:xfrm>
            <a:off x="990720" y="4800600"/>
            <a:ext cx="3276360" cy="1066680"/>
          </a:xfrm>
          <a:custGeom>
            <a:avLst/>
            <a:gdLst>
              <a:gd name="textAreaLeft" fmla="*/ 69120 w 3276360"/>
              <a:gd name="textAreaRight" fmla="*/ 3207240 w 32763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6330" h="21600">
                <a:moveTo>
                  <a:pt x="0" y="0"/>
                </a:moveTo>
                <a:lnTo>
                  <a:pt x="66330" y="0"/>
                </a:lnTo>
                <a:lnTo>
                  <a:pt x="66330" y="21600"/>
                </a:lnTo>
                <a:lnTo>
                  <a:pt x="0" y="21600"/>
                </a:lnTo>
                <a:close/>
              </a:path>
              <a:path fill="lightenLess" w="66330" h="21600">
                <a:moveTo>
                  <a:pt x="0" y="0"/>
                </a:moveTo>
                <a:lnTo>
                  <a:pt x="66330" y="0"/>
                </a:lnTo>
                <a:lnTo>
                  <a:pt x="64930" y="1400"/>
                </a:lnTo>
                <a:lnTo>
                  <a:pt x="1400" y="1400"/>
                </a:lnTo>
                <a:close/>
              </a:path>
              <a:path fill="darken" w="66330" h="21600">
                <a:moveTo>
                  <a:pt x="66330" y="0"/>
                </a:moveTo>
                <a:lnTo>
                  <a:pt x="66330" y="21600"/>
                </a:lnTo>
                <a:lnTo>
                  <a:pt x="64930" y="20200"/>
                </a:lnTo>
                <a:lnTo>
                  <a:pt x="64930" y="1400"/>
                </a:lnTo>
                <a:close/>
              </a:path>
              <a:path fill="darkenLess" w="66330" h="21600">
                <a:moveTo>
                  <a:pt x="66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930" y="20200"/>
                </a:lnTo>
                <a:close/>
              </a:path>
              <a:path fill="lighten" w="66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)1478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4800600"/>
            <a:ext cx="3200400" cy="1066680"/>
          </a:xfrm>
          <a:custGeom>
            <a:avLst/>
            <a:gdLst>
              <a:gd name="textAreaLeft" fmla="*/ 69120 w 3200400"/>
              <a:gd name="textAreaRight" fmla="*/ 3131280 w 32004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4793" h="21600">
                <a:moveTo>
                  <a:pt x="0" y="0"/>
                </a:moveTo>
                <a:lnTo>
                  <a:pt x="64793" y="0"/>
                </a:lnTo>
                <a:lnTo>
                  <a:pt x="64793" y="21600"/>
                </a:lnTo>
                <a:lnTo>
                  <a:pt x="0" y="21600"/>
                </a:lnTo>
                <a:close/>
              </a:path>
              <a:path fill="lightenLess" w="64793" h="21600">
                <a:moveTo>
                  <a:pt x="0" y="0"/>
                </a:moveTo>
                <a:lnTo>
                  <a:pt x="64793" y="0"/>
                </a:lnTo>
                <a:lnTo>
                  <a:pt x="63393" y="1400"/>
                </a:lnTo>
                <a:lnTo>
                  <a:pt x="1400" y="1400"/>
                </a:lnTo>
                <a:close/>
              </a:path>
              <a:path fill="darken" w="64793" h="21600">
                <a:moveTo>
                  <a:pt x="64793" y="0"/>
                </a:moveTo>
                <a:lnTo>
                  <a:pt x="64793" y="21600"/>
                </a:lnTo>
                <a:lnTo>
                  <a:pt x="63393" y="20200"/>
                </a:lnTo>
                <a:lnTo>
                  <a:pt x="63393" y="1400"/>
                </a:lnTo>
                <a:close/>
              </a:path>
              <a:path fill="darkenLess" w="64793" h="21600">
                <a:moveTo>
                  <a:pt x="647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3" y="20200"/>
                </a:lnTo>
                <a:close/>
              </a:path>
              <a:path fill="lighten" w="647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)146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2438280" y="4495680"/>
            <a:ext cx="4419720" cy="1067040"/>
          </a:xfrm>
          <a:custGeom>
            <a:avLst/>
            <a:gdLst>
              <a:gd name="textAreaLeft" fmla="*/ 69120 w 4419720"/>
              <a:gd name="textAreaRight" fmla="*/ 4350600 w 44197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9445" h="21600">
                <a:moveTo>
                  <a:pt x="0" y="0"/>
                </a:moveTo>
                <a:lnTo>
                  <a:pt x="89445" y="0"/>
                </a:lnTo>
                <a:lnTo>
                  <a:pt x="89445" y="21600"/>
                </a:lnTo>
                <a:lnTo>
                  <a:pt x="0" y="21600"/>
                </a:lnTo>
                <a:close/>
              </a:path>
              <a:path fill="lightenLess" w="89445" h="21600">
                <a:moveTo>
                  <a:pt x="0" y="0"/>
                </a:moveTo>
                <a:lnTo>
                  <a:pt x="89445" y="0"/>
                </a:lnTo>
                <a:lnTo>
                  <a:pt x="88045" y="1400"/>
                </a:lnTo>
                <a:lnTo>
                  <a:pt x="1400" y="1400"/>
                </a:lnTo>
                <a:close/>
              </a:path>
              <a:path fill="darken" w="89445" h="21600">
                <a:moveTo>
                  <a:pt x="89445" y="0"/>
                </a:moveTo>
                <a:lnTo>
                  <a:pt x="89445" y="21600"/>
                </a:lnTo>
                <a:lnTo>
                  <a:pt x="88045" y="20200"/>
                </a:lnTo>
                <a:lnTo>
                  <a:pt x="88045" y="1400"/>
                </a:lnTo>
                <a:close/>
              </a:path>
              <a:path fill="darkenLess" w="89445" h="21600">
                <a:moveTo>
                  <a:pt x="89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45" y="20200"/>
                </a:lnTo>
                <a:close/>
              </a:path>
              <a:path fill="lighten" w="89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йти к следующему вопр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3. Сборник законов, изданный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ваном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называл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>
            <a:hlinkClick r:id="rId1" action="ppaction://hlinksldjump"/>
          </p:cNvPr>
          <p:cNvSpPr/>
          <p:nvPr/>
        </p:nvSpPr>
        <p:spPr>
          <a:xfrm>
            <a:off x="914400" y="4114800"/>
            <a:ext cx="3657600" cy="1143000"/>
          </a:xfrm>
          <a:custGeom>
            <a:avLst/>
            <a:gdLst>
              <a:gd name="textAreaLeft" fmla="*/ 73800 w 3657600"/>
              <a:gd name="textAreaRight" fmla="*/ 3583800 w 3657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69105" h="21600">
                <a:moveTo>
                  <a:pt x="0" y="0"/>
                </a:moveTo>
                <a:lnTo>
                  <a:pt x="69105" y="0"/>
                </a:lnTo>
                <a:lnTo>
                  <a:pt x="69105" y="21600"/>
                </a:lnTo>
                <a:lnTo>
                  <a:pt x="0" y="21600"/>
                </a:lnTo>
                <a:close/>
              </a:path>
              <a:path fill="lightenLess" w="69105" h="21600">
                <a:moveTo>
                  <a:pt x="0" y="0"/>
                </a:moveTo>
                <a:lnTo>
                  <a:pt x="69105" y="0"/>
                </a:lnTo>
                <a:lnTo>
                  <a:pt x="67705" y="1400"/>
                </a:lnTo>
                <a:lnTo>
                  <a:pt x="1400" y="1400"/>
                </a:lnTo>
                <a:close/>
              </a:path>
              <a:path fill="darken" w="69105" h="21600">
                <a:moveTo>
                  <a:pt x="69105" y="0"/>
                </a:moveTo>
                <a:lnTo>
                  <a:pt x="69105" y="21600"/>
                </a:lnTo>
                <a:lnTo>
                  <a:pt x="67705" y="20200"/>
                </a:lnTo>
                <a:lnTo>
                  <a:pt x="67705" y="1400"/>
                </a:lnTo>
                <a:close/>
              </a:path>
              <a:path fill="darkenLess" w="69105" h="21600">
                <a:moveTo>
                  <a:pt x="69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5" y="20200"/>
                </a:lnTo>
                <a:close/>
              </a:path>
              <a:path fill="lighten" w="69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А)Русская прав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rId2" action="ppaction://hlinksldjump"/>
          </p:cNvPr>
          <p:cNvSpPr/>
          <p:nvPr/>
        </p:nvSpPr>
        <p:spPr>
          <a:xfrm>
            <a:off x="5029200" y="4114800"/>
            <a:ext cx="3657600" cy="1143000"/>
          </a:xfrm>
          <a:custGeom>
            <a:avLst/>
            <a:gdLst>
              <a:gd name="textAreaLeft" fmla="*/ 73800 w 3657600"/>
              <a:gd name="textAreaRight" fmla="*/ 3583800 w 3657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69105" h="21600">
                <a:moveTo>
                  <a:pt x="0" y="0"/>
                </a:moveTo>
                <a:lnTo>
                  <a:pt x="69105" y="0"/>
                </a:lnTo>
                <a:lnTo>
                  <a:pt x="69105" y="21600"/>
                </a:lnTo>
                <a:lnTo>
                  <a:pt x="0" y="21600"/>
                </a:lnTo>
                <a:close/>
              </a:path>
              <a:path fill="lightenLess" w="69105" h="21600">
                <a:moveTo>
                  <a:pt x="0" y="0"/>
                </a:moveTo>
                <a:lnTo>
                  <a:pt x="69105" y="0"/>
                </a:lnTo>
                <a:lnTo>
                  <a:pt x="67705" y="1400"/>
                </a:lnTo>
                <a:lnTo>
                  <a:pt x="1400" y="1400"/>
                </a:lnTo>
                <a:close/>
              </a:path>
              <a:path fill="darken" w="69105" h="21600">
                <a:moveTo>
                  <a:pt x="69105" y="0"/>
                </a:moveTo>
                <a:lnTo>
                  <a:pt x="69105" y="21600"/>
                </a:lnTo>
                <a:lnTo>
                  <a:pt x="67705" y="20200"/>
                </a:lnTo>
                <a:lnTo>
                  <a:pt x="67705" y="1400"/>
                </a:lnTo>
                <a:close/>
              </a:path>
              <a:path fill="darkenLess" w="69105" h="21600">
                <a:moveTo>
                  <a:pt x="69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5" y="20200"/>
                </a:lnTo>
                <a:close/>
              </a:path>
              <a:path fill="lighten" w="69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Б)Судебник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2438280" y="4495680"/>
            <a:ext cx="4419720" cy="1067040"/>
          </a:xfrm>
          <a:custGeom>
            <a:avLst/>
            <a:gdLst>
              <a:gd name="textAreaLeft" fmla="*/ 69120 w 4419720"/>
              <a:gd name="textAreaRight" fmla="*/ 4350600 w 44197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9445" h="21600">
                <a:moveTo>
                  <a:pt x="0" y="0"/>
                </a:moveTo>
                <a:lnTo>
                  <a:pt x="89445" y="0"/>
                </a:lnTo>
                <a:lnTo>
                  <a:pt x="89445" y="21600"/>
                </a:lnTo>
                <a:lnTo>
                  <a:pt x="0" y="21600"/>
                </a:lnTo>
                <a:close/>
              </a:path>
              <a:path fill="lightenLess" w="89445" h="21600">
                <a:moveTo>
                  <a:pt x="0" y="0"/>
                </a:moveTo>
                <a:lnTo>
                  <a:pt x="89445" y="0"/>
                </a:lnTo>
                <a:lnTo>
                  <a:pt x="88045" y="1400"/>
                </a:lnTo>
                <a:lnTo>
                  <a:pt x="1400" y="1400"/>
                </a:lnTo>
                <a:close/>
              </a:path>
              <a:path fill="darken" w="89445" h="21600">
                <a:moveTo>
                  <a:pt x="89445" y="0"/>
                </a:moveTo>
                <a:lnTo>
                  <a:pt x="89445" y="21600"/>
                </a:lnTo>
                <a:lnTo>
                  <a:pt x="88045" y="20200"/>
                </a:lnTo>
                <a:lnTo>
                  <a:pt x="88045" y="1400"/>
                </a:lnTo>
                <a:close/>
              </a:path>
              <a:path fill="darkenLess" w="89445" h="21600">
                <a:moveTo>
                  <a:pt x="89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45" y="20200"/>
                </a:lnTo>
                <a:close/>
              </a:path>
              <a:path fill="lighten" w="89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йти к следующему вопр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5-04T14:24:25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4000000000001024140</vt:lpwstr>
  </property>
  <property fmtid="{D5CDD505-2E9C-101B-9397-08002B2CF9AE}" pid="3" name="Version">
    <vt:r8>1</vt:r8>
  </property>
</Properties>
</file>