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777-64BB-4FD5-AFCA-A39D556D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3B2-04EC-4B94-9E4E-A13D3D80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4EB-FBBD-4C33-B24E-BE7DE1A4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BDC-8611-4DB3-AA27-5A9FF8AD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9CE6-6019-4365-B668-0B6C923B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4792-FB24-4DF4-877C-5A88434A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D285-12AC-4734-AE85-4DDEFE10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5907-FFDC-4768-A8FD-B02977F7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5325-DF91-4C6B-B8FF-7589CF2F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FF94-CD80-48F2-A650-4F573B36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F878-A8FF-4748-A0B4-39EA40D3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E7C-9732-4808-862D-F10E9A9B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D2CB-21D7-4CAD-9756-8869FCD7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CDD4-133F-4EFB-BE09-3D2CA960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7D02-D776-47C0-A823-E90E309A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5163-E92F-4BA9-8080-186446AD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A7C3-DD2E-4B10-8984-C94005EB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CC2-C9B4-4F10-97CF-8BF80456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F18-12F1-46C6-9CBF-BD8EF94D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E7B-429F-4675-B480-9C82059F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806-DC83-47FF-8F29-90D8D1BB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DB9-2D2D-468D-A4E2-AF0EB6C8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607-1806-4132-8008-F30A5D0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727-76DC-46ED-BC55-568D8127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4CA8-D219-40C3-857E-44B4D7CE5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8490-0F85-48B7-8ADB-CAF5D204F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ecff"/>
                </a:solidFill>
                <a:latin typeface="Arial"/>
              </a:rPr>
              <a:t>Закрепление знаний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Тес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4. Иван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был женат на племяннице византийского императо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2590920"/>
            <a:ext cx="5410080" cy="1143000"/>
          </a:xfrm>
          <a:custGeom>
            <a:avLst/>
            <a:gdLst>
              <a:gd name="textAreaLeft" fmla="*/ 73800 w 5410080"/>
              <a:gd name="textAreaRight" fmla="*/ 5336280 w 5410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2212" h="21600">
                <a:moveTo>
                  <a:pt x="0" y="0"/>
                </a:moveTo>
                <a:lnTo>
                  <a:pt x="102212" y="0"/>
                </a:lnTo>
                <a:lnTo>
                  <a:pt x="102212" y="21600"/>
                </a:lnTo>
                <a:lnTo>
                  <a:pt x="0" y="21600"/>
                </a:lnTo>
                <a:close/>
              </a:path>
              <a:path fill="lightenLess" w="102212" h="21600">
                <a:moveTo>
                  <a:pt x="0" y="0"/>
                </a:moveTo>
                <a:lnTo>
                  <a:pt x="102212" y="0"/>
                </a:lnTo>
                <a:lnTo>
                  <a:pt x="100812" y="1400"/>
                </a:lnTo>
                <a:lnTo>
                  <a:pt x="1400" y="1400"/>
                </a:lnTo>
                <a:close/>
              </a:path>
              <a:path fill="darken" w="102212" h="21600">
                <a:moveTo>
                  <a:pt x="102212" y="0"/>
                </a:moveTo>
                <a:lnTo>
                  <a:pt x="102212" y="21600"/>
                </a:lnTo>
                <a:lnTo>
                  <a:pt x="100812" y="20200"/>
                </a:lnTo>
                <a:lnTo>
                  <a:pt x="100812" y="1400"/>
                </a:lnTo>
                <a:close/>
              </a:path>
              <a:path fill="darkenLess" w="102212" h="21600">
                <a:moveTo>
                  <a:pt x="10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12" y="20200"/>
                </a:lnTo>
                <a:close/>
              </a:path>
              <a:path fill="lighten" w="10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1905120" y="4724280"/>
            <a:ext cx="5410080" cy="1143000"/>
          </a:xfrm>
          <a:custGeom>
            <a:avLst/>
            <a:gdLst>
              <a:gd name="textAreaLeft" fmla="*/ 73800 w 5410080"/>
              <a:gd name="textAreaRight" fmla="*/ 5336280 w 5410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2212" h="21600">
                <a:moveTo>
                  <a:pt x="0" y="0"/>
                </a:moveTo>
                <a:lnTo>
                  <a:pt x="102212" y="0"/>
                </a:lnTo>
                <a:lnTo>
                  <a:pt x="102212" y="21600"/>
                </a:lnTo>
                <a:lnTo>
                  <a:pt x="0" y="21600"/>
                </a:lnTo>
                <a:close/>
              </a:path>
              <a:path fill="lightenLess" w="102212" h="21600">
                <a:moveTo>
                  <a:pt x="0" y="0"/>
                </a:moveTo>
                <a:lnTo>
                  <a:pt x="102212" y="0"/>
                </a:lnTo>
                <a:lnTo>
                  <a:pt x="100812" y="1400"/>
                </a:lnTo>
                <a:lnTo>
                  <a:pt x="1400" y="1400"/>
                </a:lnTo>
                <a:close/>
              </a:path>
              <a:path fill="darken" w="102212" h="21600">
                <a:moveTo>
                  <a:pt x="102212" y="0"/>
                </a:moveTo>
                <a:lnTo>
                  <a:pt x="102212" y="21600"/>
                </a:lnTo>
                <a:lnTo>
                  <a:pt x="100812" y="20200"/>
                </a:lnTo>
                <a:lnTo>
                  <a:pt x="100812" y="1400"/>
                </a:lnTo>
                <a:close/>
              </a:path>
              <a:path fill="darkenLess" w="102212" h="21600">
                <a:moveTo>
                  <a:pt x="10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12" y="20200"/>
                </a:lnTo>
                <a:close/>
              </a:path>
              <a:path fill="lighten" w="10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н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5. Битва на р. Угре состоялась в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2860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1474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1480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2438280" y="5181480"/>
            <a:ext cx="4267440" cy="106704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6364" h="21600">
                <a:moveTo>
                  <a:pt x="0" y="0"/>
                </a:moveTo>
                <a:lnTo>
                  <a:pt x="86364" y="0"/>
                </a:lnTo>
                <a:lnTo>
                  <a:pt x="86364" y="21600"/>
                </a:lnTo>
                <a:lnTo>
                  <a:pt x="0" y="21600"/>
                </a:lnTo>
                <a:close/>
              </a:path>
              <a:path fill="lightenLess" w="86364" h="21600">
                <a:moveTo>
                  <a:pt x="0" y="0"/>
                </a:moveTo>
                <a:lnTo>
                  <a:pt x="86364" y="0"/>
                </a:lnTo>
                <a:lnTo>
                  <a:pt x="84964" y="1400"/>
                </a:lnTo>
                <a:lnTo>
                  <a:pt x="1400" y="1400"/>
                </a:lnTo>
                <a:close/>
              </a:path>
              <a:path fill="darken" w="86364" h="21600">
                <a:moveTo>
                  <a:pt x="86364" y="0"/>
                </a:moveTo>
                <a:lnTo>
                  <a:pt x="86364" y="21600"/>
                </a:lnTo>
                <a:lnTo>
                  <a:pt x="84964" y="20200"/>
                </a:lnTo>
                <a:lnTo>
                  <a:pt x="84964" y="1400"/>
                </a:lnTo>
                <a:close/>
              </a:path>
              <a:path fill="darkenLess" w="86364" h="21600">
                <a:moveTo>
                  <a:pt x="8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4" y="20200"/>
                </a:lnTo>
                <a:close/>
              </a:path>
              <a:path fill="lighten" w="8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147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6. Считается, что «стояние на р. Угре» закончилось победо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2895480"/>
            <a:ext cx="4267080" cy="1067040"/>
          </a:xfrm>
          <a:custGeom>
            <a:avLst/>
            <a:gdLst>
              <a:gd name="textAreaLeft" fmla="*/ 69120 w 4267080"/>
              <a:gd name="textAreaRight" fmla="*/ 4197960 w 4267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6356" h="21600">
                <a:moveTo>
                  <a:pt x="0" y="0"/>
                </a:moveTo>
                <a:lnTo>
                  <a:pt x="86356" y="0"/>
                </a:lnTo>
                <a:lnTo>
                  <a:pt x="86356" y="21600"/>
                </a:lnTo>
                <a:lnTo>
                  <a:pt x="0" y="21600"/>
                </a:lnTo>
                <a:close/>
              </a:path>
              <a:path fill="lightenLess" w="86356" h="21600">
                <a:moveTo>
                  <a:pt x="0" y="0"/>
                </a:moveTo>
                <a:lnTo>
                  <a:pt x="86356" y="0"/>
                </a:lnTo>
                <a:lnTo>
                  <a:pt x="84956" y="1400"/>
                </a:lnTo>
                <a:lnTo>
                  <a:pt x="1400" y="1400"/>
                </a:lnTo>
                <a:close/>
              </a:path>
              <a:path fill="darken" w="86356" h="21600">
                <a:moveTo>
                  <a:pt x="86356" y="0"/>
                </a:moveTo>
                <a:lnTo>
                  <a:pt x="86356" y="21600"/>
                </a:lnTo>
                <a:lnTo>
                  <a:pt x="84956" y="20200"/>
                </a:lnTo>
                <a:lnTo>
                  <a:pt x="84956" y="1400"/>
                </a:lnTo>
                <a:close/>
              </a:path>
              <a:path fill="darkenLess" w="86356" h="21600">
                <a:moveTo>
                  <a:pt x="86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6" y="20200"/>
                </a:lnTo>
                <a:close/>
              </a:path>
              <a:path fill="lighten" w="86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Ива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2438280" y="48006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Монголо-татар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1.Иван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правил с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533520" y="2971800"/>
            <a:ext cx="3200400" cy="1066680"/>
          </a:xfrm>
          <a:custGeom>
            <a:avLst/>
            <a:gdLst>
              <a:gd name="textAreaLeft" fmla="*/ 69120 w 3200400"/>
              <a:gd name="textAreaRight" fmla="*/ 3131280 w 3200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4793" h="21600">
                <a:moveTo>
                  <a:pt x="0" y="0"/>
                </a:moveTo>
                <a:lnTo>
                  <a:pt x="64793" y="0"/>
                </a:lnTo>
                <a:lnTo>
                  <a:pt x="64793" y="21600"/>
                </a:lnTo>
                <a:lnTo>
                  <a:pt x="0" y="21600"/>
                </a:lnTo>
                <a:close/>
              </a:path>
              <a:path fill="lightenLess" w="64793" h="21600">
                <a:moveTo>
                  <a:pt x="0" y="0"/>
                </a:moveTo>
                <a:lnTo>
                  <a:pt x="64793" y="0"/>
                </a:lnTo>
                <a:lnTo>
                  <a:pt x="63393" y="1400"/>
                </a:lnTo>
                <a:lnTo>
                  <a:pt x="1400" y="1400"/>
                </a:lnTo>
                <a:close/>
              </a:path>
              <a:path fill="darken" w="64793" h="21600">
                <a:moveTo>
                  <a:pt x="64793" y="0"/>
                </a:moveTo>
                <a:lnTo>
                  <a:pt x="64793" y="21600"/>
                </a:lnTo>
                <a:lnTo>
                  <a:pt x="63393" y="20200"/>
                </a:lnTo>
                <a:lnTo>
                  <a:pt x="63393" y="1400"/>
                </a:lnTo>
                <a:close/>
              </a:path>
              <a:path fill="darkenLess" w="64793" h="21600">
                <a:moveTo>
                  <a:pt x="64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3" y="20200"/>
                </a:lnTo>
                <a:close/>
              </a:path>
              <a:path fill="lighten" w="64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1462 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5029200" y="2971800"/>
            <a:ext cx="3124080" cy="1066680"/>
          </a:xfrm>
          <a:custGeom>
            <a:avLst/>
            <a:gdLst>
              <a:gd name="textAreaLeft" fmla="*/ 69120 w 3124080"/>
              <a:gd name="textAreaRight" fmla="*/ 3054960 w 3124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3248" h="21600">
                <a:moveTo>
                  <a:pt x="0" y="0"/>
                </a:moveTo>
                <a:lnTo>
                  <a:pt x="63248" y="0"/>
                </a:lnTo>
                <a:lnTo>
                  <a:pt x="63248" y="21600"/>
                </a:lnTo>
                <a:lnTo>
                  <a:pt x="0" y="21600"/>
                </a:lnTo>
                <a:close/>
              </a:path>
              <a:path fill="lightenLess" w="63248" h="21600">
                <a:moveTo>
                  <a:pt x="0" y="0"/>
                </a:moveTo>
                <a:lnTo>
                  <a:pt x="63248" y="0"/>
                </a:lnTo>
                <a:lnTo>
                  <a:pt x="61848" y="1400"/>
                </a:lnTo>
                <a:lnTo>
                  <a:pt x="1400" y="1400"/>
                </a:lnTo>
                <a:close/>
              </a:path>
              <a:path fill="darken" w="63248" h="21600">
                <a:moveTo>
                  <a:pt x="63248" y="0"/>
                </a:moveTo>
                <a:lnTo>
                  <a:pt x="63248" y="21600"/>
                </a:lnTo>
                <a:lnTo>
                  <a:pt x="61848" y="20200"/>
                </a:lnTo>
                <a:lnTo>
                  <a:pt x="61848" y="1400"/>
                </a:lnTo>
                <a:close/>
              </a:path>
              <a:path fill="darkenLess" w="63248" h="21600">
                <a:moveTo>
                  <a:pt x="6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48" y="20200"/>
                </a:lnTo>
                <a:close/>
              </a:path>
              <a:path fill="lighten" w="6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Б) 1463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724280"/>
            <a:ext cx="3124080" cy="1067040"/>
          </a:xfrm>
          <a:custGeom>
            <a:avLst/>
            <a:gdLst>
              <a:gd name="textAreaLeft" fmla="*/ 69120 w 3124080"/>
              <a:gd name="textAreaRight" fmla="*/ 3054960 w 3124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63226" h="21600">
                <a:moveTo>
                  <a:pt x="0" y="0"/>
                </a:moveTo>
                <a:lnTo>
                  <a:pt x="63226" y="0"/>
                </a:lnTo>
                <a:lnTo>
                  <a:pt x="63226" y="21600"/>
                </a:lnTo>
                <a:lnTo>
                  <a:pt x="0" y="21600"/>
                </a:lnTo>
                <a:close/>
              </a:path>
              <a:path fill="lightenLess" w="63226" h="21600">
                <a:moveTo>
                  <a:pt x="0" y="0"/>
                </a:moveTo>
                <a:lnTo>
                  <a:pt x="63226" y="0"/>
                </a:lnTo>
                <a:lnTo>
                  <a:pt x="61827" y="1400"/>
                </a:lnTo>
                <a:lnTo>
                  <a:pt x="1400" y="1400"/>
                </a:lnTo>
                <a:close/>
              </a:path>
              <a:path fill="darken" w="63226" h="21600">
                <a:moveTo>
                  <a:pt x="63226" y="0"/>
                </a:moveTo>
                <a:lnTo>
                  <a:pt x="63226" y="21600"/>
                </a:lnTo>
                <a:lnTo>
                  <a:pt x="61827" y="20200"/>
                </a:lnTo>
                <a:lnTo>
                  <a:pt x="61827" y="1400"/>
                </a:lnTo>
                <a:close/>
              </a:path>
              <a:path fill="darkenLess" w="63226" h="21600">
                <a:moveTo>
                  <a:pt x="6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27" y="20200"/>
                </a:lnTo>
                <a:close/>
              </a:path>
              <a:path fill="lighten" w="6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75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5105520" y="4800600"/>
            <a:ext cx="3124080" cy="1066680"/>
          </a:xfrm>
          <a:custGeom>
            <a:avLst/>
            <a:gdLst>
              <a:gd name="textAreaLeft" fmla="*/ 69120 w 3124080"/>
              <a:gd name="textAreaRight" fmla="*/ 3054960 w 3124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3248" h="21600">
                <a:moveTo>
                  <a:pt x="0" y="0"/>
                </a:moveTo>
                <a:lnTo>
                  <a:pt x="63248" y="0"/>
                </a:lnTo>
                <a:lnTo>
                  <a:pt x="63248" y="21600"/>
                </a:lnTo>
                <a:lnTo>
                  <a:pt x="0" y="21600"/>
                </a:lnTo>
                <a:close/>
              </a:path>
              <a:path fill="lightenLess" w="63248" h="21600">
                <a:moveTo>
                  <a:pt x="0" y="0"/>
                </a:moveTo>
                <a:lnTo>
                  <a:pt x="63248" y="0"/>
                </a:lnTo>
                <a:lnTo>
                  <a:pt x="61848" y="1400"/>
                </a:lnTo>
                <a:lnTo>
                  <a:pt x="1400" y="1400"/>
                </a:lnTo>
                <a:close/>
              </a:path>
              <a:path fill="darken" w="63248" h="21600">
                <a:moveTo>
                  <a:pt x="63248" y="0"/>
                </a:moveTo>
                <a:lnTo>
                  <a:pt x="63248" y="21600"/>
                </a:lnTo>
                <a:lnTo>
                  <a:pt x="61848" y="20200"/>
                </a:lnTo>
                <a:lnTo>
                  <a:pt x="61848" y="1400"/>
                </a:lnTo>
                <a:close/>
              </a:path>
              <a:path fill="darkenLess" w="63248" h="21600">
                <a:moveTo>
                  <a:pt x="6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48" y="20200"/>
                </a:lnTo>
                <a:close/>
              </a:path>
              <a:path fill="lighten" w="6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64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7. В результате войны с каким государством Ивану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удалось присоединить Вязьму, Брянск и Путивль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2666880" y="350532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Польша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4876920" y="5334120"/>
            <a:ext cx="4267080" cy="1066680"/>
          </a:xfrm>
          <a:custGeom>
            <a:avLst/>
            <a:gdLst>
              <a:gd name="textAreaLeft" fmla="*/ 69120 w 4267080"/>
              <a:gd name="textAreaRight" fmla="*/ 4197960 w 4267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Литва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304920" y="5334120"/>
            <a:ext cx="4267080" cy="1066680"/>
          </a:xfrm>
          <a:custGeom>
            <a:avLst/>
            <a:gdLst>
              <a:gd name="textAreaLeft" fmla="*/ 69120 w 4267080"/>
              <a:gd name="textAreaRight" fmla="*/ 4197960 w 4267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Швеция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8. Иван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умер 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2438280" y="22860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1503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2438280" y="36576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1502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5181480"/>
            <a:ext cx="4267440" cy="106704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6364" h="21600">
                <a:moveTo>
                  <a:pt x="0" y="0"/>
                </a:moveTo>
                <a:lnTo>
                  <a:pt x="86364" y="0"/>
                </a:lnTo>
                <a:lnTo>
                  <a:pt x="86364" y="21600"/>
                </a:lnTo>
                <a:lnTo>
                  <a:pt x="0" y="21600"/>
                </a:lnTo>
                <a:close/>
              </a:path>
              <a:path fill="lightenLess" w="86364" h="21600">
                <a:moveTo>
                  <a:pt x="0" y="0"/>
                </a:moveTo>
                <a:lnTo>
                  <a:pt x="86364" y="0"/>
                </a:lnTo>
                <a:lnTo>
                  <a:pt x="84964" y="1400"/>
                </a:lnTo>
                <a:lnTo>
                  <a:pt x="1400" y="1400"/>
                </a:lnTo>
                <a:close/>
              </a:path>
              <a:path fill="darken" w="86364" h="21600">
                <a:moveTo>
                  <a:pt x="86364" y="0"/>
                </a:moveTo>
                <a:lnTo>
                  <a:pt x="86364" y="21600"/>
                </a:lnTo>
                <a:lnTo>
                  <a:pt x="84964" y="20200"/>
                </a:lnTo>
                <a:lnTo>
                  <a:pt x="84964" y="1400"/>
                </a:lnTo>
                <a:close/>
              </a:path>
              <a:path fill="darkenLess" w="86364" h="21600">
                <a:moveTo>
                  <a:pt x="8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4" y="20200"/>
                </a:lnTo>
                <a:close/>
              </a:path>
              <a:path fill="lighten" w="8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150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2676600" cy="223812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1752480" y="2362320"/>
            <a:ext cx="5105520" cy="2057400"/>
          </a:xfrm>
          <a:custGeom>
            <a:avLst/>
            <a:gdLst>
              <a:gd name="textAreaLeft" fmla="*/ 133200 w 5105520"/>
              <a:gd name="textAreaRight" fmla="*/ 4972320 w 51055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53596" h="21600">
                <a:moveTo>
                  <a:pt x="0" y="0"/>
                </a:moveTo>
                <a:lnTo>
                  <a:pt x="53596" y="0"/>
                </a:lnTo>
                <a:lnTo>
                  <a:pt x="53596" y="21600"/>
                </a:lnTo>
                <a:lnTo>
                  <a:pt x="0" y="21600"/>
                </a:lnTo>
                <a:close/>
              </a:path>
              <a:path fill="lightenLess" w="53596" h="21600">
                <a:moveTo>
                  <a:pt x="0" y="0"/>
                </a:moveTo>
                <a:lnTo>
                  <a:pt x="53596" y="0"/>
                </a:lnTo>
                <a:lnTo>
                  <a:pt x="52196" y="1400"/>
                </a:lnTo>
                <a:lnTo>
                  <a:pt x="1400" y="1400"/>
                </a:lnTo>
                <a:close/>
              </a:path>
              <a:path fill="darken" w="53596" h="21600">
                <a:moveTo>
                  <a:pt x="53596" y="0"/>
                </a:moveTo>
                <a:lnTo>
                  <a:pt x="53596" y="21600"/>
                </a:lnTo>
                <a:lnTo>
                  <a:pt x="52196" y="20200"/>
                </a:lnTo>
                <a:lnTo>
                  <a:pt x="52196" y="1400"/>
                </a:lnTo>
                <a:close/>
              </a:path>
              <a:path fill="darkenLess" w="53596" h="21600">
                <a:moveTo>
                  <a:pt x="53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96" y="20200"/>
                </a:lnTo>
                <a:close/>
              </a:path>
              <a:path fill="lighten" w="53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br>
              <a:rPr sz="4400"/>
            </a:b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ПОЗДРАВЛЯЮ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2. В каком году Иван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присоединил Новгоро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048120"/>
            <a:ext cx="3352680" cy="1066680"/>
          </a:xfrm>
          <a:custGeom>
            <a:avLst/>
            <a:gdLst>
              <a:gd name="textAreaLeft" fmla="*/ 69120 w 3352680"/>
              <a:gd name="textAreaRight" fmla="*/ 3283560 w 3352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7875" h="21600">
                <a:moveTo>
                  <a:pt x="0" y="0"/>
                </a:moveTo>
                <a:lnTo>
                  <a:pt x="67875" y="0"/>
                </a:lnTo>
                <a:lnTo>
                  <a:pt x="67875" y="21600"/>
                </a:lnTo>
                <a:lnTo>
                  <a:pt x="0" y="21600"/>
                </a:lnTo>
                <a:close/>
              </a:path>
              <a:path fill="lightenLess" w="67875" h="21600">
                <a:moveTo>
                  <a:pt x="0" y="0"/>
                </a:moveTo>
                <a:lnTo>
                  <a:pt x="67875" y="0"/>
                </a:lnTo>
                <a:lnTo>
                  <a:pt x="66475" y="1400"/>
                </a:lnTo>
                <a:lnTo>
                  <a:pt x="1400" y="1400"/>
                </a:lnTo>
                <a:close/>
              </a:path>
              <a:path fill="darken" w="67875" h="21600">
                <a:moveTo>
                  <a:pt x="67875" y="0"/>
                </a:moveTo>
                <a:lnTo>
                  <a:pt x="67875" y="21600"/>
                </a:lnTo>
                <a:lnTo>
                  <a:pt x="66475" y="20200"/>
                </a:lnTo>
                <a:lnTo>
                  <a:pt x="66475" y="1400"/>
                </a:lnTo>
                <a:close/>
              </a:path>
              <a:path fill="darkenLess" w="67875" h="21600">
                <a:moveTo>
                  <a:pt x="67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5" y="20200"/>
                </a:lnTo>
                <a:close/>
              </a:path>
              <a:path fill="lighten" w="67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1479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5029200" y="3048120"/>
            <a:ext cx="3276720" cy="1066680"/>
          </a:xfrm>
          <a:custGeom>
            <a:avLst/>
            <a:gdLst>
              <a:gd name="textAreaLeft" fmla="*/ 69120 w 3276720"/>
              <a:gd name="textAreaRight" fmla="*/ 3207600 w 32767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6338" h="21600">
                <a:moveTo>
                  <a:pt x="0" y="0"/>
                </a:moveTo>
                <a:lnTo>
                  <a:pt x="66338" y="0"/>
                </a:lnTo>
                <a:lnTo>
                  <a:pt x="66338" y="21600"/>
                </a:lnTo>
                <a:lnTo>
                  <a:pt x="0" y="21600"/>
                </a:lnTo>
                <a:close/>
              </a:path>
              <a:path fill="lightenLess" w="66338" h="21600">
                <a:moveTo>
                  <a:pt x="0" y="0"/>
                </a:moveTo>
                <a:lnTo>
                  <a:pt x="66338" y="0"/>
                </a:lnTo>
                <a:lnTo>
                  <a:pt x="64938" y="1400"/>
                </a:lnTo>
                <a:lnTo>
                  <a:pt x="1400" y="1400"/>
                </a:lnTo>
                <a:close/>
              </a:path>
              <a:path fill="darken" w="66338" h="21600">
                <a:moveTo>
                  <a:pt x="66338" y="0"/>
                </a:moveTo>
                <a:lnTo>
                  <a:pt x="66338" y="21600"/>
                </a:lnTo>
                <a:lnTo>
                  <a:pt x="64938" y="20200"/>
                </a:lnTo>
                <a:lnTo>
                  <a:pt x="64938" y="1400"/>
                </a:lnTo>
                <a:close/>
              </a:path>
              <a:path fill="darkenLess" w="66338" h="21600">
                <a:moveTo>
                  <a:pt x="66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938" y="20200"/>
                </a:lnTo>
                <a:close/>
              </a:path>
              <a:path fill="lighten" w="66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146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990720" y="4800600"/>
            <a:ext cx="3276360" cy="1066680"/>
          </a:xfrm>
          <a:custGeom>
            <a:avLst/>
            <a:gdLst>
              <a:gd name="textAreaLeft" fmla="*/ 69120 w 3276360"/>
              <a:gd name="textAreaRight" fmla="*/ 3207240 w 32763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6330" h="21600">
                <a:moveTo>
                  <a:pt x="0" y="0"/>
                </a:moveTo>
                <a:lnTo>
                  <a:pt x="66330" y="0"/>
                </a:lnTo>
                <a:lnTo>
                  <a:pt x="66330" y="21600"/>
                </a:lnTo>
                <a:lnTo>
                  <a:pt x="0" y="21600"/>
                </a:lnTo>
                <a:close/>
              </a:path>
              <a:path fill="lightenLess" w="66330" h="21600">
                <a:moveTo>
                  <a:pt x="0" y="0"/>
                </a:moveTo>
                <a:lnTo>
                  <a:pt x="66330" y="0"/>
                </a:lnTo>
                <a:lnTo>
                  <a:pt x="64930" y="1400"/>
                </a:lnTo>
                <a:lnTo>
                  <a:pt x="1400" y="1400"/>
                </a:lnTo>
                <a:close/>
              </a:path>
              <a:path fill="darken" w="66330" h="21600">
                <a:moveTo>
                  <a:pt x="66330" y="0"/>
                </a:moveTo>
                <a:lnTo>
                  <a:pt x="66330" y="21600"/>
                </a:lnTo>
                <a:lnTo>
                  <a:pt x="64930" y="20200"/>
                </a:lnTo>
                <a:lnTo>
                  <a:pt x="64930" y="1400"/>
                </a:lnTo>
                <a:close/>
              </a:path>
              <a:path fill="darkenLess" w="66330" h="21600">
                <a:moveTo>
                  <a:pt x="66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930" y="20200"/>
                </a:lnTo>
                <a:close/>
              </a:path>
              <a:path fill="lighten" w="66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1478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800600"/>
            <a:ext cx="3200400" cy="1066680"/>
          </a:xfrm>
          <a:custGeom>
            <a:avLst/>
            <a:gdLst>
              <a:gd name="textAreaLeft" fmla="*/ 69120 w 3200400"/>
              <a:gd name="textAreaRight" fmla="*/ 3131280 w 3200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4793" h="21600">
                <a:moveTo>
                  <a:pt x="0" y="0"/>
                </a:moveTo>
                <a:lnTo>
                  <a:pt x="64793" y="0"/>
                </a:lnTo>
                <a:lnTo>
                  <a:pt x="64793" y="21600"/>
                </a:lnTo>
                <a:lnTo>
                  <a:pt x="0" y="21600"/>
                </a:lnTo>
                <a:close/>
              </a:path>
              <a:path fill="lightenLess" w="64793" h="21600">
                <a:moveTo>
                  <a:pt x="0" y="0"/>
                </a:moveTo>
                <a:lnTo>
                  <a:pt x="64793" y="0"/>
                </a:lnTo>
                <a:lnTo>
                  <a:pt x="63393" y="1400"/>
                </a:lnTo>
                <a:lnTo>
                  <a:pt x="1400" y="1400"/>
                </a:lnTo>
                <a:close/>
              </a:path>
              <a:path fill="darken" w="64793" h="21600">
                <a:moveTo>
                  <a:pt x="64793" y="0"/>
                </a:moveTo>
                <a:lnTo>
                  <a:pt x="64793" y="21600"/>
                </a:lnTo>
                <a:lnTo>
                  <a:pt x="63393" y="20200"/>
                </a:lnTo>
                <a:lnTo>
                  <a:pt x="63393" y="1400"/>
                </a:lnTo>
                <a:close/>
              </a:path>
              <a:path fill="darkenLess" w="64793" h="21600">
                <a:moveTo>
                  <a:pt x="64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3" y="20200"/>
                </a:lnTo>
                <a:close/>
              </a:path>
              <a:path fill="lighten" w="64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)146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. Сборник законов, изданный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ваном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называл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914400" y="4114800"/>
            <a:ext cx="3657600" cy="1143000"/>
          </a:xfrm>
          <a:custGeom>
            <a:avLst/>
            <a:gdLst>
              <a:gd name="textAreaLeft" fmla="*/ 73800 w 3657600"/>
              <a:gd name="textAreaRight" fmla="*/ 3583800 w 3657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9105" h="21600">
                <a:moveTo>
                  <a:pt x="0" y="0"/>
                </a:moveTo>
                <a:lnTo>
                  <a:pt x="69105" y="0"/>
                </a:lnTo>
                <a:lnTo>
                  <a:pt x="69105" y="21600"/>
                </a:lnTo>
                <a:lnTo>
                  <a:pt x="0" y="21600"/>
                </a:lnTo>
                <a:close/>
              </a:path>
              <a:path fill="lightenLess" w="69105" h="21600">
                <a:moveTo>
                  <a:pt x="0" y="0"/>
                </a:moveTo>
                <a:lnTo>
                  <a:pt x="69105" y="0"/>
                </a:lnTo>
                <a:lnTo>
                  <a:pt x="67705" y="1400"/>
                </a:lnTo>
                <a:lnTo>
                  <a:pt x="1400" y="1400"/>
                </a:lnTo>
                <a:close/>
              </a:path>
              <a:path fill="darken" w="69105" h="21600">
                <a:moveTo>
                  <a:pt x="69105" y="0"/>
                </a:moveTo>
                <a:lnTo>
                  <a:pt x="69105" y="21600"/>
                </a:lnTo>
                <a:lnTo>
                  <a:pt x="67705" y="20200"/>
                </a:lnTo>
                <a:lnTo>
                  <a:pt x="67705" y="1400"/>
                </a:lnTo>
                <a:close/>
              </a:path>
              <a:path fill="darkenLess" w="69105" h="21600">
                <a:moveTo>
                  <a:pt x="69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5" y="20200"/>
                </a:lnTo>
                <a:close/>
              </a:path>
              <a:path fill="lighten" w="69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А)Русская прав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5029200" y="4114800"/>
            <a:ext cx="3657600" cy="1143000"/>
          </a:xfrm>
          <a:custGeom>
            <a:avLst/>
            <a:gdLst>
              <a:gd name="textAreaLeft" fmla="*/ 73800 w 3657600"/>
              <a:gd name="textAreaRight" fmla="*/ 3583800 w 3657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9105" h="21600">
                <a:moveTo>
                  <a:pt x="0" y="0"/>
                </a:moveTo>
                <a:lnTo>
                  <a:pt x="69105" y="0"/>
                </a:lnTo>
                <a:lnTo>
                  <a:pt x="69105" y="21600"/>
                </a:lnTo>
                <a:lnTo>
                  <a:pt x="0" y="21600"/>
                </a:lnTo>
                <a:close/>
              </a:path>
              <a:path fill="lightenLess" w="69105" h="21600">
                <a:moveTo>
                  <a:pt x="0" y="0"/>
                </a:moveTo>
                <a:lnTo>
                  <a:pt x="69105" y="0"/>
                </a:lnTo>
                <a:lnTo>
                  <a:pt x="67705" y="1400"/>
                </a:lnTo>
                <a:lnTo>
                  <a:pt x="1400" y="1400"/>
                </a:lnTo>
                <a:close/>
              </a:path>
              <a:path fill="darken" w="69105" h="21600">
                <a:moveTo>
                  <a:pt x="69105" y="0"/>
                </a:moveTo>
                <a:lnTo>
                  <a:pt x="69105" y="21600"/>
                </a:lnTo>
                <a:lnTo>
                  <a:pt x="67705" y="20200"/>
                </a:lnTo>
                <a:lnTo>
                  <a:pt x="67705" y="1400"/>
                </a:lnTo>
                <a:close/>
              </a:path>
              <a:path fill="darkenLess" w="69105" h="21600">
                <a:moveTo>
                  <a:pt x="69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5" y="20200"/>
                </a:lnTo>
                <a:close/>
              </a:path>
              <a:path fill="lighten" w="69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Б)Судебни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5-04T14:24:25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  <property fmtid="{D5CDD505-2E9C-101B-9397-08002B2CF9AE}" pid="3" name="Version">
    <vt:r8>1</vt:r8>
  </property>
</Properties>
</file>