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79B-33B3-4DCC-908A-3B817962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4E5-79C6-4BA6-B813-C0978A90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8CC5-EF56-4DD0-8909-2CDC7502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FE9-2359-41F5-8E4F-58B31151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0901-ADA4-40AB-ADB0-82B8EE43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AD87-0F76-444C-9F9D-A7039936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1F93-3BCC-4062-9762-72034DD5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2359-8E01-4E73-9CE8-A37AF4D4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7C11-091B-42BF-B180-9FE46920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34EB-65E1-4089-B972-FF000973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4365-0C3E-4349-A0C7-91290781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78B-E973-4D71-BDE5-AE002869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9C5B-D1FE-497A-B240-09833212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4EA4-8646-4CA7-9A28-7622607B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05FB-423C-4F9A-B71A-31B83CFE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264C-D053-407E-8746-8C8DDA2D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E956-3DF1-4C2E-8CDD-25AA39A4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00A-25A2-491E-B611-7D5B2311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638-B715-4AF3-88DA-A403EED9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09F8-9E83-4BA0-AD49-8F4F1B51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204-EB38-4486-A6A9-05CB5490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A26A-CE39-4B68-B075-2526AEEC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79B-0432-4E6D-802A-51FC851F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B2E-4366-43DB-A508-D2A33065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47D4-43E4-4677-A555-2B508AAC9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C363-726C-4CD7-B63B-AAB3B71C5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ecff"/>
                </a:solidFill>
                <a:latin typeface="Arial"/>
              </a:rPr>
              <a:t>Закрепление знаний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Тест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4. Иван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был женат на племяннице византийского император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2590920"/>
            <a:ext cx="5410080" cy="1143000"/>
          </a:xfrm>
          <a:custGeom>
            <a:avLst/>
            <a:gdLst>
              <a:gd name="textAreaLeft" fmla="*/ 73800 w 5410080"/>
              <a:gd name="textAreaRight" fmla="*/ 5336280 w 54100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2212" h="21600">
                <a:moveTo>
                  <a:pt x="0" y="0"/>
                </a:moveTo>
                <a:lnTo>
                  <a:pt x="102212" y="0"/>
                </a:lnTo>
                <a:lnTo>
                  <a:pt x="102212" y="21600"/>
                </a:lnTo>
                <a:lnTo>
                  <a:pt x="0" y="21600"/>
                </a:lnTo>
                <a:close/>
              </a:path>
              <a:path fill="lightenLess" w="102212" h="21600">
                <a:moveTo>
                  <a:pt x="0" y="0"/>
                </a:moveTo>
                <a:lnTo>
                  <a:pt x="102212" y="0"/>
                </a:lnTo>
                <a:lnTo>
                  <a:pt x="100812" y="1400"/>
                </a:lnTo>
                <a:lnTo>
                  <a:pt x="1400" y="1400"/>
                </a:lnTo>
                <a:close/>
              </a:path>
              <a:path fill="darken" w="102212" h="21600">
                <a:moveTo>
                  <a:pt x="102212" y="0"/>
                </a:moveTo>
                <a:lnTo>
                  <a:pt x="102212" y="21600"/>
                </a:lnTo>
                <a:lnTo>
                  <a:pt x="100812" y="20200"/>
                </a:lnTo>
                <a:lnTo>
                  <a:pt x="100812" y="1400"/>
                </a:lnTo>
                <a:close/>
              </a:path>
              <a:path fill="darkenLess" w="102212" h="21600">
                <a:moveTo>
                  <a:pt x="10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12" y="20200"/>
                </a:lnTo>
                <a:close/>
              </a:path>
              <a:path fill="lighten" w="10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да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1905120" y="4724280"/>
            <a:ext cx="5410080" cy="1143000"/>
          </a:xfrm>
          <a:custGeom>
            <a:avLst/>
            <a:gdLst>
              <a:gd name="textAreaLeft" fmla="*/ 73800 w 5410080"/>
              <a:gd name="textAreaRight" fmla="*/ 5336280 w 54100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2212" h="21600">
                <a:moveTo>
                  <a:pt x="0" y="0"/>
                </a:moveTo>
                <a:lnTo>
                  <a:pt x="102212" y="0"/>
                </a:lnTo>
                <a:lnTo>
                  <a:pt x="102212" y="21600"/>
                </a:lnTo>
                <a:lnTo>
                  <a:pt x="0" y="21600"/>
                </a:lnTo>
                <a:close/>
              </a:path>
              <a:path fill="lightenLess" w="102212" h="21600">
                <a:moveTo>
                  <a:pt x="0" y="0"/>
                </a:moveTo>
                <a:lnTo>
                  <a:pt x="102212" y="0"/>
                </a:lnTo>
                <a:lnTo>
                  <a:pt x="100812" y="1400"/>
                </a:lnTo>
                <a:lnTo>
                  <a:pt x="1400" y="1400"/>
                </a:lnTo>
                <a:close/>
              </a:path>
              <a:path fill="darken" w="102212" h="21600">
                <a:moveTo>
                  <a:pt x="102212" y="0"/>
                </a:moveTo>
                <a:lnTo>
                  <a:pt x="102212" y="21600"/>
                </a:lnTo>
                <a:lnTo>
                  <a:pt x="100812" y="20200"/>
                </a:lnTo>
                <a:lnTo>
                  <a:pt x="100812" y="1400"/>
                </a:lnTo>
                <a:close/>
              </a:path>
              <a:path fill="darkenLess" w="102212" h="21600">
                <a:moveTo>
                  <a:pt x="10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12" y="20200"/>
                </a:lnTo>
                <a:close/>
              </a:path>
              <a:path fill="lighten" w="10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не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5. Битва на р. Угре состоялась в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228600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1474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365760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 1480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2438280" y="5181480"/>
            <a:ext cx="4267440" cy="106704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6364" h="21600">
                <a:moveTo>
                  <a:pt x="0" y="0"/>
                </a:moveTo>
                <a:lnTo>
                  <a:pt x="86364" y="0"/>
                </a:lnTo>
                <a:lnTo>
                  <a:pt x="86364" y="21600"/>
                </a:lnTo>
                <a:lnTo>
                  <a:pt x="0" y="21600"/>
                </a:lnTo>
                <a:close/>
              </a:path>
              <a:path fill="lightenLess" w="86364" h="21600">
                <a:moveTo>
                  <a:pt x="0" y="0"/>
                </a:moveTo>
                <a:lnTo>
                  <a:pt x="86364" y="0"/>
                </a:lnTo>
                <a:lnTo>
                  <a:pt x="84964" y="1400"/>
                </a:lnTo>
                <a:lnTo>
                  <a:pt x="1400" y="1400"/>
                </a:lnTo>
                <a:close/>
              </a:path>
              <a:path fill="darken" w="86364" h="21600">
                <a:moveTo>
                  <a:pt x="86364" y="0"/>
                </a:moveTo>
                <a:lnTo>
                  <a:pt x="86364" y="21600"/>
                </a:lnTo>
                <a:lnTo>
                  <a:pt x="84964" y="20200"/>
                </a:lnTo>
                <a:lnTo>
                  <a:pt x="84964" y="1400"/>
                </a:lnTo>
                <a:close/>
              </a:path>
              <a:path fill="darkenLess" w="86364" h="21600">
                <a:moveTo>
                  <a:pt x="86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64" y="20200"/>
                </a:lnTo>
                <a:close/>
              </a:path>
              <a:path fill="lighten" w="86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1475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6. Считается, что «стояние на р. Угре» закончилось победо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62320" y="2895480"/>
            <a:ext cx="4267080" cy="1067040"/>
          </a:xfrm>
          <a:custGeom>
            <a:avLst/>
            <a:gdLst>
              <a:gd name="textAreaLeft" fmla="*/ 69120 w 4267080"/>
              <a:gd name="textAreaRight" fmla="*/ 4197960 w 42670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6356" h="21600">
                <a:moveTo>
                  <a:pt x="0" y="0"/>
                </a:moveTo>
                <a:lnTo>
                  <a:pt x="86356" y="0"/>
                </a:lnTo>
                <a:lnTo>
                  <a:pt x="86356" y="21600"/>
                </a:lnTo>
                <a:lnTo>
                  <a:pt x="0" y="21600"/>
                </a:lnTo>
                <a:close/>
              </a:path>
              <a:path fill="lightenLess" w="86356" h="21600">
                <a:moveTo>
                  <a:pt x="0" y="0"/>
                </a:moveTo>
                <a:lnTo>
                  <a:pt x="86356" y="0"/>
                </a:lnTo>
                <a:lnTo>
                  <a:pt x="84956" y="1400"/>
                </a:lnTo>
                <a:lnTo>
                  <a:pt x="1400" y="1400"/>
                </a:lnTo>
                <a:close/>
              </a:path>
              <a:path fill="darken" w="86356" h="21600">
                <a:moveTo>
                  <a:pt x="86356" y="0"/>
                </a:moveTo>
                <a:lnTo>
                  <a:pt x="86356" y="21600"/>
                </a:lnTo>
                <a:lnTo>
                  <a:pt x="84956" y="20200"/>
                </a:lnTo>
                <a:lnTo>
                  <a:pt x="84956" y="1400"/>
                </a:lnTo>
                <a:close/>
              </a:path>
              <a:path fill="darkenLess" w="86356" h="21600">
                <a:moveTo>
                  <a:pt x="86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6" y="20200"/>
                </a:lnTo>
                <a:close/>
              </a:path>
              <a:path fill="lighten" w="86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Ива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2438280" y="480060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Монголо-татар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1.Иван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правил с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533520" y="2971800"/>
            <a:ext cx="3200400" cy="1066680"/>
          </a:xfrm>
          <a:custGeom>
            <a:avLst/>
            <a:gdLst>
              <a:gd name="textAreaLeft" fmla="*/ 69120 w 3200400"/>
              <a:gd name="textAreaRight" fmla="*/ 3131280 w 32004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4793" h="21600">
                <a:moveTo>
                  <a:pt x="0" y="0"/>
                </a:moveTo>
                <a:lnTo>
                  <a:pt x="64793" y="0"/>
                </a:lnTo>
                <a:lnTo>
                  <a:pt x="64793" y="21600"/>
                </a:lnTo>
                <a:lnTo>
                  <a:pt x="0" y="21600"/>
                </a:lnTo>
                <a:close/>
              </a:path>
              <a:path fill="lightenLess" w="64793" h="21600">
                <a:moveTo>
                  <a:pt x="0" y="0"/>
                </a:moveTo>
                <a:lnTo>
                  <a:pt x="64793" y="0"/>
                </a:lnTo>
                <a:lnTo>
                  <a:pt x="63393" y="1400"/>
                </a:lnTo>
                <a:lnTo>
                  <a:pt x="1400" y="1400"/>
                </a:lnTo>
                <a:close/>
              </a:path>
              <a:path fill="darken" w="64793" h="21600">
                <a:moveTo>
                  <a:pt x="64793" y="0"/>
                </a:moveTo>
                <a:lnTo>
                  <a:pt x="64793" y="21600"/>
                </a:lnTo>
                <a:lnTo>
                  <a:pt x="63393" y="20200"/>
                </a:lnTo>
                <a:lnTo>
                  <a:pt x="63393" y="1400"/>
                </a:lnTo>
                <a:close/>
              </a:path>
              <a:path fill="darkenLess" w="64793" h="21600">
                <a:moveTo>
                  <a:pt x="64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3" y="20200"/>
                </a:lnTo>
                <a:close/>
              </a:path>
              <a:path fill="lighten" w="64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1462 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5029200" y="2971800"/>
            <a:ext cx="3124080" cy="1066680"/>
          </a:xfrm>
          <a:custGeom>
            <a:avLst/>
            <a:gdLst>
              <a:gd name="textAreaLeft" fmla="*/ 69120 w 3124080"/>
              <a:gd name="textAreaRight" fmla="*/ 3054960 w 31240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3248" h="21600">
                <a:moveTo>
                  <a:pt x="0" y="0"/>
                </a:moveTo>
                <a:lnTo>
                  <a:pt x="63248" y="0"/>
                </a:lnTo>
                <a:lnTo>
                  <a:pt x="63248" y="21600"/>
                </a:lnTo>
                <a:lnTo>
                  <a:pt x="0" y="21600"/>
                </a:lnTo>
                <a:close/>
              </a:path>
              <a:path fill="lightenLess" w="63248" h="21600">
                <a:moveTo>
                  <a:pt x="0" y="0"/>
                </a:moveTo>
                <a:lnTo>
                  <a:pt x="63248" y="0"/>
                </a:lnTo>
                <a:lnTo>
                  <a:pt x="61848" y="1400"/>
                </a:lnTo>
                <a:lnTo>
                  <a:pt x="1400" y="1400"/>
                </a:lnTo>
                <a:close/>
              </a:path>
              <a:path fill="darken" w="63248" h="21600">
                <a:moveTo>
                  <a:pt x="63248" y="0"/>
                </a:moveTo>
                <a:lnTo>
                  <a:pt x="63248" y="21600"/>
                </a:lnTo>
                <a:lnTo>
                  <a:pt x="61848" y="20200"/>
                </a:lnTo>
                <a:lnTo>
                  <a:pt x="61848" y="1400"/>
                </a:lnTo>
                <a:close/>
              </a:path>
              <a:path fill="darkenLess" w="63248" h="21600">
                <a:moveTo>
                  <a:pt x="63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848" y="20200"/>
                </a:lnTo>
                <a:close/>
              </a:path>
              <a:path fill="lighten" w="63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Б) 1463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724280"/>
            <a:ext cx="3124080" cy="1067040"/>
          </a:xfrm>
          <a:custGeom>
            <a:avLst/>
            <a:gdLst>
              <a:gd name="textAreaLeft" fmla="*/ 69120 w 3124080"/>
              <a:gd name="textAreaRight" fmla="*/ 3054960 w 31240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63226" h="21600">
                <a:moveTo>
                  <a:pt x="0" y="0"/>
                </a:moveTo>
                <a:lnTo>
                  <a:pt x="63226" y="0"/>
                </a:lnTo>
                <a:lnTo>
                  <a:pt x="63226" y="21600"/>
                </a:lnTo>
                <a:lnTo>
                  <a:pt x="0" y="21600"/>
                </a:lnTo>
                <a:close/>
              </a:path>
              <a:path fill="lightenLess" w="63226" h="21600">
                <a:moveTo>
                  <a:pt x="0" y="0"/>
                </a:moveTo>
                <a:lnTo>
                  <a:pt x="63226" y="0"/>
                </a:lnTo>
                <a:lnTo>
                  <a:pt x="61827" y="1400"/>
                </a:lnTo>
                <a:lnTo>
                  <a:pt x="1400" y="1400"/>
                </a:lnTo>
                <a:close/>
              </a:path>
              <a:path fill="darken" w="63226" h="21600">
                <a:moveTo>
                  <a:pt x="63226" y="0"/>
                </a:moveTo>
                <a:lnTo>
                  <a:pt x="63226" y="21600"/>
                </a:lnTo>
                <a:lnTo>
                  <a:pt x="61827" y="20200"/>
                </a:lnTo>
                <a:lnTo>
                  <a:pt x="61827" y="1400"/>
                </a:lnTo>
                <a:close/>
              </a:path>
              <a:path fill="darkenLess" w="63226" h="21600">
                <a:moveTo>
                  <a:pt x="6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827" y="20200"/>
                </a:lnTo>
                <a:close/>
              </a:path>
              <a:path fill="lighten" w="6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75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5105520" y="4800600"/>
            <a:ext cx="3124080" cy="1066680"/>
          </a:xfrm>
          <a:custGeom>
            <a:avLst/>
            <a:gdLst>
              <a:gd name="textAreaLeft" fmla="*/ 69120 w 3124080"/>
              <a:gd name="textAreaRight" fmla="*/ 3054960 w 31240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3248" h="21600">
                <a:moveTo>
                  <a:pt x="0" y="0"/>
                </a:moveTo>
                <a:lnTo>
                  <a:pt x="63248" y="0"/>
                </a:lnTo>
                <a:lnTo>
                  <a:pt x="63248" y="21600"/>
                </a:lnTo>
                <a:lnTo>
                  <a:pt x="0" y="21600"/>
                </a:lnTo>
                <a:close/>
              </a:path>
              <a:path fill="lightenLess" w="63248" h="21600">
                <a:moveTo>
                  <a:pt x="0" y="0"/>
                </a:moveTo>
                <a:lnTo>
                  <a:pt x="63248" y="0"/>
                </a:lnTo>
                <a:lnTo>
                  <a:pt x="61848" y="1400"/>
                </a:lnTo>
                <a:lnTo>
                  <a:pt x="1400" y="1400"/>
                </a:lnTo>
                <a:close/>
              </a:path>
              <a:path fill="darken" w="63248" h="21600">
                <a:moveTo>
                  <a:pt x="63248" y="0"/>
                </a:moveTo>
                <a:lnTo>
                  <a:pt x="63248" y="21600"/>
                </a:lnTo>
                <a:lnTo>
                  <a:pt x="61848" y="20200"/>
                </a:lnTo>
                <a:lnTo>
                  <a:pt x="61848" y="1400"/>
                </a:lnTo>
                <a:close/>
              </a:path>
              <a:path fill="darkenLess" w="63248" h="21600">
                <a:moveTo>
                  <a:pt x="63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848" y="20200"/>
                </a:lnTo>
                <a:close/>
              </a:path>
              <a:path fill="lighten" w="63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64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7. В результате войны с каким государством Ивану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удалось присоединить Вязьму, Брянск и Путивль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2666880" y="350532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Польша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4876920" y="5334120"/>
            <a:ext cx="4267080" cy="1066680"/>
          </a:xfrm>
          <a:custGeom>
            <a:avLst/>
            <a:gdLst>
              <a:gd name="textAreaLeft" fmla="*/ 69120 w 4267080"/>
              <a:gd name="textAreaRight" fmla="*/ 4197960 w 42670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85" h="21600">
                <a:moveTo>
                  <a:pt x="0" y="0"/>
                </a:moveTo>
                <a:lnTo>
                  <a:pt x="86385" y="0"/>
                </a:lnTo>
                <a:lnTo>
                  <a:pt x="86385" y="21600"/>
                </a:lnTo>
                <a:lnTo>
                  <a:pt x="0" y="21600"/>
                </a:lnTo>
                <a:close/>
              </a:path>
              <a:path fill="lightenLess" w="86385" h="21600">
                <a:moveTo>
                  <a:pt x="0" y="0"/>
                </a:moveTo>
                <a:lnTo>
                  <a:pt x="86385" y="0"/>
                </a:lnTo>
                <a:lnTo>
                  <a:pt x="84985" y="1400"/>
                </a:lnTo>
                <a:lnTo>
                  <a:pt x="1400" y="1400"/>
                </a:lnTo>
                <a:close/>
              </a:path>
              <a:path fill="darken" w="86385" h="21600">
                <a:moveTo>
                  <a:pt x="86385" y="0"/>
                </a:moveTo>
                <a:lnTo>
                  <a:pt x="86385" y="21600"/>
                </a:lnTo>
                <a:lnTo>
                  <a:pt x="84985" y="20200"/>
                </a:lnTo>
                <a:lnTo>
                  <a:pt x="84985" y="1400"/>
                </a:lnTo>
                <a:close/>
              </a:path>
              <a:path fill="darkenLess" w="86385" h="21600">
                <a:moveTo>
                  <a:pt x="8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5" y="20200"/>
                </a:lnTo>
                <a:close/>
              </a:path>
              <a:path fill="lighten" w="8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Литва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rId3" action="ppaction://hlinksldjump"/>
          </p:cNvPr>
          <p:cNvSpPr/>
          <p:nvPr/>
        </p:nvSpPr>
        <p:spPr>
          <a:xfrm>
            <a:off x="304920" y="5334120"/>
            <a:ext cx="4267080" cy="1066680"/>
          </a:xfrm>
          <a:custGeom>
            <a:avLst/>
            <a:gdLst>
              <a:gd name="textAreaLeft" fmla="*/ 69120 w 4267080"/>
              <a:gd name="textAreaRight" fmla="*/ 4197960 w 42670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85" h="21600">
                <a:moveTo>
                  <a:pt x="0" y="0"/>
                </a:moveTo>
                <a:lnTo>
                  <a:pt x="86385" y="0"/>
                </a:lnTo>
                <a:lnTo>
                  <a:pt x="86385" y="21600"/>
                </a:lnTo>
                <a:lnTo>
                  <a:pt x="0" y="21600"/>
                </a:lnTo>
                <a:close/>
              </a:path>
              <a:path fill="lightenLess" w="86385" h="21600">
                <a:moveTo>
                  <a:pt x="0" y="0"/>
                </a:moveTo>
                <a:lnTo>
                  <a:pt x="86385" y="0"/>
                </a:lnTo>
                <a:lnTo>
                  <a:pt x="84985" y="1400"/>
                </a:lnTo>
                <a:lnTo>
                  <a:pt x="1400" y="1400"/>
                </a:lnTo>
                <a:close/>
              </a:path>
              <a:path fill="darken" w="86385" h="21600">
                <a:moveTo>
                  <a:pt x="86385" y="0"/>
                </a:moveTo>
                <a:lnTo>
                  <a:pt x="86385" y="21600"/>
                </a:lnTo>
                <a:lnTo>
                  <a:pt x="84985" y="20200"/>
                </a:lnTo>
                <a:lnTo>
                  <a:pt x="84985" y="1400"/>
                </a:lnTo>
                <a:close/>
              </a:path>
              <a:path fill="darkenLess" w="86385" h="21600">
                <a:moveTo>
                  <a:pt x="8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5" y="20200"/>
                </a:lnTo>
                <a:close/>
              </a:path>
              <a:path fill="lighten" w="8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Швеция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8. Иван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умер 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2438280" y="228600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1503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2438280" y="3657600"/>
            <a:ext cx="4267440" cy="106668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86393" h="21600">
                <a:moveTo>
                  <a:pt x="0" y="0"/>
                </a:moveTo>
                <a:lnTo>
                  <a:pt x="86393" y="0"/>
                </a:lnTo>
                <a:lnTo>
                  <a:pt x="86393" y="21600"/>
                </a:lnTo>
                <a:lnTo>
                  <a:pt x="0" y="21600"/>
                </a:lnTo>
                <a:close/>
              </a:path>
              <a:path fill="lightenLess" w="86393" h="21600">
                <a:moveTo>
                  <a:pt x="0" y="0"/>
                </a:moveTo>
                <a:lnTo>
                  <a:pt x="86393" y="0"/>
                </a:lnTo>
                <a:lnTo>
                  <a:pt x="84993" y="1400"/>
                </a:lnTo>
                <a:lnTo>
                  <a:pt x="1400" y="1400"/>
                </a:lnTo>
                <a:close/>
              </a:path>
              <a:path fill="darken" w="86393" h="21600">
                <a:moveTo>
                  <a:pt x="86393" y="0"/>
                </a:moveTo>
                <a:lnTo>
                  <a:pt x="86393" y="21600"/>
                </a:lnTo>
                <a:lnTo>
                  <a:pt x="84993" y="20200"/>
                </a:lnTo>
                <a:lnTo>
                  <a:pt x="84993" y="1400"/>
                </a:lnTo>
                <a:close/>
              </a:path>
              <a:path fill="darkenLess" w="86393" h="21600">
                <a:moveTo>
                  <a:pt x="86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3" y="20200"/>
                </a:lnTo>
                <a:close/>
              </a:path>
              <a:path fill="lighten" w="86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1502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38280" y="5181480"/>
            <a:ext cx="4267440" cy="1067040"/>
          </a:xfrm>
          <a:custGeom>
            <a:avLst/>
            <a:gdLst>
              <a:gd name="textAreaLeft" fmla="*/ 69120 w 4267440"/>
              <a:gd name="textAreaRight" fmla="*/ 4198320 w 426744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6364" h="21600">
                <a:moveTo>
                  <a:pt x="0" y="0"/>
                </a:moveTo>
                <a:lnTo>
                  <a:pt x="86364" y="0"/>
                </a:lnTo>
                <a:lnTo>
                  <a:pt x="86364" y="21600"/>
                </a:lnTo>
                <a:lnTo>
                  <a:pt x="0" y="21600"/>
                </a:lnTo>
                <a:close/>
              </a:path>
              <a:path fill="lightenLess" w="86364" h="21600">
                <a:moveTo>
                  <a:pt x="0" y="0"/>
                </a:moveTo>
                <a:lnTo>
                  <a:pt x="86364" y="0"/>
                </a:lnTo>
                <a:lnTo>
                  <a:pt x="84964" y="1400"/>
                </a:lnTo>
                <a:lnTo>
                  <a:pt x="1400" y="1400"/>
                </a:lnTo>
                <a:close/>
              </a:path>
              <a:path fill="darken" w="86364" h="21600">
                <a:moveTo>
                  <a:pt x="86364" y="0"/>
                </a:moveTo>
                <a:lnTo>
                  <a:pt x="86364" y="21600"/>
                </a:lnTo>
                <a:lnTo>
                  <a:pt x="84964" y="20200"/>
                </a:lnTo>
                <a:lnTo>
                  <a:pt x="84964" y="1400"/>
                </a:lnTo>
                <a:close/>
              </a:path>
              <a:path fill="darkenLess" w="86364" h="21600">
                <a:moveTo>
                  <a:pt x="86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64" y="20200"/>
                </a:lnTo>
                <a:close/>
              </a:path>
              <a:path fill="lighten" w="86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1505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57200" y="4419720"/>
            <a:ext cx="2676600" cy="223812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rId3" action="ppaction://hlinksldjump"/>
          </p:cNvPr>
          <p:cNvSpPr/>
          <p:nvPr/>
        </p:nvSpPr>
        <p:spPr>
          <a:xfrm>
            <a:off x="1752480" y="2362320"/>
            <a:ext cx="5105520" cy="2057400"/>
          </a:xfrm>
          <a:custGeom>
            <a:avLst/>
            <a:gdLst>
              <a:gd name="textAreaLeft" fmla="*/ 133200 w 5105520"/>
              <a:gd name="textAreaRight" fmla="*/ 4972320 w 510552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53596" h="21600">
                <a:moveTo>
                  <a:pt x="0" y="0"/>
                </a:moveTo>
                <a:lnTo>
                  <a:pt x="53596" y="0"/>
                </a:lnTo>
                <a:lnTo>
                  <a:pt x="53596" y="21600"/>
                </a:lnTo>
                <a:lnTo>
                  <a:pt x="0" y="21600"/>
                </a:lnTo>
                <a:close/>
              </a:path>
              <a:path fill="lightenLess" w="53596" h="21600">
                <a:moveTo>
                  <a:pt x="0" y="0"/>
                </a:moveTo>
                <a:lnTo>
                  <a:pt x="53596" y="0"/>
                </a:lnTo>
                <a:lnTo>
                  <a:pt x="52196" y="1400"/>
                </a:lnTo>
                <a:lnTo>
                  <a:pt x="1400" y="1400"/>
                </a:lnTo>
                <a:close/>
              </a:path>
              <a:path fill="darken" w="53596" h="21600">
                <a:moveTo>
                  <a:pt x="53596" y="0"/>
                </a:moveTo>
                <a:lnTo>
                  <a:pt x="53596" y="21600"/>
                </a:lnTo>
                <a:lnTo>
                  <a:pt x="52196" y="20200"/>
                </a:lnTo>
                <a:lnTo>
                  <a:pt x="52196" y="1400"/>
                </a:lnTo>
                <a:close/>
              </a:path>
              <a:path fill="darkenLess" w="53596" h="21600">
                <a:moveTo>
                  <a:pt x="53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96" y="20200"/>
                </a:lnTo>
                <a:close/>
              </a:path>
              <a:path fill="lighten" w="53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br>
              <a:rPr sz="4400"/>
            </a:b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ПОЗДРАВЛЯЮ 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2. В каком году Иван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присоединил Новгород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048120"/>
            <a:ext cx="3352680" cy="1066680"/>
          </a:xfrm>
          <a:custGeom>
            <a:avLst/>
            <a:gdLst>
              <a:gd name="textAreaLeft" fmla="*/ 69120 w 3352680"/>
              <a:gd name="textAreaRight" fmla="*/ 3283560 w 3352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7875" h="21600">
                <a:moveTo>
                  <a:pt x="0" y="0"/>
                </a:moveTo>
                <a:lnTo>
                  <a:pt x="67875" y="0"/>
                </a:lnTo>
                <a:lnTo>
                  <a:pt x="67875" y="21600"/>
                </a:lnTo>
                <a:lnTo>
                  <a:pt x="0" y="21600"/>
                </a:lnTo>
                <a:close/>
              </a:path>
              <a:path fill="lightenLess" w="67875" h="21600">
                <a:moveTo>
                  <a:pt x="0" y="0"/>
                </a:moveTo>
                <a:lnTo>
                  <a:pt x="67875" y="0"/>
                </a:lnTo>
                <a:lnTo>
                  <a:pt x="66475" y="1400"/>
                </a:lnTo>
                <a:lnTo>
                  <a:pt x="1400" y="1400"/>
                </a:lnTo>
                <a:close/>
              </a:path>
              <a:path fill="darken" w="67875" h="21600">
                <a:moveTo>
                  <a:pt x="67875" y="0"/>
                </a:moveTo>
                <a:lnTo>
                  <a:pt x="67875" y="21600"/>
                </a:lnTo>
                <a:lnTo>
                  <a:pt x="66475" y="20200"/>
                </a:lnTo>
                <a:lnTo>
                  <a:pt x="66475" y="1400"/>
                </a:lnTo>
                <a:close/>
              </a:path>
              <a:path fill="darkenLess" w="67875" h="21600">
                <a:moveTo>
                  <a:pt x="67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75" y="20200"/>
                </a:lnTo>
                <a:close/>
              </a:path>
              <a:path fill="lighten" w="67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1479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5029200" y="3048120"/>
            <a:ext cx="3276720" cy="1066680"/>
          </a:xfrm>
          <a:custGeom>
            <a:avLst/>
            <a:gdLst>
              <a:gd name="textAreaLeft" fmla="*/ 69120 w 3276720"/>
              <a:gd name="textAreaRight" fmla="*/ 3207600 w 32767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6338" h="21600">
                <a:moveTo>
                  <a:pt x="0" y="0"/>
                </a:moveTo>
                <a:lnTo>
                  <a:pt x="66338" y="0"/>
                </a:lnTo>
                <a:lnTo>
                  <a:pt x="66338" y="21600"/>
                </a:lnTo>
                <a:lnTo>
                  <a:pt x="0" y="21600"/>
                </a:lnTo>
                <a:close/>
              </a:path>
              <a:path fill="lightenLess" w="66338" h="21600">
                <a:moveTo>
                  <a:pt x="0" y="0"/>
                </a:moveTo>
                <a:lnTo>
                  <a:pt x="66338" y="0"/>
                </a:lnTo>
                <a:lnTo>
                  <a:pt x="64938" y="1400"/>
                </a:lnTo>
                <a:lnTo>
                  <a:pt x="1400" y="1400"/>
                </a:lnTo>
                <a:close/>
              </a:path>
              <a:path fill="darken" w="66338" h="21600">
                <a:moveTo>
                  <a:pt x="66338" y="0"/>
                </a:moveTo>
                <a:lnTo>
                  <a:pt x="66338" y="21600"/>
                </a:lnTo>
                <a:lnTo>
                  <a:pt x="64938" y="20200"/>
                </a:lnTo>
                <a:lnTo>
                  <a:pt x="64938" y="1400"/>
                </a:lnTo>
                <a:close/>
              </a:path>
              <a:path fill="darkenLess" w="66338" h="21600">
                <a:moveTo>
                  <a:pt x="66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938" y="20200"/>
                </a:lnTo>
                <a:close/>
              </a:path>
              <a:path fill="lighten" w="66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146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990720" y="4800600"/>
            <a:ext cx="3276360" cy="1066680"/>
          </a:xfrm>
          <a:custGeom>
            <a:avLst/>
            <a:gdLst>
              <a:gd name="textAreaLeft" fmla="*/ 69120 w 3276360"/>
              <a:gd name="textAreaRight" fmla="*/ 3207240 w 32763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6330" h="21600">
                <a:moveTo>
                  <a:pt x="0" y="0"/>
                </a:moveTo>
                <a:lnTo>
                  <a:pt x="66330" y="0"/>
                </a:lnTo>
                <a:lnTo>
                  <a:pt x="66330" y="21600"/>
                </a:lnTo>
                <a:lnTo>
                  <a:pt x="0" y="21600"/>
                </a:lnTo>
                <a:close/>
              </a:path>
              <a:path fill="lightenLess" w="66330" h="21600">
                <a:moveTo>
                  <a:pt x="0" y="0"/>
                </a:moveTo>
                <a:lnTo>
                  <a:pt x="66330" y="0"/>
                </a:lnTo>
                <a:lnTo>
                  <a:pt x="64930" y="1400"/>
                </a:lnTo>
                <a:lnTo>
                  <a:pt x="1400" y="1400"/>
                </a:lnTo>
                <a:close/>
              </a:path>
              <a:path fill="darken" w="66330" h="21600">
                <a:moveTo>
                  <a:pt x="66330" y="0"/>
                </a:moveTo>
                <a:lnTo>
                  <a:pt x="66330" y="21600"/>
                </a:lnTo>
                <a:lnTo>
                  <a:pt x="64930" y="20200"/>
                </a:lnTo>
                <a:lnTo>
                  <a:pt x="64930" y="1400"/>
                </a:lnTo>
                <a:close/>
              </a:path>
              <a:path fill="darkenLess" w="66330" h="21600">
                <a:moveTo>
                  <a:pt x="66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930" y="20200"/>
                </a:lnTo>
                <a:close/>
              </a:path>
              <a:path fill="lighten" w="66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1478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4800600"/>
            <a:ext cx="3200400" cy="1066680"/>
          </a:xfrm>
          <a:custGeom>
            <a:avLst/>
            <a:gdLst>
              <a:gd name="textAreaLeft" fmla="*/ 69120 w 3200400"/>
              <a:gd name="textAreaRight" fmla="*/ 3131280 w 32004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64793" h="21600">
                <a:moveTo>
                  <a:pt x="0" y="0"/>
                </a:moveTo>
                <a:lnTo>
                  <a:pt x="64793" y="0"/>
                </a:lnTo>
                <a:lnTo>
                  <a:pt x="64793" y="21600"/>
                </a:lnTo>
                <a:lnTo>
                  <a:pt x="0" y="21600"/>
                </a:lnTo>
                <a:close/>
              </a:path>
              <a:path fill="lightenLess" w="64793" h="21600">
                <a:moveTo>
                  <a:pt x="0" y="0"/>
                </a:moveTo>
                <a:lnTo>
                  <a:pt x="64793" y="0"/>
                </a:lnTo>
                <a:lnTo>
                  <a:pt x="63393" y="1400"/>
                </a:lnTo>
                <a:lnTo>
                  <a:pt x="1400" y="1400"/>
                </a:lnTo>
                <a:close/>
              </a:path>
              <a:path fill="darken" w="64793" h="21600">
                <a:moveTo>
                  <a:pt x="64793" y="0"/>
                </a:moveTo>
                <a:lnTo>
                  <a:pt x="64793" y="21600"/>
                </a:lnTo>
                <a:lnTo>
                  <a:pt x="63393" y="20200"/>
                </a:lnTo>
                <a:lnTo>
                  <a:pt x="63393" y="1400"/>
                </a:lnTo>
                <a:close/>
              </a:path>
              <a:path fill="darkenLess" w="64793" h="21600">
                <a:moveTo>
                  <a:pt x="64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3" y="20200"/>
                </a:lnTo>
                <a:close/>
              </a:path>
              <a:path fill="lighten" w="64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)146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533520" y="1676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Arial"/>
              </a:rPr>
              <a:t>Подумайт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1676520" y="4572000"/>
            <a:ext cx="6019560" cy="990720"/>
          </a:xfrm>
          <a:custGeom>
            <a:avLst/>
            <a:gdLst>
              <a:gd name="textAreaLeft" fmla="*/ 64080 w 6019560"/>
              <a:gd name="textAreaRight" fmla="*/ 5955480 w 6019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1201" h="21600">
                <a:moveTo>
                  <a:pt x="0" y="0"/>
                </a:moveTo>
                <a:lnTo>
                  <a:pt x="131201" y="0"/>
                </a:lnTo>
                <a:lnTo>
                  <a:pt x="131201" y="21600"/>
                </a:lnTo>
                <a:lnTo>
                  <a:pt x="0" y="21600"/>
                </a:lnTo>
                <a:close/>
              </a:path>
              <a:path fill="lightenLess" w="131201" h="21600">
                <a:moveTo>
                  <a:pt x="0" y="0"/>
                </a:moveTo>
                <a:lnTo>
                  <a:pt x="131201" y="0"/>
                </a:lnTo>
                <a:lnTo>
                  <a:pt x="129801" y="1400"/>
                </a:lnTo>
                <a:lnTo>
                  <a:pt x="1400" y="1400"/>
                </a:lnTo>
                <a:close/>
              </a:path>
              <a:path fill="darken" w="131201" h="21600">
                <a:moveTo>
                  <a:pt x="131201" y="0"/>
                </a:moveTo>
                <a:lnTo>
                  <a:pt x="131201" y="21600"/>
                </a:lnTo>
                <a:lnTo>
                  <a:pt x="129801" y="20200"/>
                </a:lnTo>
                <a:lnTo>
                  <a:pt x="129801" y="1400"/>
                </a:lnTo>
                <a:close/>
              </a:path>
              <a:path fill="darkenLess" w="131201" h="21600">
                <a:moveTo>
                  <a:pt x="1312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801" y="20200"/>
                </a:lnTo>
                <a:close/>
              </a:path>
              <a:path fill="lighten" w="1312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нуться к зад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3. Сборник законов, изданный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ваном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называл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1" action="ppaction://hlinksldjump"/>
          </p:cNvPr>
          <p:cNvSpPr/>
          <p:nvPr/>
        </p:nvSpPr>
        <p:spPr>
          <a:xfrm>
            <a:off x="914400" y="4114800"/>
            <a:ext cx="3657600" cy="1143000"/>
          </a:xfrm>
          <a:custGeom>
            <a:avLst/>
            <a:gdLst>
              <a:gd name="textAreaLeft" fmla="*/ 73800 w 3657600"/>
              <a:gd name="textAreaRight" fmla="*/ 3583800 w 3657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9105" h="21600">
                <a:moveTo>
                  <a:pt x="0" y="0"/>
                </a:moveTo>
                <a:lnTo>
                  <a:pt x="69105" y="0"/>
                </a:lnTo>
                <a:lnTo>
                  <a:pt x="69105" y="21600"/>
                </a:lnTo>
                <a:lnTo>
                  <a:pt x="0" y="21600"/>
                </a:lnTo>
                <a:close/>
              </a:path>
              <a:path fill="lightenLess" w="69105" h="21600">
                <a:moveTo>
                  <a:pt x="0" y="0"/>
                </a:moveTo>
                <a:lnTo>
                  <a:pt x="69105" y="0"/>
                </a:lnTo>
                <a:lnTo>
                  <a:pt x="67705" y="1400"/>
                </a:lnTo>
                <a:lnTo>
                  <a:pt x="1400" y="1400"/>
                </a:lnTo>
                <a:close/>
              </a:path>
              <a:path fill="darken" w="69105" h="21600">
                <a:moveTo>
                  <a:pt x="69105" y="0"/>
                </a:moveTo>
                <a:lnTo>
                  <a:pt x="69105" y="21600"/>
                </a:lnTo>
                <a:lnTo>
                  <a:pt x="67705" y="20200"/>
                </a:lnTo>
                <a:lnTo>
                  <a:pt x="67705" y="1400"/>
                </a:lnTo>
                <a:close/>
              </a:path>
              <a:path fill="darkenLess" w="69105" h="21600">
                <a:moveTo>
                  <a:pt x="69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5" y="20200"/>
                </a:lnTo>
                <a:close/>
              </a:path>
              <a:path fill="lighten" w="69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А)Русская прав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2" action="ppaction://hlinksldjump"/>
          </p:cNvPr>
          <p:cNvSpPr/>
          <p:nvPr/>
        </p:nvSpPr>
        <p:spPr>
          <a:xfrm>
            <a:off x="5029200" y="4114800"/>
            <a:ext cx="3657600" cy="1143000"/>
          </a:xfrm>
          <a:custGeom>
            <a:avLst/>
            <a:gdLst>
              <a:gd name="textAreaLeft" fmla="*/ 73800 w 3657600"/>
              <a:gd name="textAreaRight" fmla="*/ 3583800 w 3657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9105" h="21600">
                <a:moveTo>
                  <a:pt x="0" y="0"/>
                </a:moveTo>
                <a:lnTo>
                  <a:pt x="69105" y="0"/>
                </a:lnTo>
                <a:lnTo>
                  <a:pt x="69105" y="21600"/>
                </a:lnTo>
                <a:lnTo>
                  <a:pt x="0" y="21600"/>
                </a:lnTo>
                <a:close/>
              </a:path>
              <a:path fill="lightenLess" w="69105" h="21600">
                <a:moveTo>
                  <a:pt x="0" y="0"/>
                </a:moveTo>
                <a:lnTo>
                  <a:pt x="69105" y="0"/>
                </a:lnTo>
                <a:lnTo>
                  <a:pt x="67705" y="1400"/>
                </a:lnTo>
                <a:lnTo>
                  <a:pt x="1400" y="1400"/>
                </a:lnTo>
                <a:close/>
              </a:path>
              <a:path fill="darken" w="69105" h="21600">
                <a:moveTo>
                  <a:pt x="69105" y="0"/>
                </a:moveTo>
                <a:lnTo>
                  <a:pt x="69105" y="21600"/>
                </a:lnTo>
                <a:lnTo>
                  <a:pt x="67705" y="20200"/>
                </a:lnTo>
                <a:lnTo>
                  <a:pt x="67705" y="1400"/>
                </a:lnTo>
                <a:close/>
              </a:path>
              <a:path fill="darkenLess" w="69105" h="21600">
                <a:moveTo>
                  <a:pt x="69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5" y="20200"/>
                </a:lnTo>
                <a:close/>
              </a:path>
              <a:path fill="lighten" w="69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Б)Судебни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Arial"/>
              </a:rPr>
              <a:t>МОЛОДЕЦ !!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2438280" y="4495680"/>
            <a:ext cx="4419720" cy="1067040"/>
          </a:xfrm>
          <a:custGeom>
            <a:avLst/>
            <a:gdLst>
              <a:gd name="textAreaLeft" fmla="*/ 69120 w 4419720"/>
              <a:gd name="textAreaRight" fmla="*/ 4350600 w 44197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89445" h="21600">
                <a:moveTo>
                  <a:pt x="0" y="0"/>
                </a:moveTo>
                <a:lnTo>
                  <a:pt x="89445" y="0"/>
                </a:lnTo>
                <a:lnTo>
                  <a:pt x="89445" y="21600"/>
                </a:lnTo>
                <a:lnTo>
                  <a:pt x="0" y="21600"/>
                </a:lnTo>
                <a:close/>
              </a:path>
              <a:path fill="lightenLess" w="89445" h="21600">
                <a:moveTo>
                  <a:pt x="0" y="0"/>
                </a:moveTo>
                <a:lnTo>
                  <a:pt x="89445" y="0"/>
                </a:lnTo>
                <a:lnTo>
                  <a:pt x="88045" y="1400"/>
                </a:lnTo>
                <a:lnTo>
                  <a:pt x="1400" y="1400"/>
                </a:lnTo>
                <a:close/>
              </a:path>
              <a:path fill="darken" w="89445" h="21600">
                <a:moveTo>
                  <a:pt x="89445" y="0"/>
                </a:moveTo>
                <a:lnTo>
                  <a:pt x="89445" y="21600"/>
                </a:lnTo>
                <a:lnTo>
                  <a:pt x="88045" y="20200"/>
                </a:lnTo>
                <a:lnTo>
                  <a:pt x="88045" y="1400"/>
                </a:lnTo>
                <a:close/>
              </a:path>
              <a:path fill="darkenLess" w="89445" h="21600">
                <a:moveTo>
                  <a:pt x="89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45" y="20200"/>
                </a:lnTo>
                <a:close/>
              </a:path>
              <a:path fill="lighten" w="89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йти к следующему вопр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048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5-04T14:24:25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4000000000001024140</vt:lpwstr>
  </property>
  <property fmtid="{D5CDD505-2E9C-101B-9397-08002B2CF9AE}" pid="3" name="Version">
    <vt:r8>1</vt:r8>
  </property>
</Properties>
</file>