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105650" cy="10237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DE3C-226B-408F-9484-766DE4DDD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2D9-EBE8-48AD-B8E1-220097A1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957-B2A5-4688-8CC7-3903A48B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DD88-4B28-4C0D-915F-F0AD28F9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ACEE-CDFD-4A98-8A8F-061F4F42F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21A3-FF56-4E01-8EF0-5931986A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117EF-B855-4AD8-B6C2-A24BD18B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38D4A-A34E-4F5E-A570-A8E2A6F2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66904-9501-43A9-A556-957967960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D3D3-D579-4518-90ED-AC7FF466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DCFC0-B1F6-4EFE-8A41-2579599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24E-91DA-472B-8921-0D9D7FF2C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98E6-DF53-4207-9208-CFAF2E50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C0D2-0E95-44C3-B885-B7DB933F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A4C3-DB45-4365-B367-73A142BC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17A9-7AD4-445D-AD88-47D946B8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79F37-596C-42AE-98F1-2F0F6267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0900-5689-4996-B760-28761FF3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71BC-5F8C-4786-865E-7F5AE18A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F84-52A5-45E8-B825-4E28DA55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EB1D-51E0-4FCF-973F-031747BA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5F79-0223-4251-B62F-4A4A66D7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F26D-A9B4-4F8D-8F76-9EF64D22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94C-04A1-4F68-9ADD-E6489264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C3AAA-8F97-4E76-BF9A-814CC03DDD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C760-B280-4796-B3E8-463B7A72CD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857240" y="285840"/>
          <a:ext cx="6691320" cy="3749760"/>
        </p:xfrm>
        <a:graphic>
          <a:graphicData uri="http://schemas.openxmlformats.org/drawingml/2006/table">
            <a:tbl>
              <a:tblPr/>
              <a:tblGrid>
                <a:gridCol w="1671840"/>
                <a:gridCol w="1673280"/>
                <a:gridCol w="1673280"/>
                <a:gridCol w="1672920"/>
              </a:tblGrid>
              <a:tr h="124920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В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Д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ЗИ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С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Ф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ЧШ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ЪЫЬ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ЮЯ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080" marR="6408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Rectangle 2"/>
          <p:cNvSpPr/>
          <p:nvPr/>
        </p:nvSpPr>
        <p:spPr>
          <a:xfrm>
            <a:off x="4929120" y="4081680"/>
            <a:ext cx="30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 5 3 2 1 5 3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6 3 6 7 5 4 5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6 3 1 9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 5 4 1 4 9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104"/>
          <p:cNvPicPr/>
          <p:nvPr/>
        </p:nvPicPr>
        <p:blipFill>
          <a:blip r:embed="rId2"/>
          <a:stretch/>
        </p:blipFill>
        <p:spPr>
          <a:xfrm>
            <a:off x="1042920" y="836640"/>
            <a:ext cx="73598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2050920" y="1700280"/>
            <a:ext cx="48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инструмента «Свободная рука» нарисуйте ломаную линию, состоящую из прямых и кривых частей. Для этого конечную точку каждого отрезка следует отмечать двойным щелчком мыши, а в последней точке щелкнуть мышью нужно один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2"/>
          <p:cNvSpPr/>
          <p:nvPr/>
        </p:nvSpPr>
        <p:spPr>
          <a:xfrm>
            <a:off x="2050920" y="333360"/>
            <a:ext cx="583416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и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приступим к построению различных линий: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ямых и крив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мкнут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омкнут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3" descr="http://www.urok-informatiki.ru/image/corel-draw/105.jpg"/>
          <p:cNvPicPr/>
          <p:nvPr/>
        </p:nvPicPr>
        <p:blipFill>
          <a:blip r:embed="rId2"/>
          <a:stretch/>
        </p:blipFill>
        <p:spPr>
          <a:xfrm>
            <a:off x="4794120" y="3776760"/>
            <a:ext cx="30592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1908000" y="196920"/>
            <a:ext cx="6480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перь нарисуем кривую Бе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выберите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инструмент Безь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и установите указатель мыши на рабочее поле. Нажмите левую кнопку мыши и, удерживая её, передвиньте мышь. На экране появится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унктирная линия, длина и направление которой меняются с передвижением мыши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это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анипулятор кривиз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 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который определяет степень кривизны кривой в точк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Отпустите кнопку мыши и передвиньте мышь на некоторое расстояние, после чего снова нажмите левую кнопку мыши и, удерживая её, подвигайте мышь. И вы увидите, как меняется внешний вид кривой при изменении направления и размера второго манипулятора кривизны. Отпустите кнопку мыши, и рисование участка кривой будет законче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ы не настроили манипулятор кривизны, то получите прямую ли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2484360" y="476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ние №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рисуйте пилу и синусоиду с помощью инструмента Без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" descr="106"/>
          <p:cNvPicPr/>
          <p:nvPr/>
        </p:nvPicPr>
        <p:blipFill>
          <a:blip r:embed="rId2"/>
          <a:stretch/>
        </p:blipFill>
        <p:spPr>
          <a:xfrm>
            <a:off x="1908000" y="1876320"/>
            <a:ext cx="676116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3456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492280"/>
            <a:ext cx="739152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0000"/>
                </a:solidFill>
                <a:latin typeface="Calibri"/>
              </a:rPr>
              <a:t>Техника безопасности в компьютерном класс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ТЕ ВНИМАТЕЛЬНЫ, </a:t>
            </a:r>
            <a:r>
              <a:rPr b="0" lang="uk-UA" sz="4400" spc="-1" strike="noStrike">
                <a:solidFill>
                  <a:srgbClr val="ff0000"/>
                </a:solidFill>
                <a:latin typeface="Calibri"/>
              </a:rPr>
              <a:t>ДИСЦИПЛИНИРОВАНЫ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, ОСТОРОЖ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2843280" y="2781360"/>
            <a:ext cx="3968640" cy="4076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HE ТРОГАТЬ ПРОВОДА И РАЗЪЁМЫ СОЕДИНИТЕЛЬНЫХ КАБ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514600" y="2195640"/>
            <a:ext cx="4500720" cy="466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HE ДОТРАГИВАТЬСЯ ПАЛЬЦАМИ К ЭКРАНУ МОНИ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21240" cy="4643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1066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аботать  на клавиатуре и с мишко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чистыми и сухими рука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2514600" y="2308320"/>
            <a:ext cx="4429080" cy="4549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чаще всего устает при работе за компьютер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211640" y="1773360"/>
            <a:ext cx="31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Глаз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пин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Ше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Рук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Ног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C:\Documents and Settings\Admin\Рабочий стол\КАРТИНКИ К МАТЕРИАЛАМ ПАПКИ\Pl_wektor.jpg"/>
          <p:cNvPicPr/>
          <p:nvPr/>
        </p:nvPicPr>
        <p:blipFill>
          <a:blip r:embed="rId2"/>
          <a:stretch/>
        </p:blipFill>
        <p:spPr>
          <a:xfrm>
            <a:off x="368280" y="173160"/>
            <a:ext cx="8572680" cy="6286320"/>
          </a:xfrm>
          <a:prstGeom prst="rect">
            <a:avLst/>
          </a:prstGeom>
          <a:ln w="0">
            <a:noFill/>
          </a:ln>
        </p:spPr>
      </p:pic>
      <p:sp>
        <p:nvSpPr>
          <p:cNvPr id="85" name="WordArt 17"/>
          <p:cNvSpPr txBox="1"/>
          <p:nvPr/>
        </p:nvSpPr>
        <p:spPr>
          <a:xfrm>
            <a:off x="4892760" y="1197000"/>
            <a:ext cx="3429000" cy="9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оздание рисунков</a:t>
            </a:r>
            <a:endParaRPr b="1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33cc"/>
                  </a:solidFill>
                  <a:miter/>
                </a:ln>
                <a:solidFill>
                  <a:srgbClr val="00b0f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з кривых и ломаных</a:t>
            </a:r>
            <a:endParaRPr b="1" lang="en-US" sz="1800" spc="1" strike="noStrike">
              <a:ln w="19080">
                <a:solidFill>
                  <a:srgbClr val="3333cc"/>
                </a:solidFill>
                <a:miter/>
              </a:ln>
              <a:solidFill>
                <a:srgbClr val="00b0f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1143000" y="142920"/>
            <a:ext cx="702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WordArt 20"/>
          <p:cNvSpPr txBox="1"/>
          <p:nvPr/>
        </p:nvSpPr>
        <p:spPr>
          <a:xfrm>
            <a:off x="5259240" y="3013200"/>
            <a:ext cx="3062520" cy="60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3333cc"/>
                  </a:solidFill>
                  <a:miter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ктическая работа №9</a:t>
            </a:r>
            <a:endParaRPr b="0" lang="en-US" sz="1800" spc="1" strike="noStrike">
              <a:ln w="22320">
                <a:solidFill>
                  <a:srgbClr val="3333cc"/>
                </a:solidFill>
                <a:miter/>
              </a:ln>
              <a:solidFill>
                <a:srgbClr val="3333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41360" y="333360"/>
            <a:ext cx="82389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"/>
          <p:cNvPicPr/>
          <p:nvPr/>
        </p:nvPicPr>
        <p:blipFill>
          <a:blip r:embed="rId2"/>
          <a:stretch/>
        </p:blipFill>
        <p:spPr>
          <a:xfrm>
            <a:off x="0" y="285840"/>
            <a:ext cx="9144000" cy="6215040"/>
          </a:xfrm>
          <a:prstGeom prst="rect">
            <a:avLst/>
          </a:prstGeom>
          <a:ln w="0">
            <a:noFill/>
          </a:ln>
        </p:spPr>
      </p:pic>
      <p:cxnSp>
        <p:nvCxnSpPr>
          <p:cNvPr id="89" name="Прямая со стрелкой 9"/>
          <p:cNvCxnSpPr/>
          <p:nvPr/>
        </p:nvCxnSpPr>
        <p:spPr>
          <a:xfrm flipH="1" flipV="1">
            <a:off x="213840" y="2786040"/>
            <a:ext cx="150120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0"/>
          <p:cNvCxnSpPr/>
          <p:nvPr/>
        </p:nvCxnSpPr>
        <p:spPr>
          <a:xfrm flipH="1" flipV="1">
            <a:off x="1142640" y="642240"/>
            <a:ext cx="1643760" cy="1429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Прямая со стрелкой 12"/>
          <p:cNvCxnSpPr/>
          <p:nvPr/>
        </p:nvCxnSpPr>
        <p:spPr>
          <a:xfrm flipV="1">
            <a:off x="2784960" y="642600"/>
            <a:ext cx="429480" cy="13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2" name="Прямая со стрелкой 14"/>
          <p:cNvCxnSpPr/>
          <p:nvPr/>
        </p:nvCxnSpPr>
        <p:spPr>
          <a:xfrm flipH="1" flipV="1">
            <a:off x="5285880" y="2928960"/>
            <a:ext cx="1501200" cy="6433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3" name="Прямая со стрелкой 15"/>
          <p:cNvCxnSpPr/>
          <p:nvPr/>
        </p:nvCxnSpPr>
        <p:spPr>
          <a:xfrm flipH="1" flipV="1">
            <a:off x="6643440" y="428400"/>
            <a:ext cx="72000" cy="16437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4" name="Прямая со стрелкой 17"/>
          <p:cNvCxnSpPr/>
          <p:nvPr/>
        </p:nvCxnSpPr>
        <p:spPr>
          <a:xfrm flipV="1">
            <a:off x="8215200" y="428400"/>
            <a:ext cx="393120" cy="171504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Прямая со стрелкой 21"/>
          <p:cNvCxnSpPr/>
          <p:nvPr/>
        </p:nvCxnSpPr>
        <p:spPr>
          <a:xfrm flipH="1">
            <a:off x="1428120" y="5000760"/>
            <a:ext cx="572040" cy="1357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1928880" y="571680"/>
            <a:ext cx="285732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7640">
                  <a:solidFill>
                    <a:srgbClr val="fcfcfd"/>
                  </a:solidFill>
                  <a:miter/>
                </a:ln>
                <a:solidFill>
                  <a:srgbClr val="1515ff"/>
                </a:soli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+mn-lt"/>
              </a:rPr>
              <a:t> </a:t>
            </a:r>
            <a:endParaRPr b="1" lang="en-US" sz="1800" spc="1" strike="noStrike">
              <a:ln w="17640">
                <a:solidFill>
                  <a:srgbClr val="fcfcfd"/>
                </a:solidFill>
                <a:miter/>
              </a:ln>
              <a:solidFill>
                <a:srgbClr val="1515ff"/>
              </a:soli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1928880" y="260280"/>
            <a:ext cx="6243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CorelDraw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созданию векторной графики не исчерпываются построением примитивов. Для того чтобы дизайнер или художник мог полностью реализовать свои замыслы и творческую фантазию, нужен набор инструментов для создания различных линий и форм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маные линии произвольной формы, кривые Безье, линии с применением различных эффектов, Разварная лини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вот арсенал CorelDraw, который нужно научиться использ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1797840" y="189000"/>
            <a:ext cx="71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ии и инструменты для их созд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1908000" y="1052640"/>
            <a:ext cx="23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снову модели линий положены два понятия: узел и сегме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4500720" y="1557360"/>
            <a:ext cx="3751200" cy="3095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01" name="TextBox 5"/>
          <p:cNvSpPr/>
          <p:nvPr/>
        </p:nvSpPr>
        <p:spPr>
          <a:xfrm>
            <a:off x="4500720" y="4843440"/>
            <a:ext cx="1000080" cy="52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Узловая точ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6450120" y="4834080"/>
            <a:ext cx="1571400" cy="52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Прямолинейный се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8"/>
          <p:cNvSpPr/>
          <p:nvPr/>
        </p:nvSpPr>
        <p:spPr>
          <a:xfrm>
            <a:off x="5540400" y="790560"/>
            <a:ext cx="1571760" cy="520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Calibri"/>
              </a:rPr>
              <a:t>Криволинейный сегме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Прямая со стрелкой 9"/>
          <p:cNvCxnSpPr>
            <a:stCxn id="101" idx="0"/>
          </p:cNvCxnSpPr>
          <p:nvPr/>
        </p:nvCxnSpPr>
        <p:spPr>
          <a:xfrm flipH="1" flipV="1">
            <a:off x="4857120" y="3999960"/>
            <a:ext cx="143640" cy="8434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Прямая со стрелкой 11"/>
          <p:cNvCxnSpPr>
            <a:stCxn id="102" idx="1"/>
          </p:cNvCxnSpPr>
          <p:nvPr/>
        </p:nvCxnSpPr>
        <p:spPr>
          <a:xfrm flipH="1" flipV="1">
            <a:off x="6274800" y="4261680"/>
            <a:ext cx="175320" cy="8341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Прямая со стрелкой 13"/>
          <p:cNvCxnSpPr/>
          <p:nvPr/>
        </p:nvCxnSpPr>
        <p:spPr>
          <a:xfrm flipH="1">
            <a:off x="6197400" y="1349280"/>
            <a:ext cx="157680" cy="16437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286000" y="189000"/>
            <a:ext cx="559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для рисования линий произвольн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827360" y="1341360"/>
            <a:ext cx="6481440" cy="49420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500120" y="3500280"/>
            <a:ext cx="3537000" cy="223236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5292720" y="3506760"/>
            <a:ext cx="3327480" cy="2225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11" name="Прямоугольник 3"/>
          <p:cNvSpPr/>
          <p:nvPr/>
        </p:nvSpPr>
        <p:spPr>
          <a:xfrm>
            <a:off x="1500120" y="981000"/>
            <a:ext cx="7067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асть, ограниченную замкнутой линией, можно закрасить или заполнить узорами, а только что созданную линию - продлить, протянув указателю от ее конечного уз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ите внимание на указатель: если рядом с ним появляется волнистая линия, будет создана новая линия, а если - направлена ​​вниз стрелка, то этот узел будет общим для уже нарисованной и создаваемой ли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4"/>
          <p:cNvSpPr/>
          <p:nvPr/>
        </p:nvSpPr>
        <p:spPr>
          <a:xfrm>
            <a:off x="1908000" y="115920"/>
            <a:ext cx="61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для рисования линий произвольн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2050920" y="189000"/>
            <a:ext cx="631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струменты для рисования линий произвольной ф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2"/>
          <p:cNvSpPr/>
          <p:nvPr/>
        </p:nvSpPr>
        <p:spPr>
          <a:xfrm>
            <a:off x="2050920" y="1187280"/>
            <a:ext cx="5977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струмент Ломаная линия (Ломаная линия) позволяет построить ломаную, т.е. последовательность соединенных прямолинейных отрезков. Выбрав инструмент, последовательно щелкайте в местах изменение направления ломаной (узлах), а для завершения построения щелкните два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3036960" y="3548160"/>
            <a:ext cx="3406680" cy="19526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430000" y="189000"/>
            <a:ext cx="48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формы кри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2"/>
          <p:cNvSpPr/>
          <p:nvPr/>
        </p:nvSpPr>
        <p:spPr>
          <a:xfrm>
            <a:off x="2319480" y="874800"/>
            <a:ext cx="574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ойства узлов, определяющих форму сегментов кривых, можно изменить, воспользовавшись инструментом (Форма). В случае его выбора на панели свойств появляются элементы управления, предназначенные для настройки свойств выделенных кривых. В зависимости от того, какой участок кривой выделен, будут доступны те или другие элементы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2319480" y="3429000"/>
            <a:ext cx="2385720" cy="2424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19" name="Picture 3" descr=""/>
          <p:cNvPicPr/>
          <p:nvPr/>
        </p:nvPicPr>
        <p:blipFill>
          <a:blip r:embed="rId3"/>
          <a:stretch/>
        </p:blipFill>
        <p:spPr>
          <a:xfrm>
            <a:off x="5189400" y="3429000"/>
            <a:ext cx="2519640" cy="239400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21:35:45Z</dcterms:created>
  <dc:creator>Надежда</dc:creator>
  <dc:description/>
  <dc:language>en-US</dc:language>
  <cp:lastModifiedBy>Admin</cp:lastModifiedBy>
  <dcterms:modified xsi:type="dcterms:W3CDTF">2014-02-15T08:01:51Z</dcterms:modified>
  <cp:revision>11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8000000000001024140</vt:lpwstr>
  </property>
</Properties>
</file>