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8D3-AA09-464F-8AAE-AEC958BA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F82-4793-4699-B14C-E5BFBC02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EFC-0B12-4D69-882C-1A59A10B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343-73E6-426D-A153-D8612941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95CA-3A0A-4481-93CD-B75EE525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D436-A8AC-4B5D-BB95-6BFDBAC0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97E-487B-4D4C-BE72-BBC25107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D037-F64C-42B4-BFC0-CF0CFDF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5BC8-BFE2-4159-8003-E4E42A4C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7279-B5C8-45B3-B8E5-4AAE72E0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2F9E-A5D4-4E3E-8598-3DBF2459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C16-2625-4E2B-8460-3446C686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CE70-F289-46C5-A6E1-4D4D79A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B2AC-3129-4BB1-95C7-59A79FBA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C272-FBFF-47C0-9C39-9E1B943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E95E-8245-4AD7-8E60-AEA5FA56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1F6B-156B-4F2F-B07E-5D56A377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E94-8039-47E6-B159-383B8E60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D5E-4784-4ED0-986A-E6FDD81B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8A0-5200-4D5C-B7F5-CE71EE21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AC1-3CF4-4D92-82ED-5D14693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E0C-1C0E-4858-97ED-444A2BA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920-62D2-4A8B-A952-074FBD02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89A-B465-4A13-9161-533C3C3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661-045A-4630-8831-CBB66F07F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339-FFB8-4284-BC8B-B39E349EA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857240" y="285840"/>
          <a:ext cx="6691320" cy="3749760"/>
        </p:xfrm>
        <a:graphic>
          <a:graphicData uri="http://schemas.openxmlformats.org/drawingml/2006/table">
            <a:tbl>
              <a:tblPr/>
              <a:tblGrid>
                <a:gridCol w="1671840"/>
                <a:gridCol w="1673280"/>
                <a:gridCol w="1673280"/>
                <a:gridCol w="1672920"/>
              </a:tblGrid>
              <a:tr h="124920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З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Ф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Ч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ЪЫ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Ю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2"/>
          <p:cNvSpPr/>
          <p:nvPr/>
        </p:nvSpPr>
        <p:spPr>
          <a:xfrm>
            <a:off x="4929120" y="4081680"/>
            <a:ext cx="30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5 3 2 1 5 3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3 6 7 5 4 5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6 3 1 9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5 4 1 4 9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104"/>
          <p:cNvPicPr/>
          <p:nvPr/>
        </p:nvPicPr>
        <p:blipFill>
          <a:blip r:embed="rId2"/>
          <a:stretch/>
        </p:blipFill>
        <p:spPr>
          <a:xfrm>
            <a:off x="1042920" y="836640"/>
            <a:ext cx="73598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050920" y="1700280"/>
            <a:ext cx="48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инструмента «Свободная рука» нарисуйте ломаную линию, состоящую из прямых и кривых частей. Для этого конечную точку каждого отрезка следует отмечать двойным щелчком мыши, а в последней точке щелкнуть мышью нужно один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050920" y="333360"/>
            <a:ext cx="5834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и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приступим к построению различных линий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х и кри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кнут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омкнут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3" descr="http://www.urok-informatiki.ru/image/corel-draw/105.jpg"/>
          <p:cNvPicPr/>
          <p:nvPr/>
        </p:nvPicPr>
        <p:blipFill>
          <a:blip r:embed="rId2"/>
          <a:stretch/>
        </p:blipFill>
        <p:spPr>
          <a:xfrm>
            <a:off x="4794120" y="3776760"/>
            <a:ext cx="30592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908000" y="196920"/>
            <a:ext cx="64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нарисуем кривую Бе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выберите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мент Без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установите указатель мыши на рабочее поле. Нажмите левую кнопку мыши и, удерживая её, передвиньте мышь. На экране появится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нктирная линия, длина и направление которой меняются с передвижением мыш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нипулятор кривиз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торый определяет степень кривизны кривой в точ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пустите кнопку мыши и передвиньте мышь на некоторое расстояние, после чего снова нажмите левую кнопку мыши и, удерживая её, подвигайте мышь. И вы увидите, как меняется внешний вид кривой при изменении направления и размера второго манипулятора кривизны. Отпустите кнопку мыши, и рисование участка кривой будет законч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настроили манипулятор кривизны, то получите прямую ли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248436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исуйте пилу и синусоиду с помощью инструмента Бе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106"/>
          <p:cNvPicPr/>
          <p:nvPr/>
        </p:nvPicPr>
        <p:blipFill>
          <a:blip r:embed="rId2"/>
          <a:stretch/>
        </p:blipFill>
        <p:spPr>
          <a:xfrm>
            <a:off x="1908000" y="1876320"/>
            <a:ext cx="67611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45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739152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Техника безопасности в компьютерном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ТЕ ВНИМАТЕЛЬНЫ, </a:t>
            </a: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ДИСЦИПЛИНИРОВАНЫ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, ОСТОРОЖ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9686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HE ТРОГАТЬ ПРОВОДА И РАЗЪЁМЫ СОЕДИНИТЕЛЬНЫХ КАБ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514600" y="2195640"/>
            <a:ext cx="4500720" cy="466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HE ДОТРАГИВАТЬСЯ ПАЛЬЦАМИ К ЭКРАНУ МОНИ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2124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ботать  на клавиатуре и с мишко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истыми и сухими ру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514600" y="2308320"/>
            <a:ext cx="44290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чаще всего устает при работе за компьютер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11640" y="177336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лаз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Ше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у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ог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Admin\Рабочий стол\КАРТИНКИ К МАТЕРИАЛАМ ПАПКИ\Pl_wektor.jpg"/>
          <p:cNvPicPr/>
          <p:nvPr/>
        </p:nvPicPr>
        <p:blipFill>
          <a:blip r:embed="rId2"/>
          <a:stretch/>
        </p:blipFill>
        <p:spPr>
          <a:xfrm>
            <a:off x="368280" y="173160"/>
            <a:ext cx="8572680" cy="6286320"/>
          </a:xfrm>
          <a:prstGeom prst="rect">
            <a:avLst/>
          </a:prstGeom>
          <a:ln w="0">
            <a:noFill/>
          </a:ln>
        </p:spPr>
      </p:pic>
      <p:sp>
        <p:nvSpPr>
          <p:cNvPr id="85" name="WordArt 17"/>
          <p:cNvSpPr txBox="1"/>
          <p:nvPr/>
        </p:nvSpPr>
        <p:spPr>
          <a:xfrm>
            <a:off x="4892760" y="1197000"/>
            <a:ext cx="342900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рисунков</a:t>
            </a:r>
            <a:endParaRPr b="1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кривых и ломаных</a:t>
            </a:r>
            <a:endParaRPr b="1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143000" y="142920"/>
            <a:ext cx="702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0"/>
          <p:cNvSpPr txBox="1"/>
          <p:nvPr/>
        </p:nvSpPr>
        <p:spPr>
          <a:xfrm>
            <a:off x="5259240" y="3013200"/>
            <a:ext cx="306252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ктическая работа №9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41360" y="333360"/>
            <a:ext cx="8238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215040"/>
          </a:xfrm>
          <a:prstGeom prst="rect">
            <a:avLst/>
          </a:prstGeom>
          <a:ln w="0">
            <a:noFill/>
          </a:ln>
        </p:spPr>
      </p:pic>
      <p:cxnSp>
        <p:nvCxnSpPr>
          <p:cNvPr id="89" name="Прямая со стрелкой 9"/>
          <p:cNvCxnSpPr/>
          <p:nvPr/>
        </p:nvCxnSpPr>
        <p:spPr>
          <a:xfrm flipH="1" flipV="1">
            <a:off x="213840" y="2786040"/>
            <a:ext cx="150120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0"/>
          <p:cNvCxnSpPr/>
          <p:nvPr/>
        </p:nvCxnSpPr>
        <p:spPr>
          <a:xfrm flipH="1" flipV="1">
            <a:off x="1142640" y="642240"/>
            <a:ext cx="1643760" cy="1429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2"/>
          <p:cNvCxnSpPr/>
          <p:nvPr/>
        </p:nvCxnSpPr>
        <p:spPr>
          <a:xfrm flipV="1">
            <a:off x="2784960" y="642600"/>
            <a:ext cx="429480" cy="13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 flipH="1" flipV="1">
            <a:off x="5285880" y="2928960"/>
            <a:ext cx="150120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5"/>
          <p:cNvCxnSpPr/>
          <p:nvPr/>
        </p:nvCxnSpPr>
        <p:spPr>
          <a:xfrm flipH="1" flipV="1">
            <a:off x="6643440" y="428400"/>
            <a:ext cx="72000" cy="1643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17"/>
          <p:cNvCxnSpPr/>
          <p:nvPr/>
        </p:nvCxnSpPr>
        <p:spPr>
          <a:xfrm flipV="1">
            <a:off x="8215200" y="428400"/>
            <a:ext cx="393120" cy="1715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21"/>
          <p:cNvCxnSpPr/>
          <p:nvPr/>
        </p:nvCxnSpPr>
        <p:spPr>
          <a:xfrm flipH="1">
            <a:off x="1428120" y="5000760"/>
            <a:ext cx="572040" cy="13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928880" y="571680"/>
            <a:ext cx="285732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cfd"/>
                  </a:solidFill>
                  <a:miter/>
                </a:ln>
                <a:solidFill>
                  <a:srgbClr val="1515ff"/>
                </a:soli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+mn-lt"/>
              </a:rPr>
              <a:t> </a:t>
            </a:r>
            <a:endParaRPr b="1" lang="en-US" sz="1800" spc="1" strike="noStrike">
              <a:ln w="17640">
                <a:solidFill>
                  <a:srgbClr val="fcfcfd"/>
                </a:solidFill>
                <a:miter/>
              </a:ln>
              <a:solidFill>
                <a:srgbClr val="1515ff"/>
              </a:soli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1928880" y="260280"/>
            <a:ext cx="6243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CorelDra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созданию векторной графики не исчерпываются построением примитивов. Для того чтобы дизайнер или художник мог полностью реализовать свои замыслы и творческую фантазию, нужен набор инструментов для создания различных линий и форм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маные линии произвольной формы, кривые Безье, линии с применением различных эффектов, Разварная ли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от арсенал CorelDraw, который нужно научиться использ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797840" y="18900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и и инструменты для их 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908000" y="1052640"/>
            <a:ext cx="23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у модели линий положены два понятия: узел и сег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751200" cy="3095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01" name="TextBox 5"/>
          <p:cNvSpPr/>
          <p:nvPr/>
        </p:nvSpPr>
        <p:spPr>
          <a:xfrm>
            <a:off x="4500720" y="4843440"/>
            <a:ext cx="1000080" cy="52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Узловая т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450120" y="4834080"/>
            <a:ext cx="1571400" cy="52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рямолинейный се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540400" y="790560"/>
            <a:ext cx="1571760" cy="52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риволинейный се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9"/>
          <p:cNvCxnSpPr>
            <a:stCxn id="101" idx="0"/>
          </p:cNvCxnSpPr>
          <p:nvPr/>
        </p:nvCxnSpPr>
        <p:spPr>
          <a:xfrm flipH="1" flipV="1">
            <a:off x="4857120" y="3999960"/>
            <a:ext cx="143640" cy="843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Прямая со стрелкой 11"/>
          <p:cNvCxnSpPr>
            <a:stCxn id="102" idx="1"/>
          </p:cNvCxnSpPr>
          <p:nvPr/>
        </p:nvCxnSpPr>
        <p:spPr>
          <a:xfrm flipH="1" flipV="1">
            <a:off x="6274800" y="4261680"/>
            <a:ext cx="175320" cy="834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Прямая со стрелкой 13"/>
          <p:cNvCxnSpPr/>
          <p:nvPr/>
        </p:nvCxnSpPr>
        <p:spPr>
          <a:xfrm flipH="1">
            <a:off x="6197400" y="1349280"/>
            <a:ext cx="157680" cy="1643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286000" y="189000"/>
            <a:ext cx="559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для рисования линий произв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827360" y="1341360"/>
            <a:ext cx="6481440" cy="4942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500120" y="3500280"/>
            <a:ext cx="3537000" cy="2232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5292720" y="3506760"/>
            <a:ext cx="3327480" cy="2225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11" name="Прямоугольник 3"/>
          <p:cNvSpPr/>
          <p:nvPr/>
        </p:nvSpPr>
        <p:spPr>
          <a:xfrm>
            <a:off x="1500120" y="981000"/>
            <a:ext cx="7067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, ограниченную замкнутой линией, можно закрасить или заполнить узорами, а только что созданную линию - продлить, протянув указателю от ее конечного уз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ите внимание на указатель: если рядом с ним появляется волнистая линия, будет создана новая линия, а если - направлена ​​вниз стрелка, то этот узел будет общим для уже нарисованной и создаваемой ли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1908000" y="11592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для рисования линий произв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050920" y="189000"/>
            <a:ext cx="63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для рисования линий произв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050920" y="1187280"/>
            <a:ext cx="59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Ломаная линия (Ломаная линия) позволяет построить ломаную, т.е. последовательность соединенных прямолинейных отрезков. Выбрав инструмент, последовательно щелкайте в местах изменение направления ломаной (узлах), а для завершения построения щелкните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036960" y="3548160"/>
            <a:ext cx="3406680" cy="1952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430000" y="18900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формы кри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319480" y="874800"/>
            <a:ext cx="57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узлов, определяющих форму сегментов кривых, можно изменить, воспользовавшись инструментом (Форма). В случае его выбора на панели свойств появляются элементы управления, предназначенные для настройки свойств выделенных кривых. В зависимости от того, какой участок кривой выделен, будут доступны те или другие элементы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319480" y="3429000"/>
            <a:ext cx="2385720" cy="2424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5189400" y="3429000"/>
            <a:ext cx="2519640" cy="2394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21:35:45Z</dcterms:created>
  <dc:creator>Надежда</dc:creator>
  <dc:description/>
  <dc:language>en-US</dc:language>
  <cp:lastModifiedBy>Admin</cp:lastModifiedBy>
  <dcterms:modified xsi:type="dcterms:W3CDTF">2014-02-15T08:01:51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8000000000001024140</vt:lpwstr>
  </property>
</Properties>
</file>