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</p:sld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  <p:sldId id="266" r:id="rId75"/>
    <p:sldId id="267" r:id="rId76"/>
    <p:sldId id="26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slide" Target="slides/slide11.xml"/><Relationship Id="rId76" Type="http://schemas.openxmlformats.org/officeDocument/2006/relationships/slide" Target="slides/slide12.xml"/><Relationship Id="rId77" Type="http://schemas.openxmlformats.org/officeDocument/2006/relationships/slide" Target="slides/slide1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F8E-0E66-41DF-973C-27D64DAE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B65-D47B-4E95-9472-5DB0711D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0740E-6E0A-4840-83FC-8E80CF00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D2036-EBC4-4179-8BE0-197E8C28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C2C03-E00A-481C-9D00-4E0E1F16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05507-C9DC-472A-B242-8E2ED4FF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E5DAC-F3A6-4575-ADF3-A6EAA9BD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F419F-2692-47BE-8696-E86CDDF1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8BDD7-E4E1-4C97-8804-38EE9FCB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CEC10-C25C-4FF2-B49A-9358E0F7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ECDE8-8B54-4368-B05C-F2CBA4DD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CB424-17BE-4D23-9703-9BDA4EE5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8B8-2070-4F3A-9D58-7A6FD175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676CC-3A85-429D-AC95-ADF762CD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5E89D-F709-4989-8131-636EE2B9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D268F-6927-4F25-9B2E-0F587A0F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048DF-639D-4B61-82B8-9832917F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5567B-6968-42E2-A65C-091F84B4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784B8-79C6-43C5-90A6-3169168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8E1FF-0E4A-4FEA-84B0-339EAD26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7C125-F609-464E-8E30-9C8BA61E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A31FB-51CA-4E30-BAEE-9FA23A1D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9091C-BF63-467F-85C8-89998127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4A7-FC1F-4EE1-B90E-FB8210DD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D12C5-B630-4F5D-98D3-C7D414FE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08CF1-E160-4820-A6A5-80F0AC8E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81278-7B46-49BB-AE1E-B2D64F8F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3CAEB-A202-42BE-8D9F-E1EB9BAA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2458E-5D61-4546-9F6A-F661935F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39539-FF78-46EE-AE8D-F4436871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AC6E7-6082-43A4-AB77-52C81D5E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4784A-7F62-421C-823C-2846F330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6C74D-5765-4DD0-807B-777B74B3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4360A-582C-4AA5-884A-25938EA7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894D-18D4-41B6-82FB-61F7E2CF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B9603-88E4-433E-B37B-8E759E75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8393A-896C-4C24-8C48-7BD66005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CDF60-C919-4936-8F52-3C7D9DEB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8B5FC-E939-4FFF-9261-C6EFB9F8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E2F86-CBCD-4984-8B9A-89DCE295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28716-B9FB-480F-95B4-F44C6398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182EF-401D-4D3C-822E-F83AB6AB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F5564-ACFC-458A-9F13-456FD401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63AFA-D691-489A-BB23-23D3F7AB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C69A8-51C1-4002-BBE7-C9BF9DC1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F674-DF49-4EBF-84AA-BAA1ACF1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34142-60FA-415B-95F1-97D79465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E5AFF-F01E-44C1-B341-2CD2EE01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F79B0-7210-41A7-9F98-EBD514E4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064F0-F4B5-4C0C-8628-4B6C4098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E1746-5330-4CBB-A492-76732B1A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24B97-43F8-4480-8996-752C24CC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0B3BC-B713-4742-91DD-C888014A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BD4C6-18FA-4EA3-AFE3-42585F2F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7F4C1-3D89-46F5-B632-E96CA648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7ED83-DB21-4AA0-BE26-F1C6C0C1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1CCD-B10C-41EF-9854-E0306C1A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1CB7F-AC47-48D3-84FE-B5DCB828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6EE42-E4BC-4B35-BC69-88A038E6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C15BF-475D-4F5B-A296-EBE97962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5DA5D-AC3D-455C-96EE-7B91E81E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B5233-CBBA-4520-B489-132826A3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8F036-1D3D-465A-A108-EB4D661D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FB88E-2C5F-40F5-94C4-E8EA52F7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EA810-D64F-4A2A-9C9A-E12147DA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EA0E6-BD9B-4779-9995-1C7BC4BE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282F6-AFB3-4CA0-B463-491F3411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31EC-E6E5-43AA-AC55-2DFA1FA6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984DC-EC53-4253-861F-97759166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87A88-4C7C-423F-A1DA-C5A93F6D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25ED3-8BDF-4193-8BF7-0CA0EDB2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1478B-1267-4C31-A6E6-EF6E9D81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31893-FFDD-4425-99E0-B17376AC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E6B5E-6FDF-4AA8-ABB3-2449E47B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F03A3-60DF-470A-95E1-E8634532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62CC2-A2B9-4C8F-942F-7270B98E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545B58-C2BA-419B-BF18-57FDAF09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4D75B-BC99-47D9-BC40-B49D1EC4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1E34-0399-44DC-B686-E6197F4C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09100-1A48-4C8E-8CE1-205FB902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34EBA2-2925-43B5-A2BF-BB1AC880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0C8B1-0215-4A05-AB46-63B1F135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F1ECD-623E-4A18-8BBC-574A4284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4FEC64-C0CD-42FA-BFFD-2D181C04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BA924-70BE-4F7D-B6F5-7752D02D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0B396-40A0-47B5-AAF3-E19F1E9C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2EDC0-78ED-45B4-9E6C-3E49359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B1BCA-0EEC-418A-BC31-C99B50A6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BE3245-6556-4913-9B92-693CD6DC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1F20-7425-4471-8ED8-566FDCA4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0C0EB4-5B8A-4B26-8C76-E8D5DB63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690B6-819C-43AA-A34B-76F00F2D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38C6D-396E-4006-AEB8-B4B28F62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76F292-9FD2-46C4-A8AF-5D2637CB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21D80-F6E1-4D73-BBB4-D1B3CF6C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D6EB0-A75D-42AC-93B6-F9E9B8EC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8CD3F-94B2-4B1D-9B35-A3249A20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B6509-FE00-4AF4-A9C7-49B7B13D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6738F-A35D-4030-80AE-A67B06CE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3A3679-5865-46AD-8A80-324A7CD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B894-3BF2-40FF-947D-0F27ED49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7BD7D-7D2F-40E2-B135-E97A75E4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858B4-69CB-4C67-A5AC-D2B0C266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87A51-D26F-4BB1-8281-F3C6FF0E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F3802-DF6E-4096-930C-51BDC032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54E20-4F39-46F0-B7FB-E09F8E1C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BD4E6-E77D-46E5-B602-4AFE67F2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C9747-58E2-4F99-86EC-DDC80DC6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E344C-C167-4B2F-946D-183F7B45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60B49-ADAF-4A1A-BDEF-A2DED26E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CFC77-7BAC-4E68-B815-90480D11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EA6-F166-424D-ACDA-6692ACDB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8D11-DC5E-4271-B5E2-1B29999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6F00CB-37C0-4DCE-B9FA-DF8A13D8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47516-13EF-4F8F-8021-F35B00A7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0956B-B852-44C4-AD00-C64E0AE7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826FF-58F0-4AC5-A303-21D1CF7E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A0D162-4FFE-4CCF-B243-83A8EBB2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E2429-8286-42CD-8479-973E9F6B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04010-C9AC-4E3D-8E87-8DA7C570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CF0E0A-1A4A-42B2-916C-B8E2D6C7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785F16-FE11-491E-A8F9-D7C0B985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E4A2B-0BB1-496C-A021-88E3F0C4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2B9B-E9D1-4FFC-8CC0-C0661C63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1D3B41-D92B-4744-846B-E26699F3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513672-7605-4049-91D9-0275E2C9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06A50-286D-4EE8-AD17-D7F71602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F940A7-B5FD-4783-B901-F2450BE2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632DD-CB35-4E1F-94AA-52CA000C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F5485-F76F-4BE5-B049-F795934D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8E3C9-C468-4B10-884D-CBFD4E50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C48D42-5E6B-46DA-B1FA-EA3B4625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8D20D-39CE-4CFC-8C13-179A791E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A86F11-926D-485A-B233-15C54BAD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CF97-9212-442E-95AF-6EC6EDFE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47639-7FF0-478B-A24A-7E838073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D4BA4-F00C-4B7E-9267-27E11AA2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9E1FF8-A51F-4E08-9788-FA0F1C38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B6ADC-D0D5-48FD-B2F3-F78AF9BB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0368C-F1E6-4DB1-85E2-15CCF858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31D56-C72D-4C03-942C-7C6F878E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64A2C1-79C2-428C-8C55-2D1C3FC7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8145D0-2D84-4709-AED0-5F898D2C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092D7A-9B00-4513-81DE-E2779B30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5AD030-BE61-4C27-9A62-9AEDCD48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3DE4-3F4B-49DA-8F52-5D5E4360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AADDC1-7389-4890-9F2D-DD9E3CB4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11408A-A2AB-4401-AB19-AB9FF759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50C12-7399-48CA-AAC7-6F488520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C69185-65BD-4041-A503-3773D8DB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2E5EC-9B9B-4D5F-9752-2BB1A7E7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B88972-3201-49B5-AE7A-3CB6EDDF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4DD0B2-6861-4D62-953B-00146FCB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6059F2-F859-4052-A607-0E7BD2F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4B2580-ACE1-4E45-ADAC-471478A1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0AC41-8CBC-48DC-A5D5-DC973925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A492-F351-454D-99FF-CB0444BB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852E9A-3F6A-4F97-A634-BA2A7A20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4CAE15-0F22-48A0-900F-F506BD79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D7F79-D95B-4D63-AC22-4F527470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72521C-D7F7-429E-BB4D-77BCE791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209085-5D13-483C-863C-94B498A6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3F7A9-7FF9-4DEB-BC8C-A674348B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2CD21-E9F0-4DF5-A66E-50ED1EE6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6D49F1-D8AE-4F74-8AED-B565FDA8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CAD702-99A2-4835-BCFD-E76F8A2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9A5F50-2DDE-4F45-995D-296F6CAB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F3145-627A-4CA3-A0AA-08915B13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41D71C-5524-4AE0-8877-7E540120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04AFAF-3C6D-433C-912C-F72D386B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E51F6C-6264-4170-B002-590AE872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A1B20E-7CE3-4E36-AF71-B952C4AB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A3E8FC-A789-45C2-BCF1-39A6B43D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EADBFC-3187-47E5-9CC2-16ECDFF3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D1797D-25E3-483D-A797-4C3B23AB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8B2D09-DBB0-475F-A4AD-AB0BFC37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B489B2-836C-4DEC-A51A-4C1E1F29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F6839E-50F3-4479-B5CC-6A1B688F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9AB7-4CCD-4063-B4F7-0B72FD5B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8D9016-8FBB-43DA-BBFC-D46B4BAD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CC8203-F5A6-4534-A3D6-F39FCFC6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552ED-A1DE-472B-B98C-07AB30AE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2260E0-695B-4984-887D-BFCBD140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573127-EDE6-45C9-8856-6FBD4FA2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E4EE1A-5D89-4A73-9C3B-D9F44C06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785375-3E8B-4E1B-85F8-503C751D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628EFC-AC5A-46E3-BE96-1E54F5FF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728561-2512-48A5-8D7D-AEF721D5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C46BED-6567-4C6C-BF58-B5F3B427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4B53-C56A-46C7-9AAB-E4E05B0B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6DD265-1598-4FDF-8A3C-9D86868B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FD9E13-1F4D-49D2-9711-E168218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1AE7EE-2F58-4086-96A8-FA005EC7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B6DA61-48B6-4523-8521-E568655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A2252F-6CF9-432D-8477-B85E646B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3DA3D-2CA4-4322-8028-C03E313E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EEBBB0-E73A-4749-9255-FC4014A4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703FC8-8CD8-47C9-B7AC-EA7DE854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A151D3-10C4-4765-B114-2456ED79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0DA93A-82B4-4DAF-870F-977D67CA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D33E-8925-42CE-9FF6-FB932BAA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D4B1BB-CE1B-4A0F-A9EA-67E611D9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D566D4-4CCA-4CC3-8F78-36824D72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B664CE-BCAE-46EE-88E4-9E17F2AD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9BA9FC-F419-480B-B08C-533534E7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BE459B-5088-4CD1-94C6-B9456D68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0DFAC8-BCE9-4FD4-AF5F-BE9528E0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E45A3E-8113-4834-8855-CCE2A62C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2DBD0D-5C2C-40BE-8288-39CCFF29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0D641B-B544-433D-859D-4D9D8A65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941D0F-8335-4E26-8F9C-97C4EAA9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6FCD3-3352-4BE9-9932-A9EC404A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62D7DE-B843-4C55-BC67-709A7EDD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90FC64-FBE5-44AF-9604-17C1F1A7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8EBBE2-A65F-4F49-9A8B-8E9D4F6F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A413AC-65CC-42FB-880B-4BA6CFA5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3A473D-1012-4E3E-925B-5184D4CE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CAF6A4-4268-4D7E-8583-D510A405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59D5A2-B1E6-4F61-A54B-24EBC576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B01AB3-6AB5-412E-844A-8CE16CB3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6A663B-E66F-4EBF-A53D-CA1C2F31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D49C4E-6FB3-4DE5-814F-E994983C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1F3-AC87-4ABC-986F-718E71E4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C039-587A-4B81-B78E-5213E8F7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8D7362-1E22-4FA9-9C76-5FA8B3AC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2DF14B-D73E-4B37-944B-1A479559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6C7162-A24E-426A-AD0D-0F736BDD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C4FC89-8735-419E-9016-3500EEDD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3C83B7-4FA5-4446-A1FD-80BD5F44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F7BBF8-8154-4EE5-BAD5-8831B622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2B0784-5764-403C-891C-34CDC918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0543FA-CF5E-4619-A303-5B818872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AF8520-3CBB-446E-9882-A922BA19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BB9464-CB17-4797-A82F-39C76621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02EB-A7B6-4A81-B288-F7CF7B89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D91290-BE8B-4A73-AFAC-D26B807B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34E922-6E35-492C-B8E3-A1D89691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D020DC-1C05-472D-A497-10B9800E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78DEE3-7AF2-48C1-9F6B-BF29ECC4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FA53CE-A94E-46B1-AE75-0737EEC7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180ED8-62FC-49CD-8AF2-710580D8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44C177-FCC8-4FF6-83A4-AFBEFD53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CAEBD8-91BD-4AF6-BA42-179A97E2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EC1FC8-010B-4479-83C3-3B9EFF31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C31156-04B6-4BE7-8DE5-DF815974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257F6-4C25-49EB-ABC1-BE4E4F32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FD6AE0-9160-4768-8518-B4B05A77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80D60F-045B-477B-98B5-78102720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F96A16-09D8-4312-8846-D9437B3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E08410-724F-446B-956B-CC1ABAD1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024AA4-27B4-4525-9FFA-774811E2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74C0B8-F6AE-4BF3-977D-94A64872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7B4443-DAF5-4636-BFAA-C0662213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FC612F-8FD2-4FFD-B8DB-5517CFB6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B3CE8C-23E9-4346-A429-FF63557D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2AA551-3E74-4F6F-BC3A-5A5E8926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443F-F796-48BD-9662-23FA4AF7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D0AD9F-4152-4586-82DB-B44E454E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5364BD-EF05-4119-A56B-B945F941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6B6F0E-AB35-4E72-92C3-C9D37935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EC1890-940A-454B-880B-C57F95C4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FCDEA6-A976-4CF7-85D5-93886712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656183-B288-4E26-AA3F-385FE16C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0AD67C-14A8-4E4F-AA42-969DE0D2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691613-6A99-4888-A498-1157138A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2B11B5-9359-486B-95C5-963C74DF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399834-6658-435F-80AF-1E05CDD4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207F-5DC5-4AE0-A7F2-E12C6E1D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919610-B44E-47A8-9FEA-62DDF6F1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D0EB55-B1CD-464E-906A-49705B6D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E6C6CD-31CF-4836-9266-63FF5653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B6E884-4AC5-463E-89B7-A691AED1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05091B-DD77-4EA9-A081-B16FEF62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434FC1-B4B4-4344-93DF-E0D763A5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11B0FA-8AEB-464D-9384-156ED47E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5C3432-419E-4CB8-8AC7-7F4B1182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52895B-657F-4D75-830D-227D813A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AEEFD5-D8E8-46E2-BD2D-62849EDF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D709-5C79-4CC0-8678-23EE4018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3AFD7B-3106-4AC1-B1E3-8664FE19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4C5B79-513D-4BF7-8F33-74D1570E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EE15CA-33FE-4839-B7DB-2326178F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CBFC3D-E96E-46CA-8F45-A519502D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CDCF4C-1B5E-4D18-A6CE-36FC72EB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D6BEFA-1F1B-4352-8AE2-BF4C2386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817277-5C1F-487A-B5EF-3D62EA55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9B6720-72E2-4948-AB93-E5E89783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C24C30-7827-4A33-86BA-F0E0A9A4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5694B6-986B-48D7-942F-6D2614FF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1EDA-847B-457D-A6CF-DBC04BB9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F4989C-9DF3-4EEA-A5D0-79BEEFAF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D1D8DB-C46E-4867-90FD-781B316B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D467C0-DE29-4966-A07B-9AA41887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5AD5E1-0C4E-4C50-896D-14E60102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BF8763-952A-4C9F-9C1F-BDBFCC7D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3A3D30-2538-4AA2-9DF2-75FDC6A7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DEC14E-37F5-4F60-8AD7-0EA5E884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F6C85A-5152-4A86-858D-607C40F1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262A41-39E4-42E4-9DD2-61AB432D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1564BF-F31C-40E6-8B68-4D74FB2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C8FE-F873-4561-A84B-E8ED985A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0E3514-49F4-4E2B-BA99-AFF196B4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436B76-5A17-423F-AE59-9FA8CF9E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646549-F4E0-48E3-9B2F-01A5DFF3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0E5EED-077B-420A-96C5-389F6716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180CA2-F801-40E3-9266-E2A0F4E2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877C84-9F2E-48AF-8A09-74C17AFC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73B6A2-47BC-4DB7-91AD-0E019867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159ED0-5B65-4BF5-B37B-53F1114E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B7B18C-C106-4D41-8561-4F8E2A1A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22E5F9-B2D8-4039-879F-416FFE6D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46A76-9D0D-401D-9E92-0F540EB6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F2DD48-527F-4AD5-8F7A-3BF409DD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062ECD-B14B-45E4-99EC-C574B6AC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7BB9FC-E1BD-44A6-9C51-7BFAD894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C6920E-DF52-41EE-9B0F-2BC9F476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71BFE4-0DDE-4AEC-AC17-B37AD9E9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5F78B6-3971-43A0-8EA5-A2445DC1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2B75B2-2ADB-410C-8F1B-04DF9FB0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9DFC2AB-4E3A-4A90-993C-6BCD99BC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DD53BA-366F-44C9-B4DE-0C4C7200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D95768-0019-4E63-8069-461FCB54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AF424-4BD4-4920-A647-61E4881B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3BE340-32BB-4C8A-8638-7839AC28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679249-8AE3-428C-BDA0-4D859236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5086F8-2BDD-4C76-98D4-4B7C91C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C1B787-8215-40D6-8EC2-AE8FDAB0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AC7508-2C3A-46E5-B6DD-E452A419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96F5B7-4326-49E7-B6E5-D314649F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22499A-4DE1-49DE-9B8A-1FEBF09B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A522D0-A1EB-42EA-834F-F734613E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AC6CEC-5F02-4818-B9A4-DCE5635B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A3EC68-DD0E-49D6-A750-019248C8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B1D-662B-4282-9B82-9D6AA442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1B355-345C-4906-B5C0-D0D52105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7F8E2E-14CB-4157-A16B-A74FFE2E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06FEF6-2C6F-4C3C-B0EE-0333D8DC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6F820B-2249-473E-8817-3CFDDB3A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FC6E41-27CA-4CA5-ACAC-937B600A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4A584F-859F-471B-BDC8-E5869D7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C1FB3E-7FB8-4C8F-ABC3-4C88760C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79C1D5-6075-46C5-9BE6-16E51CCD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101DE2-AB05-4097-AC38-0824C097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E0BFAF-9E6D-46AD-BF06-148EC1DB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FFDBBB-FC0E-424C-9DFE-10BE17DE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B2EA8-FDAB-4C90-9751-9030547D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E16EC2-DA27-4169-931B-074FD56E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E19C0D-F073-4AB3-B692-DF8A84EB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086C3D-C909-47CE-95A8-A77AF9A6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B8E1B4-85B9-4934-9101-E7E3E79C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BCA1E0-F6A1-425E-A92F-1B7175C2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D5284A-1062-4163-931E-AA2F82D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84F9E8-340D-4678-BEF1-7FEA994E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E2C712-4419-4F09-92A8-A1DBE096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0F138B-176C-453E-8DCA-9A5E2ED5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7FC177-4BEE-4EBC-92CB-476B26B2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12BDA-D7E1-4D5E-B583-EB200AAA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DC4DEA-71CA-4EB6-A26E-39C4C9BB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94CA80-F6F6-4240-B1E9-B9DB5F51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00B1D5-037F-476E-AD83-52CFC5EC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A97480-216E-445D-ACE0-4C5FC54C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FEA5CB-0FDD-4D30-88E5-A43464B9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0C1D59-A3D2-4F66-84FE-F1EC6DAB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BEA362-818E-4ED0-8200-A7E0BDFF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5FAC28-88C8-4FA7-998B-B8E8DE11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4C4A9C-310B-44C7-9A80-0474777C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B17D84-BEE9-4612-94F1-6A9443B0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E0785-FC85-428A-937A-AA24FF54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51207C-23D1-4081-A3FD-24EF2181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AACFDB-A693-4AC4-8134-A3C69F97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80E2C0-801E-460E-9D2B-9B281D5A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C4E887-5EC1-4B04-BA28-1A058C9B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6886DD-1D9C-4DB3-9E0A-11396E91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74A080-0174-4CC6-87CF-6C6DBEBA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03E9A0-1C2E-4E8C-8F78-AAFF1B9E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7BA41A-D910-4FA1-9BB3-33FDD919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399A75-A9F0-480D-AEDB-683B6D0C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CC081D-AD46-4379-AB1A-ED51E4E7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9C750-2A4F-4B8B-84B1-8BF12369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875D99-267F-4F48-BEA4-40B5B35D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F88ED9-02A8-4FFE-A81E-32BB3CB9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D39985-E4AF-4AD2-A433-DFF35CB8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94CA54-3DFF-46C6-B277-D8E63015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B6BE2A-769C-4AC6-8588-0D68C00A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39672D0-42E5-46BD-8C13-9E976109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330927C-4F87-49D0-82E9-C3A98CDC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41D19F-A490-422C-9DC0-77E6208E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628C657-8F1F-462E-94E5-41986507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6F20CC-5A59-4A85-9730-1ABE7893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8D8E9-96F3-46B8-832A-CE98286F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F7872A-A63F-4758-BD1C-0B3357BB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5786C15-916D-47BE-BADF-616B4BC9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775499-583C-40AC-AD3F-980302DD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3518DF-8708-4ACF-996F-4A4C69D1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D345E9C-78A4-4943-BE79-211B0C5D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26B344-07D4-4032-B702-5AF06777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7C75268-80A0-45F6-AAFA-68C3BD28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E68CE91-70DF-444E-ADB4-277084E7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8BC989-A772-49C7-8350-6745B01D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A3D5688-6515-437B-8B73-4C818C38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1B444-1771-4699-A0A6-528780FF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DCD67A-4AED-40E9-B01A-94841221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179B37-5070-4F17-AD3A-B60A7FBC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9481EA5-B970-4475-94CD-92ED9017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7432B0-8BA6-4D16-8C93-B783677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749ACFC-112F-4CD5-8D58-BA6730D2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704F27-DCE4-4D56-ABC7-7A0CABC9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6E6415-874A-4861-A827-6237DFC8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27F343-FFCA-48C8-8911-631BBF16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DA5CAB6-0978-42F1-92F5-45A28894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3D6A40-EF4D-4A4F-844A-D3B631F4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44D99-2EA1-4D89-9FD0-2E47C8DC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0754E2D-566D-439F-A060-D95171D0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DF95650-DFA5-427B-8647-579F1D8E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978BB6-7E21-43C8-8AB2-A8DEA0FE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F58E7E-5720-46DF-BDF1-E4829B48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A3E935-8C35-4771-9EB2-E17103CD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A45F53-D9A9-424C-A3DB-2CE0A9E0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9D6A7C0-4C75-439D-A9DA-D3CF1E76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FE568A9-1BA6-42BE-8C9D-90FB296E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B570828-AA79-48B2-A428-B76190D6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F449CB-69EA-4E65-A7F0-82489C98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1A643-22B5-4F19-BECE-C31368B9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09F903C-2B03-40AC-B88F-F36F3104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22D654-6131-4120-AA8B-B9A2DEAD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44633DA-EA0B-4738-855B-69B98B82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8FCAAB-EC06-42AC-B5BA-E8369CDD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DE3CFD5-98E3-4BB3-BF1B-09F71F53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7E6C41-96D1-41D3-93A4-B5C2F579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84719E-3ADD-40FB-AADB-8160CD1F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84757A6-9519-40B9-BE8C-EBF4DC17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0AE0EC-F948-4431-BCC6-D7097C8B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DF489C-204F-4D0B-9958-BA2FC32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E0EFC-35D4-44CF-8B37-763CFCCA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47B6E65-805A-4A2E-9D6F-7CA28021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E59BD8-05A1-441D-B406-532740EB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EDD535C-0C87-4DC4-B62F-89FC1067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264624-A424-4304-888F-B1AEF911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72E67F9-A630-466F-8977-4F9141B1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8C686F-02F2-40EC-B12F-9EC09823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53B4A1-8F17-4EF1-8D65-DE7EE325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0D3422-FA9B-4B7D-B7FB-D9D2FC82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A66B109-EE95-4869-8CDB-715B89AA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3287BC0-6196-4BC2-8A67-39F57CC1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909-8C0B-4C46-906E-A01F5E61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19802-FE6E-4353-AE20-F2F8EC77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F2176C7-296B-475D-B0E0-BCBE5600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531B17-7605-492D-B526-492C301C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F8FC3E0-6347-4FB0-8750-D72C4F52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41391B9-ABA5-4CB0-A0DF-1A0B3C7A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D06D33-5EE8-441E-8484-6C206355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5DE78EB-CF80-4AC7-8177-1D72DBB2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1B7F616-0F01-467B-B14D-B2B56692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0774096-F00A-4CA6-9882-44116DA8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7C1CF17-FBE0-42C6-AE89-F48D8FE8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639D5C-76E3-4C1E-90F1-BE5842DB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2ABA-B433-4D21-8A7B-A871AC93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C09F492-0756-4FA9-86B7-F4891500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728933B-E7B2-46FE-93CF-2049BD7D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B605706-FA4E-432C-A368-05A7211A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5CB4380-6DD3-4467-821D-39636A6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B8A6E6-2D2A-4D45-8495-2F8CE59B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70B8181-3A1C-482D-BBDB-CFC9FAC6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17B5823-A7EC-4D79-AF95-E653BB05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49017B-E8FA-444B-AD40-7FEC7725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331313-C44C-49E5-A65F-3789D7B4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8C74BA4-ED48-48BC-BBC3-A55FDF7C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D04C0-A509-49C7-B083-0BE64AA6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0CCD38D-BFEA-4A23-B2A5-A6CFD779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50F9C8C-3E13-4C92-A5D9-A693A728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54C90B-4DC1-4C75-99B0-7225C34A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B451E71-E43A-4DD0-A8DC-46C90064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81A8391-6E87-4749-875E-28AEF84F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264B034-AB22-44AA-B39C-5EA3BCED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F4D0ABD-002F-4513-8505-AB7EA434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37DAA68-39D8-4FAC-829F-AB036E88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299E16C-48B8-45DC-A550-9F19702E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816149F-43B1-4891-A324-9533CE5B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D0A6-8FA3-4964-8774-D8188041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C3B377F-7A74-4C1E-AF87-5ACE904B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3420856-CEAE-468C-AA90-B4E8F38A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6DB1F65-3C34-409D-86A0-8517688D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6D43DE-3755-4BBF-98BB-EE1CF323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B9006B-47E8-41E8-8CE1-4EF5BEF0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78EB04-68ED-4025-8EE7-3FEC4F4E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67F7A3-1573-45D7-AAC3-27DBA6CB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FFF138-2F93-426C-B555-C435FE88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C95E28D-365F-4E0E-8ABA-86F09388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6BF44F-DE6A-4DCF-BF14-E7B4E54F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9C276-FCD2-4E2B-AA80-240D7A60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985A2A-F0AD-4173-939B-65772A9D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6B220AB-8C02-4AC0-AED7-8AA84A53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338D9C5-69D1-46BA-9844-A0146C5A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5DB056-4EEE-4A76-A7A1-917347BC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EAF8519-3A02-447D-89C8-7D484284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E46844C-CBB0-425F-A36C-39745F5A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A48C9EF-CB26-4105-A950-782BF2A3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047F60-581E-4CF8-8878-D0705E4A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79841DD-BD43-41CC-81B6-A3D5F041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06A7019-9683-4C4F-A346-BB3E9F0C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CF71F-33EF-4BED-8AED-E8CE1C4F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0AB80B-7089-4259-BCD5-D8F73C76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6E2FF05-47CD-4447-BBE2-2789A2DA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A35F7D-96DB-4765-B80E-6B3F9D86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108A15-BB4E-49A0-A022-97B318EA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3CE5DD8-BA71-4D0D-80FA-C976465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5FA4462-707D-4005-8E43-8A23DECE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CB559E-8325-4CF1-90EA-A5519706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1A3F532-A9C2-4127-A914-C646AF32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B0890FD-C104-4840-A78D-B30BEC2B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707698-1BAA-45D2-A3FC-A6CE40C3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9F92D-2329-4CB2-8190-4CE95C2E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F8F6124-C0D1-4BFC-ACA7-9E6CC951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D5692C4-CB16-4E29-9C0C-6B92BB02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A84C93-B1D7-41BA-BC88-642C6D68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FA2956-99FD-44FA-B432-4E9BF249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9DD39DF-C0C3-46D4-95A6-22994A96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F9D92DD-CDE9-4172-9B1B-7FE5507C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297CAA8-2F57-4CFE-B7C4-8CE26D1B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07A055-8C99-45C3-8F53-3EDCCCF4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CC8DA87-E0C9-4EBC-8B75-4923DC80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D5808BB-2583-4E2F-A04A-16B699F3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39E17-EA47-4950-9FA5-C3326B1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3F8087-CD5B-4DCC-A2C3-8CDA4A8B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AB0D176-753C-4F2B-B578-46D97365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50DE5C0-76F7-4169-8517-B7C62453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B783CC9-1786-4D5D-8BD1-72B9BA12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083C6A6-4366-4C1C-BC6C-C352B51B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9075C89-50A3-430E-BF3A-6C44600D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5358E51-4DB5-49AF-B7FB-ABE83F1D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DDDAD18-FECE-461D-BBF5-6EDE6938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08CB0E8-AAE5-4042-8E27-49BF93F7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58DA0FA-7A95-45F8-9EE8-FAD14E6E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9092E-1916-4F7A-9237-4E498C17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F515893-D576-42AB-B426-1614816E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F44358D-E121-42BD-B069-11CF49CD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01925BB-1E0D-4A9F-ABB6-550F3667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30A155D-CC18-4637-A766-C5F834D0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CF6374D-D519-49A2-9C6B-E9C613A7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CED6853-8015-4E3A-BBDD-9EB151FC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BE46006-4218-4F7B-AF76-AAA6134E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E08FDAC-CEF6-4F21-85A8-F4093B7D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3878B3D-9DEE-4926-AF85-1E742712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FC2048E-B205-434C-9FAB-1F104CB0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D12C9-2D7D-440B-A59F-C47FD47D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59ACC8-67DC-4A65-AB6B-1B34DF13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20286AE-B654-4507-A14A-24C71CB7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63F71EA-C68B-4E2C-9C22-5F643BE3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FB6C8E2-86E7-475B-A868-9F2D0FB6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F5718F-F1B8-4031-A466-74B1796D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7AED69E-E700-4944-A000-E2A06616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963550F-72EB-4B26-A41E-9A56D437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390DD1-68CA-4E15-AA91-9026774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C01CAF0-C48B-4833-8EC0-2BEBB0B3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3095A53-81D6-42F6-B034-33BFF699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F0E-CEFC-4E4A-A73D-4DA1D35B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FE07F-F649-4284-9585-A7E8330B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1159EE5-177E-4AB4-BC20-107EEEBA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54E0602-DA42-4626-8D3B-F0FF2B06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34BD449-B6CA-47E7-B272-8447809B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1FCEE34-DC1B-400E-82F4-C8904C57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578FDEF-586C-4CD0-803D-C5F07F06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6BCBC05-E34D-4DCF-A13A-60C2EA0B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B872DA8-D89F-41C3-B684-7D9C8F6A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2C7EC7B-2071-4A9C-BDA4-BD0DF0A4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02F2B58-2FA3-4812-9C2F-1572317F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DDA7CB6-6E3F-41B7-81D4-155B6BA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D67A1-5B69-4792-B114-B890F2C6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30AD1F7-B50A-4DC9-8C2F-6934C71C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22DA1DD-D5DE-4A8F-9F5D-5D0F1C00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B701A31-3325-4816-B515-CE7C7FA1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F032F91-27A3-4041-BCC8-ED8298B9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D847546-8C0D-4F34-BC77-600DAA4A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CB88502-991B-4918-9F46-D3386BE6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13BDBF2-EB17-4B9D-980A-A675E3BC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A393E66-51B8-49E9-8A2D-51D3851E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DEB9251-C235-4D0F-A5B1-BF7C0B60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BB16BC0-B87B-4809-91A0-59EF592D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6C55-DA0A-494B-9232-87719251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6896DB4-7DA3-4C1E-8D77-884F7650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6E14743-6B68-4F6D-B89E-E70B347D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E1F7DEB-945B-4404-8911-49AE5247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E29A4CA-AA34-4F38-AD67-59FA8BAA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B246999-9AF2-4205-AB15-5EC64DEF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E176EFC-4F3E-43C3-B632-824E26A3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23F422D-8225-4465-AA6D-092F2A16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5F6A26B-FEBA-42D5-B975-76AA0C75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3B91F34-E5E2-451E-A228-7F16B981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1EA487-72D1-4765-AEA9-6065ECF0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8F019-8D4B-4C71-9BD3-2B4B3157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2B1E577-520B-46FA-AD64-FA0D34CA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B228CFE-118F-4AC6-A092-5B77BFAF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94A1714-F076-4B5A-B2F2-93ED1C9F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B5CC398-0FAF-46D5-88ED-69C88D30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83DCB13-A519-4DBA-88B4-A5C4BFEE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3BD0461-1C90-450D-8B98-0DC3FDAE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1027FFB-C608-42A3-BA39-E4313942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50499B0-78D8-4164-84E1-3DCF7466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CE4C26F-15EA-49A1-A052-59E2EA84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BA87188-5C8F-490A-B71C-04D7847C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E3870-CD2F-442B-B876-C99C58ED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89C96C0-7B5E-4B5F-9824-399F995F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401737A-F56E-49DE-B281-26D2FC4D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7650FE3-1CFF-4B8B-9E27-A0B9AEC0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2C470D4-4B8D-4EFD-8095-5DA2C26E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4BEED89-7CC5-4384-836B-111AB828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4B4DEAB-F39C-4003-B2C2-2EAE816C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CCE9180-E17A-4BC7-B96B-ED22BC39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2933B4D-3A7A-4516-B390-F2424024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BBB57D6-B28C-4E73-8397-76C7699A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EDB203-5687-4024-B951-1068F052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5ADD0-2CB7-450E-ABB0-BE3EE82B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36D2A24-0961-4211-A2AE-73EAB0C3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DB2E16F-814D-43FF-B923-411B0A47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39A1565-9B8D-4B89-AE3E-94DC64DB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ACD0344-04F5-4137-AFE2-889F70E2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92C8E5C-43EE-4056-8533-3F2B6BC2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87F5C6-0A57-4B38-B6FD-5BEF179A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FA3EDD2-D786-4385-80E6-660AD66B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8A1F728-1B2E-4761-A9F3-BDFB4DDB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B87E8F4-1115-4173-80A9-FC76CDEE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EAD6B54-1C3C-4E87-B4B3-25D38B97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EF1D8-11DD-43F9-A859-35DD3564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8B60CF5-8A70-436E-83FE-B78B07F3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5CCC20A-7235-43F6-88B5-9C7EFDB7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27579AE-0630-4316-B3B5-5EF067FE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15BE837-0039-4304-B2A4-0E2727F7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92C9413-7396-4328-A745-633204CF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B014A98-BC84-4ED3-849C-E0E6C78A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E0F7264-98DD-43B0-8B36-FB05A589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518ABB4-A365-46CE-B4AC-713EC21A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6934994-18C4-4CB4-96A2-6858D56E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A8F0E7C-198B-4CB8-9F17-4B1BA74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5CC44-CF5A-4DDC-A60F-A5CF0A9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8C849A3-C10B-4F8F-97E1-65150860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BD3BBF7-E7B3-4C63-BE3A-2D62ABAA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9237DCD-41DE-4B63-80A8-1D04007F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16E1FB6-7642-4A7A-8DDB-555DD534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579182D-D031-415B-8C1F-E3938579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4B56F36-4068-41A7-953F-ED57366D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45BE06E-FB0F-4B19-8032-EB00D91B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FFC9B89-8F8D-454C-87E9-9768B72D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7825D66-086B-4F23-8AAD-56C6FFFB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FE3981B-A515-423D-8AE0-9DA2A2E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B421A-72DF-4E7B-970C-816A17F4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E590E49-14E0-4B67-B6F8-CFAF20C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672570C-2B44-4FE5-8812-59E5231D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BB078F1-1D59-48DF-A30A-F218AACA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9620B21-4E00-41B6-8C52-C9DA6B50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B49F1B3-148C-44F3-8A5A-833B9A06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7EAC6CA-5007-4E6B-86C3-38E2DC26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E819FFF-FF6D-4ECC-AFE1-96B058AB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4106626-C9B4-4F34-BE45-E1269C57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F445999-2CB1-41CE-AF8B-1FDC4759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3945F72-64CD-4583-999E-789C7CFF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75BC9-9773-4BC9-B6A8-CD401E2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5574EBE-C274-4523-BEF6-E333606F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DBCD7B2-5305-4B58-8458-8C8E19A2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907C9A1-301B-4C46-8042-F39142B6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D3429B2-2BE4-4CC4-BDA0-6E293E13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4B5821B-E5EC-4FC0-B43E-B10E0C7F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C7E6C98-432E-412A-811B-FD5D3CEA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8BEB991-4EF5-4FF8-8942-E4FD6B13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04B2B2-C162-4D8F-94A6-D74D255D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856621A-9560-465E-9BD0-49826625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4E27192-6424-4AE0-B581-FD5EEF8D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C2A-7D5D-4C6E-9555-13CD7220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D2FF1-3F32-4323-B550-59FA483D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A80A3FB-51D6-4B8B-8F7C-4B9A86B5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4D0FC14-5754-43C8-928D-26DEF445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20ABA51-6543-44A7-8786-99F4DF33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43CD212-228F-4B10-B894-D0DB46AF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25FE145-CF66-4019-9B89-D37B6737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44464B1-7449-4970-A0E1-C5C4171B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6A03E01-A355-4DF8-91A7-7CA2EBC1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8AB70B9-D406-4748-A30D-2419C742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C26FAD6-D55E-4B9A-98C8-24CF6840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14CFE2F-92B2-47AB-BA42-3DB09845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D380E-E82A-403F-A8E8-BB9A94E7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DD06005-356E-4D9E-9718-9CFC80D5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F3824AB-23E5-450D-9077-C7D93AFA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59BC1E3-D427-41FC-BD12-E1025C4B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297B5DC-B2EE-43F4-AB80-E57C99F9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9DDFB12-6C84-441B-879F-3A4F2FFB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C8327D6-934D-469C-9CEA-2C3914BB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C4FA282-8FC9-449E-A8B2-471E0957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335A40D-B62D-494F-A358-ADB7AB00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6F8CFCB-3152-4D9C-971F-BA015EC6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F9E21E3-FB3B-47C7-9761-E7A7F146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CC220-92B0-4ED9-B23A-D4188257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DE52E78-88BA-4D96-B60C-B3CDA8B1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1BD785F-44A3-4BBA-9BC8-9117AAC6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E337021-F538-4387-95B9-CE439D48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4BA2818-4E81-4F29-9167-A99A15D5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49890A9-2A5F-4F35-9EC8-169903EC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606C086-6218-4507-9A8C-CAE05E68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ABC5623-B8A6-4EEE-AE12-43545D31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ACAF2C3-5447-4933-9C6D-9D54345B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57B3013-53E6-4A25-A893-76072085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2C4DECA-6B07-475D-A720-8298C8B4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79F3A-F71A-48A9-A106-481F43BF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C6AB798-EC3E-48C1-AAF1-6A1FB565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DE1B885-72CC-476C-9DCE-496CC4A6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3A8F0BF-3815-43E5-8BDD-8F5537A6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B220147-302E-4179-8567-3E15CD64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59C6E67-FF8B-4DC7-B868-96C0A8D7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89C4386-9688-4C53-B21C-91BEC89A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B34EF02-DFEA-46A2-8D01-6DE5B6DB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6513FB6-AF6B-42E6-A50F-5094438E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EB8E10C-7D74-4296-8B72-647129C3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372BF6E-2748-4E85-8FA9-CFCF7949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8C697-8996-4D79-9BFB-A17EC06A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BB679DA-1A35-4AB5-99DB-B2E8A8D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C8ACA3F-C45A-41F3-99F9-29E3BCD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7E15417-7383-4221-A273-B8396517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DDDF2B3-68D8-40BA-B85C-977B8282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1F8E7CD-6409-4DC4-92ED-DBE2112A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E952319-A1FB-4E2F-B26E-4D2F54AF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29CE0CE-78F3-4DDA-8D09-918A6ABB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F908202-1676-42EE-A0D6-4F46272E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B6FBBEE-C808-4C93-BD9E-EEFBF0F0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190A97C-0CBE-4C5F-A77E-6DD6E6EE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F978-5EF1-49DB-98C8-452209F4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BEBA2C2-9806-4314-A355-68C5F222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5145576-74EE-44FE-BC69-4817394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A4E4D2F-4E35-455F-95FA-C890E2E1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055D80F-0C08-442B-9518-F17FC27F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5A445C1-2568-4EF6-9BF2-38CAAF9F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7A6DB6F-237F-4051-8696-3AB2F366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EC02A9B-59DA-4B43-9A78-6D6023E6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CC357-A5B6-4C1F-AF46-2CCFE506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65B16-DC3C-44C4-8A0B-ECBEE1EA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12CE8-0FD5-4F68-BED5-E1E64B6D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6D2AB-37E0-4575-85B8-28A9A451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A65-7BFF-4822-B605-36102EA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E0589-A76F-4CC6-8A29-F8E5517D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C7D42-C510-42FA-92A4-41DAB749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A3D67-8262-4E81-BE30-1FBB80C5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1EC29-3552-4694-A30E-50123DC5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B6C6E-0783-48D0-8E68-FB4E2A7B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495B3-6A32-4C5C-A5D8-991FC507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60A01-6263-4AFE-80CE-2AF62351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0383A-DBCD-4EBB-A195-906E5D4B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B358F-9DC8-4D14-8B9D-0D0C5AE2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D4A9A-04BC-4EDA-8129-1D15C7D6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037-1698-486E-B0AD-AA391E48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B9DF5-D200-4B89-9402-24FD34AB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1C57B-DBC7-4281-BC7C-42841CE1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9A918-7BC9-4590-9ACA-17F64B47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DF2F2-D30E-4C9A-B6BD-54EEB87C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1AFA2-E63B-45FA-8D56-22560955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1F170-7C65-4504-8741-E9735768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4ADA8-6637-4039-9BC5-C687ABE5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1FFB1-53AB-4284-B935-75124BA8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0FD44-D173-40A5-8C08-CCBEEA61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2CDC4-7C33-454A-BB5A-20A3EFD5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263C-02A6-46FF-A6B2-F477C99CE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9AAA-CCBB-4384-BDCD-ACE19D3CB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0CD5-04B8-482F-BB53-4DCCFC13C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EB49-0E0F-4780-89AB-9FA1830B8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2479-7995-47E7-BB74-2B6752086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5CC9-6927-4EA9-A3D1-7D372698A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FF3D-1B5E-43C6-B955-B5532FB46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A581-82F1-4F6C-9272-06ABA4C46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C12A-4086-4BC2-BFFF-D855347F6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1CCA-270B-4000-8A0B-B05894419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3A3A-D6EC-4C99-B274-0726E7A73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2656-9EA6-4FC0-8AB1-A11B3C14B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1672-8268-43AB-AC9D-E50052046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26CC-3859-4266-84D6-08D67BE39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48E6-CA49-473D-942E-F2363D7A5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8C61-4108-4D6C-A2ED-84A2D952A9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2389-3543-4C82-BFA6-7114162E4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7F91-1AE3-4662-B360-1E80A0F16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3520-77BA-4F6A-9230-A641F6A53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FACE-761C-4F54-B777-6C6D53F6A4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F4B1-1371-487B-9616-CF75DA871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D49E-74BB-4CC1-9886-41E041CE9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371A-82B8-424F-8338-8AFDC9066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4990-63C3-47E9-B69B-43D1FBD90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074C-0534-460E-99F9-9E24C631B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8617-E726-4B13-BE17-B319D7A19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1472-4E76-4F5A-A846-9CF0D6F8C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5E75-1EBF-42D1-AB28-9989CE5A0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7DC4-47F1-4A02-A371-A726D365B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0E6D-B989-45DB-95CC-B605B462F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4679-3A75-4A6F-A15F-3547D41DD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012E-DF16-4E0F-94E2-1F46D6B7C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E552-C481-4463-99E1-BA5F35DFF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1EFE-11AA-483F-B742-AC2EA94BD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EE39-69E2-4C54-8478-8D7DCDEBE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1906-BB7F-42EB-8F9B-DE0A2FA46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DA5-A7A5-45EC-B066-EA18DCC271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8962-B778-4BEE-BBAB-7A9F244C1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CFF3-B671-40E0-B544-D934078A6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B9B2-2CEB-4F15-9B53-9C77A82A7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0032-80B0-415B-8BF4-312F8A5EF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9DDB-7C34-4C9F-8B0C-4968BAA10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43A7-2C90-49EC-8452-1762F8AD4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926D-849D-42B3-A9AF-849FD8716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D6D5-CFCE-4777-93ED-E5A652E6F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DC42-26F1-4C49-99B8-0C42EB9629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F34C-EFD5-4000-A58A-E16F9DF28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7091-1AAE-4EBF-A8D1-C6EB14016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B88B-7EC8-4A7E-AF65-BE67B5895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A7D6-F2CF-4B70-AE1B-CE9F9459C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39FC-107B-4AB1-9D63-4C9AE304E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19B6-9B31-45BA-8F84-D6BDB5FD1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8E5E-3688-4D59-99AD-1CFAD1F72D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1CAA-2DDE-4B63-A903-B8BBEC26E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D34A-5158-4D05-9F9C-A43A3836B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0497-E8AB-4C10-9835-35AD0DCB34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D9FE-1C47-48E3-A6D8-2470C2EC5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E8DD-49D4-4358-9222-1C2D4AC1D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4D54-8DF5-447C-AC43-39A9A23DC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EFF4-A7B6-4075-B217-137F871030C0}" type="slidenum">
              <a:rPr b="0" lang="ru-RU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025F-58A0-4925-A5A1-274CDB25F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10C2-4BA8-4161-937C-A2C0A8E44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A089-4BBB-4EDE-8269-F79E7FA85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subTitle"/>
          </p:nvPr>
        </p:nvSpPr>
        <p:spPr>
          <a:xfrm>
            <a:off x="28584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избиз Ю.А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84" name="Прямоугольник 3" descr=""/>
          <p:cNvPicPr/>
          <p:nvPr/>
        </p:nvPicPr>
        <p:blipFill>
          <a:blip r:embed="rId1"/>
          <a:stretch/>
        </p:blipFill>
        <p:spPr>
          <a:xfrm>
            <a:off x="176040" y="1504800"/>
            <a:ext cx="8852040" cy="1756080"/>
          </a:xfrm>
          <a:prstGeom prst="rect">
            <a:avLst/>
          </a:prstGeom>
          <a:ln w="0">
            <a:noFill/>
          </a:ln>
        </p:spPr>
      </p:pic>
      <p:pic>
        <p:nvPicPr>
          <p:cNvPr id="2585" name="Прямоугольник 4" descr=""/>
          <p:cNvPicPr/>
          <p:nvPr/>
        </p:nvPicPr>
        <p:blipFill>
          <a:blip r:embed="rId2"/>
          <a:stretch/>
        </p:blipFill>
        <p:spPr>
          <a:xfrm>
            <a:off x="1633680" y="66600"/>
            <a:ext cx="5973480" cy="1281240"/>
          </a:xfrm>
          <a:prstGeom prst="rect">
            <a:avLst/>
          </a:prstGeom>
          <a:ln w="0">
            <a:noFill/>
          </a:ln>
        </p:spPr>
      </p:pic>
      <p:pic>
        <p:nvPicPr>
          <p:cNvPr id="2586" name="Picture 5" descr="C:\Users\Администратор\Desktop\Nokia\f20110330141542-vybor_computera.png"/>
          <p:cNvPicPr/>
          <p:nvPr/>
        </p:nvPicPr>
        <p:blipFill>
          <a:blip r:embed="rId3"/>
          <a:stretch/>
        </p:blipFill>
        <p:spPr>
          <a:xfrm>
            <a:off x="3286080" y="3357720"/>
            <a:ext cx="5126040" cy="3147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"/>
          <p:cNvSpPr txBox="1"/>
          <p:nvPr/>
        </p:nvSpPr>
        <p:spPr>
          <a:xfrm>
            <a:off x="213840" y="1714680"/>
            <a:ext cx="8472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канер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служат для автоматического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вода текстов и графики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компьютер.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канеры бывают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вух типов: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2397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учные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2397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ланшетные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12" name="Picture 5" descr="C:\Users\Администратор\Desktop\Nokia\scanner.png"/>
          <p:cNvPicPr/>
          <p:nvPr/>
        </p:nvPicPr>
        <p:blipFill>
          <a:blip r:embed="rId1"/>
          <a:stretch/>
        </p:blipFill>
        <p:spPr>
          <a:xfrm>
            <a:off x="3357720" y="2786040"/>
            <a:ext cx="5786280" cy="3929040"/>
          </a:xfrm>
          <a:prstGeom prst="rect">
            <a:avLst/>
          </a:prstGeom>
          <a:ln w="0">
            <a:noFill/>
          </a:ln>
        </p:spPr>
      </p:pic>
      <p:pic>
        <p:nvPicPr>
          <p:cNvPr id="2613" name="Прямоугольник 5" descr=""/>
          <p:cNvPicPr/>
          <p:nvPr/>
        </p:nvPicPr>
        <p:blipFill>
          <a:blip r:embed="rId2"/>
          <a:stretch/>
        </p:blipFill>
        <p:spPr>
          <a:xfrm>
            <a:off x="3139920" y="219240"/>
            <a:ext cx="3187800" cy="113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де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ли модемная плата служит для связи удалённых компьютеров по телефонной сети. Модем бывает внутренний (установлен внутри системного блока) и внешний (располагается рядом с системным блоком и соединяется с ним при помощи кабеля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DVB-карт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путниковая антенна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лужат для так называемого «асинхронного» подключения компьютера к сети Интернет. При наличии DVB-карты и спутниковой антенны для соединения с Интернетом используется два канала связи: для передачи данных от пользователя используется модем, а для приема – спутниковый канал, скорость потока данных в котором в несколько раз превышает модемную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15" name="Прямоугольник 3" descr=""/>
          <p:cNvPicPr/>
          <p:nvPr/>
        </p:nvPicPr>
        <p:blipFill>
          <a:blip r:embed="rId1"/>
          <a:stretch/>
        </p:blipFill>
        <p:spPr>
          <a:xfrm>
            <a:off x="1901880" y="158760"/>
            <a:ext cx="5102280" cy="1152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/>
          </p:nvPr>
        </p:nvSpPr>
        <p:spPr>
          <a:xfrm>
            <a:off x="457200" y="1643040"/>
            <a:ext cx="4400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ля организации на беск-райних Интернета видеокон-ференций (или просто бол-товни) пригодитс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еб-каме-р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 С помощью этих уст-ройств (и, естественно, быстрых локальных сетей), можно в любой момент уст-роить совещание со своими сотрудниками, не отрывая оных от насиженных рабочих мест. А это, как показывает практика, дает весьма ощу-тимую практическую пользу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17" name="Picture 5" descr="C:\Users\Администратор\Desktop\Nokia\Untitled-1.png"/>
          <p:cNvPicPr/>
          <p:nvPr/>
        </p:nvPicPr>
        <p:blipFill>
          <a:blip r:embed="rId1"/>
          <a:stretch/>
        </p:blipFill>
        <p:spPr>
          <a:xfrm>
            <a:off x="3714840" y="1643040"/>
            <a:ext cx="5659200" cy="4583160"/>
          </a:xfrm>
          <a:prstGeom prst="rect">
            <a:avLst/>
          </a:prstGeom>
          <a:ln w="0">
            <a:noFill/>
          </a:ln>
        </p:spPr>
      </p:pic>
      <p:pic>
        <p:nvPicPr>
          <p:cNvPr id="2618" name="Прямоугольник 8" descr=""/>
          <p:cNvPicPr/>
          <p:nvPr/>
        </p:nvPicPr>
        <p:blipFill>
          <a:blip r:embed="rId2"/>
          <a:stretch/>
        </p:blipFill>
        <p:spPr>
          <a:xfrm>
            <a:off x="2316240" y="139680"/>
            <a:ext cx="4481280" cy="1212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 означает «персональный компьютер»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 такое «базовая конфигурация ПК»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кие виды мониторов вы знаете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 такое разрешающая способность мыши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ем отличаются оптико-механические и оптические мыши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кие еще устройства ввода информации в компьютер вы знаете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0" name="WordArt 4"/>
          <p:cNvSpPr txBox="1"/>
          <p:nvPr/>
        </p:nvSpPr>
        <p:spPr>
          <a:xfrm>
            <a:off x="6858000" y="357120"/>
            <a:ext cx="1662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992f7d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992f7d"/>
              </a:solidFill>
              <a:latin typeface="Times New Roman"/>
              <a:ea typeface="Times New Roman"/>
            </a:endParaRPr>
          </a:p>
        </p:txBody>
      </p:sp>
      <p:pic>
        <p:nvPicPr>
          <p:cNvPr id="2621" name="Прямоугольник 4" descr=""/>
          <p:cNvPicPr/>
          <p:nvPr/>
        </p:nvPicPr>
        <p:blipFill>
          <a:blip r:embed="rId1"/>
          <a:stretch/>
        </p:blipFill>
        <p:spPr>
          <a:xfrm>
            <a:off x="2219400" y="291960"/>
            <a:ext cx="3700440" cy="1135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ногда говорят «персональный компьютер».  Уточнение «персональный» здесь не случайно – это значит свой, личный, доступный большинству людей, ведь существует большое количество других видов компьютеров, которые персональными никак не назвать – рабочие станции для предприятий, серверы для связи множества компьютеров в сеть и др. в дальнейшем, говоря «компьютер» мы будем иметь в виду именно персональный компьютер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 современном рынке вычислительной техники разнообразие модификаций и вариантов компьютеров огромно, но любой, даже самый необычный комплект неизменно включает одни и те же виды устройств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88" name="Прямоугольник 3" descr=""/>
          <p:cNvPicPr/>
          <p:nvPr/>
        </p:nvPicPr>
        <p:blipFill>
          <a:blip r:embed="rId1"/>
          <a:stretch/>
        </p:blipFill>
        <p:spPr>
          <a:xfrm>
            <a:off x="-73080" y="85680"/>
            <a:ext cx="9193320" cy="1152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Базовая конфигурация ПК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- минимальный комплект аппаратный средств, достаточный для начала работы с компьютером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стемный блок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онитор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авиатура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ышь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90" name="Прямоугольник 4" descr=""/>
          <p:cNvPicPr/>
          <p:nvPr/>
        </p:nvPicPr>
        <p:blipFill>
          <a:blip r:embed="rId1"/>
          <a:stretch/>
        </p:blipFill>
        <p:spPr>
          <a:xfrm>
            <a:off x="-23760" y="139680"/>
            <a:ext cx="9155160" cy="1212840"/>
          </a:xfrm>
          <a:prstGeom prst="rect">
            <a:avLst/>
          </a:prstGeom>
          <a:ln w="0">
            <a:noFill/>
          </a:ln>
        </p:spPr>
      </p:pic>
      <p:pic>
        <p:nvPicPr>
          <p:cNvPr id="2591" name="Picture 6" descr="C:\Users\Администратор\Desktop\Nokia\1324556002_2.png"/>
          <p:cNvPicPr/>
          <p:nvPr/>
        </p:nvPicPr>
        <p:blipFill>
          <a:blip r:embed="rId2"/>
          <a:stretch/>
        </p:blipFill>
        <p:spPr>
          <a:xfrm>
            <a:off x="3857760" y="3000240"/>
            <a:ext cx="4960800" cy="3652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– основ-ной блок компьютерной системы. В нем располагают-ся устройства, считающиеся внутренними. Устройства, подключающиеся к системно-му блоку снаружи, считаются внешними.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93" name="Picture 6" descr="C:\Users\Администратор\Desktop\Nokia\50597.png"/>
          <p:cNvPicPr/>
          <p:nvPr/>
        </p:nvPicPr>
        <p:blipFill>
          <a:blip r:embed="rId1"/>
          <a:stretch/>
        </p:blipFill>
        <p:spPr>
          <a:xfrm>
            <a:off x="5786280" y="1785960"/>
            <a:ext cx="3073680" cy="4429080"/>
          </a:xfrm>
          <a:prstGeom prst="rect">
            <a:avLst/>
          </a:prstGeom>
          <a:ln w="0">
            <a:noFill/>
          </a:ln>
        </p:spPr>
      </p:pic>
      <p:pic>
        <p:nvPicPr>
          <p:cNvPr id="2594" name="Прямоугольник 7" descr=""/>
          <p:cNvPicPr/>
          <p:nvPr/>
        </p:nvPicPr>
        <p:blipFill>
          <a:blip r:embed="rId2"/>
          <a:stretch/>
        </p:blipFill>
        <p:spPr>
          <a:xfrm>
            <a:off x="1554120" y="219240"/>
            <a:ext cx="6370560" cy="113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 txBox="1"/>
          <p:nvPr/>
        </p:nvSpPr>
        <p:spPr>
          <a:xfrm>
            <a:off x="285840" y="1828800"/>
            <a:ext cx="49291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онитор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устройство для визуального воспро-изведения символьной  и графической инфор-мации. Служит в ка-честве устройства выво-да. Они отдаленно напо-минают бытовые телевизоры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96" name="Picture 5" descr="C:\Users\Администратор\Desktop\Nokia\xps_one.png"/>
          <p:cNvPicPr/>
          <p:nvPr/>
        </p:nvPicPr>
        <p:blipFill>
          <a:blip r:embed="rId1"/>
          <a:stretch/>
        </p:blipFill>
        <p:spPr>
          <a:xfrm>
            <a:off x="4714920" y="78588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597" name="Прямоугольник 6" descr=""/>
          <p:cNvPicPr/>
          <p:nvPr/>
        </p:nvPicPr>
        <p:blipFill>
          <a:blip r:embed="rId2"/>
          <a:stretch/>
        </p:blipFill>
        <p:spPr>
          <a:xfrm>
            <a:off x="2620800" y="304920"/>
            <a:ext cx="3876840" cy="1152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"/>
          <p:cNvSpPr txBox="1"/>
          <p:nvPr/>
        </p:nvSpPr>
        <p:spPr>
          <a:xfrm>
            <a:off x="456840" y="1828800"/>
            <a:ext cx="4257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лавиатур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лавишное устройство, предназначенное для управления работой компьютера и ввода в него информации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нформация вво-диться в виде алфавит-но-цифровых символь-ных данных.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99" name="Picture 10" descr="C:\Users\Администратор\Desktop\Nokia\Chicony_Wireless_Keyboard_KBR0108_2.png"/>
          <p:cNvPicPr/>
          <p:nvPr/>
        </p:nvPicPr>
        <p:blipFill>
          <a:blip r:embed="rId1"/>
          <a:stretch/>
        </p:blipFill>
        <p:spPr>
          <a:xfrm>
            <a:off x="4429080" y="1220760"/>
            <a:ext cx="4489560" cy="2422440"/>
          </a:xfrm>
          <a:prstGeom prst="rect">
            <a:avLst/>
          </a:prstGeom>
          <a:ln w="0">
            <a:noFill/>
          </a:ln>
        </p:spPr>
      </p:pic>
      <p:pic>
        <p:nvPicPr>
          <p:cNvPr id="2600" name="Picture 12" descr="C:\Users\Администратор\Desktop\Nokia\1269026036.png"/>
          <p:cNvPicPr/>
          <p:nvPr/>
        </p:nvPicPr>
        <p:blipFill>
          <a:blip r:embed="rId2"/>
          <a:stretch/>
        </p:blipFill>
        <p:spPr>
          <a:xfrm>
            <a:off x="4500720" y="3643200"/>
            <a:ext cx="4535280" cy="2500560"/>
          </a:xfrm>
          <a:prstGeom prst="rect">
            <a:avLst/>
          </a:prstGeom>
          <a:ln w="0">
            <a:noFill/>
          </a:ln>
        </p:spPr>
      </p:pic>
      <p:pic>
        <p:nvPicPr>
          <p:cNvPr id="2601" name="Прямоугольник 12" descr=""/>
          <p:cNvPicPr/>
          <p:nvPr/>
        </p:nvPicPr>
        <p:blipFill>
          <a:blip r:embed="rId3"/>
          <a:stretch/>
        </p:blipFill>
        <p:spPr>
          <a:xfrm>
            <a:off x="2023920" y="139680"/>
            <a:ext cx="4711680" cy="1212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"/>
          <p:cNvSpPr txBox="1"/>
          <p:nvPr/>
        </p:nvSpPr>
        <p:spPr>
          <a:xfrm>
            <a:off x="214200" y="1428840"/>
            <a:ext cx="5572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ыш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устройство «графи-ческого» управления. При пере-мещении мыши по коврику на экране перемещается указа-тель мыши, при помощи кото-рого можно указывать на объек-ты и/или выбирать их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спользуя клавиши мыши (их может быть две или три) можно задать тот или другой тип операции с объектом.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03" name="Picture 8" descr="C:\Users\Администратор\Desktop\Nokia\index26.2.png"/>
          <p:cNvPicPr/>
          <p:nvPr/>
        </p:nvPicPr>
        <p:blipFill>
          <a:blip r:embed="rId1"/>
          <a:stretch/>
        </p:blipFill>
        <p:spPr>
          <a:xfrm>
            <a:off x="5643720" y="1000080"/>
            <a:ext cx="2989080" cy="2604960"/>
          </a:xfrm>
          <a:prstGeom prst="rect">
            <a:avLst/>
          </a:prstGeom>
          <a:ln w="0">
            <a:noFill/>
          </a:ln>
        </p:spPr>
      </p:pic>
      <p:pic>
        <p:nvPicPr>
          <p:cNvPr id="2604" name="Picture 9" descr="C:\Users\Администратор\Desktop\Nokia\zixg4kxehl.png"/>
          <p:cNvPicPr/>
          <p:nvPr/>
        </p:nvPicPr>
        <p:blipFill>
          <a:blip r:embed="rId2"/>
          <a:stretch/>
        </p:blipFill>
        <p:spPr>
          <a:xfrm>
            <a:off x="5357880" y="3786120"/>
            <a:ext cx="3929040" cy="2786040"/>
          </a:xfrm>
          <a:prstGeom prst="rect">
            <a:avLst/>
          </a:prstGeom>
          <a:ln w="0">
            <a:noFill/>
          </a:ln>
        </p:spPr>
      </p:pic>
      <p:pic>
        <p:nvPicPr>
          <p:cNvPr id="2605" name="Прямоугольник 9" descr=""/>
          <p:cNvPicPr/>
          <p:nvPr/>
        </p:nvPicPr>
        <p:blipFill>
          <a:blip r:embed="rId3"/>
          <a:stretch/>
        </p:blipFill>
        <p:spPr>
          <a:xfrm>
            <a:off x="2719440" y="73080"/>
            <a:ext cx="2863800" cy="113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ериферийными называют устройства, подключаемые к компьютеру извне. Обычно эти устройства предназначены для ввода и вывода информации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от некоторые из них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нтер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канер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дем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DVB-карта и спутниковая антенна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еб-камера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07" name="Прямоугольник 3" descr=""/>
          <p:cNvPicPr/>
          <p:nvPr/>
        </p:nvPicPr>
        <p:blipFill>
          <a:blip r:embed="rId1"/>
          <a:stretch/>
        </p:blipFill>
        <p:spPr>
          <a:xfrm>
            <a:off x="244440" y="433440"/>
            <a:ext cx="8637480" cy="931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"/>
          <p:cNvSpPr txBox="1"/>
          <p:nvPr/>
        </p:nvSpPr>
        <p:spPr>
          <a:xfrm>
            <a:off x="45684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нтер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служит для вывода информа-ции на бумажный носитель (бумагу).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уществуют три тип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нтеров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26352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тричный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26352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руйный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26352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ерный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09" name="Picture 5" descr="C:\Users\Администратор\Desktop\Nokia\58340.png"/>
          <p:cNvPicPr/>
          <p:nvPr/>
        </p:nvPicPr>
        <p:blipFill>
          <a:blip r:embed="rId1"/>
          <a:stretch/>
        </p:blipFill>
        <p:spPr>
          <a:xfrm rot="270600">
            <a:off x="3858840" y="2787120"/>
            <a:ext cx="5257800" cy="3878280"/>
          </a:xfrm>
          <a:prstGeom prst="rect">
            <a:avLst/>
          </a:prstGeom>
          <a:ln w="0">
            <a:noFill/>
          </a:ln>
        </p:spPr>
      </p:pic>
      <p:pic>
        <p:nvPicPr>
          <p:cNvPr id="2610" name="Прямоугольник 5" descr=""/>
          <p:cNvPicPr/>
          <p:nvPr/>
        </p:nvPicPr>
        <p:blipFill>
          <a:blip r:embed="rId2"/>
          <a:stretch/>
        </p:blipFill>
        <p:spPr>
          <a:xfrm>
            <a:off x="2523960" y="212760"/>
            <a:ext cx="3834000" cy="1214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03:19Z</dcterms:created>
  <dc:creator>bas</dc:creator>
  <dc:description/>
  <dc:language>en-US</dc:language>
  <cp:lastModifiedBy>RWT</cp:lastModifiedBy>
  <dcterms:modified xsi:type="dcterms:W3CDTF">2012-01-29T18:21:26Z</dcterms:modified>
  <cp:revision>27</cp:revision>
  <dc:subject/>
  <dc:title>Устройство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39000000000001024140</vt:lpwstr>
  </property>
</Properties>
</file>