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63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</p:sldMasterIdLst>
  <p:sldIdLst>
    <p:sldId id="256" r:id="rId65"/>
    <p:sldId id="257" r:id="rId66"/>
    <p:sldId id="258" r:id="rId67"/>
    <p:sldId id="259" r:id="rId68"/>
    <p:sldId id="260" r:id="rId69"/>
    <p:sldId id="261" r:id="rId70"/>
    <p:sldId id="262" r:id="rId71"/>
    <p:sldId id="263" r:id="rId72"/>
    <p:sldId id="264" r:id="rId73"/>
    <p:sldId id="265" r:id="rId74"/>
    <p:sldId id="266" r:id="rId75"/>
    <p:sldId id="267" r:id="rId76"/>
    <p:sldId id="268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" Target="slides/slide1.xml"/><Relationship Id="rId66" Type="http://schemas.openxmlformats.org/officeDocument/2006/relationships/slide" Target="slides/slide2.xml"/><Relationship Id="rId67" Type="http://schemas.openxmlformats.org/officeDocument/2006/relationships/slide" Target="slides/slide3.xml"/><Relationship Id="rId68" Type="http://schemas.openxmlformats.org/officeDocument/2006/relationships/slide" Target="slides/slide4.xml"/><Relationship Id="rId69" Type="http://schemas.openxmlformats.org/officeDocument/2006/relationships/slide" Target="slides/slide5.xml"/><Relationship Id="rId70" Type="http://schemas.openxmlformats.org/officeDocument/2006/relationships/slide" Target="slides/slide6.xml"/><Relationship Id="rId71" Type="http://schemas.openxmlformats.org/officeDocument/2006/relationships/slide" Target="slides/slide7.xml"/><Relationship Id="rId72" Type="http://schemas.openxmlformats.org/officeDocument/2006/relationships/slide" Target="slides/slide8.xml"/><Relationship Id="rId73" Type="http://schemas.openxmlformats.org/officeDocument/2006/relationships/slide" Target="slides/slide9.xml"/><Relationship Id="rId74" Type="http://schemas.openxmlformats.org/officeDocument/2006/relationships/slide" Target="slides/slide10.xml"/><Relationship Id="rId75" Type="http://schemas.openxmlformats.org/officeDocument/2006/relationships/slide" Target="slides/slide11.xml"/><Relationship Id="rId76" Type="http://schemas.openxmlformats.org/officeDocument/2006/relationships/slide" Target="slides/slide12.xml"/><Relationship Id="rId77" Type="http://schemas.openxmlformats.org/officeDocument/2006/relationships/slide" Target="slides/slide13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34AB-16BA-4CFE-B628-E4DEFC62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3F1F-5DDD-42A4-9E3D-B78C39FC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F07CE-C483-4964-A8DB-0C4DB2E2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14467-7B8A-4709-9A6A-CFD41EE6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161D95-A814-4EF5-A480-E5CF5734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77BEA-8284-4A33-83A3-D0D83D31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4397C-F84B-4147-BD7A-C43F5A5D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2C760-CC85-40D0-807C-323499A3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5B7CC-CAA9-49CE-8A9C-C2290B7A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669B8-6952-42C5-A541-619B28357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D5EF8-A557-4226-A23D-633A71E85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6B0CD-FEF2-4695-986C-29BF4B69B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99E6-C3C3-4F45-8447-1F73EEB00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01297D-3AF0-441C-B28B-5C5B6386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59FCB-EFE6-4F4D-8B47-858C276E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493DD3-0874-4995-A3CA-8028B558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3B9070-2508-4511-95B7-FE717477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7CC84B-3C8F-427B-BF6C-C1335FD8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D645C-A71F-43C7-A395-BF39081A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ECB79E-90A2-43CE-8805-86183490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8267B-DF35-4E42-B499-EF48E474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32B131-EFC0-4BC5-9287-3DD65D5A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C6A6E7-42FB-43DC-8786-6F2FA926E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65CC-174E-48DB-891E-E178A40F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8593A-8D75-44D2-BAE1-878C3B7DB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1F02A-080B-4F58-AE4E-D0E0ADD59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7E3E7-5E69-400C-93CA-006F1019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C5041-69B9-4B43-B595-5EEE712C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DD2233-7C30-4E5A-B5C7-78F03E4A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85265-183C-4DAC-9F4E-F7F963BB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C04B3-E987-4CD9-AD36-8DD5AB30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11BC0-2B80-435E-88AF-9516747B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C076F-7857-4F97-83E8-53B7B4E4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8C246-603C-4D31-BD51-9BF3FFFD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C8C6-73DA-40A0-BC9F-BE1EB6090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63C2A-80D5-442F-B075-B25BE50F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2C715-8A36-4615-8C0B-6C7614196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52FBB-A921-403C-91B3-4173ED2D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AE9792-3673-4EF8-A6BC-156F09E05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6967C3-EB0D-4126-BC16-DCF53059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6BE733-245B-4401-9FF1-FE96AE9C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AB828A-E745-414C-A31C-FB209556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EA7376-F286-41ED-BB6F-29FC4AE1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319D99-D1FC-4EDA-89D0-1CD8026D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BB7DDF-308C-4C58-BA32-6A74933F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7F77-36B1-45E8-AA3D-A4BAC231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8F6986-8FBA-4911-97DB-F74B644C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2E43C9-B382-4C81-BB83-D18F75A0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D641A9-C911-4CB0-A861-BF127528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8182E6-019A-4FF5-AC76-7C7C48B11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BF9CF9-012F-4161-9771-E1C122E9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521CC0-C50E-4DEF-9D7C-31084D88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C7E2F5-310B-4CCB-B7DE-CF11C40E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E0D0BD-A80A-41D8-98CF-2CBFC3D9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E61A2C-1F2B-4162-AE14-B86D42B5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89FA23-22A3-4DE4-A391-062788B5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EE60-EAB8-4105-9B99-FF57ABCB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4B0BD5-5A03-4CD6-B465-CA9E1F45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975358-E9A7-4284-BFDC-AF92DB78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441114-C989-4DA7-B8DD-A9F9BC8F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F4A821-3C2C-47AA-8952-9EFDA726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773F9E-75CF-4018-A392-EDC290B5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34EAFE-B258-4A52-9113-95017A2AE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95DDDE-6035-4977-85F6-B7A8E388D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323328-2350-43FB-A34B-56C2A59B6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1436F7-8957-44D9-8827-4B9D3C0B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8D04CC-E36C-4325-946B-99B8D899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19FA-8917-448B-8E2E-86B5A83E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40F52A-BAC0-4C44-972C-5E81A206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8DCF2B-7118-454E-B8E5-A0769A97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BD7DAD-9EF5-4905-A014-5E651761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FDB3EB-E623-4EF5-B444-CB84A00B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466272-80DA-47E1-BFA4-F3D7B020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61D7B6-4BAC-43B2-B4F7-D48CBC6F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E15992-0DA8-4B7B-AB9A-A91A7F03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06D976-69C3-4B4E-9108-53AF48096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479564-DADF-4084-A075-58E861B5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F80A39-B295-4B99-AB25-3E5A6362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C6F4-E046-4D71-B1D5-53997072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245B9F-139B-4AE1-97E8-71480D3B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35638C-1479-409B-A1E7-491803E8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A34055-D968-4338-B3AE-C9C6EE76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17FACD-5146-490A-AC26-EB3FC93D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894806-84B7-4439-852E-7352CA59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9E863E-5A1D-4E4B-9F45-A4DFEC1A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29BD5A-4DFE-44DC-96D1-562682A1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6A1EE2-4479-4E60-B69D-BD99526F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029E58-065E-4347-BB11-B68AADDF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3741DE-D0FF-441C-81D1-2D7B231BA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69CE-FBFE-46C7-8F61-FA1AB7BB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8B7B9F-09C1-4E08-87DC-6288821F3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6AC5BB-317B-493F-A5A5-99AD133C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F028E0-FD9B-4F9B-AF06-C30C1292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9FC50E-C256-4696-81CB-E551C1CE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8A1410-1031-4A2F-A73F-4272C9BC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3F8CDB-52AC-4416-9314-C533895D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0A9C8F-CFB9-495B-8259-7C81B056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E1A5FF-2D8B-4577-86EA-D714E7A0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BCA0BC-7739-4C2A-A117-E8A6CDFB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AB96DC-15EF-4D7D-A200-7E0840F6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A21B-2E3D-43B4-94B3-E4F2C151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177DAD-EDC3-4A6C-A77D-798947E4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BF4CBF-6EFB-41F3-8E04-AAAEDD12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D76100-7989-4739-BB25-307BD3D6B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F4790A-C38A-405C-BFA4-F21CE141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7F4B4A-236E-492A-8EA1-92F2D61C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DA36F8-42D5-4E76-91F3-E19B1D65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8AF91A-CC6B-4818-87A7-2B574A9A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1D852E-3EA6-494C-9781-13A13441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1F1001-A6C0-4CE3-9FE0-854CC5B8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D5D4A3-AAFA-4BFA-8665-EA1B50B9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19A9-46E6-4273-8DA4-8E8BDD4E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963E-603F-4F11-A007-C437167C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6EE539-5927-4C9B-B07A-EDD4E75B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8E917C-6400-4B8C-96BD-19A5EC67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867C21-65DE-43F9-852C-F50EED93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CB5532-4C27-4E0A-AEF5-F4D4C05D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FA85EC-8981-4DAD-AF38-A880404DE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30F54C-5F11-476D-81D4-589163EFD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79F945-F533-45DE-8637-A04480EE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5AD6C8-AE6C-4C80-B93F-C8F7DE34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092A35-C6CF-4FD4-A69F-00960DB4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88666E-5AEF-4921-B3C6-145A72F6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2EB5-EE59-4309-BD66-25313441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89A5C2-64E4-43CC-8E60-32FA1986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4636FD-0915-4BB5-9397-8214C501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48489C-65CF-4E25-97AD-3DA5B2B2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8B216B-E32F-49BB-B0D7-BAB40424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C68B5E-FF68-403A-B2C1-34DAF86E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ED6305-5153-4205-9EC2-99F9ADA9D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846046-93BD-40FE-9420-05BECBC81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48A0FC-E054-40C4-B373-04A2ED64B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896A59-A130-4AB7-B8B3-F16C3257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49600B-3887-4BE5-96CA-BD260701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4BA1-2520-48CC-A2FE-2F0C723C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F27CEA-EFBE-4ABB-9955-50FD838A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A70067-D207-492B-9696-3DE5C1F8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D4135E-1E6C-4F5E-85D6-B85DB643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5743A2-5399-4F2E-81E6-3DA63BBA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B2F0C0-0617-4CC2-A695-B4C38028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852803-E8CB-4EEF-ADD6-1A7B6A85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974EBC-69CA-4A1F-BDA8-022BA997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593CFC-BDF7-4AD0-8F5A-F5108F757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DC4733-FAFC-49FB-A085-2CBC317F9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8FAB08-A31E-46B8-8BD8-185D639A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DD5F-BBF5-4D45-AB3F-773697660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97F051-19A8-490F-88A8-ABC7C23A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699289-460E-4B08-8723-5F4F7BB9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9BB637-885E-405E-97FD-650C75BD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C929F8-7595-47AC-9939-1BB7956B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F8F06A-3610-4195-B253-02629437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A01981-D346-43BF-BB8F-0FD01C0F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1B1CC6-6AB0-43AB-8472-B512B872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EF6440-6C67-47F7-96E0-DEF5DAEB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1719F9-FC95-4FDA-95BB-CB60151F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1BAD41-DBAE-4B8D-846B-4C36FFEE2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AD80-F8D6-4927-A437-5452D07E8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464243-028E-4C8A-8868-CC8722B0C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B1F236-D98F-487F-9F6C-BE543300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2609D8-55E5-43CF-8E09-0F002D80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FE8EEF-E417-4BB3-863C-0E3C2880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0C8EEF-310D-4CED-A300-EDD5252F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6B06CC-B3B4-4BC2-88A4-4E3D0AB5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D853AF-70E0-4AE7-9C45-52C8F0A4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992C4A-6468-415F-A58F-3A697081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031BC5-E68F-44F5-A642-4A01BF22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7FB022-1340-43E7-B723-6450BDAC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54F10-68C0-4C51-9ACD-F79DF3F17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A6D094-B588-4D30-BDB0-EE0C9318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61E0A7-A9D1-4B33-9DFC-F81B464A6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036FFE-1D00-41EE-B911-80A4B2322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6DA4A8-F3CA-4261-8B61-7674736CE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E75221-7B6E-402F-8364-1A5A1313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E8C57E-4B81-4DE7-9F10-F69FA0D4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422616-A4EA-4C1B-9EAA-57001430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D1F92A-3045-421D-A579-069BDA20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1F0041-4192-4ED8-AE14-35A239F3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319DDE-DB0B-49B9-A8A2-C85226EE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B4379-AC98-4240-81B6-9BED5869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250F65-21A2-4370-BCDA-DA382FE3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97E5FC-6417-4351-9E56-3C072361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F7C795-1DAA-4199-BD71-F7CAEDC6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9E89FC-4457-4FD9-AD32-28CD2BA98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3AAF65-A637-474D-9B4A-5D022253C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DE3FF2-8D09-42C8-99DC-B662C61D6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A2D84F-4004-41A6-96A5-16074445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DA1D85-10F8-48D1-B9A1-A0B793DB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3E5DBA-8D17-420A-BA6B-BEDFD3C5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AF4E0D-3A21-49FF-8657-5C04F248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5667D-D834-4883-8532-0EE89899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BDC4FA-E2FE-4041-9D84-D9F9D34E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5E577F-414F-4254-8323-8FEF6BE2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770920-91D7-457F-87B2-9D5AFFCC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473D97-E05F-4967-B09C-3274FCBC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1511D1-0906-4551-8E2A-C1F86FEF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CAD61F-FE60-4A17-9F76-DAED56C93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88070A-9121-4F87-991D-102A6C2C9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E149BD-8051-40BB-8F95-A7310E6FE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9D4933-707C-4D64-B286-A54A6798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31A04D-7BE5-4626-A0F6-BB69D90D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A2788-3A45-46BA-86E5-058453EC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02A75F-1AB0-43DB-B0A6-98229213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CF8A3E-179A-4F21-9E1F-141F7806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1666BD-642F-4081-B469-4BAF8947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7FB202-A7CB-4839-8828-115B355F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1ACAA45-73AD-4A22-A9F6-0F182187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513CBB-6089-4B5E-96D0-6A03CA73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26AFFD-7C93-4445-8776-83377C7D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E64F95-DE9B-482D-A2AA-E3EC9795C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79543F-281C-4E80-91FC-63CA8D800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79F187-7D37-437C-9212-19A6E1289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ACF28-E7B4-4DB9-895F-D51287EF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23307A-68EB-41E2-9619-1171AB82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A03CE7-78F2-4BED-BA9B-3AC308F5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738534-48CE-4DC0-AB94-3C2B8043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2755DC6-5FF4-4DAB-A775-01EB6C18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3858CEB-D0E8-4638-B738-1541474E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E10566D-1A86-4CFB-9C02-012AF245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36CCE33-DB34-4AC6-AD58-FA1A32F1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81216E8-D4D0-4635-8486-D85E8673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4A9F76-FBCD-43C0-BACD-32EE1F88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321C37-0E78-4013-BA94-0941929F8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D5F0-7988-4FAC-890C-2A14A39D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CE1E1-97A7-4C33-855B-170BDAA2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2EDB17-B641-4031-946F-5F5CB3E58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FFC98C8-2146-4242-87E8-D96F90E1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4DA8DE0-C598-4212-BA61-DFB42833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8EE6D20-F10D-4F75-A293-189C2426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2A6C03D-7E04-4BA0-9346-7F2968B8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69122C6-461E-410A-B74C-B34AB19E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0A20E4-2188-4E20-84B0-A122EBAA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E6F986-1EF1-415C-B86F-53023102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5ADC965-9064-41D3-8470-CE79E987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83596E5-23EB-4F0E-9CAC-D838FB4D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B909B-E832-458C-977A-2F891B96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C4F6875-9A1C-4A26-90B2-3C7AB3FB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F0C318D-A064-4FF4-9C98-CBD4E1131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C3CEE7E-44E7-458D-9FCD-A903D98EF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AB5890B-40A1-4D05-A315-CDD70257B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90C6C87-FBB6-4E18-90CD-9555CC22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73EFB1F-EFA1-4E7D-BBF1-918096D1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A332D7E-699A-463D-847D-23929288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613BE8F-A535-406A-B410-003CE903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5CB3EB-CB0E-47DE-A307-64526094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38B84F7-4213-4E93-80D6-AC801C48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D07F8-783F-499F-AA12-8A9693E9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65E776-E1CE-4531-90E2-10AAFD32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6FF3D8B-23BB-4412-8AA9-01EBC1CE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DC5894F-2DA4-49EF-8B48-DB1486C3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9B2A800-C316-4BD0-B65A-19B64F16C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3609400-C726-4EF9-9DF6-A463DDFB4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5308581-01C1-4BB6-B8BD-7F9253B6B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654CB12-3CA3-4594-B619-D4EB1BB4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B964BDA-EA30-4F68-BEEC-904B8390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7110099-72EE-46CC-93C6-992E22A7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F11B723-D0F0-4C69-9E6F-28E3539E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A60F4-34DB-4D6F-8D18-4E10DA42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21C208C-443B-4251-BECC-7BD44D42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DCBD4B3-841A-4680-A210-416EAE5E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82041F7-0594-4310-9950-E9935A84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8E96E6A-833E-4772-81F5-38157B57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08BA929-4F70-4E53-AB62-14D39ABE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48FA03C-0367-49B6-84D9-A27886D77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7635B60-019D-4C9A-A894-5CBF47890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A51F3CB-F383-4098-BA88-30FBB31DE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1412D90-ADE8-47B4-934C-7BC890D2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9D02E3C-EB67-4B3E-BBE3-28EBC114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B7DA0-18DE-4122-AD9E-3F7422EF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535F535-438A-463B-B162-6005D72F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042A777-2F27-413E-9AC3-F8708CFA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F9C9B2C-DE93-4C95-BB1D-2B476D41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AE49D2C-FCFB-4E80-B4D0-35E97376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E11A334-8F20-469D-8938-7D8FB956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02B95CB-F55C-4713-9904-4E8C33D3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FA7B3A9-5057-456C-B7CD-007A7A29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65C2BB2-13AF-48DB-9CFB-0E0986FFB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76B3761-3803-4762-BB14-12069C972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2822D7C-EC29-4D95-97BE-F7E871A19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93AFF-D25E-4DC1-BBDA-9323A6CB5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9760736-5C7D-4249-8FBC-FE53AC3D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10BFBC0-B170-46BB-A3D7-4F367553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9FE4406-2060-4745-8484-1D802360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7AF40CF-BC22-4D5C-BFEA-4F8B0AE8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F7AED2D-93CA-4E1F-A96B-4893059D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AFDD9BF-85DC-4A60-B049-455250DA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5355694-C688-47E6-B5A6-8F08BF7E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CEE83F8-2339-47F6-9CAA-0706E7D5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700E223-527B-4408-90F4-194EA37D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C41085C-50F0-4A1F-ACFB-842676F7C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AE96A-770A-4991-94DB-373236189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82A7155-8C71-4896-8360-602B99F55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F322BE2-3105-4DD1-BAA7-6299D8CA8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7408EEA-5BCC-4703-A160-BAA87E35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D1775FE-3E6B-4A53-8730-0C7DC1EC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6E3F6CC-F5A3-4019-81CC-C41B903F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EE15951-F6BC-4303-BB58-1C5F2823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5130A83-6C8C-4E69-BCB0-9515BF69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F906CAD-73FE-42DC-B268-98B65761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9510E34-8376-4870-9F93-4FE1B95C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46A81BA-B855-4AB8-B04B-64D1760E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FBFC3-C5DC-47ED-8566-51340762D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B0E6E4E-DB90-4A03-9273-33D64A75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A7EE18D-2561-4606-9D36-CD8365FFD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D41F663-F4A1-4F62-9AA8-3AAC9637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73E039A-289C-4EBD-B4B2-9F453DF4F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AC00D4E-F848-4698-8340-033C208A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61D6E94-80CF-4F1D-9EE5-0C56CBB0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65E1300-26BF-4E10-AB9B-970CC802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2DF1981-9B32-4F0B-96DC-E302FBF6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3544A54-2EEB-4D94-9079-80E39619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0992603-0DC0-42CA-AE45-93D16AF2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225AF-76AB-4AD3-9FDF-57E19FB0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E4F5FB3-17E0-4820-9E86-BF063213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4A35A6D-BF2B-4AFE-BAAB-05CC36FB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D6DDCFC-21BE-44F9-B0E8-67427696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54DE1E3-D222-45C8-8D9C-C29D35F0E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F04B050-8D43-4FCB-BA43-EB0A07EF1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D32CE42-8E65-4588-B74B-EC771366D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81E94EE-2546-4CC9-8E76-B1FAC8C1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698A235-B76D-45DA-A986-57BF4117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1E2B11B-06DB-4310-8755-9FBC071E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ED1700D-AD7F-45D3-87D8-87039FDF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42635-3873-4535-BE77-A338864E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8A7CA89-9834-4028-9D10-9A82B8D2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E4FE1E9-7EBF-4460-8378-A5CEE267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F451A3A-E114-4AC7-B404-CC84DDF1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7452774-D504-4531-A038-A102BDAB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6A02F2E-B83E-4AF4-AA55-68E6546E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BCD8EE3-7D19-4CEA-BE16-38EE541D7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B01CDC2-3CA1-4800-B89C-D40B911F5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83DC5EC-07B7-43D7-8317-FAB0538E1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4C39D63-9733-4146-B9F2-880C2C5E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418BFAF-FBDE-4BD0-8883-5FAFC616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76FB-3CA3-407C-BC9E-F1AC4F18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403F6-8D98-4D38-B6DD-4ADCB5F0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9C0F731-F6B7-4BEF-B01C-A8BABE31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B13BD74-BD10-4E7C-96F7-C1BA7444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1EEA67A-C5B1-421E-8AE8-932316AF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3C9E20E-E9B6-469F-9776-2575B28D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34B5519-23B8-4D8A-9B7B-2B798542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070D245-367A-41BD-BAA8-F239B4D7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9AEEBE1-7A3E-46DE-AA8B-8F82ED34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D486C38-4516-489B-97F0-ACB85DFF5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6DF6721-D8CC-4A01-8120-CE58D68B6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1E41C22-7E6C-4F6C-99BB-C07412104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C6027-D317-4E15-A9A8-B2F0A4A5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E814908-F34E-44BD-BDA8-76FD4D18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F28BD9A-061E-448B-9145-1C283593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29FAE4F-E40B-4F75-B203-A0AC27A6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7D1557D-B359-4ADC-915A-3B8B9B55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14CFE20-56A1-449B-B913-A1B9CF66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2EFD6F7-1B95-4E7A-ACBE-DDBB2F7D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C8F757C-6BF5-47E9-9496-C3438C27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EBE42A3-9F3E-4E1D-939D-C58558AB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44A4F50-7AB2-4A40-BA56-05ADAB4F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BA8A668-09DA-451B-83BF-CACCFDE7E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AF40D-9BB8-4BBD-8519-1E7D1D8E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06E67AC-420E-4F55-BF12-E2AD43F1A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0E9DF26-77CA-426D-A16B-8F2505667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10C820D-E134-44F9-8CB6-4103FB19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A9D903B-1AB1-4F24-8387-9A40497B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BC544FA-8ACC-452F-A6EB-A15182B5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BE5AADA-905E-4403-B4D5-F259D6C8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866E773-55F1-4EE1-9CE9-0557961A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8BD747C-301B-4B99-B383-9F58D65B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FC8C8BA-03BA-4A01-8ABD-6CDEACCE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42BF371-6D55-4301-B832-EABB1D00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CD956-AAD1-4D8B-A545-50F3C53A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13974EB-DA24-4DFF-82D4-92C3218E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578FAA7-0924-4767-BE7A-C98757D93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6D2D5EB-078D-4416-BC29-AF557F92F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1C185BE-38C5-4630-BF49-8A725A776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D7008EA-573A-4089-9CBD-0A395597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F1AD752-5334-4F57-B7E2-365D5EA9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6D0DE53-D448-4CB3-950E-37F78C82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4DFCB19-9188-4E26-A508-BDEE6A7C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2B87367-8D4C-4770-AD4B-0D46F129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3FB749A-5BE6-43AA-800B-3569A46C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F9F55-5CAC-434E-9837-6CC82DD5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7BD190B-0D08-4CD8-8148-BD2E822C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EF5591D-999A-4BD0-B233-F559492C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37A039F-2CCF-4235-B48C-7C898A80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7E851DA-0DB6-4416-85AE-B93A324F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7C6F9B8-7477-4145-B744-CA741D6B7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6230664-2620-4506-8BED-8B8C25890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B424A71-B9A2-40FA-B783-D12063E8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7EA8326-8F60-433E-9C4E-75F8F763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4448ED5-68CE-464E-9ED0-9686127D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FCD2E1E-A183-42B2-B4CC-4D0E25E1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EA361-37F6-4562-8599-838A1E6A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DC07762-5871-40F3-860C-C0743C09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C3DD09E-8EC1-4091-8725-3B6C43E9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404E597-D595-4708-B7A4-E784BC4B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55969E1-6D2D-455A-B76F-1AE6718F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7DB667E-056E-460D-9B19-E168DCBF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7C83CD5-63DA-4C1B-829F-CE10391AB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BE3AB84-8CD3-4612-9681-B3CAEBB0C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5A18FA0-132B-4128-BAC6-1E7E37A16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F743D81-0A2B-42CC-A88A-DB628B91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9E90ACC-AFBF-4BF4-93EB-6E24D16D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FCE11-2077-4B1A-942C-65A35483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4D321D3-F45D-46D2-8581-6A7B6174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D7BA040-E5BC-4875-94E2-02A201DB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FCF2806-F906-46EA-98E0-7341F439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80E7647-D860-42B9-99D7-ED6EB2FC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278F813-DC41-484F-9A6F-505BE781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A52BC25-F8AA-469F-9B09-DE288CFE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39EFBF6-1708-4CEF-A795-8CA2C187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7E70D63-B22D-4CA9-84EE-9DB569CCD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05B5625-9ED7-4F82-A7D8-26FCB127A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76E387E-0C13-4FFB-8F1F-DED328B58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964D4-8A27-43CD-8806-C17F01092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8BA074F-E1D1-450C-8825-184A42D9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A38BF6C-6488-44C6-877E-8AE4F3E2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38BBEB2-B6E0-48B3-8D24-ABB2C553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0E71B78-500A-4FEB-8713-5B995814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63F0C83-5284-43E6-AB87-0DF8753B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BCAFA6B-67A7-47EC-9EC8-ABFF92B9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6844A9A-9A34-47CC-A9EA-20CB5F5B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82313D8-0B7A-445D-B475-AF6012D7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7829E02-5E5E-4607-9E2C-775E7842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ACCBD36-6C00-4D19-A982-A0EA7C00D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606FE-0A16-40D7-97E3-AD0041328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C817BC5-30EE-41AA-B7DE-C1223F3B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CBBA2B2-6E8C-4CF6-8D82-E845713C9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7D8133A-E622-4BC6-9231-FE2DBDBD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8E05774-1B3A-413A-BB47-12BA9B72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7FB4F35-F683-45B5-8A6C-FF769E03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9F9A3BD-CB25-4096-B48E-29171E33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2806DB2-63B6-45DF-AD77-1CFD1267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1BD20DB-029E-461D-AB65-CF3857BA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2BE36D3-3163-41B6-B575-D43A0933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DEE1C3A-FC5A-4781-9D51-CB218B5D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75661-E39A-4F28-A8B0-CFC73FEFE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D6BA391-1958-4277-953F-4CDD8751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070044C-DB57-43F0-B564-84EB15B82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87A78B5-8D99-43E9-A0D4-F24374004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9D81613-D478-469F-A2F8-96F342C56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4CA86CF-C5F8-499B-AA7B-F56F989D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17D84B7-178B-4859-BDC5-A37FDD79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65D7023-3CCC-443B-8994-6DA7FE35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882E4FE-FEDC-4352-9585-0DC19DB5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E875EC3-F994-4D46-BE56-DB1548F6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394CD10-8A8E-425F-815F-4E00A1A5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5B99-233C-475F-B223-D201AAC5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71BD9-B156-40A1-9970-35B1FD01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A1D4841-6765-4A25-87FD-AAD1CB60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7C8F9B8-2F24-41BF-B42C-478EF4EA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E90F318-FC1C-46ED-B8DD-315BB30B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E49091A-80AA-47AA-8D83-3DFED6430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41B1A2C-DD08-4EAC-928C-04C72701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BD5259E-CB2A-40DD-9637-E4F307993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EEF842E-09B9-45F5-8F9E-05D44B99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45DF599-25C2-4E26-AF54-DB3C7A1F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FC4161A-90AE-4815-8A02-0AA2C776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5CBE5AB-8DD5-4781-8D93-197AAE7C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41DD1-B0B1-4BED-B274-7F1DE2DD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C3878B9-832A-43B6-84E9-56CF894D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A308B8F-1B50-4C94-8984-603F0223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CC9C2A5-EE0F-4A5B-AEB3-D9D497DC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33B56B9-A241-4778-8A4D-86B55DD9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1E07A13-F347-489C-9941-7FDBDDB7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9ED973A-46ED-4D7C-B8D6-FEDD5CE0C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E9080B2-E112-48AB-AC5A-12EE505DD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79D5CE4-4EE7-4CDC-BAAF-68392436D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4714B3D-875F-45D9-A34D-22E06EFA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E8A5AFE-FD15-47BD-92CF-3597944C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F000D-DDFA-4A23-8116-2E689A2C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5B0640D-949A-4C85-9FE2-A8F56645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B10BEA2-26E9-4912-B11E-8689EFE7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B03A0BC-97EC-4399-A1E9-17D2E25D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A5B3C59-6D29-40D6-AEA0-423E91E8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95607A7-D0ED-4201-BD05-51D14F3D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3F9F20E-B0C2-4F63-8953-85BC7AD2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38D9C95-A71E-4B88-812B-BBB09DA5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37467C2-3379-4D5E-B11D-307BCF87B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3458806-47F0-4589-BAE5-E6F2F305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94A57DA-E9AA-4B8A-AFEB-718C97990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0E883-81DB-4CD5-8683-29376D5C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3E7075A-706B-4A80-8680-4DB5A8A3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D583042-38C8-47D7-9B0F-62BA46F1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FABD53E-D2D7-4848-9C4C-BFDF84D1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06C6FD8-DB1E-4149-903E-6306EABB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F28ED0B-44AE-48B8-85E6-8489B0D7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CA97BC0-668A-45B9-9705-9F28C146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B5AD830-81FA-4FFE-A5A2-0384ACD3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84BBC86-8057-4311-BFCC-C70714A4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6582C9F-C3D0-4AF5-8767-6F02111F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F4485AE-A9DC-4077-97A7-84AA14E4F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1D7A8-5AAF-4004-8FEF-F4717AED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F274D8E-E4A6-4698-B728-4C04B6581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A409C1B-B35C-490F-ACB8-7642E9C06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2E1C050-2F40-4B62-9D97-68D83D56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A6D7EC7-A0E9-4032-8069-11FB074B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E487919-ECFA-43DE-B375-7E6162ED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B5B00F8-127D-4D1D-9DE3-FBF331A1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6CBA76C-781D-45F5-B3D2-EED9203E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54EDCED-EA20-4F38-A824-4E9DA965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1AA51D3-DDF3-4C0F-8E41-8F9D81FD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0E3654E-F127-414E-B451-8588F004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9806A-D5E8-4A5D-A472-12C8087E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01C019E-2E78-48C2-BB0B-49739E7C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EE1D0EE-4E4E-486D-A595-856101448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EC110E5-6A3E-4DEF-80C9-265781ADB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73AB430-3E1F-4EEE-B1FF-7E9A827DD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566B1D7-4313-4BD6-8543-4FE74954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4C6A527-626A-406C-AD2B-BE5364B5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E84DF6B-237E-4DAF-8666-2696F712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C44C0D2-02FB-44CE-9E6F-D89ABC2C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A9550BD-EE0D-40E2-91BC-B63BEF0F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B02F6FF-667B-4E13-89FB-8E714798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28514-AEBF-4E8D-A49E-FD8177D4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2AA566C-D7E4-49A9-BFFB-7B73CAD4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CD8D825-9D0F-4997-83DF-10852696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84C1ECA-BC4B-494C-8CC2-12807A4D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90C06E9-D88A-4CD0-ACB5-AC751BCB7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0C59887-DCD6-4151-A14D-342D3B355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ED2C428-665D-4CB8-AC80-AB063618C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D10CA21-45DD-481B-B92C-7DA84AAF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2A6DE9D-93BC-4DA2-A990-48B4F209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038C218-F905-4BCE-93F0-5D8BA7C6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72735D9-DABA-4F9C-A1FA-2FE393B4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0B38F-4474-4E4E-90B5-2B6BA2DB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0A6AFDC-2ED4-4967-923B-D98A763E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326B0D0-3CD7-48C2-95EA-EDBFE45C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22C4D6E-7F55-4F87-8204-9D6072AB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0C691BC-E164-4278-A355-D4F28F29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6FB5959-2F73-48BE-AA56-488C441A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FB12802-E919-45ED-8DA3-F16664157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CFA2826-3AA9-414F-A211-E40928B52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95067E8-5B2F-4031-B824-8901C175E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1DBF59E-B602-48C7-BC3F-50809221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B7ED034-D50E-44F5-AC1D-CDAF6FFA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CB0ED-5CFD-42FE-8932-3F37062F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65EAD82-593F-40C7-B8D3-440E3B7E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AD56C1B-ED3E-4EF1-9A1A-81757D92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BE039E4-362F-43DD-840E-36B1E0E7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79CB7EB-7E1E-4168-B1C0-3D448756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5BE3D23-ADB2-4FA6-8689-AF34A8F7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57CF1B8-13AC-43F6-81AF-039F5380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F110750-92D8-43B4-BE1D-F2A452EA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28616FC-8946-4E8C-95A5-E8603631C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D6DFD84-C6A0-4FF5-B262-8ECC72F54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8B241F7-49D4-4CA2-9999-624227A58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2F22D-82DE-4C22-8F3F-279AB84CF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E2A9F87-C9AD-4B36-AD0C-E4E02C6D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CD794F2-1696-47A3-A173-588E3D57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B3E74ED-21C2-40E7-A7F4-FC32E51F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7B653D3-882F-4BE0-9EC9-1DBBB581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4E6D8D3-EB1D-43E6-9815-9836FB68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D669316-E23F-48CB-853F-D5031820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240075A-6AAB-48FF-A86B-ADC4E9BF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F91DF12-6B94-4C24-8B63-D9AD8B1E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19EEED5-D698-467D-8A83-26E61E4C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0A497F0-9C00-4052-AB3D-FD01A4474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FA1B-73FF-4D0A-8CE2-94F7F8B4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39A78-A102-4E7B-B396-034033FC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38EC61F-3254-4A2B-896B-CF170DC06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DF22AE3-5C0B-4DC9-A154-08FF373EF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BE84D40-5B92-42D0-BB09-DB5EC2A0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C6961AB-9004-4976-A4B3-8A12A1E0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EC92CDF-487F-4A04-B701-28768654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2CE4CF8-C2C6-4E17-BD87-0143A29E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E7CDAD0-0363-4E8D-8EE3-610A91F1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A2F58B0-7035-4B96-92FE-C3D05BCB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1757FA9-FF57-4F5C-8A25-8185309F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373C711-D03A-4328-8BA6-953D4C9E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1A407-DF43-4DD7-AFC6-74046C456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B58A2D4-F38A-4E4B-9DC6-428B378C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BA51470-E611-4BFA-A291-670D708AB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A9751FB-BF20-49D6-8A40-F48C8151F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C77CD17-F8E5-437F-B6C5-B9932AC4C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4E491F1-C686-4E64-ACF8-7D456755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7580EDC-5F55-46E6-9342-BE1B6AB4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F03F699-608A-474E-AAF7-A83B3CAE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4A4C943-EF1F-423C-B911-CF711EF1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CAD23DE-A59D-47CA-8FC3-13EB1584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45A09EF-0CA2-449C-BC30-15E1907A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9A162-2AD4-472E-BF0E-EB62F214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29F7377-2B94-4190-AA03-0DFA9C2C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71D4B22-B2D3-4BA8-82BB-5C0FCAA1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3540DEB-0AA6-4B35-8886-248EF90F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C2706EF-D9CC-48FC-A24A-A3EE74197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372C437-091A-435F-B31F-C4560605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97C6B11-197B-4445-B211-818DFC067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1BAA25C-ABE9-4970-B077-E00BD3D4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F0AD6E2-5AD0-444A-ACCA-081AC727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8D84075-326E-49CE-B208-4D67B608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246B120-C68C-474D-B850-130151B9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FB892-AAB3-4608-80EB-E6219E1B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D84B008-D59C-4809-99FA-2533866E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E55F398-C4BB-474C-A082-12091E0B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FD05993-A78D-4593-B47D-3784D1F9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4041288-1ACF-475A-9B39-65936EE2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61EEC83-8969-403D-82E9-ECBF90FC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0D34EE9-B147-4D52-BE81-F24DAC705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0EB83F1-247D-4AB6-9091-412ACD0E0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8DAA5DD-A2EE-49D0-95C2-DEF907EDB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DC1B227-3D20-4FDC-A7C0-959E40EC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00679B4-7F32-4A25-8FCF-4BFA60E1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63A1D-48D5-406D-B9AB-B9AC869A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4CF09C1-46A7-4023-A2AD-7BECF6B8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CAA03FE-B608-4660-A21B-0A818F24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BC74F53-2066-461C-BDC0-EB35E57C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CED779A-1C72-4436-AA6E-2234167C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78ACC84-DCCF-49C2-8FC5-FE7482C9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73FC6A5-6BDC-4A44-8E22-E9637A06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F27B6D2-6820-47B3-92D7-6452DDB3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C75D02D-A2DF-4AFC-A09E-7E434BF00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74FF889-3B6B-41B8-915B-353D9288A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AD28AAF-AC02-4675-8A49-BA040D244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5320E-4351-478F-9E9B-35CA96D6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3916988-46C5-4BBF-ACFB-77450921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7A30DD3-33DD-47EB-A61C-9CBA6363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3E4D220-F6E5-4D1D-A631-FD3631F6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381C7CC-2721-4BAC-A5FD-975CB16F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36A0F22-4C2A-468C-9F40-AE49475B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111CA6E-4A6A-4428-9FC4-29D1FFF8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CF38591-FC72-4050-959B-D778508C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0B6EC3E-8DB5-40CE-85F9-23342DA5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7A76D18-AF1B-49D9-B89A-25528713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FAD85C6-D4A0-4BC1-B1A9-87A77039D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4DD48-6C2B-4C70-AAEA-682373CF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8FF0920-DA47-4DAE-B67F-2EEC1A437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DB7CD0E-45CC-400D-861F-918570EAF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2E68F67-FF47-4C81-B48C-BA18FF8D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8203CA1-DF74-4BF5-BC72-A4CAF0D9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CB36960-A1DD-4A48-AFE4-80CD62A9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C970B5F-C8FA-474D-9127-712895D6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8294C5A-719E-42C6-8EF4-BAB32232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A76776F-EA28-4BD6-B72E-3977A13C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94E53C8-927E-437D-BDAD-275CB83B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9553EB0-51D2-463A-846C-09E24DBD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4E822-7AE5-4545-A3F3-60065E96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D48D3A4-38A6-481C-9E03-A5463E15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000E971-729F-48CB-9C1B-B3066AC1C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7268F96-D5E0-41AE-BF50-6DC484AE7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8327955-2724-4BA3-BB73-76285BCF4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B8A095A-9CD6-457B-8E91-4915640D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CE97B4C-9933-4237-88EF-1A36FFD8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0E534E1-8486-40D7-AC15-D932FE10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BBF7DF9-91A3-42E2-886E-619BCFB0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15192D4-BC43-4BCD-ABC6-0DC681D9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F58D4AF-6E49-4935-B3D6-F462EDC4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A00E2-82F0-4AF1-B06A-1E546DDC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4171D5E-C243-46EA-96A5-30E07BE5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34A9D85-056C-4556-A02C-EC0951D0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D15D757-0A40-430C-8BEB-BC26896B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320AD0E-6B36-4554-A533-EF5EE7522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221C9D9-46DE-461E-B00B-C248D8A5F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5A76B2D-A1AE-48C8-9008-926CBB454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9BA5FD4-72A4-4C42-A3B0-6CACB2EB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D5761B5-7B26-4D52-AE57-282852F3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DFA291F-74E2-4A10-B2FF-F092C35A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CB2AD25-75E8-4B62-BD18-4D6F0E01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8FDDF-752E-44AD-A240-15CA7B9F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0C80AF8-3415-42A6-861E-F0601F8A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85DAEEC-DDE6-4D7D-876B-F17460DA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448DF3F-58FF-4CCA-A9A0-DC515D2B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C9E225B-BBC6-4437-A958-622697BF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C661B92-78A7-4C2E-8D63-8EB86926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720BB95-67F3-4FC3-B9AC-A25CA713F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D4872CF-B1F6-4D2E-8109-F98D2F8F0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EC3659D-717F-49C9-8338-1DA35632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532F9CF-78E3-456B-9FAA-EC89D0BB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E1A50AF-7253-45E0-90A7-5D0EA0B8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B0C5-769B-4E84-B5CF-656F40E5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337D8-5CDF-4FD7-A48F-53B2B211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BCAAA6B-8908-472F-AC17-F415AE53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C3F8463-518B-400C-982C-23164463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2DECCD0-F145-4D91-BABC-29EE3EDA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97A50CA-7286-4596-AF44-E536B4E4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0FB62D4-1262-4F4C-8B68-2F456A5E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C1F0060-FD9E-4A8D-A9FF-215EDE93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1DCC8BD-AE7B-4008-8AB7-38649BF2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6C70878-3297-4FBD-990B-0B9E565A6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2FC58A7-7382-42A4-9AE4-28309A3D1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FD326E0-EBF8-4EA0-8D68-85F5C7EB0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1F2F8-E047-408B-AF1E-6539BA5C5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6555A58-78A5-43D3-BFA3-203EAE50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E3578D1-547C-4F78-AC9A-5EAFBD44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62E106F-0429-4886-8CC0-B96AB9E4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4622EB8-4FAE-43B9-8CEA-C204CA59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DC9AA52-B8C6-4516-9E15-D128E7E6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CE28F52-B54E-4731-BDE6-C6375E52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C39FF75-72B5-4B6D-BA2D-74E3B42E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DCE5205-5221-4F33-AFA6-940E2EEB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19492A7-F6F2-47CB-981F-8DD8DD92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0ECD6FF-E530-4500-B558-A0E20B5E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5740C-0F85-41BA-9338-A65B31C76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C0B195E-770E-40E2-9E3D-B114A0751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EB15B28-DDFD-48F1-B59A-2C08CB77F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58A1AF9-F50F-4EA0-B9F0-DC93EF23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023B90B-B4F8-4D2F-997E-5F13EBAF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B2AC142-F524-45E4-A941-FA77E3A0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02E0D81-5A26-4352-9594-4CDEE718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183A358-CCAF-4574-B94F-C70573E6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FDB47CE-C6E6-4A33-B5B6-C9E9B21E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FDF948B0-CF3F-4CCF-A05E-35908532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50F9F5A6-9602-4AFF-A3BA-5863EA44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25FD9-3C47-49A6-88C5-C96521DD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C8107121-C0EC-4536-B447-0A983DC6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24141CA-8C44-4800-9A41-97AC942A9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5C7FE2D-F859-4D62-8511-C3F32F649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3A467180-8DE9-4510-AB9A-5C9EECB3A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BBE93ED2-25D0-48DA-AA43-565DD593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AF98F8CC-12A2-497A-B40D-ECE5872E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2EEDB243-49C7-40A9-9B11-C5876F39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F57E3F0-E589-4B1B-816F-E5256F59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6922050E-8F2E-4FF3-9B64-B7B8E72E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F44B12C-DC85-4EA4-ABCA-6CA4931F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843BE-D790-4B7D-9006-1F0CAAD8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EB97B80-104F-4EF4-9124-67870B6C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F646D38-9EBA-4A00-B22C-4B8C4D5D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CC02096-3E0E-4641-8C19-BC90E729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68B3B8A8-D06E-4BDF-A06F-043385F40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1641F7A6-997A-43BE-96A0-FDF46A2B9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F8E17D27-D8EF-45C9-924D-18137C31A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882C3F4E-FA1A-4CE5-9537-250F7987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0DBA27BE-415A-4810-856A-5E4C0115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C0300C25-FE0F-4E11-88DC-F0A86C99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F38E83E8-4D11-44CE-A6BD-7E4DEB01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686C2-47F6-4F2C-8CA2-5D7E3A9A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850AEEA-C3A6-4A19-A57E-0039DAD9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4C73F937-0AF7-45AD-85D9-5521D84D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99A81A17-19C6-4B64-8519-A3529AB0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8467ED55-CB4E-41B6-953F-DB646C02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3B7263A6-764F-4FB4-8FB6-AA2E3FBE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37A16658-D259-46C2-A379-05D60A82C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A5C43790-CC71-4E93-AC3E-F419CDDFC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66164-C8D3-4879-B60C-3839841B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3FB3F-3168-4C75-BBFE-1509C5E6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FAD09-54CE-4469-9496-C76FD161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EB43F-3090-46DB-ADD9-F348B449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B97A-4816-48EE-8689-EFA37B85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FABE4-D0AC-470B-AB3C-9F99D54E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61795-A397-4583-BF8A-53D57B70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F2187-D304-4FB5-BBA4-72179DB1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9918A-C50A-49C8-BD16-52FE3A84F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70B6D-2ADC-4482-B252-5DCF0E552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B6C9D-958B-441C-B394-CFF10B8F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3AC56-EBCB-4A3E-942F-A3CBBDE8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88D3B-A89B-473C-947E-EB80D313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6ED2A-5C31-445A-91EB-FDF2F99D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467A0-B014-4582-A73D-BF40D8E5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7F84-2DEE-4D46-9C4C-E213A998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532E6-5EEA-495D-9260-53D84C2D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496D2-9202-44C8-9062-62ED0EAC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B7FDE-BFB1-4FF0-835A-72898666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0A33E-6A2B-4381-8336-7137CD6E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0D29E-05AC-4378-B80E-595BCAE6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1278A-0969-4975-957A-AA5A892CD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7DB26-9380-45D7-81FF-8D3802746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5D8CC-A339-4906-8EE7-104DC2287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78E15-C7E9-4BB5-BE52-D71D9EA9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D09F8-7E1B-4893-BD63-4B8FE3CC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E5EE-7D76-4C1C-805E-51A42DCD48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C16F-429C-4DB0-BA53-4261A9F50F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8AC4-C8A7-4FA9-A7C2-A7BC8659CF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19B4-4A83-4EF3-81C8-456FE0C02C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7C10-3223-40B6-807C-8678B1E4BF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928C-75B7-41C3-95A3-DA960D5C38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FB98-0FB1-43E4-AB90-C985AFD632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7D55-2A3C-44C8-85DE-68675330CA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A463-C9BC-4446-84DB-6247AFD2F5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80FF-806F-47CC-9221-C5E8EB3953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0844-26EA-452F-892B-9A11BF3E7E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67B6-DB9D-4925-9674-530387DAC1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47FF-4CF0-409C-B796-F99E9252BD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209D-A1E8-49E8-949D-783735F5A1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9695-D74D-487F-A5DF-3ABCE6F5B7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AF67-9AAF-44F1-948F-BB27AAEA02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B4A7-091C-40C8-B80F-205E74858E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0A4C-3E1C-405A-8F8F-413114C947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2890-9347-4B69-A1F5-BBFF58C313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20EC-6E24-4A46-BF9A-3917C29D07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C3AE-2E0D-4D7F-9713-4B758A0A11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67F8-E6B7-47AC-B099-9A7C65E81B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2C50-B101-46AF-9F17-D483121CC4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426E-63DD-4B6D-A8D4-F2B8B6CAE0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57EA-F845-41B7-9B0B-920C411C1C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156E-ACCF-41D2-8401-D1A2104118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C74C-D6E1-4114-8F21-B29C6CA309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A7A9-3959-474E-AB5F-DD63F12429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2F08-F238-4845-BAF5-682DF128BF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1104-2B51-47EF-8F14-33ABD7E506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10FF-DD03-4289-8027-2BDA65D943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0637-1B65-4991-8D3F-28FEDF8566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1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1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20DE-E76F-43B3-866B-C9A89419A1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0733-A1E1-4004-BFF6-CB6D18BED4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1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1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1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F81D-3D6C-434A-BBD0-89FAE24EF6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1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1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832A-A2A6-4899-9A39-1A85221C2B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dt" idx="1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ftr" idx="1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9E4C-623E-4F96-A97B-0E004EAA9C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 type="dt" idx="1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 type="ftr" idx="1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8EC5-F058-4D9D-906A-521E12798B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 type="dt" idx="130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 type="ftr" idx="131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 type="sldNum" idx="13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A59C-80BF-4744-9434-9E267365F3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 type="dt" idx="133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 type="ftr" idx="1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 type="sldNum" idx="13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36A4-5865-4A73-91B8-363CE7A53C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dt" idx="1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ftr" idx="1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6EE5-65DE-46B6-A77F-63910413E8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 type="dt" idx="1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 type="ftr" idx="1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0BE8-EC31-458C-99DC-503A51C15D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 type="dt" idx="1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 type="ftr" idx="1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5D80-6B56-4CC2-9649-DA3A198EF3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ftr" idx="14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CD9A-AE31-432E-BEA5-C09F2B9022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AB70-570E-4B2D-B8BF-E315511DBB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 type="dt" idx="1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 type="ftr" idx="1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 type="sldNum" idx="1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3969-50B4-4113-B052-FC95289B3D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 type="dt" idx="1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 type="ftr" idx="15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54" name="PlaceHolder 5"/>
          <p:cNvSpPr>
            <a:spLocks noGrp="1"/>
          </p:cNvSpPr>
          <p:nvPr>
            <p:ph type="sldNum" idx="15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3BD6-BC9E-4E19-92EB-73373DD3C6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 type="dt" idx="15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 type="ftr" idx="15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 type="sldNum" idx="15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C49B-F99A-4336-AB6B-8A892BE351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 type="dt" idx="15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 type="ftr" idx="15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36" name="PlaceHolder 5"/>
          <p:cNvSpPr>
            <a:spLocks noGrp="1"/>
          </p:cNvSpPr>
          <p:nvPr>
            <p:ph type="sldNum" idx="15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A89A-24C4-427B-BCE9-9C0FF73CEC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dt" idx="16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ftr" idx="16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 type="sldNum" idx="16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AD09-EBE6-40C4-8091-E772BAE2C2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 type="dt" idx="16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 type="ftr" idx="16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 type="sldNum" idx="16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5324-C984-409D-9515-CF83A4D8E7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 type="dt" idx="16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 type="ftr" idx="16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 type="sldNum" idx="16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31E0-CE70-4BA6-922C-1CC5E00950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 type="dt" idx="16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 type="ftr" idx="17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 type="sldNum" idx="17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3BE4-0D5D-41DE-A462-90804CBB44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 type="dt" idx="172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 type="ftr" idx="173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41" name="PlaceHolder 5"/>
          <p:cNvSpPr>
            <a:spLocks noGrp="1"/>
          </p:cNvSpPr>
          <p:nvPr>
            <p:ph type="sldNum" idx="174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BDCE-1019-4B66-AF22-E47AF9AE10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 type="dt" idx="175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 type="ftr" idx="17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 type="sldNum" idx="17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DE14-3DBE-4EA0-A54A-B035B2D089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7383-A68F-4C73-B79D-2CA3309010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dt" idx="178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 type="ftr" idx="179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23" name="PlaceHolder 5"/>
          <p:cNvSpPr>
            <a:spLocks noGrp="1"/>
          </p:cNvSpPr>
          <p:nvPr>
            <p:ph type="sldNum" idx="180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38DD-C5F2-4554-BE08-64145CF364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 type="dt" idx="18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 type="ftr" idx="18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64" name="PlaceHolder 5"/>
          <p:cNvSpPr>
            <a:spLocks noGrp="1"/>
          </p:cNvSpPr>
          <p:nvPr>
            <p:ph type="sldNum" idx="18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820D-4F34-4768-963D-354DC61DD9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 type="dt" idx="184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 type="ftr" idx="18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05" name="PlaceHolder 5"/>
          <p:cNvSpPr>
            <a:spLocks noGrp="1"/>
          </p:cNvSpPr>
          <p:nvPr>
            <p:ph type="sldNum" idx="18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5DDC-96EC-4BF4-A70C-4FAA02D142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 type="dt" idx="187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45" name="PlaceHolder 4"/>
          <p:cNvSpPr>
            <a:spLocks noGrp="1"/>
          </p:cNvSpPr>
          <p:nvPr>
            <p:ph type="ftr" idx="18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46" name="PlaceHolder 5"/>
          <p:cNvSpPr>
            <a:spLocks noGrp="1"/>
          </p:cNvSpPr>
          <p:nvPr>
            <p:ph type="sldNum" idx="18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028A-084C-4192-A991-55B4BC9A4BAB}" type="slidenum">
              <a:rPr b="0" lang="ru-RU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5772-7561-4848-B530-C443E245F9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66A9-8AD1-4E1E-8974-6548EDDCB8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29F0-0137-4C8B-AB8C-C15F4817AF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7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subTitle"/>
          </p:nvPr>
        </p:nvSpPr>
        <p:spPr>
          <a:xfrm>
            <a:off x="285840" y="4785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дготовила: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читель информатики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избиз Ю.А.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584" name="Прямоугольник 3" descr=""/>
          <p:cNvPicPr/>
          <p:nvPr/>
        </p:nvPicPr>
        <p:blipFill>
          <a:blip r:embed="rId1"/>
          <a:stretch/>
        </p:blipFill>
        <p:spPr>
          <a:xfrm>
            <a:off x="176040" y="1504800"/>
            <a:ext cx="8852040" cy="1756080"/>
          </a:xfrm>
          <a:prstGeom prst="rect">
            <a:avLst/>
          </a:prstGeom>
          <a:ln w="0">
            <a:noFill/>
          </a:ln>
        </p:spPr>
      </p:pic>
      <p:pic>
        <p:nvPicPr>
          <p:cNvPr id="2585" name="Прямоугольник 4" descr=""/>
          <p:cNvPicPr/>
          <p:nvPr/>
        </p:nvPicPr>
        <p:blipFill>
          <a:blip r:embed="rId2"/>
          <a:stretch/>
        </p:blipFill>
        <p:spPr>
          <a:xfrm>
            <a:off x="1633680" y="66600"/>
            <a:ext cx="5973480" cy="1281240"/>
          </a:xfrm>
          <a:prstGeom prst="rect">
            <a:avLst/>
          </a:prstGeom>
          <a:ln w="0">
            <a:noFill/>
          </a:ln>
        </p:spPr>
      </p:pic>
      <p:pic>
        <p:nvPicPr>
          <p:cNvPr id="2586" name="Picture 5" descr="C:\Users\Администратор\Desktop\Nokia\f20110330141542-vybor_computera.png"/>
          <p:cNvPicPr/>
          <p:nvPr/>
        </p:nvPicPr>
        <p:blipFill>
          <a:blip r:embed="rId3"/>
          <a:stretch/>
        </p:blipFill>
        <p:spPr>
          <a:xfrm>
            <a:off x="3286080" y="3357720"/>
            <a:ext cx="5126040" cy="31478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"/>
          <p:cNvSpPr txBox="1"/>
          <p:nvPr/>
        </p:nvSpPr>
        <p:spPr>
          <a:xfrm>
            <a:off x="213840" y="1714680"/>
            <a:ext cx="8472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канеры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служат для автоматического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вода текстов и графики 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 компьютер. 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канеры бывают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двух типов: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indent="23976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учные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indent="23976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ланшетные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612" name="Picture 5" descr="C:\Users\Администратор\Desktop\Nokia\scanner.png"/>
          <p:cNvPicPr/>
          <p:nvPr/>
        </p:nvPicPr>
        <p:blipFill>
          <a:blip r:embed="rId1"/>
          <a:stretch/>
        </p:blipFill>
        <p:spPr>
          <a:xfrm>
            <a:off x="3357720" y="2786040"/>
            <a:ext cx="5786280" cy="3929040"/>
          </a:xfrm>
          <a:prstGeom prst="rect">
            <a:avLst/>
          </a:prstGeom>
          <a:ln w="0">
            <a:noFill/>
          </a:ln>
        </p:spPr>
      </p:pic>
      <p:pic>
        <p:nvPicPr>
          <p:cNvPr id="2613" name="Прямоугольник 5" descr=""/>
          <p:cNvPicPr/>
          <p:nvPr/>
        </p:nvPicPr>
        <p:blipFill>
          <a:blip r:embed="rId2"/>
          <a:stretch/>
        </p:blipFill>
        <p:spPr>
          <a:xfrm>
            <a:off x="3139920" y="219240"/>
            <a:ext cx="3187800" cy="11397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одем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или модемная плата служит для связи удалённых компьютеров по телефонной сети. Модем бывает внутренний (установлен внутри системного блока) и внешний (располагается рядом с системным блоком и соединяется с ним при помощи кабеля.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DVB-карта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спутниковая антенна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лужат для так называемого «асинхронного» подключения компьютера к сети Интернет. При наличии DVB-карты и спутниковой антенны для соединения с Интернетом используется два канала связи: для передачи данных от пользователя используется модем, а для приема – спутниковый канал, скорость потока данных в котором в несколько раз превышает модемную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615" name="Прямоугольник 3" descr=""/>
          <p:cNvPicPr/>
          <p:nvPr/>
        </p:nvPicPr>
        <p:blipFill>
          <a:blip r:embed="rId1"/>
          <a:stretch/>
        </p:blipFill>
        <p:spPr>
          <a:xfrm>
            <a:off x="1901880" y="158760"/>
            <a:ext cx="5102280" cy="1152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/>
          </p:nvPr>
        </p:nvSpPr>
        <p:spPr>
          <a:xfrm>
            <a:off x="457200" y="1643040"/>
            <a:ext cx="4400640" cy="48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ля организации на беск-райних Интернета видеокон-ференций (или просто бол-товни) пригодится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Веб-каме-ра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. С помощью этих уст-ройств (и, естественно, быстрых локальных сетей), можно в любой момент уст-роить совещание со своими сотрудниками, не отрывая оных от насиженных рабочих мест. А это, как показывает практика, дает весьма ощу-тимую практическую пользу.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617" name="Picture 5" descr="C:\Users\Администратор\Desktop\Nokia\Untitled-1.png"/>
          <p:cNvPicPr/>
          <p:nvPr/>
        </p:nvPicPr>
        <p:blipFill>
          <a:blip r:embed="rId1"/>
          <a:stretch/>
        </p:blipFill>
        <p:spPr>
          <a:xfrm>
            <a:off x="3714840" y="1643040"/>
            <a:ext cx="5659200" cy="4583160"/>
          </a:xfrm>
          <a:prstGeom prst="rect">
            <a:avLst/>
          </a:prstGeom>
          <a:ln w="0">
            <a:noFill/>
          </a:ln>
        </p:spPr>
      </p:pic>
      <p:pic>
        <p:nvPicPr>
          <p:cNvPr id="2618" name="Прямоугольник 8" descr=""/>
          <p:cNvPicPr/>
          <p:nvPr/>
        </p:nvPicPr>
        <p:blipFill>
          <a:blip r:embed="rId2"/>
          <a:stretch/>
        </p:blipFill>
        <p:spPr>
          <a:xfrm>
            <a:off x="2316240" y="139680"/>
            <a:ext cx="4481280" cy="12128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Что означает «персональный компьютер»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Что такое «базовая конфигурация ПК»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акие виды мониторов вы знаете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Что такое разрешающая способность мыши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Чем отличаются оптико-механические и оптические мыши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акие еще устройства ввода информации в компьютер вы знаете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20" name="WordArt 4"/>
          <p:cNvSpPr txBox="1"/>
          <p:nvPr/>
        </p:nvSpPr>
        <p:spPr>
          <a:xfrm>
            <a:off x="6858000" y="357120"/>
            <a:ext cx="1662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992f7d"/>
                </a:solidFill>
                <a:latin typeface="Times New Roman"/>
              </a:rPr>
              <a:t>?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992f7d"/>
              </a:solidFill>
              <a:latin typeface="Times New Roman"/>
              <a:ea typeface="Times New Roman"/>
            </a:endParaRPr>
          </a:p>
        </p:txBody>
      </p:sp>
      <p:pic>
        <p:nvPicPr>
          <p:cNvPr id="2621" name="Прямоугольник 4" descr=""/>
          <p:cNvPicPr/>
          <p:nvPr/>
        </p:nvPicPr>
        <p:blipFill>
          <a:blip r:embed="rId1"/>
          <a:stretch/>
        </p:blipFill>
        <p:spPr>
          <a:xfrm>
            <a:off x="2219400" y="291960"/>
            <a:ext cx="3700440" cy="1135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ногда говорят «персональный компьютер».  Уточнение «персональный» здесь не случайно – это значит свой, личный, доступный большинству людей, ведь существует большое количество других видов компьютеров, которые персональными никак не назвать – рабочие станции для предприятий, серверы для связи множества компьютеров в сеть и др. в дальнейшем, говоря «компьютер» мы будем иметь в виду именно персональный компьютер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а современном рынке вычислительной техники разнообразие модификаций и вариантов компьютеров огромно, но любой, даже самый необычный комплект неизменно включает одни и те же виды устройств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588" name="Прямоугольник 3" descr=""/>
          <p:cNvPicPr/>
          <p:nvPr/>
        </p:nvPicPr>
        <p:blipFill>
          <a:blip r:embed="rId1"/>
          <a:stretch/>
        </p:blipFill>
        <p:spPr>
          <a:xfrm>
            <a:off x="-73080" y="85680"/>
            <a:ext cx="9193320" cy="1152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Базовая конфигурация ПК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- минимальный комплект аппаратный средств, достаточный для начала работы с компьютером.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истемный блок;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онитор;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Клавиатура;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ышь.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590" name="Прямоугольник 4" descr=""/>
          <p:cNvPicPr/>
          <p:nvPr/>
        </p:nvPicPr>
        <p:blipFill>
          <a:blip r:embed="rId1"/>
          <a:stretch/>
        </p:blipFill>
        <p:spPr>
          <a:xfrm>
            <a:off x="-23760" y="139680"/>
            <a:ext cx="9155160" cy="1212840"/>
          </a:xfrm>
          <a:prstGeom prst="rect">
            <a:avLst/>
          </a:prstGeom>
          <a:ln w="0">
            <a:noFill/>
          </a:ln>
        </p:spPr>
      </p:pic>
      <p:pic>
        <p:nvPicPr>
          <p:cNvPr id="2591" name="Picture 6" descr="C:\Users\Администратор\Desktop\Nokia\1324556002_2.png"/>
          <p:cNvPicPr/>
          <p:nvPr/>
        </p:nvPicPr>
        <p:blipFill>
          <a:blip r:embed="rId2"/>
          <a:stretch/>
        </p:blipFill>
        <p:spPr>
          <a:xfrm>
            <a:off x="3857760" y="3000240"/>
            <a:ext cx="4960800" cy="3652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5627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Системный блок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 – основ-ной блок компьютерной системы. В нем располагают-ся устройства, считающиеся внутренними. Устройства, подключающиеся к системно-му блоку снаружи, считаются внешними.</a:t>
            </a:r>
            <a:endParaRPr b="0" lang="en-US" sz="3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593" name="Picture 6" descr="C:\Users\Администратор\Desktop\Nokia\50597.png"/>
          <p:cNvPicPr/>
          <p:nvPr/>
        </p:nvPicPr>
        <p:blipFill>
          <a:blip r:embed="rId1"/>
          <a:stretch/>
        </p:blipFill>
        <p:spPr>
          <a:xfrm>
            <a:off x="5786280" y="1785960"/>
            <a:ext cx="3073680" cy="4429080"/>
          </a:xfrm>
          <a:prstGeom prst="rect">
            <a:avLst/>
          </a:prstGeom>
          <a:ln w="0">
            <a:noFill/>
          </a:ln>
        </p:spPr>
      </p:pic>
      <p:pic>
        <p:nvPicPr>
          <p:cNvPr id="2594" name="Прямоугольник 7" descr=""/>
          <p:cNvPicPr/>
          <p:nvPr/>
        </p:nvPicPr>
        <p:blipFill>
          <a:blip r:embed="rId2"/>
          <a:stretch/>
        </p:blipFill>
        <p:spPr>
          <a:xfrm>
            <a:off x="1554120" y="219240"/>
            <a:ext cx="6370560" cy="11397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"/>
          <p:cNvSpPr txBox="1"/>
          <p:nvPr/>
        </p:nvSpPr>
        <p:spPr>
          <a:xfrm>
            <a:off x="285840" y="1828800"/>
            <a:ext cx="49291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Монитор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– устройство для визуального воспро-изведения символьной  и графической инфор-мации. Служит в ка-честве устройства выво-да. Они отдаленно напо-минают бытовые телевизоры.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596" name="Picture 5" descr="C:\Users\Администратор\Desktop\Nokia\xps_one.png"/>
          <p:cNvPicPr/>
          <p:nvPr/>
        </p:nvPicPr>
        <p:blipFill>
          <a:blip r:embed="rId1"/>
          <a:stretch/>
        </p:blipFill>
        <p:spPr>
          <a:xfrm>
            <a:off x="4714920" y="785880"/>
            <a:ext cx="4286160" cy="4286160"/>
          </a:xfrm>
          <a:prstGeom prst="rect">
            <a:avLst/>
          </a:prstGeom>
          <a:ln w="0">
            <a:noFill/>
          </a:ln>
        </p:spPr>
      </p:pic>
      <p:pic>
        <p:nvPicPr>
          <p:cNvPr id="2597" name="Прямоугольник 6" descr=""/>
          <p:cNvPicPr/>
          <p:nvPr/>
        </p:nvPicPr>
        <p:blipFill>
          <a:blip r:embed="rId2"/>
          <a:stretch/>
        </p:blipFill>
        <p:spPr>
          <a:xfrm>
            <a:off x="2620800" y="304920"/>
            <a:ext cx="3876840" cy="1152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"/>
          <p:cNvSpPr txBox="1"/>
          <p:nvPr/>
        </p:nvSpPr>
        <p:spPr>
          <a:xfrm>
            <a:off x="456840" y="1828800"/>
            <a:ext cx="42577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лавиатура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– 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лавишное устройство, предназначенное для управления работой компьютера и ввода в него информации.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нформация вво-диться в виде алфавит-но-цифровых символь-ных данных.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599" name="Picture 10" descr="C:\Users\Администратор\Desktop\Nokia\Chicony_Wireless_Keyboard_KBR0108_2.png"/>
          <p:cNvPicPr/>
          <p:nvPr/>
        </p:nvPicPr>
        <p:blipFill>
          <a:blip r:embed="rId1"/>
          <a:stretch/>
        </p:blipFill>
        <p:spPr>
          <a:xfrm>
            <a:off x="4429080" y="1220760"/>
            <a:ext cx="4489560" cy="2422440"/>
          </a:xfrm>
          <a:prstGeom prst="rect">
            <a:avLst/>
          </a:prstGeom>
          <a:ln w="0">
            <a:noFill/>
          </a:ln>
        </p:spPr>
      </p:pic>
      <p:pic>
        <p:nvPicPr>
          <p:cNvPr id="2600" name="Picture 12" descr="C:\Users\Администратор\Desktop\Nokia\1269026036.png"/>
          <p:cNvPicPr/>
          <p:nvPr/>
        </p:nvPicPr>
        <p:blipFill>
          <a:blip r:embed="rId2"/>
          <a:stretch/>
        </p:blipFill>
        <p:spPr>
          <a:xfrm>
            <a:off x="4500720" y="3643200"/>
            <a:ext cx="4535280" cy="2500560"/>
          </a:xfrm>
          <a:prstGeom prst="rect">
            <a:avLst/>
          </a:prstGeom>
          <a:ln w="0">
            <a:noFill/>
          </a:ln>
        </p:spPr>
      </p:pic>
      <p:pic>
        <p:nvPicPr>
          <p:cNvPr id="2601" name="Прямоугольник 12" descr=""/>
          <p:cNvPicPr/>
          <p:nvPr/>
        </p:nvPicPr>
        <p:blipFill>
          <a:blip r:embed="rId3"/>
          <a:stretch/>
        </p:blipFill>
        <p:spPr>
          <a:xfrm>
            <a:off x="2023920" y="139680"/>
            <a:ext cx="4711680" cy="12128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"/>
          <p:cNvSpPr txBox="1"/>
          <p:nvPr/>
        </p:nvSpPr>
        <p:spPr>
          <a:xfrm>
            <a:off x="214200" y="1428840"/>
            <a:ext cx="55720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Мышь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– устройство «графи-ческого» управления. При пере-мещении мыши по коврику на экране перемещается указа-тель мыши, при помощи кото-рого можно указывать на объек-ты и/или выбирать их.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спользуя клавиши мыши (их может быть две или три) можно задать тот или другой тип операции с объектом.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603" name="Picture 8" descr="C:\Users\Администратор\Desktop\Nokia\index26.2.png"/>
          <p:cNvPicPr/>
          <p:nvPr/>
        </p:nvPicPr>
        <p:blipFill>
          <a:blip r:embed="rId1"/>
          <a:stretch/>
        </p:blipFill>
        <p:spPr>
          <a:xfrm>
            <a:off x="5643720" y="1000080"/>
            <a:ext cx="2989080" cy="2604960"/>
          </a:xfrm>
          <a:prstGeom prst="rect">
            <a:avLst/>
          </a:prstGeom>
          <a:ln w="0">
            <a:noFill/>
          </a:ln>
        </p:spPr>
      </p:pic>
      <p:pic>
        <p:nvPicPr>
          <p:cNvPr id="2604" name="Picture 9" descr="C:\Users\Администратор\Desktop\Nokia\zixg4kxehl.png"/>
          <p:cNvPicPr/>
          <p:nvPr/>
        </p:nvPicPr>
        <p:blipFill>
          <a:blip r:embed="rId2"/>
          <a:stretch/>
        </p:blipFill>
        <p:spPr>
          <a:xfrm>
            <a:off x="5357880" y="3786120"/>
            <a:ext cx="3929040" cy="2786040"/>
          </a:xfrm>
          <a:prstGeom prst="rect">
            <a:avLst/>
          </a:prstGeom>
          <a:ln w="0">
            <a:noFill/>
          </a:ln>
        </p:spPr>
      </p:pic>
      <p:pic>
        <p:nvPicPr>
          <p:cNvPr id="2605" name="Прямоугольник 9" descr=""/>
          <p:cNvPicPr/>
          <p:nvPr/>
        </p:nvPicPr>
        <p:blipFill>
          <a:blip r:embed="rId3"/>
          <a:stretch/>
        </p:blipFill>
        <p:spPr>
          <a:xfrm>
            <a:off x="2719440" y="73080"/>
            <a:ext cx="2863800" cy="11397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ериферийными называют устройства, подключаемые к компьютеру извне. Обычно эти устройства предназначены для ввода и вывода информации.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от некоторые из них: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ринтер;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канер;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Модем;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DVB-карта и спутниковая антенна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еб-камера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607" name="Прямоугольник 3" descr=""/>
          <p:cNvPicPr/>
          <p:nvPr/>
        </p:nvPicPr>
        <p:blipFill>
          <a:blip r:embed="rId1"/>
          <a:stretch/>
        </p:blipFill>
        <p:spPr>
          <a:xfrm>
            <a:off x="244440" y="433440"/>
            <a:ext cx="8637480" cy="9316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"/>
          <p:cNvSpPr txBox="1"/>
          <p:nvPr/>
        </p:nvSpPr>
        <p:spPr>
          <a:xfrm>
            <a:off x="456840" y="1828800"/>
            <a:ext cx="84358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интер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служит для вывода информа-ции на бумажный носитель (бумагу). 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уществуют три типа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интеров: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indent="263520"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атричный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indent="263520"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труйный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indent="263520"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Лазерный 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609" name="Picture 5" descr="C:\Users\Администратор\Desktop\Nokia\58340.png"/>
          <p:cNvPicPr/>
          <p:nvPr/>
        </p:nvPicPr>
        <p:blipFill>
          <a:blip r:embed="rId1"/>
          <a:stretch/>
        </p:blipFill>
        <p:spPr>
          <a:xfrm rot="270600">
            <a:off x="3858840" y="2787120"/>
            <a:ext cx="5257800" cy="3878280"/>
          </a:xfrm>
          <a:prstGeom prst="rect">
            <a:avLst/>
          </a:prstGeom>
          <a:ln w="0">
            <a:noFill/>
          </a:ln>
        </p:spPr>
      </p:pic>
      <p:pic>
        <p:nvPicPr>
          <p:cNvPr id="2610" name="Прямоугольник 5" descr=""/>
          <p:cNvPicPr/>
          <p:nvPr/>
        </p:nvPicPr>
        <p:blipFill>
          <a:blip r:embed="rId2"/>
          <a:stretch/>
        </p:blipFill>
        <p:spPr>
          <a:xfrm>
            <a:off x="2523960" y="212760"/>
            <a:ext cx="3834000" cy="1214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14:03:19Z</dcterms:created>
  <dc:creator>bas</dc:creator>
  <dc:description/>
  <dc:language>en-US</dc:language>
  <cp:lastModifiedBy>RWT</cp:lastModifiedBy>
  <dcterms:modified xsi:type="dcterms:W3CDTF">2012-01-29T18:21:26Z</dcterms:modified>
  <cp:revision>27</cp:revision>
  <dc:subject/>
  <dc:title>Устройство компьюте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e39000000000001024140</vt:lpwstr>
  </property>
</Properties>
</file>