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</p:sld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  <p:sldId id="266" r:id="rId75"/>
    <p:sldId id="267" r:id="rId76"/>
    <p:sldId id="26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slide" Target="slides/slide11.xml"/><Relationship Id="rId76" Type="http://schemas.openxmlformats.org/officeDocument/2006/relationships/slide" Target="slides/slide12.xml"/><Relationship Id="rId77" Type="http://schemas.openxmlformats.org/officeDocument/2006/relationships/slide" Target="slides/slide1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859-16D5-4902-8784-F8FF40E7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B85-AF97-46DA-9FE4-98F2FDC2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89EBB-5CC4-4C7F-9F86-96F83688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FA85A-2537-4741-8B63-F19D9E9D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67165-583B-4286-9BA4-114A7319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3056C-6692-4725-AD06-1C64B0C3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63895-537E-4B03-B9CF-2A233F59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FFA9D-63E4-4D14-A3A5-A17B7F81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5DD79-47DB-43A4-96FD-CAA02815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E3C23-7781-4613-BF06-FD41B059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3DBCA-4449-4D3A-986D-0C0FD7D7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4DF6F-A1F2-47C5-8254-15B69F2C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C6E-1EEC-4A39-B964-F1A6FB5E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F09C7-1F2A-4A39-B8B7-86E9F18B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377DE-9CAA-48C1-9CEB-542D6848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773D0-47D5-4242-9480-38C6A22C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49A10-CCD5-4B7B-873E-A4BB93BD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379CD-598C-4A76-9456-7B1FE0C2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45BD6-C2A0-4656-BF51-CAA98914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FCF87-73B2-4E68-8225-251DD790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C4F6D-BFF5-40A6-BB99-97BCB305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F1945-F5BA-402C-836A-EA5BF464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A1A5D-1004-4798-A2D6-AFCC76D4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AB1-9CB9-468D-AD56-61F87BED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10183-5F88-4B9F-BE2D-14C02E37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3B910-0A5D-4113-9C15-FB23F5F1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638EE-8F2E-4778-AC3D-DA0763C0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EE823-6A41-4C27-80E2-35F92C25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85881-6D4B-42AF-BA0B-5698CDB8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B7D77-6B0D-400A-AAAD-ADA10BE1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E8881-7B24-4DA2-9998-44E0B81A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A3A6D-99C6-4310-ADFC-CB42B7C9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DC701-0BE7-4A74-ADA8-67B0AAA3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FAFC5-AE35-4117-A942-D5963BEC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38A2-B8DA-42DF-8618-C11551FC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13752-FF0A-4B13-AF24-A763331D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AD9C9-A7B3-48A6-8B0D-3B4B1A54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CFBD5-B823-4BD6-BE9E-912B21D6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4100B-C231-4BF0-9DDC-53E35DCE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28B54-C1DE-4CEE-8347-C8FAF20F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D6688-2895-4BE8-95A9-D1204357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A7327-465E-4D71-A00F-6043AA56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D98E7-1F7F-421A-8DB9-A2C87076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4BE0A-A881-4593-9396-CCDDA854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1A0CC-0CC7-4C36-9347-7A07D303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ADB5-3780-4326-8E95-A5547A19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6A5E3-9476-4409-92DB-CE963A29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6C3E5-9B1F-4A0B-AD32-BE29BDC5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F9AB7-C0B8-4521-B616-CEA14029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8B91E-E568-4727-AA4D-695F9F79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43F6B-2CD5-4317-BD1A-C9B17DC9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B6DEA-F4C4-4942-88C2-34A886DC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7D4EB-3EDC-4562-B99C-D6350468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BA654-5AD7-4DB9-8305-9C17519B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4BAF4-0527-4681-987E-B7C63BA9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6A428-89D7-44C2-A36B-DF8A2B21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A110-92CC-4561-87B1-BC12DE38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5170E-232E-42C7-BC56-D56B4A19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693BD-7BEB-47F8-835A-7A230D30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2957C-EC4D-4ACB-A2F1-8B0E62AD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0A819-5AC1-4EC8-B854-F24C0E76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40955-970F-4B03-BCD0-7C6448B2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EA443-F1C6-42BB-BFA9-8C0DAE5F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FFEBC-A7D9-46BB-8827-EF40A806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429122-FCF6-4D1B-A371-9D311E3A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4807D-9721-4D88-ADAD-B7B1C84E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FF036-1933-4CA8-BA9C-43E5F542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9D14-3698-47DB-9D53-ECB88AEB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E0298-7688-46EE-A288-C3E1D21F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8E6F8D-A6FB-4F5E-8342-04584AF4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B295C-CDC7-4320-AB02-F14517EB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4A6D6-213D-4E9A-82D8-92C18956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B9234-217A-4F56-8E23-9BFC3980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45741A-1750-4F4C-BCCE-BB9DFB9C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BDCA2-3EDF-4581-B56C-F32111CD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6A269-7B86-485D-9A56-CB115492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5531AF-FEC7-4DC9-AC65-A79C2FB4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8BEA3-F1B0-4A8A-AFE4-47A7FB73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1167-65D4-44E9-9B04-02605D61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680E6-B689-4CA4-AB4A-781FF8F4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BEC0B4-405B-425C-A9F9-280D00EB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8C1648-E64E-4FFB-8E21-93718C9C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27704A-65E9-4446-A3A1-5DEF6A12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773E69-F255-4CCC-A79F-450870A6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F0879-99AB-41FB-97EB-F1BFD352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130954-7C50-4E47-B291-FA7DDABC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9CB80-D974-4F83-BA42-25847B56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0007A-EE0F-4C01-8241-7790813B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2B44E-F97F-436C-AD91-E7C6A1B8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2694-25B4-49EE-A1F4-A83918D2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8A3FA-1E1D-4441-AD2D-D593C802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DAE8EF-684E-4DD3-ADE9-B3CB1B19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99CC43-B975-444E-8D4D-A27B38F4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B5E267-930B-4136-9C44-8527A3F4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1FD2C-358B-467D-9078-0932616D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53558-0736-48E3-B0B8-FE8125D4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ADECE1-6BA8-489F-B6C1-9EA51FB7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54A4CB-48CC-4E1C-9A64-8A7E04CE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46779-807D-4848-A7AD-8F6C0A21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4A64A-9195-4211-ACD4-0F33CE55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CDA4-32B6-4C29-9E01-9E0A6D2B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A65608-124C-45AC-B8AE-2593FCF5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A54A1F-2484-40FD-BE55-CF8E44AD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35589-E5D8-476C-B491-DCEA61B7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761296-CEE9-4452-A647-FCCD44A8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8AD821-5299-4076-98D0-B335885D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D34FA2-9D8C-463C-9F28-18208786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EFE3F2-B26A-4212-B83E-51AD6F1B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DD80D7-0B6B-4F7C-AE29-C86CC11F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267B4E-B1CC-4D9B-8D8B-6EC9853F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44596-C29F-4061-94C6-604625D3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935-1AB2-4E46-9E1F-AB7A5F65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C880-C13F-475A-8A27-9D83169B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6906AC-D224-44A6-B90C-CCA52F1F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04C199-7DF3-49B2-B0CB-F5ED3327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965CB-0796-475A-BD7D-EFFD7B65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067671-CB7D-4AF6-AB5E-75AE85CA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9B9B45-ED44-4E68-9E8B-A5816287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8EFA8B-4040-42A2-A182-DCC16070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4D714-1B77-4FC5-939A-C8E26B0C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0F16EE-8736-479E-8D2B-6053B96A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D2D397-9E24-4D28-B94B-B4FE246C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7B6537-3D91-495B-AACC-89D3B621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0124-5A90-4C82-B302-D68194E2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35907-86A5-4F24-B3DE-4887F9ED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C0E423-8779-43D3-9E7D-4683B707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EE9E84-2D67-449A-AE82-861FEF50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346D73-9079-4091-ABFB-C8472D55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4DBE46-D776-4F80-A7A2-D08BD1BB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4B30C6-11FE-4202-84B8-C23974B7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C1D07B-2FCA-4FB7-B08A-30984616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37C81C-B09E-448C-9F9B-46BAD779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8FB89E-455E-4E94-9170-D6B6A78E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23195C-C2D5-426A-AAAA-396C52F5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4160-8E36-45E5-908B-57541F36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755F2F-F989-4D45-9EE5-B903491B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890B2B-6FD3-4A1C-8D1E-0FE90D2A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906523-63A8-4439-B5B6-04377421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2A6288-3239-4495-822D-52628394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118D3D-2DA8-4366-8191-E2B13891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92CCAC-005A-4C8E-B908-EA875DEC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DC9936-3E0B-4761-90BB-56EFF2CA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2C5553-A666-467C-A26F-77567CBB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E1EE4E-AE70-4BA8-A3DE-F3D671EF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630F3F-05C6-47DA-B9A9-EF9857F0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DBCF-FC80-4ACF-BB19-5B8244C1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2DCA00-2E01-4D0C-91C1-FF55A864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B78D07-1B3D-4C73-AF76-E66C2EE1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FB0B91-1ACE-493C-B238-8191B949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495F9D-C923-4A13-A26E-CAD8A250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F49D0C-B5F3-476F-93B9-6574B0D3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355B60-94BE-4D83-8E1E-B4578C5B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FC9AF1-8D89-4577-9AB4-B740C8A3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DFB0E4-E137-4C4E-BC4D-379291C3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BF4FC3-8EB1-450B-A588-766417B9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0D8178-61CB-4218-8E9F-5E20276E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71AA-3DDD-4E09-87CD-A909D33F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EE9520-882D-479B-A6CC-86241612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5CAD86-8E6C-4CF4-B38C-FC743037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90C4A2-66CE-444E-8AEA-73C6B5D0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AE0EEE-8E1C-4867-8301-808CD9D8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1E3116-6ACA-420D-97A0-2479545C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7DE728-F6E3-4F4D-B7FB-35037AF2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088AF7-E063-4740-B255-7E4B824E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A2D4B7-25E6-4B9B-BEBC-2F27ED37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86D6CE-BA4B-4520-845B-05789C80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0C4489-92A3-4C8F-9264-CB346852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31BC3-D2C9-4D81-9A05-718992C9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DD4D09-4492-4F81-8B15-6DE2FF6D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6AA711-791A-4166-A4E9-9CE13252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07426D-E683-41AD-A015-5FA9F544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ACCDA0-1436-4517-A951-3E669BD5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585709-18FF-48E8-9141-A856D09F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75A0AB-8A07-48D1-87B2-FF539F74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D68B5E-BB13-498F-8090-3CBC4977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563833-535D-46B5-B128-7C8CE9E1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1719B3-7B0E-4A30-AA8D-D10B685F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8B1B39-D2A1-468F-9FB3-DD049DD6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D6C88-EDC2-445A-8C12-A988E9C3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90F97E-B051-4214-865D-E4B79F83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5D3E5B-D4EA-485B-BA0C-11C2EECF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7A7219-15BC-464F-898F-55312B7A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A2D3A9-F92C-49BF-AC10-FD07200E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F2D960-4192-493D-B7F7-A4DEA0B6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971192-771E-411D-B3BE-5A049C13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485E24-A5BA-45F4-AF8B-16324068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DE715F-B278-4856-BFFB-CF7A7C1C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95B84B-564F-4C18-8AB9-DF0E4EBC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4112C1-0348-4CFB-B020-19849F13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8EB4A-EC92-4278-A1E4-0BA4957B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960AA4-22E3-4012-A8A4-6BF6645B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43B13E-E299-4DD0-85F3-0362D9FB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47AEB7-DA28-4C43-8440-11D56205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E268C8-6AAA-4050-ABEB-C617EFD8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D31F62-7071-4EB7-8A82-6F7FBB92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8E77DD-80B6-45CD-9AEA-39B737F0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0B1B88-FE81-455D-B012-36106827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5E7340-D67E-4DBA-B936-3B412719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8C8C9B-EE72-4B5A-BC31-7FC3706D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3E5362-EA11-40C3-B340-81475FC4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255E6-7D7A-4054-9965-A8659CF7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906BEA-C3F5-4592-BF7D-E861A073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967B11-654D-4C73-B4B3-7D45456C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C3989D-065C-455C-B22E-C200D982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8966C5-3519-4DA6-8D33-1F426F2F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0EF5F8-7217-4D13-A914-B39B78A5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3FDE55-46CC-47A3-A538-C74B76CB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1E6931-4BD0-4D65-93D5-43E9015B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2E82A2-6FDE-4C8F-B1A8-0CE349F1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8344D3-B043-4198-8301-D7B288C2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54FEE8-06AA-42D4-93F4-C39D0F43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82176-0D4D-413F-89F5-7F73535D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FD329D-4EE6-4F35-98FD-8197928B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347130-15C2-480A-87BE-449B5452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A56FF9-E66B-4E14-933F-7794F868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9E4518-A284-4CA5-9C05-FB512514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F92E7F-0A66-402C-928E-4F012C1C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472945-185B-449D-84E8-C2A148E8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5CCDAC-E153-46CC-8339-2CA7C2F9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E58E36-EA78-47DE-86B5-9916319D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EC96EA-DE06-4CDF-8831-083A83B0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F653AD-FA61-45CA-94B1-539D7FE3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97B-8F33-4386-A2C1-2237944F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F520-3382-4511-9FF7-3F9DA4ED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84595C-4526-4757-AF1F-6B31BDA4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5C316D-BCD0-4BC1-A91C-1069387F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A8F069-89C5-4EA6-8FCF-6C636076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46A4A8-B784-47ED-9BD3-58762756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AD658C-BC9F-4A54-A9F6-04A60C9A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1558B3-8EFF-49B5-9578-608101B4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9E8E87-BF84-4997-9686-ED310BC6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79AE28-505D-44F5-9032-200ED4E0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01E4B0-F9B3-4D51-A507-C944F7FE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40ACE3-B421-4BCE-AA97-5A0D777E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B3F42-E9B6-4D84-8038-5F587C95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E97604-9EC0-4991-928C-0F765824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A8893B-BC02-440C-A9F5-8A11D9B4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1EC332-86B6-48EA-B478-AEB675EC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B7D425-E94C-4F9F-8484-74FF32C4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F99B19-13B3-4669-B2E5-145C4914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6E1D9B-89EB-4A43-95A2-15A45E63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764829-9BDA-47C9-A916-A3038B05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FD4C39-7A97-4AF1-8C73-ED1A6DC4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08762A-CC41-4F62-ACFF-89E42087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F49F1E-6AC6-4726-9DF0-1ABD0416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0049-D82B-4D40-99B6-65E85B36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51FCA0-08BD-4679-BC8E-449CD766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B4FDCA-B083-454E-A3D9-F06FE8FA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9C3851-F539-4B3B-A580-91700A95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1370B5-D54D-4930-8A81-4B9769DF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D6874A-57EE-4FD2-8EF1-A07AF0A3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E653F1-34D0-4799-A306-0E96BE16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31797A-F3A3-483F-8DFB-FB8AF48D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86AE80-A91A-4948-B50C-D38AD437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A74F9B-6EF2-4CB3-955D-7301FC42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F0B9F7-048A-4E87-B3AF-6255D3AC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2446-7FB0-47B0-B3D3-BD1D3A79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DB0F83-97B7-4E19-9C6D-FE24FEFE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A2F9CA-321B-47BC-93CF-D38989EF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A26304-C3D0-4901-B7A2-8AD0FBAD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876169-A562-4B56-82CF-0A425D63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660529-AE82-4821-977C-5E42083D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54451F-3447-4DF8-83AA-6192B8C8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94693E-7892-4B85-8FCD-8F6D3E75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B31CAE-D713-4CDA-B3FA-2443BF45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931396-4941-4E16-B5AA-AEF3966C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801357-14DA-4C9C-BE75-E66122BF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ABC99-4073-46CD-B984-A1DF7DC0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14B872-F0FC-4A3E-9C72-EF14461B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2CF425-E16C-4B9F-88DE-BD09CCED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CEA391-95C4-4DC2-B3C6-F9102618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616E06-B247-46EF-851F-A8F41324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F2A315-2563-4471-9C73-3A1D65D0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26E600-3C15-415A-A2D6-1AF4E253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6267B3-8270-44BA-99FF-7113AD4A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CAAFB3-DD73-4319-8915-3A89D4EB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5EE120-5364-408E-A087-5E2DAAE1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4B95AA-B1C2-4415-BAFD-7D6AB12D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0E823-DE48-4F92-9D3C-D4F709CC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39C2CB-DD9E-45F0-A521-590D47D0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29A828-40B8-4DBD-8441-36C9E262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E38E9A-A66E-449A-BB1A-B800E9FC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02149E-464F-4EEF-8791-37D6ED0C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5FDD49-F3F7-417C-A551-E4357FEC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11CC5D-4088-4ECB-9E10-6F2A5C16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333E4D-20DC-4689-B4F6-97CB9703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F44BA2-A695-4008-8415-C11A3214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3FD96B-F4E7-444C-8AEE-92CF1B4A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622FF4-8C26-431E-B14E-61D09963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3F761-6209-4817-9387-F74EAD24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7028D4-3120-40C5-8082-FC6A0DAC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23BB87-F05C-4EEE-99C9-4FB62304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2F0EA2-EA2F-4ADC-8114-E0D79B81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959499-278D-4A31-A2E8-6F340E4D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1D3F10-4E0D-4E00-8A1E-8196D9C0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7B63B6-8500-4573-BB3C-4DE053D1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E2852A-F08C-4B38-A5A5-F117AA09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8759F6-89AE-41A3-8017-CFD21078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D4B80F-A62B-4737-957E-F9E9907E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56BE84-0080-40F4-AD4F-AB493D20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314D5-DB22-4869-A3A0-68541D2E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C0714B-9F88-485E-81A3-DAFD1195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10B509-60EC-4355-919F-7C9291B0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143D77-0A2B-4E33-B25F-B353BF39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993526-4837-4BF2-8BCF-5118EFC7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0070A7-C519-456E-B38E-24514DF1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6BE37E-B76E-4878-8258-9B0680C1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D228C7-45D1-4FB0-9BF0-8D4CF77C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5CF2A4-9146-481E-B0EE-ED96C6DC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A64E76-4191-43AF-ADC6-EDB4B34B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A46718-5846-4458-853C-88DB93B7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A21CF-9F68-4BD9-B7A0-51261241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2B998B-26D0-4554-8269-4FF52967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E51ECA-3B3C-4FEF-A265-E832A17E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4EE332-CA6D-4F24-94D3-5CCD13C4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36D4ED-E6B3-4851-964E-B259C25A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2F8E65-2AB4-46BC-BFAB-D0D7F9EA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C905BC-E26F-4034-9DBA-A025D7AD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89426B-D498-4EA8-AD71-64E7EE4F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BF94DA-2BC7-4634-ACB4-84FD2F1F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BD54F5-86CB-4D41-8AE5-2C24941E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CCE908-8A16-4920-A0FC-2C8A4CF1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D0E35-C657-42CF-8C0E-A60685A3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6854AE-CAD1-48B3-BF53-9C5BC9BD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36F75E-BD25-455D-AF33-1CF593C8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3AF54F-F0F4-4E44-B6E3-F8C4CAB9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2B74B9-C9A6-4BAD-9B40-78C446CA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A013C6-73AE-4C8D-823B-05F3B2F3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508156-EB5A-4A3D-9C24-F1C1360D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3F3214-8C2B-411B-973F-9396498D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0DDEAB-30C4-48D7-8D4B-AAE62B81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6D265EA-701F-4956-B89B-B30BB93E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A881CD-51A6-4A98-9256-9045C104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95B-9B81-4347-A08B-C7C590E2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19BE8-F1DE-4E19-AC99-3A24BC63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716496-0C95-4B33-9CC7-69958641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71DA6A-D1B7-4B09-B76B-31F4A2BC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7C156E-9B31-4299-A5EC-840B2A62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D803D5-20B2-41F5-ACBA-22937288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A0752A-06B9-40CB-8C52-5811D363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41E7F5-9C08-4E38-A083-328ED9EB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1C035C-B629-48C6-A6F8-27A96540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09E846-645B-4585-8A2E-826BE1BE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9D69A3-394B-4B26-8A93-0D3F750E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C6D34E-E0D9-4285-8CE6-B20C4D1A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6A22C-3653-4A42-BDBF-8D5760D1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DA645E6-E689-4DA2-AA2E-6003223F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EC8C24-5C80-4B33-8421-C4EF878D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86BE07-06B7-4479-9ED7-BD04D40E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D6EE76-4F48-4C24-8549-C36D5DE5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802FE7-D9A2-46E2-8E87-35141360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C662E9-B202-40D0-9B80-86AEA5CF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459551-ACD3-4F9D-BB57-6D65D0FB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7F7FD1-03EF-4E1D-81EA-09A32CF6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B00E08-1C60-41C2-81B6-0A43E26D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326D572-756B-46F2-A7F1-554B2871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26E6F-5B91-4841-8CA8-E953A3A6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0C4B2A-1C24-4995-8A9A-C9D4D61A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C28E35-3F80-4ADB-824A-CFEE962A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A781C2-4173-4080-BA02-AFC76784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3C0CFF-D7E1-404E-94DB-A7473931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3891E3C-258B-4421-9AE5-ADD09194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9BC7EA-7150-4C6F-A07D-BE4B39B8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230F0E-C3AA-47EE-802D-3DB57AE0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17B1B4-CA81-415D-A5E5-FEA34EE1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19CA4C-EAAA-4609-AB6E-CF8EA03C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501197-750B-425B-A45B-744DC656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DA150-46CD-44E7-B15B-CB6D38BD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B902CA-90B7-4870-AD4C-6E7FC7A2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FAD767-698F-4EDF-B67E-B4BD9876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30D84E-E730-4CAF-A28C-F74BA5F5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E613FDB-F25A-4F1E-8397-3BC8F245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1431961-8BC6-4FA0-813D-A1A938BF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6BAE63F-165D-4E1B-A885-B793FB3A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E5B4C6-D2DC-42C8-A64A-49B60F2E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A69D53-974C-4D14-9E24-1D931A7E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B1C75A2-A6C8-484A-8715-60B58408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C48ED1-7391-4313-9797-1BC5C191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E3EDB-60A4-49E5-B916-D0D7A98D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DFBE2A6-5A7B-47B9-961E-9232A8CD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3A6CEE-2076-45FE-A6D8-7C5B7FC2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D12F46-C97C-41CC-92DF-3A674CBE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3646E6-5B2D-441C-8CF2-D500B5E9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A8DB34E-8DCB-4D1D-B587-F24EA465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BC717B1-F702-4EB6-A123-227F3368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BA6DC74-AB4D-4D89-BE15-8CEC677D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62FB103-4846-40FF-B2F6-E03E5143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72412F-00B7-4158-9FCF-F8D77C78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7448814-D713-4966-BF55-41A7EA38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C404F-9303-4ED1-A184-4E86FBE0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2FEED3-E69D-4ADE-A327-79C87E70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BBC804-15EC-418E-BD70-A86005A0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DE92B5D-143B-4742-8BA2-1A3CAEFA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FC7F3B-78F6-4C63-90A1-143A09B3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704E811-86AA-4648-8A40-0E3C0529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7DD388-B399-48C4-8104-76EC7687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DE8553-CB74-4054-A849-9AE83633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F1B678A-9681-4117-9391-475097D4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DFE702-4820-4116-866A-7A18C16A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9E40187-6737-4AED-83FF-D8D5889B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239B3-FC8E-45C8-851E-F7A4C032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286E803-9CA2-45E0-A9A6-9CABF825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BF5D75-FEB4-4A71-9181-39C16E43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E40C05A-2FCD-49E5-927D-42A6D4CA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8932C3-E026-49AC-A55A-C18561E8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B8E694-7704-4201-AC5B-53D19CAD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9F53CFB-FDB2-46E4-94C3-C1B5251D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2AB9B7E-1DE7-4FCE-A415-855D643A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7EAC71-8E33-480B-93F0-D9FDD6B0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658A5CC-0FCF-4166-B30B-9260B509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B2F702-B915-4731-9D1F-27F50614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BE752-367B-4321-921E-82C34DFB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B592C8E-FE9E-45C5-83A6-12D1B744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5C406C3-94BF-44C4-A188-6DA3EC91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B74EE60-0C80-4D17-A8F3-E9119CF8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1EE340E-F065-4BCD-AB29-2BE34737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0D44B5A-9668-4418-B1EF-BBCF712A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C03469A-DEAC-4AAE-9C1F-1A60613F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7DBBFE-652C-49FD-A7CE-86F04C37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72AB165-8921-4D53-A3E4-C3310A90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96180C7-64AB-4A98-BFE9-F308F3CE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9C7C6A7-C879-41E0-AAC1-F6272FB0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0B4E4-2D1E-4A49-BA27-420A2A63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B0DE83D-2665-4BAA-8852-7F449972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6A69BE-8386-4FAD-94E7-10A642BA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C6009F7-AE75-454E-B956-309A22D3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877E64F-7E60-45D8-8FBE-1296B896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EF4D1E-DBF9-45E6-B14B-A8DEE5AD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9B8722-65DB-4C14-9B1C-72D5748C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F4C7BB7-DB39-4514-BA40-D0A8C8A7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423141-1377-493F-9A22-213BDFDA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D4B7AB0-72AF-4559-AA46-C19405BF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65D73B7-FD34-48E3-918C-AA8A870D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CFE36-4CE9-4A9B-9097-969CACD3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5FF4175-C1A4-4577-B809-D9FBA26A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D11EC27-A7EA-4ED4-978F-8FB5C98C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3517ACF-92B4-419A-A72D-B49E6589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85E7CE-0662-403A-85D1-9568366D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F3D81EE-D9FA-43C7-9F69-4B89C719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1AFD922-65C1-4988-AEA9-7E6B400F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EEFA197-2D95-47EC-9217-B26B6383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02E000-1133-4EE7-A22C-B69371FF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0B85C56-8824-4950-A617-98BC7460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2D2CF57-D7FB-479C-938D-7D1FF199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4EA-EEE8-48F3-A0D2-8577AD01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37274-A829-44CB-B73E-64B1FFC5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116FA31-7D8A-4611-BB47-7BD6E933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C3E00B6-F179-4C3A-93EA-851B3281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01C10BC-46F9-48E7-84B5-DC895F12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5D80FCD-487E-4613-AC39-BED86AA8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E9D6166-B2C3-4409-A796-1EEFDB88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5D38148-CAA8-49D2-B739-20B48694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2E4E181-F62F-4E71-84E6-A497D65A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2028823-05EF-4AFA-BEA5-194F0080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A4E3A94-91E4-43A9-BD12-773EBE02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675A0A0-BDA8-47B5-837E-08BC3747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E1EA6-CECF-4C09-8478-E44274A7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DE0F41E-452D-455F-9A77-58C7C950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76F4658-4622-4135-BC4B-17E710F8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A8FB77C-2201-4790-92F3-07E63D85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5E161BE-5511-48E4-B3E6-137B4E9A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9EA0C70-A984-45A9-BCB9-0E123F74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4255779-5A56-4CB5-A283-C666F567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EEB9BA7-0657-491D-A5DD-8E0868EA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BC44842-301D-4AEF-8B7D-A539E6CC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1740D19-2E5F-4F83-97A1-C9E5DC73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0F4A8AC-E506-4164-9631-40DB2CF3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11B18-2DEE-43B6-B746-DD25CC7A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253EE43-8240-4A7F-A72A-78979692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A7214F-1441-48F6-B84C-7ADAFEE5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797A90F-9AE0-4426-A99A-761054E0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9FBC518-1AF4-46EB-AF70-F48134EE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C6281B-BBE4-4CE9-A24F-A5FCEB54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4714FE7-EA11-493C-BC27-5613046C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69D5093-8F98-46DA-9948-4ADE5342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68390BF-B2D6-4186-B2DA-CF8F6E86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3A36CFD-8213-4196-B3B4-DB6B5028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6684E60-F771-4FFB-9CF2-0D4EB948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B0403-9569-4189-BFBE-64CF4112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7EE5E5F-486B-4BE8-86DE-C64304EE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723B94D-58AB-41E9-8AE8-08268668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BE13990-EA88-4D06-9202-EA7AC783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266FED7-0047-4F0D-9667-968D5210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905A628-37D5-4144-BE87-6A32CD16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929F90B-1B03-443F-BF22-65F893D3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3D2C53F-FE7A-4D5D-BFA2-2D4F041C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E7BFD9B-5BF4-4F1A-814C-95E8C851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C672F39-A227-43BA-B290-BB08FB25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A6CD0A4-5AF7-4081-BE3A-E2ABE68A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7F25C-1B41-406C-9B57-90862E5C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E1209F4-4A16-4FAC-9DB3-F7003D6E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E51C567-BD73-4059-9082-3535CDBA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38048A6-B973-48DB-BFA1-47C25E87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0CBEFA8-C491-47E0-8F7C-0716656C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20AAB59-9F00-46FF-A2E0-79CF1A36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10BEA1A-4D16-4C11-8FA9-5D9AA3B6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2EFA839-B008-4043-892D-F0189632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299C1EE-9801-47D7-B215-71F67B71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F6D92C7-D107-48D0-917D-1D899D0A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3591AD4-79CA-4B3C-9DA1-28E793EB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84CCC-BAE2-45E4-8C30-D9A8D10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9D9DEAD-B47B-44FE-96FA-3310FECB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2718F8F-EA6C-4E4C-8AAF-4558E2DA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D0F1A20-32D1-4E0C-B51B-A71F6FE4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089AEE6-CB88-44C2-999D-45E817BE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69CFC2E-01FD-4162-B808-1D406617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9A07652-4103-4147-AE6B-9C0091DC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EFDA142-9199-46C9-8D78-0525BE40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221104F-D555-42A0-A6C0-8D872B02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ABB41D8-28F8-4EC7-83E3-ED460976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E6495C1-E484-4DCB-8474-89BA82E2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4AF6D-E2FD-4710-87A7-38631D62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B466427-08F9-4EB4-8123-921D1B00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AA552F8-24EB-4F45-BDB5-29288AA5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41D902F-4706-4CA9-88CD-25DFD47E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2EEFA42-BE44-405B-97D8-C9C717D1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B60865C-D154-4AE8-AC8C-734AA6F0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428002C-A096-4C45-96A9-40870C0A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BA94813-B4F2-493D-8540-832B48BB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06B40FD-B013-41AE-ABC4-FFBCE672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A2DB6BC-AB31-48EB-BD8C-F68B1CA2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0227218-7E67-48A5-B807-5DAECCA0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0A861-65BB-405D-B649-6B131A4B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A1A2052-A6BF-4FC4-ABB6-3446AC25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ACD247A-842C-43E7-A928-8CA918AE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E0EEB2C-F062-46BC-BF7B-36CA662A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36B2046-9CC5-4CC5-9777-9771C6AB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23CAE8C-4160-4848-8215-622BCB1B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D769577-E155-404A-B082-0E71BE08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0325CD7-3BBD-4C17-938C-20BDD208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C6C6439-36CE-4DD4-B677-1C0ABEE8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D279070-155F-480D-80F0-497003F1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56AE088-E230-4A1B-819C-E6EDDD58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D11F8-22FC-494A-A810-BD0320CC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47550DB-356B-45BC-BF34-0419D8D0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3AB30E7-BBA1-48C7-AA05-6FD298A7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2DA1164-270C-47A2-941A-09A3A268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6CA0D76-F1DE-4753-A8A6-F156A648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556F55A-A2AE-444E-8A12-9536A55F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922A558-72D7-4E94-AAE2-610E9B37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8C81396-0918-4EE2-8502-63F92EFE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8968740-0C73-4C85-8DA3-D789248C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4708212-4032-4FBF-B5C1-D6645BEA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659B7BE-7698-4749-B77D-77D6628C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8893E-AC30-4F0B-8AB2-0A6E41B0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D09AFFF-4E93-4A20-8C54-FC410889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D85D022-2CF4-458F-9B19-0A3583AF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A9ABFFD-1C26-43DE-A3D9-EBDB7E3B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3422888-4DAF-4107-BCA7-7FEF4F02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34A1CC7-6D5D-4FFC-A9D6-8456721F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2512BE4-A862-4417-92B4-B0A3F6E2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3440ECC-A2E6-45E4-AA49-11B49188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E07225A-FF42-42C1-8B05-E75B904C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C23784B-BF29-47A7-9D8D-51EB0BF0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645E0B2-A3FC-4FF9-A2C1-A1B05695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B57-413A-4CFA-8876-A55F4846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3E2F9-BCE3-40E6-9A76-48C452F7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9CC60FE-B250-46BC-9D7F-B14C64D9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BE19EF9-3553-4962-9517-53A28CB4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65C2AC9-2322-4F9E-97AF-DC323785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C815F0D-07C6-402E-B053-8626B8BE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41F69E6-020F-46A6-9C11-7E152984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D75867B-A10F-463D-BE9B-05221699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6E5F986-24D0-4114-A6D9-799CCBC5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3E48455-4C0C-4A08-A7C4-4AC27FC7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E8E01DB-C037-4ADA-BFCE-A9D701EB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DE0F541-7B74-4A0B-A9B0-8C1FA00F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1B362-C5D5-4AAB-9BF6-BAB8A420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B593670-9AE9-488A-8D0B-60E61A1B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12D1A1D-4E5E-40EE-B915-0A33BC43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408F655-E5D4-4C60-B546-6211E387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51ABCC5-B68A-4A9C-BEB1-80AC4365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11901A5-6DCD-4391-B0AC-25D96984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FEFB2A3-B32E-4F67-AE6D-6DBDFF4B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3F85083-2182-423C-AC89-22592BF1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0B8DD40-387D-461B-BD60-9709B500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C8306E9-A607-4AE9-AAF5-16696F7A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E581B98-ED21-4020-A13E-57C16E7A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3ADF7-5274-40F9-BECD-BC7554AB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109C83B-DA6D-4212-80F2-6224C800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0E0A221-84D4-47AA-92A4-0683CC89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F35C07F-EE7A-4135-9528-B0D2A07C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F95C664-DEF6-47DB-984C-4AEF9409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7BA7E62-1085-472C-A757-C7C578E0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F1EF038-BF82-46BC-92E5-187F2B58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5234E47-1DB3-47CF-BE4F-44B7F6C9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E23C012-9E98-46FC-9953-8896454B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F53407E-B893-4091-9A90-A90EB637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4AF3A06-7CAA-4C93-9FD8-9721C916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3AEF8-BF0F-4666-9C29-4F221B3F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98892DF-FC2F-4DFE-9567-E3317C14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7FF8771-48FD-45C9-8598-38FD7F52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931EB8A-496C-4D1C-AC7B-95F52D82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420C704-0EB1-4EED-89BD-C5F867A1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638622B-893C-482D-9FDC-5B6F1179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A0856C3-0247-48BE-92B8-4EE0355D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944CCFD-0D4E-4F04-A70A-48067D63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FB2C1DE-31C4-415B-9C69-16FD2803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56A6BC6-F6CB-44D3-AEF8-8DD2F1C5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389E2B6-0C69-4368-8737-1F8F7868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80336-7AE6-4793-A30E-3D81E738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375FBBB-ECF3-4154-8A01-CA99A35F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BB097DF-31A7-4D54-912E-B5634A40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DFFDFF9-2C5D-4A9E-AE36-7598692A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0F4B812-B67E-4A54-89F9-8FD35BBD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54A30C1-AE86-407C-87EB-9BF1851B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2601035-6582-4F4F-816A-15419A26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F867704-9D85-4426-9FED-413C352C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D0768AD-831E-422A-AE73-A28F6F1A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6854FFA-563A-4D38-BC0A-7941C669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DA4F10D-C62E-403F-8872-5DC8A788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0F5DE-1E2D-461C-BD14-EC0759E7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6DEDCF2-738A-41F0-B06E-8AADF5B6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C686ED7-B80F-48DA-BB72-A31BACB0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48F4CE5-90EF-41C0-9691-3F950FC9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D5D1F6C-24A9-445C-803C-F4DE2557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65F3D84-E7AC-4B0C-BE71-AA80F40D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12793EA-FDF5-4760-A928-A4BCD71F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1EF5039-B765-4F67-8E34-F0A30C56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1D79A66-2276-4687-AFEC-63A4D6CD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1406C4F-3000-4A79-9B22-3BDC290F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D8CDEA5-8CEE-4787-B349-E779FD14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EBD4C-7EBC-4CE2-9C94-CAB96F9A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D0C6CAE-6C46-438A-A47D-74B507CD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B93C58C-A601-4915-8E30-D077262F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2DD2C84-6608-4D92-876C-C28EADB8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7471F93-5043-4CD5-B87D-52C00F80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D14C538-5025-4FBC-B29F-F2601BEB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01E2174-F5E7-437D-9F83-D47AC5D0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4C0097F-9272-43F3-A755-66058FAA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5F8EFF6-9A93-48A4-9DC1-15E40E1A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F8795C3-178D-4B81-94CC-F68E6E76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CF49FBF-1832-4820-BE4A-2734EC34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05BF1-645B-4C3C-882F-E59F832D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03E9D21-E3C3-415E-AC1E-296FE70F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2736F3D-8AE4-41D4-8ED7-0CDAB67B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9343030-71F3-4CC3-8C74-383DA62A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4BD993E-2ABB-452E-8A17-F7CCC662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8B9CF71-72D6-4A0C-A1AC-E70478D1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9793B52-FD55-4BA3-BC6D-9D6973AA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CFCE6FE-96AE-41F5-96CB-6A8A3F11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BE28A3C-8023-4C26-A415-F9B31D32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2CD55D8-9F0D-49AB-995A-C3FC5944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D31913E-0A48-4F46-B143-9F62CC9C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CFEB4-207E-4AD4-B75D-021E74AD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397F513-5EF6-4FE5-9629-16BF84F6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585EA7F-4CD1-44AD-98BD-02844E9E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62C2F33-1CF4-429E-9738-DA8FCDCA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78B07B2-F4E8-404D-AAAF-CD96326D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DD814AA-1B5E-4E84-BAEB-2ADE09C8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FFC74C4-F2A6-47E7-9BA3-26D41CB1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8DFF64F-B3DE-4E76-8E12-DC82459E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7B4ADF6-5841-47EE-920C-60871C26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11A1A41-6FCC-4E6F-A158-032F3161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4C371F7-F5C4-45FE-9B77-9788AB07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EC54C-4F96-45CC-9118-79D86C35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1BC449C-206E-4597-8E6F-989BC3D4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F1289C1-2506-4291-86E7-16E2166A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B22EF91-29FC-4989-B39B-36E9009F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0FBF2EF-B2D8-43C3-95E9-30BAA77C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D42B1F8-D75C-4565-99F0-20358FE3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B42144F-084F-4C57-938E-C9144FB7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A73FFBE-2752-48E1-84CD-6DBE49F8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57BFF44-9717-4BAF-8B29-8504CD81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C2E0EBA-3982-4FB3-B76B-57C58751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990F31F-0E51-4D53-9BF9-4AF74DFB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AD8-88A2-4DE6-B86F-BB345E79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75C4D-16E7-4A89-915D-B699CA40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183265C-5E4D-4AC1-B975-C80B5280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40449B5-782F-4766-9399-FE68B00B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3082547-D551-417B-B215-8539794B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806A027-76F6-474D-9E7E-84ED8509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E3A662D-DB91-42CA-9B53-9DD584A3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EA761AF-E83E-4DB6-A24A-4881A5B3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186F6C3-183A-493C-A0CB-D79204D9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7DDE993-4477-4408-BC58-52F2C2AA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10287E4-3494-4931-9D6E-D4BB63A7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0B2F728-D8A3-4E96-87A3-1A6CFDED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63CEA-EE3D-45E7-8F2F-06FF2FAB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8DD40C7-9E17-4F6C-9A59-FAFCBC6A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7DAB53D-1858-4BCA-B480-BB3085F8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A240957-D720-4E7B-89A8-F218E8F2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C661186-116F-4436-83E7-B50F5230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84E3193-748B-4190-869E-A2939D91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31AB60A-78BB-46FD-A7E0-8677147E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CD0AD91-D110-4E08-B917-E5F32DAA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3A7F234-0751-4131-BB92-32F367A1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C79D5A9-06FC-4D9A-8EB6-13B3C63D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1E95BDF-1BB1-4724-AAF4-E9FBBA6C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654C4-77BB-4F82-92D7-790B8476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6D80335-D885-4B0A-B1E8-7BE7EEC7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6994238-151F-408A-955D-37C5E362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96C2EB8-50BD-4277-89FF-6E3208D3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FDD1EF6-CAA5-49F2-AF7C-B1DD6B26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BE40EB5-2941-418F-AC47-073C92AD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4DAD97A-3224-4891-98D2-782C1556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E1B3395-BD58-477A-8A2B-A9CC0CFE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AF8A823-5D34-4DF7-B3BD-9E4B4E43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1F79594-EF61-41AE-8927-EECA049F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DE5033E-AD18-4DD6-BB45-020BDEB2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5B1E0-4697-4A92-88E4-E9DB57D4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4693A59-9C75-4704-A5FE-8169B06F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FD20F2C-0B40-43B0-8986-0EDFBDF6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7AB5C0C-137A-4FC5-8086-701EA2CA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81E4EE3-9E32-46D0-8481-7A72EB4F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846D3B2-00A3-4E7B-A94B-C9C2C52E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FAF1DFF-1F95-4AD2-A29F-19BE4D54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8864A76-8128-4331-893D-CA3FD100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0DFBA26-688C-44A7-90FB-345A82B2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88A7B64-4F1B-49E0-B3BD-408669ED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B4A70C3-E068-4C19-85A0-2E281A1F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BA061-F205-43AA-9408-0ACD2476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8F07B3A-060A-49A7-9A04-0B8B5DA7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6B38A06-6299-4B82-808A-6A552407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EE71B78-794C-4030-9341-C09FA363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9F42E56-D176-45CA-BE61-2D053629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8E2D4BC-115E-4C0E-85DE-07716222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FAAC211-FA66-435F-BE79-9AF37A00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1CB3CC9-99A3-4DB9-9EF5-ECE20360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88FBF4D-AA1C-4C55-AED6-E0D481C8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057E8B2-3607-4685-AFDC-62151C23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E373971-A42D-4767-983E-481B69A0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BF97D-6C5C-468F-9F56-2C58AA12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863075C-D031-41D7-B82B-74FCEE5F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DE9DA96-619D-498F-A18F-D91B1B89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6EC4D10-1399-49A9-8F07-9ECA8166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F8C3ABE-BA04-4D6E-A423-269826ED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BCBAC3C-489D-4CE7-947D-BAFE7F21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5111469-F355-4BC3-94D7-5F432C05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12C033B-644E-4A37-8D02-768D294D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2B775-5D23-4C96-949C-4765FB64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58C45-D15D-45CD-90ED-D06D96CB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477B3-CF1F-427E-8C22-FDDBCDCC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C8DAA-7451-4F8F-9A75-66F32E8B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A9B-16C6-4F72-9D1E-F2A60627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F3AC3-1B9C-4957-9FE5-B380801E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7DB74-23B9-4B5A-9154-B892BBCA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2481C-32BA-4E3B-8441-4D864999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F5E99-293F-4FD6-8F10-C82615C8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C6879-2078-4809-8899-A5E20110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494F8-175D-40EE-8F15-40BD9B73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7A43A-2413-4F49-8E93-DBA65778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A919B-3A1E-4802-8149-40751DF5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AAF85-D4DB-4784-83FA-8B35DCB6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A1506-5358-4F01-A9FB-782C602E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DA3-E9FD-418C-B874-C74AC63A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D8993-9440-481D-AB56-0567E711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E18C0-DEA2-49DB-9B98-177C2607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61902-6633-4C63-95EF-4EA7A53D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F44E2-0235-4F0A-9813-7005CB96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F7C05-7F6E-4D20-853D-18A80B55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904CA-F2BA-4B1B-8039-1F5BB36C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D91E9-9805-4522-B5E8-963DFD11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8251C-EB85-49C0-B867-EA217229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ABE41-4544-412F-A3AD-69CAF9FD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7EF69-D303-496B-8A6B-3CE90DC1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34D0-7F51-4BAD-A6D0-38598985C0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659F-78C2-4324-ACA6-6889F0034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9126-6B88-4051-96A2-5CA554A1C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B16C-E65A-4AD8-9FD7-FC38FA1555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27ED-B854-4337-A82E-95C4CBCC03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1FE7-DFED-475F-8460-A2729030FF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B96C-497A-4A89-A4E1-2BF5AB189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11FC-0F7A-4A7E-B86B-1E2322A74C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00AC-351C-4A3F-98E9-A3BED3B553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9C46-88AD-4431-A2BD-96A19FEC1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0EB7-7157-4F2D-B60D-B81CA304F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17C1-20AF-4815-A087-29F3DF145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759A-BE2B-4EB9-8DB2-69836C3B05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D444-9637-4052-99D9-E01C8A15C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E430-DAF7-4038-A84E-4F3FBAAEFA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53E4-80A6-445C-9969-266320566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0AA9-6CD7-468F-B546-9095F69AAB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B5F5-6C93-4A7C-AC77-7FA9A9480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5E6A-7684-4859-8C13-B59CAE3FC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5AED-09FB-4BC7-8E37-09CECC06E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916A-21FE-4A11-975B-7697D78E2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5477-BEDA-41D2-963D-85A1CD993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27B3-4642-487D-B85B-02B8D7D79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241D-8C6E-4CBE-BCD1-FFFA03F72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4950-FE5D-4973-A999-F86ECD7AC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9CD5-5013-4C03-8560-6948D47C4D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5483-FE72-4930-AA47-DC8722FFF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B7F4-4136-4EB4-A99E-F4C31887A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24B1-AB77-4E73-AC56-42149A0BA6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50E0-9FBC-4D4F-967F-C2B1098814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28C2-3C66-4654-AB9B-85B557772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DF6F-30A5-4ADB-BA3D-9D1F8803F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0E84-8AF7-425F-84E4-8F0E01BB91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62DE-1DAF-46C5-8363-398F234E4E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EE98-6928-4EA4-9117-9A05F40926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A2CE-582A-469B-A09C-AAB0DA8837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2340-742A-4659-B32E-7BCF26340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3D8A-B8C9-45FD-B6B1-6185AAD988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267E-8B70-4874-A389-899C23C147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1A0D-3D47-4947-950C-1C025D10B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E30F-1230-4856-A196-25F5F3FDF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A093-F0CF-44DE-B66A-F6B7737EE5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AD53-58E4-4923-8019-1B29A0F80C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842B-65BD-4CA1-82F1-8BD5065B96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6FE7-440B-4445-9518-DE36E3841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2E06-2055-4BA8-B318-48ED031A3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368F-A27B-426F-89F7-DD6DDB1B0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300E-42C5-4982-887A-3C6E694B46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6B23-1ECF-4FDE-ACA1-0ED6A9500C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034E-B9A1-4649-9DF1-C2107547A3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3322-F6F6-4EB8-8414-F2F327A54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06B6-0074-4AF8-9D21-8494F9F3C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D9B7-3EFC-4731-9B37-9FA1EE7BE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FD54-53E1-4F45-8D02-945730E2A1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D1C1-1248-4357-932B-9774E0181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84B2-663F-4AB3-AC27-9BE3FEFD0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3D7A-E61B-4C60-91F2-CA6C07460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3FD6-4C0D-49B9-BFCF-381962D7F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03E5-DE37-41D8-A2B8-CADD3A6C7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80B8-BE82-4EB2-A9DE-A6221646F5E6}" type="slidenum">
              <a:rPr b="0" lang="ru-RU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A851-7EA9-4BD3-A591-46C48F9DA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4514-E535-4F59-9090-D76BDE32D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5A0A-1F5A-4A7E-977A-CBF7BD0058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subTitle"/>
          </p:nvPr>
        </p:nvSpPr>
        <p:spPr>
          <a:xfrm>
            <a:off x="28584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итель информатики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избиз Ю.А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84" name="Прямоугольник 3" descr=""/>
          <p:cNvPicPr/>
          <p:nvPr/>
        </p:nvPicPr>
        <p:blipFill>
          <a:blip r:embed="rId1"/>
          <a:stretch/>
        </p:blipFill>
        <p:spPr>
          <a:xfrm>
            <a:off x="176040" y="1504800"/>
            <a:ext cx="8852040" cy="1756080"/>
          </a:xfrm>
          <a:prstGeom prst="rect">
            <a:avLst/>
          </a:prstGeom>
          <a:ln w="0">
            <a:noFill/>
          </a:ln>
        </p:spPr>
      </p:pic>
      <p:pic>
        <p:nvPicPr>
          <p:cNvPr id="2585" name="Прямоугольник 4" descr=""/>
          <p:cNvPicPr/>
          <p:nvPr/>
        </p:nvPicPr>
        <p:blipFill>
          <a:blip r:embed="rId2"/>
          <a:stretch/>
        </p:blipFill>
        <p:spPr>
          <a:xfrm>
            <a:off x="1633680" y="66600"/>
            <a:ext cx="5973480" cy="1281240"/>
          </a:xfrm>
          <a:prstGeom prst="rect">
            <a:avLst/>
          </a:prstGeom>
          <a:ln w="0">
            <a:noFill/>
          </a:ln>
        </p:spPr>
      </p:pic>
      <p:pic>
        <p:nvPicPr>
          <p:cNvPr id="2586" name="Picture 5" descr="C:\Users\Администратор\Desktop\Nokia\f20110330141542-vybor_computera.png"/>
          <p:cNvPicPr/>
          <p:nvPr/>
        </p:nvPicPr>
        <p:blipFill>
          <a:blip r:embed="rId3"/>
          <a:stretch/>
        </p:blipFill>
        <p:spPr>
          <a:xfrm>
            <a:off x="3286080" y="3357720"/>
            <a:ext cx="5126040" cy="3147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"/>
          <p:cNvSpPr txBox="1"/>
          <p:nvPr/>
        </p:nvSpPr>
        <p:spPr>
          <a:xfrm>
            <a:off x="213840" y="1714680"/>
            <a:ext cx="8472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канер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служат для автоматического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вода текстов и графики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компьютер.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канеры бывают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двух типов: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2397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учные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2397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ланшетные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12" name="Picture 5" descr="C:\Users\Администратор\Desktop\Nokia\scanner.png"/>
          <p:cNvPicPr/>
          <p:nvPr/>
        </p:nvPicPr>
        <p:blipFill>
          <a:blip r:embed="rId1"/>
          <a:stretch/>
        </p:blipFill>
        <p:spPr>
          <a:xfrm>
            <a:off x="3357720" y="2786040"/>
            <a:ext cx="5786280" cy="3929040"/>
          </a:xfrm>
          <a:prstGeom prst="rect">
            <a:avLst/>
          </a:prstGeom>
          <a:ln w="0">
            <a:noFill/>
          </a:ln>
        </p:spPr>
      </p:pic>
      <p:pic>
        <p:nvPicPr>
          <p:cNvPr id="2613" name="Прямоугольник 5" descr=""/>
          <p:cNvPicPr/>
          <p:nvPr/>
        </p:nvPicPr>
        <p:blipFill>
          <a:blip r:embed="rId2"/>
          <a:stretch/>
        </p:blipFill>
        <p:spPr>
          <a:xfrm>
            <a:off x="3139920" y="219240"/>
            <a:ext cx="3187800" cy="1139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одем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ли модемная плата служит для связи удалённых компьютеров по телефонной сети. Модем бывает внутренний (установлен внутри системного блока) и внешний (располагается рядом с системным блоком и соединяется с ним при помощи кабеля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DVB-карт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путниковая антенна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лужат для так называемого «асинхронного» подключения компьютера к сети Интернет. При наличии DVB-карты и спутниковой антенны для соединения с Интернетом используется два канала связи: для передачи данных от пользователя используется модем, а для приема – спутниковый канал, скорость потока данных в котором в несколько раз превышает модемную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15" name="Прямоугольник 3" descr=""/>
          <p:cNvPicPr/>
          <p:nvPr/>
        </p:nvPicPr>
        <p:blipFill>
          <a:blip r:embed="rId1"/>
          <a:stretch/>
        </p:blipFill>
        <p:spPr>
          <a:xfrm>
            <a:off x="1901880" y="158760"/>
            <a:ext cx="5102280" cy="1152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/>
          </p:nvPr>
        </p:nvSpPr>
        <p:spPr>
          <a:xfrm>
            <a:off x="457200" y="1643040"/>
            <a:ext cx="44006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ля организации на беск-райних Интернета видеокон-ференций (или просто бол-товни) пригодитс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еб-каме-р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. С помощью этих уст-ройств (и, естественно, быстрых локальных сетей), можно в любой момент уст-роить совещание со своими сотрудниками, не отрывая оных от насиженных рабочих мест. А это, как показывает практика, дает весьма ощу-тимую практическую пользу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17" name="Picture 5" descr="C:\Users\Администратор\Desktop\Nokia\Untitled-1.png"/>
          <p:cNvPicPr/>
          <p:nvPr/>
        </p:nvPicPr>
        <p:blipFill>
          <a:blip r:embed="rId1"/>
          <a:stretch/>
        </p:blipFill>
        <p:spPr>
          <a:xfrm>
            <a:off x="3714840" y="1643040"/>
            <a:ext cx="5659200" cy="4583160"/>
          </a:xfrm>
          <a:prstGeom prst="rect">
            <a:avLst/>
          </a:prstGeom>
          <a:ln w="0">
            <a:noFill/>
          </a:ln>
        </p:spPr>
      </p:pic>
      <p:pic>
        <p:nvPicPr>
          <p:cNvPr id="2618" name="Прямоугольник 8" descr=""/>
          <p:cNvPicPr/>
          <p:nvPr/>
        </p:nvPicPr>
        <p:blipFill>
          <a:blip r:embed="rId2"/>
          <a:stretch/>
        </p:blipFill>
        <p:spPr>
          <a:xfrm>
            <a:off x="2316240" y="139680"/>
            <a:ext cx="4481280" cy="1212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 означает «персональный компьютер»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 такое «базовая конфигурация ПК»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кие виды мониторов вы знаете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 такое разрешающая способность мыши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ем отличаются оптико-механические и оптические мыши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кие еще устройства ввода информации в компьютер вы знаете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20" name="WordArt 4"/>
          <p:cNvSpPr txBox="1"/>
          <p:nvPr/>
        </p:nvSpPr>
        <p:spPr>
          <a:xfrm>
            <a:off x="6858000" y="357120"/>
            <a:ext cx="1662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992f7d"/>
                </a:solidFill>
                <a:latin typeface="Times New Roman"/>
              </a:rPr>
              <a:t>?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992f7d"/>
              </a:solidFill>
              <a:latin typeface="Times New Roman"/>
              <a:ea typeface="Times New Roman"/>
            </a:endParaRPr>
          </a:p>
        </p:txBody>
      </p:sp>
      <p:pic>
        <p:nvPicPr>
          <p:cNvPr id="2621" name="Прямоугольник 4" descr=""/>
          <p:cNvPicPr/>
          <p:nvPr/>
        </p:nvPicPr>
        <p:blipFill>
          <a:blip r:embed="rId1"/>
          <a:stretch/>
        </p:blipFill>
        <p:spPr>
          <a:xfrm>
            <a:off x="2219400" y="291960"/>
            <a:ext cx="3700440" cy="1135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ногда говорят «персональный компьютер».  Уточнение «персональный» здесь не случайно – это значит свой, личный, доступный большинству людей, ведь существует большое количество других видов компьютеров, которые персональными никак не назвать – рабочие станции для предприятий, серверы для связи множества компьютеров в сеть и др. в дальнейшем, говоря «компьютер» мы будем иметь в виду именно персональный компьютер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 современном рынке вычислительной техники разнообразие модификаций и вариантов компьютеров огромно, но любой, даже самый необычный комплект неизменно включает одни и те же виды устройств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88" name="Прямоугольник 3" descr=""/>
          <p:cNvPicPr/>
          <p:nvPr/>
        </p:nvPicPr>
        <p:blipFill>
          <a:blip r:embed="rId1"/>
          <a:stretch/>
        </p:blipFill>
        <p:spPr>
          <a:xfrm>
            <a:off x="-73080" y="85680"/>
            <a:ext cx="9193320" cy="1152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Базовая конфигурация ПК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- минимальный комплект аппаратный средств, достаточный для начала работы с компьютером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истемный блок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онитор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лавиатура;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ышь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90" name="Прямоугольник 4" descr=""/>
          <p:cNvPicPr/>
          <p:nvPr/>
        </p:nvPicPr>
        <p:blipFill>
          <a:blip r:embed="rId1"/>
          <a:stretch/>
        </p:blipFill>
        <p:spPr>
          <a:xfrm>
            <a:off x="-23760" y="139680"/>
            <a:ext cx="9155160" cy="1212840"/>
          </a:xfrm>
          <a:prstGeom prst="rect">
            <a:avLst/>
          </a:prstGeom>
          <a:ln w="0">
            <a:noFill/>
          </a:ln>
        </p:spPr>
      </p:pic>
      <p:pic>
        <p:nvPicPr>
          <p:cNvPr id="2591" name="Picture 6" descr="C:\Users\Администратор\Desktop\Nokia\1324556002_2.png"/>
          <p:cNvPicPr/>
          <p:nvPr/>
        </p:nvPicPr>
        <p:blipFill>
          <a:blip r:embed="rId2"/>
          <a:stretch/>
        </p:blipFill>
        <p:spPr>
          <a:xfrm>
            <a:off x="3857760" y="3000240"/>
            <a:ext cx="4960800" cy="3652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562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истемный блок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– основ-ной блок компьютерной системы. В нем располагают-ся устройства, считающиеся внутренними. Устройства, подключающиеся к системно-му блоку снаружи, считаются внешними.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93" name="Picture 6" descr="C:\Users\Администратор\Desktop\Nokia\50597.png"/>
          <p:cNvPicPr/>
          <p:nvPr/>
        </p:nvPicPr>
        <p:blipFill>
          <a:blip r:embed="rId1"/>
          <a:stretch/>
        </p:blipFill>
        <p:spPr>
          <a:xfrm>
            <a:off x="5786280" y="1785960"/>
            <a:ext cx="3073680" cy="4429080"/>
          </a:xfrm>
          <a:prstGeom prst="rect">
            <a:avLst/>
          </a:prstGeom>
          <a:ln w="0">
            <a:noFill/>
          </a:ln>
        </p:spPr>
      </p:pic>
      <p:pic>
        <p:nvPicPr>
          <p:cNvPr id="2594" name="Прямоугольник 7" descr=""/>
          <p:cNvPicPr/>
          <p:nvPr/>
        </p:nvPicPr>
        <p:blipFill>
          <a:blip r:embed="rId2"/>
          <a:stretch/>
        </p:blipFill>
        <p:spPr>
          <a:xfrm>
            <a:off x="1554120" y="219240"/>
            <a:ext cx="6370560" cy="1139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 txBox="1"/>
          <p:nvPr/>
        </p:nvSpPr>
        <p:spPr>
          <a:xfrm>
            <a:off x="285840" y="1828800"/>
            <a:ext cx="49291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онитор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устройство для визуального воспро-изведения символьной  и графической инфор-мации. Служит в ка-честве устройства выво-да. Они отдаленно напо-минают бытовые телевизоры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96" name="Picture 5" descr="C:\Users\Администратор\Desktop\Nokia\xps_one.png"/>
          <p:cNvPicPr/>
          <p:nvPr/>
        </p:nvPicPr>
        <p:blipFill>
          <a:blip r:embed="rId1"/>
          <a:stretch/>
        </p:blipFill>
        <p:spPr>
          <a:xfrm>
            <a:off x="4714920" y="78588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597" name="Прямоугольник 6" descr=""/>
          <p:cNvPicPr/>
          <p:nvPr/>
        </p:nvPicPr>
        <p:blipFill>
          <a:blip r:embed="rId2"/>
          <a:stretch/>
        </p:blipFill>
        <p:spPr>
          <a:xfrm>
            <a:off x="2620800" y="304920"/>
            <a:ext cx="3876840" cy="1152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"/>
          <p:cNvSpPr txBox="1"/>
          <p:nvPr/>
        </p:nvSpPr>
        <p:spPr>
          <a:xfrm>
            <a:off x="456840" y="1828800"/>
            <a:ext cx="4257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лавиатур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–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лавишное устройство, предназначенное для управления работой компьютера и ввода в него информации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нформация вво-диться в виде алфавит-но-цифровых символь-ных данных.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599" name="Picture 10" descr="C:\Users\Администратор\Desktop\Nokia\Chicony_Wireless_Keyboard_KBR0108_2.png"/>
          <p:cNvPicPr/>
          <p:nvPr/>
        </p:nvPicPr>
        <p:blipFill>
          <a:blip r:embed="rId1"/>
          <a:stretch/>
        </p:blipFill>
        <p:spPr>
          <a:xfrm>
            <a:off x="4429080" y="1220760"/>
            <a:ext cx="4489560" cy="2422440"/>
          </a:xfrm>
          <a:prstGeom prst="rect">
            <a:avLst/>
          </a:prstGeom>
          <a:ln w="0">
            <a:noFill/>
          </a:ln>
        </p:spPr>
      </p:pic>
      <p:pic>
        <p:nvPicPr>
          <p:cNvPr id="2600" name="Picture 12" descr="C:\Users\Администратор\Desktop\Nokia\1269026036.png"/>
          <p:cNvPicPr/>
          <p:nvPr/>
        </p:nvPicPr>
        <p:blipFill>
          <a:blip r:embed="rId2"/>
          <a:stretch/>
        </p:blipFill>
        <p:spPr>
          <a:xfrm>
            <a:off x="4500720" y="3643200"/>
            <a:ext cx="4535280" cy="2500560"/>
          </a:xfrm>
          <a:prstGeom prst="rect">
            <a:avLst/>
          </a:prstGeom>
          <a:ln w="0">
            <a:noFill/>
          </a:ln>
        </p:spPr>
      </p:pic>
      <p:pic>
        <p:nvPicPr>
          <p:cNvPr id="2601" name="Прямоугольник 12" descr=""/>
          <p:cNvPicPr/>
          <p:nvPr/>
        </p:nvPicPr>
        <p:blipFill>
          <a:blip r:embed="rId3"/>
          <a:stretch/>
        </p:blipFill>
        <p:spPr>
          <a:xfrm>
            <a:off x="2023920" y="139680"/>
            <a:ext cx="4711680" cy="1212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"/>
          <p:cNvSpPr txBox="1"/>
          <p:nvPr/>
        </p:nvSpPr>
        <p:spPr>
          <a:xfrm>
            <a:off x="214200" y="1428840"/>
            <a:ext cx="5572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ышь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– устройство «графи-ческого» управления. При пере-мещении мыши по коврику на экране перемещается указа-тель мыши, при помощи кото-рого можно указывать на объек-ты и/или выбирать их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спользуя клавиши мыши (их может быть две или три) можно задать тот или другой тип операции с объектом.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03" name="Picture 8" descr="C:\Users\Администратор\Desktop\Nokia\index26.2.png"/>
          <p:cNvPicPr/>
          <p:nvPr/>
        </p:nvPicPr>
        <p:blipFill>
          <a:blip r:embed="rId1"/>
          <a:stretch/>
        </p:blipFill>
        <p:spPr>
          <a:xfrm>
            <a:off x="5643720" y="1000080"/>
            <a:ext cx="2989080" cy="2604960"/>
          </a:xfrm>
          <a:prstGeom prst="rect">
            <a:avLst/>
          </a:prstGeom>
          <a:ln w="0">
            <a:noFill/>
          </a:ln>
        </p:spPr>
      </p:pic>
      <p:pic>
        <p:nvPicPr>
          <p:cNvPr id="2604" name="Picture 9" descr="C:\Users\Администратор\Desktop\Nokia\zixg4kxehl.png"/>
          <p:cNvPicPr/>
          <p:nvPr/>
        </p:nvPicPr>
        <p:blipFill>
          <a:blip r:embed="rId2"/>
          <a:stretch/>
        </p:blipFill>
        <p:spPr>
          <a:xfrm>
            <a:off x="5357880" y="3786120"/>
            <a:ext cx="3929040" cy="2786040"/>
          </a:xfrm>
          <a:prstGeom prst="rect">
            <a:avLst/>
          </a:prstGeom>
          <a:ln w="0">
            <a:noFill/>
          </a:ln>
        </p:spPr>
      </p:pic>
      <p:pic>
        <p:nvPicPr>
          <p:cNvPr id="2605" name="Прямоугольник 9" descr=""/>
          <p:cNvPicPr/>
          <p:nvPr/>
        </p:nvPicPr>
        <p:blipFill>
          <a:blip r:embed="rId3"/>
          <a:stretch/>
        </p:blipFill>
        <p:spPr>
          <a:xfrm>
            <a:off x="2719440" y="73080"/>
            <a:ext cx="2863800" cy="1139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ериферийными называют устройства, подключаемые к компьютеру извне. Обычно эти устройства предназначены для ввода и вывода информации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от некоторые из них: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интер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канер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дем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DVB-карта и спутниковая антенна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еб-камера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07" name="Прямоугольник 3" descr=""/>
          <p:cNvPicPr/>
          <p:nvPr/>
        </p:nvPicPr>
        <p:blipFill>
          <a:blip r:embed="rId1"/>
          <a:stretch/>
        </p:blipFill>
        <p:spPr>
          <a:xfrm>
            <a:off x="244440" y="433440"/>
            <a:ext cx="8637480" cy="931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"/>
          <p:cNvSpPr txBox="1"/>
          <p:nvPr/>
        </p:nvSpPr>
        <p:spPr>
          <a:xfrm>
            <a:off x="456840" y="1828800"/>
            <a:ext cx="843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нтер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служит для вывода информа-ции на бумажный носитель (бумагу).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уществуют три тип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нтеров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26352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атричный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26352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труйный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indent="26352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азерный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609" name="Picture 5" descr="C:\Users\Администратор\Desktop\Nokia\58340.png"/>
          <p:cNvPicPr/>
          <p:nvPr/>
        </p:nvPicPr>
        <p:blipFill>
          <a:blip r:embed="rId1"/>
          <a:stretch/>
        </p:blipFill>
        <p:spPr>
          <a:xfrm rot="270600">
            <a:off x="3858840" y="2787120"/>
            <a:ext cx="5257800" cy="3878280"/>
          </a:xfrm>
          <a:prstGeom prst="rect">
            <a:avLst/>
          </a:prstGeom>
          <a:ln w="0">
            <a:noFill/>
          </a:ln>
        </p:spPr>
      </p:pic>
      <p:pic>
        <p:nvPicPr>
          <p:cNvPr id="2610" name="Прямоугольник 5" descr=""/>
          <p:cNvPicPr/>
          <p:nvPr/>
        </p:nvPicPr>
        <p:blipFill>
          <a:blip r:embed="rId2"/>
          <a:stretch/>
        </p:blipFill>
        <p:spPr>
          <a:xfrm>
            <a:off x="2523960" y="212760"/>
            <a:ext cx="3834000" cy="1214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03:19Z</dcterms:created>
  <dc:creator>bas</dc:creator>
  <dc:description/>
  <dc:language>en-US</dc:language>
  <cp:lastModifiedBy>RWT</cp:lastModifiedBy>
  <dcterms:modified xsi:type="dcterms:W3CDTF">2012-01-29T18:21:26Z</dcterms:modified>
  <cp:revision>27</cp:revision>
  <dc:subject/>
  <dc:title>Устройство компью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39000000000001024140</vt:lpwstr>
  </property>
</Properties>
</file>