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3.gif" ContentType="image/gif"/>
  <Override PartName="/ppt/media/image8.gif" ContentType="image/gif"/>
  <Override PartName="/ppt/media/image6.gif" ContentType="image/gif"/>
  <Override PartName="/ppt/media/image5.jpeg" ContentType="image/jpeg"/>
  <Override PartName="/ppt/media/image4.gif" ContentType="image/gif"/>
  <Override PartName="/ppt/media/image1.jpeg" ContentType="image/jpeg"/>
  <Override PartName="/ppt/media/image3.gif" ContentType="image/gif"/>
  <Override PartName="/ppt/media/image11.png" ContentType="image/png"/>
  <Override PartName="/ppt/media/image24.gif" ContentType="image/gif"/>
  <Override PartName="/ppt/media/image23.gif" ContentType="image/gif"/>
  <Override PartName="/ppt/media/image21.jpeg" ContentType="image/jpeg"/>
  <Override PartName="/ppt/media/image17.gif" ContentType="image/gif"/>
  <Override PartName="/ppt/media/image25.jpeg" ContentType="image/jpeg"/>
  <Override PartName="/ppt/media/image22.gif" ContentType="image/gif"/>
  <Override PartName="/ppt/media/image20.jpeg" ContentType="image/jpeg"/>
  <Override PartName="/ppt/media/image19.gif" ContentType="image/gif"/>
  <Override PartName="/ppt/media/image18.gif" ContentType="image/gif"/>
  <Override PartName="/ppt/media/image16.gif" ContentType="image/gif"/>
  <Override PartName="/ppt/media/image14.jpeg" ContentType="image/jpeg"/>
  <Override PartName="/ppt/media/image2.gif" ContentType="image/gif"/>
  <Override PartName="/ppt/media/image7.jpeg" ContentType="image/jpeg"/>
  <Override PartName="/ppt/media/image15.gif" ContentType="image/gi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A4E7-2984-4428-8E2F-3F0A5782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48F-0B91-417B-BF9C-71EE6625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2148-84CA-4E99-9760-8602305E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901D-3C47-43BE-A96C-32A0828B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515E-E540-4903-BCC7-EDBC12A5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D65D-B9FD-45AF-9249-34905DE2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34BB-B8FA-46AE-9E30-0AB8AC47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5CCF-1513-424A-A44C-0F1571DB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650D-9B8A-4182-B143-8CE99709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522E-632F-40A5-88D3-0E477A1A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7ADC-5798-4529-A59E-44AD594F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894-3D94-4B86-99FD-254E456A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E4A3-8407-461B-A028-C8950F29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89D6-83FD-431F-B98F-20C11815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0854-8F9B-470E-8A46-2F554B22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3724-2F68-4436-A9DA-85A604A9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D5EA-9C9F-4390-9B59-DF55C016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FA9A-0E5C-4040-92B9-EC721C95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98A4-DC73-442B-8088-F17E820E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40C4-25BB-4F5A-B135-3CD62AC9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F66-9044-4ED0-99D3-742EFB08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0A99-B740-4F83-8FDA-07ABDB93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95B-74EC-4B81-8584-B513E995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0D0-3770-40A6-A9DE-E4A6FE8C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8221-B28B-4B17-9C29-912C30BB70E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A4E8-C7B6-4D23-B8E4-C8B30106D4F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atic.diary.ru/userdir/8/5/2/2/852253/3626044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003.radikal.ru/0911/e6/86c07f9a4e7e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5543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Картинка 2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99440" y="692280"/>
            <a:ext cx="68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Звёзды, созвездия, небо ночное!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Знайте, всегда я вас видеть хоч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105520" y="620640"/>
            <a:ext cx="40384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775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ыполните зада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76360" y="1268280"/>
            <a:ext cx="3692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1.Изобразите расположение Большой, Малой Медведиц, Кассиопеи и Цефе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2.   Укажите местонахождение наиболее знаменитых звёзд: МИЦАР, ПОЛЯРНАЯ ЗВЕЗ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3. В какие созвездия были превращены одна из прекрасных нимф Каллисто и её сын Аркас, исходя из древнегреческой мифолог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68144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2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озвездия осеннего неб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0" name="" descr="Карта созвездий осеннего неба"/>
          <p:cNvPicPr/>
          <p:nvPr/>
        </p:nvPicPr>
        <p:blipFill>
          <a:blip r:embed="rId1"/>
          <a:stretch/>
        </p:blipFill>
        <p:spPr>
          <a:xfrm>
            <a:off x="324000" y="907920"/>
            <a:ext cx="84247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Lucida Sans Unicode"/>
              </a:rPr>
              <a:t>Лебед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много правее Веги, вдоль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лечного пу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как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ы летит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Лебедь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крылья» широко раскинуты, «шея» вытянута, а сзади более слабые звезды образуют «ноги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rot="1941600">
            <a:off x="610920" y="404640"/>
            <a:ext cx="936360" cy="935280"/>
          </a:xfrm>
          <a:custGeom>
            <a:avLst/>
            <a:gdLst>
              <a:gd name="textAreaLeft" fmla="*/ 385920 w 936360"/>
              <a:gd name="textAreaRight" fmla="*/ 550440 w 936360"/>
              <a:gd name="textAreaTop" fmla="*/ 385200 h 935280"/>
              <a:gd name="textAreaBottom" fmla="*/ 550080 h 9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836640"/>
            <a:ext cx="433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042920" y="981000"/>
            <a:ext cx="0" cy="432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042920" y="0"/>
            <a:ext cx="73080" cy="620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50560" y="836640"/>
            <a:ext cx="6490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Созвездие Лебедь"/>
          <p:cNvPicPr/>
          <p:nvPr/>
        </p:nvPicPr>
        <p:blipFill>
          <a:blip r:embed="rId2"/>
          <a:stretch/>
        </p:blipFill>
        <p:spPr>
          <a:xfrm>
            <a:off x="4567320" y="1341360"/>
            <a:ext cx="40734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озвездия зимнего неб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95280" y="1241280"/>
            <a:ext cx="820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9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328680"/>
            <a:ext cx="856908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b2b2b2"/>
                </a:solidFill>
                <a:latin typeface="Monotype Corsiva"/>
              </a:rPr>
              <a:t>Практическая работа по астрономии №2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138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cc"/>
                </a:solidFill>
                <a:latin typeface="Monotype Corsiva"/>
              </a:rPr>
              <a:t>Изучение звёздного неб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cc"/>
                </a:solidFill>
                <a:latin typeface="Monotype Corsiva"/>
              </a:rPr>
              <a:t>Отработка навыков уверенного нахождения созвездий и самых ярких звёзд северного неб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7403600">
            <a:off x="7055640" y="2853360"/>
            <a:ext cx="1584000" cy="2592360"/>
          </a:xfrm>
          <a:custGeom>
            <a:avLst/>
            <a:gdLst>
              <a:gd name="textAreaLeft" fmla="*/ 652680 w 1584000"/>
              <a:gd name="textAreaRight" fmla="*/ 931320 w 1584000"/>
              <a:gd name="textAreaTop" fmla="*/ 1068120 h 2592360"/>
              <a:gd name="textAreaBottom" fmla="*/ 15242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Monotype Corsiva"/>
              </a:rPr>
              <a:t>Интерактивная игра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Monotype Corsiva"/>
              </a:rPr>
              <a:t>«Я знаю 10 созвездий»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Условия игр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ученик выходит посреди класса, говорит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« Я знаю 10 созвездий…», делает шаг, называет созвездие и т.д. Останавливаться   и замолкать нельзя, выбываешь из игр. Побеждает тот, кто назвал больше созвезд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озвездия весеннего неб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35280" y="1566360"/>
            <a:ext cx="37083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арь зверей золотогрив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личаво и лени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эклиптике леж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на Львенка не глядит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ГУЛ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символ царской в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д охраной грозной паст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 на кисточке хвоста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х! Какая красота! 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В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в шутку приколо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ркий бантик 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НЕБОЛ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68476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424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ЛЕТНИЙ ТРЕУГОЛЬНИК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300720" y="1599840"/>
            <a:ext cx="223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ЛЬТАИР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НЕБ и ВЕГ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Короли на летнем небе!   Пусть запомнит каждый               школьник:   Это –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ЕТНИЙ ТРЕУГОЛЬНИК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58338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300720" y="620640"/>
            <a:ext cx="2843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Карта созвездий летнего неба"/>
          <p:cNvPicPr/>
          <p:nvPr/>
        </p:nvPicPr>
        <p:blipFill>
          <a:blip r:embed="rId1"/>
          <a:stretch/>
        </p:blipFill>
        <p:spPr>
          <a:xfrm>
            <a:off x="0" y="0"/>
            <a:ext cx="896472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292720" y="692280"/>
            <a:ext cx="38512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образите схему расположение созвездий 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Лебедя, Ли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 представляет собой  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СЕВЕРНЫЙ КР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ие звёзды входят в 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ЛЕТНИЙ  ТРЕУГОЛЬНИК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!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680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199"/>
                </a:solidFill>
                <a:latin typeface="Monotype Corsiva"/>
              </a:rPr>
              <a:t>Заполни таблицу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39640" y="1052640"/>
          <a:ext cx="8229600" cy="5297400"/>
        </p:xfrm>
        <a:graphic>
          <a:graphicData uri="http://schemas.openxmlformats.org/drawingml/2006/table">
            <a:tbl>
              <a:tblPr/>
              <a:tblGrid>
                <a:gridCol w="655560"/>
                <a:gridCol w="1905120"/>
                <a:gridCol w="1892160"/>
                <a:gridCol w="1887480"/>
                <a:gridCol w="1889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Созвезд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Звёз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Координаты звёз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Картинка 42 из 49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817200" cy="7143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83880" y="549360"/>
            <a:ext cx="6624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Темнеет.. .  пришла пора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Небесных тайн. А бархат ночи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Нам помогают в жизни очень ,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Ведь днем всего не увидать ,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И главного не разгадать.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А ночь как космоса покров ,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И разума бесценный кров.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Последний раз наверх взгляни ,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Теперь немного отдохни.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И пусть звезда твоя приснится.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Желаю с нею породн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b2b2b2"/>
                </a:solidFill>
                <a:latin typeface="Arial"/>
              </a:rPr>
              <a:t>"С того самого дня, как в человеке зародилась мысль, его внимание было всецело поглощено созерцанием неба. Оно поражало его красотой, своим величием"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.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10199"/>
                </a:solidFill>
                <a:latin typeface="Arial"/>
              </a:rPr>
              <a:t> (Камилл Фламмарион)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Comic Sans MS"/>
              </a:rPr>
              <a:t>Ориентирование по звездному небу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чем древние люди изучали звёздное неб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же можно ориентироваться по звездам, если их на небе великое множеств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мы знаем о созвездия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такое созвезд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сколько созвездий разделено неб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 созвездия вы умеете находить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24720" y="4869000"/>
            <a:ext cx="1366920" cy="1803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98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23640" y="1773360"/>
            <a:ext cx="144360" cy="215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94920" y="1125000"/>
            <a:ext cx="144360" cy="142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00000" y="1125000"/>
            <a:ext cx="142920" cy="142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900000" y="1628640"/>
            <a:ext cx="216000" cy="216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338436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ша милая план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Ты, конечно, знаешь это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день и каждый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ршает 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с Земли при наблюдень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ется впечатлень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кружится не о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все звезды и Лу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ЯРНАЯ ЗВЕЗ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стремится никуда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в любое время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амом центре хоро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ожешь ты её най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сбился вдруг с пу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ь земная на не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правляет остриё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жешь быть уверен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она - та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ВЕР!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Lucida Sans Unicode"/>
              </a:rPr>
              <a:t>Созвездие Большая Медведиц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4254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звездие               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Больша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едведиц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держит 210 звезды, видимы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вооруженным глазом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мая известная груп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го созвездия, состоящая из семи звезд в Северном полушарии –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Большой Ковш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245120" cy="4464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rot="20068800">
            <a:off x="250560" y="1125000"/>
            <a:ext cx="792000" cy="792360"/>
          </a:xfrm>
          <a:custGeom>
            <a:avLst/>
            <a:gdLst>
              <a:gd name="textAreaLeft" fmla="*/ 326160 w 792000"/>
              <a:gd name="textAreaRight" fmla="*/ 465840 w 79200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826920" y="1052280"/>
            <a:ext cx="144720" cy="215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68000" y="1700280"/>
            <a:ext cx="144360" cy="217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24000" y="1341000"/>
            <a:ext cx="142560" cy="142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1557360"/>
            <a:ext cx="358560" cy="216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Lucida Sans Unicode"/>
              </a:rPr>
              <a:t>Определение Северного направлени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9134000">
            <a:off x="611280" y="260280"/>
            <a:ext cx="576000" cy="865080"/>
          </a:xfrm>
          <a:custGeom>
            <a:avLst/>
            <a:gdLst>
              <a:gd name="textAreaLeft" fmla="*/ 237240 w 576000"/>
              <a:gd name="textAreaRight" fmla="*/ 338760 w 576000"/>
              <a:gd name="textAreaTop" fmla="*/ 356400 h 865080"/>
              <a:gd name="textAreaBottom" fmla="*/ 50868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23640" y="692280"/>
            <a:ext cx="3603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900000" y="0"/>
            <a:ext cx="71640" cy="5493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836640"/>
            <a:ext cx="0" cy="431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7650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0720" y="4508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5636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8:16:09Z</dcterms:created>
  <dc:creator>Kirill</dc:creator>
  <dc:description/>
  <dc:language>en-US</dc:language>
  <cp:lastModifiedBy>Admin</cp:lastModifiedBy>
  <dcterms:modified xsi:type="dcterms:W3CDTF">2010-11-13T18:42:06Z</dcterms:modified>
  <cp:revision>21</cp:revision>
  <dc:subject/>
  <dc:title>Путеводитель по звездному неб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30000000000001024140</vt:lpwstr>
  </property>
</Properties>
</file>