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gif" ContentType="image/gif"/>
  <Override PartName="/ppt/media/image8.gif" ContentType="image/gif"/>
  <Override PartName="/ppt/media/image6.gif" ContentType="image/gif"/>
  <Override PartName="/ppt/media/image5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11.png" ContentType="image/png"/>
  <Override PartName="/ppt/media/image24.gif" ContentType="image/gif"/>
  <Override PartName="/ppt/media/image23.gif" ContentType="image/gif"/>
  <Override PartName="/ppt/media/image21.jpeg" ContentType="image/jpeg"/>
  <Override PartName="/ppt/media/image17.gif" ContentType="image/gif"/>
  <Override PartName="/ppt/media/image25.jpeg" ContentType="image/jpeg"/>
  <Override PartName="/ppt/media/image22.gif" ContentType="image/gif"/>
  <Override PartName="/ppt/media/image20.jpeg" ContentType="image/jpeg"/>
  <Override PartName="/ppt/media/image19.gif" ContentType="image/gif"/>
  <Override PartName="/ppt/media/image18.gif" ContentType="image/gif"/>
  <Override PartName="/ppt/media/image16.gif" ContentType="image/gif"/>
  <Override PartName="/ppt/media/image14.jpeg" ContentType="image/jpeg"/>
  <Override PartName="/ppt/media/image2.gif" ContentType="image/gif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B5C-F362-4ACC-8DA8-67DDE11C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62F-1C07-4DB6-8B4F-40E0FF4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AF4-BBD2-406E-AFF6-0FFCDE59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41F-3652-4ECA-B490-B7883B08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3D3-2195-4F17-B8BE-AC39C56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071C-2F5A-48C5-9053-C94A816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FE6-7F0D-41AB-8F2C-6B18DD33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32AA-8BCD-4F8E-94E4-AACEA043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54CD-4ECF-4EE7-BBB2-EE426799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C9D8-7ABE-443A-9B78-4CF29985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F2FA-EA18-4F8F-A915-0ADE0EE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458-D364-45BA-A974-E208D7D5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679D-0675-4705-8317-E2C3592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028A-D802-48CB-B4FB-1D17C3A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6D42-1455-4A6A-87EF-F6E4151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9BF7-9321-45F6-8B67-03B9BD09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BA6C-EC8D-4812-B7C5-06E01B0F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065-2136-4D50-8219-181E187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A02-05B1-4A32-B0A5-927E0587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642-1C0E-40BD-8F47-B4E446B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CB4-F956-42D3-9BA3-169787DC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D0B-6924-4EFC-AF38-C9E9A43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025-998F-4F5F-8842-D9ADD0F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7A0-1A82-4E07-8E6A-4A28BCBD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3144-594B-4DA3-BF4D-41ED0D1810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51E-213A-4664-8500-8F1FF7D6FE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tic.diary.ru/userdir/8/5/2/2/852253/362604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003.radikal.ru/0911/e6/86c07f9a4e7e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5543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Картинка 2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99440" y="692280"/>
            <a:ext cx="68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Звёзды, созвездия, небо ночное!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Знайте, всегда я вас видеть хо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75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полните зад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6360" y="1268280"/>
            <a:ext cx="3692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1.Изобразите расположение Большой, Малой Медведиц, Кассиопеи и Цефе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2.   Укажите местонахождение наиболее знаменитых звёзд: МИЦАР, ПОЛЯРНАЯ ЗВЕЗ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3. В какие созвездия были превращены одна из прекрасных нимф Каллисто и её сын Аркас, исходя из древнегреческой мифолог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681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осен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" descr="Карта созвездий осеннего неба"/>
          <p:cNvPicPr/>
          <p:nvPr/>
        </p:nvPicPr>
        <p:blipFill>
          <a:blip r:embed="rId1"/>
          <a:stretch/>
        </p:blipFill>
        <p:spPr>
          <a:xfrm>
            <a:off x="324000" y="907920"/>
            <a:ext cx="842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Lucida Sans Unicode"/>
              </a:rPr>
              <a:t>Лебед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ного правее Веги, вдоль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лечного пу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ка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 летит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Лебедь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крылья» широко раскинуты, «шея» вытянута, а сзади более слабые звезды образуют «ног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941600">
            <a:off x="610920" y="404640"/>
            <a:ext cx="936360" cy="935280"/>
          </a:xfrm>
          <a:custGeom>
            <a:avLst/>
            <a:gdLst>
              <a:gd name="textAreaLeft" fmla="*/ 385920 w 936360"/>
              <a:gd name="textAreaRight" fmla="*/ 550440 w 936360"/>
              <a:gd name="textAreaTop" fmla="*/ 385200 h 935280"/>
              <a:gd name="textAreaBottom" fmla="*/ 5500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836640"/>
            <a:ext cx="433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042920" y="981000"/>
            <a:ext cx="0" cy="43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42920" y="0"/>
            <a:ext cx="73080" cy="620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0560" y="836640"/>
            <a:ext cx="6490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Созвездие Лебедь"/>
          <p:cNvPicPr/>
          <p:nvPr/>
        </p:nvPicPr>
        <p:blipFill>
          <a:blip r:embed="rId2"/>
          <a:stretch/>
        </p:blipFill>
        <p:spPr>
          <a:xfrm>
            <a:off x="4567320" y="1341360"/>
            <a:ext cx="4073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зим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5280" y="124128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328680"/>
            <a:ext cx="856908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2b2b2"/>
                </a:solidFill>
                <a:latin typeface="Monotype Corsiva"/>
              </a:rPr>
              <a:t>Практическая работа по астрономии №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138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Изучение звёздного не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cc"/>
                </a:solidFill>
                <a:latin typeface="Monotype Corsiva"/>
              </a:rPr>
              <a:t>Отработка навыков уверенного нахождения созвездий и самых ярких звёзд северного неб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03600">
            <a:off x="7055640" y="2853360"/>
            <a:ext cx="1584000" cy="2592360"/>
          </a:xfrm>
          <a:custGeom>
            <a:avLst/>
            <a:gdLst>
              <a:gd name="textAreaLeft" fmla="*/ 652680 w 1584000"/>
              <a:gd name="textAreaRight" fmla="*/ 931320 w 1584000"/>
              <a:gd name="textAreaTop" fmla="*/ 1068120 h 2592360"/>
              <a:gd name="textAreaBottom" fmla="*/ 15242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Monotype Corsiva"/>
              </a:rPr>
              <a:t>Интерактивная игра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Monotype Corsiva"/>
              </a:rPr>
              <a:t>«Я знаю 10 созвездий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словия игр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ученик выходит посреди класса, говори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« Я знаю 10 созвездий…», делает шаг, называет созвездие и т.д. Останавливаться   и замолкать нельзя, выбываешь из игр. Побеждает тот, кто назвал больше созвезд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звездия весеннего неб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35280" y="1566360"/>
            <a:ext cx="3708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арь зверей золотогри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аво и лени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эклиптике леж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на Львенка не гляди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ГУ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символ царской в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охраной грозной па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на кисточке хвоста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х! Какая красота!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шутку прикол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ркий бантик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НЕБОЛ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56847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ЛЕТНИЙ ТРЕУГОЛЬ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00720" y="1599840"/>
            <a:ext cx="223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ЛЬТАИ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НЕБ и ВЕГ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Короли на летнем небе!   Пусть запомнит каждый               школьник:   Это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ЕТНИЙ ТРЕУГОЛЬНИ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5833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300720" y="620640"/>
            <a:ext cx="284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Карта созвездий летнего неба"/>
          <p:cNvPicPr/>
          <p:nvPr/>
        </p:nvPicPr>
        <p:blipFill>
          <a:blip r:embed="rId1"/>
          <a:stretch/>
        </p:blipFill>
        <p:spPr>
          <a:xfrm>
            <a:off x="0" y="0"/>
            <a:ext cx="89647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292720" y="692280"/>
            <a:ext cx="38512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образите схему расположение созвездий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Лебедя, Л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представляет собой 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СЕВЕРНЫЙ К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ие звёзды входят в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ЛЕТНИЙ  ТРЕУГОЛЬНИК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!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680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199"/>
                </a:solidFill>
                <a:latin typeface="Monotype Corsiva"/>
              </a:rPr>
              <a:t>Заполни таблиц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9640" y="1052640"/>
          <a:ext cx="8229600" cy="5297400"/>
        </p:xfrm>
        <a:graphic>
          <a:graphicData uri="http://schemas.openxmlformats.org/drawingml/2006/table">
            <a:tbl>
              <a:tblPr/>
              <a:tblGrid>
                <a:gridCol w="655560"/>
                <a:gridCol w="1905120"/>
                <a:gridCol w="1892160"/>
                <a:gridCol w="1887480"/>
                <a:gridCol w="1889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Созвезд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Звёз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Координаты звё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Картинка 42 из 49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17200" cy="7143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83880" y="549360"/>
            <a:ext cx="662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Темнеет.. .  пришла пора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Небесных тайн. А бархат ночи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Нам помогают в жизни очень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Ведь днем всего не увидать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главного не разгадать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А ночь как космоса покров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разума бесценный кров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Последний раз наверх взгляни ,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Теперь немного отдохни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И пусть звезда твоя приснится.</a:t>
            </a:r>
            <a:br>
              <a:rPr sz="3200"/>
            </a:br>
            <a:r>
              <a:rPr b="0" lang="en-US" sz="3200" spc="-1" strike="noStrike">
                <a:solidFill>
                  <a:srgbClr val="66ccff"/>
                </a:solidFill>
                <a:latin typeface="Monotype Corsiva"/>
              </a:rPr>
              <a:t>Желаю с нею породн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"С того самого дня, как в человеке зародилась мысль, его внимание было всецело поглощено созерцанием неба. Оно поражало его красотой, своим величием"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10199"/>
                </a:solidFill>
                <a:latin typeface="Arial"/>
              </a:rPr>
              <a:t> (Камилл Фламмарион)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Comic Sans MS"/>
              </a:rPr>
              <a:t>Ориентирование по звездному неб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чем древние люди изучали звёздное неб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же можно ориентироваться по звездам, если их на небе великое множест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мы знаем о созвезд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созвезд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колько созвездий разделено неб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созвездия вы умеете находить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24720" y="4869000"/>
            <a:ext cx="1366920" cy="180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98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23640" y="1773360"/>
            <a:ext cx="144360" cy="21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4920" y="1125000"/>
            <a:ext cx="14436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00000" y="1125000"/>
            <a:ext cx="14292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900000" y="1628640"/>
            <a:ext cx="21600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338436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а милая план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Ты, конечно, знаешь это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день и кажд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ает 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с Земли при наблюдень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ется впечатлен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кружится не о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е звезды и Лу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ЯРН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стремится никуд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 любое время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амом центре хоро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ожешь ты её най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бился вдруг с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ь земная на не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яет остриё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ешь быть увере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она - та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ВЕР!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Lucida Sans Unicode"/>
              </a:rPr>
              <a:t>Созвездие Большая Медведиц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25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звездие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ольш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дведи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держит 210 звезды, видимы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вооруженным глазом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мая известная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го созвездия, состоящая из семи звезд в Северном полушарии –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Большой Ков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245120" cy="4464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20068800">
            <a:off x="250560" y="1125000"/>
            <a:ext cx="792000" cy="792360"/>
          </a:xfrm>
          <a:custGeom>
            <a:avLst/>
            <a:gdLst>
              <a:gd name="textAreaLeft" fmla="*/ 326160 w 792000"/>
              <a:gd name="textAreaRight" fmla="*/ 465840 w 79200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26920" y="1052280"/>
            <a:ext cx="144720" cy="215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8000" y="1700280"/>
            <a:ext cx="144360" cy="217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24000" y="1341000"/>
            <a:ext cx="142560" cy="142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557360"/>
            <a:ext cx="35856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Lucida Sans Unicode"/>
              </a:rPr>
              <a:t>Определение Северного направлени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134000">
            <a:off x="611280" y="260280"/>
            <a:ext cx="576000" cy="865080"/>
          </a:xfrm>
          <a:custGeom>
            <a:avLst/>
            <a:gdLst>
              <a:gd name="textAreaLeft" fmla="*/ 237240 w 576000"/>
              <a:gd name="textAreaRight" fmla="*/ 338760 w 576000"/>
              <a:gd name="textAreaTop" fmla="*/ 356400 h 865080"/>
              <a:gd name="textAreaBottom" fmla="*/ 5086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23640" y="692280"/>
            <a:ext cx="360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00000" y="0"/>
            <a:ext cx="71640" cy="5493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836640"/>
            <a:ext cx="0" cy="431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76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508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5636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8:16:09Z</dcterms:created>
  <dc:creator>Kirill</dc:creator>
  <dc:description/>
  <dc:language>en-US</dc:language>
  <cp:lastModifiedBy>Admin</cp:lastModifiedBy>
  <dcterms:modified xsi:type="dcterms:W3CDTF">2010-11-13T18:42:06Z</dcterms:modified>
  <cp:revision>21</cp:revision>
  <dc:subject/>
  <dc:title>Путеводитель по звездному неб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30000000000001024140</vt:lpwstr>
  </property>
</Properties>
</file>