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gif" ContentType="image/gif"/>
  <Override PartName="/ppt/media/image12.jpeg" ContentType="image/jpeg"/>
  <Override PartName="/ppt/media/image9.jpeg" ContentType="image/jpeg"/>
  <Override PartName="/ppt/media/image13.gif" ContentType="image/gif"/>
  <Override PartName="/ppt/media/image8.gif" ContentType="image/gif"/>
  <Override PartName="/ppt/media/image6.gif" ContentType="image/gif"/>
  <Override PartName="/ppt/media/image5.jpeg" ContentType="image/jpeg"/>
  <Override PartName="/ppt/media/image4.gif" ContentType="image/gif"/>
  <Override PartName="/ppt/media/image1.jpeg" ContentType="image/jpeg"/>
  <Override PartName="/ppt/media/image3.gif" ContentType="image/gif"/>
  <Override PartName="/ppt/media/image11.png" ContentType="image/png"/>
  <Override PartName="/ppt/media/image24.gif" ContentType="image/gif"/>
  <Override PartName="/ppt/media/image23.gif" ContentType="image/gif"/>
  <Override PartName="/ppt/media/image21.jpeg" ContentType="image/jpeg"/>
  <Override PartName="/ppt/media/image17.gif" ContentType="image/gif"/>
  <Override PartName="/ppt/media/image25.jpeg" ContentType="image/jpeg"/>
  <Override PartName="/ppt/media/image22.gif" ContentType="image/gif"/>
  <Override PartName="/ppt/media/image20.jpeg" ContentType="image/jpeg"/>
  <Override PartName="/ppt/media/image19.gif" ContentType="image/gif"/>
  <Override PartName="/ppt/media/image18.gif" ContentType="image/gif"/>
  <Override PartName="/ppt/media/image16.gif" ContentType="image/gif"/>
  <Override PartName="/ppt/media/image14.jpeg" ContentType="image/jpeg"/>
  <Override PartName="/ppt/media/image2.gif" ContentType="image/gif"/>
  <Override PartName="/ppt/media/image7.jpeg" ContentType="image/jpeg"/>
  <Override PartName="/ppt/media/image15.gif" ContentType="image/gif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30381-ECA0-45C8-89B7-A3ED369A9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1765C-5014-4DAC-8C95-ED1A3BDC2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0BF63-586B-4891-85A0-799633689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295EA-BE73-4D25-BCC1-A14241367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DB284-5937-43D0-A52A-FADF8D498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E29EB-B63B-4611-99AE-27C7FF9FA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AE395-E8B1-4ABB-9F26-8AB57A8DF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7A4B5-C921-491F-87ED-96A5A1E61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570F5-B931-4312-82BC-2DC0DF582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FC9C6-02F3-43CB-BEEB-EA76EA35B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45E88-AF30-4391-82EE-7ECCB5AD4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E5313-1C6C-4630-8B95-8598CECBC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A1C15-1204-41B3-A044-93E32AF20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B6437-0615-4363-AC8A-85919F7E0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BF784-C0BC-4EA1-9DF2-22EB3179F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D00F1-4396-4CA7-9B35-F451AF180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BDE0A-1117-4629-A7D9-8AF7D3EB4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F838B-26D0-4110-AD4C-00F47A7B1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88F9E-DA33-451F-81E7-B795D932F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78FC8-2D40-48D3-92A1-8F578C82C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FC692-D99D-4FEA-B6C1-E7852E624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EF07B-7F7B-4C15-9625-13C435479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C91B8-5E97-42DC-AA78-B0714092F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1426A-97C9-4401-ADA1-528BFB256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F080D-45D9-4A13-A061-7A7B38EE1232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375CB-961D-4712-8701-92CFE84F41AB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static.diary.ru/userdir/8/5/2/2/852253/36260443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i003.radikal.ru/0911/e6/86c07f9a4e7e.jpg" TargetMode="External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95280" y="554328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98" name="" descr="Картинка 22 из 6400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896472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099440" y="692280"/>
            <a:ext cx="6843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Monotype Corsiva"/>
              </a:rPr>
              <a:t>Звёзды, созвездия, небо ночное!</a:t>
            </a:r>
            <a:br>
              <a:rPr sz="3200"/>
            </a:br>
            <a:r>
              <a:rPr b="0" lang="en-US" sz="3200" spc="-1" strike="noStrike">
                <a:solidFill>
                  <a:srgbClr val="66ccff"/>
                </a:solidFill>
                <a:latin typeface="Monotype Corsiva"/>
              </a:rPr>
              <a:t>Знайте, всегда я вас видеть хочу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5105520" y="620640"/>
            <a:ext cx="403848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777564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Выполните задания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076360" y="1268280"/>
            <a:ext cx="369252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1.Изобразите расположение Большой, Малой Медведиц, Кассиопеи и Цефе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2.   Укажите местонахождение наиболее знаменитых звёзд: МИЦАР, ПОЛЯРНАЯ ЗВЕЗД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3. В какие созвездия были превращены одна из прекрасных нимф Каллисто и её сын Аркас, исходя из древнегреческой мифологии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395280" y="1125360"/>
            <a:ext cx="4681440" cy="52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24000" y="0"/>
            <a:ext cx="8280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Созвездия осеннего неба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40" name="" descr="Карта созвездий осеннего неба"/>
          <p:cNvPicPr/>
          <p:nvPr/>
        </p:nvPicPr>
        <p:blipFill>
          <a:blip r:embed="rId1"/>
          <a:stretch/>
        </p:blipFill>
        <p:spPr>
          <a:xfrm>
            <a:off x="324000" y="907920"/>
            <a:ext cx="8424720" cy="573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cc"/>
                </a:solidFill>
                <a:latin typeface="Lucida Sans Unicode"/>
              </a:rPr>
              <a:t>Лебедь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Немного правее Веги, вдоль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Млечного пути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как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бы летит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ffffcc"/>
                </a:solidFill>
                <a:latin typeface="Arial"/>
              </a:rPr>
              <a:t>Лебедь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«крылья» широко раскинуты, «шея» вытянута, а сзади более слабые звезды образуют «ноги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4648320" y="1599840"/>
            <a:ext cx="4038480" cy="45306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 rot="1941600">
            <a:off x="610920" y="404640"/>
            <a:ext cx="936360" cy="935280"/>
          </a:xfrm>
          <a:custGeom>
            <a:avLst/>
            <a:gdLst>
              <a:gd name="textAreaLeft" fmla="*/ 385920 w 936360"/>
              <a:gd name="textAreaRight" fmla="*/ 550440 w 936360"/>
              <a:gd name="textAreaTop" fmla="*/ 385200 h 935280"/>
              <a:gd name="textAreaBottom" fmla="*/ 550080 h 935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258920" y="836640"/>
            <a:ext cx="43344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1042920" y="981000"/>
            <a:ext cx="0" cy="43200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1042920" y="0"/>
            <a:ext cx="73080" cy="62064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250560" y="836640"/>
            <a:ext cx="64908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" descr="Созвездие Лебедь"/>
          <p:cNvPicPr/>
          <p:nvPr/>
        </p:nvPicPr>
        <p:blipFill>
          <a:blip r:embed="rId2"/>
          <a:stretch/>
        </p:blipFill>
        <p:spPr>
          <a:xfrm>
            <a:off x="4567320" y="1341360"/>
            <a:ext cx="407340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5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1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Созвездия зимнего неба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8229600" cy="453060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395280" y="1241280"/>
            <a:ext cx="820908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50920" y="115920"/>
            <a:ext cx="8642160" cy="648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0" y="46080"/>
            <a:ext cx="9144000" cy="698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250920" y="328680"/>
            <a:ext cx="8569080" cy="629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0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b2b2b2"/>
                </a:solidFill>
                <a:latin typeface="Monotype Corsiva"/>
              </a:rPr>
              <a:t>Практическая работа по астрономии №2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7138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Тема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4400" spc="-1" strike="noStrike">
                <a:solidFill>
                  <a:srgbClr val="0000cc"/>
                </a:solidFill>
                <a:latin typeface="Monotype Corsiva"/>
              </a:rPr>
              <a:t>Изучение звёздного неб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Цель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4000" spc="-1" strike="noStrike">
                <a:solidFill>
                  <a:srgbClr val="0000cc"/>
                </a:solidFill>
                <a:latin typeface="Monotype Corsiva"/>
              </a:rPr>
              <a:t>Отработка навыков уверенного нахождения созвездий и самых ярких звёзд северного неба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rot="17403600">
            <a:off x="7055640" y="2853360"/>
            <a:ext cx="1584000" cy="2592360"/>
          </a:xfrm>
          <a:custGeom>
            <a:avLst/>
            <a:gdLst>
              <a:gd name="textAreaLeft" fmla="*/ 652680 w 1584000"/>
              <a:gd name="textAreaRight" fmla="*/ 931320 w 1584000"/>
              <a:gd name="textAreaTop" fmla="*/ 1068120 h 2592360"/>
              <a:gd name="textAreaBottom" fmla="*/ 1524240 h 2592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Monotype Corsiva"/>
              </a:rPr>
              <a:t>Интерактивная игра </a:t>
            </a:r>
            <a:br>
              <a:rPr sz="4000"/>
            </a:br>
            <a:r>
              <a:rPr b="0" lang="en-US" sz="4000" spc="-1" strike="noStrike">
                <a:solidFill>
                  <a:srgbClr val="b2b2b2"/>
                </a:solidFill>
                <a:latin typeface="Monotype Corsiva"/>
              </a:rPr>
              <a:t>«Я знаю 10 созвездий»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otype Corsiva"/>
              </a:rPr>
              <a:t>Условия игры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otype Corsiva"/>
              </a:rPr>
              <a:t>    </a:t>
            </a:r>
            <a:r>
              <a:rPr b="0" lang="en-US" sz="3600" spc="-1" strike="noStrike">
                <a:solidFill>
                  <a:srgbClr val="ffffff"/>
                </a:solidFill>
                <a:latin typeface="Monotype Corsiva"/>
              </a:rPr>
              <a:t>ученик выходит посреди класса, говорит: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otype Corsiva"/>
              </a:rPr>
              <a:t>   </a:t>
            </a:r>
            <a:r>
              <a:rPr b="0" lang="en-US" sz="3600" spc="-1" strike="noStrike">
                <a:solidFill>
                  <a:srgbClr val="ffffff"/>
                </a:solidFill>
                <a:latin typeface="Monotype Corsiva"/>
              </a:rPr>
              <a:t>« Я знаю 10 созвездий…», делает шаг, называет созвездие и т.д. Останавливаться   и замолкать нельзя, выбываешь из игр. Побеждает тот, кто назвал больше созвездий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Созвездия весеннего неба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435280" y="1566360"/>
            <a:ext cx="3708360" cy="48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Царь зверей золотогривы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Величаво и ленив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На эклиптике лежи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И на Львенка не глядит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РЕГУЛ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- символ царской власт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од охраной грозной пасти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А на кисточке хвоста –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Ах! Какая красота! -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ДЕВ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в шутку приколол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Яркий бантик -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ДЕНЕБОЛУ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!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1125360"/>
            <a:ext cx="5684760" cy="551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468360" y="404640"/>
            <a:ext cx="8424720" cy="619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ЛЕТНИЙ ТРЕУГОЛЬНИК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300720" y="1599840"/>
            <a:ext cx="22320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АЛЬТАИР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ДЕНЕБ и ВЕГ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Короли на летнем небе!   Пусть запомнит каждый               школьник:   Это –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ЛЕТНИЙ ТРЕУГОЛЬНИК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!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250920" y="1484280"/>
            <a:ext cx="583380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6300720" y="620640"/>
            <a:ext cx="28432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" descr="Карта созвездий летнего неба"/>
          <p:cNvPicPr/>
          <p:nvPr/>
        </p:nvPicPr>
        <p:blipFill>
          <a:blip r:embed="rId1"/>
          <a:stretch/>
        </p:blipFill>
        <p:spPr>
          <a:xfrm>
            <a:off x="0" y="0"/>
            <a:ext cx="8964720" cy="657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5292720" y="692280"/>
            <a:ext cx="385128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Изобразите схему расположение созвездий </a:t>
            </a:r>
            <a:r>
              <a:rPr b="1" lang="en-US" sz="2800" spc="-1" strike="noStrike">
                <a:solidFill>
                  <a:srgbClr val="ff00ff"/>
                </a:solidFill>
                <a:latin typeface="Tahoma"/>
              </a:rPr>
              <a:t>Лебедя, Лир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Что представляет собой  </a:t>
            </a:r>
            <a:r>
              <a:rPr b="1" lang="en-US" sz="2800" spc="-1" strike="noStrike">
                <a:solidFill>
                  <a:srgbClr val="ff00ff"/>
                </a:solidFill>
                <a:latin typeface="Tahoma"/>
              </a:rPr>
              <a:t>СЕВЕРНЫЙ КРЕС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Какие звёзды входят в </a:t>
            </a:r>
            <a:r>
              <a:rPr b="1" lang="en-US" sz="2800" spc="-1" strike="noStrike">
                <a:solidFill>
                  <a:srgbClr val="ff00ff"/>
                </a:solidFill>
                <a:latin typeface="Tahoma"/>
              </a:rPr>
              <a:t>ЛЕТНИЙ  ТРЕУГОЛЬНИК</a:t>
            </a:r>
            <a:r>
              <a:rPr b="0" lang="en-US" sz="3200" spc="-1" strike="noStrike">
                <a:solidFill>
                  <a:srgbClr val="ff00ff"/>
                </a:solidFill>
                <a:latin typeface="Tahoma"/>
              </a:rPr>
              <a:t>! 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539640" y="476280"/>
            <a:ext cx="4680000" cy="55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10199"/>
                </a:solidFill>
                <a:latin typeface="Monotype Corsiva"/>
              </a:rPr>
              <a:t>Заполни таблицу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539640" y="1052640"/>
          <a:ext cx="8229600" cy="5297400"/>
        </p:xfrm>
        <a:graphic>
          <a:graphicData uri="http://schemas.openxmlformats.org/drawingml/2006/table">
            <a:tbl>
              <a:tblPr/>
              <a:tblGrid>
                <a:gridCol w="655560"/>
                <a:gridCol w="1905120"/>
                <a:gridCol w="1892160"/>
                <a:gridCol w="1887480"/>
                <a:gridCol w="18892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10199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10199"/>
                          </a:solidFill>
                          <a:latin typeface="Times New Roman"/>
                          <a:ea typeface="Times New Roman"/>
                        </a:rPr>
                        <a:t>Созвезди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10199"/>
                          </a:solidFill>
                          <a:latin typeface="Times New Roman"/>
                          <a:ea typeface="Times New Roman"/>
                        </a:rPr>
                        <a:t>Звёзд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10199"/>
                          </a:solidFill>
                          <a:latin typeface="Times New Roman"/>
                          <a:ea typeface="Times New Roman"/>
                        </a:rPr>
                        <a:t>Координаты звёзд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10199"/>
                          </a:solidFill>
                          <a:latin typeface="Times New Roman"/>
                          <a:ea typeface="Times New Roman"/>
                        </a:rPr>
                        <a:t>Балл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cc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cc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cc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cc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cc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cc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cc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cc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cc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cc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cc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cc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ccff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cc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cc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cc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cc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cc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cc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cc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ccffff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cc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cc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cc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ccffff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cc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cc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cc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ccffff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cc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cc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cc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ccffff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cc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cc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cc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" descr="Картинка 42 из 492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817200" cy="714384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1883880" y="549360"/>
            <a:ext cx="662436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Monotype Corsiva"/>
              </a:rPr>
              <a:t>Темнеет.. .  пришла пора</a:t>
            </a:r>
            <a:br>
              <a:rPr sz="3200"/>
            </a:br>
            <a:r>
              <a:rPr b="0" lang="en-US" sz="3200" spc="-1" strike="noStrike">
                <a:solidFill>
                  <a:srgbClr val="66ccff"/>
                </a:solidFill>
                <a:latin typeface="Monotype Corsiva"/>
              </a:rPr>
              <a:t>Небесных тайн. А бархат ночи</a:t>
            </a:r>
            <a:br>
              <a:rPr sz="3200"/>
            </a:br>
            <a:r>
              <a:rPr b="0" lang="en-US" sz="3200" spc="-1" strike="noStrike">
                <a:solidFill>
                  <a:srgbClr val="66ccff"/>
                </a:solidFill>
                <a:latin typeface="Monotype Corsiva"/>
              </a:rPr>
              <a:t>Нам помогают в жизни очень ,</a:t>
            </a:r>
            <a:br>
              <a:rPr sz="3200"/>
            </a:br>
            <a:r>
              <a:rPr b="0" lang="en-US" sz="3200" spc="-1" strike="noStrike">
                <a:solidFill>
                  <a:srgbClr val="66ccff"/>
                </a:solidFill>
                <a:latin typeface="Monotype Corsiva"/>
              </a:rPr>
              <a:t>Ведь днем всего не увидать ,</a:t>
            </a:r>
            <a:br>
              <a:rPr sz="3200"/>
            </a:br>
            <a:r>
              <a:rPr b="0" lang="en-US" sz="3200" spc="-1" strike="noStrike">
                <a:solidFill>
                  <a:srgbClr val="66ccff"/>
                </a:solidFill>
                <a:latin typeface="Monotype Corsiva"/>
              </a:rPr>
              <a:t>И главного не разгадать.</a:t>
            </a:r>
            <a:br>
              <a:rPr sz="3200"/>
            </a:br>
            <a:r>
              <a:rPr b="0" lang="en-US" sz="3200" spc="-1" strike="noStrike">
                <a:solidFill>
                  <a:srgbClr val="66ccff"/>
                </a:solidFill>
                <a:latin typeface="Monotype Corsiva"/>
              </a:rPr>
              <a:t>А ночь как космоса покров ,</a:t>
            </a:r>
            <a:br>
              <a:rPr sz="3200"/>
            </a:br>
            <a:r>
              <a:rPr b="0" lang="en-US" sz="3200" spc="-1" strike="noStrike">
                <a:solidFill>
                  <a:srgbClr val="66ccff"/>
                </a:solidFill>
                <a:latin typeface="Monotype Corsiva"/>
              </a:rPr>
              <a:t>И разума бесценный кров.</a:t>
            </a:r>
            <a:br>
              <a:rPr sz="3200"/>
            </a:br>
            <a:r>
              <a:rPr b="0" lang="en-US" sz="3200" spc="-1" strike="noStrike">
                <a:solidFill>
                  <a:srgbClr val="66ccff"/>
                </a:solidFill>
                <a:latin typeface="Monotype Corsiva"/>
              </a:rPr>
              <a:t>Последний раз наверх взгляни ,</a:t>
            </a:r>
            <a:br>
              <a:rPr sz="3200"/>
            </a:br>
            <a:r>
              <a:rPr b="0" lang="en-US" sz="3200" spc="-1" strike="noStrike">
                <a:solidFill>
                  <a:srgbClr val="66ccff"/>
                </a:solidFill>
                <a:latin typeface="Monotype Corsiva"/>
              </a:rPr>
              <a:t>Теперь немного отдохни.</a:t>
            </a:r>
            <a:br>
              <a:rPr sz="3200"/>
            </a:br>
            <a:r>
              <a:rPr b="0" lang="en-US" sz="3200" spc="-1" strike="noStrike">
                <a:solidFill>
                  <a:srgbClr val="66ccff"/>
                </a:solidFill>
                <a:latin typeface="Monotype Corsiva"/>
              </a:rPr>
              <a:t>И пусть звезда твоя приснится.</a:t>
            </a:r>
            <a:br>
              <a:rPr sz="3200"/>
            </a:br>
            <a:r>
              <a:rPr b="0" lang="en-US" sz="3200" spc="-1" strike="noStrike">
                <a:solidFill>
                  <a:srgbClr val="66ccff"/>
                </a:solidFill>
                <a:latin typeface="Monotype Corsiva"/>
              </a:rPr>
              <a:t>Желаю с нею породнитьс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i="1" lang="ru-RU" sz="4000" spc="-1" strike="noStrike">
                <a:solidFill>
                  <a:srgbClr val="b2b2b2"/>
                </a:solidFill>
                <a:latin typeface="Arial"/>
              </a:rPr>
              <a:t>"С того самого дня, как в человеке зародилась мысль, его внимание было всецело поглощено созерцанием неба. Оно поражало его красотой, своим величием"</a:t>
            </a:r>
            <a:r>
              <a:rPr b="0" lang="ru-RU" sz="4000" spc="-1" strike="noStrike">
                <a:solidFill>
                  <a:srgbClr val="b2b2b2"/>
                </a:solidFill>
                <a:latin typeface="Arial"/>
              </a:rPr>
              <a:t>. 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10199"/>
                </a:solidFill>
                <a:latin typeface="Arial"/>
              </a:rPr>
              <a:t> (Камилл Фламмарион)</a:t>
            </a:r>
            <a:r>
              <a:rPr b="0" lang="ru-RU" sz="40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66"/>
                </a:solidFill>
                <a:latin typeface="Comic Sans MS"/>
              </a:rPr>
              <a:t>Ориентирование по звездному небу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11280" y="2060280"/>
            <a:ext cx="83628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Зачем древние люди изучали звёздное небо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Как же можно ориентироваться по звездам, если их на небе великое множество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Что мы знаем о созвездиях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Что такое созвездия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На сколько созвездий разделено небо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Какие созвездия вы умеете находить?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7524720" y="4869000"/>
            <a:ext cx="1366920" cy="180324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250920" y="981000"/>
            <a:ext cx="914400" cy="914400"/>
          </a:xfrm>
          <a:custGeom>
            <a:avLst/>
            <a:gdLst>
              <a:gd name="textAreaLeft" fmla="*/ 376560 w 914400"/>
              <a:gd name="textAreaRight" fmla="*/ 537840 w 914400"/>
              <a:gd name="textAreaTop" fmla="*/ 376560 h 914400"/>
              <a:gd name="textAreaBottom" fmla="*/ 5378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323640" y="1773360"/>
            <a:ext cx="144360" cy="21564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 flipV="1">
            <a:off x="394920" y="1125000"/>
            <a:ext cx="144360" cy="14292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900000" y="1125000"/>
            <a:ext cx="142920" cy="14292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 flipV="1">
            <a:off x="900000" y="1628640"/>
            <a:ext cx="216000" cy="21600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3000"/>
                            </p:stCondLst>
                            <p:childTnLst>
                              <p:par>
                                <p:cTn id="2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5000"/>
                            </p:stCondLst>
                            <p:childTnLst>
                              <p:par>
                                <p:cTn id="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7000"/>
                            </p:stCondLst>
                            <p:childTnLst>
                              <p:par>
                                <p:cTn id="3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9000"/>
                            </p:stCondLst>
                            <p:childTnLst>
                              <p:par>
                                <p:cTn id="4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1000"/>
                            </p:stCondLst>
                            <p:childTnLst>
                              <p:par>
                                <p:cTn id="4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68000" y="404280"/>
            <a:ext cx="3384360" cy="59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ша милая планет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(Ты, конечно, знаешь это!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аждый день и каждый го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овершает оборот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 с Земли при наблюдень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оздается впечатленье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Что кружится не она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 все звезды и Лун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Лишь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ЛЯРНАЯ ЗВЕЗД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е стремится никуда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 в любое время год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самом центре хоровод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можешь ты её найти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Если сбился вдруг с пут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сь земная на неё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правляет остриё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ожешь быть уверен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де она - там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ЕВЕР!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3708360" y="0"/>
            <a:ext cx="5435640" cy="66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cc"/>
                </a:solidFill>
                <a:latin typeface="Lucida Sans Unicode"/>
              </a:rPr>
              <a:t>Созвездие Большая Медведица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79280" y="2060280"/>
            <a:ext cx="4254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озвездие                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Больша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Медведица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одержит 210 звезды, видимых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невооруженным глазом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амая известная групп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этого созвездия, состоящая из семи звезд в Северном полушарии –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Большой Ковш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4643280" y="1628640"/>
            <a:ext cx="4245120" cy="446436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 rot="20068800">
            <a:off x="250560" y="1125000"/>
            <a:ext cx="792000" cy="792360"/>
          </a:xfrm>
          <a:custGeom>
            <a:avLst/>
            <a:gdLst>
              <a:gd name="textAreaLeft" fmla="*/ 326160 w 792000"/>
              <a:gd name="textAreaRight" fmla="*/ 465840 w 792000"/>
              <a:gd name="textAreaTop" fmla="*/ 326520 h 792360"/>
              <a:gd name="textAreaBottom" fmla="*/ 465840 h 792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826920" y="1052280"/>
            <a:ext cx="144720" cy="21564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468000" y="1700280"/>
            <a:ext cx="144360" cy="21744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H="1" flipV="1">
            <a:off x="324000" y="1341000"/>
            <a:ext cx="142560" cy="14292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971640" y="1557360"/>
            <a:ext cx="358560" cy="21600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000"/>
                            </p:stCondLst>
                            <p:childTnLst>
                              <p:par>
                                <p:cTn id="5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500"/>
                            </p:stCondLst>
                            <p:childTnLst>
                              <p:par>
                                <p:cTn id="6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3500"/>
                            </p:stCondLst>
                            <p:childTnLst>
                              <p:par>
                                <p:cTn id="6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5500"/>
                            </p:stCondLst>
                            <p:childTnLst>
                              <p:par>
                                <p:cTn id="7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7500"/>
                            </p:stCondLst>
                            <p:childTnLst>
                              <p:par>
                                <p:cTn id="7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9360">
            <a:solidFill>
              <a:srgbClr val="ffcc66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66"/>
                </a:solidFill>
                <a:latin typeface="Lucida Sans Unicode"/>
              </a:rPr>
              <a:t>Определение Северного направления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rot="19134000">
            <a:off x="611280" y="260280"/>
            <a:ext cx="576000" cy="865080"/>
          </a:xfrm>
          <a:custGeom>
            <a:avLst/>
            <a:gdLst>
              <a:gd name="textAreaLeft" fmla="*/ 237240 w 576000"/>
              <a:gd name="textAreaRight" fmla="*/ 338760 w 576000"/>
              <a:gd name="textAreaTop" fmla="*/ 356400 h 865080"/>
              <a:gd name="textAreaBottom" fmla="*/ 508680 h 865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323640" y="692280"/>
            <a:ext cx="36036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900000" y="0"/>
            <a:ext cx="71640" cy="54936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900000" y="836640"/>
            <a:ext cx="0" cy="43164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042920" y="765000"/>
            <a:ext cx="504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740720" y="450864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476360" y="1413000"/>
            <a:ext cx="6156360" cy="518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1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000"/>
                            </p:stCondLst>
                            <p:childTnLst>
                              <p:par>
                                <p:cTn id="93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4T18:16:09Z</dcterms:created>
  <dc:creator>Kirill</dc:creator>
  <dc:description/>
  <dc:language>en-US</dc:language>
  <cp:lastModifiedBy>Admin</cp:lastModifiedBy>
  <dcterms:modified xsi:type="dcterms:W3CDTF">2010-11-13T18:42:06Z</dcterms:modified>
  <cp:revision>21</cp:revision>
  <dc:subject/>
  <dc:title>Путеводитель по звездному небу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a30000000000001024140</vt:lpwstr>
  </property>
</Properties>
</file>