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32.jpeg" ContentType="image/jpeg"/>
  <Override PartName="/ppt/media/image21.png" ContentType="image/png"/>
  <Override PartName="/ppt/media/image18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2.jpeg" ContentType="image/jpeg"/>
  <Override PartName="/ppt/media/image36.jpeg" ContentType="image/jpeg"/>
  <Override PartName="/ppt/media/image44.jpeg" ContentType="image/jpeg"/>
  <Override PartName="/ppt/media/image40.jpeg" ContentType="image/jpeg"/>
  <Override PartName="/ppt/media/image13.wmf" ContentType="image/x-wmf"/>
  <Override PartName="/ppt/media/image43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16.wmf" ContentType="image/x-wmf"/>
  <Override PartName="/ppt/media/image34.jpeg" ContentType="image/jpeg"/>
  <Override PartName="/ppt/media/image37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5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46.png" ContentType="image/png"/>
  <Override PartName="/ppt/media/image11.png" ContentType="image/png"/>
  <Override PartName="/ppt/media/image6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D0E-03F9-422E-99CA-8178A43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BC9-9CC8-4488-9385-30281D6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E74-FEC1-40DC-9636-4AFC0514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2BA-F155-4858-9163-46016231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2EEC-B575-45F8-B8EB-E07544A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DB0-41F8-49D1-8C7C-680D049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A6B-9B1D-4406-85BE-AE81B08E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3E21-DCD4-44CD-847F-B0A40ADF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B886-0EC2-4253-8344-DA63A6E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CB4-9657-47E9-A002-D14BFC83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067-C4D2-45BB-8A28-9F70174C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A1F-0BE5-40DC-843A-B9F39A8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FB7B-80B7-4B26-8F95-DDD1418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DC5-0731-4044-B478-643EB23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C511-E847-424E-B327-CDAB50B1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92D2-80EB-49D8-AC90-B1AC764A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5EF7-3D74-4832-8CA9-F473F5C9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3BEE-C9A6-4FBE-AA61-81B5AA1F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E5D2-85B5-4C5A-A50D-8B6E406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7FE5-41E8-479A-911C-81B39D8C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8128-26D1-4EDB-AC55-31C8F27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9FA7-B0EB-46DC-B55B-FB11C17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58B-7807-4845-BABE-8379B92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14B0-516D-4EF3-80CA-FDC086A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9AA8-47AE-42D8-988A-1C458E3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9DFE-74A7-421B-A3CB-92EAA6B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161B-C308-4A45-BB6E-789EEB9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4D50-CCD9-41CB-8998-E5607FEA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58CE-833F-4156-832E-CFFDAA76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BEB8-2345-4E18-8879-7792DFD9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5D0-FD5D-4C8C-9288-5300D90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72A-93B3-4456-9D84-696FC0F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F30-77A1-42DC-A2D8-C4B8D36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1A5-7266-471D-B3A2-17278E2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0F2-532E-49D9-AB2D-38C1A2C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028-8F32-48B4-AFA1-5238976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61DD-6F2B-4DC4-95BE-69A9ED0D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F250-27A2-408E-A0F4-2F9635E0FB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F33-E2E8-4450-8EC1-4BF933FDF0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Итоговый урок по теме  «Квадратичная функция. Решение упражнений.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: повторить, систематизировать, обобщить знания и способы действий, полученные при изучении темы: “Квадратичная функция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48588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495680" y="4419720"/>
            <a:ext cx="4032000" cy="1949400"/>
            <a:chOff x="4495680" y="4419720"/>
            <a:chExt cx="4032000" cy="194940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4495680" y="44197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892120" y="46353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67160" cy="30290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1568520" cy="93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30516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{-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568160" cy="91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2004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ите неравенство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твете запишите сумму всех его целых решений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ЗНО 201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8769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609480" y="3962520"/>
            <a:ext cx="4032000" cy="1949400"/>
            <a:chOff x="609480" y="3962520"/>
            <a:chExt cx="4032000" cy="194940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60948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00592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1143000" y="3962520"/>
            <a:ext cx="3960360" cy="2734920"/>
            <a:chOff x="1143000" y="3962520"/>
            <a:chExt cx="3960360" cy="273492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14300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91736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457200" y="3429000"/>
            <a:ext cx="4032000" cy="1949400"/>
            <a:chOff x="457200" y="3429000"/>
            <a:chExt cx="4032000" cy="194940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57200" y="3429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853640" y="3644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914400" y="3886200"/>
            <a:ext cx="3960360" cy="2734920"/>
            <a:chOff x="914400" y="3886200"/>
            <a:chExt cx="3960360" cy="2734920"/>
          </a:xfrm>
        </p:grpSpPr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9144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6887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10"/>
          <p:cNvGrpSpPr/>
          <p:nvPr/>
        </p:nvGrpSpPr>
        <p:grpSpPr>
          <a:xfrm>
            <a:off x="152280" y="71280"/>
            <a:ext cx="8817120" cy="6531480"/>
            <a:chOff x="152280" y="71280"/>
            <a:chExt cx="8817120" cy="6531480"/>
          </a:xfrm>
        </p:grpSpPr>
        <p:pic>
          <p:nvPicPr>
            <p:cNvPr id="195" name="Рисунок 5" descr="Описание: C:\Documents and Settings\A&amp;L\Рабочий стол\АЛГЕБРА\Урок 22 Функция y=ax2+bx+c її властивостi та графiк\22-5 Рисунок.jpg"/>
            <p:cNvPicPr/>
            <p:nvPr/>
          </p:nvPicPr>
          <p:blipFill>
            <a:blip r:embed="rId1"/>
            <a:stretch/>
          </p:blipFill>
          <p:spPr>
            <a:xfrm>
              <a:off x="6690960" y="3349440"/>
              <a:ext cx="2278440" cy="28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"/>
            <p:cNvSpPr/>
            <p:nvPr/>
          </p:nvSpPr>
          <p:spPr>
            <a:xfrm>
              <a:off x="3608280" y="1417320"/>
              <a:ext cx="426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85480" y="2544840"/>
              <a:ext cx="656280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Укажит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1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коэффициен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2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координаты вершины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3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уравнение оси симметрии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4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ули квадратичной функ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5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положи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6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отрица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7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ок, на котором функция возрастает, убывает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8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аименьшее значение функции и значени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, при котором функция принимает это значение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9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свободного члена</a:t>
              </a: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6" descr=""/>
            <p:cNvPicPr/>
            <p:nvPr/>
          </p:nvPicPr>
          <p:blipFill>
            <a:blip r:embed="rId2"/>
            <a:stretch/>
          </p:blipFill>
          <p:spPr>
            <a:xfrm>
              <a:off x="6202080" y="71280"/>
              <a:ext cx="26701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2"/>
            <p:cNvSpPr/>
            <p:nvPr/>
          </p:nvSpPr>
          <p:spPr>
            <a:xfrm>
              <a:off x="546120" y="3585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полнить уст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оугольник 6"/>
            <p:cNvSpPr/>
            <p:nvPr/>
          </p:nvSpPr>
          <p:spPr>
            <a:xfrm>
              <a:off x="285480" y="1404720"/>
              <a:ext cx="4587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7"/>
            <p:cNvSpPr/>
            <p:nvPr/>
          </p:nvSpPr>
          <p:spPr>
            <a:xfrm>
              <a:off x="152280" y="1909440"/>
              <a:ext cx="86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280" y="15238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рисунке 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ображена  парабола, которая является графиком некоторой  квадратичной фун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x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09480" y="3733920"/>
            <a:ext cx="4032000" cy="1949400"/>
            <a:chOff x="609480" y="3733920"/>
            <a:chExt cx="4032000" cy="19494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09480" y="37339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05920" y="39495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1143000" y="3886200"/>
            <a:ext cx="3960360" cy="2734920"/>
            <a:chOff x="1143000" y="3886200"/>
            <a:chExt cx="3960360" cy="273492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11430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173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85800" y="3581280"/>
            <a:ext cx="4032000" cy="1949400"/>
            <a:chOff x="685800" y="3581280"/>
            <a:chExt cx="4032000" cy="194940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2082240" y="379692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1371600" y="3809880"/>
            <a:ext cx="3960360" cy="2734920"/>
            <a:chOff x="1371600" y="3809880"/>
            <a:chExt cx="3960360" cy="273492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1371600" y="463212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145960" y="380988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становить, сколько корней имеет уравнение в зависимости от значения параметра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1.57-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700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D:\Картинки\уроки\i (3).jpg"/>
          <p:cNvPicPr/>
          <p:nvPr/>
        </p:nvPicPr>
        <p:blipFill>
          <a:blip r:embed="rId1"/>
          <a:stretch/>
        </p:blipFill>
        <p:spPr>
          <a:xfrm>
            <a:off x="4071960" y="2571840"/>
            <a:ext cx="2928960" cy="1428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D:\Картинки\уроки\otdahni.ru_1279626662_7275.jpg"/>
          <p:cNvPicPr/>
          <p:nvPr/>
        </p:nvPicPr>
        <p:blipFill>
          <a:blip r:embed="rId2"/>
          <a:stretch/>
        </p:blipFill>
        <p:spPr>
          <a:xfrm>
            <a:off x="7218360" y="3214800"/>
            <a:ext cx="1925640" cy="2357280"/>
          </a:xfrm>
          <a:prstGeom prst="rect">
            <a:avLst/>
          </a:prstGeom>
          <a:ln w="0">
            <a:noFill/>
          </a:ln>
        </p:spPr>
      </p:pic>
      <p:pic>
        <p:nvPicPr>
          <p:cNvPr id="329" name="Заголовок 1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D:\Картинки\уроки\56985117_1269624988_raduga2.jpg"/>
          <p:cNvPicPr/>
          <p:nvPr/>
        </p:nvPicPr>
        <p:blipFill>
          <a:blip r:embed="rId4"/>
          <a:stretch/>
        </p:blipFill>
        <p:spPr>
          <a:xfrm>
            <a:off x="7429680" y="1500120"/>
            <a:ext cx="1714320" cy="1147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D:\Картинки\уроки\1191318731_pic_11905190072658.jpg"/>
          <p:cNvPicPr/>
          <p:nvPr/>
        </p:nvPicPr>
        <p:blipFill>
          <a:blip r:embed="rId5"/>
          <a:stretch/>
        </p:blipFill>
        <p:spPr>
          <a:xfrm>
            <a:off x="0" y="1500120"/>
            <a:ext cx="2543040" cy="181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D:\Картинки\уроки\bridgeparabola.jpg"/>
          <p:cNvPicPr/>
          <p:nvPr/>
        </p:nvPicPr>
        <p:blipFill>
          <a:blip r:embed="rId6"/>
          <a:stretch/>
        </p:blipFill>
        <p:spPr>
          <a:xfrm>
            <a:off x="2500200" y="1500120"/>
            <a:ext cx="3556080" cy="1341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D:\Картинки\уроки\i (2).jpg"/>
          <p:cNvPicPr/>
          <p:nvPr/>
        </p:nvPicPr>
        <p:blipFill>
          <a:blip r:embed="rId7"/>
          <a:stretch/>
        </p:blipFill>
        <p:spPr>
          <a:xfrm>
            <a:off x="7000920" y="26431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D:\Картинки\уроки\i (4).jpg"/>
          <p:cNvPicPr/>
          <p:nvPr/>
        </p:nvPicPr>
        <p:blipFill>
          <a:blip r:embed="rId8"/>
          <a:stretch/>
        </p:blipFill>
        <p:spPr>
          <a:xfrm>
            <a:off x="5929200" y="1500120"/>
            <a:ext cx="1521000" cy="1357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D:\Картинки\уроки\i (5).jpg"/>
          <p:cNvPicPr/>
          <p:nvPr/>
        </p:nvPicPr>
        <p:blipFill>
          <a:blip r:embed="rId9"/>
          <a:stretch/>
        </p:blipFill>
        <p:spPr>
          <a:xfrm>
            <a:off x="1928880" y="278604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D:\Картинки\уроки\i (6).jpg"/>
          <p:cNvPicPr/>
          <p:nvPr/>
        </p:nvPicPr>
        <p:blipFill>
          <a:blip r:embed="rId10"/>
          <a:stretch/>
        </p:blipFill>
        <p:spPr>
          <a:xfrm>
            <a:off x="0" y="2928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D:\Картинки\уроки\i (7).jpg"/>
          <p:cNvPicPr/>
          <p:nvPr/>
        </p:nvPicPr>
        <p:blipFill>
          <a:blip r:embed="rId11"/>
          <a:stretch/>
        </p:blipFill>
        <p:spPr>
          <a:xfrm>
            <a:off x="4714920" y="3929040"/>
            <a:ext cx="2617920" cy="164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D:\Картинки\уроки\i (8).jpg"/>
          <p:cNvPicPr/>
          <p:nvPr/>
        </p:nvPicPr>
        <p:blipFill>
          <a:blip r:embed="rId12"/>
          <a:stretch/>
        </p:blipFill>
        <p:spPr>
          <a:xfrm>
            <a:off x="2428920" y="39290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D:\Картинки\уроки\interferonometr.jpg"/>
          <p:cNvPicPr/>
          <p:nvPr/>
        </p:nvPicPr>
        <p:blipFill>
          <a:blip r:embed="rId13"/>
          <a:stretch/>
        </p:blipFill>
        <p:spPr>
          <a:xfrm>
            <a:off x="0" y="3929040"/>
            <a:ext cx="2433600" cy="1689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D:\Картинки\уроки\Numerous_Parabolas.jpeg"/>
          <p:cNvPicPr/>
          <p:nvPr/>
        </p:nvPicPr>
        <p:blipFill>
          <a:blip r:embed="rId14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п.11-13, 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1.57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19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25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8 (7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505320" cy="34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059280" y="1557360"/>
            <a:ext cx="576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46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Picture 12" descr="Рисунок7"/>
          <p:cNvPicPr/>
          <p:nvPr/>
        </p:nvPicPr>
        <p:blipFill>
          <a:blip r:embed="rId1"/>
          <a:srcRect l="0" t="0" r="-52" b="0"/>
          <a:stretch/>
        </p:blipFill>
        <p:spPr>
          <a:xfrm>
            <a:off x="179280" y="549360"/>
            <a:ext cx="3276720" cy="4127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1908000" y="2708280"/>
            <a:ext cx="1295640" cy="1584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027880" y="371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037240" y="299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2.25-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69880" y="3798720"/>
            <a:ext cx="570096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2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9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8386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699000" cy="947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25756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5183280" y="3657600"/>
            <a:ext cx="3960360" cy="2734920"/>
            <a:chOff x="5183280" y="3657600"/>
            <a:chExt cx="3960360" cy="273492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5183280" y="44798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57640" y="36576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; 1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906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2905200" cy="21240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 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1636920" cy="906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2209680" cy="912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838600" cy="196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952880" y="3886200"/>
            <a:ext cx="3960720" cy="2734920"/>
            <a:chOff x="4952880" y="3886200"/>
            <a:chExt cx="3960720" cy="27349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95288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27240" y="3886200"/>
              <a:ext cx="318636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∞;2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3;+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40000" cy="2781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11640" y="4572000"/>
            <a:ext cx="4032000" cy="1949400"/>
            <a:chOff x="5111640" y="4572000"/>
            <a:chExt cx="4032000" cy="194940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5111640" y="4572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508080" y="4787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2860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5183280" y="3962520"/>
            <a:ext cx="3960360" cy="2734920"/>
            <a:chOff x="5183280" y="3962520"/>
            <a:chExt cx="3960360" cy="273492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518328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95764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4-02-26T20:06:4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9000000000001024140</vt:lpwstr>
  </property>
  <property fmtid="{D5CDD505-2E9C-101B-9397-08002B2CF9AE}" pid="3" name="Version">
    <vt:r8>1</vt:r8>
  </property>
</Properties>
</file>